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1FED-F862-46F5-89C4-32D60D7D2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62C0-289F-4FBB-BF92-1D7773B88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99CE-1B3B-4E5F-8446-5E78667F3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0301-0C34-4263-806E-BC281153A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61299-EEC3-4046-8F5F-47F52BD83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156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17680" y="15570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156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17680" y="3700800"/>
            <a:ext cx="24912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7F47-E200-401F-9C25-C579CCC8AD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33BA8-3E0B-4B92-8985-28B508F1E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69EB-560C-4A64-B651-65E9D371C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833400"/>
            <a:ext cx="773748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FBFBA-8B36-4E39-A702-670722E72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E5CE-9B6E-49FC-B093-73A190637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0120" y="37008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CD42-3612-47DE-A1E5-241EE47965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832680"/>
            <a:ext cx="773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0120" y="1557000"/>
            <a:ext cx="37756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3700800"/>
            <a:ext cx="77374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FFFCF-58F0-479C-9A49-0C0457991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8334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57000"/>
            <a:ext cx="7737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324480"/>
            <a:ext cx="1476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9B1B-BABC-4878-9DF1-ACBF2196A449}" type="slidenum">
              <a:rPr b="0" lang="en-US" sz="11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74680" indent="-274680">
              <a:spcBef>
                <a:spcPts val="8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3440" y="722160"/>
            <a:ext cx="77371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T.36 Task Force Information</a:t>
            </a:r>
            <a:br>
              <a:rPr sz="2800"/>
            </a:br>
            <a:br>
              <a:rPr sz="2800"/>
            </a:b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br>
              <a:rPr sz="44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October 22, 2007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03440" y="3933360"/>
            <a:ext cx="77371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746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7374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t.36 and Annex F Change process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143000"/>
            <a:ext cx="2879640" cy="5165640"/>
          </a:xfrm>
          <a:prstGeom prst="rect">
            <a:avLst/>
          </a:prstGeom>
          <a:solidFill>
            <a:srgbClr val="aaed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257800" y="1143000"/>
            <a:ext cx="2879640" cy="514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1989000"/>
            <a:ext cx="143964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58920" y="3789360"/>
            <a:ext cx="223200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 P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98920" y="1219320"/>
            <a:ext cx="300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nex F Consul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07560" y="1447920"/>
            <a:ext cx="267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WG -S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.36 Task Fo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32000" y="227664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2666880"/>
            <a:ext cx="25909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/ Task for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57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270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38280" y="3581280"/>
            <a:ext cx="426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11280" y="2708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08720" y="4869000"/>
            <a:ext cx="2448000" cy="431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hang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11280" y="4653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6483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08720" y="5661000"/>
            <a:ext cx="2448000" cy="432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ved IC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53341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7200" y="230832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3581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22B6-0102-44E1-B495-79E8AAA88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1:13:23Z</dcterms:created>
  <dc:creator>Philip Thomas</dc:creator>
  <dc:description/>
  <dc:language>en-US</dc:language>
  <cp:lastModifiedBy>waring</cp:lastModifiedBy>
  <cp:lastPrinted>2007-06-07T09:19:54Z</cp:lastPrinted>
  <dcterms:modified xsi:type="dcterms:W3CDTF">2007-10-19T14:24:10Z</dcterms:modified>
  <cp:revision>37</cp:revision>
  <dc:subject/>
  <dc:title>No Slide Title</dc:title>
</cp:coreProperties>
</file>