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E6B4-6081-45B6-8026-7B14414BB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9A64-6E0E-41B6-95B2-FADFA74EA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5EAA-1D72-499B-BBD4-C23C3AC1B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CDF9-3636-4FE4-AB4D-2197048E2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8F3B-820F-46A5-924F-122264B4C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F7B8-CF5D-4B14-BC78-9D4057A41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5B45-0FBB-4290-8973-4C16BC09D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8198-0512-4248-A0AF-D93B9F9A1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D7FA-AC4D-4025-8B08-F82BE02BB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1BF8-D148-40BA-AA8E-4C082C402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FB1E-31E7-45FD-9216-DF341E614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BEFC-78E5-4621-AFE2-7AA95EC8A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34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24480"/>
            <a:ext cx="147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07DA-2B61-4A1F-9081-F771D07FD25D}" type="slidenum">
              <a:rPr b="0" lang="en-US" sz="11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T.36 Task Force Information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br>
              <a:rPr sz="44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ctober 22, 2007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03440" y="3933360"/>
            <a:ext cx="7737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143000"/>
            <a:ext cx="2879640" cy="5165640"/>
          </a:xfrm>
          <a:prstGeom prst="rect">
            <a:avLst/>
          </a:prstGeom>
          <a:solidFill>
            <a:srgbClr val="aae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143000"/>
            <a:ext cx="2879640" cy="514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1989000"/>
            <a:ext cx="143964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789360"/>
            <a:ext cx="2232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8920" y="1219320"/>
            <a:ext cx="30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ex F Consul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07560" y="1447920"/>
            <a:ext cx="26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WG -S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.36 Task Fo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22766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666880"/>
            <a:ext cx="25909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/ Task fo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27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8280" y="3581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869000"/>
            <a:ext cx="24480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hang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653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6483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5661000"/>
            <a:ext cx="2448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IC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33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7200" y="23083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A284-EA85-4CAD-A6AA-FC48F3F782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3:23Z</dcterms:created>
  <dc:creator>Philip Thomas</dc:creator>
  <dc:description/>
  <dc:language>en-US</dc:language>
  <cp:lastModifiedBy>waring</cp:lastModifiedBy>
  <cp:lastPrinted>2007-06-07T09:19:54Z</cp:lastPrinted>
  <dcterms:modified xsi:type="dcterms:W3CDTF">2007-10-19T14:24:10Z</dcterms:modified>
  <cp:revision>37</cp:revision>
  <dc:subject/>
  <dc:title>No Slide Title</dc:title>
</cp:coreProperties>
</file>