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E1C40-38C9-4829-83E0-01C9549ED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37008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22C8-0132-4A7C-A551-E9B2C6E23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012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D8C49-5D2F-4408-A6DA-59CD5CDD3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156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68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156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68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4985A-37DD-4C1A-9A3E-2F70D1564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440" y="833400"/>
            <a:ext cx="773748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CEB6B-3863-4B98-92D2-BB4359851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5012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37008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5012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0156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1768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0156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1768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4389-6DC5-4384-983F-82F9D96ED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CBD3-BC45-4A5C-9438-B50C6079F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A5D8-6381-4512-9AB2-DE141FFCB4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833400"/>
            <a:ext cx="773748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6D685-F33B-4728-98BB-EE4D51129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F916-A115-440A-B34D-CBE0A8226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012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9AAF-B050-404B-AD21-B321B099E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F923F-E802-41BE-B8B3-B1FE8CAA5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3400"/>
            <a:ext cx="773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876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876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-360" y="6324480"/>
            <a:ext cx="1476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961B-C390-4CEA-99DD-602A3EBA6A8C}" type="slidenum">
              <a:rPr b="0" lang="en-US" sz="11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03440" y="722160"/>
            <a:ext cx="773712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3440" y="722160"/>
            <a:ext cx="773712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T.36 Task Force Information</a:t>
            </a:r>
            <a:br>
              <a:rPr sz="2800"/>
            </a:br>
            <a:br>
              <a:rPr sz="2800"/>
            </a:b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T.36 and Annex F Change Processes</a:t>
            </a:r>
            <a:br>
              <a:rPr sz="4400"/>
            </a:b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ctober 22, 2007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03440" y="3933360"/>
            <a:ext cx="77371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46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746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3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.36 and Annex F Change process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1143000"/>
            <a:ext cx="2879640" cy="5165640"/>
          </a:xfrm>
          <a:prstGeom prst="rect">
            <a:avLst/>
          </a:prstGeom>
          <a:solidFill>
            <a:srgbClr val="aae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1143000"/>
            <a:ext cx="2879640" cy="514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1989000"/>
            <a:ext cx="143964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P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3789360"/>
            <a:ext cx="223200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ved  P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98920" y="1219320"/>
            <a:ext cx="300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ex F Consul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07560" y="1447920"/>
            <a:ext cx="267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DWG -S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T.36 Task Fo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32000" y="227664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2666880"/>
            <a:ext cx="2590920" cy="609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/ Task for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l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327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38280" y="358128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2708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08720" y="4869000"/>
            <a:ext cx="244800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hange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465300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450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6483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08720" y="5661000"/>
            <a:ext cx="244800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d ICE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53341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7200" y="230832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3581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4FD8-D89B-4F7F-AFF3-67E82AF381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1:13:23Z</dcterms:created>
  <dc:creator>Philip Thomas</dc:creator>
  <dc:description/>
  <dc:language>en-US</dc:language>
  <cp:lastModifiedBy>waring</cp:lastModifiedBy>
  <cp:lastPrinted>2007-06-07T09:19:54Z</cp:lastPrinted>
  <dcterms:modified xsi:type="dcterms:W3CDTF">2007-10-19T14:24:10Z</dcterms:modified>
  <cp:revision>37</cp:revision>
  <dc:subject/>
  <dc:title>No Slide Title</dc:title>
</cp:coreProperties>
</file>