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912A5-75B0-41DF-8CEF-5333C8E1AA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737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440" y="3700800"/>
            <a:ext cx="7737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630EA-4EE2-46B7-9A43-70975E5A74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5012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B7ABD-0345-4FA0-BB0E-CC32EC9F85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01560" y="15570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680" y="15570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440" y="37008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01560" y="37008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680" y="37008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4B647-04F1-43E5-A243-705FA054A8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557000"/>
            <a:ext cx="77374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737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440" y="833400"/>
            <a:ext cx="773748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44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440" y="1557000"/>
            <a:ext cx="77374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0ECEB-FCBC-4DFB-AD2C-E93E730E95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5012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3700800"/>
            <a:ext cx="7737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737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440" y="3700800"/>
            <a:ext cx="7737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5012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01560" y="15570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17680" y="15570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440" y="37008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01560" y="37008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17680" y="37008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737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16EDD-7480-446C-8F85-5863073D6D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6FE8E-7172-4C95-B3B7-43BA631124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185FC-97C7-4508-897B-B2EE9FB432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833400"/>
            <a:ext cx="773748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1B25C-766F-4072-9D5F-3FB7D7BC8C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44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F6B7F-A2F3-458B-A1A2-69B09DF15F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5012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D0785-AA1D-417D-B690-EED86BECE3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3700800"/>
            <a:ext cx="7737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CF830-1BB2-4296-9008-4C4645B25F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3400"/>
            <a:ext cx="77374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557000"/>
            <a:ext cx="7737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876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876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-360" y="6324480"/>
            <a:ext cx="1476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51BD-73C9-4A4D-AC35-2F5AAF11EEB8}" type="slidenum">
              <a:rPr b="0" lang="en-US" sz="11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03440" y="722160"/>
            <a:ext cx="773712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03440" y="722160"/>
            <a:ext cx="773712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T.36 Task Force Information</a:t>
            </a:r>
            <a:br>
              <a:rPr sz="2800"/>
            </a:br>
            <a:br>
              <a:rPr sz="2800"/>
            </a:b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T.36 and Annex F Change Processes</a:t>
            </a:r>
            <a:br>
              <a:rPr sz="4400"/>
            </a:b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ctober 22, 2007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03440" y="3933360"/>
            <a:ext cx="77371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746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746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374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t.36 and Annex F Change processe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71640" y="1143000"/>
            <a:ext cx="2879640" cy="5165640"/>
          </a:xfrm>
          <a:prstGeom prst="rect">
            <a:avLst/>
          </a:prstGeom>
          <a:solidFill>
            <a:srgbClr val="aaed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1143000"/>
            <a:ext cx="2879640" cy="514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92360" y="1989000"/>
            <a:ext cx="143964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 P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58920" y="3789360"/>
            <a:ext cx="223200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ved  P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98920" y="1219320"/>
            <a:ext cx="300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nex F Consul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07560" y="1447920"/>
            <a:ext cx="267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DWG -SC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ST.36 Task For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32000" y="227664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2666880"/>
            <a:ext cx="2590920" cy="609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ular / Task for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l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3270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438280" y="358128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11280" y="2708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08720" y="4869000"/>
            <a:ext cx="2448000" cy="431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hange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11280" y="4653000"/>
            <a:ext cx="432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450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46483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08720" y="5661000"/>
            <a:ext cx="244800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ved ICE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53341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7200" y="2308320"/>
            <a:ext cx="22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3581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48596-F5E0-4F7B-9251-2F727ADC16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1:13:23Z</dcterms:created>
  <dc:creator>Philip Thomas</dc:creator>
  <dc:description/>
  <dc:language>en-US</dc:language>
  <cp:lastModifiedBy>waring</cp:lastModifiedBy>
  <cp:lastPrinted>2007-06-07T09:19:54Z</cp:lastPrinted>
  <dcterms:modified xsi:type="dcterms:W3CDTF">2007-10-19T14:24:10Z</dcterms:modified>
  <cp:revision>37</cp:revision>
  <dc:subject/>
  <dc:title>No Slide Title</dc:title>
</cp:coreProperties>
</file>