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6.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73.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7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88.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82.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60.xml" ContentType="application/vnd.openxmlformats-officedocument.theme+xml"/>
  <Override PartName="/ppt/theme/theme61.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4.xml" ContentType="application/vnd.openxmlformats-officedocument.theme+xml"/>
  <Override PartName="/ppt/theme/theme85.xml" ContentType="application/vnd.openxmlformats-officedocument.theme+xml"/>
  <Override PartName="/ppt/theme/theme7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72.xml" ContentType="application/vnd.openxmlformats-officedocument.theme+xml"/>
  <Override PartName="/ppt/theme/theme80.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90.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1027.xml" ContentType="application/vnd.openxmlformats-officedocument.presentationml.slideLayout+xml"/>
  <Override PartName="/ppt/slideLayouts/slideLayout397.xml" ContentType="application/vnd.openxmlformats-officedocument.presentationml.slideLayout+xml"/>
  <Override PartName="/ppt/slideLayouts/slideLayout1026.xml" ContentType="application/vnd.openxmlformats-officedocument.presentationml.slideLayout+xml"/>
  <Override PartName="/ppt/slideLayouts/slideLayout396.xml" ContentType="application/vnd.openxmlformats-officedocument.presentationml.slideLayout+xml"/>
  <Override PartName="/ppt/slideLayouts/slideLayout1025.xml" ContentType="application/vnd.openxmlformats-officedocument.presentationml.slideLayout+xml"/>
  <Override PartName="/ppt/slideLayouts/slideLayout395.xml" ContentType="application/vnd.openxmlformats-officedocument.presentationml.slideLayout+xml"/>
  <Override PartName="/ppt/slideLayouts/slideLayout1024.xml" ContentType="application/vnd.openxmlformats-officedocument.presentationml.slideLayout+xml"/>
  <Override PartName="/ppt/slideLayouts/slideLayout394.xml" ContentType="application/vnd.openxmlformats-officedocument.presentationml.slideLayout+xml"/>
  <Override PartName="/ppt/slideLayouts/slideLayout1023.xml" ContentType="application/vnd.openxmlformats-officedocument.presentationml.slideLayout+xml"/>
  <Override PartName="/ppt/slideLayouts/slideLayout393.xml" ContentType="application/vnd.openxmlformats-officedocument.presentationml.slideLayout+xml"/>
  <Override PartName="/ppt/slideLayouts/slideLayout1022.xml" ContentType="application/vnd.openxmlformats-officedocument.presentationml.slideLayout+xml"/>
  <Override PartName="/ppt/slideLayouts/slideLayout392.xml" ContentType="application/vnd.openxmlformats-officedocument.presentationml.slideLayout+xml"/>
  <Override PartName="/ppt/slideLayouts/slideLayout1021.xml" ContentType="application/vnd.openxmlformats-officedocument.presentationml.slideLayout+xml"/>
  <Override PartName="/ppt/slideLayouts/slideLayout391.xml" ContentType="application/vnd.openxmlformats-officedocument.presentationml.slideLayout+xml"/>
  <Override PartName="/ppt/slideLayouts/slideLayout1020.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384.xml" ContentType="application/vnd.openxmlformats-officedocument.presentationml.slideLayout+xml"/>
  <Override PartName="/ppt/slideLayouts/slideLayout1013.xml" ContentType="application/vnd.openxmlformats-officedocument.presentationml.slideLayout+xml"/>
  <Override PartName="/ppt/slideLayouts/slideLayout383.xml" ContentType="application/vnd.openxmlformats-officedocument.presentationml.slideLayout+xml"/>
  <Override PartName="/ppt/slideLayouts/slideLayout1012.xml" ContentType="application/vnd.openxmlformats-officedocument.presentationml.slideLayout+xml"/>
  <Override PartName="/ppt/slideLayouts/slideLayout382.xml" ContentType="application/vnd.openxmlformats-officedocument.presentationml.slideLayout+xml"/>
  <Override PartName="/ppt/slideLayouts/slideLayout1011.xml" ContentType="application/vnd.openxmlformats-officedocument.presentationml.slideLayout+xml"/>
  <Override PartName="/ppt/slideLayouts/slideLayout381.xml" ContentType="application/vnd.openxmlformats-officedocument.presentationml.slideLayout+xml"/>
  <Override PartName="/ppt/slideLayouts/slideLayout1010.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4.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2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117.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486.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684.xml.rels" ContentType="application/vnd.openxmlformats-package.relationships+xml"/>
  <Override PartName="/ppt/slideLayouts/_rels/slideLayout978.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57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89.xml.rels" ContentType="application/vnd.openxmlformats-package.relationships+xml"/>
  <Override PartName="/ppt/slideLayouts/_rels/slideLayout600.xml.rels" ContentType="application/vnd.openxmlformats-package.relationships+xml"/>
  <Override PartName="/ppt/slideLayouts/_rels/slideLayout952.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595.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633.xml.rels" ContentType="application/vnd.openxmlformats-package.relationships+xml"/>
  <Override PartName="/ppt/slideLayouts/_rels/slideLayout927.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360.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964.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965.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879.xml.rels" ContentType="application/vnd.openxmlformats-package.relationships+xml"/>
  <Override PartName="/ppt/slideLayouts/_rels/slideLayout379.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1044.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1060.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960.xml.rels" ContentType="application/vnd.openxmlformats-package.relationships+xml"/>
  <Override PartName="/ppt/slideLayouts/_rels/slideLayout460.xml.rels" ContentType="application/vnd.openxmlformats-package.relationships+xml"/>
  <Override PartName="/ppt/slideLayouts/_rels/slideLayout917.xml.rels" ContentType="application/vnd.openxmlformats-package.relationships+xml"/>
  <Override PartName="/ppt/slideLayouts/_rels/slideLayout769.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898.xml.rels" ContentType="application/vnd.openxmlformats-package.relationships+xml"/>
  <Override PartName="/ppt/slideLayouts/_rels/slideLayout398.xml.rels" ContentType="application/vnd.openxmlformats-package.relationships+xml"/>
  <Override PartName="/ppt/slideLayouts/_rels/slideLayout768.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929.xml.rels" ContentType="application/vnd.openxmlformats-package.relationships+xml"/>
  <Override PartName="/ppt/slideLayouts/_rels/slideLayout429.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88.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020.xml.rels" ContentType="application/vnd.openxmlformats-package.relationships+xml"/>
  <Override PartName="/ppt/slideLayouts/_rels/slideLayout540.xml.rels" ContentType="application/vnd.openxmlformats-package.relationships+xml"/>
  <Override PartName="/ppt/slideLayouts/_rels/slideLayout69.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016.xml.rels" ContentType="application/vnd.openxmlformats-package.relationships+xml"/>
  <Override PartName="/ppt/slideLayouts/_rels/slideLayout45.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587.xml.rels" ContentType="application/vnd.openxmlformats-package.relationships+xml"/>
  <Override PartName="/ppt/slideLayouts/_rels/slideLayout1067.xml.rels" ContentType="application/vnd.openxmlformats-package.relationships+xml"/>
  <Override PartName="/ppt/slideLayouts/_rels/slideLayout11.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50.xml.rels" ContentType="application/vnd.openxmlformats-package.relationships+xml"/>
  <Override PartName="/ppt/slideLayouts/_rels/slideLayout594.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1057.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068.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1.xml.rels" ContentType="application/vnd.openxmlformats-package.relationships+xml"/>
  <Override PartName="/ppt/slideLayouts/_rels/slideLayout67.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526.xml.rels" ContentType="application/vnd.openxmlformats-package.relationships+xml"/>
  <Override PartName="/ppt/slideLayouts/_rels/slideLayout1011.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527.xml.rels" ContentType="application/vnd.openxmlformats-package.relationships+xml"/>
  <Override PartName="/ppt/slideLayouts/_rels/slideLayout1012.xml.rels" ContentType="application/vnd.openxmlformats-package.relationships+xml"/>
  <Override PartName="/ppt/slideLayouts/_rels/slideLayout538.xml.rels" ContentType="application/vnd.openxmlformats-package.relationships+xml"/>
  <Override PartName="/ppt/slideLayouts/_rels/slideLayout1018.xml.rels" ContentType="application/vnd.openxmlformats-package.relationships+xml"/>
  <Override PartName="/ppt/slideLayouts/_rels/slideLayout1023.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00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028.xml.rels" ContentType="application/vnd.openxmlformats-package.relationships+xml"/>
  <Override PartName="/ppt/slideLayouts/_rels/slideLayout21.xml.rels" ContentType="application/vnd.openxmlformats-package.relationships+xml"/>
  <Override PartName="/ppt/slideLayouts/_rels/slideLayout19.xml.rels" ContentType="application/vnd.openxmlformats-package.relationships+xml"/>
  <Override PartName="/ppt/slideLayouts/_rels/slideLayout58.xml.rels" ContentType="application/vnd.openxmlformats-package.relationships+xml"/>
  <Override PartName="/ppt/slideLayouts/_rels/slideLayout17.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74.xml.rels" ContentType="application/vnd.openxmlformats-package.relationships+xml"/>
  <Override PartName="/ppt/slideLayouts/_rels/slideLayout528.xml.rels" ContentType="application/vnd.openxmlformats-package.relationships+xml"/>
  <Override PartName="/ppt/slideLayouts/_rels/slideLayout1013.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84.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1041.xml.rels" ContentType="application/vnd.openxmlformats-package.relationships+xml"/>
  <Override PartName="/ppt/slideLayouts/_rels/slideLayout72.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21.xml.rels" ContentType="application/vnd.openxmlformats-package.relationships+xml"/>
  <Override PartName="/ppt/slideLayouts/_rels/slideLayout541.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1000.xml.rels" ContentType="application/vnd.openxmlformats-package.relationships+xml"/>
  <Override PartName="/ppt/slideLayouts/_rels/slideLayout515.xml.rels" ContentType="application/vnd.openxmlformats-package.relationships+xml"/>
  <Override PartName="/ppt/slideLayouts/_rels/slideLayout73.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1022.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9.xml.rels" ContentType="application/vnd.openxmlformats-package.relationships+xml"/>
  <Override PartName="/ppt/slideLayouts/_rels/slideLayout1014.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42.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87.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101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40.xml.rels" ContentType="application/vnd.openxmlformats-package.relationships+xml"/>
  <Override PartName="/ppt/slideLayouts/_rels/slideLayout98.xml.rels" ContentType="application/vnd.openxmlformats-package.relationships+xml"/>
  <Override PartName="/ppt/slideLayouts/_rels/slideLayout1025.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99.xml.rels" ContentType="application/vnd.openxmlformats-package.relationships+xml"/>
  <Override PartName="/ppt/slideLayouts/_rels/slideLayout1026.xml.rels" ContentType="application/vnd.openxmlformats-package.relationships+xml"/>
  <Override PartName="/ppt/slideLayouts/_rels/slideLayout289.xml.rels" ContentType="application/vnd.openxmlformats-package.relationships+xml"/>
  <Override PartName="/ppt/slideLayouts/_rels/slideLayout1017.xml.rels" ContentType="application/vnd.openxmlformats-package.relationships+xml"/>
  <Override PartName="/ppt/slideLayouts/_rels/slideLayout97.xml.rels" ContentType="application/vnd.openxmlformats-package.relationships+xml"/>
  <Override PartName="/ppt/slideLayouts/_rels/slideLayout582.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96.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365.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40.xml.rels" ContentType="application/vnd.openxmlformats-package.relationships+xml"/>
  <Override PartName="/ppt/slideLayouts/_rels/slideLayout1059.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1058.xml.rels" ContentType="application/vnd.openxmlformats-package.relationships+xml"/>
  <Override PartName="/ppt/slideLayouts/_rels/slideLayout1005.xml.rels" ContentType="application/vnd.openxmlformats-package.relationships+xml"/>
  <Override PartName="/ppt/slideLayouts/_rels/slideLayout1063.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04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1015.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69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7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032.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103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053.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030.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031.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42.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1038.xml.rels" ContentType="application/vnd.openxmlformats-package.relationships+xml"/>
  <Override PartName="/ppt/slideLayouts/_rels/slideLayout490.xml.rels" ContentType="application/vnd.openxmlformats-package.relationships+xml"/>
  <Override PartName="/ppt/slideLayouts/_rels/slideLayout9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22.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61.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1037.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105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1048.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054.xml.rels" ContentType="application/vnd.openxmlformats-package.relationships+xml"/>
  <Override PartName="/ppt/slideLayouts/_rels/slideLayout569.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1036.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03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1043.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954.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50.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80.xml.rels" ContentType="application/vnd.openxmlformats-package.relationships+xml"/>
  <Override PartName="/ppt/slideLayouts/_rels/slideLayout1029.xml.rels" ContentType="application/vnd.openxmlformats-package.relationships+xml"/>
  <Override PartName="/ppt/slideLayouts/_rels/slideLayout22.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435.xml.rels" ContentType="application/vnd.openxmlformats-package.relationships+xml"/>
  <Override PartName="/ppt/slideLayouts/_rels/slideLayout495.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41.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976.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999.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99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997.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996.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6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84.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8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39.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17.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8.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659.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798.xml" ContentType="application/vnd.openxmlformats-officedocument.presentationml.slideLayout+xml"/>
  <Override PartName="/ppt/slideLayouts/slideLayout800.xml" ContentType="application/vnd.openxmlformats-officedocument.presentationml.slideLayout+xml"/>
  <Override PartName="/ppt/slideLayouts/slideLayout928.xml" ContentType="application/vnd.openxmlformats-officedocument.presentationml.slideLayout+xml"/>
  <Override PartName="/ppt/slideLayouts/slideLayout762.xml" ContentType="application/vnd.openxmlformats-officedocument.presentationml.slideLayout+xml"/>
  <Override PartName="/ppt/slideLayouts/slideLayout1045.xml" ContentType="application/vnd.openxmlformats-officedocument.presentationml.slideLayout+xml"/>
  <Override PartName="/ppt/slideLayouts/slideLayout625.xml" ContentType="application/vnd.openxmlformats-officedocument.presentationml.slideLayout+xml"/>
  <Override PartName="/ppt/slideLayouts/slideLayout799.xml" ContentType="application/vnd.openxmlformats-officedocument.presentationml.slideLayout+xml"/>
  <Override PartName="/ppt/slideLayouts/slideLayout801.xml" ContentType="application/vnd.openxmlformats-officedocument.presentationml.slideLayout+xml"/>
  <Override PartName="/ppt/slideLayouts/slideLayout929.xml" ContentType="application/vnd.openxmlformats-officedocument.presentationml.slideLayout+xml"/>
  <Override PartName="/ppt/slideLayouts/slideLayout1046.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802.xml" ContentType="application/vnd.openxmlformats-officedocument.presentationml.slideLayout+xml"/>
  <Override PartName="/ppt/slideLayouts/slideLayout1047.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803.xml" ContentType="application/vnd.openxmlformats-officedocument.presentationml.slideLayout+xml"/>
  <Override PartName="/ppt/slideLayouts/slideLayout1048.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810.xml" ContentType="application/vnd.openxmlformats-officedocument.presentationml.slideLayout+xml"/>
  <Override PartName="/ppt/slideLayouts/slideLayout1055.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635.xml" ContentType="application/vnd.openxmlformats-officedocument.presentationml.slideLayout+xml"/>
  <Override PartName="/ppt/slideLayouts/slideLayout811.xml" ContentType="application/vnd.openxmlformats-officedocument.presentationml.slideLayout+xml"/>
  <Override PartName="/ppt/slideLayouts/slideLayout1056.xml" ContentType="application/vnd.openxmlformats-officedocument.presentationml.slideLayout+xml"/>
  <Override PartName="/ppt/slideLayouts/slideLayout773.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812.xml" ContentType="application/vnd.openxmlformats-officedocument.presentationml.slideLayout+xml"/>
  <Override PartName="/ppt/slideLayouts/slideLayout1057.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1065.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949.xml" ContentType="application/vnd.openxmlformats-officedocument.presentationml.slideLayout+xml"/>
  <Override PartName="/ppt/slideLayouts/slideLayout1066.xml" ContentType="application/vnd.openxmlformats-officedocument.presentationml.slideLayout+xml"/>
  <Override PartName="/ppt/slideLayouts/slideLayout646.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1067.xml" ContentType="application/vnd.openxmlformats-officedocument.presentationml.slideLayout+xml"/>
  <Override PartName="/ppt/slideLayouts/slideLayout647.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842.xml" ContentType="application/vnd.openxmlformats-officedocument.presentationml.slideLayout+xml"/>
  <Override PartName="/ppt/slideLayouts/slideLayout667.xml" ContentType="application/vnd.openxmlformats-officedocument.presentationml.slideLayout+xml"/>
  <Override PartName="/ppt/slideLayouts/slideLayout843.xml" ContentType="application/vnd.openxmlformats-officedocument.presentationml.slideLayout+xml"/>
  <Override PartName="/ppt/slideLayouts/slideLayout668.xml" ContentType="application/vnd.openxmlformats-officedocument.presentationml.slideLayout+xml"/>
  <Override PartName="/ppt/slideLayouts/slideLayout844.xml" ContentType="application/vnd.openxmlformats-officedocument.presentationml.slideLayout+xml"/>
  <Override PartName="/ppt/slideLayouts/slideLayout669.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1042.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9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1044.xml" ContentType="application/vnd.openxmlformats-officedocument.presentationml.slideLayout+xml"/>
  <Override PartName="/ppt/slideLayouts/slideLayout761.xml" ContentType="application/vnd.openxmlformats-officedocument.presentationml.slideLayout+xml"/>
  <Override PartName="/ppt/slideLayouts/slideLayout995.xml" ContentType="application/vnd.openxmlformats-officedocument.presentationml.slideLayout+xml"/>
  <Override PartName="/ppt/slideLayouts/slideLayout224.xml" ContentType="application/vnd.openxmlformats-officedocument.presentationml.slideLayout+xml"/>
  <Override PartName="/ppt/slideLayouts/slideLayout733.xml" ContentType="application/vnd.openxmlformats-officedocument.presentationml.slideLayout+xml"/>
  <Override PartName="/ppt/slideLayouts/slideLayout994.xml" ContentType="application/vnd.openxmlformats-officedocument.presentationml.slideLayout+xml"/>
  <Override PartName="/ppt/slideLayouts/slideLayout926.xml" ContentType="application/vnd.openxmlformats-officedocument.presentationml.slideLayout+xml"/>
  <Override PartName="/ppt/slideLayouts/slideLayout1043.xml" ContentType="application/vnd.openxmlformats-officedocument.presentationml.slideLayout+xml"/>
  <Override PartName="/ppt/slideLayouts/slideLayout760.xml" ContentType="application/vnd.openxmlformats-officedocument.presentationml.slideLayout+xml"/>
  <Override PartName="/ppt/slideLayouts/slideLayout103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955.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722.xml" ContentType="application/vnd.openxmlformats-officedocument.presentationml.slideLayout+xml"/>
  <Override PartName="/ppt/slideLayouts/slideLayout790.xml" ContentType="application/vnd.openxmlformats-officedocument.presentationml.slideLayout+xml"/>
  <Override PartName="/ppt/slideLayouts/slideLayout915.xml" ContentType="application/vnd.openxmlformats-officedocument.presentationml.slideLayout+xml"/>
  <Override PartName="/ppt/slideLayouts/slideLayout1032.xml" ContentType="application/vnd.openxmlformats-officedocument.presentationml.slideLayout+xml"/>
  <Override PartName="/ppt/slideLayouts/slideLayout612.xml" ContentType="application/vnd.openxmlformats-officedocument.presentationml.slideLayout+xml"/>
  <Override PartName="/ppt/slideLayouts/slideLayout983.xml" ContentType="application/vnd.openxmlformats-officedocument.presentationml.slideLayout+xml"/>
  <Override PartName="/ppt/slideLayouts/slideLayout1063.xml" ContentType="application/vnd.openxmlformats-officedocument.presentationml.slideLayout+xml"/>
  <Override PartName="/ppt/slideLayouts/slideLayout946.xml" ContentType="application/vnd.openxmlformats-officedocument.presentationml.slideLayout+xml"/>
  <Override PartName="/ppt/slideLayouts/slideLayout780.xml" ContentType="application/vnd.openxmlformats-officedocument.presentationml.slideLayout+xml"/>
  <Override PartName="/ppt/slideLayouts/slideLayout723.xml" ContentType="application/vnd.openxmlformats-officedocument.presentationml.slideLayout+xml"/>
  <Override PartName="/ppt/slideLayouts/slideLayout791.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916.xml" ContentType="application/vnd.openxmlformats-officedocument.presentationml.slideLayout+xml"/>
  <Override PartName="/ppt/slideLayouts/slideLayout1033.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984.xml" ContentType="application/vnd.openxmlformats-officedocument.presentationml.slideLayout+xml"/>
  <Override PartName="/ppt/slideLayouts/slideLayout1064.xml" ContentType="application/vnd.openxmlformats-officedocument.presentationml.slideLayout+xml"/>
  <Override PartName="/ppt/slideLayouts/slideLayout947.xml" ContentType="application/vnd.openxmlformats-officedocument.presentationml.slideLayout+xml"/>
  <Override PartName="/ppt/slideLayouts/slideLayout781.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55.xml" ContentType="application/vnd.openxmlformats-officedocument.presentationml.slideLayout+xml"/>
  <Override PartName="/ppt/slideLayouts/slideLayout1038.xml" ContentType="application/vnd.openxmlformats-officedocument.presentationml.slideLayout+xml"/>
  <Override PartName="/ppt/slideLayouts/slideLayout618.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1034.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985.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56.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619.xml" ContentType="application/vnd.openxmlformats-officedocument.presentationml.slideLayout+xml"/>
  <Override PartName="/ppt/slideLayouts/slideLayout1029.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725.xml" ContentType="application/vnd.openxmlformats-officedocument.presentationml.slideLayout+xml"/>
  <Override PartName="/ppt/slideLayouts/slideLayout726.xml" ContentType="application/vnd.openxmlformats-officedocument.presentationml.slideLayout+xml"/>
  <Override PartName="/ppt/slideLayouts/slideLayout1009.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1036.xml" ContentType="application/vnd.openxmlformats-officedocument.presentationml.slideLayout+xml"/>
  <Override PartName="/ppt/slideLayouts/slideLayout616.xml" ContentType="application/vnd.openxmlformats-officedocument.presentationml.slideLayout+xml"/>
  <Override PartName="/ppt/slideLayouts/slideLayout714.xml" ContentType="application/vnd.openxmlformats-officedocument.presentationml.slideLayout+xml"/>
  <Override PartName="/ppt/slideLayouts/slideLayout975.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54.xml" ContentType="application/vnd.openxmlformats-officedocument.presentationml.slideLayout+xml"/>
  <Override PartName="/ppt/slideLayouts/slideLayout1037.xml" ContentType="application/vnd.openxmlformats-officedocument.presentationml.slideLayout+xml"/>
  <Override PartName="/ppt/slideLayouts/slideLayout617.xml" ContentType="application/vnd.openxmlformats-officedocument.presentationml.slideLayout+xml"/>
  <Override PartName="/ppt/slideLayouts/slideLayout713.xml" ContentType="application/vnd.openxmlformats-officedocument.presentationml.slideLayout+xml"/>
  <Override PartName="/ppt/slideLayouts/slideLayout974.xml" ContentType="application/vnd.openxmlformats-officedocument.presentationml.slideLayout+xml"/>
  <Override PartName="/ppt/slideLayouts/slideLayout105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6.xml" ContentType="application/vnd.openxmlformats-officedocument.presentationml.slideLayout+xml"/>
  <Override PartName="/ppt/slideLayouts/slideLayout1019.xml" ContentType="application/vnd.openxmlformats-officedocument.presentationml.slideLayout+xml"/>
  <Override PartName="/ppt/slideLayouts/slideLayout712.xml" ContentType="application/vnd.openxmlformats-officedocument.presentationml.slideLayout+xml"/>
  <Override PartName="/ppt/slideLayouts/slideLayout973.xml" ContentType="application/vnd.openxmlformats-officedocument.presentationml.slideLayout+xml"/>
  <Override PartName="/ppt/slideLayouts/slideLayout105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945.xml" ContentType="application/vnd.openxmlformats-officedocument.presentationml.slideLayout+xml"/>
  <Override PartName="/ppt/slideLayouts/slideLayout1062.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65.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4.xml" ContentType="application/vnd.openxmlformats-officedocument.presentationml.slideLayout+xml"/>
  <Override PartName="/ppt/slideLayouts/slideLayout963.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962.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35.xml" ContentType="application/vnd.openxmlformats-officedocument.presentationml.slideLayout+xml"/>
  <Override PartName="/ppt/slideLayouts/slideLayout1052.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104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961.xml" ContentType="application/vnd.openxmlformats-officedocument.presentationml.slideLayout+xml"/>
  <Override PartName="/ppt/slideLayouts/slideLayout104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60.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52.xml" ContentType="application/vnd.openxmlformats-officedocument.presentationml.slideLayout+xml"/>
  <Override PartName="/ppt/slideLayouts/slideLayout103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951.xml" ContentType="application/vnd.openxmlformats-officedocument.presentationml.slideLayout+xml"/>
  <Override PartName="/ppt/slideLayouts/slideLayout103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50.xml" ContentType="application/vnd.openxmlformats-officedocument.presentationml.slideLayout+xml"/>
  <Override PartName="/ppt/slideLayouts/slideLayout944.xml" ContentType="application/vnd.openxmlformats-officedocument.presentationml.slideLayout+xml"/>
  <Override PartName="/ppt/slideLayouts/slideLayout1061.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1060.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4.xml" ContentType="application/vnd.openxmlformats-officedocument.presentationml.slideLayout+xml"/>
  <Override PartName="/ppt/slideLayouts/slideLayout1051.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1050.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731.xml" ContentType="application/vnd.openxmlformats-officedocument.presentationml.slideLayout+xml"/>
  <Override PartName="/ppt/slideLayouts/slideLayout992.xml" ContentType="application/vnd.openxmlformats-officedocument.presentationml.slideLayout+xml"/>
  <Override PartName="/ppt/slideLayouts/slideLayout730.xml" ContentType="application/vnd.openxmlformats-officedocument.presentationml.slideLayout+xml"/>
  <Override PartName="/ppt/slideLayouts/slideLayout991.xml" ContentType="application/vnd.openxmlformats-officedocument.presentationml.slideLayout+xml"/>
  <Override PartName="/ppt/slideLayouts/slideLayout99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721.xml" ContentType="application/vnd.openxmlformats-officedocument.presentationml.slideLayout+xml"/>
  <Override PartName="/ppt/slideLayouts/slideLayout982.xml" ContentType="application/vnd.openxmlformats-officedocument.presentationml.slideLayout+xml"/>
  <Override PartName="/ppt/slideLayouts/slideLayout720.xml" ContentType="application/vnd.openxmlformats-officedocument.presentationml.slideLayout+xml"/>
  <Override PartName="/ppt/slideLayouts/slideLayout981.xml" ContentType="application/vnd.openxmlformats-officedocument.presentationml.slideLayout+xml"/>
  <Override PartName="/ppt/slideLayouts/slideLayout98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104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989.xml" ContentType="application/vnd.openxmlformats-officedocument.presentationml.slideLayout+xml"/>
  <Override PartName="/ppt/slideLayouts/slideLayout33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157.xml" ContentType="application/vnd.openxmlformats-officedocument.presentationml.slideLayout+xml"/>
  <Override PartName="/ppt/slideLayouts/slideLayout988.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98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98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979.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978.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977.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97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Lst>
  <p:notesMasterIdLst>
    <p:notesMasterId r:id="rId91"/>
  </p:notesMasterIdLst>
  <p:sldIdLst>
    <p:sldId id="256" r:id="rId92"/>
    <p:sldId id="257" r:id="rId93"/>
    <p:sldId id="258" r:id="rId94"/>
    <p:sldId id="259" r:id="rId95"/>
    <p:sldId id="260" r:id="rId96"/>
    <p:sldId id="261" r:id="rId97"/>
    <p:sldId id="262" r:id="rId98"/>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notesMaster" Target="notesMasters/notesMaster1.xml"/><Relationship Id="rId92" Type="http://schemas.openxmlformats.org/officeDocument/2006/relationships/slide" Target="slides/slide1.xml"/><Relationship Id="rId93" Type="http://schemas.openxmlformats.org/officeDocument/2006/relationships/slide" Target="slides/slide2.xml"/><Relationship Id="rId94" Type="http://schemas.openxmlformats.org/officeDocument/2006/relationships/slide" Target="slides/slide3.xml"/><Relationship Id="rId95" Type="http://schemas.openxmlformats.org/officeDocument/2006/relationships/slide" Target="slides/slide4.xml"/><Relationship Id="rId96" Type="http://schemas.openxmlformats.org/officeDocument/2006/relationships/slide" Target="slides/slide5.xml"/><Relationship Id="rId97" Type="http://schemas.openxmlformats.org/officeDocument/2006/relationships/slide" Target="slides/slide6.xml"/><Relationship Id="rId98" Type="http://schemas.openxmlformats.org/officeDocument/2006/relationships/slide" Target="slides/slide7.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3"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524" name="PlaceHolder 2"/>
          <p:cNvSpPr>
            <a:spLocks noGrp="1"/>
          </p:cNvSpPr>
          <p:nvPr>
            <p:ph type="dt" idx="96"/>
          </p:nvPr>
        </p:nvSpPr>
        <p:spPr>
          <a:xfrm>
            <a:off x="3854160" y="0"/>
            <a:ext cx="2950920" cy="4968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C56C7F-FB10-4B3C-AC81-13A902CD8B1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525" name="PlaceHolder 3"/>
          <p:cNvSpPr>
            <a:spLocks noGrp="1"/>
          </p:cNvSpPr>
          <p:nvPr>
            <p:ph type="sldImg"/>
          </p:nvPr>
        </p:nvSpPr>
        <p:spPr>
          <a:xfrm>
            <a:off x="716040" y="744120"/>
            <a:ext cx="5384880" cy="3729240"/>
          </a:xfrm>
          <a:prstGeom prst="rect">
            <a:avLst/>
          </a:prstGeom>
          <a:noFill/>
          <a:ln w="9360">
            <a:solidFill>
              <a:srgbClr val="000000"/>
            </a:solidFill>
            <a:miter/>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move the slide</a:t>
            </a:r>
            <a:endParaRPr b="1" lang="en-US" sz="2400" spc="-1" strike="noStrike">
              <a:solidFill>
                <a:srgbClr val="3333ff"/>
              </a:solidFill>
              <a:latin typeface="Calibri"/>
            </a:endParaRPr>
          </a:p>
        </p:txBody>
      </p:sp>
      <p:sp>
        <p:nvSpPr>
          <p:cNvPr id="3526" name="PlaceHolder 4"/>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27" name="PlaceHolder 5"/>
          <p:cNvSpPr>
            <a:spLocks noGrp="1"/>
          </p:cNvSpPr>
          <p:nvPr>
            <p:ph type="ftr" idx="97"/>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528" name="PlaceHolder 6"/>
          <p:cNvSpPr>
            <a:spLocks noGrp="1"/>
          </p:cNvSpPr>
          <p:nvPr>
            <p:ph type="sldNum" idx="98"/>
          </p:nvPr>
        </p:nvSpPr>
        <p:spPr>
          <a:xfrm>
            <a:off x="3854160" y="9441000"/>
            <a:ext cx="2950920" cy="4968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A7502A-7A07-4827-8694-2F9C298B5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PlaceHolder 1"/>
          <p:cNvSpPr>
            <a:spLocks noGrp="1"/>
          </p:cNvSpPr>
          <p:nvPr>
            <p:ph type="sldImg"/>
          </p:nvPr>
        </p:nvSpPr>
        <p:spPr>
          <a:xfrm>
            <a:off x="716040" y="744480"/>
            <a:ext cx="5384880" cy="3729240"/>
          </a:xfrm>
          <a:prstGeom prst="rect">
            <a:avLst/>
          </a:prstGeom>
          <a:ln w="0">
            <a:noFill/>
          </a:ln>
        </p:spPr>
      </p:sp>
      <p:sp>
        <p:nvSpPr>
          <p:cNvPr id="359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900" spc="-1" strike="noStrike">
              <a:solidFill>
                <a:srgbClr val="000000"/>
              </a:solidFill>
              <a:latin typeface="Arial"/>
            </a:endParaRPr>
          </a:p>
        </p:txBody>
      </p:sp>
      <p:sp>
        <p:nvSpPr>
          <p:cNvPr id="3598"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DAAA124-55DE-4B78-832E-6DC9AE5DD23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712800" y="744480"/>
            <a:ext cx="5386320" cy="3729240"/>
          </a:xfrm>
          <a:prstGeom prst="rect">
            <a:avLst/>
          </a:prstGeom>
          <a:ln w="0">
            <a:noFill/>
          </a:ln>
        </p:spPr>
      </p:sp>
      <p:sp>
        <p:nvSpPr>
          <p:cNvPr id="3600" name="PlaceHolder 2"/>
          <p:cNvSpPr>
            <a:spLocks noGrp="1"/>
          </p:cNvSpPr>
          <p:nvPr>
            <p:ph type="body"/>
          </p:nvPr>
        </p:nvSpPr>
        <p:spPr>
          <a:xfrm>
            <a:off x="682560" y="4722840"/>
            <a:ext cx="54453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ＭＳ Ｐゴシック"/>
            </a:endParaRPr>
          </a:p>
        </p:txBody>
      </p:sp>
      <p:sp>
        <p:nvSpPr>
          <p:cNvPr id="3601"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85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7444AC-DF76-4E6A-B319-3CBB2AF26C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sldImg"/>
          </p:nvPr>
        </p:nvSpPr>
        <p:spPr>
          <a:xfrm>
            <a:off x="711360" y="744480"/>
            <a:ext cx="5384520" cy="3729240"/>
          </a:xfrm>
          <a:prstGeom prst="rect">
            <a:avLst/>
          </a:prstGeom>
          <a:ln w="0">
            <a:noFill/>
          </a:ln>
        </p:spPr>
      </p:sp>
      <p:sp>
        <p:nvSpPr>
          <p:cNvPr id="360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4"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65BA41A-7E8E-41EE-A0E3-6BE2358A928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CF730-5E2B-48B6-9B80-AA8A01B51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656CE98B-229B-4A7B-834D-5F8289B1DA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109B0E2B-8965-4563-9D60-53935F535890}"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06440D06-106F-4FDA-9377-79FA58FAB51C}"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0"/>
          </p:nvPr>
        </p:nvSpPr>
        <p:spPr/>
        <p:txBody>
          <a:bodyPr/>
          <a:p>
            <a:fld id="{6D4ECD47-F838-4164-914C-7799ED7956E2}"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0"/>
          </p:nvPr>
        </p:nvSpPr>
        <p:spPr/>
        <p:txBody>
          <a:bodyPr/>
          <a:p>
            <a:fld id="{515D79A0-224C-478E-8707-AC863B67E525}"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BB4A014E-B791-4837-9431-02B8F0B70AA5}"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C9A5493C-DDC8-4341-AB04-825877ECBD2F}"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5604CC20-88E7-416A-93D4-AEE8974613A2}"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46C4D9AA-77B0-4C1A-A45C-6FF1110A89CB}"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0"/>
          </p:nvPr>
        </p:nvSpPr>
        <p:spPr/>
        <p:txBody>
          <a:bodyPr/>
          <a:p>
            <a:fld id="{DEC988E1-A5C3-4E3F-A733-CC2C3EB1EED4}"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0"/>
          </p:nvPr>
        </p:nvSpPr>
        <p:spPr/>
        <p:txBody>
          <a:bodyPr/>
          <a:p>
            <a:fld id="{FCBA4977-0A52-48A2-B8B4-911FE8BA3293}"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99244421-134F-47AF-82F5-02295E90BA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
          </p:nvPr>
        </p:nvSpPr>
        <p:spPr/>
        <p:txBody>
          <a:bodyPr/>
          <a:p>
            <a:fld id="{0A7281C9-A0A1-4086-9113-77D2A1A243EC}"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EC170571-8A49-403E-A4A0-55D3095FD20B}"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AC3DD521-53E1-4ACB-BECC-8F1B52151264}"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E8FAB103-ACAB-42F4-A8F8-DF7A4946344B}"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1"/>
          </p:nvPr>
        </p:nvSpPr>
        <p:spPr/>
        <p:txBody>
          <a:bodyPr/>
          <a:p>
            <a:fld id="{2571F8FD-4B2C-4D73-B916-43131A6AC45A}"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1"/>
          </p:nvPr>
        </p:nvSpPr>
        <p:spPr/>
        <p:txBody>
          <a:bodyPr/>
          <a:p>
            <a:fld id="{68E495D6-56CA-4408-A733-586DE103BC2F}"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37BF7BDD-072B-4246-90EB-F3FFAC33E1CD}"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EFA2114C-40C2-42A5-8E9F-74E001F67F1A}"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CD7D757A-236E-4612-A21F-8F94393BE91F}"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FA633FA4-3994-4BEC-847C-53BC20D37A8C}"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1"/>
          </p:nvPr>
        </p:nvSpPr>
        <p:spPr/>
        <p:txBody>
          <a:bodyPr/>
          <a:p>
            <a:fld id="{32FE32C1-A229-4D28-8793-E28571B386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
          </p:nvPr>
        </p:nvSpPr>
        <p:spPr/>
        <p:txBody>
          <a:bodyPr/>
          <a:p>
            <a:fld id="{376DB966-2491-417B-B5AC-DF0FF2574AA6}"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1"/>
          </p:nvPr>
        </p:nvSpPr>
        <p:spPr/>
        <p:txBody>
          <a:bodyPr/>
          <a:p>
            <a:fld id="{AC3A6443-236F-424E-9E95-7E8420C52C1A}"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9C1114FF-ACCB-4427-BBC4-B9BCC0C6003A}"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D035D7C0-7472-47B2-A514-2A64E6AC90D9}"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2BC8093F-C3D4-4F3E-84E4-A5E32CE21E07}"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AE0A2727-7B44-45E9-8DDB-F1AA0637E984}"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2"/>
          </p:nvPr>
        </p:nvSpPr>
        <p:spPr/>
        <p:txBody>
          <a:bodyPr/>
          <a:p>
            <a:fld id="{DBE51B80-4C54-4878-9C75-EB4724658DF6}"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2"/>
          </p:nvPr>
        </p:nvSpPr>
        <p:spPr/>
        <p:txBody>
          <a:bodyPr/>
          <a:p>
            <a:fld id="{EDBE5557-AE72-45E6-9259-EB7539C4992F}"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6764CCA2-1F38-48A8-87D7-690997B14DE4}"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8B216859-0554-431D-B5EF-806B328FFBBD}"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4ECD47A9-A5D1-458A-9E9E-88453FEC7F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FF302A8E-78A3-4D42-B0A6-41C7C5B9E1C0}"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40DE0D75-BD3E-4848-B718-E469DB6DC497}"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2"/>
          </p:nvPr>
        </p:nvSpPr>
        <p:spPr/>
        <p:txBody>
          <a:bodyPr/>
          <a:p>
            <a:fld id="{79CC7F41-EEBC-4D0C-AC90-E8976AB8D34D}"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2"/>
          </p:nvPr>
        </p:nvSpPr>
        <p:spPr/>
        <p:txBody>
          <a:bodyPr/>
          <a:p>
            <a:fld id="{3C682848-6324-4976-8520-AC55BED3E28D}"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DB85CCFF-8F3F-482A-89D7-476E45BD1D2B}"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9811B34A-996D-4EED-806B-DF2FF814B41C}"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9B23E8D0-1CBE-45AA-8C48-A27941C043DF}"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FA1F1D25-7425-4AC1-AE96-24DBCC21E77C}"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3"/>
          </p:nvPr>
        </p:nvSpPr>
        <p:spPr/>
        <p:txBody>
          <a:bodyPr/>
          <a:p>
            <a:fld id="{1B102871-14CB-4366-ACDC-AA941CFF59A5}"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3"/>
          </p:nvPr>
        </p:nvSpPr>
        <p:spPr/>
        <p:txBody>
          <a:bodyPr/>
          <a:p>
            <a:fld id="{50F8D791-4AB5-405A-B471-4DA66BF42386}"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F8732BC4-44D1-4243-886A-7A0D0F8F5E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B7D8B98B-A57A-44C1-B51C-A6081BF12223}"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60B737C1-F81D-47E5-896E-697C4AC72E76}"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DBAEF931-B3A7-47CC-ACFF-E8D2831F5E56}"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7F488146-83FD-4079-A697-057CD0846ABB}"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3"/>
          </p:nvPr>
        </p:nvSpPr>
        <p:spPr/>
        <p:txBody>
          <a:bodyPr/>
          <a:p>
            <a:fld id="{95D7C4C0-4AAD-48EF-9EC0-FD66A05E0DD9}"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3"/>
          </p:nvPr>
        </p:nvSpPr>
        <p:spPr/>
        <p:txBody>
          <a:bodyPr/>
          <a:p>
            <a:fld id="{BBB2675F-C746-4D25-A9DD-00585B90A1D1}"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09A56329-6D51-464C-ABA1-C888C3E6D4F3}"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8E2B474B-E008-4B9F-B13D-199220637E38}"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66B72A08-9E0C-4EF9-AF86-A9C81082F0C3}"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3190DF7C-23BF-4145-B3B5-7E593ACFC589}"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4"/>
          </p:nvPr>
        </p:nvSpPr>
        <p:spPr/>
        <p:txBody>
          <a:bodyPr/>
          <a:p>
            <a:fld id="{A2B57C59-FCF2-4144-BDA4-69671D6927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9FA0359D-7104-4295-B3CC-828BAD2AC0B3}"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4"/>
          </p:nvPr>
        </p:nvSpPr>
        <p:spPr/>
        <p:txBody>
          <a:bodyPr/>
          <a:p>
            <a:fld id="{4CFB987C-0F51-4517-9FD6-6A201C89A517}"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08AA85F6-F096-4C39-891D-2B16C2CF3772}"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16DC7EAA-9FAC-43AF-81DC-7243989D6369}"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810C1C89-EEE4-4D2F-9FE3-5042A59F80E4}"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D5003BD5-D437-41D2-AAF6-8B798E62243B}"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4"/>
          </p:nvPr>
        </p:nvSpPr>
        <p:spPr/>
        <p:txBody>
          <a:bodyPr/>
          <a:p>
            <a:fld id="{69A724DC-1DCF-4FFE-B22E-13E8037F1E14}"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4"/>
          </p:nvPr>
        </p:nvSpPr>
        <p:spPr/>
        <p:txBody>
          <a:bodyPr/>
          <a:p>
            <a:fld id="{DAEAE558-895E-4E63-B1B5-D6E38A374567}"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D3FBB713-9BC2-4FE5-96E8-68673966B45E}"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6ABE9F26-B068-42D1-B129-D0D0A51D830B}"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70BDD8B2-AD39-4831-BE79-D542EF9C04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36475A84-AC8E-4C00-9CFD-03D5EC07D812}"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3F7D69EA-CBC6-4B87-B598-FA8C21262496}"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5"/>
          </p:nvPr>
        </p:nvSpPr>
        <p:spPr/>
        <p:txBody>
          <a:bodyPr/>
          <a:p>
            <a:fld id="{381C01B4-2598-48D9-A2F4-0FAEC72C1F98}"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5"/>
          </p:nvPr>
        </p:nvSpPr>
        <p:spPr/>
        <p:txBody>
          <a:bodyPr/>
          <a:p>
            <a:fld id="{48202F63-1051-4457-A714-2AB9E911C7B1}"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54C31031-015F-4727-95B7-1E15A4D9B37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3D9B3F46-C18F-4A94-B24E-7BC746D3F4A9}"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75B1692A-C5A9-471E-B077-ADFFD276D563}"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D13D9E4F-4A4B-4EAC-A11D-CFFD0AC9E9BF}"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5"/>
          </p:nvPr>
        </p:nvSpPr>
        <p:spPr/>
        <p:txBody>
          <a:bodyPr/>
          <a:p>
            <a:fld id="{61949F2C-C8DF-4234-9428-6D69623815E2}"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5"/>
          </p:nvPr>
        </p:nvSpPr>
        <p:spPr/>
        <p:txBody>
          <a:bodyPr/>
          <a:p>
            <a:fld id="{0449630A-4F43-453D-B9D5-8C4368C631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
          </p:nvPr>
        </p:nvSpPr>
        <p:spPr/>
        <p:txBody>
          <a:bodyPr/>
          <a:p>
            <a:fld id="{DA9417EE-6E1A-43A0-999E-493719144B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
          </p:nvPr>
        </p:nvSpPr>
        <p:spPr/>
        <p:txBody>
          <a:bodyPr/>
          <a:p>
            <a:fld id="{B141143A-1321-43DB-BCC7-31C8C3FC24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A39DF1-BDBA-478E-BC1A-80808549F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
          </p:nvPr>
        </p:nvSpPr>
        <p:spPr/>
        <p:txBody>
          <a:bodyPr/>
          <a:p>
            <a:fld id="{F66472E1-5F76-48CE-BC15-D9939863D3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DC2EC2FF-DCDF-4C2B-B480-A40DD0CB9A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53EE5A73-F04D-4020-8356-E731743ACD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BF72F194-79D4-42B4-8308-3D6884DF45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0"/>
          </p:nvPr>
        </p:nvSpPr>
        <p:spPr/>
        <p:txBody>
          <a:bodyPr/>
          <a:p>
            <a:fld id="{64B81D76-0AE7-4AAD-B25F-BEF85B175A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0"/>
          </p:nvPr>
        </p:nvSpPr>
        <p:spPr/>
        <p:txBody>
          <a:bodyPr/>
          <a:p>
            <a:fld id="{76F7114F-B035-41C7-8255-5399B5A819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A0A23929-0573-4D33-A64D-6337AE1823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832C6B14-402F-408D-9C80-A2F6D3AA27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3DAD99C3-841E-425D-9AAF-873F71942B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FDD2D4FD-EB27-4BFB-90CB-3696829FBE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0"/>
          </p:nvPr>
        </p:nvSpPr>
        <p:spPr/>
        <p:txBody>
          <a:bodyPr/>
          <a:p>
            <a:fld id="{37F2DE5F-23C3-4E6E-A386-14840A0E3A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
          </p:nvPr>
        </p:nvSpPr>
        <p:spPr/>
        <p:txBody>
          <a:bodyPr/>
          <a:p>
            <a:fld id="{3BDF39B5-3F15-4A2F-B4F6-3770D0463A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0"/>
          </p:nvPr>
        </p:nvSpPr>
        <p:spPr/>
        <p:txBody>
          <a:bodyPr/>
          <a:p>
            <a:fld id="{91DF0195-8B8D-4D3E-8D3C-FB2495D5B67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55A6ED8-0E61-4A89-A8D6-AA556D99D1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FDE77D23-BB23-4114-8EC9-D600F75B9D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BF873535-46BA-4CDB-9C2A-A383E22FF7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5B3584BE-6D35-4B32-8EF9-1D8A86A837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1"/>
          </p:nvPr>
        </p:nvSpPr>
        <p:spPr/>
        <p:txBody>
          <a:bodyPr/>
          <a:p>
            <a:fld id="{2BCDDDF2-CE8B-4E4F-B992-78E9E12576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1"/>
          </p:nvPr>
        </p:nvSpPr>
        <p:spPr/>
        <p:txBody>
          <a:bodyPr/>
          <a:p>
            <a:fld id="{2DA39A22-58E2-46E6-B48B-8CD1BDCADF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B0A1B93B-1B9E-4EB1-AA69-EAF8D1D53A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29361F36-A082-433A-AFF7-A1B425411FD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02508D25-B114-4029-8CC3-061FD9764C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001803-01DA-4837-8A74-68DFF48D9C6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D5834DA6-DCCE-40B3-BD90-C46CE820F9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1"/>
          </p:nvPr>
        </p:nvSpPr>
        <p:spPr/>
        <p:txBody>
          <a:bodyPr/>
          <a:p>
            <a:fld id="{66B5398B-20EE-4395-AE99-21B5EDC18F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1"/>
          </p:nvPr>
        </p:nvSpPr>
        <p:spPr/>
        <p:txBody>
          <a:bodyPr/>
          <a:p>
            <a:fld id="{657B8C93-543C-47A2-9826-13CE26B54F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7E34068-5BF0-4353-B1B5-369CB5ABD4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2F106A5D-9B67-4131-8DC4-B7CF648D6E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4BB60BD3-3FFA-4C4A-BFCC-74D9184DA5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A7B6BD9A-7F28-4F43-B94B-0A50D0D323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2"/>
          </p:nvPr>
        </p:nvSpPr>
        <p:spPr/>
        <p:txBody>
          <a:bodyPr/>
          <a:p>
            <a:fld id="{5560632C-3C83-4E99-9596-E492338037F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2"/>
          </p:nvPr>
        </p:nvSpPr>
        <p:spPr/>
        <p:txBody>
          <a:bodyPr/>
          <a:p>
            <a:fld id="{966D5977-77CB-4FDC-B6C9-0686B9830C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09B28AAF-848E-426A-9897-BB0996876E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50FAC17C-D253-4606-ACBC-7C73E4E7B0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D13B646C-6D01-4889-B687-84EB181367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720299FC-AB33-4EF6-B7DC-5B5FDE7EACF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8D714B14-03F0-4F54-82F6-4CFBACD0BC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2"/>
          </p:nvPr>
        </p:nvSpPr>
        <p:spPr/>
        <p:txBody>
          <a:bodyPr/>
          <a:p>
            <a:fld id="{B2A65D3B-38AB-4F33-9B46-9023CB5B58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2"/>
          </p:nvPr>
        </p:nvSpPr>
        <p:spPr/>
        <p:txBody>
          <a:bodyPr/>
          <a:p>
            <a:fld id="{E8B4177C-A821-400B-9789-EA3F0E480E3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4F72EB4-1EB6-4219-AC6D-BE93DFD96B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5848FDA1-22A5-4124-9584-E1333EB43BF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4EAA2CD8-B9E9-4D1F-BF90-0BBCB627488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E7CD4F5A-B21C-485B-9DD6-399BA9B1153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3"/>
          </p:nvPr>
        </p:nvSpPr>
        <p:spPr/>
        <p:txBody>
          <a:bodyPr/>
          <a:p>
            <a:fld id="{FABCFD58-7F55-4F1C-921B-071D3F070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302C35DC-160A-465E-AB55-48089AA278D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3"/>
          </p:nvPr>
        </p:nvSpPr>
        <p:spPr/>
        <p:txBody>
          <a:bodyPr/>
          <a:p>
            <a:fld id="{6324AA0D-5589-4E9F-A520-9A28C5208D3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4853D9B8-79E2-4704-B852-0D19820BB0A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5278C911-F978-4C6A-A914-126D909F9E1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A890CC3C-F281-4D99-85C6-E1CBDBE1805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BD56589F-0992-4DC5-A6BD-142393568DE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3"/>
          </p:nvPr>
        </p:nvSpPr>
        <p:spPr/>
        <p:txBody>
          <a:bodyPr/>
          <a:p>
            <a:fld id="{8E7396DA-38DA-4571-913D-BB722891B2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3"/>
          </p:nvPr>
        </p:nvSpPr>
        <p:spPr/>
        <p:txBody>
          <a:bodyPr/>
          <a:p>
            <a:fld id="{A080874F-46A7-46B3-9E33-EB35376EE72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2ACC042-0F07-4B05-8D7F-9F372F920E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3E904CD6-07A7-451F-88B2-480DAB3382A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93242F7D-FBBD-493F-91B5-DD0620EC30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5A0F58E6-FE7A-442F-B9E4-940953EE5EA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297046EC-9E50-4D31-A40C-C93A35BC77E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4"/>
          </p:nvPr>
        </p:nvSpPr>
        <p:spPr/>
        <p:txBody>
          <a:bodyPr/>
          <a:p>
            <a:fld id="{08FB3BE5-1E5A-4473-95E9-67C0BAFAF5F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4"/>
          </p:nvPr>
        </p:nvSpPr>
        <p:spPr/>
        <p:txBody>
          <a:bodyPr/>
          <a:p>
            <a:fld id="{45B4DF2E-4F20-48A3-9D5B-BEEDADE819E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1D851C3F-E38C-44D8-A7AD-C97D3E16DF4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B37CABFF-CC3E-4E12-B1E2-E40478CC83E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998C75A0-2F1A-4D2F-BC58-3809B314906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742C1F02-7D05-4056-A572-2EC1B7AB22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4"/>
          </p:nvPr>
        </p:nvSpPr>
        <p:spPr/>
        <p:txBody>
          <a:bodyPr/>
          <a:p>
            <a:fld id="{B5BC3187-AF73-48E0-A3B5-90F668A2FD4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4"/>
          </p:nvPr>
        </p:nvSpPr>
        <p:spPr/>
        <p:txBody>
          <a:bodyPr/>
          <a:p>
            <a:fld id="{A692368F-D51E-47FE-B31D-067CC33666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02FCD6B-08E2-421B-A750-232A65FBD3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
          </p:nvPr>
        </p:nvSpPr>
        <p:spPr/>
        <p:txBody>
          <a:bodyPr/>
          <a:p>
            <a:fld id="{76E107B5-5A4A-47C1-8674-59814AC49B7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4F66A107-05C0-455A-B64E-ADEB2A1E941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FB37F6DB-2960-4556-8006-9196EDA75CF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EFAB05AD-ACF8-4BD7-8D0B-82613AF2DF0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5"/>
          </p:nvPr>
        </p:nvSpPr>
        <p:spPr/>
        <p:txBody>
          <a:bodyPr/>
          <a:p>
            <a:fld id="{E4069D29-0665-4E5A-8D95-B419571CA7F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5"/>
          </p:nvPr>
        </p:nvSpPr>
        <p:spPr/>
        <p:txBody>
          <a:bodyPr/>
          <a:p>
            <a:fld id="{65CFBF83-50F6-486C-8BB4-05D49A805BE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7A568322-CBA0-47D3-93AA-9D18F8593EF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3F7B0BFF-2A60-4CD7-846E-DBE7E904EFB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22389350-A3F0-45D3-A9AC-114D7AF7C46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A45F9466-6996-4AB2-9E98-DFD93D37048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5"/>
          </p:nvPr>
        </p:nvSpPr>
        <p:spPr/>
        <p:txBody>
          <a:bodyPr/>
          <a:p>
            <a:fld id="{78BE77FB-CA32-4BFF-8D64-16E81C2C34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
          </p:nvPr>
        </p:nvSpPr>
        <p:spPr/>
        <p:txBody>
          <a:bodyPr/>
          <a:p>
            <a:fld id="{3DF890D8-CBFB-432E-A713-67E6C65251D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5"/>
          </p:nvPr>
        </p:nvSpPr>
        <p:spPr/>
        <p:txBody>
          <a:bodyPr/>
          <a:p>
            <a:fld id="{2CA5189D-08FD-415C-980B-C887EF31970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04FC03A-52D4-4C75-8DFE-6F5088EB63F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6834AD17-5F56-44B7-8FCA-53140E7843E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30434C53-A64E-4461-B6DC-955E4CC1F7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DCE22F0D-7AEA-48CF-BAF2-26AB211AF70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6"/>
          </p:nvPr>
        </p:nvSpPr>
        <p:spPr/>
        <p:txBody>
          <a:bodyPr/>
          <a:p>
            <a:fld id="{239EEBCC-5ECD-4EEA-8182-F34BC02AEE0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6"/>
          </p:nvPr>
        </p:nvSpPr>
        <p:spPr/>
        <p:txBody>
          <a:bodyPr/>
          <a:p>
            <a:fld id="{30449A2B-D28C-4038-A8DC-477C68C2C50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A0A1EA6C-555F-47DA-A84F-D0AA8A3B586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8A3A8904-8605-4EE7-A6BD-756C2769E68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B2360AFA-AC03-44AB-B73B-A0262E35DF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2289CB2F-0096-4EAF-86D6-F26EDC69045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B6F561C1-3546-48E0-B354-8F6DCDF0F32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6"/>
          </p:nvPr>
        </p:nvSpPr>
        <p:spPr/>
        <p:txBody>
          <a:bodyPr/>
          <a:p>
            <a:fld id="{E13A3941-7F68-45FC-86EE-B498AD5C8A5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6"/>
          </p:nvPr>
        </p:nvSpPr>
        <p:spPr/>
        <p:txBody>
          <a:bodyPr/>
          <a:p>
            <a:fld id="{DF7B9C05-A6D4-42D2-8480-C4ABE78BC21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6F2362F-15B9-4A75-A4C0-8904566A706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859FB504-4F64-40B9-9DD6-92BF7B1B844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BCA762F1-FAAB-4E47-8EB3-AA77B476D33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5CAFDD94-CA77-414C-B86E-49C613F7DB7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7"/>
          </p:nvPr>
        </p:nvSpPr>
        <p:spPr/>
        <p:txBody>
          <a:bodyPr/>
          <a:p>
            <a:fld id="{FA56C301-EA90-430A-BC05-361115C1772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7"/>
          </p:nvPr>
        </p:nvSpPr>
        <p:spPr/>
        <p:txBody>
          <a:bodyPr/>
          <a:p>
            <a:fld id="{285039FF-4033-46F1-9AB9-81ED81DBA84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7D98303D-7949-4084-9A54-2013C8A48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957C4290-2B85-4869-9E79-FE7CF636E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B83E5D4C-701E-42E1-B28A-6ADE66A3A39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A70E8F47-463E-4444-B5C1-8C6DAB6B7C2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008D3AB9-DDF3-4FD7-BD65-81E1C82F923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B2D54450-BC61-43E9-805C-66A55BB5717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7"/>
          </p:nvPr>
        </p:nvSpPr>
        <p:spPr/>
        <p:txBody>
          <a:bodyPr/>
          <a:p>
            <a:fld id="{7449D506-C4F0-4B12-B079-DCB43A67DF1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7"/>
          </p:nvPr>
        </p:nvSpPr>
        <p:spPr/>
        <p:txBody>
          <a:bodyPr/>
          <a:p>
            <a:fld id="{B1647086-BC71-41CC-9EBE-66EDC52BCE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78B9CCD-004D-44BC-984F-4D531A22D56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A516E0C4-4356-4799-A186-78BD434AF2E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8CDCA1D9-1596-4E46-8F76-71E299AE5B6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52A55585-443B-4799-B78B-68622336769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8"/>
          </p:nvPr>
        </p:nvSpPr>
        <p:spPr/>
        <p:txBody>
          <a:bodyPr/>
          <a:p>
            <a:fld id="{8721A2F8-A231-48F2-AF91-987D82991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724DE3E3-CB8B-4C7B-9730-12323E19305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8"/>
          </p:nvPr>
        </p:nvSpPr>
        <p:spPr/>
        <p:txBody>
          <a:bodyPr/>
          <a:p>
            <a:fld id="{ED7ABEDF-4F78-40AA-9F52-64897C628EC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245504A4-96D3-4D5F-A30E-DDFF4EE0B46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58E90F26-0C7D-40F8-BC09-13EA98A3443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1EC5CC21-095A-45E9-82CE-99DAA207B78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E193BBA1-EFA7-4627-AD1F-175DD16CCE5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8"/>
          </p:nvPr>
        </p:nvSpPr>
        <p:spPr/>
        <p:txBody>
          <a:bodyPr/>
          <a:p>
            <a:fld id="{6BF5360C-ABD3-43AD-B4C2-1B48DA6B99D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8"/>
          </p:nvPr>
        </p:nvSpPr>
        <p:spPr/>
        <p:txBody>
          <a:bodyPr/>
          <a:p>
            <a:fld id="{EACC1DB5-B7A8-4D97-86F2-AFDFF1368DC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BDDCD1C-6B45-489F-9F1A-FFAD3D80EF6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8833A8D4-4123-49F5-9160-7FC8E663850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4BB0761E-5252-4282-9E2E-0F50132C2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4805F2E6-224F-4265-9FB7-E3C3108230C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6A6FAAD2-0C71-4A77-9D3C-5FD0FA07510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9"/>
          </p:nvPr>
        </p:nvSpPr>
        <p:spPr/>
        <p:txBody>
          <a:bodyPr/>
          <a:p>
            <a:fld id="{CB384F95-FA39-4A61-88E3-CB763BBB4D7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9"/>
          </p:nvPr>
        </p:nvSpPr>
        <p:spPr/>
        <p:txBody>
          <a:bodyPr/>
          <a:p>
            <a:fld id="{FBAC48AD-3ED4-4A02-AFE5-2C1BB0672AF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4279B5D3-D5B2-4F70-B233-C735B0B05A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22AEF3C3-F5E1-4A70-BDE4-598A38E9CA2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5824F359-3134-4738-ABE4-8556450301E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21412552-B8E5-4B46-BB71-864A9C2CDE3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9"/>
          </p:nvPr>
        </p:nvSpPr>
        <p:spPr/>
        <p:txBody>
          <a:bodyPr/>
          <a:p>
            <a:fld id="{60C831AF-56D0-4CB9-9B09-B3CCE6BAF00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9"/>
          </p:nvPr>
        </p:nvSpPr>
        <p:spPr/>
        <p:txBody>
          <a:bodyPr/>
          <a:p>
            <a:fld id="{92F661F4-484C-4376-9690-B0D25611EA7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34886BE-4FDA-4F92-8865-D340ED6EE8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
          </p:nvPr>
        </p:nvSpPr>
        <p:spPr/>
        <p:txBody>
          <a:bodyPr/>
          <a:p>
            <a:fld id="{706E678C-6E07-462A-992C-79B7D135E84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76E3B49F-5E87-4EB8-907E-FB283106DBD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ECF89791-E276-4F62-9ECB-A17959E61B2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6A85F084-4537-4323-BCAD-6DD0A142440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0"/>
          </p:nvPr>
        </p:nvSpPr>
        <p:spPr/>
        <p:txBody>
          <a:bodyPr/>
          <a:p>
            <a:fld id="{230DCAE8-F29C-4D24-8B79-C9FE16926CB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0"/>
          </p:nvPr>
        </p:nvSpPr>
        <p:spPr/>
        <p:txBody>
          <a:bodyPr/>
          <a:p>
            <a:fld id="{541D7CA1-133C-40BA-8AAF-9944C4493A9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5ADA6042-A022-489C-A6A7-BE6B75DB56A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C5435F0B-9C8D-4B50-929E-0FD54B7C551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91DBAD66-7014-4B42-BE9C-6355284815B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9988C7DA-42F6-40E1-8542-3FC17FE2613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0"/>
          </p:nvPr>
        </p:nvSpPr>
        <p:spPr/>
        <p:txBody>
          <a:bodyPr/>
          <a:p>
            <a:fld id="{816F3A6E-8ADB-409B-B6BF-3AB0A8AA49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
          </p:nvPr>
        </p:nvSpPr>
        <p:spPr/>
        <p:txBody>
          <a:bodyPr/>
          <a:p>
            <a:fld id="{0248B040-F99E-4B6A-978D-B02A833BC3D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0"/>
          </p:nvPr>
        </p:nvSpPr>
        <p:spPr/>
        <p:txBody>
          <a:bodyPr/>
          <a:p>
            <a:fld id="{5AEF3429-080A-4AAA-9323-DDA9CBB9725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6E4C9C1-E952-4969-848E-70658F08DF1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1E6A837A-CDCD-47DF-8095-32D565D0A6C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477EBBAA-67BB-40E8-B4FB-59240E3C948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F8AE0C65-83C8-4775-A771-102F7FFA37F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1"/>
          </p:nvPr>
        </p:nvSpPr>
        <p:spPr/>
        <p:txBody>
          <a:bodyPr/>
          <a:p>
            <a:fld id="{C6F3AC35-FA89-4464-A0F9-A285EE28AE9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1"/>
          </p:nvPr>
        </p:nvSpPr>
        <p:spPr/>
        <p:txBody>
          <a:bodyPr/>
          <a:p>
            <a:fld id="{B6171938-4B05-418B-83A6-79B27F70310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50B6F566-CAFE-4FD6-8E4A-7CEAED4A94D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DB7045AD-56B5-4FA2-B076-73A3938AC06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5606D2B9-C844-4A2E-B253-12F92BD396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9BD7C7-CBCA-4D5D-9B90-3DC2CEC9EDA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4D27F781-D348-4490-B9CD-A2194E569BE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1"/>
          </p:nvPr>
        </p:nvSpPr>
        <p:spPr/>
        <p:txBody>
          <a:bodyPr/>
          <a:p>
            <a:fld id="{C03DD482-8DEA-4660-A339-DD7D93F16C5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1"/>
          </p:nvPr>
        </p:nvSpPr>
        <p:spPr/>
        <p:txBody>
          <a:bodyPr/>
          <a:p>
            <a:fld id="{2D2AF94E-C7D0-40E8-9B65-BB6C7B4F2AD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ADEEE99-B59D-4B50-8564-D6355D3FB14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F2B2A27A-95DE-4385-8A5D-34140DAA14E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46D77A53-0DB8-49F5-8308-10EACA89A1C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77B5DB39-E5D3-4FF5-901A-E7E4989C893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2"/>
          </p:nvPr>
        </p:nvSpPr>
        <p:spPr/>
        <p:txBody>
          <a:bodyPr/>
          <a:p>
            <a:fld id="{3CA51C83-3715-4CF2-BB57-FC946EA7D8C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2"/>
          </p:nvPr>
        </p:nvSpPr>
        <p:spPr/>
        <p:txBody>
          <a:bodyPr/>
          <a:p>
            <a:fld id="{8A085889-79DE-49E3-B1FC-46ED914C2B1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C0784A34-51EB-418E-83DC-2C66486158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94B0E90B-6B94-44D3-8877-272AC03A66E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18AF2225-ACC0-4788-A930-13C4693F4E4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E3979441-F6D6-494D-9390-00BA3A26596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2321AA08-38B6-4EC5-A239-1466D483AF5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2"/>
          </p:nvPr>
        </p:nvSpPr>
        <p:spPr/>
        <p:txBody>
          <a:bodyPr/>
          <a:p>
            <a:fld id="{493CAC9F-FB06-4B8E-86E8-97E1E7C8C3D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2"/>
          </p:nvPr>
        </p:nvSpPr>
        <p:spPr/>
        <p:txBody>
          <a:bodyPr/>
          <a:p>
            <a:fld id="{C8D1B50C-3EAA-4632-A61F-8D894F18DD4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42B8990-A980-439E-BFAF-4952826CF74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A965A9D1-781C-47B5-89BD-E2FBBCC493B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E6EFF32F-ADFB-4592-AA24-88F835A177C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F739226D-28C1-42E9-81A1-F9C8EA22D74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3"/>
          </p:nvPr>
        </p:nvSpPr>
        <p:spPr/>
        <p:txBody>
          <a:bodyPr/>
          <a:p>
            <a:fld id="{DA1B249F-770E-4562-B5BC-80D8A21D4F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4513E73E-DA56-4CC5-9CE0-C3E87D85643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3"/>
          </p:nvPr>
        </p:nvSpPr>
        <p:spPr/>
        <p:txBody>
          <a:bodyPr/>
          <a:p>
            <a:fld id="{B434814C-6894-4AF4-91AB-F5F793F69E8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68D85B83-89A0-40D9-8B91-0160F63E09B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852EBC65-6B7A-4427-B0E2-53EF056D757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07ED5997-2656-4EC4-AC33-C9CC0BC5725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427A638B-FB49-41BF-82CF-4B44C2DB726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3"/>
          </p:nvPr>
        </p:nvSpPr>
        <p:spPr/>
        <p:txBody>
          <a:bodyPr/>
          <a:p>
            <a:fld id="{F7EBB8B1-5CCC-41A6-99F6-FDD06AFAABB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3"/>
          </p:nvPr>
        </p:nvSpPr>
        <p:spPr/>
        <p:txBody>
          <a:bodyPr/>
          <a:p>
            <a:fld id="{D66B40BA-FF60-42AA-9D65-A9BF4CE15D2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7F271F3-7199-410B-85E0-ED2BAF636F3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2992EC2B-E5D1-4E0A-AA8B-611DC1FF3EE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CED2A110-BD20-46AB-9245-CE262EAB24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969CE08F-E955-4994-9773-8C0214EEF65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6FB00C64-4309-452D-8CF2-508975DD094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4"/>
          </p:nvPr>
        </p:nvSpPr>
        <p:spPr/>
        <p:txBody>
          <a:bodyPr/>
          <a:p>
            <a:fld id="{2AF612DA-07D6-4606-82EE-01AEAF2D7D5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4"/>
          </p:nvPr>
        </p:nvSpPr>
        <p:spPr/>
        <p:txBody>
          <a:bodyPr/>
          <a:p>
            <a:fld id="{0E783A43-2C1B-4D24-81F1-16E00581DDD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023B8BDC-53E8-456C-AF22-3F52A60A96B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5A93B258-065F-4EF9-B31D-6A62D62FA7F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BA5F3633-C090-411C-BBEC-01EF64ACFA9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8938F70E-923D-4731-A90C-A2CE8C368B0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4"/>
          </p:nvPr>
        </p:nvSpPr>
        <p:spPr/>
        <p:txBody>
          <a:bodyPr/>
          <a:p>
            <a:fld id="{73F1F86B-2C02-4A4D-8B59-354692CEA6A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4"/>
          </p:nvPr>
        </p:nvSpPr>
        <p:spPr/>
        <p:txBody>
          <a:bodyPr/>
          <a:p>
            <a:fld id="{EBC7F7B7-6563-4BA4-A6A6-F32B4B1F65C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0877A48-B8D0-4865-A684-B56FE170D0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
          </p:nvPr>
        </p:nvSpPr>
        <p:spPr/>
        <p:txBody>
          <a:bodyPr/>
          <a:p>
            <a:fld id="{88649130-34DB-4576-AFCA-A50932D9E28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A35B6D8B-A861-4E89-958D-5021E844D79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3BDD9B57-8DC5-4637-9CD1-31E78AF362D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B72EEC4C-E065-43E9-B47C-87784672E75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5"/>
          </p:nvPr>
        </p:nvSpPr>
        <p:spPr/>
        <p:txBody>
          <a:bodyPr/>
          <a:p>
            <a:fld id="{D66C96F6-0B6D-4E4C-AB51-C134853093F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5"/>
          </p:nvPr>
        </p:nvSpPr>
        <p:spPr/>
        <p:txBody>
          <a:bodyPr/>
          <a:p>
            <a:fld id="{3E570ACC-76C9-477C-B911-26AEC5DECC6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0DD4ED85-0F4F-46B4-9A50-EDA5C60F288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77BDB780-9104-4DF2-BCDA-260FAFDB42E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7F29013F-9285-4856-BF6B-652367E7B02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F7AFA96A-E356-4D90-9482-F6C7E0B4E17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5"/>
          </p:nvPr>
        </p:nvSpPr>
        <p:spPr/>
        <p:txBody>
          <a:bodyPr/>
          <a:p>
            <a:fld id="{61EB5BD8-3C42-4CD3-B1EE-AC692C0383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1F769DB5-8002-4F89-8648-A79911CDEC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
          </p:nvPr>
        </p:nvSpPr>
        <p:spPr/>
        <p:txBody>
          <a:bodyPr/>
          <a:p>
            <a:fld id="{FA1CF238-6455-4D77-BE4D-C3B4EFC65B5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5"/>
          </p:nvPr>
        </p:nvSpPr>
        <p:spPr/>
        <p:txBody>
          <a:bodyPr/>
          <a:p>
            <a:fld id="{639C63B5-1FCF-4972-93B4-1A17C0AC0E6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BC0DA79-1CE0-425D-B110-63A5B4C42DE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7884A720-015B-42F0-90B4-93CA32E0DCF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1F231E5C-54A3-4D81-9892-A23D945C4F5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59CE6036-DD2D-4BC8-9AA2-DF36D1E71C2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6"/>
          </p:nvPr>
        </p:nvSpPr>
        <p:spPr/>
        <p:txBody>
          <a:bodyPr/>
          <a:p>
            <a:fld id="{B7EF116D-161D-4004-A503-50A4D5C2B6F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6"/>
          </p:nvPr>
        </p:nvSpPr>
        <p:spPr/>
        <p:txBody>
          <a:bodyPr/>
          <a:p>
            <a:fld id="{4FE86D57-576D-4BC0-9906-6A5550F4515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D275C50F-4F86-4721-A3E8-00A73EB27F9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4F8F9416-7293-483E-AEFF-87A753C9C9D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7DF98E0A-9E56-4D90-874E-7B5D6A92A0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02EC012E-25DE-4EF4-BBD8-1EF3618DB05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F285A2C3-2DE8-4830-BBAA-95D77336C9F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6"/>
          </p:nvPr>
        </p:nvSpPr>
        <p:spPr/>
        <p:txBody>
          <a:bodyPr/>
          <a:p>
            <a:fld id="{249A83A4-6E5E-497A-925E-D40E0D0D17C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6"/>
          </p:nvPr>
        </p:nvSpPr>
        <p:spPr/>
        <p:txBody>
          <a:bodyPr/>
          <a:p>
            <a:fld id="{90E2B474-81B9-460E-BAD4-464E3326199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8467DD5-8C07-4215-8E5D-85AEA53466C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D47CF1FD-30FC-4FD3-8FA6-ED7621981B3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471AFE7D-EB9D-4601-BE04-11A994F4E8C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D30B4AA0-B22D-48FB-A47E-F8BC90F2BC0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7"/>
          </p:nvPr>
        </p:nvSpPr>
        <p:spPr/>
        <p:txBody>
          <a:bodyPr/>
          <a:p>
            <a:fld id="{9DB76D67-C922-401F-9696-080515570DF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7"/>
          </p:nvPr>
        </p:nvSpPr>
        <p:spPr/>
        <p:txBody>
          <a:bodyPr/>
          <a:p>
            <a:fld id="{0AED838C-8663-4EE6-8E5C-85D98B36B43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29F7F398-565B-41A4-A3BB-6C10CD2C8E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62A452A4-8F38-4992-B47B-52E972A1485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8AB84BF9-EBE5-43BD-BE66-A762A76FD0A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FFFFBA26-80A5-419D-B0AA-2D39398CF23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E631DEDE-5642-4124-8E1D-190DCCC2104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7"/>
          </p:nvPr>
        </p:nvSpPr>
        <p:spPr/>
        <p:txBody>
          <a:bodyPr/>
          <a:p>
            <a:fld id="{21C75255-3C0B-41F0-A96D-3D4B8F88AA7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7"/>
          </p:nvPr>
        </p:nvSpPr>
        <p:spPr/>
        <p:txBody>
          <a:bodyPr/>
          <a:p>
            <a:fld id="{3D666838-FB7D-48A0-BA6E-8EF2478A7EC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F5B7647-FB00-4042-9733-BA0ED6CD51A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EDF9775B-0F01-4B76-89CD-235A6C0E870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B6D63F0B-71C3-4F87-914F-ADFA8707424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12D0A322-7485-460B-B6B6-5E396D1DD02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8"/>
          </p:nvPr>
        </p:nvSpPr>
        <p:spPr/>
        <p:txBody>
          <a:bodyPr/>
          <a:p>
            <a:fld id="{EB72BF86-EA3B-4AE2-8BCE-D1330521AE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BC336D91-B04C-41F1-B436-53448D2E5CA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8"/>
          </p:nvPr>
        </p:nvSpPr>
        <p:spPr/>
        <p:txBody>
          <a:bodyPr/>
          <a:p>
            <a:fld id="{82ECFF03-1526-4777-88D7-7405351A05C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C12B18E2-15AB-4F47-880D-CD5123366AD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89AD3C6E-DC2F-4D5E-95F5-7EA5C9EB68A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92D3F3C9-0348-4FB5-B60B-97CD552540B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D81E0FA5-F854-4868-85BE-35954936880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8"/>
          </p:nvPr>
        </p:nvSpPr>
        <p:spPr/>
        <p:txBody>
          <a:bodyPr/>
          <a:p>
            <a:fld id="{0A90AE97-5BF8-4D3C-BAB6-D75AF7C8B60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8"/>
          </p:nvPr>
        </p:nvSpPr>
        <p:spPr/>
        <p:txBody>
          <a:bodyPr/>
          <a:p>
            <a:fld id="{AA0BF2BC-6528-449C-AC5F-418881CDEB5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14899F1-8E26-4512-8D18-67D01DCF4E9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FD105C87-D48A-4828-98C5-4FF29BA62C1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8400C8B2-A7B6-420E-81AA-20B812F09DE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57632276-7DCC-4E9C-BA5C-CEF59AAD6E9D}"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1B15C04D-C974-4718-9F2C-C0995D470AF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9"/>
          </p:nvPr>
        </p:nvSpPr>
        <p:spPr/>
        <p:txBody>
          <a:bodyPr/>
          <a:p>
            <a:fld id="{09800B88-2C30-4F37-8652-E9C6CBCE0E3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9"/>
          </p:nvPr>
        </p:nvSpPr>
        <p:spPr/>
        <p:txBody>
          <a:bodyPr/>
          <a:p>
            <a:fld id="{0485E7B9-5440-4DF1-83DD-7179662CB222}"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442B71FF-1D9F-43EE-BAC5-AA297615ED1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5F829D69-B18E-40B5-977F-41A31751521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8D915F0F-C083-4DDC-A8F2-C85B90E5D17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1A28DC96-CC87-47C3-B702-5835ADCA1C4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9"/>
          </p:nvPr>
        </p:nvSpPr>
        <p:spPr/>
        <p:txBody>
          <a:bodyPr/>
          <a:p>
            <a:fld id="{F7D8D356-1FA7-48F0-AE47-BBDC929655ED}"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9"/>
          </p:nvPr>
        </p:nvSpPr>
        <p:spPr/>
        <p:txBody>
          <a:bodyPr/>
          <a:p>
            <a:fld id="{211C532A-076F-4191-8614-F9A40CC14C19}"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3A3BC72-1914-4ADD-A8E1-C0B76C637A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
          </p:nvPr>
        </p:nvSpPr>
        <p:spPr/>
        <p:txBody>
          <a:bodyPr/>
          <a:p>
            <a:fld id="{D023689C-3A7A-4379-B657-864948407DC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CD7859CB-0099-4DFD-A00C-A410DD50E0E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B1A1CA15-83FC-43C5-969F-50FEB558795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61BFEEBD-8EDC-439F-AE72-1D7C677062B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0"/>
          </p:nvPr>
        </p:nvSpPr>
        <p:spPr/>
        <p:txBody>
          <a:bodyPr/>
          <a:p>
            <a:fld id="{F35AE9AC-A6E4-4EC4-AF67-F40C9D2248C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0"/>
          </p:nvPr>
        </p:nvSpPr>
        <p:spPr/>
        <p:txBody>
          <a:bodyPr/>
          <a:p>
            <a:fld id="{59F1C553-75F5-4249-9023-F8FE9CD6ADF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D9194AB3-DBD7-4E79-87FD-746BAE677C1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BEAD391C-FF3F-44B5-8471-8944C2A11FA5}"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F53378C7-3728-4494-877F-75492DF0C42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A52C6FFE-0738-4407-B376-579F5805A0A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0"/>
          </p:nvPr>
        </p:nvSpPr>
        <p:spPr/>
        <p:txBody>
          <a:bodyPr/>
          <a:p>
            <a:fld id="{0B77D813-0FDD-443D-8B9D-A178B3607C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
          </p:nvPr>
        </p:nvSpPr>
        <p:spPr/>
        <p:txBody>
          <a:bodyPr/>
          <a:p>
            <a:fld id="{287F3E35-3A0A-4AC1-B065-05A7CFF25C9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0"/>
          </p:nvPr>
        </p:nvSpPr>
        <p:spPr/>
        <p:txBody>
          <a:bodyPr/>
          <a:p>
            <a:fld id="{2083408C-3CA8-442F-8AB2-9844613B162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96CC3F1-6C50-4F49-8ECE-54697403C23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D2B7D129-4F18-44AC-9B5E-59AE570AFE7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9FAFFCF3-A4DC-4727-B364-C1BA6A17B42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384A2D7D-2FDD-4B9C-B141-69DB928F991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1"/>
          </p:nvPr>
        </p:nvSpPr>
        <p:spPr/>
        <p:txBody>
          <a:bodyPr/>
          <a:p>
            <a:fld id="{2388EC51-5B2C-44B9-947B-3993E6867C3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1"/>
          </p:nvPr>
        </p:nvSpPr>
        <p:spPr/>
        <p:txBody>
          <a:bodyPr/>
          <a:p>
            <a:fld id="{F2E8BAB8-6BDE-429B-8B64-62BD89C2603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E3638FDD-EA35-4979-B4CD-B88B42BC47F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3D3846AF-3DD5-4E81-A461-918C3F69978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48421590-E5EC-42CF-B01E-14C5B772CA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C0D17E-25D3-460E-ACC6-BA653CA7EF1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8FCF2190-40D7-4B95-A5B8-D2714F46BD0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1"/>
          </p:nvPr>
        </p:nvSpPr>
        <p:spPr/>
        <p:txBody>
          <a:bodyPr/>
          <a:p>
            <a:fld id="{0F8C200E-E656-486C-9A49-2A42D6021D3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1"/>
          </p:nvPr>
        </p:nvSpPr>
        <p:spPr/>
        <p:txBody>
          <a:bodyPr/>
          <a:p>
            <a:fld id="{BDB29FA3-8592-474B-9A44-D32C8AF34D8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8F7ADE0-A1B4-412C-92CE-1749BAEC9FA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FDA294B9-EF29-4037-A633-BB51D04656F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33E1DE62-1894-4370-9058-C0434534E25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1E89AC9E-04FB-4C37-AFAF-531E50FCE1D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2"/>
          </p:nvPr>
        </p:nvSpPr>
        <p:spPr/>
        <p:txBody>
          <a:bodyPr/>
          <a:p>
            <a:fld id="{2B7C5641-8877-4980-A554-F956BF86CDB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2"/>
          </p:nvPr>
        </p:nvSpPr>
        <p:spPr/>
        <p:txBody>
          <a:bodyPr/>
          <a:p>
            <a:fld id="{C05F0AB7-2067-4086-8599-D915F10A19B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2367032A-FBA7-4D1A-A34F-04962C53BE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4D015FF6-9F26-4289-9534-EA6763DD314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A0183885-150F-42BD-8EF7-38652765426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D1713A05-5BA5-44DF-8645-787F59B6174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4032EB40-5043-490E-9522-980F476BF38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2"/>
          </p:nvPr>
        </p:nvSpPr>
        <p:spPr/>
        <p:txBody>
          <a:bodyPr/>
          <a:p>
            <a:fld id="{7EB43DDA-E1FE-4C04-A45D-F8A528BCBBE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2"/>
          </p:nvPr>
        </p:nvSpPr>
        <p:spPr/>
        <p:txBody>
          <a:bodyPr/>
          <a:p>
            <a:fld id="{B3AD5D71-C98A-4E31-B5C3-593FC96DFFB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91175AD-A725-42F8-878D-6375E21D4F0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EE95C77-697B-48CB-8AD0-D412938DF18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D1C668D-D2D8-4281-B936-EC589D74030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872FC08-B901-44B9-81C0-FDF4BC29C49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53778B-6C50-4658-9063-762C2AB292C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8F4D4A35-2703-4457-A9BC-95B78E9AF91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33ED687-C490-4E96-98B2-DAF6CF0AE6B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F4D20FB-5E70-4889-BC8E-5018EDB5F6F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52A6F74-ED74-4006-AB05-E4FFB8B5E16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00A7C1C-7ECF-4BD7-8B4B-CC57E701BD0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01AB37A-3507-4CEC-8DE1-0B4F5CDBECB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84A9526-2534-4096-8582-D25BD3F6857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4F247B9-8F6D-41D4-817E-0B7E06B48F6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B41A88CD-51BD-4377-9481-68D69282D79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624EAAE6-1321-4CA1-A1A9-554F49E7F35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4C6F4392-FC18-4CDC-8089-942E6852AF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F265C2FC-CCA9-4574-A29D-966F643280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683CD762-031A-46F8-BF38-7E2F0236411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6887E81C-01E6-40A5-9A4F-E1A41B3F8F7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6"/>
          </p:nvPr>
        </p:nvSpPr>
        <p:spPr/>
        <p:txBody>
          <a:bodyPr/>
          <a:p>
            <a:fld id="{D1803EB2-9378-4056-9A5B-2A6A487B208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6"/>
          </p:nvPr>
        </p:nvSpPr>
        <p:spPr/>
        <p:txBody>
          <a:bodyPr/>
          <a:p>
            <a:fld id="{9D795803-8176-47F6-98D3-C5FF86362CC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CB8AC861-0003-448D-8FAF-ABBFA4596C9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4E60E51B-3B5F-458C-B85D-253E64EA3E9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AC91D1CD-1513-43AD-8CEE-008E4747620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4B4D4452-C419-4785-B8EE-DDB91E47E38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6"/>
          </p:nvPr>
        </p:nvSpPr>
        <p:spPr/>
        <p:txBody>
          <a:bodyPr/>
          <a:p>
            <a:fld id="{A26A7808-9015-482B-BC8B-0FE07A7DADD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6"/>
          </p:nvPr>
        </p:nvSpPr>
        <p:spPr/>
        <p:txBody>
          <a:bodyPr/>
          <a:p>
            <a:fld id="{200E89CB-1206-4A90-9C1F-1EC1E649A78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93ADB6A7-8F60-413B-841E-EC72741157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
          </p:nvPr>
        </p:nvSpPr>
        <p:spPr/>
        <p:txBody>
          <a:bodyPr/>
          <a:p>
            <a:fld id="{3DE20364-5F35-428C-8114-04724F918F9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683A8B37-9267-4AC2-94B8-ADADF13E38A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9D797ABA-E477-4BF0-B985-169FC0A4773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5CA3EA19-85CE-40B5-8F9A-B0252890840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7"/>
          </p:nvPr>
        </p:nvSpPr>
        <p:spPr/>
        <p:txBody>
          <a:bodyPr/>
          <a:p>
            <a:fld id="{9319F08E-5312-4701-8B9B-F9C0522D1A6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7"/>
          </p:nvPr>
        </p:nvSpPr>
        <p:spPr/>
        <p:txBody>
          <a:bodyPr/>
          <a:p>
            <a:fld id="{6B6F0328-C8E4-4348-82B8-C927C8FD523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EA5FF08A-095D-4A6C-B69B-839B667C56F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EB47A156-774B-44DF-8C61-EFE9C8C2137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3C829E52-6E1E-4059-829F-B37175F571D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8D176445-7F96-4D8A-AA6E-57D1FF8CE71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7"/>
          </p:nvPr>
        </p:nvSpPr>
        <p:spPr/>
        <p:txBody>
          <a:bodyPr/>
          <a:p>
            <a:fld id="{03E703F9-8F10-4E49-802C-7AF368430F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
          </p:nvPr>
        </p:nvSpPr>
        <p:spPr/>
        <p:txBody>
          <a:bodyPr/>
          <a:p>
            <a:fld id="{9FBB7BAA-C5D3-4712-8363-617571A1929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9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7"/>
          </p:nvPr>
        </p:nvSpPr>
        <p:spPr/>
        <p:txBody>
          <a:bodyPr/>
          <a:p>
            <a:fld id="{4B0E2D52-5430-49ED-9066-377EA176CD5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621EDC6-1354-449B-A646-CEE2C78B309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EE2211FA-81B5-40DD-8822-80D9BD1C6C3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AF45D933-A977-4813-B586-EDF27C1770B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18A60532-1857-4BAC-9C2E-17AE232DFD8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8"/>
          </p:nvPr>
        </p:nvSpPr>
        <p:spPr/>
        <p:txBody>
          <a:bodyPr/>
          <a:p>
            <a:fld id="{AA0C46C0-5740-4002-B3FD-08D8D4279F3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8"/>
          </p:nvPr>
        </p:nvSpPr>
        <p:spPr/>
        <p:txBody>
          <a:bodyPr/>
          <a:p>
            <a:fld id="{00C05DB5-51DC-4F32-99F5-26190323EE6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B52DD86A-C488-4B34-9E36-68220555098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FCF0097B-F138-454F-A35A-53ECFD8214A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0A77C1B1-59BC-4015-96B9-F85B4D867C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8E4E71EA-E62A-4B37-B421-58C0C3AFC97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355A2816-4016-48CA-8520-2EFAE29628B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8"/>
          </p:nvPr>
        </p:nvSpPr>
        <p:spPr/>
        <p:txBody>
          <a:bodyPr/>
          <a:p>
            <a:fld id="{DE702E4E-BFB4-40E5-A2A7-B388ED0E9F2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8"/>
          </p:nvPr>
        </p:nvSpPr>
        <p:spPr/>
        <p:txBody>
          <a:bodyPr/>
          <a:p>
            <a:fld id="{9C078204-BD39-4B5C-8918-95A8DCB5B8C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FD4F422-49CF-4302-97D2-801AA74485D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61D38B12-49DF-4CCB-8C32-7B7204A86CD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BC993460-73F2-4438-AE6C-E5ABB0963CEA}"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83E924A4-A607-4471-8F91-29E9BD78C70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9"/>
          </p:nvPr>
        </p:nvSpPr>
        <p:spPr/>
        <p:txBody>
          <a:bodyPr/>
          <a:p>
            <a:fld id="{F5063043-F0D7-40A8-82A6-09C6019556B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9"/>
          </p:nvPr>
        </p:nvSpPr>
        <p:spPr/>
        <p:txBody>
          <a:bodyPr/>
          <a:p>
            <a:fld id="{6EC797B8-1EAF-4F51-95F4-5E5B2DE6CD0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67BE1C36-46F8-4F96-B173-64BEE44D05B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D2658242-112E-41CB-A3E3-9734B0CD59B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D7EFABD4-D4D8-4F11-8713-78D0FF76008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8B468DE3-405B-4FE8-8C88-FB878A314D9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08A4E1A9-8F41-4C0C-B30D-108ACC27C8D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9"/>
          </p:nvPr>
        </p:nvSpPr>
        <p:spPr/>
        <p:txBody>
          <a:bodyPr/>
          <a:p>
            <a:fld id="{E71836CC-48D8-45EF-ACDD-9E20A31B7AA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9"/>
          </p:nvPr>
        </p:nvSpPr>
        <p:spPr/>
        <p:txBody>
          <a:bodyPr/>
          <a:p>
            <a:fld id="{414E679A-1DA3-4C32-81C5-3D94C05B6ED8}"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E9423DC-48B1-4988-BBDB-D02778AF00D5}"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958C6F70-F542-4B09-A86D-F1316F04640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91AB5316-0601-4D42-9303-1128397F0B14}"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A9F697C5-4523-4DA2-A411-5F14D2021E8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0"/>
          </p:nvPr>
        </p:nvSpPr>
        <p:spPr/>
        <p:txBody>
          <a:bodyPr/>
          <a:p>
            <a:fld id="{1452B68F-B57A-4AF7-8324-F6885C2BA5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8E417EC8-3FD8-45D6-BEE2-06EEF41CEA70}"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0"/>
          </p:nvPr>
        </p:nvSpPr>
        <p:spPr/>
        <p:txBody>
          <a:bodyPr/>
          <a:p>
            <a:fld id="{073CEFA4-5CAB-4ED1-8FFF-6CFAE0D68333}"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FD84DD48-B3D1-4915-8A5F-ACCF2F9EC0B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4D8CCC17-416C-48F6-A154-092B90B7731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901C6CF0-FF16-4090-961B-52FFE47ADD7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5BF199A3-C2FA-4858-AE4C-3758E53A2344}"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0"/>
          </p:nvPr>
        </p:nvSpPr>
        <p:spPr/>
        <p:txBody>
          <a:bodyPr/>
          <a:p>
            <a:fld id="{602CE017-1689-44C4-A7B1-4005DED1BE9B}"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0"/>
          </p:nvPr>
        </p:nvSpPr>
        <p:spPr/>
        <p:txBody>
          <a:bodyPr/>
          <a:p>
            <a:fld id="{894BB665-290F-45E1-ABE5-966B383396F0}"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7679AB7C-F2B3-4F62-9C71-5322D01BFBF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3B3342EA-9BA1-41D8-ACF5-AB2BD5558037}"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977DBAD3-2F0D-4B30-9E97-107F7B7FBD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4AECC1BD-EB61-4E8F-9E06-CD0BF4C5ACC4}"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661C6F8C-A49C-4A8A-992B-27A6431AD8C0}"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1"/>
          </p:nvPr>
        </p:nvSpPr>
        <p:spPr/>
        <p:txBody>
          <a:bodyPr/>
          <a:p>
            <a:fld id="{F2C4D27D-EEB0-4688-9AFF-122DA731810A}"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1"/>
          </p:nvPr>
        </p:nvSpPr>
        <p:spPr/>
        <p:txBody>
          <a:bodyPr/>
          <a:p>
            <a:fld id="{E2FED66A-4FD8-4DC7-AA6B-4FB3D01371C4}"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A7ECE7AD-F7D8-46D6-9E19-01DAAE65FB7D}"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FB407D15-3BF4-4AC9-A078-012443657E1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ACB578C5-394B-4436-8F4E-D74FD8F51E98}"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884AE765-5CCB-4733-B6B6-7E5E51C7827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1"/>
          </p:nvPr>
        </p:nvSpPr>
        <p:spPr/>
        <p:txBody>
          <a:bodyPr/>
          <a:p>
            <a:fld id="{CE24B7B4-CD33-4AF3-BEBC-93C31A3C6F4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1"/>
          </p:nvPr>
        </p:nvSpPr>
        <p:spPr/>
        <p:txBody>
          <a:bodyPr/>
          <a:p>
            <a:fld id="{E0533105-61EA-4E22-9C45-CD294581AA8E}"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3BEC0EE-FE67-4A92-BE74-FE46F567B5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
          </p:nvPr>
        </p:nvSpPr>
        <p:spPr/>
        <p:txBody>
          <a:bodyPr/>
          <a:p>
            <a:fld id="{9A1BE98B-E70E-4553-829B-219A94FC16B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CC31A3C0-1C95-4767-88E6-4D24D0D15C4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0180700C-F2CB-4B8F-841C-909BEAF41C4C}"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7F12C325-D221-403C-AC0E-7C6A62A6806F}"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2"/>
          </p:nvPr>
        </p:nvSpPr>
        <p:spPr/>
        <p:txBody>
          <a:bodyPr/>
          <a:p>
            <a:fld id="{2A107548-A5F1-411A-B8C0-D6D34B9E77E8}"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2"/>
          </p:nvPr>
        </p:nvSpPr>
        <p:spPr/>
        <p:txBody>
          <a:bodyPr/>
          <a:p>
            <a:fld id="{D99D6BE0-F4E4-496B-84E6-37E1067F5E28}"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831065E9-161E-40C2-A3DB-FEDC18A6D5AE}"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8089AD39-AECD-4BA1-8DCF-7A8F5BCDBEDA}"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47B4A91B-FBDA-467A-9109-8622E702FC6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C761D861-477F-49B7-8E1E-6B2E9327C9AA}"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2"/>
          </p:nvPr>
        </p:nvSpPr>
        <p:spPr/>
        <p:txBody>
          <a:bodyPr/>
          <a:p>
            <a:fld id="{1BB00477-2CB4-4D19-8873-5E9E4996602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
          </p:nvPr>
        </p:nvSpPr>
        <p:spPr/>
        <p:txBody>
          <a:bodyPr/>
          <a:p>
            <a:fld id="{50CD2B1E-16CA-44E9-B6FB-8BFD71B39DB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2"/>
          </p:nvPr>
        </p:nvSpPr>
        <p:spPr/>
        <p:txBody>
          <a:bodyPr/>
          <a:p>
            <a:fld id="{D8155711-959B-45F6-977E-45890830121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5E8B227-8283-426B-88A6-8624D3D2A9EE}"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9A3E000C-91B2-47EA-B530-E862334C2C5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F9734DCE-9F05-4160-97FB-AFC918907F40}"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E99AB990-B580-4A6E-A91D-EF3C13158C8C}"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3"/>
          </p:nvPr>
        </p:nvSpPr>
        <p:spPr/>
        <p:txBody>
          <a:bodyPr/>
          <a:p>
            <a:fld id="{29983F2F-1052-4ACA-92E9-2DE3975308E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3"/>
          </p:nvPr>
        </p:nvSpPr>
        <p:spPr/>
        <p:txBody>
          <a:bodyPr/>
          <a:p>
            <a:fld id="{FB6D5661-5F7E-4376-80E8-2DD5A658942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CF101705-38F9-409A-A81A-085A26D184C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248C76A5-2AA7-4FE2-9100-874A1480453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4D188FF4-CEA4-4CB6-8206-05552FE635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6939127-9266-446F-8EED-A90914E6CD10}"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22614F14-73F1-4A7C-A6FA-CD4B0B230794}"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3"/>
          </p:nvPr>
        </p:nvSpPr>
        <p:spPr/>
        <p:txBody>
          <a:bodyPr/>
          <a:p>
            <a:fld id="{28BE2892-B57B-459B-A60D-E5A83624327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2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3"/>
          </p:nvPr>
        </p:nvSpPr>
        <p:spPr/>
        <p:txBody>
          <a:bodyPr/>
          <a:p>
            <a:fld id="{D1113107-C8A2-49FE-957F-0EB4B98B657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68101AAA-88DE-41A8-BA02-599F6F95E9E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FEA6918D-9F73-4476-BA90-D23153FF82A6}"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4A1B5A86-2FF0-4081-93A7-5BA22825B50C}"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97CBB4C1-5802-4F78-BC88-9AA506506D3C}"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4"/>
          </p:nvPr>
        </p:nvSpPr>
        <p:spPr/>
        <p:txBody>
          <a:bodyPr/>
          <a:p>
            <a:fld id="{5ABF5BD5-9E4D-4415-B848-B26104C32949}"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4"/>
          </p:nvPr>
        </p:nvSpPr>
        <p:spPr/>
        <p:txBody>
          <a:bodyPr/>
          <a:p>
            <a:fld id="{FED4FA12-20A3-4C82-A82B-A407405EC48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F6CD9695-DB6B-4FC9-A8BC-3E5A6D1A9B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
          </p:nvPr>
        </p:nvSpPr>
        <p:spPr/>
        <p:txBody>
          <a:bodyPr/>
          <a:p>
            <a:fld id="{4FE38A0D-CCE8-4E6D-821D-D6D5F62085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02CC458B-E490-4778-9AEE-29471F206C1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C07D9DFE-D8F4-4077-8F85-74DD43D42C5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F94AB1DC-9B90-4714-94CF-DCA8FB780F89}"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6F476CD2-70F3-4C06-B862-2816F7073018}"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4"/>
          </p:nvPr>
        </p:nvSpPr>
        <p:spPr/>
        <p:txBody>
          <a:bodyPr/>
          <a:p>
            <a:fld id="{DE62358F-64D7-4D5A-A062-C3A20A5AB259}"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4"/>
          </p:nvPr>
        </p:nvSpPr>
        <p:spPr/>
        <p:txBody>
          <a:bodyPr/>
          <a:p>
            <a:fld id="{DAA10120-E0D3-4380-BE3B-7A44CAC06BF5}"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76FEF19B-7C9A-499B-B773-B3830F43CEA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F05FDAF6-E643-4876-A646-7CF341B80E62}"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8B0DC335-CA40-400B-AC5E-022A8A0926DB}"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EBB026A3-0385-452F-A74B-1075B81C7B7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5"/>
          </p:nvPr>
        </p:nvSpPr>
        <p:spPr/>
        <p:txBody>
          <a:bodyPr/>
          <a:p>
            <a:fld id="{1753E03B-7996-4B45-A086-4FAFF30CDA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BDC64B86-F441-4D8B-9C86-BD96CFEB7E3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5"/>
          </p:nvPr>
        </p:nvSpPr>
        <p:spPr/>
        <p:txBody>
          <a:bodyPr/>
          <a:p>
            <a:fld id="{26EA123C-DBD2-4308-B308-7C4CB1FF124B}"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3B764883-7F6D-42AB-9CC9-80A773DCB5CB}"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C9CFFB75-5A27-44C5-A335-BF31332A37CE}"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1F2320D7-E1FC-4D8E-B20C-C0EDA0DF5512}"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A9BD4BE3-32A1-4F44-917C-7F8777219114}"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5"/>
          </p:nvPr>
        </p:nvSpPr>
        <p:spPr/>
        <p:txBody>
          <a:bodyPr/>
          <a:p>
            <a:fld id="{2354D0D2-71A0-4613-AFC2-32823C08DCB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5"/>
          </p:nvPr>
        </p:nvSpPr>
        <p:spPr/>
        <p:txBody>
          <a:bodyPr/>
          <a:p>
            <a:fld id="{A2650C99-59F5-4967-9240-57F2E773072F}"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EF36149-B511-46F1-9C3C-1687753BF48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67E8A9-4F38-4119-8214-1CD8A8A12B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E4AA2C-6D91-40EB-AEBB-03950066E5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DDB4940D-310B-4948-B4DE-4EC1D47C3CAC}"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C23B01-14FC-44B1-B997-758A8B20DC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BD1C5E-0A6A-486E-9A7E-AFC0760CBD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F8FD6D-7ADF-4E65-8F0E-8FBA42848E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DD8196-CDD4-4510-89F8-7FDF248CD1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175016-8FF7-4EFB-A3F7-ADBEF69AF1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B43AD0-6751-429F-8358-0392FF913F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AAB56F3-A7C7-4AC3-B877-60304A6875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4D36ED5-2AE9-4F25-8DC9-6C94FF45B91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442DA0B-1A88-47B0-B388-4B236DB4D60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CC034867-C85F-4DE2-A242-66FD15AEED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
          </p:nvPr>
        </p:nvSpPr>
        <p:spPr/>
        <p:txBody>
          <a:bodyPr/>
          <a:p>
            <a:fld id="{BB4536E2-D747-4DAF-A560-7DBF324734D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3CECACD1-09D3-4D5B-B678-40525181F304}"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2E7A8B9C-DAB2-4E9B-89F9-ADE8E773EC0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804737BC-1095-4A5C-9285-7BE8C7F2263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9"/>
          </p:nvPr>
        </p:nvSpPr>
        <p:spPr/>
        <p:txBody>
          <a:bodyPr/>
          <a:p>
            <a:fld id="{6F68DB6E-10A3-4B11-8AED-D308F3DCB2A6}"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9"/>
          </p:nvPr>
        </p:nvSpPr>
        <p:spPr/>
        <p:txBody>
          <a:bodyPr/>
          <a:p>
            <a:fld id="{A70E1C3B-99A6-4CDF-9BB6-E56C50C03A6F}"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AE2A63B5-5355-4334-B287-B0168CA4D85E}"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9FBC5A13-9886-40C9-9071-C46789944BFE}"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C7CF1BAE-861E-4ABF-A2E2-2EC1FF41A5C5}"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F1A65CAB-F635-4F74-9645-DFA631FF6152}"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9"/>
          </p:nvPr>
        </p:nvSpPr>
        <p:spPr/>
        <p:txBody>
          <a:bodyPr/>
          <a:p>
            <a:fld id="{C4D76CBF-298D-4E1E-BCC0-201FAD275B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
          </p:nvPr>
        </p:nvSpPr>
        <p:spPr/>
        <p:txBody>
          <a:bodyPr/>
          <a:p>
            <a:fld id="{5084E5F6-C606-4936-9BB3-F0ECB53521E3}"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9"/>
          </p:nvPr>
        </p:nvSpPr>
        <p:spPr/>
        <p:txBody>
          <a:bodyPr/>
          <a:p>
            <a:fld id="{6D3E1D24-93D0-4F39-8FF5-51A744944A2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29A5D9A-A51B-49E0-BCA9-38C770320751}"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76B2CCA5-5EE1-419A-B40F-2B1D855EB3E2}"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73EE227A-7927-4560-8EA6-ADF6790B5CBE}"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59366925-74A6-4F70-89B1-7724A599DFC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0"/>
          </p:nvPr>
        </p:nvSpPr>
        <p:spPr/>
        <p:txBody>
          <a:bodyPr/>
          <a:p>
            <a:fld id="{CC49BA22-1328-4952-A07D-8947E76BE7D3}"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0"/>
          </p:nvPr>
        </p:nvSpPr>
        <p:spPr/>
        <p:txBody>
          <a:bodyPr/>
          <a:p>
            <a:fld id="{CE372C77-A999-433C-BC12-C24038FB2928}"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A1A7274C-97AD-48A5-83E6-BC76927ADEB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1260A2FB-88AC-4F17-AA47-DCEB91A5F46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154ADAE0-3BDD-4142-BCE3-1849A9BFD2B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55C43D69-B72F-459D-8F26-6679939EFA95}"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5C3EA302-0E69-40E0-AC76-BDA98A68A92A}"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0"/>
          </p:nvPr>
        </p:nvSpPr>
        <p:spPr/>
        <p:txBody>
          <a:bodyPr/>
          <a:p>
            <a:fld id="{6E5E9BF3-7FAF-4B81-A3E1-ACE6B8D65545}"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0"/>
          </p:nvPr>
        </p:nvSpPr>
        <p:spPr/>
        <p:txBody>
          <a:bodyPr/>
          <a:p>
            <a:fld id="{A3343A89-5765-460B-B660-BDAF0ECB71DD}"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60A84741-F47A-4BDD-8E99-BF488813F7F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183B7CC5-B4E9-45AA-B526-89890BF87C67}"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70431810-A9E0-402E-B84D-F2235120C42B}"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2E836443-D1B9-4EC4-B367-295DAE46B9C0}"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1"/>
          </p:nvPr>
        </p:nvSpPr>
        <p:spPr/>
        <p:txBody>
          <a:bodyPr/>
          <a:p>
            <a:fld id="{25F0F52D-9F12-4FBA-9BF8-607B5240FFC9}"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1"/>
          </p:nvPr>
        </p:nvSpPr>
        <p:spPr/>
        <p:txBody>
          <a:bodyPr/>
          <a:p>
            <a:fld id="{F41D33EA-B0ED-408F-B98E-AEB17FE8574E}"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107FD2B3-8CEC-4D55-BD5E-4584416128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B6D72C80-958B-4BE5-82F1-CA103549141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E80277EF-C945-47B4-AD5B-6BF1ECEA347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78AF7A49-E626-4DC3-8200-7DCC4155E9CD}"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EFBE6536-2463-4919-917E-CEFB82E93295}"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1"/>
          </p:nvPr>
        </p:nvSpPr>
        <p:spPr/>
        <p:txBody>
          <a:bodyPr/>
          <a:p>
            <a:fld id="{C5843198-FD9D-4141-B46C-0DC65293D22C}"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6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1"/>
          </p:nvPr>
        </p:nvSpPr>
        <p:spPr/>
        <p:txBody>
          <a:bodyPr/>
          <a:p>
            <a:fld id="{4D23C2E1-B53B-439F-BA82-FFDCEF730A43}"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6C33C886-5929-4784-9EA8-8ECEF8534EE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B0C8CEFD-EE37-47A9-9C13-EE6305E97A06}"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4B23302C-2582-4BE1-AE85-54A564027307}"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DE45DF0F-C1BD-456A-A551-DAFA445486A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2"/>
          </p:nvPr>
        </p:nvSpPr>
        <p:spPr/>
        <p:txBody>
          <a:bodyPr/>
          <a:p>
            <a:fld id="{17930B10-8B72-4BBC-87A8-C0D81C1814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074F7816-D3C4-4BA2-9E8B-B9903DCA070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2"/>
          </p:nvPr>
        </p:nvSpPr>
        <p:spPr/>
        <p:txBody>
          <a:bodyPr/>
          <a:p>
            <a:fld id="{9C521A64-7E17-48B8-9A56-5D1A50D653ED}"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A0AE2BF9-869C-45DA-88A6-434AA0B81AC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DEAFDAA0-17C6-4295-8687-74EBD5DE959F}"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6E146CC4-2B1B-49B6-9292-F90B4B8FF911}"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BB2DB12A-8582-441B-BE40-3B19A21FBDD6}"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2"/>
          </p:nvPr>
        </p:nvSpPr>
        <p:spPr/>
        <p:txBody>
          <a:bodyPr/>
          <a:p>
            <a:fld id="{E8D56744-5380-4D62-9DDD-34A198E3C848}"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2"/>
          </p:nvPr>
        </p:nvSpPr>
        <p:spPr/>
        <p:txBody>
          <a:bodyPr/>
          <a:p>
            <a:fld id="{CAF3F4CA-012E-46AF-ABAE-E42CF87D3B7A}"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6672AD9-EDEA-41E2-8565-58E4771152CD}"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0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3996D3D0-509F-40B7-B872-C3B269F90A0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465AF31F-666F-47C4-892E-03150F93E06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0344B391-2CE6-4C82-AEAC-574E7F0165BA}"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2845FA7F-E070-4BEA-8268-52FDBAD9B9BC}"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3"/>
          </p:nvPr>
        </p:nvSpPr>
        <p:spPr/>
        <p:txBody>
          <a:bodyPr/>
          <a:p>
            <a:fld id="{A2EB1C35-D53F-43ED-9D92-B7A92F58117D}"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3"/>
          </p:nvPr>
        </p:nvSpPr>
        <p:spPr/>
        <p:txBody>
          <a:bodyPr/>
          <a:p>
            <a:fld id="{BABFF2F3-26EC-43FA-BEB2-C2CE0B15EDC8}"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F8C4507D-1D31-47AB-8899-8765BC3FF0E7}"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BE72D7F9-D932-467D-8DD0-623235C4D727}"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D667452E-F6D6-4AF9-A0EA-F88DA044DC41}"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7382EC1D-DDF9-472F-99D1-DDC9FCC59CD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3"/>
          </p:nvPr>
        </p:nvSpPr>
        <p:spPr/>
        <p:txBody>
          <a:bodyPr/>
          <a:p>
            <a:fld id="{B960ACCB-0995-478C-8E6E-2D4ACD1E2876}"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3"/>
          </p:nvPr>
        </p:nvSpPr>
        <p:spPr/>
        <p:txBody>
          <a:bodyPr/>
          <a:p>
            <a:fld id="{9D72C928-7581-4046-85D1-CC3AE577281B}"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2AF1C085-47BE-4E16-8F11-1C5A4F7B14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
          </p:nvPr>
        </p:nvSpPr>
        <p:spPr/>
        <p:txBody>
          <a:bodyPr/>
          <a:p>
            <a:fld id="{93E9C61E-251E-4F6E-BE9B-0C71959FC620}"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F3529D24-CC43-460D-B9D4-C6C99F60BCCD}"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AD66C3B1-F302-47FB-967E-C1979DA54EC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BECB22FD-7354-4D9C-937D-67ABBB690715}"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4"/>
          </p:nvPr>
        </p:nvSpPr>
        <p:spPr/>
        <p:txBody>
          <a:bodyPr/>
          <a:p>
            <a:fld id="{0265861A-F147-4725-872A-0584063CE3E6}"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4"/>
          </p:nvPr>
        </p:nvSpPr>
        <p:spPr/>
        <p:txBody>
          <a:bodyPr/>
          <a:p>
            <a:fld id="{490395F9-0FCE-478D-8727-38AD83FDEE43}"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47CF7248-ECEE-41C9-8D0E-C14516388C22}"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00AF47FE-429D-40D1-885D-E804A3188593}"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C49403F2-5800-4714-9476-DC84B7E1432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3F217A36-7B85-46B2-9528-EB6EFE68DBD8}"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4"/>
          </p:nvPr>
        </p:nvSpPr>
        <p:spPr/>
        <p:txBody>
          <a:bodyPr/>
          <a:p>
            <a:fld id="{CA901C5A-2DDA-4EDB-8878-7A800580A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
          </p:nvPr>
        </p:nvSpPr>
        <p:spPr/>
        <p:txBody>
          <a:bodyPr/>
          <a:p>
            <a:fld id="{56D08589-DDFA-4E96-9D07-F3B6DD56A8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
          </p:nvPr>
        </p:nvSpPr>
        <p:spPr/>
        <p:txBody>
          <a:bodyPr/>
          <a:p>
            <a:fld id="{D01CECFC-8391-48A4-8DE2-FA69B96951F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4"/>
          </p:nvPr>
        </p:nvSpPr>
        <p:spPr/>
        <p:txBody>
          <a:bodyPr/>
          <a:p>
            <a:fld id="{2E752E15-1281-410A-9176-3973F601DBA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B2040B5-C1B1-4462-9842-705FC3B97A87}"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D4A78FE5-8070-4ADB-B0E5-664E213F3EC8}"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DF48B7EE-7111-4051-A330-C28DA9717C99}"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5C54E5B7-641D-4421-BEC0-F0A6FDF32123}"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5"/>
          </p:nvPr>
        </p:nvSpPr>
        <p:spPr/>
        <p:txBody>
          <a:bodyPr/>
          <a:p>
            <a:fld id="{8332E68A-62BC-4BB9-84BB-056130B1E2F8}"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5"/>
          </p:nvPr>
        </p:nvSpPr>
        <p:spPr/>
        <p:txBody>
          <a:bodyPr/>
          <a:p>
            <a:fld id="{DE8D885E-B4DA-4CCD-8152-7D8D7279FA58}"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4B1621A2-1CBE-4771-8FC9-921CA9E304B1}"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49DA78ED-8679-4098-A5FB-41137F135F9C}"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76347178-A42B-489D-AFBD-4CB5C20E47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F0149F-679F-41AE-9E3D-F462DBFAFFFC}"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EF3A947B-5EC9-446B-8A4A-2D0B835E4343}"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5"/>
          </p:nvPr>
        </p:nvSpPr>
        <p:spPr/>
        <p:txBody>
          <a:bodyPr/>
          <a:p>
            <a:fld id="{8823B232-3134-4C6B-A16D-4C432AB5293A}"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5"/>
          </p:nvPr>
        </p:nvSpPr>
        <p:spPr/>
        <p:txBody>
          <a:bodyPr/>
          <a:p>
            <a:fld id="{C1869033-C12E-4E3E-A6F3-4819D3B10682}"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1063629B-BFDD-4E9A-9134-127F993ECAB0}"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47B795C0-B630-4717-95ED-AB7B9D304A64}"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97EEDCEA-146C-4A13-BCC9-246A97E9F4E7}"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72102CB3-85DB-49B4-B28C-D727A301D1C0}"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6"/>
          </p:nvPr>
        </p:nvSpPr>
        <p:spPr/>
        <p:txBody>
          <a:bodyPr/>
          <a:p>
            <a:fld id="{41302A3D-6372-44DD-8B21-843BABA81476}"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6"/>
          </p:nvPr>
        </p:nvSpPr>
        <p:spPr/>
        <p:txBody>
          <a:bodyPr/>
          <a:p>
            <a:fld id="{6D18C724-FFF1-4B8C-AF49-06138C36FBE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D6D99F8F-4CB3-45D9-9314-5F9A4E2E3A2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115FA1C9-66C4-4815-A74A-E5BF30083735}"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4F2E5BB9-A075-4FBF-83E9-48C5D428642E}"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1627EACF-C0DD-4F9D-9905-FF7001A10D98}"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8835AED8-57A1-4F5E-9708-C56EC34D96DC}"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6"/>
          </p:nvPr>
        </p:nvSpPr>
        <p:spPr/>
        <p:txBody>
          <a:bodyPr/>
          <a:p>
            <a:fld id="{97488048-7471-4E50-BCD2-1A55E6F0967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5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6"/>
          </p:nvPr>
        </p:nvSpPr>
        <p:spPr/>
        <p:txBody>
          <a:bodyPr/>
          <a:p>
            <a:fld id="{F7E1EBA3-6D5E-47B2-B5BA-B4B5B9DA550D}"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31432744-D0AD-4FBD-85F1-937354AA5C15}"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EC48FB29-4A1D-4D72-9403-7D41A355213C}"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E84AA680-6877-486D-9540-C9F96865E2D2}"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C484DC88-28D3-4652-9AFA-027C805FEC53}"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7"/>
          </p:nvPr>
        </p:nvSpPr>
        <p:spPr/>
        <p:txBody>
          <a:bodyPr/>
          <a:p>
            <a:fld id="{E2A0BB12-D75B-43D1-8C0B-0A5A0596EB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F2F5D1D6-6B3E-4CE5-85DA-FBF31DB8DBE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7"/>
          </p:nvPr>
        </p:nvSpPr>
        <p:spPr/>
        <p:txBody>
          <a:bodyPr/>
          <a:p>
            <a:fld id="{C49478CC-D0EA-4726-A257-EBFA4EBAC99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4C19F235-FF54-4043-ABB2-22D2AE630216}"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54D24570-817D-49E9-AA84-C6E1C957F764}"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00704758-9EA1-41CD-B3EF-4F160AEA8606}"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1C195476-5964-497A-9D7F-EFE5CBD01FC7}"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7"/>
          </p:nvPr>
        </p:nvSpPr>
        <p:spPr/>
        <p:txBody>
          <a:bodyPr/>
          <a:p>
            <a:fld id="{EDE95B21-45D9-4037-AA0C-509633F824AC}"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7"/>
          </p:nvPr>
        </p:nvSpPr>
        <p:spPr/>
        <p:txBody>
          <a:bodyPr/>
          <a:p>
            <a:fld id="{1D748757-5699-4D40-85C1-549DBA4B004B}"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35CE7434-3910-4F2D-8061-79BF3512617C}"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9B259903-CB51-44AE-921F-E6B13724FFE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53D58C47-0E46-4A64-8204-9173DA9923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052AE5D0-D690-4CDF-B468-18433DB7B79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E1A071BC-768F-4D5B-9649-34DAFB22C6D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8"/>
          </p:nvPr>
        </p:nvSpPr>
        <p:spPr/>
        <p:txBody>
          <a:bodyPr/>
          <a:p>
            <a:fld id="{EC32DBE5-2400-4F3C-B581-10F99549B417}"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8"/>
          </p:nvPr>
        </p:nvSpPr>
        <p:spPr/>
        <p:txBody>
          <a:bodyPr/>
          <a:p>
            <a:fld id="{8076519C-610E-4412-833B-921CA15378EA}"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FE81A0EC-D4E4-4575-BC72-49E4AB264117}"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7A5C97A5-9DA3-44EF-8284-67CC4859405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2BE15463-9959-4DC0-9A83-0D0BABCBE8D7}"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C718AFA3-775B-4AEA-847C-B9C5CF98F596}"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8"/>
          </p:nvPr>
        </p:nvSpPr>
        <p:spPr/>
        <p:txBody>
          <a:bodyPr/>
          <a:p>
            <a:fld id="{FD930E57-930B-47D7-8E40-53900E33061B}"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8"/>
          </p:nvPr>
        </p:nvSpPr>
        <p:spPr/>
        <p:txBody>
          <a:bodyPr/>
          <a:p>
            <a:fld id="{6567B2F4-3454-4774-A685-83771D5A424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E769498C-82FA-464E-895A-8AB72017A4BE}"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
          </p:nvPr>
        </p:nvSpPr>
        <p:spPr/>
        <p:txBody>
          <a:bodyPr/>
          <a:p>
            <a:fld id="{107A15C8-BDCA-4DDA-B47D-9F3DA2D69CAB}"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F75B61F5-7EA1-4132-962E-A011B0B4A20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77F53D6-F216-4139-8739-AF22543C2B41}"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87B36D4-CA9B-4FA1-868D-5BFF82CCC47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62A7FA5-5B94-4484-99BA-48D4B7A50B5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F1AA8BA-3DCC-46D5-B413-B80F4DEC3A3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401E095-034A-4D21-AA7F-80284C4234C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8CA2E74-126B-4624-A451-B238ED2FAAD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175D516-00D7-4516-A676-238116A5B75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AA0B9C0-01AF-4B5E-BB84-2FE92AE2214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98FD5A7-5F8B-4C3A-97D2-1E62DC79E78B}"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
          </p:nvPr>
        </p:nvSpPr>
        <p:spPr/>
        <p:txBody>
          <a:bodyPr/>
          <a:p>
            <a:fld id="{9F864D72-C573-46C2-BC12-37CE23DF44EE}"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89CECD01-A304-4A06-B9CF-A965B2DC969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BDEF3852-2154-4CDE-A562-8B3E3B0718E9}"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4BFADCF8-2548-4C64-84CF-2A82C2EBCF0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63684D01-7B03-4417-9BA4-3B1E87686A0A}"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AB783436-C68B-42DB-BE31-9563A9984081}"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2"/>
          </p:nvPr>
        </p:nvSpPr>
        <p:spPr/>
        <p:txBody>
          <a:bodyPr/>
          <a:p>
            <a:fld id="{D4BA339A-3F4C-4D60-AC5F-808323D8F502}"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2"/>
          </p:nvPr>
        </p:nvSpPr>
        <p:spPr/>
        <p:txBody>
          <a:bodyPr/>
          <a:p>
            <a:fld id="{93BD2AC3-B8D0-427A-8736-0BC6E90A2E17}"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93548F86-661B-41F1-98A4-AA93B40EAC16}"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601826FB-480D-4841-BD0F-C57A059E124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61CDA3D9-9DCF-4E49-845F-8C343C0BD2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1AB9BA8E-238E-480F-B54C-F77749F77C8E}"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0D9FD88E-19B9-4142-8315-9C76F507A4BD}"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2"/>
          </p:nvPr>
        </p:nvSpPr>
        <p:spPr/>
        <p:txBody>
          <a:bodyPr/>
          <a:p>
            <a:fld id="{5B794726-5B8D-43D4-83D9-BC80D6BE4E8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2"/>
          </p:nvPr>
        </p:nvSpPr>
        <p:spPr/>
        <p:txBody>
          <a:bodyPr/>
          <a:p>
            <a:fld id="{0B38DE3F-7346-4C86-806C-150134D38A24}"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08B8CB98-3F9C-4689-9F8A-BE7F5C5DE2CA}"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BA89E1B0-F52B-4B2B-B276-ADA502F7FFD6}"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FEA6CB4A-16B5-4275-8569-DF2AEED604F5}"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77F35828-5BFF-4FC3-A18D-628E39F55B69}"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3"/>
          </p:nvPr>
        </p:nvSpPr>
        <p:spPr/>
        <p:txBody>
          <a:bodyPr/>
          <a:p>
            <a:fld id="{DB73EBCF-4219-4988-A0AF-B4B2FB5D7247}"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3"/>
          </p:nvPr>
        </p:nvSpPr>
        <p:spPr/>
        <p:txBody>
          <a:bodyPr/>
          <a:p>
            <a:fld id="{37F2122C-CDA0-4F38-9C41-A4D97EB6433A}"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F748CA20-5481-4870-948E-8F67790383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2E633C13-5C25-4062-9684-72A60C46F5A4}"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BAA488D2-DE0D-4BEF-A51E-61A26AB8C78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89A0DCD2-8687-4E40-A7F8-EC2D4979FEBC}"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165CAC0A-7FEC-40F4-9363-61E45A95B75D}"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3"/>
          </p:nvPr>
        </p:nvSpPr>
        <p:spPr/>
        <p:txBody>
          <a:bodyPr/>
          <a:p>
            <a:fld id="{5CB0A319-8522-44A1-AF74-7554C51664DC}"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3"/>
          </p:nvPr>
        </p:nvSpPr>
        <p:spPr/>
        <p:txBody>
          <a:bodyPr/>
          <a:p>
            <a:fld id="{FF055A11-6317-470D-8D15-1B039E8A8B43}"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51A27716-414A-4540-A4F0-7B56C100BF67}"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6289B543-4A83-4B3B-997F-AD20CF4CAEE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FF9A12D0-B117-4CF6-AA0B-324300D8998A}"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592BD8D7-E509-45BC-9F70-9BB7288D1847}"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4"/>
          </p:nvPr>
        </p:nvSpPr>
        <p:spPr/>
        <p:txBody>
          <a:bodyPr/>
          <a:p>
            <a:fld id="{1597F185-6A57-4716-9347-0E29A6AE33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8B185D90-B1DD-4F1E-929F-10D54D73DE7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4"/>
          </p:nvPr>
        </p:nvSpPr>
        <p:spPr/>
        <p:txBody>
          <a:bodyPr/>
          <a:p>
            <a:fld id="{1FF9AAD9-B9AC-4D3F-BFC5-2C61369BD019}"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38482A4D-249E-4E6A-9348-7EB617431D78}"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84F82B88-B0DE-484E-8829-94F0625C2FA1}"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CAAE4BB7-822B-46E2-B394-CB2F878593F3}"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599C4EE9-A13E-4774-B85E-0F37B6A773CA}"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4"/>
          </p:nvPr>
        </p:nvSpPr>
        <p:spPr/>
        <p:txBody>
          <a:bodyPr/>
          <a:p>
            <a:fld id="{61B34F23-25B2-465D-B348-652ED4F8A93F}"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4"/>
          </p:nvPr>
        </p:nvSpPr>
        <p:spPr/>
        <p:txBody>
          <a:bodyPr/>
          <a:p>
            <a:fld id="{3DEDF6F9-21C5-4DF9-A247-13D411C933A8}"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0C7DCBF1-3630-4721-A76F-51E182C03740}"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BCEA2D5-6BC5-496E-90A9-B95A0D1A6C98}"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BBC279B-7AD6-422A-B2BB-73E538948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59DD86F2-8B63-45B2-9A7D-078FCF5409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83397236-C216-4F5C-8D42-5733435106F1}"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979CF262-21B6-49BB-8732-74FA30A68E04}"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5"/>
          </p:nvPr>
        </p:nvSpPr>
        <p:spPr/>
        <p:txBody>
          <a:bodyPr/>
          <a:p>
            <a:fld id="{6C069B2D-66E6-4957-883C-4065375790CD}"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5"/>
          </p:nvPr>
        </p:nvSpPr>
        <p:spPr/>
        <p:txBody>
          <a:bodyPr/>
          <a:p>
            <a:fld id="{68D89D3E-AED5-4310-9585-B2D9014D5D48}"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F7F539E5-D229-48B7-A8BD-78BB80AF1DF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4E7C782A-A967-4F0C-9E02-CAC16300900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B7824927-F163-406D-BDF7-2ADA29FD0005}"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AEBD4495-5320-4ADE-906C-4775AF0F908E}"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5"/>
          </p:nvPr>
        </p:nvSpPr>
        <p:spPr/>
        <p:txBody>
          <a:bodyPr/>
          <a:p>
            <a:fld id="{08D9DC84-000C-413B-8BF3-9F2A46559129}"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5"/>
          </p:nvPr>
        </p:nvSpPr>
        <p:spPr/>
        <p:txBody>
          <a:bodyPr/>
          <a:p>
            <a:fld id="{00F78BE7-95B2-430D-A713-1EC2BF13CA72}"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25D412D4-22AD-48B7-9C6E-3F588E700A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
          </p:nvPr>
        </p:nvSpPr>
        <p:spPr/>
        <p:txBody>
          <a:bodyPr/>
          <a:p>
            <a:fld id="{618AF297-B787-46C4-9819-DC166E022107}"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9B994A5F-095D-4AC6-AC73-790545E2B5DC}"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8381272B-8B95-46DF-9796-CF20D560ECAB}"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53EDEB02-E4AD-4D91-BF2F-AD59651B84FB}"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6"/>
          </p:nvPr>
        </p:nvSpPr>
        <p:spPr/>
        <p:txBody>
          <a:bodyPr/>
          <a:p>
            <a:fld id="{B6DFCB96-CF16-41A0-ACAD-0BCB9BE9E328}"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6"/>
          </p:nvPr>
        </p:nvSpPr>
        <p:spPr/>
        <p:txBody>
          <a:bodyPr/>
          <a:p>
            <a:fld id="{294E43FD-BD89-40F5-8668-FB7994219268}"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CAD86899-F135-4E87-905B-3A33DA400160}"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1FC33679-53D0-4968-990C-ACAFE869A811}"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FBEB55C0-B2AD-40BB-8A56-4DB2F2F8ABC6}"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180B83E5-DD89-479F-BC05-5892BA3CBCCB}"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6"/>
          </p:nvPr>
        </p:nvSpPr>
        <p:spPr/>
        <p:txBody>
          <a:bodyPr/>
          <a:p>
            <a:fld id="{3D65FAFA-2110-4230-8683-80D86FCE7F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
          </p:nvPr>
        </p:nvSpPr>
        <p:spPr/>
        <p:txBody>
          <a:bodyPr/>
          <a:p>
            <a:fld id="{4FE2B853-434D-4F7B-885F-E34D9608B510}"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6"/>
          </p:nvPr>
        </p:nvSpPr>
        <p:spPr/>
        <p:txBody>
          <a:bodyPr/>
          <a:p>
            <a:fld id="{5F2C2D39-408A-4E92-BAC9-C60A7AC34F27}"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4879F057-505A-4CC6-8A4F-18069FEF576F}"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6AC19F21-8D13-4576-9530-2B99A2DE73DD}"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7825BA7A-6C40-4EE4-B643-3A2D1476202C}"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04989336-179C-4596-99C0-7E87C9B7BA2E}"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7"/>
          </p:nvPr>
        </p:nvSpPr>
        <p:spPr/>
        <p:txBody>
          <a:bodyPr/>
          <a:p>
            <a:fld id="{4C5D81BF-24D9-4179-8381-A5A1934C02C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7"/>
          </p:nvPr>
        </p:nvSpPr>
        <p:spPr/>
        <p:txBody>
          <a:bodyPr/>
          <a:p>
            <a:fld id="{469AEB35-625A-4B71-A406-B712917F7AC5}"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1BE5B0F6-3E8E-4062-A528-302E9E1386A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AE89E7A5-64A1-4F2C-8406-AD1AB262650D}"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E4F909D1-F818-44CB-83AA-062C6A8785C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B56138-872B-4749-9339-972628756E01}"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848CC6BE-B19D-44EE-B9C8-739A0CF4E6D0}"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7"/>
          </p:nvPr>
        </p:nvSpPr>
        <p:spPr/>
        <p:txBody>
          <a:bodyPr/>
          <a:p>
            <a:fld id="{5A2A8DA7-B97B-4C26-AA49-E8B1BB4DD9B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7"/>
          </p:nvPr>
        </p:nvSpPr>
        <p:spPr/>
        <p:txBody>
          <a:bodyPr/>
          <a:p>
            <a:fld id="{AC1F1AAB-3885-44DB-8C6D-1E22B3C17D11}"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1A79FFEA-DA90-4A7B-90A7-BA2296F0D579}"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95918AC9-428A-4BE6-88AC-F5724A5F5B48}"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3E70C509-80FD-417B-AFD8-FF913FFC2F8C}"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621D3EA5-F093-4837-8827-980FC71B45F5}"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8"/>
          </p:nvPr>
        </p:nvSpPr>
        <p:spPr/>
        <p:txBody>
          <a:bodyPr/>
          <a:p>
            <a:fld id="{16AF2A90-6A72-49E3-9FF4-BA1326E3484D}"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8"/>
          </p:nvPr>
        </p:nvSpPr>
        <p:spPr/>
        <p:txBody>
          <a:bodyPr/>
          <a:p>
            <a:fld id="{93072C26-EAED-46E9-84A7-02AF519247A1}"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F26249B2-C7E6-40CD-87F6-2182090977F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BD01CF49-68C5-4B4F-9474-B720B4EB0467}"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CEAB2488-D1A8-4374-875C-88B66E68C05A}"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6155E169-0A56-4A99-B4B6-48B11D3C6361}"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0029803B-4E96-4A5B-9468-AA95F6C3A89F}"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8"/>
          </p:nvPr>
        </p:nvSpPr>
        <p:spPr/>
        <p:txBody>
          <a:bodyPr/>
          <a:p>
            <a:fld id="{544C07C6-8378-4861-9014-9154EE3826E2}"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8"/>
          </p:nvPr>
        </p:nvSpPr>
        <p:spPr/>
        <p:txBody>
          <a:bodyPr/>
          <a:p>
            <a:fld id="{259AE2FC-886C-4B73-B7CB-2905C4608050}"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06C999D8-AA1F-4D62-A9B6-F4E3FFD1CF27}"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70B36A17-B5CB-4AE8-AABC-E9913D32E8A4}"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2E9755A1-0DAB-436B-9AC0-C41001F2720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392E80EF-FBFA-4ACE-B468-412CB18BB702}"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9"/>
          </p:nvPr>
        </p:nvSpPr>
        <p:spPr/>
        <p:txBody>
          <a:bodyPr/>
          <a:p>
            <a:fld id="{7DB83F2F-3158-4F6E-A5B7-BC1D2DD37B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102C5A9E-4988-4B80-8CC4-5A326A5D371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9"/>
          </p:nvPr>
        </p:nvSpPr>
        <p:spPr/>
        <p:txBody>
          <a:bodyPr/>
          <a:p>
            <a:fld id="{B7E2107B-921F-4D2B-AE85-7E89DC3CE90D}"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261111D9-6686-4AE7-9EBA-C4FCC026B0B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35BF3867-A215-43A0-83A1-302106DCDE8A}"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E2462FA4-648D-426D-8A0D-224DAFD9904F}"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0A5E6D44-00A9-4496-9D1E-3D2B96D064F7}"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9"/>
          </p:nvPr>
        </p:nvSpPr>
        <p:spPr/>
        <p:txBody>
          <a:bodyPr/>
          <a:p>
            <a:fld id="{1323CEE3-0B80-4F9B-A58F-B285EF4E2CB1}"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9"/>
          </p:nvPr>
        </p:nvSpPr>
        <p:spPr/>
        <p:txBody>
          <a:bodyPr/>
          <a:p>
            <a:fld id="{83E20264-21A8-48E7-9D4E-0119AC9397A3}"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8897C5EC-A64E-4322-A548-9BE1ABB0836F}"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9299258F-CA7F-4828-A9FA-CD1150E6845A}"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275CFF33-48CA-47D2-BE1E-5048AF4129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76DFA587-89E5-4357-968C-18ECC3C341C8}"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C47E9170-1D20-4FA7-89B7-ED50494CFC9F}"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0"/>
          </p:nvPr>
        </p:nvSpPr>
        <p:spPr/>
        <p:txBody>
          <a:bodyPr/>
          <a:p>
            <a:fld id="{41152A4D-1E47-403D-873B-EDC63D49839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0"/>
          </p:nvPr>
        </p:nvSpPr>
        <p:spPr/>
        <p:txBody>
          <a:bodyPr/>
          <a:p>
            <a:fld id="{95F46A50-21B6-45C5-A54B-FADCA0FBC712}"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B0785436-D7A2-479C-A3FA-C2A897CFE57B}"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737BD84D-0FF0-46E1-BB2B-E68D06C1F2F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C3BA3150-E8C1-4E5F-9E7E-878D0F6128B3}"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C2CD7351-3A32-4C7D-9B73-6A2D94427DEE}"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0"/>
          </p:nvPr>
        </p:nvSpPr>
        <p:spPr/>
        <p:txBody>
          <a:bodyPr/>
          <a:p>
            <a:fld id="{3FDAFC3D-F4F7-49EE-B4E5-CBBB3720F28F}"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0"/>
          </p:nvPr>
        </p:nvSpPr>
        <p:spPr/>
        <p:txBody>
          <a:bodyPr/>
          <a:p>
            <a:fld id="{8230A160-900A-46CA-B044-2E20CFC35FC3}"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9EF99CAD-E7B0-484F-AD18-23483DF5619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
          </p:nvPr>
        </p:nvSpPr>
        <p:spPr/>
        <p:txBody>
          <a:bodyPr/>
          <a:p>
            <a:fld id="{680EA4DB-98F4-4E46-BDC8-1D95097C7849}"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5CDB1F06-F80F-4940-8BB0-5B7BFCB0836F}"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C26D6AF1-37DC-4B8B-86F0-E5252BE5849A}"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98C0C854-6462-4449-B02A-4B80EC6BE7D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1"/>
          </p:nvPr>
        </p:nvSpPr>
        <p:spPr/>
        <p:txBody>
          <a:bodyPr/>
          <a:p>
            <a:fld id="{6DB843B3-300B-4C94-8735-750BF0C0A05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1"/>
          </p:nvPr>
        </p:nvSpPr>
        <p:spPr/>
        <p:txBody>
          <a:bodyPr/>
          <a:p>
            <a:fld id="{BB68EEB7-833C-4E4E-865E-31D310F76902}"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83C71E4E-5FDE-4AF1-A7A4-EFB24877F45D}"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C141F10B-544E-4576-A578-3152FB2357E6}"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0A2C4C0B-93B3-4A6D-87C7-42C07C4AC578}"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65A44608-6DE2-4068-8194-D6DB86767854}"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1"/>
          </p:nvPr>
        </p:nvSpPr>
        <p:spPr/>
        <p:txBody>
          <a:bodyPr/>
          <a:p>
            <a:fld id="{B73254E6-E8A2-4324-8C0D-3666DB9B02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
          </p:nvPr>
        </p:nvSpPr>
        <p:spPr/>
        <p:txBody>
          <a:bodyPr/>
          <a:p>
            <a:fld id="{71AE4A76-42A3-4B04-8BB8-8335CF739135}"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1"/>
          </p:nvPr>
        </p:nvSpPr>
        <p:spPr/>
        <p:txBody>
          <a:bodyPr/>
          <a:p>
            <a:fld id="{CD64D0EE-A9C4-46FE-A562-028087C09E9E}"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85D922C-211A-429D-B56E-571798299C8C}"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B13A549F-A2FF-49EE-AA08-D9E1F9BF9D6B}"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7405F937-8FF5-4969-8CB8-CA6148832029}"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72C63262-AFF1-42F5-8647-67A27DBD9361}"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2"/>
          </p:nvPr>
        </p:nvSpPr>
        <p:spPr/>
        <p:txBody>
          <a:bodyPr/>
          <a:p>
            <a:fld id="{C38C6377-06A2-4720-8C6A-8A20A5FBFBF6}"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2"/>
          </p:nvPr>
        </p:nvSpPr>
        <p:spPr/>
        <p:txBody>
          <a:bodyPr/>
          <a:p>
            <a:fld id="{09226114-1A9D-44CF-894E-75B58020F57D}"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E6FD5930-20B0-4640-A94C-740EB2665E02}"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B0E575E4-6B0C-4C94-8F44-01C3533E4FD4}"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99BEFB0D-319A-4590-B9C1-0D44A0EB33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7F253ACF-2BAF-485E-83AF-9AB79C303571}"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B94E0FFE-0B97-4FD0-94D9-87CD2D27EED5}"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2"/>
          </p:nvPr>
        </p:nvSpPr>
        <p:spPr/>
        <p:txBody>
          <a:bodyPr/>
          <a:p>
            <a:fld id="{18FED18B-353A-4C99-856C-B21D50FB51DA}"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2"/>
          </p:nvPr>
        </p:nvSpPr>
        <p:spPr/>
        <p:txBody>
          <a:bodyPr/>
          <a:p>
            <a:fld id="{7CFFC608-F7CD-4031-A191-8A339C422A6D}"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ECC5FDCB-822A-42F1-AF35-9D69631A8CCC}"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02F75426-40C1-473D-B822-FBE4F9E03E8A}"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BA4FA775-CB28-4358-A159-02E1AC8F249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B9CAE8F2-B104-4075-B536-AC5AC233CB41}"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3"/>
          </p:nvPr>
        </p:nvSpPr>
        <p:spPr/>
        <p:txBody>
          <a:bodyPr/>
          <a:p>
            <a:fld id="{A1CDC5FD-1618-4201-B064-12911DB38504}"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3"/>
          </p:nvPr>
        </p:nvSpPr>
        <p:spPr/>
        <p:txBody>
          <a:bodyPr/>
          <a:p>
            <a:fld id="{C3FE9BCE-2D13-408A-964F-BCF8647F25AA}"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B051883B-3DEE-4885-B399-FEED2809D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54C134D1-7189-40EF-9F53-7AE14001B2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6214322D-3221-46A8-B49C-6B31D8924C08}"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FEEAFB19-A10B-4B05-B9E5-0B653C707283}"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46590CBF-AAF3-4650-9E11-B43ADD89E6BE}"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86EF3DDF-59E1-4051-8774-EDD51ABF14CE}"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3"/>
          </p:nvPr>
        </p:nvSpPr>
        <p:spPr/>
        <p:txBody>
          <a:bodyPr/>
          <a:p>
            <a:fld id="{B6D5084B-1D24-42A8-AA7A-F61AA530E70A}"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3"/>
          </p:nvPr>
        </p:nvSpPr>
        <p:spPr/>
        <p:txBody>
          <a:bodyPr/>
          <a:p>
            <a:fld id="{C9DCB15F-44D5-4D11-9619-A27BE8A73491}"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53E28061-0CD5-439A-8E10-1DCDA7A837BD}"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04CD4E5C-B82B-436C-A8BB-24D8BA9795B6}"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2EC8F04D-7172-4FD4-915C-3081F8073091}"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7DC23530-EF65-4123-9C85-39B942D2B9C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4"/>
          </p:nvPr>
        </p:nvSpPr>
        <p:spPr/>
        <p:txBody>
          <a:bodyPr/>
          <a:p>
            <a:fld id="{1CBD8D45-E5CB-44C1-9D14-BC187F43750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653DCF44-5B03-4CAA-93A3-9D5229E80E2C}"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4"/>
          </p:nvPr>
        </p:nvSpPr>
        <p:spPr/>
        <p:txBody>
          <a:bodyPr/>
          <a:p>
            <a:fld id="{937E4F02-1BC8-403A-A5C9-E660A492F636}"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0F46744B-E104-4389-A8DE-79DE19BEC881}"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017D8D71-D1D1-4BE0-8B31-D58D9654F528}"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729F9DDB-9E22-4E94-B47C-3110FF729D54}"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79A7DCD6-6034-42D5-BA1D-E06ECD9A3C3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4"/>
          </p:nvPr>
        </p:nvSpPr>
        <p:spPr/>
        <p:txBody>
          <a:bodyPr/>
          <a:p>
            <a:fld id="{7B873929-D073-4F19-95C2-95A105DB6C71}"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4"/>
          </p:nvPr>
        </p:nvSpPr>
        <p:spPr/>
        <p:txBody>
          <a:bodyPr/>
          <a:p>
            <a:fld id="{E88A67B4-F21D-4100-976C-50203DFEDD17}"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400306EC-33DC-463B-86BC-AB5E5D0A1B53}"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69255779-213B-4CBA-9617-DE65F6998D67}"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3733A000-9E33-4171-8B39-007AB96DA64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FEB1D1FF-53DF-4DF4-B848-E0AFDB970A62}"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1FAF20F7-D506-4973-8943-23DD64CBF3B2}"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5"/>
          </p:nvPr>
        </p:nvSpPr>
        <p:spPr/>
        <p:txBody>
          <a:bodyPr/>
          <a:p>
            <a:fld id="{0C0E8D34-13C0-491D-8E4A-3DE8F94D6CBC}"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5"/>
          </p:nvPr>
        </p:nvSpPr>
        <p:spPr/>
        <p:txBody>
          <a:bodyPr/>
          <a:p>
            <a:fld id="{A939F90F-238E-4AA7-9191-C71BD168717D}"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FEA1982A-5566-42AF-8FFE-8862FFD409C9}"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FF43E3F8-9AF9-4F44-BB30-0ECA7AEE0CBB}"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88E4A5F0-6934-49A6-B71E-86BA81FCF0D4}"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E38B853A-3988-4E58-99BB-C0BF7FCD96B3}"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5"/>
          </p:nvPr>
        </p:nvSpPr>
        <p:spPr/>
        <p:txBody>
          <a:bodyPr/>
          <a:p>
            <a:fld id="{B1AE5096-879A-437D-A3CD-14AE1BDCB4A5}"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5"/>
          </p:nvPr>
        </p:nvSpPr>
        <p:spPr/>
        <p:txBody>
          <a:bodyPr/>
          <a:p>
            <a:fld id="{08B8DE31-C529-4F6D-84CE-12BC4E36A257}"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F2D382D3-3480-4E76-9568-5E5725B9F3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
          </p:nvPr>
        </p:nvSpPr>
        <p:spPr/>
        <p:txBody>
          <a:bodyPr/>
          <a:p>
            <a:fld id="{35700337-66C8-4644-8DF1-C9EB39502430}"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10646508-4C9C-4D73-A4A4-17EB79C4BC76}"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41C2F443-B2D7-4C35-9C56-192EDF6A31E7}"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5C3F74EA-9228-48A4-843B-D4342250D04C}"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6"/>
          </p:nvPr>
        </p:nvSpPr>
        <p:spPr/>
        <p:txBody>
          <a:bodyPr/>
          <a:p>
            <a:fld id="{6EA8B9D7-76B5-49BB-973A-55FC240A8775}"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6"/>
          </p:nvPr>
        </p:nvSpPr>
        <p:spPr/>
        <p:txBody>
          <a:bodyPr/>
          <a:p>
            <a:fld id="{0F9AC29E-3BB1-457D-8E95-CAD74D8B5EE2}"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29038F82-6461-4244-ABE3-9266A7C7F162}"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EBB86AE4-25A5-4C2D-8D25-26678A659533}"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8A3E2081-D1D2-4CDE-9ACB-09E5C7F48C44}"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8771AB0A-D0C9-456D-AA00-BD338F317255}"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6"/>
          </p:nvPr>
        </p:nvSpPr>
        <p:spPr/>
        <p:txBody>
          <a:bodyPr/>
          <a:p>
            <a:fld id="{CDF0E552-F8BF-4A43-8C24-D9C976B610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
          </p:nvPr>
        </p:nvSpPr>
        <p:spPr/>
        <p:txBody>
          <a:bodyPr/>
          <a:p>
            <a:fld id="{B929A33D-4361-4D06-8070-AF6EAEDE800F}"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6"/>
          </p:nvPr>
        </p:nvSpPr>
        <p:spPr/>
        <p:txBody>
          <a:bodyPr/>
          <a:p>
            <a:fld id="{D0B778CB-271D-49B6-B04D-4E8572E42739}"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4B61FCA1-C2CB-4D18-B341-7C92315479E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12825B9A-59BB-4E38-AA9E-8FCF0C93BC9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AE949C12-20D8-4944-BE27-4E099DAAA83D}"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C265F753-6FE7-4335-AEB0-647CBC22470F}"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7"/>
          </p:nvPr>
        </p:nvSpPr>
        <p:spPr/>
        <p:txBody>
          <a:bodyPr/>
          <a:p>
            <a:fld id="{B966B8FC-96D7-4DB3-8890-EA7D3A2D9136}"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7"/>
          </p:nvPr>
        </p:nvSpPr>
        <p:spPr/>
        <p:txBody>
          <a:bodyPr/>
          <a:p>
            <a:fld id="{9FC35864-71FE-4EC2-AB8E-0D2290813D57}"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235C1027-6396-45F0-9149-CADBD92244B2}"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2DAC5726-6D46-47A9-9CC7-B2DA3DE34300}"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3E717603-D4AE-4FCC-B671-EF6354FEF07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73F2D6-2A66-489C-88A7-41499D8C4C71}"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054FD994-C87A-4C59-8FCA-F57743A5F475}"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7"/>
          </p:nvPr>
        </p:nvSpPr>
        <p:spPr/>
        <p:txBody>
          <a:bodyPr/>
          <a:p>
            <a:fld id="{F729CCF9-B398-447E-91B3-24568A37CB3C}"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7"/>
          </p:nvPr>
        </p:nvSpPr>
        <p:spPr/>
        <p:txBody>
          <a:bodyPr/>
          <a:p>
            <a:fld id="{442150F0-E75D-4476-B2AA-99E12CE61E9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B502ED27-AB72-4E83-8412-C708E5C6A0CB}"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24CA0B5A-74BB-42D5-B244-1745B274F154}"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0A0BA027-89FD-4C77-A56E-4BCA7F8E4C58}"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010C8A65-A4CA-4F3C-B129-E9426ED0B567}"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8"/>
          </p:nvPr>
        </p:nvSpPr>
        <p:spPr/>
        <p:txBody>
          <a:bodyPr/>
          <a:p>
            <a:fld id="{D7FAF396-B9F9-4E24-B51B-465292510E70}"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8"/>
          </p:nvPr>
        </p:nvSpPr>
        <p:spPr/>
        <p:txBody>
          <a:bodyPr/>
          <a:p>
            <a:fld id="{A783F35C-A6B2-436B-95FB-BC893B6DED1A}"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4562C516-15E8-4512-BB0B-AE1BA38F7A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E2770D76-A56A-42BF-A117-B420279A8F91}"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252D3936-E69A-4C69-806D-678AA42E28F0}"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B17A578B-44EF-417D-BD23-9B86345C7365}"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635A4262-B6E4-4630-8224-92A510D9F47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8"/>
          </p:nvPr>
        </p:nvSpPr>
        <p:spPr/>
        <p:txBody>
          <a:bodyPr/>
          <a:p>
            <a:fld id="{DC0D4B5F-079B-437F-8831-03582CAD109D}"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8"/>
          </p:nvPr>
        </p:nvSpPr>
        <p:spPr/>
        <p:txBody>
          <a:bodyPr/>
          <a:p>
            <a:fld id="{398EB310-FA42-49D1-8B4B-C7E24A4F2DBC}"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E725599F-A58F-4AA2-AD00-FB94BF7F7D0D}"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28AE58DF-D61D-426F-BDED-8725301D2B05}"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95C286B7-B479-409C-816E-0DA1DC36625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F755CE36-F00D-44B6-9B45-982DAFA1DA15}"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9"/>
          </p:nvPr>
        </p:nvSpPr>
        <p:spPr/>
        <p:txBody>
          <a:bodyPr/>
          <a:p>
            <a:fld id="{033A1CED-70A0-4B0C-92CA-DC25E3541D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ACEC4D63-6794-4E3F-B5B2-8B27F9EE1F10}"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9"/>
          </p:nvPr>
        </p:nvSpPr>
        <p:spPr/>
        <p:txBody>
          <a:bodyPr/>
          <a:p>
            <a:fld id="{2B053ECB-BB66-4949-B233-505AE13F0AF3}"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0F9A01CE-85B0-4FBB-B716-4611668D24B2}"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2F1A33D5-5F87-4EB7-B094-6350A986F16E}"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7C4E6660-4AFC-489F-9201-F0D748A5FD93}"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60A41469-B969-4D77-AA32-968F53FEFD76}"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9"/>
          </p:nvPr>
        </p:nvSpPr>
        <p:spPr/>
        <p:txBody>
          <a:bodyPr/>
          <a:p>
            <a:fld id="{576AAB2C-2D21-4C86-92B2-AB2E0F53997C}"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9"/>
          </p:nvPr>
        </p:nvSpPr>
        <p:spPr/>
        <p:txBody>
          <a:bodyPr/>
          <a:p>
            <a:fld id="{1E247ED4-D21E-42EA-B132-4B4572A6396F}"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B199EF63-5E7F-4AF6-A444-2E56A97B699A}"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83DDABDC-E77B-4684-BFFD-FB41BA7169C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8A1CE137-50F6-43E1-B49D-D2C17176FA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64EC78AD-F61A-41BB-AB7C-59781C3FED8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368D44DA-752B-4208-9502-9563F107E869}"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0"/>
          </p:nvPr>
        </p:nvSpPr>
        <p:spPr/>
        <p:txBody>
          <a:bodyPr/>
          <a:p>
            <a:fld id="{FC3AD378-5053-409A-B4B5-EC857AC584AA}"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0"/>
          </p:nvPr>
        </p:nvSpPr>
        <p:spPr/>
        <p:txBody>
          <a:bodyPr/>
          <a:p>
            <a:fld id="{111300DA-3F70-4E3C-A827-E7252492D3C8}"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1D1A2D7D-EEC1-43E7-8DEE-214C1C555315}"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262E782D-0D52-49FE-A6F8-202C1E326E1B}"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83F7A18B-48CD-41D1-A196-50C76B99C054}"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DB8E3793-7C44-44C9-8244-BD79951E96C1}"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0"/>
          </p:nvPr>
        </p:nvSpPr>
        <p:spPr/>
        <p:txBody>
          <a:bodyPr/>
          <a:p>
            <a:fld id="{EBE414E5-2BB3-4559-AC9B-2C7048DD2C6A}"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0"/>
          </p:nvPr>
        </p:nvSpPr>
        <p:spPr/>
        <p:txBody>
          <a:bodyPr/>
          <a:p>
            <a:fld id="{478E2341-8709-4806-9573-F46E49481377}"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A118DA10-AB2E-4E0E-955E-990ABCD757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
          </p:nvPr>
        </p:nvSpPr>
        <p:spPr/>
        <p:txBody>
          <a:bodyPr/>
          <a:p>
            <a:fld id="{340E626B-DB59-4733-BA91-573C5D5A9457}"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86FE44EF-B136-41B8-ADA7-3FB35B03B529}"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5F10AA42-ABB3-4C5E-A066-CFEC1E81F6F4}"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84F30C27-9B0A-41EE-B679-B11CECD76D93}"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1"/>
          </p:nvPr>
        </p:nvSpPr>
        <p:spPr/>
        <p:txBody>
          <a:bodyPr/>
          <a:p>
            <a:fld id="{9BC0436F-A9A9-41F0-8FDD-8C828C7F60D2}"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1"/>
          </p:nvPr>
        </p:nvSpPr>
        <p:spPr/>
        <p:txBody>
          <a:bodyPr/>
          <a:p>
            <a:fld id="{A6C00E40-59C0-4937-9B24-4E61CA4F4E77}"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42DB2C05-BFF5-455E-BDE9-AB9E8962E8C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CF497439-9501-439A-BFE4-90DD4D4FDABB}"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A87A841B-9C72-487A-B7C3-4599BCC6C1A9}"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34A89FA0-7391-429F-8625-24272AB98DCA}"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1"/>
          </p:nvPr>
        </p:nvSpPr>
        <p:spPr/>
        <p:txBody>
          <a:bodyPr/>
          <a:p>
            <a:fld id="{7EDBB263-AB0D-48DB-8584-90A2DC3FEA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8CAD7524-490B-4F56-89EC-8A9836D720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
          </p:nvPr>
        </p:nvSpPr>
        <p:spPr/>
        <p:txBody>
          <a:bodyPr/>
          <a:p>
            <a:fld id="{076AC645-93A9-420B-B091-BD47777CF748}"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1"/>
          </p:nvPr>
        </p:nvSpPr>
        <p:spPr/>
        <p:txBody>
          <a:bodyPr/>
          <a:p>
            <a:fld id="{9FEC1947-A0D0-4CC7-A645-942E8F86CA36}"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78ACAA91-65E7-49A9-B5A2-4A18774F87AA}"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93D52AB1-FBE8-4231-A405-2F5B123BCA9E}"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AFA63F51-434B-48C4-8039-AE2D73BF0059}"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533CC546-8494-4F9A-85AD-DA299875EE76}"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2"/>
          </p:nvPr>
        </p:nvSpPr>
        <p:spPr/>
        <p:txBody>
          <a:bodyPr/>
          <a:p>
            <a:fld id="{4831029D-3EC7-41E0-984A-F803A0CE7DC3}"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2"/>
          </p:nvPr>
        </p:nvSpPr>
        <p:spPr/>
        <p:txBody>
          <a:bodyPr/>
          <a:p>
            <a:fld id="{F408A82F-5001-4698-AC71-DC5FF67EB641}"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364BCA99-4EE3-4BC9-B385-068D107DC8B0}"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84465AF6-1A5C-4AA4-8561-BC2765C997D3}"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B0504321-A914-4C54-8995-267FFB33CF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AEA44D3E-8E31-417B-B06A-34F629B378BA}"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6349478B-CC3E-42C3-AD6D-9E5DFE8BC10A}"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2"/>
          </p:nvPr>
        </p:nvSpPr>
        <p:spPr/>
        <p:txBody>
          <a:bodyPr/>
          <a:p>
            <a:fld id="{7ADC739D-E667-471F-80BE-2075F1861F90}"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2"/>
          </p:nvPr>
        </p:nvSpPr>
        <p:spPr/>
        <p:txBody>
          <a:bodyPr/>
          <a:p>
            <a:fld id="{502BD20F-B110-43BC-8D72-DDEFEBAC420E}"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023360A6-22C2-4EA3-9E78-E820F8E65D0C}"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A8A2F9A6-DF8D-4013-AA3D-2DF7F56981C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AA6DAC27-1A24-4227-8FCB-BB50322CEB5C}"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87991610-806C-4726-AFAC-451050DB4057}"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3"/>
          </p:nvPr>
        </p:nvSpPr>
        <p:spPr/>
        <p:txBody>
          <a:bodyPr/>
          <a:p>
            <a:fld id="{4433CECD-6859-4DE2-8E63-3C96F365CC77}"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3"/>
          </p:nvPr>
        </p:nvSpPr>
        <p:spPr/>
        <p:txBody>
          <a:bodyPr/>
          <a:p>
            <a:fld id="{AFAFECDA-5A20-4559-A39D-9A3DEB1E5874}"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68789C55-BBEE-4D14-AF8F-959C3BBE340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BB151D41-1307-49CB-BEA7-398C168BBF21}"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9F1B7351-262A-4FE8-B2CC-C8D2BC9A66BF}"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1FFCCC5D-08C9-40EB-88E0-0BE810795C4B}"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48C03C0B-ACAE-44EC-B67E-8DB5AA38E723}"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3"/>
          </p:nvPr>
        </p:nvSpPr>
        <p:spPr/>
        <p:txBody>
          <a:bodyPr/>
          <a:p>
            <a:fld id="{873039D5-C607-4BB1-B92E-770308B92330}"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3"/>
          </p:nvPr>
        </p:nvSpPr>
        <p:spPr/>
        <p:txBody>
          <a:bodyPr/>
          <a:p>
            <a:fld id="{66F41D08-9369-4540-8899-F15C2A4B074B}"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EBD65B19-7B04-466C-9A81-84667125CE0E}"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915C04A9-4B77-4B01-9676-406E98E674DD}"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5C454937-A1B1-49FF-BCA2-2E15F9574077}"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BE7487E4-C0F1-473B-A72D-21C453AF1AE4}"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4"/>
          </p:nvPr>
        </p:nvSpPr>
        <p:spPr/>
        <p:txBody>
          <a:bodyPr/>
          <a:p>
            <a:fld id="{1040C107-BA9E-454B-983D-A0E7B5F4A7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8B5ED607-447F-44FC-AB6F-89CB7DB2C7CA}"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4"/>
          </p:nvPr>
        </p:nvSpPr>
        <p:spPr/>
        <p:txBody>
          <a:bodyPr/>
          <a:p>
            <a:fld id="{00E404D4-F32A-4865-8818-CDCB7B515261}"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EF6F076E-B9F2-4A4B-B5A7-AE47B108F950}"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5516248E-F798-4FD2-BC9E-A752C7E9DC0F}"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034BD8B6-587F-41C8-ACCE-66481E202DA4}"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C97A1C7C-755E-4F88-8232-2CB021E6C6B3}"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4"/>
          </p:nvPr>
        </p:nvSpPr>
        <p:spPr/>
        <p:txBody>
          <a:bodyPr/>
          <a:p>
            <a:fld id="{968CB8DF-E15F-4580-A6DB-4ABD15CB99AA}"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4"/>
          </p:nvPr>
        </p:nvSpPr>
        <p:spPr/>
        <p:txBody>
          <a:bodyPr/>
          <a:p>
            <a:fld id="{9F368E8D-AB2E-429B-AE4A-57F346FC5293}"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C888E364-EB53-4B24-A3BF-B73D269DBF8B}"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9093A9ED-F8BB-493C-AE82-4508AA9C0ED1}"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65DD3168-FF10-43D6-B91D-A567FC6070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FE58566C-EBBD-4039-AC7B-C2454346C9A8}"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D3EE51FF-F05A-43C7-870C-EBAB176DB798}"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5"/>
          </p:nvPr>
        </p:nvSpPr>
        <p:spPr/>
        <p:txBody>
          <a:bodyPr/>
          <a:p>
            <a:fld id="{6EEECFD8-5439-4E8A-8CF2-BB5628227195}"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5"/>
          </p:nvPr>
        </p:nvSpPr>
        <p:spPr/>
        <p:txBody>
          <a:bodyPr/>
          <a:p>
            <a:fld id="{01362C18-A09F-4195-9EB7-AC79D9D9D5A6}"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B8E57DFC-D460-4F8D-9530-D165DD2CAF5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14148030-7C8E-4AF3-A7CD-821991C3BD32}"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7199EC58-E60C-4255-AAE2-5F0668C5681F}"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2739ED2B-077B-4BF0-B9AB-D14E8B25C70E}"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5"/>
          </p:nvPr>
        </p:nvSpPr>
        <p:spPr/>
        <p:txBody>
          <a:bodyPr/>
          <a:p>
            <a:fld id="{D8F69F19-C2CC-44F8-8C98-330EF0D24D43}"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5"/>
          </p:nvPr>
        </p:nvSpPr>
        <p:spPr/>
        <p:txBody>
          <a:bodyPr/>
          <a:p>
            <a:fld id="{CE8DEDEC-A4DA-413A-9CDF-EC3BA8358290}"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E0BDA47C-6D7E-4515-8B6C-C880FEB3AB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
          </p:nvPr>
        </p:nvSpPr>
        <p:spPr/>
        <p:txBody>
          <a:bodyPr/>
          <a:p>
            <a:fld id="{2457EF08-5501-49BA-AD88-FF8ADFEB622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B0A38EDD-18F0-4008-B020-22ADC42C674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B915F9F1-EEB7-49E1-8E42-B65306822C6D}"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6EB6B438-2487-44F9-B089-5FAC60BCC7CD}"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6"/>
          </p:nvPr>
        </p:nvSpPr>
        <p:spPr/>
        <p:txBody>
          <a:bodyPr/>
          <a:p>
            <a:fld id="{B8B42F0F-97ED-420A-9241-A94A11E3413F}"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6"/>
          </p:nvPr>
        </p:nvSpPr>
        <p:spPr/>
        <p:txBody>
          <a:bodyPr/>
          <a:p>
            <a:fld id="{78B38709-0FB0-468A-B97A-2B5808FCDEEB}"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62296C25-8E12-4128-B8F4-86C0163E568A}"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E6B709E1-9F21-4864-A285-B7591FA180F9}"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8396DE01-48B6-4E78-9036-A13951390E6B}"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02FE5E27-7226-4352-9AC6-F0EC07C061C8}"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6"/>
          </p:nvPr>
        </p:nvSpPr>
        <p:spPr/>
        <p:txBody>
          <a:bodyPr/>
          <a:p>
            <a:fld id="{4F397315-2B6A-4497-96C3-05049C65530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
          </p:nvPr>
        </p:nvSpPr>
        <p:spPr/>
        <p:txBody>
          <a:bodyPr/>
          <a:p>
            <a:fld id="{336B6FD4-3B8A-40FD-BC95-6FD993EC8AB4}"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6"/>
          </p:nvPr>
        </p:nvSpPr>
        <p:spPr/>
        <p:txBody>
          <a:bodyPr/>
          <a:p>
            <a:fld id="{52B10004-B79D-411C-A884-5A6ABABD758A}"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403B4CED-6B47-4AE4-989B-1131EE4C91EA}"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8CF26F0B-53F4-4033-9B4D-CF2A03D37865}"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6CD353C8-515D-4560-8C52-8AACA3BACB73}"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48903445-3AB9-42D5-8EE2-CB3673D2761A}"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7"/>
          </p:nvPr>
        </p:nvSpPr>
        <p:spPr/>
        <p:txBody>
          <a:bodyPr/>
          <a:p>
            <a:fld id="{CEE00006-8D12-4FEA-83AD-C0AAA2CED70F}"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7"/>
          </p:nvPr>
        </p:nvSpPr>
        <p:spPr/>
        <p:txBody>
          <a:bodyPr/>
          <a:p>
            <a:fld id="{E06427C3-494F-4220-B22A-C5124D084036}"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321F99AF-402E-4D43-9A4D-FC4E15AA32E7}"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69B0E84E-6C7C-4D75-9FD0-89A93191A751}"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B38BC3F6-642F-47A9-8326-9F5D902356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950746F-43DE-4BE2-BB76-C6AA8681A1A2}"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AE8F9398-B748-4446-B8FD-53FF821C8BA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7"/>
          </p:nvPr>
        </p:nvSpPr>
        <p:spPr/>
        <p:txBody>
          <a:bodyPr/>
          <a:p>
            <a:fld id="{312FDF7A-A5B8-48B2-AE65-EE4CBD6A1B92}"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7"/>
          </p:nvPr>
        </p:nvSpPr>
        <p:spPr/>
        <p:txBody>
          <a:bodyPr/>
          <a:p>
            <a:fld id="{003F4C18-AF1D-4B2C-AE27-B731D068ED7B}"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0CCB7690-85BD-4312-B97B-802388BFDF66}"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D96F1985-5758-475D-99D8-EACF2F90F00A}"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12EF562E-F9B6-4241-A507-68CA414C5B44}"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E81A94B5-766F-446B-9BD1-31E3F3A268ED}"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8"/>
          </p:nvPr>
        </p:nvSpPr>
        <p:spPr/>
        <p:txBody>
          <a:bodyPr/>
          <a:p>
            <a:fld id="{A9C8BACC-C1C8-4D2D-AEBF-578DA5CA2E66}"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8"/>
          </p:nvPr>
        </p:nvSpPr>
        <p:spPr/>
        <p:txBody>
          <a:bodyPr/>
          <a:p>
            <a:fld id="{B49754DD-1499-4F7E-B9E4-8DE67618C52D}"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7FB2C3B6-73B0-4C3F-A6EB-F8F58B841B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55D4FE19-6C50-43B4-A2DC-02A990B93CFC}"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EFEE73A0-7B11-41F9-BD5D-C4BC3E9EADF2}"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3C164895-6C76-4D41-B153-E7C145EABA4C}"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799B210E-54F3-4293-857E-71766DADDA8F}"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8"/>
          </p:nvPr>
        </p:nvSpPr>
        <p:spPr/>
        <p:txBody>
          <a:bodyPr/>
          <a:p>
            <a:fld id="{3FD41D15-98D0-44E6-9B22-C171A1A74AAC}"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8"/>
          </p:nvPr>
        </p:nvSpPr>
        <p:spPr/>
        <p:txBody>
          <a:bodyPr/>
          <a:p>
            <a:fld id="{325A9A8C-A0D2-44EA-AEE3-4BDD63AD9B23}"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FF86E8AE-3DA1-49CE-A327-3B1015D89BBA}"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3C37FDB5-51A8-4C2A-AB3C-D3B8BE104941}"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7F48C033-3FE4-46A1-9462-D22C9F735DF0}"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A65CECEF-818C-4820-B427-ABEDBC54DD24}"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9"/>
          </p:nvPr>
        </p:nvSpPr>
        <p:spPr/>
        <p:txBody>
          <a:bodyPr/>
          <a:p>
            <a:fld id="{72A4BC10-51C7-4CCC-A732-D9BECA11C8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94B26EDE-34DB-47FD-8457-CBF89D3A31D4}"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9"/>
          </p:nvPr>
        </p:nvSpPr>
        <p:spPr/>
        <p:txBody>
          <a:bodyPr/>
          <a:p>
            <a:fld id="{AB0B3E90-BF03-4C19-90E8-155F3AA48893}"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62875CC7-F451-48DE-9151-7AF16388069B}"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D76CE0F7-6F8A-4F43-A4AF-A3BB3830870F}"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C4C5A51E-31E0-4A8A-BAB8-82742F5E7273}"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E584D2C7-4421-447D-92D7-CC643AC1CDFA}"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9"/>
          </p:nvPr>
        </p:nvSpPr>
        <p:spPr/>
        <p:txBody>
          <a:bodyPr/>
          <a:p>
            <a:fld id="{9C22EBF1-3591-4C03-9C75-A10BBAFB20C4}"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9"/>
          </p:nvPr>
        </p:nvSpPr>
        <p:spPr/>
        <p:txBody>
          <a:bodyPr/>
          <a:p>
            <a:fld id="{C9A26331-A1E1-4FA6-9626-E3BB878D238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212BF550-1871-418B-A5AC-6DBAE73FD4D7}"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B6ABFB10-9406-4586-9F04-E1114FFFA8EC}"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EEA5D617-B41A-4AC0-9B8E-543BB82A4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 name="PlaceHolder 2"/>
          <p:cNvSpPr>
            <a:spLocks noGrp="1"/>
          </p:cNvSpPr>
          <p:nvPr>
            <p:ph type="sldNum" idx="1"/>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522D-3E65-4D60-869E-708478BF915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5" name="Picture 12" descr="特許庁欧文ロゴ"/>
          <p:cNvPicPr/>
          <p:nvPr/>
        </p:nvPicPr>
        <p:blipFill>
          <a:blip r:embed="rId2"/>
          <a:stretch/>
        </p:blipFill>
        <p:spPr>
          <a:xfrm>
            <a:off x="8193240" y="0"/>
            <a:ext cx="1612800" cy="601560"/>
          </a:xfrm>
          <a:prstGeom prst="rect">
            <a:avLst/>
          </a:prstGeom>
          <a:ln w="0">
            <a:noFill/>
          </a:ln>
        </p:spPr>
      </p:pic>
      <p:sp>
        <p:nvSpPr>
          <p:cNvPr id="35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57" name="PlaceHolder 2"/>
          <p:cNvSpPr>
            <a:spLocks noGrp="1"/>
          </p:cNvSpPr>
          <p:nvPr>
            <p:ph type="sldNum" idx="1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46E8-AF2A-463F-A8EC-49764538F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5" name="Picture 12" descr="特許庁欧文ロゴ"/>
          <p:cNvPicPr/>
          <p:nvPr/>
        </p:nvPicPr>
        <p:blipFill>
          <a:blip r:embed="rId2"/>
          <a:stretch/>
        </p:blipFill>
        <p:spPr>
          <a:xfrm>
            <a:off x="8193240" y="0"/>
            <a:ext cx="1612800" cy="601560"/>
          </a:xfrm>
          <a:prstGeom prst="rect">
            <a:avLst/>
          </a:prstGeom>
          <a:ln w="0">
            <a:noFill/>
          </a:ln>
        </p:spPr>
      </p:pic>
      <p:sp>
        <p:nvSpPr>
          <p:cNvPr id="39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97" name="PlaceHolder 2"/>
          <p:cNvSpPr>
            <a:spLocks noGrp="1"/>
          </p:cNvSpPr>
          <p:nvPr>
            <p:ph type="sldNum" idx="1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0FBA-A473-4587-8A08-418B44665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5" name="Picture 12" descr="特許庁欧文ロゴ"/>
          <p:cNvPicPr/>
          <p:nvPr/>
        </p:nvPicPr>
        <p:blipFill>
          <a:blip r:embed="rId2"/>
          <a:stretch/>
        </p:blipFill>
        <p:spPr>
          <a:xfrm>
            <a:off x="8193240" y="0"/>
            <a:ext cx="1612800" cy="601560"/>
          </a:xfrm>
          <a:prstGeom prst="rect">
            <a:avLst/>
          </a:prstGeom>
          <a:ln w="0">
            <a:noFill/>
          </a:ln>
        </p:spPr>
      </p:pic>
      <p:sp>
        <p:nvSpPr>
          <p:cNvPr id="43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37" name="PlaceHolder 2"/>
          <p:cNvSpPr>
            <a:spLocks noGrp="1"/>
          </p:cNvSpPr>
          <p:nvPr>
            <p:ph type="sldNum" idx="1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E338-D104-4393-95EC-9860D1D75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12" descr="特許庁欧文ロゴ"/>
          <p:cNvPicPr/>
          <p:nvPr/>
        </p:nvPicPr>
        <p:blipFill>
          <a:blip r:embed="rId2"/>
          <a:stretch/>
        </p:blipFill>
        <p:spPr>
          <a:xfrm>
            <a:off x="8193240" y="0"/>
            <a:ext cx="1612800" cy="601560"/>
          </a:xfrm>
          <a:prstGeom prst="rect">
            <a:avLst/>
          </a:prstGeom>
          <a:ln w="0">
            <a:noFill/>
          </a:ln>
        </p:spPr>
      </p:pic>
      <p:sp>
        <p:nvSpPr>
          <p:cNvPr id="4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77" name="PlaceHolder 2"/>
          <p:cNvSpPr>
            <a:spLocks noGrp="1"/>
          </p:cNvSpPr>
          <p:nvPr>
            <p:ph type="sldNum" idx="1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B012-338D-41BB-BFE8-69AFD5496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5" name="Picture 12" descr="特許庁欧文ロゴ"/>
          <p:cNvPicPr/>
          <p:nvPr/>
        </p:nvPicPr>
        <p:blipFill>
          <a:blip r:embed="rId2"/>
          <a:stretch/>
        </p:blipFill>
        <p:spPr>
          <a:xfrm>
            <a:off x="8193240" y="0"/>
            <a:ext cx="1612800" cy="601560"/>
          </a:xfrm>
          <a:prstGeom prst="rect">
            <a:avLst/>
          </a:prstGeom>
          <a:ln w="0">
            <a:noFill/>
          </a:ln>
        </p:spPr>
      </p:pic>
      <p:sp>
        <p:nvSpPr>
          <p:cNvPr id="5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17" name="PlaceHolder 2"/>
          <p:cNvSpPr>
            <a:spLocks noGrp="1"/>
          </p:cNvSpPr>
          <p:nvPr>
            <p:ph type="sldNum" idx="1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5928-7E66-4FA5-9986-6DC3AFA70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8"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rPr>
              <a:t>Second Outline Level</a:t>
            </a:r>
            <a:endParaRPr b="0" lang="en-US" sz="1600" spc="-1" strike="noStrike">
              <a:solidFill>
                <a:srgbClr val="000000"/>
              </a:solidFill>
              <a:latin typeface="HG丸ｺﾞｼｯｸM-PRO"/>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6" name="Picture 12" descr="特許庁欧文ロゴ"/>
          <p:cNvPicPr/>
          <p:nvPr/>
        </p:nvPicPr>
        <p:blipFill>
          <a:blip r:embed="rId2"/>
          <a:stretch/>
        </p:blipFill>
        <p:spPr>
          <a:xfrm>
            <a:off x="8193240" y="0"/>
            <a:ext cx="1612800" cy="601560"/>
          </a:xfrm>
          <a:prstGeom prst="rect">
            <a:avLst/>
          </a:prstGeom>
          <a:ln w="0">
            <a:noFill/>
          </a:ln>
        </p:spPr>
      </p:pic>
      <p:sp>
        <p:nvSpPr>
          <p:cNvPr id="5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58" name="PlaceHolder 2"/>
          <p:cNvSpPr>
            <a:spLocks noGrp="1"/>
          </p:cNvSpPr>
          <p:nvPr>
            <p:ph type="sldNum" idx="1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4C42-A448-4BD8-B4F7-76C81E4CC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6" name="Picture 12" descr="特許庁欧文ロゴ"/>
          <p:cNvPicPr/>
          <p:nvPr/>
        </p:nvPicPr>
        <p:blipFill>
          <a:blip r:embed="rId2"/>
          <a:stretch/>
        </p:blipFill>
        <p:spPr>
          <a:xfrm>
            <a:off x="8193240" y="0"/>
            <a:ext cx="1612800" cy="601560"/>
          </a:xfrm>
          <a:prstGeom prst="rect">
            <a:avLst/>
          </a:prstGeom>
          <a:ln w="0">
            <a:noFill/>
          </a:ln>
        </p:spPr>
      </p:pic>
      <p:sp>
        <p:nvSpPr>
          <p:cNvPr id="5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98" name="PlaceHolder 2"/>
          <p:cNvSpPr>
            <a:spLocks noGrp="1"/>
          </p:cNvSpPr>
          <p:nvPr>
            <p:ph type="sldNum" idx="1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BB95-3D82-49D2-B370-E9318E5B0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6" name="Picture 12" descr="特許庁欧文ロゴ"/>
          <p:cNvPicPr/>
          <p:nvPr/>
        </p:nvPicPr>
        <p:blipFill>
          <a:blip r:embed="rId2"/>
          <a:stretch/>
        </p:blipFill>
        <p:spPr>
          <a:xfrm>
            <a:off x="8193240" y="0"/>
            <a:ext cx="1612800" cy="601560"/>
          </a:xfrm>
          <a:prstGeom prst="rect">
            <a:avLst/>
          </a:prstGeom>
          <a:ln w="0">
            <a:noFill/>
          </a:ln>
        </p:spPr>
      </p:pic>
      <p:sp>
        <p:nvSpPr>
          <p:cNvPr id="6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38" name="PlaceHolder 2"/>
          <p:cNvSpPr>
            <a:spLocks noGrp="1"/>
          </p:cNvSpPr>
          <p:nvPr>
            <p:ph type="sldNum" idx="1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09AD-2FF6-412E-B257-B6D92778E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6" name="Picture 12" descr="特許庁欧文ロゴ"/>
          <p:cNvPicPr/>
          <p:nvPr/>
        </p:nvPicPr>
        <p:blipFill>
          <a:blip r:embed="rId2"/>
          <a:stretch/>
        </p:blipFill>
        <p:spPr>
          <a:xfrm>
            <a:off x="8193240" y="0"/>
            <a:ext cx="1612800" cy="601560"/>
          </a:xfrm>
          <a:prstGeom prst="rect">
            <a:avLst/>
          </a:prstGeom>
          <a:ln w="0">
            <a:noFill/>
          </a:ln>
        </p:spPr>
      </p:pic>
      <p:sp>
        <p:nvSpPr>
          <p:cNvPr id="6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78" name="PlaceHolder 2"/>
          <p:cNvSpPr>
            <a:spLocks noGrp="1"/>
          </p:cNvSpPr>
          <p:nvPr>
            <p:ph type="sldNum" idx="1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45C7-14C0-402E-A652-9FCF71756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6" name="Picture 12" descr="特許庁欧文ロゴ"/>
          <p:cNvPicPr/>
          <p:nvPr/>
        </p:nvPicPr>
        <p:blipFill>
          <a:blip r:embed="rId2"/>
          <a:stretch/>
        </p:blipFill>
        <p:spPr>
          <a:xfrm>
            <a:off x="8193240" y="0"/>
            <a:ext cx="1612800" cy="601560"/>
          </a:xfrm>
          <a:prstGeom prst="rect">
            <a:avLst/>
          </a:prstGeom>
          <a:ln w="0">
            <a:noFill/>
          </a:ln>
        </p:spPr>
      </p:pic>
      <p:sp>
        <p:nvSpPr>
          <p:cNvPr id="7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18" name="PlaceHolder 2"/>
          <p:cNvSpPr>
            <a:spLocks noGrp="1"/>
          </p:cNvSpPr>
          <p:nvPr>
            <p:ph type="sldNum" idx="1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49DC-A4C2-4D42-943B-A736B9596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1" name="PlaceHolder 2"/>
          <p:cNvSpPr>
            <a:spLocks noGrp="1"/>
          </p:cNvSpPr>
          <p:nvPr>
            <p:ph type="sldNum" idx="2"/>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DCD5-597C-4C3F-961B-71EAA030F05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6" name="Picture 12" descr="特許庁欧文ロゴ"/>
          <p:cNvPicPr/>
          <p:nvPr/>
        </p:nvPicPr>
        <p:blipFill>
          <a:blip r:embed="rId2"/>
          <a:stretch/>
        </p:blipFill>
        <p:spPr>
          <a:xfrm>
            <a:off x="8193240" y="0"/>
            <a:ext cx="1612800" cy="601560"/>
          </a:xfrm>
          <a:prstGeom prst="rect">
            <a:avLst/>
          </a:prstGeom>
          <a:ln w="0">
            <a:noFill/>
          </a:ln>
        </p:spPr>
      </p:pic>
      <p:sp>
        <p:nvSpPr>
          <p:cNvPr id="7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58" name="PlaceHolder 2"/>
          <p:cNvSpPr>
            <a:spLocks noGrp="1"/>
          </p:cNvSpPr>
          <p:nvPr>
            <p:ph type="sldNum" idx="2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D4D9-D792-431D-972A-B7F86F9A4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6" name="Picture 12" descr="特許庁欧文ロゴ"/>
          <p:cNvPicPr/>
          <p:nvPr/>
        </p:nvPicPr>
        <p:blipFill>
          <a:blip r:embed="rId2"/>
          <a:stretch/>
        </p:blipFill>
        <p:spPr>
          <a:xfrm>
            <a:off x="8193240" y="0"/>
            <a:ext cx="1612800" cy="601560"/>
          </a:xfrm>
          <a:prstGeom prst="rect">
            <a:avLst/>
          </a:prstGeom>
          <a:ln w="0">
            <a:noFill/>
          </a:ln>
        </p:spPr>
      </p:pic>
      <p:sp>
        <p:nvSpPr>
          <p:cNvPr id="7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98" name="PlaceHolder 2"/>
          <p:cNvSpPr>
            <a:spLocks noGrp="1"/>
          </p:cNvSpPr>
          <p:nvPr>
            <p:ph type="sldNum" idx="2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AB39-7F24-460B-8A6A-3443F5634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6" name="Picture 12" descr="特許庁欧文ロゴ"/>
          <p:cNvPicPr/>
          <p:nvPr/>
        </p:nvPicPr>
        <p:blipFill>
          <a:blip r:embed="rId2"/>
          <a:stretch/>
        </p:blipFill>
        <p:spPr>
          <a:xfrm>
            <a:off x="8193240" y="0"/>
            <a:ext cx="1612800" cy="601560"/>
          </a:xfrm>
          <a:prstGeom prst="rect">
            <a:avLst/>
          </a:prstGeom>
          <a:ln w="0">
            <a:noFill/>
          </a:ln>
        </p:spPr>
      </p:pic>
      <p:sp>
        <p:nvSpPr>
          <p:cNvPr id="8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38" name="PlaceHolder 2"/>
          <p:cNvSpPr>
            <a:spLocks noGrp="1"/>
          </p:cNvSpPr>
          <p:nvPr>
            <p:ph type="sldNum" idx="2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2BD3-E20E-42D3-A933-AB6F18216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6" name="Picture 12" descr="特許庁欧文ロゴ"/>
          <p:cNvPicPr/>
          <p:nvPr/>
        </p:nvPicPr>
        <p:blipFill>
          <a:blip r:embed="rId2"/>
          <a:stretch/>
        </p:blipFill>
        <p:spPr>
          <a:xfrm>
            <a:off x="8193240" y="0"/>
            <a:ext cx="1612800" cy="601560"/>
          </a:xfrm>
          <a:prstGeom prst="rect">
            <a:avLst/>
          </a:prstGeom>
          <a:ln w="0">
            <a:noFill/>
          </a:ln>
        </p:spPr>
      </p:pic>
      <p:sp>
        <p:nvSpPr>
          <p:cNvPr id="8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78" name="PlaceHolder 2"/>
          <p:cNvSpPr>
            <a:spLocks noGrp="1"/>
          </p:cNvSpPr>
          <p:nvPr>
            <p:ph type="sldNum" idx="2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9EA8-5750-40DE-A7AC-807C78DDD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6" name="Picture 12" descr="特許庁欧文ロゴ"/>
          <p:cNvPicPr/>
          <p:nvPr/>
        </p:nvPicPr>
        <p:blipFill>
          <a:blip r:embed="rId2"/>
          <a:stretch/>
        </p:blipFill>
        <p:spPr>
          <a:xfrm>
            <a:off x="8193240" y="0"/>
            <a:ext cx="1612800" cy="601560"/>
          </a:xfrm>
          <a:prstGeom prst="rect">
            <a:avLst/>
          </a:prstGeom>
          <a:ln w="0">
            <a:noFill/>
          </a:ln>
        </p:spPr>
      </p:pic>
      <p:sp>
        <p:nvSpPr>
          <p:cNvPr id="9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18" name="PlaceHolder 2"/>
          <p:cNvSpPr>
            <a:spLocks noGrp="1"/>
          </p:cNvSpPr>
          <p:nvPr>
            <p:ph type="sldNum" idx="2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1364-719F-4B30-B1C4-9DDA1699B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6" name="Picture 12" descr="特許庁欧文ロゴ"/>
          <p:cNvPicPr/>
          <p:nvPr/>
        </p:nvPicPr>
        <p:blipFill>
          <a:blip r:embed="rId2"/>
          <a:stretch/>
        </p:blipFill>
        <p:spPr>
          <a:xfrm>
            <a:off x="8193240" y="0"/>
            <a:ext cx="1612800" cy="601560"/>
          </a:xfrm>
          <a:prstGeom prst="rect">
            <a:avLst/>
          </a:prstGeom>
          <a:ln w="0">
            <a:noFill/>
          </a:ln>
        </p:spPr>
      </p:pic>
      <p:sp>
        <p:nvSpPr>
          <p:cNvPr id="9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58" name="PlaceHolder 2"/>
          <p:cNvSpPr>
            <a:spLocks noGrp="1"/>
          </p:cNvSpPr>
          <p:nvPr>
            <p:ph type="sldNum" idx="2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E4FC-C656-4F44-A4DA-620033F7E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6" name="Picture 12" descr="特許庁欧文ロゴ"/>
          <p:cNvPicPr/>
          <p:nvPr/>
        </p:nvPicPr>
        <p:blipFill>
          <a:blip r:embed="rId2"/>
          <a:stretch/>
        </p:blipFill>
        <p:spPr>
          <a:xfrm>
            <a:off x="8193240" y="0"/>
            <a:ext cx="1612800" cy="601560"/>
          </a:xfrm>
          <a:prstGeom prst="rect">
            <a:avLst/>
          </a:prstGeom>
          <a:ln w="0">
            <a:noFill/>
          </a:ln>
        </p:spPr>
      </p:pic>
      <p:sp>
        <p:nvSpPr>
          <p:cNvPr id="9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98" name="PlaceHolder 2"/>
          <p:cNvSpPr>
            <a:spLocks noGrp="1"/>
          </p:cNvSpPr>
          <p:nvPr>
            <p:ph type="sldNum" idx="2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011E-D312-45AD-8357-B3FFA7313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6" name="Picture 12" descr="特許庁欧文ロゴ"/>
          <p:cNvPicPr/>
          <p:nvPr/>
        </p:nvPicPr>
        <p:blipFill>
          <a:blip r:embed="rId2"/>
          <a:stretch/>
        </p:blipFill>
        <p:spPr>
          <a:xfrm>
            <a:off x="8193240" y="0"/>
            <a:ext cx="1612800" cy="601560"/>
          </a:xfrm>
          <a:prstGeom prst="rect">
            <a:avLst/>
          </a:prstGeom>
          <a:ln w="0">
            <a:noFill/>
          </a:ln>
        </p:spPr>
      </p:pic>
      <p:sp>
        <p:nvSpPr>
          <p:cNvPr id="10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38" name="PlaceHolder 2"/>
          <p:cNvSpPr>
            <a:spLocks noGrp="1"/>
          </p:cNvSpPr>
          <p:nvPr>
            <p:ph type="sldNum" idx="2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ED18-C884-48F5-9566-6C21A8286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6" name="Picture 12" descr="特許庁欧文ロゴ"/>
          <p:cNvPicPr/>
          <p:nvPr/>
        </p:nvPicPr>
        <p:blipFill>
          <a:blip r:embed="rId2"/>
          <a:stretch/>
        </p:blipFill>
        <p:spPr>
          <a:xfrm>
            <a:off x="8193240" y="0"/>
            <a:ext cx="1612800" cy="601560"/>
          </a:xfrm>
          <a:prstGeom prst="rect">
            <a:avLst/>
          </a:prstGeom>
          <a:ln w="0">
            <a:noFill/>
          </a:ln>
        </p:spPr>
      </p:pic>
      <p:sp>
        <p:nvSpPr>
          <p:cNvPr id="10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78" name="PlaceHolder 2"/>
          <p:cNvSpPr>
            <a:spLocks noGrp="1"/>
          </p:cNvSpPr>
          <p:nvPr>
            <p:ph type="sldNum" idx="2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CFEF-E764-44D7-A559-8AA06E611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6" name="Picture 12" descr="特許庁欧文ロゴ"/>
          <p:cNvPicPr/>
          <p:nvPr/>
        </p:nvPicPr>
        <p:blipFill>
          <a:blip r:embed="rId2"/>
          <a:stretch/>
        </p:blipFill>
        <p:spPr>
          <a:xfrm>
            <a:off x="8193240" y="0"/>
            <a:ext cx="1612800" cy="601560"/>
          </a:xfrm>
          <a:prstGeom prst="rect">
            <a:avLst/>
          </a:prstGeom>
          <a:ln w="0">
            <a:noFill/>
          </a:ln>
        </p:spPr>
      </p:pic>
      <p:sp>
        <p:nvSpPr>
          <p:cNvPr id="11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18" name="PlaceHolder 2"/>
          <p:cNvSpPr>
            <a:spLocks noGrp="1"/>
          </p:cNvSpPr>
          <p:nvPr>
            <p:ph type="sldNum" idx="2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DB12-6544-4EF6-BD56-D399BE39D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ldNum" idx="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92F0-A437-47D6-BF69-3284981B3F2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6" name="Picture 12" descr="特許庁欧文ロゴ"/>
          <p:cNvPicPr/>
          <p:nvPr/>
        </p:nvPicPr>
        <p:blipFill>
          <a:blip r:embed="rId2"/>
          <a:stretch/>
        </p:blipFill>
        <p:spPr>
          <a:xfrm>
            <a:off x="8193240" y="0"/>
            <a:ext cx="1612800" cy="601560"/>
          </a:xfrm>
          <a:prstGeom prst="rect">
            <a:avLst/>
          </a:prstGeom>
          <a:ln w="0">
            <a:noFill/>
          </a:ln>
        </p:spPr>
      </p:pic>
      <p:sp>
        <p:nvSpPr>
          <p:cNvPr id="11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58" name="PlaceHolder 2"/>
          <p:cNvSpPr>
            <a:spLocks noGrp="1"/>
          </p:cNvSpPr>
          <p:nvPr>
            <p:ph type="sldNum" idx="3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0991-47D3-451D-93BE-D3156C557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6" name="Picture 12" descr="特許庁欧文ロゴ"/>
          <p:cNvPicPr/>
          <p:nvPr/>
        </p:nvPicPr>
        <p:blipFill>
          <a:blip r:embed="rId2"/>
          <a:stretch/>
        </p:blipFill>
        <p:spPr>
          <a:xfrm>
            <a:off x="8193240" y="0"/>
            <a:ext cx="1612800" cy="601560"/>
          </a:xfrm>
          <a:prstGeom prst="rect">
            <a:avLst/>
          </a:prstGeom>
          <a:ln w="0">
            <a:noFill/>
          </a:ln>
        </p:spPr>
      </p:pic>
      <p:sp>
        <p:nvSpPr>
          <p:cNvPr id="11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98" name="PlaceHolder 2"/>
          <p:cNvSpPr>
            <a:spLocks noGrp="1"/>
          </p:cNvSpPr>
          <p:nvPr>
            <p:ph type="sldNum" idx="3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2838-5330-40C4-AE9A-B9B460CD5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6" name="Picture 12" descr="特許庁欧文ロゴ"/>
          <p:cNvPicPr/>
          <p:nvPr/>
        </p:nvPicPr>
        <p:blipFill>
          <a:blip r:embed="rId2"/>
          <a:stretch/>
        </p:blipFill>
        <p:spPr>
          <a:xfrm>
            <a:off x="8193240" y="0"/>
            <a:ext cx="1612800" cy="601560"/>
          </a:xfrm>
          <a:prstGeom prst="rect">
            <a:avLst/>
          </a:prstGeom>
          <a:ln w="0">
            <a:noFill/>
          </a:ln>
        </p:spPr>
      </p:pic>
      <p:sp>
        <p:nvSpPr>
          <p:cNvPr id="12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238" name="PlaceHolder 2"/>
          <p:cNvSpPr>
            <a:spLocks noGrp="1"/>
          </p:cNvSpPr>
          <p:nvPr>
            <p:ph type="sldNum" idx="3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3B96-B234-466A-A9F3-DFD3D6568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5" name="Group 2"/>
          <p:cNvGrpSpPr/>
          <p:nvPr/>
        </p:nvGrpSpPr>
        <p:grpSpPr>
          <a:xfrm>
            <a:off x="0" y="0"/>
            <a:ext cx="9905760" cy="6858000"/>
            <a:chOff x="0" y="0"/>
            <a:chExt cx="9905760" cy="6858000"/>
          </a:xfrm>
        </p:grpSpPr>
        <p:sp>
          <p:nvSpPr>
            <p:cNvPr id="1276"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77" name="Group 4"/>
            <p:cNvGrpSpPr/>
            <p:nvPr/>
          </p:nvGrpSpPr>
          <p:grpSpPr>
            <a:xfrm>
              <a:off x="0" y="4800600"/>
              <a:ext cx="9905400" cy="2057400"/>
              <a:chOff x="0" y="4800600"/>
              <a:chExt cx="9905400" cy="2057400"/>
            </a:xfrm>
          </p:grpSpPr>
          <p:sp>
            <p:nvSpPr>
              <p:cNvPr id="1278"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9"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0" name="Group 7"/>
              <p:cNvGrpSpPr/>
              <p:nvPr/>
            </p:nvGrpSpPr>
            <p:grpSpPr>
              <a:xfrm>
                <a:off x="5035320" y="5105520"/>
                <a:ext cx="4869360" cy="1752120"/>
                <a:chOff x="5035320" y="5105520"/>
                <a:chExt cx="4869360" cy="1752120"/>
              </a:xfrm>
            </p:grpSpPr>
            <p:sp>
              <p:nvSpPr>
                <p:cNvPr id="1281"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2" name="Group 9"/>
                <p:cNvGrpSpPr/>
                <p:nvPr/>
              </p:nvGrpSpPr>
              <p:grpSpPr>
                <a:xfrm>
                  <a:off x="5035320" y="5158440"/>
                  <a:ext cx="4869000" cy="1562760"/>
                  <a:chOff x="5035320" y="5158440"/>
                  <a:chExt cx="4869000" cy="1562760"/>
                </a:xfrm>
              </p:grpSpPr>
              <p:sp>
                <p:nvSpPr>
                  <p:cNvPr id="1283"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285" name="PlaceHolder 1"/>
          <p:cNvSpPr>
            <a:spLocks noGrp="1"/>
          </p:cNvSpPr>
          <p:nvPr>
            <p:ph type="dt" idx="33"/>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2"/>
          <p:cNvSpPr>
            <a:spLocks noGrp="1"/>
          </p:cNvSpPr>
          <p:nvPr>
            <p:ph type="ftr" idx="34"/>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7" name="PlaceHolder 3"/>
          <p:cNvSpPr>
            <a:spLocks noGrp="1"/>
          </p:cNvSpPr>
          <p:nvPr>
            <p:ph type="sldNum" idx="35"/>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B79E-743B-4446-88AD-8386404A88B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5" name="PlaceHolder 1"/>
          <p:cNvSpPr>
            <a:spLocks noGrp="1"/>
          </p:cNvSpPr>
          <p:nvPr>
            <p:ph type="sldNum" idx="3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7D84-E958-49C9-AD6A-74931236608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3" name="PlaceHolder 1"/>
          <p:cNvSpPr>
            <a:spLocks noGrp="1"/>
          </p:cNvSpPr>
          <p:nvPr>
            <p:ph type="sldNum" idx="3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96B4-F50C-4308-BA7B-8CA968902CA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1" name="PlaceHolder 1"/>
          <p:cNvSpPr>
            <a:spLocks noGrp="1"/>
          </p:cNvSpPr>
          <p:nvPr>
            <p:ph type="sldNum" idx="3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AC59-78BC-49CB-95BC-32E1A47914A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PlaceHolder 1"/>
          <p:cNvSpPr>
            <a:spLocks noGrp="1"/>
          </p:cNvSpPr>
          <p:nvPr>
            <p:ph type="sldNum" idx="3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1F17-6EBA-4CAA-8CC4-399AC5C168D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1"/>
          <p:cNvSpPr>
            <a:spLocks noGrp="1"/>
          </p:cNvSpPr>
          <p:nvPr>
            <p:ph type="sldNum" idx="4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7AB7-42A7-4A2C-94D2-949DA4761B7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1"/>
          <p:cNvSpPr>
            <a:spLocks noGrp="1"/>
          </p:cNvSpPr>
          <p:nvPr>
            <p:ph type="sldNum" idx="4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F4FE-8C51-41FD-8824-D26FE22F225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ldNum" idx="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7F77-D83D-4DE7-B971-2CABF30F41D9}"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1"/>
          <p:cNvSpPr>
            <a:spLocks noGrp="1"/>
          </p:cNvSpPr>
          <p:nvPr>
            <p:ph type="sldNum" idx="4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4C44-D3D2-4873-B53C-7C4A5375690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1" name="PlaceHolder 1"/>
          <p:cNvSpPr>
            <a:spLocks noGrp="1"/>
          </p:cNvSpPr>
          <p:nvPr>
            <p:ph type="sldNum" idx="4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F930-E988-4F53-B5C3-027213EC3A4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1"/>
          <p:cNvSpPr>
            <a:spLocks noGrp="1"/>
          </p:cNvSpPr>
          <p:nvPr>
            <p:ph type="sldNum" idx="4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6BD1-7A11-48DB-AFF9-3CA7450D9D4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7" name="PlaceHolder 1"/>
          <p:cNvSpPr>
            <a:spLocks noGrp="1"/>
          </p:cNvSpPr>
          <p:nvPr>
            <p:ph type="sldNum" idx="4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DC9C-DD17-4279-9545-73464A3B03F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4" name="Group 2"/>
          <p:cNvGrpSpPr/>
          <p:nvPr/>
        </p:nvGrpSpPr>
        <p:grpSpPr>
          <a:xfrm>
            <a:off x="0" y="0"/>
            <a:ext cx="9905760" cy="6858000"/>
            <a:chOff x="0" y="0"/>
            <a:chExt cx="9905760" cy="6858000"/>
          </a:xfrm>
        </p:grpSpPr>
        <p:sp>
          <p:nvSpPr>
            <p:cNvPr id="1705"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6" name="Group 4"/>
            <p:cNvGrpSpPr/>
            <p:nvPr/>
          </p:nvGrpSpPr>
          <p:grpSpPr>
            <a:xfrm>
              <a:off x="0" y="4800600"/>
              <a:ext cx="9905400" cy="2057400"/>
              <a:chOff x="0" y="4800600"/>
              <a:chExt cx="9905400" cy="2057400"/>
            </a:xfrm>
          </p:grpSpPr>
          <p:sp>
            <p:nvSpPr>
              <p:cNvPr id="1707"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9" name="Group 7"/>
              <p:cNvGrpSpPr/>
              <p:nvPr/>
            </p:nvGrpSpPr>
            <p:grpSpPr>
              <a:xfrm>
                <a:off x="5035320" y="5105520"/>
                <a:ext cx="4869360" cy="1752120"/>
                <a:chOff x="5035320" y="5105520"/>
                <a:chExt cx="4869360" cy="1752120"/>
              </a:xfrm>
            </p:grpSpPr>
            <p:sp>
              <p:nvSpPr>
                <p:cNvPr id="1710"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1" name="Group 9"/>
                <p:cNvGrpSpPr/>
                <p:nvPr/>
              </p:nvGrpSpPr>
              <p:grpSpPr>
                <a:xfrm>
                  <a:off x="5035320" y="5158440"/>
                  <a:ext cx="4869000" cy="1562760"/>
                  <a:chOff x="5035320" y="5158440"/>
                  <a:chExt cx="4869000" cy="1562760"/>
                </a:xfrm>
              </p:grpSpPr>
              <p:sp>
                <p:nvSpPr>
                  <p:cNvPr id="1712"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714" name="PlaceHolder 1"/>
          <p:cNvSpPr>
            <a:spLocks noGrp="1"/>
          </p:cNvSpPr>
          <p:nvPr>
            <p:ph type="dt" idx="46"/>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5" name="PlaceHolder 2"/>
          <p:cNvSpPr>
            <a:spLocks noGrp="1"/>
          </p:cNvSpPr>
          <p:nvPr>
            <p:ph type="ftr" idx="47"/>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type="sldNum" idx="48"/>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7DB2-64E9-46D9-A833-A489C29BC35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1"/>
          <p:cNvSpPr>
            <a:spLocks noGrp="1"/>
          </p:cNvSpPr>
          <p:nvPr>
            <p:ph type="sldNum" idx="4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F940-73D4-4DBB-824B-A22232B868C1}"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1"/>
          <p:cNvSpPr>
            <a:spLocks noGrp="1"/>
          </p:cNvSpPr>
          <p:nvPr>
            <p:ph type="sldNum" idx="5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2172-D684-4495-B5DE-EFE0EB128E6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0" name="PlaceHolder 1"/>
          <p:cNvSpPr>
            <a:spLocks noGrp="1"/>
          </p:cNvSpPr>
          <p:nvPr>
            <p:ph type="sldNum" idx="5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9ACF-3BA7-4901-B51D-0FDF9FDB3E0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8" name="PlaceHolder 1"/>
          <p:cNvSpPr>
            <a:spLocks noGrp="1"/>
          </p:cNvSpPr>
          <p:nvPr>
            <p:ph type="sldNum" idx="5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5CF9-EF5B-4E90-BC49-C41BDEFDE109}"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1"/>
          <p:cNvSpPr>
            <a:spLocks noGrp="1"/>
          </p:cNvSpPr>
          <p:nvPr>
            <p:ph type="sldNum" idx="5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B2B5-5B6F-456A-A79F-65F034BC699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ldNum" idx="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67C8-C0A3-4F3F-9EDD-7ACDF571CCD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4" name="PlaceHolder 1"/>
          <p:cNvSpPr>
            <a:spLocks noGrp="1"/>
          </p:cNvSpPr>
          <p:nvPr>
            <p:ph type="sldNum" idx="5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1EEE-49A6-40FD-A080-0601FDB8A338}"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2" name="PlaceHolder 1"/>
          <p:cNvSpPr>
            <a:spLocks noGrp="1"/>
          </p:cNvSpPr>
          <p:nvPr>
            <p:ph type="sldNum" idx="5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A00E-679F-4979-B382-1CD6EB719FC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0" name="PlaceHolder 1"/>
          <p:cNvSpPr>
            <a:spLocks noGrp="1"/>
          </p:cNvSpPr>
          <p:nvPr>
            <p:ph type="sldNum" idx="5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A0B8-54FB-4908-812D-1DAD8DA5A69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8" name="PlaceHolder 1"/>
          <p:cNvSpPr>
            <a:spLocks noGrp="1"/>
          </p:cNvSpPr>
          <p:nvPr>
            <p:ph type="sldNum" idx="5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44B1-F6D6-4210-A2F0-52DDA4FB48E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6" name="PlaceHolder 1"/>
          <p:cNvSpPr>
            <a:spLocks noGrp="1"/>
          </p:cNvSpPr>
          <p:nvPr>
            <p:ph type="sldNum" idx="5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D5C1-C23D-4290-8713-5CF858536D0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3" name="Group 2"/>
          <p:cNvGrpSpPr/>
          <p:nvPr/>
        </p:nvGrpSpPr>
        <p:grpSpPr>
          <a:xfrm>
            <a:off x="0" y="0"/>
            <a:ext cx="9905760" cy="6858000"/>
            <a:chOff x="0" y="0"/>
            <a:chExt cx="9905760" cy="6858000"/>
          </a:xfrm>
        </p:grpSpPr>
        <p:sp>
          <p:nvSpPr>
            <p:cNvPr id="2134"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5" name="Group 4"/>
            <p:cNvGrpSpPr/>
            <p:nvPr/>
          </p:nvGrpSpPr>
          <p:grpSpPr>
            <a:xfrm>
              <a:off x="0" y="4800600"/>
              <a:ext cx="9905400" cy="2057400"/>
              <a:chOff x="0" y="4800600"/>
              <a:chExt cx="9905400" cy="2057400"/>
            </a:xfrm>
          </p:grpSpPr>
          <p:sp>
            <p:nvSpPr>
              <p:cNvPr id="2136"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7"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8" name="Group 7"/>
              <p:cNvGrpSpPr/>
              <p:nvPr/>
            </p:nvGrpSpPr>
            <p:grpSpPr>
              <a:xfrm>
                <a:off x="5035320" y="5105520"/>
                <a:ext cx="4869360" cy="1752120"/>
                <a:chOff x="5035320" y="5105520"/>
                <a:chExt cx="4869360" cy="1752120"/>
              </a:xfrm>
            </p:grpSpPr>
            <p:sp>
              <p:nvSpPr>
                <p:cNvPr id="2139"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40" name="Group 9"/>
                <p:cNvGrpSpPr/>
                <p:nvPr/>
              </p:nvGrpSpPr>
              <p:grpSpPr>
                <a:xfrm>
                  <a:off x="5035320" y="5158440"/>
                  <a:ext cx="4869000" cy="1562760"/>
                  <a:chOff x="5035320" y="5158440"/>
                  <a:chExt cx="4869000" cy="1562760"/>
                </a:xfrm>
              </p:grpSpPr>
              <p:sp>
                <p:nvSpPr>
                  <p:cNvPr id="2141"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2"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2143" name="PlaceHolder 1"/>
          <p:cNvSpPr>
            <a:spLocks noGrp="1"/>
          </p:cNvSpPr>
          <p:nvPr>
            <p:ph type="dt" idx="59"/>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4" name="PlaceHolder 2"/>
          <p:cNvSpPr>
            <a:spLocks noGrp="1"/>
          </p:cNvSpPr>
          <p:nvPr>
            <p:ph type="ftr" idx="60"/>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5" name="PlaceHolder 3"/>
          <p:cNvSpPr>
            <a:spLocks noGrp="1"/>
          </p:cNvSpPr>
          <p:nvPr>
            <p:ph type="sldNum" idx="61"/>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20EF-A20A-4AFE-8883-A56812E7F738}"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3" name="PlaceHolder 1"/>
          <p:cNvSpPr>
            <a:spLocks noGrp="1"/>
          </p:cNvSpPr>
          <p:nvPr>
            <p:ph type="sldNum" idx="6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1066-A2AA-4475-9FCC-646D0BAD766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1" name="PlaceHolder 1"/>
          <p:cNvSpPr>
            <a:spLocks noGrp="1"/>
          </p:cNvSpPr>
          <p:nvPr>
            <p:ph type="sldNum" idx="6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747D-55E7-4A75-B1F4-0327D7547C2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9" name="PlaceHolder 1"/>
          <p:cNvSpPr>
            <a:spLocks noGrp="1"/>
          </p:cNvSpPr>
          <p:nvPr>
            <p:ph type="sldNum" idx="6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73C4-45C3-414B-8C0E-F3279223481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7" name="PlaceHolder 1"/>
          <p:cNvSpPr>
            <a:spLocks noGrp="1"/>
          </p:cNvSpPr>
          <p:nvPr>
            <p:ph type="sldNum" idx="6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6F77-4821-4B7B-9955-9C9AD3C9557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95" name="PlaceHolder 2"/>
          <p:cNvSpPr>
            <a:spLocks noGrp="1"/>
          </p:cNvSpPr>
          <p:nvPr>
            <p:ph type="sldNum" idx="6"/>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6B4E-C98C-4A8C-9DEE-32AC82610B4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19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5" name="PlaceHolder 1"/>
          <p:cNvSpPr>
            <a:spLocks noGrp="1"/>
          </p:cNvSpPr>
          <p:nvPr>
            <p:ph type="sldNum" idx="6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A56A-550E-4C39-A86B-4B5A673E69B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3" name="PlaceHolder 1"/>
          <p:cNvSpPr>
            <a:spLocks noGrp="1"/>
          </p:cNvSpPr>
          <p:nvPr>
            <p:ph type="sldNum" idx="6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7EFD-4565-4B9E-9852-23CB039D1922}"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1" name="PlaceHolder 1"/>
          <p:cNvSpPr>
            <a:spLocks noGrp="1"/>
          </p:cNvSpPr>
          <p:nvPr>
            <p:ph type="sldNum" idx="6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5B86-1482-487F-9E0F-39FE2C0F5B2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9" name="PlaceHolder 1"/>
          <p:cNvSpPr>
            <a:spLocks noGrp="1"/>
          </p:cNvSpPr>
          <p:nvPr>
            <p:ph type="sldNum" idx="6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02D4-B10A-4B62-82CF-700DCE58B5EC}"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7" name="PlaceHolder 1"/>
          <p:cNvSpPr>
            <a:spLocks noGrp="1"/>
          </p:cNvSpPr>
          <p:nvPr>
            <p:ph type="sldNum" idx="7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7350-FCC7-4AE3-BD49-2204E674520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5" name="PlaceHolder 1"/>
          <p:cNvSpPr>
            <a:spLocks noGrp="1"/>
          </p:cNvSpPr>
          <p:nvPr>
            <p:ph type="sldNum" idx="7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521E-49B2-4937-BA80-281C38179B3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63" name="Picture 12" descr="特許庁欧文ロゴ"/>
          <p:cNvPicPr/>
          <p:nvPr/>
        </p:nvPicPr>
        <p:blipFill>
          <a:blip r:embed="rId2"/>
          <a:stretch/>
        </p:blipFill>
        <p:spPr>
          <a:xfrm>
            <a:off x="8193240" y="0"/>
            <a:ext cx="1612800" cy="601560"/>
          </a:xfrm>
          <a:prstGeom prst="rect">
            <a:avLst/>
          </a:prstGeom>
          <a:ln w="0">
            <a:noFill/>
          </a:ln>
        </p:spPr>
      </p:pic>
      <p:sp>
        <p:nvSpPr>
          <p:cNvPr id="25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565" name="PlaceHolder 2"/>
          <p:cNvSpPr>
            <a:spLocks noGrp="1"/>
          </p:cNvSpPr>
          <p:nvPr>
            <p:ph type="sldNum" idx="7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E380-B35C-4FCB-B448-5A88BDF56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3" name="Picture 12" descr="特許庁欧文ロゴ"/>
          <p:cNvPicPr/>
          <p:nvPr/>
        </p:nvPicPr>
        <p:blipFill>
          <a:blip r:embed="rId2"/>
          <a:stretch/>
        </p:blipFill>
        <p:spPr>
          <a:xfrm>
            <a:off x="8193240" y="0"/>
            <a:ext cx="1612800" cy="601560"/>
          </a:xfrm>
          <a:prstGeom prst="rect">
            <a:avLst/>
          </a:prstGeom>
          <a:ln w="0">
            <a:noFill/>
          </a:ln>
        </p:spPr>
      </p:pic>
      <p:sp>
        <p:nvSpPr>
          <p:cNvPr id="26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05" name="PlaceHolder 2"/>
          <p:cNvSpPr>
            <a:spLocks noGrp="1"/>
          </p:cNvSpPr>
          <p:nvPr>
            <p:ph type="sldNum" idx="7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E903-F01C-436C-973D-A7D5637FE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3" name="Picture 12" descr="特許庁欧文ロゴ"/>
          <p:cNvPicPr/>
          <p:nvPr/>
        </p:nvPicPr>
        <p:blipFill>
          <a:blip r:embed="rId2"/>
          <a:stretch/>
        </p:blipFill>
        <p:spPr>
          <a:xfrm>
            <a:off x="8193240" y="0"/>
            <a:ext cx="1612800" cy="601560"/>
          </a:xfrm>
          <a:prstGeom prst="rect">
            <a:avLst/>
          </a:prstGeom>
          <a:ln w="0">
            <a:noFill/>
          </a:ln>
        </p:spPr>
      </p:pic>
      <p:sp>
        <p:nvSpPr>
          <p:cNvPr id="26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45" name="PlaceHolder 2"/>
          <p:cNvSpPr>
            <a:spLocks noGrp="1"/>
          </p:cNvSpPr>
          <p:nvPr>
            <p:ph type="sldNum" idx="7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F226-0D5E-4714-A57E-2C6FA5215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3" name="Picture 12" descr="特許庁欧文ロゴ"/>
          <p:cNvPicPr/>
          <p:nvPr/>
        </p:nvPicPr>
        <p:blipFill>
          <a:blip r:embed="rId2"/>
          <a:stretch/>
        </p:blipFill>
        <p:spPr>
          <a:xfrm>
            <a:off x="8193240" y="0"/>
            <a:ext cx="1612800" cy="601560"/>
          </a:xfrm>
          <a:prstGeom prst="rect">
            <a:avLst/>
          </a:prstGeom>
          <a:ln w="0">
            <a:noFill/>
          </a:ln>
        </p:spPr>
      </p:pic>
      <p:sp>
        <p:nvSpPr>
          <p:cNvPr id="26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85" name="PlaceHolder 2"/>
          <p:cNvSpPr>
            <a:spLocks noGrp="1"/>
          </p:cNvSpPr>
          <p:nvPr>
            <p:ph type="sldNum" idx="7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EB5-16A4-454B-B874-0AB2E3E9F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35" name="PlaceHolder 2"/>
          <p:cNvSpPr>
            <a:spLocks noGrp="1"/>
          </p:cNvSpPr>
          <p:nvPr>
            <p:ph type="sldNum" idx="7"/>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777A-CA06-4A70-BDF9-1D8330B7FCB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3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3" name="Picture 12" descr="特許庁欧文ロゴ"/>
          <p:cNvPicPr/>
          <p:nvPr/>
        </p:nvPicPr>
        <p:blipFill>
          <a:blip r:embed="rId2"/>
          <a:stretch/>
        </p:blipFill>
        <p:spPr>
          <a:xfrm>
            <a:off x="8193240" y="0"/>
            <a:ext cx="1612800" cy="601560"/>
          </a:xfrm>
          <a:prstGeom prst="rect">
            <a:avLst/>
          </a:prstGeom>
          <a:ln w="0">
            <a:noFill/>
          </a:ln>
        </p:spPr>
      </p:pic>
      <p:sp>
        <p:nvSpPr>
          <p:cNvPr id="27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25" name="PlaceHolder 2"/>
          <p:cNvSpPr>
            <a:spLocks noGrp="1"/>
          </p:cNvSpPr>
          <p:nvPr>
            <p:ph type="sldNum" idx="7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CF09-84CB-45B1-9A41-0EB33A0BB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63" name="Picture 12" descr="特許庁欧文ロゴ"/>
          <p:cNvPicPr/>
          <p:nvPr/>
        </p:nvPicPr>
        <p:blipFill>
          <a:blip r:embed="rId2"/>
          <a:stretch/>
        </p:blipFill>
        <p:spPr>
          <a:xfrm>
            <a:off x="8193240" y="0"/>
            <a:ext cx="1612800" cy="601560"/>
          </a:xfrm>
          <a:prstGeom prst="rect">
            <a:avLst/>
          </a:prstGeom>
          <a:ln w="0">
            <a:noFill/>
          </a:ln>
        </p:spPr>
      </p:pic>
      <p:sp>
        <p:nvSpPr>
          <p:cNvPr id="27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65" name="PlaceHolder 2"/>
          <p:cNvSpPr>
            <a:spLocks noGrp="1"/>
          </p:cNvSpPr>
          <p:nvPr>
            <p:ph type="sldNum" idx="7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E87D-627E-4B01-B49D-BC7BBB951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03" name="Picture 12" descr="特許庁欧文ロゴ"/>
          <p:cNvPicPr/>
          <p:nvPr/>
        </p:nvPicPr>
        <p:blipFill>
          <a:blip r:embed="rId2"/>
          <a:stretch/>
        </p:blipFill>
        <p:spPr>
          <a:xfrm>
            <a:off x="8193240" y="0"/>
            <a:ext cx="1612800" cy="601560"/>
          </a:xfrm>
          <a:prstGeom prst="rect">
            <a:avLst/>
          </a:prstGeom>
          <a:ln w="0">
            <a:noFill/>
          </a:ln>
        </p:spPr>
      </p:pic>
      <p:sp>
        <p:nvSpPr>
          <p:cNvPr id="28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05" name="PlaceHolder 2"/>
          <p:cNvSpPr>
            <a:spLocks noGrp="1"/>
          </p:cNvSpPr>
          <p:nvPr>
            <p:ph type="sldNum" idx="7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7415-AF4A-428F-BEFB-DF884EC58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43" name="Picture 12" descr="特許庁欧文ロゴ"/>
          <p:cNvPicPr/>
          <p:nvPr/>
        </p:nvPicPr>
        <p:blipFill>
          <a:blip r:embed="rId2"/>
          <a:stretch/>
        </p:blipFill>
        <p:spPr>
          <a:xfrm>
            <a:off x="8193240" y="0"/>
            <a:ext cx="1612800" cy="601560"/>
          </a:xfrm>
          <a:prstGeom prst="rect">
            <a:avLst/>
          </a:prstGeom>
          <a:ln w="0">
            <a:noFill/>
          </a:ln>
        </p:spPr>
      </p:pic>
      <p:sp>
        <p:nvSpPr>
          <p:cNvPr id="28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45" name="PlaceHolder 2"/>
          <p:cNvSpPr>
            <a:spLocks noGrp="1"/>
          </p:cNvSpPr>
          <p:nvPr>
            <p:ph type="sldNum" idx="7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A44E-754A-41C9-A8F8-B4BED542E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83" name="Picture 12" descr="特許庁欧文ロゴ"/>
          <p:cNvPicPr/>
          <p:nvPr/>
        </p:nvPicPr>
        <p:blipFill>
          <a:blip r:embed="rId2"/>
          <a:stretch/>
        </p:blipFill>
        <p:spPr>
          <a:xfrm>
            <a:off x="8193240" y="0"/>
            <a:ext cx="1612800" cy="601560"/>
          </a:xfrm>
          <a:prstGeom prst="rect">
            <a:avLst/>
          </a:prstGeom>
          <a:ln w="0">
            <a:noFill/>
          </a:ln>
        </p:spPr>
      </p:pic>
      <p:sp>
        <p:nvSpPr>
          <p:cNvPr id="28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85" name="PlaceHolder 2"/>
          <p:cNvSpPr>
            <a:spLocks noGrp="1"/>
          </p:cNvSpPr>
          <p:nvPr>
            <p:ph type="sldNum" idx="8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6927-26C4-47C1-9923-454CF6A89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23" name="Picture 12" descr="特許庁欧文ロゴ"/>
          <p:cNvPicPr/>
          <p:nvPr/>
        </p:nvPicPr>
        <p:blipFill>
          <a:blip r:embed="rId2"/>
          <a:stretch/>
        </p:blipFill>
        <p:spPr>
          <a:xfrm>
            <a:off x="8193240" y="0"/>
            <a:ext cx="1612800" cy="601560"/>
          </a:xfrm>
          <a:prstGeom prst="rect">
            <a:avLst/>
          </a:prstGeom>
          <a:ln w="0">
            <a:noFill/>
          </a:ln>
        </p:spPr>
      </p:pic>
      <p:sp>
        <p:nvSpPr>
          <p:cNvPr id="29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25" name="PlaceHolder 2"/>
          <p:cNvSpPr>
            <a:spLocks noGrp="1"/>
          </p:cNvSpPr>
          <p:nvPr>
            <p:ph type="sldNum" idx="8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9AC7-F3E6-4ECA-96F9-93B093ACE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3" name="Picture 12" descr="特許庁欧文ロゴ"/>
          <p:cNvPicPr/>
          <p:nvPr/>
        </p:nvPicPr>
        <p:blipFill>
          <a:blip r:embed="rId2"/>
          <a:stretch/>
        </p:blipFill>
        <p:spPr>
          <a:xfrm>
            <a:off x="8193240" y="0"/>
            <a:ext cx="1612800" cy="601560"/>
          </a:xfrm>
          <a:prstGeom prst="rect">
            <a:avLst/>
          </a:prstGeom>
          <a:ln w="0">
            <a:noFill/>
          </a:ln>
        </p:spPr>
      </p:pic>
      <p:sp>
        <p:nvSpPr>
          <p:cNvPr id="29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65" name="PlaceHolder 2"/>
          <p:cNvSpPr>
            <a:spLocks noGrp="1"/>
          </p:cNvSpPr>
          <p:nvPr>
            <p:ph type="sldNum" idx="8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FDF7-BF09-4224-BC67-A06F75CED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03" name="Picture 12" descr="特許庁欧文ロゴ"/>
          <p:cNvPicPr/>
          <p:nvPr/>
        </p:nvPicPr>
        <p:blipFill>
          <a:blip r:embed="rId2"/>
          <a:stretch/>
        </p:blipFill>
        <p:spPr>
          <a:xfrm>
            <a:off x="8193240" y="0"/>
            <a:ext cx="1612800" cy="601560"/>
          </a:xfrm>
          <a:prstGeom prst="rect">
            <a:avLst/>
          </a:prstGeom>
          <a:ln w="0">
            <a:noFill/>
          </a:ln>
        </p:spPr>
      </p:pic>
      <p:sp>
        <p:nvSpPr>
          <p:cNvPr id="30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05" name="PlaceHolder 2"/>
          <p:cNvSpPr>
            <a:spLocks noGrp="1"/>
          </p:cNvSpPr>
          <p:nvPr>
            <p:ph type="sldNum" idx="8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9ED-89A5-43C8-AD52-42B41D2C1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43" name="Picture 12" descr="特許庁欧文ロゴ"/>
          <p:cNvPicPr/>
          <p:nvPr/>
        </p:nvPicPr>
        <p:blipFill>
          <a:blip r:embed="rId2"/>
          <a:stretch/>
        </p:blipFill>
        <p:spPr>
          <a:xfrm>
            <a:off x="8193240" y="0"/>
            <a:ext cx="1612800" cy="601560"/>
          </a:xfrm>
          <a:prstGeom prst="rect">
            <a:avLst/>
          </a:prstGeom>
          <a:ln w="0">
            <a:noFill/>
          </a:ln>
        </p:spPr>
      </p:pic>
      <p:sp>
        <p:nvSpPr>
          <p:cNvPr id="30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45" name="PlaceHolder 2"/>
          <p:cNvSpPr>
            <a:spLocks noGrp="1"/>
          </p:cNvSpPr>
          <p:nvPr>
            <p:ph type="sldNum" idx="8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40A9-95AA-4944-81CA-3B2977332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83" name="Picture 12" descr="特許庁欧文ロゴ"/>
          <p:cNvPicPr/>
          <p:nvPr/>
        </p:nvPicPr>
        <p:blipFill>
          <a:blip r:embed="rId2"/>
          <a:stretch/>
        </p:blipFill>
        <p:spPr>
          <a:xfrm>
            <a:off x="8193240" y="0"/>
            <a:ext cx="1612800" cy="601560"/>
          </a:xfrm>
          <a:prstGeom prst="rect">
            <a:avLst/>
          </a:prstGeom>
          <a:ln w="0">
            <a:noFill/>
          </a:ln>
        </p:spPr>
      </p:pic>
      <p:sp>
        <p:nvSpPr>
          <p:cNvPr id="30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85" name="PlaceHolder 2"/>
          <p:cNvSpPr>
            <a:spLocks noGrp="1"/>
          </p:cNvSpPr>
          <p:nvPr>
            <p:ph type="sldNum" idx="8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E161-B0DB-45EC-99B5-F8544D5F2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5" name="Picture 12" descr="特許庁欧文ロゴ"/>
          <p:cNvPicPr/>
          <p:nvPr/>
        </p:nvPicPr>
        <p:blipFill>
          <a:blip r:embed="rId2"/>
          <a:stretch/>
        </p:blipFill>
        <p:spPr>
          <a:xfrm>
            <a:off x="8193240" y="0"/>
            <a:ext cx="1612800" cy="601560"/>
          </a:xfrm>
          <a:prstGeom prst="rect">
            <a:avLst/>
          </a:prstGeom>
          <a:ln w="0">
            <a:noFill/>
          </a:ln>
        </p:spPr>
      </p:pic>
      <p:sp>
        <p:nvSpPr>
          <p:cNvPr id="2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7" name="PlaceHolder 2"/>
          <p:cNvSpPr>
            <a:spLocks noGrp="1"/>
          </p:cNvSpPr>
          <p:nvPr>
            <p:ph type="sldNum" idx="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11B4-0317-4C09-A972-BFE2D39C8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3" name="Picture 12" descr="特許庁欧文ロゴ"/>
          <p:cNvPicPr/>
          <p:nvPr/>
        </p:nvPicPr>
        <p:blipFill>
          <a:blip r:embed="rId2"/>
          <a:stretch/>
        </p:blipFill>
        <p:spPr>
          <a:xfrm>
            <a:off x="8193240" y="0"/>
            <a:ext cx="1612800" cy="601560"/>
          </a:xfrm>
          <a:prstGeom prst="rect">
            <a:avLst/>
          </a:prstGeom>
          <a:ln w="0">
            <a:noFill/>
          </a:ln>
        </p:spPr>
      </p:pic>
      <p:sp>
        <p:nvSpPr>
          <p:cNvPr id="31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25" name="PlaceHolder 2"/>
          <p:cNvSpPr>
            <a:spLocks noGrp="1"/>
          </p:cNvSpPr>
          <p:nvPr>
            <p:ph type="sldNum" idx="8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9D35-D965-4CFB-85D0-F3FF65B89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63" name="Picture 12" descr="特許庁欧文ロゴ"/>
          <p:cNvPicPr/>
          <p:nvPr/>
        </p:nvPicPr>
        <p:blipFill>
          <a:blip r:embed="rId2"/>
          <a:stretch/>
        </p:blipFill>
        <p:spPr>
          <a:xfrm>
            <a:off x="8193240" y="0"/>
            <a:ext cx="1612800" cy="601560"/>
          </a:xfrm>
          <a:prstGeom prst="rect">
            <a:avLst/>
          </a:prstGeom>
          <a:ln w="0">
            <a:noFill/>
          </a:ln>
        </p:spPr>
      </p:pic>
      <p:sp>
        <p:nvSpPr>
          <p:cNvPr id="31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65" name="PlaceHolder 2"/>
          <p:cNvSpPr>
            <a:spLocks noGrp="1"/>
          </p:cNvSpPr>
          <p:nvPr>
            <p:ph type="sldNum" idx="8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39C3-CD22-4D22-9CDC-028F1EBAF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03" name="Picture 12" descr="特許庁欧文ロゴ"/>
          <p:cNvPicPr/>
          <p:nvPr/>
        </p:nvPicPr>
        <p:blipFill>
          <a:blip r:embed="rId2"/>
          <a:stretch/>
        </p:blipFill>
        <p:spPr>
          <a:xfrm>
            <a:off x="8193240" y="0"/>
            <a:ext cx="1612800" cy="601560"/>
          </a:xfrm>
          <a:prstGeom prst="rect">
            <a:avLst/>
          </a:prstGeom>
          <a:ln w="0">
            <a:noFill/>
          </a:ln>
        </p:spPr>
      </p:pic>
      <p:sp>
        <p:nvSpPr>
          <p:cNvPr id="32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05" name="PlaceHolder 2"/>
          <p:cNvSpPr>
            <a:spLocks noGrp="1"/>
          </p:cNvSpPr>
          <p:nvPr>
            <p:ph type="sldNum" idx="8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3E51-C742-431F-9241-C6AA7002F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43" name="Picture 12" descr="特許庁欧文ロゴ"/>
          <p:cNvPicPr/>
          <p:nvPr/>
        </p:nvPicPr>
        <p:blipFill>
          <a:blip r:embed="rId2"/>
          <a:stretch/>
        </p:blipFill>
        <p:spPr>
          <a:xfrm>
            <a:off x="8193240" y="0"/>
            <a:ext cx="1612800" cy="601560"/>
          </a:xfrm>
          <a:prstGeom prst="rect">
            <a:avLst/>
          </a:prstGeom>
          <a:ln w="0">
            <a:noFill/>
          </a:ln>
        </p:spPr>
      </p:pic>
      <p:sp>
        <p:nvSpPr>
          <p:cNvPr id="32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45" name="PlaceHolder 2"/>
          <p:cNvSpPr>
            <a:spLocks noGrp="1"/>
          </p:cNvSpPr>
          <p:nvPr>
            <p:ph type="sldNum" idx="8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C8AA-1959-4A8C-8669-2C549B950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3" name="Picture 12" descr="特許庁欧文ロゴ"/>
          <p:cNvPicPr/>
          <p:nvPr/>
        </p:nvPicPr>
        <p:blipFill>
          <a:blip r:embed="rId2"/>
          <a:stretch/>
        </p:blipFill>
        <p:spPr>
          <a:xfrm>
            <a:off x="8193240" y="0"/>
            <a:ext cx="1612800" cy="601560"/>
          </a:xfrm>
          <a:prstGeom prst="rect">
            <a:avLst/>
          </a:prstGeom>
          <a:ln w="0">
            <a:noFill/>
          </a:ln>
        </p:spPr>
      </p:pic>
      <p:sp>
        <p:nvSpPr>
          <p:cNvPr id="32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85" name="PlaceHolder 2"/>
          <p:cNvSpPr>
            <a:spLocks noGrp="1"/>
          </p:cNvSpPr>
          <p:nvPr>
            <p:ph type="sldNum" idx="9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0564-972D-4CD7-A5C2-D5E9DE324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23" name="Picture 12" descr="特許庁欧文ロゴ"/>
          <p:cNvPicPr/>
          <p:nvPr/>
        </p:nvPicPr>
        <p:blipFill>
          <a:blip r:embed="rId2"/>
          <a:stretch/>
        </p:blipFill>
        <p:spPr>
          <a:xfrm>
            <a:off x="8193240" y="0"/>
            <a:ext cx="1612800" cy="601560"/>
          </a:xfrm>
          <a:prstGeom prst="rect">
            <a:avLst/>
          </a:prstGeom>
          <a:ln w="0">
            <a:noFill/>
          </a:ln>
        </p:spPr>
      </p:pic>
      <p:sp>
        <p:nvSpPr>
          <p:cNvPr id="33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25" name="PlaceHolder 2"/>
          <p:cNvSpPr>
            <a:spLocks noGrp="1"/>
          </p:cNvSpPr>
          <p:nvPr>
            <p:ph type="sldNum" idx="9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A3AE-463C-45B8-9238-7FC5AEC3A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63" name="Picture 12" descr="特許庁欧文ロゴ"/>
          <p:cNvPicPr/>
          <p:nvPr/>
        </p:nvPicPr>
        <p:blipFill>
          <a:blip r:embed="rId2"/>
          <a:stretch/>
        </p:blipFill>
        <p:spPr>
          <a:xfrm>
            <a:off x="8193240" y="0"/>
            <a:ext cx="1612800" cy="601560"/>
          </a:xfrm>
          <a:prstGeom prst="rect">
            <a:avLst/>
          </a:prstGeom>
          <a:ln w="0">
            <a:noFill/>
          </a:ln>
        </p:spPr>
      </p:pic>
      <p:sp>
        <p:nvSpPr>
          <p:cNvPr id="33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65" name="PlaceHolder 2"/>
          <p:cNvSpPr>
            <a:spLocks noGrp="1"/>
          </p:cNvSpPr>
          <p:nvPr>
            <p:ph type="sldNum" idx="9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491C-A65A-4069-9D00-E67B49AB5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03" name="Picture 12" descr="特許庁欧文ロゴ"/>
          <p:cNvPicPr/>
          <p:nvPr/>
        </p:nvPicPr>
        <p:blipFill>
          <a:blip r:embed="rId2"/>
          <a:stretch/>
        </p:blipFill>
        <p:spPr>
          <a:xfrm>
            <a:off x="8193240" y="0"/>
            <a:ext cx="1612800" cy="601560"/>
          </a:xfrm>
          <a:prstGeom prst="rect">
            <a:avLst/>
          </a:prstGeom>
          <a:ln w="0">
            <a:noFill/>
          </a:ln>
        </p:spPr>
      </p:pic>
      <p:sp>
        <p:nvSpPr>
          <p:cNvPr id="34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05" name="PlaceHolder 2"/>
          <p:cNvSpPr>
            <a:spLocks noGrp="1"/>
          </p:cNvSpPr>
          <p:nvPr>
            <p:ph type="sldNum" idx="9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6DF8-FA0F-4691-8B49-2074C3605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43" name="Picture 12" descr="特許庁欧文ロゴ"/>
          <p:cNvPicPr/>
          <p:nvPr/>
        </p:nvPicPr>
        <p:blipFill>
          <a:blip r:embed="rId2"/>
          <a:stretch/>
        </p:blipFill>
        <p:spPr>
          <a:xfrm>
            <a:off x="8193240" y="0"/>
            <a:ext cx="1612800" cy="601560"/>
          </a:xfrm>
          <a:prstGeom prst="rect">
            <a:avLst/>
          </a:prstGeom>
          <a:ln w="0">
            <a:noFill/>
          </a:ln>
        </p:spPr>
      </p:pic>
      <p:sp>
        <p:nvSpPr>
          <p:cNvPr id="34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45" name="PlaceHolder 2"/>
          <p:cNvSpPr>
            <a:spLocks noGrp="1"/>
          </p:cNvSpPr>
          <p:nvPr>
            <p:ph type="sldNum" idx="9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04FD-EE2B-4374-98CD-747761D8B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3" name="Picture 12" descr="特許庁欧文ロゴ"/>
          <p:cNvPicPr/>
          <p:nvPr/>
        </p:nvPicPr>
        <p:blipFill>
          <a:blip r:embed="rId2"/>
          <a:stretch/>
        </p:blipFill>
        <p:spPr>
          <a:xfrm>
            <a:off x="8193240" y="0"/>
            <a:ext cx="1612800" cy="601560"/>
          </a:xfrm>
          <a:prstGeom prst="rect">
            <a:avLst/>
          </a:prstGeom>
          <a:ln w="0">
            <a:noFill/>
          </a:ln>
        </p:spPr>
      </p:pic>
      <p:sp>
        <p:nvSpPr>
          <p:cNvPr id="34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85" name="PlaceHolder 2"/>
          <p:cNvSpPr>
            <a:spLocks noGrp="1"/>
          </p:cNvSpPr>
          <p:nvPr>
            <p:ph type="sldNum" idx="9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8B8D-D759-4593-A3C9-95E543A6D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5" name="Picture 12" descr="特許庁欧文ロゴ"/>
          <p:cNvPicPr/>
          <p:nvPr/>
        </p:nvPicPr>
        <p:blipFill>
          <a:blip r:embed="rId2"/>
          <a:stretch/>
        </p:blipFill>
        <p:spPr>
          <a:xfrm>
            <a:off x="8193240" y="0"/>
            <a:ext cx="1612800" cy="601560"/>
          </a:xfrm>
          <a:prstGeom prst="rect">
            <a:avLst/>
          </a:prstGeom>
          <a:ln w="0">
            <a:noFill/>
          </a:ln>
        </p:spPr>
      </p:pic>
      <p:sp>
        <p:nvSpPr>
          <p:cNvPr id="3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7" name="PlaceHolder 2"/>
          <p:cNvSpPr>
            <a:spLocks noGrp="1"/>
          </p:cNvSpPr>
          <p:nvPr>
            <p:ph type="sldNum" idx="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AFF6-9918-4BDE-9168-192931882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841.xml"/>
</Relationships>
</file>

<file path=ppt/slides/_rels/slide6.xml.rels><?xml version="1.0" encoding="UTF-8"?>
<Relationships xmlns="http://schemas.openxmlformats.org/package/2006/relationships"><Relationship Id="rId1" Type="http://schemas.openxmlformats.org/officeDocument/2006/relationships/hyperlink" Target="http://www.jpo.go.jp/ppph-portal/" TargetMode="External"/><Relationship Id="rId2" Type="http://schemas.openxmlformats.org/officeDocument/2006/relationships/hyperlink" Target="http://www.jpo.go.jp/ppph-portal/"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9" name="Picture 2" descr=""/>
          <p:cNvPicPr/>
          <p:nvPr/>
        </p:nvPicPr>
        <p:blipFill>
          <a:blip r:embed="rId1"/>
          <a:stretch/>
        </p:blipFill>
        <p:spPr>
          <a:xfrm>
            <a:off x="193680" y="620640"/>
            <a:ext cx="9298080" cy="5627880"/>
          </a:xfrm>
          <a:prstGeom prst="rect">
            <a:avLst/>
          </a:prstGeom>
          <a:ln w="0">
            <a:noFill/>
          </a:ln>
        </p:spPr>
      </p:pic>
      <p:sp>
        <p:nvSpPr>
          <p:cNvPr id="3530" name="Text Box 3"/>
          <p:cNvSpPr/>
          <p:nvPr/>
        </p:nvSpPr>
        <p:spPr>
          <a:xfrm>
            <a:off x="0" y="2276640"/>
            <a:ext cx="990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Patent Prosecution Highway(PPH)</a:t>
            </a:r>
            <a:endParaRPr b="0" lang="en-US" sz="4400" spc="-1" strike="noStrike">
              <a:solidFill>
                <a:srgbClr val="000000"/>
              </a:solidFill>
              <a:latin typeface="Arial"/>
            </a:endParaRPr>
          </a:p>
        </p:txBody>
      </p:sp>
      <p:sp>
        <p:nvSpPr>
          <p:cNvPr id="3531" name="Rectangle 4"/>
          <p:cNvSpPr/>
          <p:nvPr/>
        </p:nvSpPr>
        <p:spPr>
          <a:xfrm>
            <a:off x="1568520" y="5950080"/>
            <a:ext cx="693396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apan Patent Off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The Scheme of Patent Prosecution Highway</a:t>
            </a:r>
            <a:endParaRPr b="1" lang="en-US" sz="2400" spc="-1" strike="noStrike">
              <a:solidFill>
                <a:srgbClr val="3333ff"/>
              </a:solidFill>
              <a:latin typeface="Calibri"/>
            </a:endParaRPr>
          </a:p>
        </p:txBody>
      </p:sp>
      <p:sp>
        <p:nvSpPr>
          <p:cNvPr id="3533"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826D-F6FE-424F-82D2-C7DDCAA15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Rectangle 105"/>
          <p:cNvSpPr/>
          <p:nvPr/>
        </p:nvSpPr>
        <p:spPr>
          <a:xfrm>
            <a:off x="233280" y="4076640"/>
            <a:ext cx="7167600" cy="2665440"/>
          </a:xfrm>
          <a:prstGeom prst="rect">
            <a:avLst/>
          </a:prstGeom>
          <a:solidFill>
            <a:srgbClr val="ffe7e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5" name="Rectangle 54"/>
          <p:cNvSpPr/>
          <p:nvPr/>
        </p:nvSpPr>
        <p:spPr>
          <a:xfrm>
            <a:off x="272880" y="1960560"/>
            <a:ext cx="4824720" cy="2116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6" name="AutoShape 3"/>
          <p:cNvSpPr/>
          <p:nvPr/>
        </p:nvSpPr>
        <p:spPr>
          <a:xfrm>
            <a:off x="200160" y="765000"/>
            <a:ext cx="9483480" cy="936720"/>
          </a:xfrm>
          <a:prstGeom prst="roundRect">
            <a:avLst>
              <a:gd name="adj" fmla="val 9301"/>
            </a:avLst>
          </a:prstGeom>
          <a:solidFill>
            <a:srgbClr val="ffffcc"/>
          </a:solidFill>
          <a:ln w="1908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PPH</a:t>
            </a:r>
            <a:r>
              <a:rPr b="0" lang="en-US" sz="1800" spc="-1" strike="noStrike">
                <a:solidFill>
                  <a:srgbClr val="000000"/>
                </a:solidFill>
                <a:latin typeface="Calibri"/>
              </a:rPr>
              <a:t> is a framework in which an application determined to be patentable in the Office of Earlier Examination is eligible to have </a:t>
            </a:r>
            <a:r>
              <a:rPr b="1" i="1" lang="en-US" sz="1800" spc="-1" strike="noStrike" u="sng">
                <a:solidFill>
                  <a:srgbClr val="ff0000"/>
                </a:solidFill>
                <a:uFillTx/>
                <a:latin typeface="Calibri"/>
              </a:rPr>
              <a:t>an accelerated examination</a:t>
            </a:r>
            <a:r>
              <a:rPr b="0" lang="en-US" sz="1800" spc="-1" strike="noStrike">
                <a:solidFill>
                  <a:srgbClr val="000000"/>
                </a:solidFill>
                <a:latin typeface="Calibri"/>
              </a:rPr>
              <a:t> in the Office of Later Examination with a simple procedure upon an applicant’s request</a:t>
            </a:r>
            <a:endParaRPr b="0" lang="en-US" sz="1800" spc="-1" strike="noStrike">
              <a:solidFill>
                <a:srgbClr val="000000"/>
              </a:solidFill>
              <a:latin typeface="Arial"/>
            </a:endParaRPr>
          </a:p>
        </p:txBody>
      </p:sp>
      <p:sp>
        <p:nvSpPr>
          <p:cNvPr id="3537" name="Rectangle 57"/>
          <p:cNvSpPr/>
          <p:nvPr/>
        </p:nvSpPr>
        <p:spPr>
          <a:xfrm>
            <a:off x="1041480" y="2649600"/>
            <a:ext cx="90792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8" name="Rectangle 59"/>
          <p:cNvSpPr/>
          <p:nvPr/>
        </p:nvSpPr>
        <p:spPr>
          <a:xfrm>
            <a:off x="2349360" y="5605560"/>
            <a:ext cx="97344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spon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9" name="Rectangle 60"/>
          <p:cNvSpPr/>
          <p:nvPr/>
        </p:nvSpPr>
        <p:spPr>
          <a:xfrm>
            <a:off x="3801960" y="2652840"/>
            <a:ext cx="90828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t</a:t>
            </a:r>
            <a:endParaRPr b="0" lang="en-US" sz="2000" spc="-1" strike="noStrike">
              <a:solidFill>
                <a:srgbClr val="000000"/>
              </a:solidFill>
              <a:latin typeface="Arial"/>
            </a:endParaRPr>
          </a:p>
        </p:txBody>
      </p:sp>
      <p:pic>
        <p:nvPicPr>
          <p:cNvPr id="3540" name="Picture 62" descr="MP900398849[1]"/>
          <p:cNvPicPr/>
          <p:nvPr/>
        </p:nvPicPr>
        <p:blipFill>
          <a:blip r:embed="rId1"/>
          <a:srcRect l="16867" t="6974" r="3293" b="15298"/>
          <a:stretch/>
        </p:blipFill>
        <p:spPr>
          <a:xfrm>
            <a:off x="3819600" y="2682720"/>
            <a:ext cx="465120" cy="324000"/>
          </a:xfrm>
          <a:prstGeom prst="rect">
            <a:avLst/>
          </a:prstGeom>
          <a:ln w="0">
            <a:noFill/>
          </a:ln>
        </p:spPr>
      </p:pic>
      <p:sp>
        <p:nvSpPr>
          <p:cNvPr id="3541" name="AutoShape 66"/>
          <p:cNvSpPr/>
          <p:nvPr/>
        </p:nvSpPr>
        <p:spPr>
          <a:xfrm>
            <a:off x="2073240" y="3062160"/>
            <a:ext cx="1657440" cy="233640"/>
          </a:xfrm>
          <a:prstGeom prst="rightArrow">
            <a:avLst>
              <a:gd name="adj1" fmla="val 51019"/>
              <a:gd name="adj2" fmla="val 101254"/>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2" name="Rectangle 67"/>
          <p:cNvSpPr/>
          <p:nvPr/>
        </p:nvSpPr>
        <p:spPr>
          <a:xfrm>
            <a:off x="5581800" y="5597640"/>
            <a:ext cx="1665000" cy="10317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Accelera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Examination</a:t>
            </a:r>
            <a:endParaRPr b="0" lang="en-US" sz="2000" spc="-1" strike="noStrike">
              <a:solidFill>
                <a:srgbClr val="000000"/>
              </a:solidFill>
              <a:latin typeface="Arial"/>
            </a:endParaRPr>
          </a:p>
        </p:txBody>
      </p:sp>
      <p:sp>
        <p:nvSpPr>
          <p:cNvPr id="3543" name="AutoShape 68"/>
          <p:cNvSpPr/>
          <p:nvPr/>
        </p:nvSpPr>
        <p:spPr>
          <a:xfrm>
            <a:off x="5097600" y="5994360"/>
            <a:ext cx="398160" cy="233280"/>
          </a:xfrm>
          <a:prstGeom prst="rightArrow">
            <a:avLst>
              <a:gd name="adj1" fmla="val 50000"/>
              <a:gd name="adj2" fmla="val 42670"/>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4" name="Line 69"/>
          <p:cNvSpPr/>
          <p:nvPr/>
        </p:nvSpPr>
        <p:spPr>
          <a:xfrm>
            <a:off x="1488960" y="3683160"/>
            <a:ext cx="0" cy="2438280"/>
          </a:xfrm>
          <a:prstGeom prst="line">
            <a:avLst/>
          </a:prstGeom>
          <a:ln w="76320">
            <a:solidFill>
              <a:srgbClr val="ff7c80"/>
            </a:solidFill>
            <a:prstDash val="sysDot"/>
            <a:miter/>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5" name="Line 70"/>
          <p:cNvSpPr/>
          <p:nvPr/>
        </p:nvSpPr>
        <p:spPr>
          <a:xfrm flipH="1">
            <a:off x="1453680" y="6121440"/>
            <a:ext cx="895320" cy="0"/>
          </a:xfrm>
          <a:prstGeom prst="line">
            <a:avLst/>
          </a:prstGeom>
          <a:ln w="76320">
            <a:solidFill>
              <a:srgbClr val="ff7c80"/>
            </a:solidFill>
            <a:prstDash val="sysDot"/>
            <a:miter/>
            <a:headEnd len="med" type="triangle" w="med"/>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6" name="AutoShape 81"/>
          <p:cNvSpPr/>
          <p:nvPr/>
        </p:nvSpPr>
        <p:spPr>
          <a:xfrm>
            <a:off x="369720" y="2058840"/>
            <a:ext cx="3071880" cy="322560"/>
          </a:xfrm>
          <a:prstGeom prst="roundRect">
            <a:avLst>
              <a:gd name="adj" fmla="val 16667"/>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EE (Office of Earlier Examination)</a:t>
            </a:r>
            <a:endParaRPr b="0" lang="en-US" sz="1600" spc="-1" strike="noStrike">
              <a:solidFill>
                <a:srgbClr val="000000"/>
              </a:solidFill>
              <a:latin typeface="Arial"/>
            </a:endParaRPr>
          </a:p>
        </p:txBody>
      </p:sp>
      <p:sp>
        <p:nvSpPr>
          <p:cNvPr id="3547" name="AutoShape 82"/>
          <p:cNvSpPr/>
          <p:nvPr/>
        </p:nvSpPr>
        <p:spPr>
          <a:xfrm>
            <a:off x="369720" y="4362480"/>
            <a:ext cx="3002040" cy="31572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LE (Office of Later Examination)</a:t>
            </a:r>
            <a:endParaRPr b="0" lang="en-US" sz="1600" spc="-1" strike="noStrike">
              <a:solidFill>
                <a:srgbClr val="000000"/>
              </a:solidFill>
              <a:latin typeface="Arial"/>
            </a:endParaRPr>
          </a:p>
        </p:txBody>
      </p:sp>
      <p:pic>
        <p:nvPicPr>
          <p:cNvPr id="3548" name="Picture 83" descr="MC900434847[1]"/>
          <p:cNvPicPr/>
          <p:nvPr/>
        </p:nvPicPr>
        <p:blipFill>
          <a:blip r:embed="rId2"/>
          <a:stretch/>
        </p:blipFill>
        <p:spPr>
          <a:xfrm>
            <a:off x="73080" y="4108320"/>
            <a:ext cx="398520" cy="398520"/>
          </a:xfrm>
          <a:prstGeom prst="rect">
            <a:avLst/>
          </a:prstGeom>
          <a:ln w="0">
            <a:noFill/>
          </a:ln>
        </p:spPr>
      </p:pic>
      <p:pic>
        <p:nvPicPr>
          <p:cNvPr id="3549" name="Picture 84" descr="MC900434847[1]"/>
          <p:cNvPicPr/>
          <p:nvPr/>
        </p:nvPicPr>
        <p:blipFill>
          <a:blip r:embed="rId3"/>
          <a:stretch/>
        </p:blipFill>
        <p:spPr>
          <a:xfrm>
            <a:off x="73080" y="1822320"/>
            <a:ext cx="398520" cy="398520"/>
          </a:xfrm>
          <a:prstGeom prst="rect">
            <a:avLst/>
          </a:prstGeom>
          <a:ln w="0">
            <a:noFill/>
          </a:ln>
        </p:spPr>
      </p:pic>
      <p:sp>
        <p:nvSpPr>
          <p:cNvPr id="3550" name="AutoShape 55"/>
          <p:cNvSpPr/>
          <p:nvPr/>
        </p:nvSpPr>
        <p:spPr>
          <a:xfrm>
            <a:off x="7184880" y="4365720"/>
            <a:ext cx="2576520" cy="801720"/>
          </a:xfrm>
          <a:prstGeom prst="wedgeRectCallout">
            <a:avLst>
              <a:gd name="adj1" fmla="val -58689"/>
              <a:gd name="adj2" fmla="val 9666"/>
            </a:avLst>
          </a:prstGeom>
          <a:solidFill>
            <a:srgbClr val="ffff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LE examination burden can be lighten (fewer, limited scope of claim)</a:t>
            </a:r>
            <a:endParaRPr b="0" lang="en-US" sz="1600" spc="-1" strike="noStrike">
              <a:solidFill>
                <a:srgbClr val="000000"/>
              </a:solidFill>
              <a:latin typeface="Arial"/>
            </a:endParaRPr>
          </a:p>
        </p:txBody>
      </p:sp>
      <p:sp>
        <p:nvSpPr>
          <p:cNvPr id="3551" name="Text Box 56"/>
          <p:cNvSpPr/>
          <p:nvPr/>
        </p:nvSpPr>
        <p:spPr>
          <a:xfrm>
            <a:off x="7261560" y="40053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Work Sharing</a:t>
            </a:r>
            <a:endParaRPr b="0" lang="en-US" sz="2000" spc="-1" strike="noStrike">
              <a:solidFill>
                <a:srgbClr val="000000"/>
              </a:solidFill>
              <a:latin typeface="Arial"/>
            </a:endParaRPr>
          </a:p>
        </p:txBody>
      </p:sp>
      <p:sp>
        <p:nvSpPr>
          <p:cNvPr id="3552" name="AutoShape 85"/>
          <p:cNvSpPr/>
          <p:nvPr/>
        </p:nvSpPr>
        <p:spPr>
          <a:xfrm>
            <a:off x="7329600" y="6308640"/>
            <a:ext cx="151128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nt Merit</a:t>
            </a:r>
            <a:endParaRPr b="0" lang="en-US" sz="1600" spc="-1" strike="noStrike">
              <a:solidFill>
                <a:srgbClr val="000000"/>
              </a:solidFill>
              <a:latin typeface="Arial"/>
            </a:endParaRPr>
          </a:p>
        </p:txBody>
      </p:sp>
      <p:sp>
        <p:nvSpPr>
          <p:cNvPr id="3553" name="AutoShape 72"/>
          <p:cNvSpPr/>
          <p:nvPr/>
        </p:nvSpPr>
        <p:spPr>
          <a:xfrm>
            <a:off x="4118040" y="5607000"/>
            <a:ext cx="907920" cy="1031760"/>
          </a:xfrm>
          <a:prstGeom prst="foldedCorner">
            <a:avLst>
              <a:gd name="adj" fmla="val 12500"/>
            </a:avLst>
          </a:prstGeom>
          <a:solidFill>
            <a:srgbClr val="ff6565"/>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P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quest</a:t>
            </a:r>
            <a:endParaRPr b="0" lang="en-US" sz="1600" spc="-1" strike="noStrike">
              <a:solidFill>
                <a:srgbClr val="000000"/>
              </a:solidFill>
              <a:latin typeface="Arial"/>
            </a:endParaRPr>
          </a:p>
        </p:txBody>
      </p:sp>
      <p:sp>
        <p:nvSpPr>
          <p:cNvPr id="3554" name="AutoShape 73"/>
          <p:cNvSpPr/>
          <p:nvPr/>
        </p:nvSpPr>
        <p:spPr>
          <a:xfrm>
            <a:off x="3348000" y="6004080"/>
            <a:ext cx="741240" cy="233280"/>
          </a:xfrm>
          <a:prstGeom prst="rightArrow">
            <a:avLst>
              <a:gd name="adj1" fmla="val 50000"/>
              <a:gd name="adj2" fmla="val 79437"/>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5" name="AutoShape 77"/>
          <p:cNvSpPr/>
          <p:nvPr/>
        </p:nvSpPr>
        <p:spPr>
          <a:xfrm>
            <a:off x="4502160" y="4016520"/>
            <a:ext cx="2563920" cy="404640"/>
          </a:xfrm>
          <a:prstGeom prst="wedgeRectCallout">
            <a:avLst>
              <a:gd name="adj1" fmla="val -54023"/>
              <a:gd name="adj2" fmla="val 77842"/>
            </a:avLst>
          </a:prstGeom>
          <a:solidFill>
            <a:srgbClr val="ffffff"/>
          </a:solidFill>
          <a:ln w="38160">
            <a:solidFill>
              <a:srgbClr val="ff5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laims correspondence</a:t>
            </a:r>
            <a:endParaRPr b="0" lang="en-US" sz="1800" spc="-1" strike="noStrike">
              <a:solidFill>
                <a:srgbClr val="000000"/>
              </a:solidFill>
              <a:latin typeface="Arial"/>
            </a:endParaRPr>
          </a:p>
        </p:txBody>
      </p:sp>
      <p:sp>
        <p:nvSpPr>
          <p:cNvPr id="3556" name="AutoShape 79"/>
          <p:cNvSpPr/>
          <p:nvPr/>
        </p:nvSpPr>
        <p:spPr>
          <a:xfrm rot="5400000">
            <a:off x="3427200" y="4566960"/>
            <a:ext cx="1655640" cy="331920"/>
          </a:xfrm>
          <a:custGeom>
            <a:avLst/>
            <a:gdLst>
              <a:gd name="textAreaLeft" fmla="*/ 258480 w 1655640"/>
              <a:gd name="textAreaRight" fmla="*/ 1526040 w 1655640"/>
              <a:gd name="textAreaTop" fmla="*/ 77760 h 331920"/>
              <a:gd name="textAreaBottom" fmla="*/ 254160 h 331920"/>
            </a:gdLst>
            <a:ahLst/>
            <a:rect l="textAreaLeft" t="textAreaTop" r="textAreaRight" b="textAreaBottom"/>
            <a:pathLst>
              <a:path w="21600" h="21600">
                <a:moveTo>
                  <a:pt x="18410" y="0"/>
                </a:moveTo>
                <a:lnTo>
                  <a:pt x="18410" y="5064"/>
                </a:lnTo>
                <a:lnTo>
                  <a:pt x="3375" y="5064"/>
                </a:lnTo>
                <a:lnTo>
                  <a:pt x="3375" y="16536"/>
                </a:lnTo>
                <a:lnTo>
                  <a:pt x="18410" y="16536"/>
                </a:lnTo>
                <a:lnTo>
                  <a:pt x="18410" y="21600"/>
                </a:lnTo>
                <a:lnTo>
                  <a:pt x="21600" y="10800"/>
                </a:lnTo>
                <a:lnTo>
                  <a:pt x="18410" y="0"/>
                </a:lnTo>
                <a:close/>
              </a:path>
              <a:path w="21600" h="21600">
                <a:moveTo>
                  <a:pt x="1350" y="5064"/>
                </a:moveTo>
                <a:lnTo>
                  <a:pt x="1350" y="16536"/>
                </a:lnTo>
                <a:lnTo>
                  <a:pt x="2700" y="16536"/>
                </a:lnTo>
                <a:lnTo>
                  <a:pt x="2700" y="5064"/>
                </a:lnTo>
                <a:lnTo>
                  <a:pt x="1350" y="5064"/>
                </a:lnTo>
                <a:close/>
              </a:path>
              <a:path w="21600" h="21600">
                <a:moveTo>
                  <a:pt x="0" y="5064"/>
                </a:moveTo>
                <a:lnTo>
                  <a:pt x="0" y="16536"/>
                </a:lnTo>
                <a:lnTo>
                  <a:pt x="675" y="16536"/>
                </a:lnTo>
                <a:lnTo>
                  <a:pt x="675" y="5064"/>
                </a:lnTo>
                <a:lnTo>
                  <a:pt x="0" y="5064"/>
                </a:lnTo>
                <a:close/>
              </a:path>
            </a:pathLst>
          </a:custGeom>
          <a:solidFill>
            <a:srgbClr val="ff0000"/>
          </a:solidFill>
          <a:ln w="0">
            <a:noFill/>
          </a:ln>
        </p:spPr>
        <p:style>
          <a:lnRef idx="0"/>
          <a:fillRef idx="0"/>
          <a:effectRef idx="0"/>
          <a:fontRef idx="minor"/>
        </p:style>
        <p:txBody>
          <a:bodyPr wrap="none" lIns="90000" rIns="90000" tIns="46800" bIns="46800" anchor="t"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7" name="Text Box 87"/>
          <p:cNvSpPr/>
          <p:nvPr/>
        </p:nvSpPr>
        <p:spPr>
          <a:xfrm>
            <a:off x="4352400" y="457992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ＭＳ ゴシック"/>
              </a:rPr>
              <a:t>OEE Examination History</a:t>
            </a:r>
            <a:endParaRPr b="0" lang="en-US" sz="1800" spc="-1" strike="noStrike">
              <a:solidFill>
                <a:srgbClr val="000000"/>
              </a:solidFill>
              <a:latin typeface="Arial"/>
            </a:endParaRPr>
          </a:p>
        </p:txBody>
      </p:sp>
      <p:pic>
        <p:nvPicPr>
          <p:cNvPr id="3558" name="Picture 89" descr="MC900432599[1]"/>
          <p:cNvPicPr/>
          <p:nvPr/>
        </p:nvPicPr>
        <p:blipFill>
          <a:blip r:embed="rId4"/>
          <a:stretch/>
        </p:blipFill>
        <p:spPr>
          <a:xfrm>
            <a:off x="4133880" y="4554360"/>
            <a:ext cx="314280" cy="314640"/>
          </a:xfrm>
          <a:prstGeom prst="rect">
            <a:avLst/>
          </a:prstGeom>
          <a:ln w="0">
            <a:noFill/>
          </a:ln>
        </p:spPr>
      </p:pic>
      <p:pic>
        <p:nvPicPr>
          <p:cNvPr id="3559" name="Picture 106" descr="MC900432599[1]"/>
          <p:cNvPicPr/>
          <p:nvPr/>
        </p:nvPicPr>
        <p:blipFill>
          <a:blip r:embed="rId5"/>
          <a:stretch/>
        </p:blipFill>
        <p:spPr>
          <a:xfrm>
            <a:off x="4152960" y="4618080"/>
            <a:ext cx="314280" cy="314280"/>
          </a:xfrm>
          <a:prstGeom prst="rect">
            <a:avLst/>
          </a:prstGeom>
          <a:ln w="0">
            <a:noFill/>
          </a:ln>
        </p:spPr>
      </p:pic>
      <p:sp>
        <p:nvSpPr>
          <p:cNvPr id="3560" name="AutoShape 107"/>
          <p:cNvSpPr/>
          <p:nvPr/>
        </p:nvSpPr>
        <p:spPr>
          <a:xfrm>
            <a:off x="8215200" y="5200560"/>
            <a:ext cx="122724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 Merit</a:t>
            </a:r>
            <a:endParaRPr b="0" lang="en-US" sz="1600" spc="-1" strike="noStrike">
              <a:solidFill>
                <a:srgbClr val="000000"/>
              </a:solidFill>
              <a:latin typeface="Arial"/>
            </a:endParaRPr>
          </a:p>
        </p:txBody>
      </p:sp>
      <p:sp>
        <p:nvSpPr>
          <p:cNvPr id="3561" name="テキスト ボックス 1"/>
          <p:cNvSpPr/>
          <p:nvPr/>
        </p:nvSpPr>
        <p:spPr>
          <a:xfrm>
            <a:off x="5495760" y="2055960"/>
            <a:ext cx="4081680" cy="1554120"/>
          </a:xfrm>
          <a:prstGeom prst="rect">
            <a:avLst/>
          </a:prstGeom>
          <a:noFill/>
          <a:ln w="38160">
            <a:solidFill>
              <a:srgbClr val="7575d1">
                <a:alpha val="95000"/>
              </a:srgbClr>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JPO proposed the patent prosecution highway (PPH) and put it into action with the United States in 2006 for the first time in the world. Since then, the JPO has been working toward expanding the PPH network and enhancing the usability of this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2" name="Picture 13" descr=""/>
          <p:cNvPicPr/>
          <p:nvPr/>
        </p:nvPicPr>
        <p:blipFill>
          <a:blip r:embed="rId1"/>
          <a:stretch/>
        </p:blipFill>
        <p:spPr>
          <a:xfrm>
            <a:off x="5106960" y="2679840"/>
            <a:ext cx="3759120" cy="2117520"/>
          </a:xfrm>
          <a:prstGeom prst="rect">
            <a:avLst/>
          </a:prstGeom>
          <a:ln w="0">
            <a:noFill/>
          </a:ln>
        </p:spPr>
      </p:pic>
      <p:pic>
        <p:nvPicPr>
          <p:cNvPr id="3563" name="Picture 12" descr=""/>
          <p:cNvPicPr/>
          <p:nvPr/>
        </p:nvPicPr>
        <p:blipFill>
          <a:blip r:embed="rId2"/>
          <a:stretch/>
        </p:blipFill>
        <p:spPr>
          <a:xfrm>
            <a:off x="5100480" y="4765680"/>
            <a:ext cx="3757680" cy="2119320"/>
          </a:xfrm>
          <a:prstGeom prst="rect">
            <a:avLst/>
          </a:prstGeom>
          <a:ln w="0">
            <a:noFill/>
          </a:ln>
        </p:spPr>
      </p:pic>
      <p:pic>
        <p:nvPicPr>
          <p:cNvPr id="3564" name="Picture 11" descr=""/>
          <p:cNvPicPr/>
          <p:nvPr/>
        </p:nvPicPr>
        <p:blipFill>
          <a:blip r:embed="rId3"/>
          <a:stretch/>
        </p:blipFill>
        <p:spPr>
          <a:xfrm>
            <a:off x="5097600" y="655560"/>
            <a:ext cx="3751200" cy="2109960"/>
          </a:xfrm>
          <a:prstGeom prst="rect">
            <a:avLst/>
          </a:prstGeom>
          <a:ln w="0">
            <a:noFill/>
          </a:ln>
        </p:spPr>
      </p:pic>
      <p:sp>
        <p:nvSpPr>
          <p:cNvPr id="3565" name="AutoShape 3"/>
          <p:cNvSpPr/>
          <p:nvPr/>
        </p:nvSpPr>
        <p:spPr>
          <a:xfrm>
            <a:off x="366840" y="439560"/>
            <a:ext cx="4897440" cy="5653440"/>
          </a:xfrm>
          <a:custGeom>
            <a:avLst/>
            <a:gdLst>
              <a:gd name="textAreaLeft" fmla="*/ 233640 w 4897440"/>
              <a:gd name="textAreaRight" fmla="*/ 4663800 w 4897440"/>
              <a:gd name="textAreaTop" fmla="*/ 233640 h 5653440"/>
              <a:gd name="textAreaBottom" fmla="*/ 5419800 h 5653440"/>
            </a:gdLst>
            <a:ahLst/>
            <a:rect l="textAreaLeft" t="textAreaTop" r="textAreaRight" b="textAreaBottom"/>
            <a:pathLst>
              <a:path w="21600" h="24934">
                <a:moveTo>
                  <a:pt x="3523" y="0"/>
                </a:moveTo>
                <a:arcTo wR="3523" hR="3523" stAng="16200000" swAng="-5400000"/>
                <a:lnTo>
                  <a:pt x="0" y="21411"/>
                </a:lnTo>
                <a:arcTo wR="3523" hR="3523" stAng="10800000" swAng="-5400000"/>
                <a:lnTo>
                  <a:pt x="18077" y="24934"/>
                </a:lnTo>
                <a:arcTo wR="3523" hR="3523" stAng="5400000" swAng="-5400000"/>
                <a:lnTo>
                  <a:pt x="21600" y="3523"/>
                </a:lnTo>
                <a:arcTo wR="3523" hR="3523" stAng="0" swAng="-5400000"/>
                <a:close/>
              </a:path>
            </a:pathLst>
          </a:cu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1" lang="en-US" sz="2400" spc="-1" strike="noStrike" u="sng">
                <a:solidFill>
                  <a:srgbClr val="000000"/>
                </a:solidFill>
                <a:uFillTx/>
                <a:latin typeface="Calibri"/>
              </a:rPr>
              <a:t>High Speed</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pendency at the office of second filing (OSF)</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ditious examin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Cost</a:t>
            </a:r>
            <a:r>
              <a:rPr b="1" lang="ja-JP" sz="2400" spc="-1" strike="noStrike" u="sng">
                <a:solidFill>
                  <a:srgbClr val="000000"/>
                </a:solidFill>
                <a:uFillTx/>
                <a:latin typeface="Calibri"/>
              </a:rPr>
              <a:t> </a:t>
            </a:r>
            <a:r>
              <a:rPr b="1" lang="en-US" sz="2400" spc="-1" strike="noStrike" u="sng">
                <a:solidFill>
                  <a:srgbClr val="000000"/>
                </a:solidFill>
                <a:uFillTx/>
                <a:latin typeface="Calibri"/>
              </a:rPr>
              <a:t>Saving</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in Number of Office Action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High Quality</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grant rate at the OSF </a:t>
            </a:r>
            <a:br>
              <a:rPr sz="2400"/>
            </a:br>
            <a:r>
              <a:rPr b="0" lang="en-US" sz="2400" spc="-1" strike="noStrike">
                <a:solidFill>
                  <a:srgbClr val="000000"/>
                </a:solidFill>
                <a:latin typeface="Wingdings"/>
                <a:ea typeface="Wingdings"/>
              </a:rPr>
              <a:t></a:t>
            </a:r>
            <a:r>
              <a:rPr b="0" lang="en-US" sz="2400" spc="-1" strike="noStrike">
                <a:solidFill>
                  <a:srgbClr val="000000"/>
                </a:solidFill>
                <a:latin typeface="Calibri"/>
              </a:rPr>
              <a:t> High predictability of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ation results at the OSF</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6" name="Text Box 4"/>
          <p:cNvSpPr/>
          <p:nvPr/>
        </p:nvSpPr>
        <p:spPr>
          <a:xfrm>
            <a:off x="209520" y="115920"/>
            <a:ext cx="9401040" cy="436680"/>
          </a:xfrm>
          <a:prstGeom prst="rect">
            <a:avLst/>
          </a:prstGeom>
          <a:noFill/>
          <a:ln w="0">
            <a:noFill/>
          </a:ln>
        </p:spPr>
        <p:style>
          <a:lnRef idx="0"/>
          <a:fillRef idx="0"/>
          <a:effectRef idx="0"/>
          <a:fontRef idx="minor"/>
        </p:style>
        <p:txBody>
          <a:bodyPr anchor="ctr">
            <a:noAutofit/>
          </a:bodyPr>
          <a:p>
            <a:pPr>
              <a:lnSpc>
                <a:spcPct val="85000"/>
              </a:lnSpc>
              <a:spcBef>
                <a:spcPts val="550"/>
              </a:spcBef>
              <a:tabLst>
                <a:tab algn="l" pos="0"/>
                <a:tab algn="l" pos="2603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Merits of PPH: High Speed, Cost Saving, High Quality</a:t>
            </a:r>
            <a:endParaRPr b="0" lang="en-US" sz="2200" spc="-1" strike="noStrike">
              <a:solidFill>
                <a:srgbClr val="000000"/>
              </a:solidFill>
              <a:latin typeface="Arial"/>
            </a:endParaRPr>
          </a:p>
        </p:txBody>
      </p:sp>
      <p:sp>
        <p:nvSpPr>
          <p:cNvPr id="3567" name="スライド番号プレースホルダー 1"/>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3FCD-CE4B-48E4-9575-44C2F40CE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8" name="AutoShape 71"/>
          <p:cNvSpPr/>
          <p:nvPr/>
        </p:nvSpPr>
        <p:spPr>
          <a:xfrm rot="9713400">
            <a:off x="6271560" y="1747800"/>
            <a:ext cx="1360440" cy="162000"/>
          </a:xfrm>
          <a:custGeom>
            <a:avLst/>
            <a:gdLst>
              <a:gd name="textAreaLeft" fmla="*/ 210240 w 1360440"/>
              <a:gd name="textAreaRight" fmla="*/ 1252800 w 1360440"/>
              <a:gd name="textAreaTop" fmla="*/ 39240 h 162000"/>
              <a:gd name="textAreaBottom" fmla="*/ 122760 h 1620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1886000"/>
          </a:gradFill>
          <a:ln w="9360">
            <a:solidFill>
              <a:srgbClr val="000000"/>
            </a:solidFill>
            <a:miter/>
          </a:ln>
        </p:spPr>
        <p:style>
          <a:lnRef idx="0"/>
          <a:fillRef idx="0"/>
          <a:effectRef idx="0"/>
          <a:fontRef idx="minor"/>
        </p:style>
        <p:txBody>
          <a:bodyPr lIns="90000" rIns="90000" tIns="36720" bIns="3672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9" name="AutoShape 71"/>
          <p:cNvSpPr/>
          <p:nvPr/>
        </p:nvSpPr>
        <p:spPr>
          <a:xfrm rot="1740000">
            <a:off x="6625800" y="5667480"/>
            <a:ext cx="1362240" cy="160200"/>
          </a:xfrm>
          <a:custGeom>
            <a:avLst/>
            <a:gdLst>
              <a:gd name="textAreaLeft" fmla="*/ 212760 w 1362240"/>
              <a:gd name="textAreaRight" fmla="*/ 1256400 w 1362240"/>
              <a:gd name="textAreaTop" fmla="*/ 40320 h 160200"/>
              <a:gd name="textAreaBottom" fmla="*/ 119880 h 1602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9860000"/>
          </a:gradFill>
          <a:ln w="9360">
            <a:solidFill>
              <a:srgbClr val="000000"/>
            </a:solidFill>
            <a:miter/>
          </a:ln>
        </p:spPr>
        <p:style>
          <a:lnRef idx="0"/>
          <a:fillRef idx="0"/>
          <a:effectRef idx="0"/>
          <a:fontRef idx="minor"/>
        </p:style>
        <p:txBody>
          <a:bodyPr lIns="90000" rIns="90000" tIns="32760" bIns="3276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0" name="AutoShape 72"/>
          <p:cNvSpPr/>
          <p:nvPr/>
        </p:nvSpPr>
        <p:spPr>
          <a:xfrm rot="9682200">
            <a:off x="6967080" y="3678120"/>
            <a:ext cx="1231920" cy="162000"/>
          </a:xfrm>
          <a:custGeom>
            <a:avLst/>
            <a:gdLst>
              <a:gd name="textAreaLeft" fmla="*/ 194760 w 1231920"/>
              <a:gd name="textAreaRight" fmla="*/ 1119240 w 1231920"/>
              <a:gd name="textAreaTop" fmla="*/ 44280 h 162000"/>
              <a:gd name="textAreaBottom" fmla="*/ 117720 h 162000"/>
            </a:gdLst>
            <a:ahLst/>
            <a:rect l="textAreaLeft" t="textAreaTop" r="textAreaRight" b="textAreaBottom"/>
            <a:pathLst>
              <a:path w="21600" h="21600">
                <a:moveTo>
                  <a:pt x="17483" y="0"/>
                </a:moveTo>
                <a:lnTo>
                  <a:pt x="17483" y="5594"/>
                </a:lnTo>
                <a:lnTo>
                  <a:pt x="3375" y="5594"/>
                </a:lnTo>
                <a:lnTo>
                  <a:pt x="3375" y="16006"/>
                </a:lnTo>
                <a:lnTo>
                  <a:pt x="17483" y="16006"/>
                </a:lnTo>
                <a:lnTo>
                  <a:pt x="17483" y="21600"/>
                </a:lnTo>
                <a:lnTo>
                  <a:pt x="21600" y="10800"/>
                </a:lnTo>
                <a:lnTo>
                  <a:pt x="17483" y="0"/>
                </a:lnTo>
                <a:close/>
              </a:path>
              <a:path w="21600" h="21600">
                <a:moveTo>
                  <a:pt x="1350" y="5594"/>
                </a:moveTo>
                <a:lnTo>
                  <a:pt x="1350" y="16006"/>
                </a:lnTo>
                <a:lnTo>
                  <a:pt x="2700" y="16006"/>
                </a:lnTo>
                <a:lnTo>
                  <a:pt x="2700" y="5594"/>
                </a:lnTo>
                <a:lnTo>
                  <a:pt x="1350" y="5594"/>
                </a:lnTo>
                <a:close/>
              </a:path>
              <a:path w="21600" h="21600">
                <a:moveTo>
                  <a:pt x="0" y="5594"/>
                </a:moveTo>
                <a:lnTo>
                  <a:pt x="0" y="16006"/>
                </a:lnTo>
                <a:lnTo>
                  <a:pt x="675" y="16006"/>
                </a:lnTo>
                <a:lnTo>
                  <a:pt x="675" y="5594"/>
                </a:lnTo>
                <a:lnTo>
                  <a:pt x="0" y="5594"/>
                </a:lnTo>
                <a:close/>
              </a:path>
            </a:pathLst>
          </a:custGeom>
          <a:gradFill rotWithShape="0">
            <a:gsLst>
              <a:gs pos="0">
                <a:srgbClr val="ffffff"/>
              </a:gs>
              <a:gs pos="100000">
                <a:srgbClr val="00ff00"/>
              </a:gs>
            </a:gsLst>
            <a:lin ang="11916000"/>
          </a:gradFill>
          <a:ln w="9360">
            <a:solidFill>
              <a:srgbClr val="000000"/>
            </a:solidFill>
            <a:miter/>
          </a:ln>
        </p:spPr>
        <p:style>
          <a:lnRef idx="0"/>
          <a:fillRef idx="0"/>
          <a:effectRef idx="0"/>
          <a:fontRef idx="minor"/>
        </p:style>
        <p:txBody>
          <a:bodyPr lIns="90000" rIns="90000" tIns="26640" bIns="2664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17C9-288E-4C1A-BF5B-2DDA68263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Expansion of PPH network</a:t>
            </a:r>
            <a:endParaRPr b="1" lang="en-US" sz="2400" spc="-1" strike="noStrike">
              <a:solidFill>
                <a:srgbClr val="3333ff"/>
              </a:solidFill>
              <a:latin typeface="Calibri"/>
            </a:endParaRPr>
          </a:p>
        </p:txBody>
      </p:sp>
      <p:pic>
        <p:nvPicPr>
          <p:cNvPr id="3573" name="Picture 7" descr=""/>
          <p:cNvPicPr/>
          <p:nvPr/>
        </p:nvPicPr>
        <p:blipFill>
          <a:blip r:embed="rId1"/>
          <a:stretch/>
        </p:blipFill>
        <p:spPr>
          <a:xfrm>
            <a:off x="776160" y="620640"/>
            <a:ext cx="8669520" cy="6267600"/>
          </a:xfrm>
          <a:prstGeom prst="rect">
            <a:avLst/>
          </a:prstGeom>
          <a:ln w="0">
            <a:noFill/>
          </a:ln>
        </p:spPr>
      </p:pic>
      <p:sp>
        <p:nvSpPr>
          <p:cNvPr id="3574" name="Rectangle 170"/>
          <p:cNvSpPr/>
          <p:nvPr/>
        </p:nvSpPr>
        <p:spPr>
          <a:xfrm>
            <a:off x="2854440" y="2852640"/>
            <a:ext cx="4186080" cy="1746360"/>
          </a:xfrm>
          <a:prstGeom prst="rect">
            <a:avLst/>
          </a:prstGeom>
          <a:solidFill>
            <a:srgbClr val="ffffff"/>
          </a:solidFill>
          <a:ln w="57240">
            <a:solidFill>
              <a:srgbClr val="0066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32 offices participate in the PPH.</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January 6, 2014</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accumulated total number of requests for PPH filed worldwide is about 50,000.</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December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5" name="Picture 2" descr=""/>
          <p:cNvPicPr/>
          <p:nvPr/>
        </p:nvPicPr>
        <p:blipFill>
          <a:blip r:embed="rId1"/>
          <a:stretch/>
        </p:blipFill>
        <p:spPr>
          <a:xfrm>
            <a:off x="5046840" y="3625920"/>
            <a:ext cx="4484520" cy="3267000"/>
          </a:xfrm>
          <a:prstGeom prst="rect">
            <a:avLst/>
          </a:prstGeom>
          <a:ln w="0">
            <a:noFill/>
          </a:ln>
        </p:spPr>
      </p:pic>
      <p:sp>
        <p:nvSpPr>
          <p:cNvPr id="3576"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77" name="スライド番号プレースホルダ 2"/>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361-3028-4FC5-B3B1-B70D6BCE2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AutoShape 6"/>
          <p:cNvSpPr/>
          <p:nvPr/>
        </p:nvSpPr>
        <p:spPr>
          <a:xfrm flipV="1">
            <a:off x="57240" y="549000"/>
            <a:ext cx="7251480" cy="7128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8000" bIns="18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9" name="AutoShape 9"/>
          <p:cNvSpPr/>
          <p:nvPr/>
        </p:nvSpPr>
        <p:spPr>
          <a:xfrm>
            <a:off x="108000" y="852480"/>
            <a:ext cx="9669240" cy="2232000"/>
          </a:xfrm>
          <a:prstGeom prst="roundRect">
            <a:avLst>
              <a:gd name="adj" fmla="val 5093"/>
            </a:avLst>
          </a:prstGeom>
          <a:noFill/>
          <a:ln w="38160">
            <a:solidFill>
              <a:srgbClr val="333399"/>
            </a:solidFill>
            <a:miter/>
          </a:ln>
        </p:spPr>
        <p:style>
          <a:lnRef idx="0"/>
          <a:fillRef idx="0"/>
          <a:effectRef idx="0"/>
          <a:fontRef idx="minor"/>
        </p:style>
        <p:txBody>
          <a:bodyPr lIns="90000" rIns="90000" tIns="46800" bIns="46800" anchor="t">
            <a:noAutofit/>
          </a:bodyPr>
          <a:p>
            <a:pPr marL="177840" indent="-177840">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aunch of a “Global PPH” pilot program within the framework of multiple countries: this program was created by making use of common factors found in the PPH. It commenced on January 6, 2014.</a:t>
            </a:r>
            <a:endParaRPr b="0" lang="en-US" sz="1400" spc="-1" strike="noStrike">
              <a:solidFill>
                <a:srgbClr val="000000"/>
              </a:solidFill>
              <a:latin typeface="Arial"/>
            </a:endParaRPr>
          </a:p>
          <a:p>
            <a:pPr marL="177840" indent="-177840">
              <a:lnSpc>
                <a:spcPct val="10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eviously, different types of PPH systems were used between two offices, depending on their bilateral agreements. The types include the regular type PPH, the PPH MOTTAINAI, and the PCT-PPH.</a:t>
            </a:r>
            <a:endParaRPr b="0" lang="en-US" sz="1400" spc="-1" strike="noStrike">
              <a:solidFill>
                <a:srgbClr val="000000"/>
              </a:solidFill>
              <a:latin typeface="Arial"/>
            </a:endParaRPr>
          </a:p>
          <a:p>
            <a:pPr marL="177840" indent="-177840">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aving various types of systems made it rather difficult for applicants to understand how to use them. Besides, the systems were not user friendly. On the other hand,  this Global PPH pilot program enables participating offices to effectively use all types of  PPH systems, enhancing user-friendliness.</a:t>
            </a:r>
            <a:endParaRPr b="0" lang="en-US" sz="1400" spc="-1" strike="noStrike">
              <a:solidFill>
                <a:srgbClr val="000000"/>
              </a:solidFill>
              <a:latin typeface="Arial"/>
            </a:endParaRPr>
          </a:p>
          <a:p>
            <a:pPr marL="177840" indent="-177840">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eventeen countries/regions are participating in this pilot program. (Australia, Canada, Denmark, Finland, Hungary, Iceland, Israel, Japan, Korea, Nordic Patent Institute, Norway, Portugal, Russia, Spain, Sweden, UK, and USA) </a:t>
            </a:r>
            <a:endParaRPr b="0" lang="en-US" sz="1400" spc="-1" strike="noStrike">
              <a:solidFill>
                <a:srgbClr val="000000"/>
              </a:solidFill>
              <a:latin typeface="Arial"/>
            </a:endParaRPr>
          </a:p>
        </p:txBody>
      </p:sp>
      <p:sp>
        <p:nvSpPr>
          <p:cNvPr id="3580" name="ストライプ矢印 18"/>
          <p:cNvSpPr/>
          <p:nvPr/>
        </p:nvSpPr>
        <p:spPr>
          <a:xfrm>
            <a:off x="4381560" y="3284640"/>
            <a:ext cx="720720" cy="936360"/>
          </a:xfrm>
          <a:custGeom>
            <a:avLst/>
            <a:gdLst/>
            <a:ahLst/>
            <a:rect l="l" t="t" r="r" b="b"/>
            <a:pathLst>
              <a:path w="720725" h="936625">
                <a:moveTo>
                  <a:pt x="0" y="234156"/>
                </a:moveTo>
                <a:lnTo>
                  <a:pt x="22523" y="234156"/>
                </a:lnTo>
                <a:lnTo>
                  <a:pt x="22523" y="702469"/>
                </a:lnTo>
                <a:lnTo>
                  <a:pt x="0" y="702469"/>
                </a:lnTo>
                <a:lnTo>
                  <a:pt x="0" y="234156"/>
                </a:lnTo>
                <a:close/>
                <a:moveTo>
                  <a:pt x="45045" y="234156"/>
                </a:moveTo>
                <a:lnTo>
                  <a:pt x="90091" y="234156"/>
                </a:lnTo>
                <a:lnTo>
                  <a:pt x="90091" y="702469"/>
                </a:lnTo>
                <a:lnTo>
                  <a:pt x="45045" y="702469"/>
                </a:lnTo>
                <a:lnTo>
                  <a:pt x="45045" y="234156"/>
                </a:lnTo>
                <a:close/>
                <a:moveTo>
                  <a:pt x="112613" y="234156"/>
                </a:moveTo>
                <a:lnTo>
                  <a:pt x="360363" y="234156"/>
                </a:lnTo>
                <a:lnTo>
                  <a:pt x="360363" y="0"/>
                </a:lnTo>
                <a:lnTo>
                  <a:pt x="720725" y="468313"/>
                </a:lnTo>
                <a:lnTo>
                  <a:pt x="360363" y="936625"/>
                </a:lnTo>
                <a:lnTo>
                  <a:pt x="360363" y="702469"/>
                </a:lnTo>
                <a:lnTo>
                  <a:pt x="112613" y="702469"/>
                </a:lnTo>
                <a:lnTo>
                  <a:pt x="112613" y="234156"/>
                </a:lnTo>
                <a:close/>
              </a:path>
            </a:pathLst>
          </a:custGeom>
          <a:solidFill>
            <a:srgbClr val="ccecff"/>
          </a:solidFill>
          <a:ln w="9360">
            <a:solidFill>
              <a:srgbClr val="0000cc"/>
            </a:solidFill>
            <a:round/>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1" name="Text Box 2967"/>
          <p:cNvSpPr/>
          <p:nvPr/>
        </p:nvSpPr>
        <p:spPr>
          <a:xfrm>
            <a:off x="5468760" y="3145680"/>
            <a:ext cx="2724480" cy="519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Global PP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alibri"/>
                <a:ea typeface="ＤＨＰ平成ゴシックW5"/>
              </a:rPr>
              <a:t>(From January 6, 2014)</a:t>
            </a:r>
            <a:endParaRPr b="0" lang="en-US" sz="1200" spc="-1" strike="noStrike">
              <a:solidFill>
                <a:srgbClr val="000000"/>
              </a:solidFill>
              <a:latin typeface="Arial"/>
            </a:endParaRPr>
          </a:p>
        </p:txBody>
      </p:sp>
      <p:sp>
        <p:nvSpPr>
          <p:cNvPr id="3582" name="テキスト ボックス 41"/>
          <p:cNvSpPr/>
          <p:nvPr/>
        </p:nvSpPr>
        <p:spPr>
          <a:xfrm>
            <a:off x="6183360" y="4552920"/>
            <a:ext cx="2109600" cy="1372680"/>
          </a:xfrm>
          <a:prstGeom prst="rect">
            <a:avLst/>
          </a:prstGeom>
          <a:solidFill>
            <a:srgbClr val="ffffff"/>
          </a:solidFill>
          <a:ln w="28440">
            <a:solidFill>
              <a:srgbClr val="99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ypes of PPHs available for all participating offices: Regular PP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PH MOTTAINAI, and</a:t>
            </a:r>
            <a:r>
              <a:rPr b="1" lang="ja-JP" sz="1400" spc="-1" strike="noStrike">
                <a:solidFill>
                  <a:srgbClr val="000000"/>
                </a:solidFill>
                <a:latin typeface="Calibri"/>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CT-PPH</a:t>
            </a:r>
            <a:endParaRPr b="0" lang="en-US" sz="1400" spc="-1" strike="noStrike">
              <a:solidFill>
                <a:srgbClr val="000000"/>
              </a:solidFill>
              <a:latin typeface="Arial"/>
            </a:endParaRPr>
          </a:p>
        </p:txBody>
      </p:sp>
      <p:sp>
        <p:nvSpPr>
          <p:cNvPr id="3583" name="Text Box 2967"/>
          <p:cNvSpPr/>
          <p:nvPr/>
        </p:nvSpPr>
        <p:spPr>
          <a:xfrm>
            <a:off x="631800" y="3156120"/>
            <a:ext cx="3013200" cy="580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Before launching Global PP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84" name="Picture 3" descr=""/>
          <p:cNvPicPr/>
          <p:nvPr/>
        </p:nvPicPr>
        <p:blipFill>
          <a:blip r:embed="rId6"/>
          <a:stretch/>
        </p:blipFill>
        <p:spPr>
          <a:xfrm>
            <a:off x="73080" y="3657600"/>
            <a:ext cx="4379760" cy="31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86" name="スライド番号プレースホルダー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7353-1821-4625-A8F1-07F478F27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7" name="Text Box 6"/>
          <p:cNvSpPr/>
          <p:nvPr/>
        </p:nvSpPr>
        <p:spPr>
          <a:xfrm>
            <a:off x="685800" y="1125360"/>
            <a:ext cx="834084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PO administrates the </a:t>
            </a:r>
            <a:r>
              <a:rPr b="1" lang="en-US" sz="2800" spc="-1" strike="noStrike" u="sng">
                <a:solidFill>
                  <a:srgbClr val="0000ff"/>
                </a:solidFill>
                <a:uFillTx/>
                <a:latin typeface="Calibri"/>
              </a:rPr>
              <a:t>PPH Portal Website</a:t>
            </a:r>
            <a:r>
              <a:rPr b="0" lang="en-US" sz="2800" spc="-1" strike="noStrike">
                <a:solidFill>
                  <a:srgbClr val="000000"/>
                </a:solidFill>
                <a:latin typeface="Calibri"/>
              </a:rPr>
              <a:t>, which provides the </a:t>
            </a:r>
            <a:r>
              <a:rPr b="0" lang="en-US" sz="2800" spc="-1" strike="noStrike">
                <a:solidFill>
                  <a:srgbClr val="ff0000"/>
                </a:solidFill>
                <a:latin typeface="Calibri"/>
              </a:rPr>
              <a:t>Global</a:t>
            </a:r>
            <a:r>
              <a:rPr b="0" lang="en-US" sz="2800" spc="-1" strike="noStrike">
                <a:solidFill>
                  <a:srgbClr val="000000"/>
                </a:solidFill>
                <a:latin typeface="Calibri"/>
              </a:rPr>
              <a:t> </a:t>
            </a:r>
            <a:r>
              <a:rPr b="0" lang="en-US" sz="2800" spc="-1" strike="noStrike">
                <a:solidFill>
                  <a:srgbClr val="ff0000"/>
                </a:solidFill>
                <a:latin typeface="Calibri"/>
              </a:rPr>
              <a:t>PPH Pilot Criteria</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3588" name="AutoShape 9"/>
          <p:cNvSpPr/>
          <p:nvPr/>
        </p:nvSpPr>
        <p:spPr>
          <a:xfrm>
            <a:off x="411120" y="5788080"/>
            <a:ext cx="3059280" cy="425520"/>
          </a:xfrm>
          <a:prstGeom prst="wedgeRectCallout">
            <a:avLst>
              <a:gd name="adj1" fmla="val -6750"/>
              <a:gd name="adj2" fmla="val -125231"/>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bout Global PPH </a:t>
            </a:r>
            <a:endParaRPr b="0" lang="en-US" sz="2000" spc="-1" strike="noStrike">
              <a:solidFill>
                <a:srgbClr val="000000"/>
              </a:solidFill>
              <a:latin typeface="Arial"/>
            </a:endParaRPr>
          </a:p>
        </p:txBody>
      </p:sp>
      <p:sp>
        <p:nvSpPr>
          <p:cNvPr id="3589" name="AutoShape 10"/>
          <p:cNvSpPr/>
          <p:nvPr/>
        </p:nvSpPr>
        <p:spPr>
          <a:xfrm>
            <a:off x="5854680" y="5824440"/>
            <a:ext cx="2698920" cy="534960"/>
          </a:xfrm>
          <a:prstGeom prst="wedgeRectCallout">
            <a:avLst>
              <a:gd name="adj1" fmla="val -36537"/>
              <a:gd name="adj2" fmla="val -111833"/>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0000"/>
                </a:solidFill>
                <a:latin typeface="Calibri"/>
              </a:rPr>
              <a:t>Global</a:t>
            </a:r>
            <a:r>
              <a:rPr b="1" lang="en-US" sz="1800" spc="-1" strike="noStrike">
                <a:solidFill>
                  <a:srgbClr val="000000"/>
                </a:solidFill>
                <a:latin typeface="Calibri"/>
              </a:rPr>
              <a:t> </a:t>
            </a:r>
            <a:r>
              <a:rPr b="1" lang="en-US" sz="1800" spc="-1" strike="noStrike">
                <a:solidFill>
                  <a:srgbClr val="ff0000"/>
                </a:solidFill>
                <a:latin typeface="Calibri"/>
              </a:rPr>
              <a:t>PPH Pilot Criteria</a:t>
            </a:r>
            <a:endParaRPr b="0" lang="en-US" sz="1800" spc="-1" strike="noStrike">
              <a:solidFill>
                <a:srgbClr val="000000"/>
              </a:solidFill>
              <a:latin typeface="Arial"/>
            </a:endParaRPr>
          </a:p>
        </p:txBody>
      </p:sp>
      <p:sp>
        <p:nvSpPr>
          <p:cNvPr id="3590" name="Rectangle 100">
            <a:hlinkClick r:id="rId1"/>
          </p:cNvPr>
          <p:cNvSpPr/>
          <p:nvPr/>
        </p:nvSpPr>
        <p:spPr>
          <a:xfrm>
            <a:off x="563040" y="689040"/>
            <a:ext cx="3084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alibri"/>
                <a:ea typeface="ＭＳ ゴシック"/>
                <a:hlinkClick r:id="rId2"/>
              </a:rPr>
              <a:t>http://www.jpo.go.jp/ppph-portal/</a:t>
            </a:r>
            <a:endParaRPr b="0" lang="en-US" sz="1600" spc="-1" strike="noStrike">
              <a:solidFill>
                <a:srgbClr val="000000"/>
              </a:solidFill>
              <a:latin typeface="Arial"/>
            </a:endParaRPr>
          </a:p>
        </p:txBody>
      </p:sp>
      <p:sp>
        <p:nvSpPr>
          <p:cNvPr id="3591" name="Rectangle 11"/>
          <p:cNvSpPr/>
          <p:nvPr/>
        </p:nvSpPr>
        <p:spPr>
          <a:xfrm>
            <a:off x="1371600" y="6481800"/>
            <a:ext cx="69372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ease access URL: </a:t>
            </a:r>
            <a:r>
              <a:rPr b="1" i="1" lang="en-US" sz="1800" spc="-1" strike="noStrike" u="sng">
                <a:solidFill>
                  <a:srgbClr val="0000ff"/>
                </a:solidFill>
                <a:uFillTx/>
                <a:latin typeface="Calibri"/>
              </a:rPr>
              <a:t>http://www.jpo.go.jp/ppph-portal/</a:t>
            </a:r>
            <a:endParaRPr b="0" lang="en-US" sz="1800" spc="-1" strike="noStrike">
              <a:solidFill>
                <a:srgbClr val="000000"/>
              </a:solidFill>
              <a:latin typeface="Arial"/>
            </a:endParaRPr>
          </a:p>
        </p:txBody>
      </p:sp>
      <p:pic>
        <p:nvPicPr>
          <p:cNvPr id="3592" name="Picture 2" descr="M:\Desktop\0001.jpg"/>
          <p:cNvPicPr/>
          <p:nvPr/>
        </p:nvPicPr>
        <p:blipFill>
          <a:blip r:embed="rId3"/>
          <a:stretch/>
        </p:blipFill>
        <p:spPr>
          <a:xfrm>
            <a:off x="874800" y="2325600"/>
            <a:ext cx="4066920" cy="3079800"/>
          </a:xfrm>
          <a:prstGeom prst="rect">
            <a:avLst/>
          </a:prstGeom>
          <a:ln w="0">
            <a:noFill/>
          </a:ln>
        </p:spPr>
      </p:pic>
      <p:pic>
        <p:nvPicPr>
          <p:cNvPr id="3593" name="Picture 3" descr="M:\Desktop\0002.jpg"/>
          <p:cNvPicPr/>
          <p:nvPr/>
        </p:nvPicPr>
        <p:blipFill>
          <a:blip r:embed="rId4"/>
          <a:stretch/>
        </p:blipFill>
        <p:spPr>
          <a:xfrm>
            <a:off x="5251320" y="2325600"/>
            <a:ext cx="3589560" cy="31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Rectangle 12"/>
          <p:cNvSpPr/>
          <p:nvPr/>
        </p:nvSpPr>
        <p:spPr>
          <a:xfrm>
            <a:off x="7610400" y="659916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F621-6D57-4682-B5B2-1BDCE1EFC5D1}" type="slidenum">
              <a:rPr b="0" lang="ja-JP" sz="1400" spc="-1" strike="noStrike">
                <a:solidFill>
                  <a:srgbClr val="000000"/>
                </a:solidFill>
                <a:latin typeface="Arial Unicode MS"/>
                <a:ea typeface="ＭＳ ゴシック"/>
              </a:rPr>
              <a:t>&lt;number&gt;</a:t>
            </a:fld>
            <a:endParaRPr b="0" lang="en-US" sz="1400" spc="-1" strike="noStrike">
              <a:solidFill>
                <a:srgbClr val="000000"/>
              </a:solidFill>
              <a:latin typeface="Arial"/>
            </a:endParaRPr>
          </a:p>
        </p:txBody>
      </p:sp>
      <p:sp>
        <p:nvSpPr>
          <p:cNvPr id="3595" name="PlaceHolder 1"/>
          <p:cNvSpPr>
            <a:spLocks noGrp="1"/>
          </p:cNvSpPr>
          <p:nvPr>
            <p:ph/>
          </p:nvPr>
        </p:nvSpPr>
        <p:spPr>
          <a:xfrm>
            <a:off x="574200" y="2708280"/>
            <a:ext cx="8915400" cy="9288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Calibri"/>
              </a:rPr>
              <a:t>Thank you for your attention!</a:t>
            </a:r>
            <a:endParaRPr b="0" lang="en-US" sz="4800" spc="-1" strike="noStrike">
              <a:solidFill>
                <a:srgbClr val="000000"/>
              </a:solidFill>
              <a:latin typeface="HG丸ｺﾞｼｯｸM-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2:50:57Z</dcterms:created>
  <dc:creator>松本要</dc:creator>
  <dc:description/>
  <dc:language>en-US</dc:language>
  <cp:lastModifiedBy>MARLOW Thomas</cp:lastModifiedBy>
  <cp:lastPrinted>2014-04-17T09:11:19Z</cp:lastPrinted>
  <dcterms:modified xsi:type="dcterms:W3CDTF">2014-06-11T17:24:14Z</dcterms:modified>
  <cp:revision>1996</cp:revision>
  <dc:subject/>
  <dc:title>中国知財の状況</dc:title>
</cp:coreProperties>
</file>