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802-3AA3-455E-8BA2-91EC9701010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9058-636E-44B5-9ACC-EB10436A78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CF3-83DB-4577-B5EF-465A33FED3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E9D-97A9-43C7-90CC-89F8A9000B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2DE-5174-4F1D-9C47-311801571A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FB0E-39E0-4DF4-8553-AA7783FD37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811-827F-4AD3-8261-70068637D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86CD-BC29-4200-B9F0-935E372E88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EB24-2639-4C35-9D40-21703532D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74B-FDF2-4096-9A87-D9E6EBB6A3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ACF6-96CA-4506-81A4-EEEAF441B8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1F7-F5C9-410B-9CB3-942DA3E625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B58-F323-4139-AE16-340C1CD37E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4DD8-9723-4F22-B4AB-D0D7D01B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E15D-1FFC-4DDE-8C4B-EF99BA4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1882-1817-4454-B5F7-0CEE215F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CB40-B651-4B81-A36D-53853F2E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D592-430A-41EA-95DC-08C2266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5D73-E7B9-4F56-8040-7CAC72E4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1EB21-07BF-4656-9562-E3491E89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E5E6C-26F0-469A-8668-73B1EA7C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7644-7D0B-43A3-9386-A1468F8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115A-965D-4D01-A487-62743851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6F7D-6892-465B-961F-1A2B8BD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43C8-B8C4-4D4A-9089-DD9BCA50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FAC8E-945E-43AA-8C50-1DF667D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1840-1AD2-4B2E-AE90-2C7324BA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EB2A3-8CCD-4BAF-BC2E-A4670DDA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7B60-54F1-4A91-ABFE-5BA2F4B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03247-6729-487A-83E7-4EBBC5C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1044-04E2-4C82-B01A-7461C8C9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17B62-8F9F-45B4-9D80-1B42F13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152B-DE27-4B90-8BCF-3EA32812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F2B0-5CCE-4FB1-8DC8-37E7254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6B80B-8ED9-4AF8-9983-A0C24BF1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41A9-6D9F-41D6-8176-8466443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5D7D-6F00-4AC6-AEAC-1D28C12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1E809-E670-411F-9331-D12824F9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6F2C-5DE1-40D6-B805-99B2C283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8EB7F-6C63-4C86-9D8E-D556A821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CA00-BAF1-4B86-8BD2-265ABD9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2F26-CFD0-43B2-A8F0-D4BA834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C569C-E4C0-4A85-965D-FB38A0F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52BFF-B853-4465-90A2-5889E98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AC0E-EAFB-49C2-8411-FCE2C03B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6D47-9AD1-4E3C-B070-AD146D2E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01AD-0D8B-4B74-96FF-6C29155D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F1E42-2BA2-44B2-A966-020DE590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86647-6287-4B8C-ABDE-1086B62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F0BF-BB0C-4C81-A95B-EB333EFC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752F-2647-480E-82C9-F19790AD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E2DF-5C38-4029-B8D0-44F346B5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A8D3C-722C-4C23-975C-EEDF15FC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BE9F-2573-4C0D-B070-3B9A346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2DF95-C62B-4495-94AE-C575225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4B682-72B9-44CE-8BE6-62E0D02D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3733E-837A-44B7-9FC0-B681CA76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9BDA7-685A-4AE1-AF93-21305364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D31-1EC9-4FEA-9006-D6C11D57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4B6-9177-4498-B0AF-D07E7FC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11D-FC89-4050-8E57-C0F745B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C5E-18C2-4032-BE69-AA1E51DA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628-B059-4C8F-A9EE-CDB97D89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E0D-3CDE-44BA-9198-8868032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941-E4FC-44BE-AB9D-8012CD3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A54-23C5-47E3-84F3-B3B3313A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A08-D4BC-464E-B192-EED07D4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9EF-6FF5-4A49-BBE4-82EBE8D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7C8-8A69-41BD-A17C-5FA9AAFF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BA3-917B-4CC1-B41A-14649542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2AA-F6DD-4007-9893-F8938A9A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24B0-09E2-4BFA-B4F0-5C54968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426F-7BA6-41C5-960C-CB7A6003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1A5-9397-4B0B-AC13-5651013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CE26-F884-487E-A2B6-34796216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0D8-9E02-495E-ADAB-8623A092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2E3-366B-4E55-A7DA-9C496F4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8D6-C12B-4CF2-8A75-E57816B0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D0F-DB96-465F-8A23-BCD0405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53C3-1900-4E1C-AA18-113838C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E4B7-9D1B-429F-81AB-D1155EC5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D26E-7D81-4BBA-B862-1FEE4651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07D8-E4B1-476B-9CAE-5C71E16E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10C4-D109-4EA5-92EA-B464F655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93A7-2A6F-4CA7-90E7-247EF1E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8200-F18B-4E58-AA5D-B4AD75B3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36CF-F544-4B1A-B8D4-2F53A19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45C3-14B7-4E6D-B9ED-7F7565A7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3A1C-D0BC-44D5-874F-C575D1C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C473-048A-4B06-943D-71DC8D2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926A-A694-4CD8-8D0F-E3024D9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8468-D26E-4637-8750-5561CD9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0235-0400-42E7-BE7E-DEC6912F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C4B5-A574-4920-9C48-0FFBBD2B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E8DC-3F07-4722-8F7E-DA70136F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D0B8-8359-4343-8D22-C1E8FB7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6DBC-5CFE-403D-8E75-7F46A166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5712-8E73-4C83-A070-839E8D9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F96A-5D73-41C5-A4C1-8A0EEFD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61C3-46D5-413F-B86A-F895C7A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C6A1-7DAE-4907-B587-C8282790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D7BE-7084-44F8-8814-88AF820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86CF-BA0B-435A-B686-C5FBD0D6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3918-029B-4F17-B9B4-6D197A3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4BF6-16AA-4B79-9577-76BDEF93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068B-F839-4911-865A-E53DE20D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0C697-4536-45F7-93D6-C9D716D7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E259-C8FF-4327-A1A7-7A1871F4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97FB-3579-4813-A1E6-152C8D3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FDEE-80C2-410E-A83B-654BCAA9EF17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AD86-18F6-4576-922C-B97D1B79675D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538-3F56-4B0B-92B2-5D2006C5AF45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9CB2-2C1C-4C93-8607-630B227AC745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9531-F708-4488-9D08-468729BFD8A7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A54-1420-4FC1-84B4-AE1797B50E2A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C066-1D7E-43D5-857D-48BCB9DF9D6B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708-B913-4E77-9FC1-66FD3632F369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LXswfmGNQ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10920" y="3287880"/>
            <a:ext cx="77058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ctor Portell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eral Manager, Patent and Plant Breeders Rights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1638000"/>
            <a:ext cx="8785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Regional Patent Examination Training (RP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4000" y="1699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T security is critical to success of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flexible/mobile access for participants hasn’t worked in all 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flexible access since Oct 2013 especially for online collaboration and virtual classrooms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esson learned:  Vital role of local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ole not sufficiently defined before commenc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greater involvement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visit by local supervisors to IP Australia early in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larified requirements and time commitments for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kicked off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RPET Vide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4000" y="1699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979640" y="310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DLXswfmGNQU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58920" y="2565000"/>
            <a:ext cx="53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58920" y="1916280"/>
            <a:ext cx="5329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0920" y="1916280"/>
            <a:ext cx="806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troduction to the RP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Competency Based Trai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RPET Program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xperience of RPET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at is the RPET program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2349000"/>
            <a:ext cx="8064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 depth training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ocusing on PCT search and exa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Uses e-learning content an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Aims to build patent examination capabilitie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Improving competency of examin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mbedding learning into the workp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ncouraging alignment with international standards and facilitates sharing on domestic best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685800" y="177336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f81bd"/>
                </a:solidFill>
                <a:latin typeface="Arial"/>
              </a:rPr>
              <a:t>Distance learning capability for patent examination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2565360"/>
            <a:ext cx="8064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able more in depth and comprehensive training when compared with other training models (short visit bas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hance patent examination capability in member off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Contribute to greater confidence in the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creased business confidence in the international IP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rpet intro.png"/>
          <p:cNvPicPr/>
          <p:nvPr/>
        </p:nvPicPr>
        <p:blipFill>
          <a:blip r:embed="rId1"/>
          <a:stretch/>
        </p:blipFill>
        <p:spPr>
          <a:xfrm>
            <a:off x="1560600" y="1484280"/>
            <a:ext cx="5327640" cy="23544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4000" y="4054320"/>
            <a:ext cx="8064360" cy="23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Pilot launched 8 April 2013 :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- six participants from ASEAN offices (Malaysia, Indonesia, Philippines)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- two participants from Africa (ARIPO and Keny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Partnership by ASEAN and IP Australia with support from WI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Second intake in 2014 with 15 trainees – expanded to include participants from Thailand and Viet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72840" y="256536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ntensive training and one-on-one support to tra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stly conducted online, using e-learning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til trainee achieves competency (up to two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Strikes a balance between classroom and “on the job”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ocal supervisor for each trainee works closely with IP Australia’s trainers to monitor and assess trainee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akes a competency based approach to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Competency Based Train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55280" y="242100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Ability to perform a workplace task or function to the standard required in the workpl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rainees must demonstr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he knowledge, skills and attributes required to perform a task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apply them consistently over time and in the required workplace situations and environ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3200" y="1412640"/>
            <a:ext cx="8075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Program Structure</a:t>
            </a:r>
            <a:br>
              <a:rPr sz="2500"/>
            </a:b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- RPET takes a phased approa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0360" cy="13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517680" y="3933720"/>
          <a:ext cx="8231040" cy="20113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1954080"/>
                <a:gridCol w="216072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ced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 Week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olidating learning  on the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onstrating competence under minimal super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4000" y="1915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ositive feedback on quality of trainers and onlin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ompetency-based training not widely used or 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rogram required more time commitment and time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Highlighted differences between national practices and international standards, e.g. treatment of dependen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4:02:12Z</dcterms:created>
  <dc:creator>Vanessa Courtot</dc:creator>
  <dc:description/>
  <dc:language>en-US</dc:language>
  <cp:lastModifiedBy>Keith Porter</cp:lastModifiedBy>
  <dcterms:modified xsi:type="dcterms:W3CDTF">2014-06-02T23:32:27Z</dcterms:modified>
  <cp:revision>66</cp:revision>
  <dc:subject/>
  <dc:title>Heading</dc:title>
</cp:coreProperties>
</file>