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0886-35C6-402E-BD24-435C597DC11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A2F-5F7B-4220-B279-35BDE09A2F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9F23-3F46-4583-ABE7-0D9E6DA81B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0BE-153A-416D-A602-345C5B089E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B86E-CB7E-4738-B870-37F600FE62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6216-C193-4AD1-B65D-7CC1D5E1E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301-2B8C-4817-B324-3C7E5C917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B2B-C7F2-4820-9099-3429960C64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865-AD5F-411E-AB70-5F5550F403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4DAD-D187-475D-895B-A869B7460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C7C-08C4-4F55-A400-92DDBE2237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938-97FC-4336-A2CF-90FEF60323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7FE0-54C1-4B56-B29E-1E9CFE2C46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4998-C793-40B8-AC4C-F07ABF8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79E3D-1D10-47DE-83F9-5534675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E7F6-BFBD-4604-9401-558F1A9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7B55-4E95-4FD4-BD6A-F5E25FFA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FF0B-03B2-4ABD-A91E-F0021D5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3F36-D631-41D5-888C-8361899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C3C6B-C9CB-403B-8ADE-0147B7B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3893-5C2C-474B-8609-898D6F04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824D-97F2-4E3D-8E42-16FCDA5A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14C9-5731-4515-AA87-FFDAEC16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075E-7682-4641-B66B-58B85752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F8A6-B6AD-4D3A-8E6B-DA09216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2CD3-A6D3-4F01-9B29-A6D47C0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9A486-076D-40C9-B8F0-CEC9090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CA94-8A13-48B4-9C8A-B7FAEABD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4256-664F-48A4-9899-DC0F252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45CF-31E5-4058-B095-18C1CE1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6C8E-C9BB-4085-98F7-EBC5A4D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29AD-3DF6-475E-96D3-6A13AD08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6C5A-DFC5-464C-A247-6771DE78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2843-B40E-4C4E-896E-47B77555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3156-C5D6-48BC-846C-A41F885A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C935-EA3A-43E7-8987-54A5721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38FD-4625-446F-9604-81E1116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49C3-F073-45CD-B03E-0473A3C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1E64E-969B-47B7-B0BF-C3FAEA02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D58D-35BA-4154-AD13-04F4D00F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5069-011D-4AF3-B054-EE8D4C6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4BA9-3A29-4262-BC00-7EDE5A1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25576-CAD8-4A8F-8971-86B3F1B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236B2-C56D-44F9-8073-3A66603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873C3-347D-4E72-BD2F-48C2868E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5A70-CB27-4F0A-B296-B13D317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E076-F208-4C3C-A8E7-F981FEAA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2212-9A67-4B21-BA6A-9AE1CC48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CA8D-B793-40EF-BD07-33D747E0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344F-5BC0-432E-88CE-9B1BF27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1FBC7-011D-47CE-8D5B-23A231DA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7B364-D7CD-4A57-8768-6798D8A1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4F6DB-994C-42D8-AAAE-33A167C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3DCC-E966-45AB-B200-1D3A8D1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2D56-38D9-48EC-B001-403193E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AA40-D4D7-4ADD-97A9-39A89C77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0FF19-C4E8-406D-8C42-4E7F4158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7F208-F71F-4330-914E-4463FCA7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E99-F0FC-4A9C-A740-71B8171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7B2-8565-467F-81BC-7EA21A7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287-4AA8-4A51-9C1E-73C04F46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204-A7B7-458B-B07F-124EE77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F69-6511-48CF-AB85-F5F5B46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F3B-6BD1-471B-9C23-5C69D7F8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1A9-7450-40CF-A2EB-760519F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7B6-10D4-4834-B3D5-252BC94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B54-BFBB-480F-B5FE-98A3697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37F-E30B-4480-8F00-74C0F86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CE6-A15F-4195-9EF5-5032BAD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5CA-29CD-4AA0-B10E-58355E37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6C0-4DB6-4FF6-A37E-7EFDB88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7E8-9B6D-4F03-A34B-3342CDD3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8389-4B5D-45AA-8B6F-49315CA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359-8076-40D7-8978-15ABDDF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807F-2ECF-436D-8B9A-E7214E9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AB99-4F8F-48F2-A066-64941171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8645-3832-48B6-AAE5-EB9F7AA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09DD-0F23-40E2-A1BB-F6C8584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1C2-8624-4D52-9A0D-6814B9C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9111-526E-4600-B5A1-C143EA9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9958-8B91-4756-9910-AA5FA22B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0A13-A264-4122-B5B6-9D4EAFAF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0FDC-2449-466D-8095-CF65BD66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447E-1F20-4D11-AD36-C2665577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F10B-DEB3-4E2B-BC41-3BD5D91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A743-0672-42F0-BD4D-9CE52CA2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80CD-D22A-483D-8A57-47EDB77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22CC-48B6-43B5-91E7-01F2E29B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8DC2-E3A7-4E61-929E-EEB3FA2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707B-9F38-41A3-A7A5-4FE4DFA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0192-3FF6-4447-8A08-24B8854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D8FC-6AE7-4B75-9C49-E5D7A84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3CA7-0C6F-498A-8C99-63F0DA07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AE55-AE3D-4E58-B0BA-E0C51FF4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EFC6-85EA-4130-BA92-E1827046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A07B-273B-4939-8AF3-69A216F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1EDE-3493-46E1-AF3C-DEFAE94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474E-BC3F-450B-9164-6797A6D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B72D-D2F4-4C68-B4F7-4AA2627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2C47-FF6D-4C0D-B841-53BD759B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7C62-E89D-454F-A4F4-F5BAF22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B3A0-F4ED-4ACD-BCBB-7F1C551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3305-1C40-47E8-A4A1-3EF0357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A320-352D-47F2-AEBE-DC0007A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B6C7-B511-4E3B-809D-C61AF9A4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DD01-ACF8-4BCD-B138-4FCDDB24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59A8-6029-425E-A5D9-F32B4B8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730F-D7CB-4D08-989A-206F9D8F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85F4-3BA5-4EB1-AF01-CAE77CB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BC31-906A-4822-8BFA-A5E4C894171C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DC5-854F-4E8D-8BF2-E095E0EAC6CE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2B5F-4F9A-4F4A-AD06-A3D401EB7995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1BB1-BCF2-4F8C-BFC5-416F68CA673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1E43-3BB7-41CA-9C67-0D7CE6BA3C35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9A36-5D1B-4E88-B15D-FEF9D52992A7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B492-7B06-4677-9922-36957E34D3B4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836-D9C6-490C-855D-72E4F60641F2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LXswfmGNQ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10920" y="3287880"/>
            <a:ext cx="7705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ctor Portell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eral Manager, Patent and Plant Breeders Rights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1638000"/>
            <a:ext cx="8785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Regional Patent Examination Training (RP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4000" y="1699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T security is critical to success of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flexible/mobile access for participants hasn’t worked in all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flexible access since Oct 2013 especially for online collaboration and virtual classrooms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esson learned:  Vital role of local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ole not sufficiently defined before commenc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greater involvement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visit by local supervisors to IP Australia early in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larified requirements and time commitments for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kicked off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RPET Vide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4000" y="1699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979640" y="310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DLXswfmGNQU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58920" y="2565000"/>
            <a:ext cx="53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58920" y="191628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916280"/>
            <a:ext cx="806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troduction to the RP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Competency Based Trai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RPET Program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xperience of RPET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at is the RPET program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2349000"/>
            <a:ext cx="80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 depth training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ocusing on PCT search and exa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Uses e-learning content an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Aims to build patent examination capabilitie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Improving competency of examin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mbedding learning into the work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ncouraging alignment with international standards and facilitates sharing on domestic best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685800" y="177336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2565360"/>
            <a:ext cx="8064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able more in depth and comprehensive training when compared with other training models (short visit bas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hance patent examination capability in member off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Contribute to greater confidence in the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creased business confidence in the international IP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rpet intro.png"/>
          <p:cNvPicPr/>
          <p:nvPr/>
        </p:nvPicPr>
        <p:blipFill>
          <a:blip r:embed="rId1"/>
          <a:stretch/>
        </p:blipFill>
        <p:spPr>
          <a:xfrm>
            <a:off x="1560600" y="1484280"/>
            <a:ext cx="5327640" cy="23544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4000" y="4054320"/>
            <a:ext cx="8064360" cy="23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ilot launched 8 April 2013 :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six participants from ASEAN offices (Malaysia, Indonesia, Philippines)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two participants from Africa (ARIPO and Keny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artnership by ASEAN and IP Australia with support from WI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Second intake in 2014 with 15 trainees – expanded to include participants from Thailand and Viet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72840" y="256536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ntensive training and one-on-one support to tra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stly conducted online, using e-learn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til trainee achieves competency (up to two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Strikes a balance between classroom and “on the job”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ocal supervisor for each trainee works closely with IP Australia’s trainers to monitor and assess trainee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akes a competency based approach to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Competency Based Train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55280" y="242100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bility to perform a workplace task or function to the standard required in the workpl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rainees must demonstr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he knowledge, skills and attributes required to perform a task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pply them consistently over time and in the required workplace situations and environ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3200" y="1412640"/>
            <a:ext cx="8075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Program Structure</a:t>
            </a:r>
            <a:br>
              <a:rPr sz="2500"/>
            </a:b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- RPET takes a phased approa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517680" y="3933720"/>
          <a:ext cx="823104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1954080"/>
                <a:gridCol w="216072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ced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 Week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olidating learning  on the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competence under minimal super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4000" y="1915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ositive feedback on quality of trainers and onlin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ompetency-based training not widely used or 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rogram required more time commitment and time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Highlighted differences between national practices and international standards, e.g. treatment of dependen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4:02:12Z</dcterms:created>
  <dc:creator>Vanessa Courtot</dc:creator>
  <dc:description/>
  <dc:language>en-US</dc:language>
  <cp:lastModifiedBy>Keith Porter</cp:lastModifiedBy>
  <dcterms:modified xsi:type="dcterms:W3CDTF">2014-06-02T23:32:27Z</dcterms:modified>
  <cp:revision>66</cp:revision>
  <dc:subject/>
  <dc:title>Heading</dc:title>
</cp:coreProperties>
</file>