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1BFD-C10B-4175-84F8-7B2F8BECAB7D}" type="slidenum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C3AD-2C9C-4C1E-A7E6-84398185E2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2237-C3A2-43BC-B996-30386E63AA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34C7-9B78-49E3-B189-F6DE19F65BF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F12-3546-49B0-894C-D1343AB4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6968-7182-41BA-A31A-BDCD69EC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DE5-989B-4CE7-A172-49D76E5F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6D2-3621-4942-AABA-3FEE81DD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4F82B-8343-4202-9156-7C2B9216213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72BD1-9075-442D-AEDC-0A46BAF82D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D9D9E-114E-4469-B2E8-28F679167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12F3A-5759-4BFB-94F0-A3F5B8A367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5A6AE-4797-4205-8AA7-0B5FE80618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D6408-CC92-43DF-9994-0789A39C3A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0FA0B-7A4B-4C71-9786-13018AFE7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93D-D72E-496C-A2D9-5069D829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664D0A-2E08-4C81-A65E-39A7CF41BA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26EB2-E965-465E-AC15-4E021424AA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48E1C-8536-415F-A40C-B2CC55304A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A73AF-8599-4D8C-8672-279476A6CA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22790-1C98-4715-9104-5DEE6A920C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A1E6-BA39-4CEF-8A19-ED6DCC437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705-6831-4265-A15B-FEE59902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671-6317-40AE-A45F-83CBB98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9F6-1418-4E17-9A08-AF6921E6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C89-00F1-4119-A05E-8CF9955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C3C7-ED16-4BC9-B4D9-811D093E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D8F-CBFE-4B44-93E0-9A140253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9E73-E43D-4869-A79F-B4B1597129FD}" type="slidenum">
              <a:rPr b="0" lang="fr-CH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CBE2-488F-4000-A06D-9DDAD1F22F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wto.org/english/tratop_e/trips_e/par6laws_e.htm" TargetMode="External"/><Relationship Id="rId2" Type="http://schemas.openxmlformats.org/officeDocument/2006/relationships/hyperlink" Target="http://www.wto.org/english/tratop_e/trips_e/accept_e.htm" TargetMode="External"/><Relationship Id="rId3" Type="http://schemas.openxmlformats.org/officeDocument/2006/relationships/hyperlink" Target="http://www.wto.org/english/tratop_e/trips_e/accept_e.htm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mailto:thu-lang.tranwasescha@wto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6659640" y="587700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Durban, South Afri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January 29 to 31, 201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042920" y="4653000"/>
            <a:ext cx="7632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opic 8:</a:t>
            </a:r>
            <a:r>
              <a:rPr b="0" i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 </a:t>
            </a:r>
            <a:r>
              <a:rPr b="1" i="1" lang="en-US" sz="2000" spc="-1" strike="noStrike">
                <a:solidFill>
                  <a:srgbClr val="00408c"/>
                </a:solidFill>
                <a:latin typeface="Arial"/>
                <a:ea typeface="Times New Roman"/>
              </a:rPr>
              <a:t>Compulsory Lic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042920" y="3213000"/>
            <a:ext cx="77407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Regional Seminar for Certain African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on the Implementation and Use of Sev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Patent-Related Flex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42920" y="1052640"/>
          <a:ext cx="2360520" cy="1147680"/>
        </p:xfrm>
        <a:graphic>
          <a:graphicData uri="http://schemas.openxmlformats.org/drawingml/2006/table">
            <a:tbl>
              <a:tblPr/>
              <a:tblGrid>
                <a:gridCol w="23605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PUBLIC OF SOUTH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Picture 4" descr="http://upload.wikimedia.org/wikipedia/commons/thumb/2/21/Coat_of_arms_of_South_Africa.svg/90px-Coat_of_arms_of_South_Africa.svg.png"/>
          <p:cNvPicPr/>
          <p:nvPr/>
        </p:nvPicPr>
        <p:blipFill>
          <a:blip r:embed="rId2"/>
          <a:stretch/>
        </p:blipFill>
        <p:spPr>
          <a:xfrm>
            <a:off x="1116000" y="836640"/>
            <a:ext cx="7621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lsory licences under Article 3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assignable, except with that part of the enterprise or goodwi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Calibri"/>
              </a:rPr>
              <a:t>Predominantly for the supply of the domestic market (letter(f)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be liable to termination if and when the certain circumstances cease to exist and are unlikely to rec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dequate remuneration to the right own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udicial review of the decision relating to the grant and remun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me uses without authorization under Article 3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xamples in area of pharmaceuticals.  Why?  The economics of pharmaceutical pat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e WHO’s and delegates’ slides in Durban t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ublic non-commercial u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cuador (2010 for ritonavi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razil (2007 for efavirenz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ailand (2006-2008 for seven HIV/AIDS/heart disease and cancer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ublic interes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dia (2012 for sorafeni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eclaration of public interest rejected in Colombia (2009 for lopinavir/ritonavir), instead: application of price control meas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nti-competitive practic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aly (2005-2007 for refusal to licenc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mpacts on pharmaceutical are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ice red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s of lower priced drug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, is it a sustainable long term solution ?  Different vie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mplex techn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lack of co-operation with patent right hol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ase of India = exceptional case  because size of market, long-time experi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a Doha Declaration on TRIPS- public healt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parate Ministerial  Declaration in WT/MIN(01)/DEC/2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ears of some quarters and governments of using certain flexibilitie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Doha declaration reaffirms or clarifies,  inter ali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lance of interests for the society (access to medicines  (price) and R&amp;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rt.7 and 8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flexibilities, e.g.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ight to chose exhaustion régi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sues of national emergency, extreme urgency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ransition period for LDCs for pharmaceuticals (201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See WIPO’s and delegates’ sli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“Paragraph 6 System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als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Recogniz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that Members with insufficient or no manufacturing capacities in the pharmaceutical sector could face difficulties in making effective use of compulsory licensing under TRI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Instruct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TRIPS Council to find an expeditious solution and report to the General Council before the end of 20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MS Mincho"/>
                <a:ea typeface="MS Mincho"/>
              </a:rPr>
              <a:t>⇒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  <a:ea typeface="MS Mincho"/>
              </a:rPr>
              <a:t>reference to “Paragraph 6 System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 31(f) issu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mbers can issue compulsory licences for importation / domestic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vailability of supply from generic producers in third countries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t. 31(f) requires production under compulsory licenses "</a:t>
            </a:r>
            <a:r>
              <a:rPr b="0" lang="en-GB" sz="2400" spc="-1" strike="noStrike">
                <a:solidFill>
                  <a:srgbClr val="cc0000"/>
                </a:solidFill>
                <a:latin typeface="Calibri"/>
              </a:rPr>
              <a:t>predominantly for the supply of the domestic market of the Membe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0" lang="fr-FR" sz="2400" spc="-1" strike="noStrike">
                <a:solidFill>
                  <a:srgbClr val="cc0000"/>
                </a:solidFill>
                <a:latin typeface="MS Mincho"/>
                <a:ea typeface="MS Mincho"/>
              </a:rPr>
              <a:t>⇒ </a:t>
            </a:r>
            <a:r>
              <a:rPr b="0" i="1" lang="fr-FR" sz="2400" spc="-1" strike="noStrike">
                <a:solidFill>
                  <a:srgbClr val="cc0000"/>
                </a:solidFill>
                <a:latin typeface="Calibri"/>
                <a:ea typeface="MS Mincho"/>
              </a:rPr>
              <a:t>need to address legal problem resulting from Art.31(f) conditions in exporting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Mincho"/>
              </a:rPr>
              <a:t>Solution: three waivers (derogations), adopted in light of Chair’ stat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1st wa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sic rule under Article 31(f): production under compulsory licence predominantly for supply of domestic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agraph 6 System waives requirement for exporting Members in cases of production/export of a pharmaceutical product to eligible importing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ubject to conditions on transparency and safegu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2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wa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asic rule under Article 31(h): remuneration to be paid where compulsory licence is gran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der Paragraph 6 Syste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xporting Member: adequate remuneration is to be paid taking into account the economic value of the authorization in the importing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orting Member:</a:t>
            </a:r>
            <a:r>
              <a:rPr b="0" lang="en-GB" sz="24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cc0000"/>
                </a:solidFill>
                <a:latin typeface="Calibri"/>
              </a:rPr>
              <a:t>Article 31 h) is waived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; no remuneration payable if paid in exporting Member for the same products (n.b.:  unless treaties are directly applicable, this requires a change in legislation/regu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3</a:t>
            </a:r>
            <a:r>
              <a:rPr b="0" lang="en-GB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wa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oncerns:  Regional trade agre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Objective: economies of scale, enhance purchasing power, help local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rogation from Art. 31(f) i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TA falls within WTO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t least half of the RTA members are LD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embers concerned share the health problem in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i="1" lang="en-GB" sz="2800" spc="-1" strike="noStrike">
                <a:solidFill>
                  <a:srgbClr val="cc0000"/>
                </a:solidFill>
                <a:latin typeface="MS Mincho"/>
                <a:ea typeface="MS Mincho"/>
              </a:rPr>
              <a:t>⇒ </a:t>
            </a:r>
            <a:r>
              <a:rPr b="0" i="1" lang="en-GB" sz="2800" spc="-1" strike="noStrike">
                <a:solidFill>
                  <a:srgbClr val="cc0000"/>
                </a:solidFill>
                <a:latin typeface="Calibri"/>
              </a:rPr>
              <a:t>Note: derogation does not affect any patent status in importing countries - principle of territori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motion of regional patent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ed countries, in conjunction with IGOs, to provide technical coope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“Paragraph 6 System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al Council Decision of 30 August 200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ntains  three waivers (derogat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effect since 30 August 2003,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erminates when amendment replaces  it for each M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C Decision of 6 December 2005 / Protocol Amending TRIPS proposes insertion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Calibri"/>
              </a:rPr>
              <a:t>new Article 31</a:t>
            </a:r>
            <a:r>
              <a:rPr b="0" i="1" lang="en-GB" sz="2200" spc="-1" strike="noStrike">
                <a:solidFill>
                  <a:srgbClr val="cc0000"/>
                </a:solidFill>
                <a:latin typeface="Calibri"/>
              </a:rPr>
              <a:t>bi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consisting of 3 waiver provisions of August 2003 Dec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Calibri"/>
              </a:rPr>
              <a:t>Annex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setting out terms for using Paragraph 6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cc0000"/>
                </a:solidFill>
                <a:latin typeface="Calibri"/>
              </a:rPr>
              <a:t>Appendix to Annex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dealing with assessment of manufacturing capacities (former annex to August 2003 Decis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cc0000"/>
                </a:solidFill>
                <a:latin typeface="MS Mincho"/>
                <a:ea typeface="MS Mincho"/>
              </a:rPr>
              <a:t>⇒</a:t>
            </a:r>
            <a:r>
              <a:rPr b="0" i="1" lang="en-GB" sz="2200" spc="-1" strike="noStrike">
                <a:solidFill>
                  <a:srgbClr val="cc0000"/>
                </a:solidFill>
                <a:latin typeface="Calibri"/>
                <a:ea typeface="Arial"/>
              </a:rPr>
              <a:t> “</a:t>
            </a:r>
            <a:r>
              <a:rPr b="0" i="1" lang="en-GB" sz="2200" spc="-1" strike="noStrike">
                <a:solidFill>
                  <a:srgbClr val="cc0000"/>
                </a:solidFill>
                <a:latin typeface="Calibri"/>
                <a:ea typeface="Arial"/>
              </a:rPr>
              <a:t>technical exercise”, </a:t>
            </a:r>
            <a:r>
              <a:rPr b="0" i="1" lang="en-GB" sz="2200" spc="-1" strike="noStrike">
                <a:solidFill>
                  <a:srgbClr val="cc0000"/>
                </a:solidFill>
                <a:latin typeface="Calibri"/>
              </a:rPr>
              <a:t>no changes in substance to Paragraph 6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3640" y="2554200"/>
            <a:ext cx="856908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TRIPS Agreement and compulsory lice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26560" y="4781160"/>
            <a:ext cx="762012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-Lang TRAN WASES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nsel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ntellectual Property Di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TO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24000" y="638172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Tran Wasescha- January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3"/>
          <p:cNvSpPr/>
          <p:nvPr/>
        </p:nvSpPr>
        <p:spPr>
          <a:xfrm>
            <a:off x="1200240" y="249120"/>
            <a:ext cx="7246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WIPO-DTI Regional Seminar for Certain African Countries on the Implementation and Use of Several Patent-Related Flex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Durban, South Africa, 29-31 January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IPS-Public Health in 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4173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eavily negoti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ha Decl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firmation of importance of R&amp;D and innovation but als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flex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ransition period for least developed countries (LDC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agraph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rticle 31;  Article 31(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aragraph 6 system is meant to address a </a:t>
            </a:r>
            <a:r>
              <a:rPr b="0" i="1" lang="en-GB" sz="2800" spc="-1" strike="noStrike">
                <a:solidFill>
                  <a:srgbClr val="cc0000"/>
                </a:solidFill>
                <a:latin typeface="Calibri"/>
              </a:rPr>
              <a:t>health</a:t>
            </a:r>
            <a:r>
              <a:rPr b="0" lang="en-GB" sz="2800" spc="-1" strike="noStrike">
                <a:solidFill>
                  <a:srgbClr val="cc0000"/>
                </a:solidFill>
                <a:latin typeface="Calibri"/>
              </a:rPr>
              <a:t> problem in the importing Member and a </a:t>
            </a:r>
            <a:r>
              <a:rPr b="0" i="1" lang="en-GB" sz="2800" spc="-1" strike="noStrike">
                <a:solidFill>
                  <a:srgbClr val="cc0000"/>
                </a:solidFill>
                <a:latin typeface="Calibri"/>
              </a:rPr>
              <a:t>legal</a:t>
            </a:r>
            <a:r>
              <a:rPr b="0" lang="en-GB" sz="2800" spc="-1" strike="noStrike">
                <a:solidFill>
                  <a:srgbClr val="cc0000"/>
                </a:solidFill>
                <a:latin typeface="Calibri"/>
              </a:rPr>
              <a:t> problem in the exporting Member. 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Not purported to resolve all public health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7DC-4744-4D5F-8B09-5A03B9E28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1187280" y="1125360"/>
            <a:ext cx="712980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Public Health Problem in WTO Member requiring pharmaceutical pro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Group 3"/>
          <p:cNvGrpSpPr/>
          <p:nvPr/>
        </p:nvGrpSpPr>
        <p:grpSpPr>
          <a:xfrm>
            <a:off x="1332000" y="1847880"/>
            <a:ext cx="6335640" cy="638640"/>
            <a:chOff x="1332000" y="1847880"/>
            <a:chExt cx="6335640" cy="638640"/>
          </a:xfrm>
        </p:grpSpPr>
        <p:grpSp>
          <p:nvGrpSpPr>
            <p:cNvPr id="192" name="Group 4"/>
            <p:cNvGrpSpPr/>
            <p:nvPr/>
          </p:nvGrpSpPr>
          <p:grpSpPr>
            <a:xfrm>
              <a:off x="1332000" y="1847880"/>
              <a:ext cx="2374920" cy="624600"/>
              <a:chOff x="1332000" y="1847880"/>
              <a:chExt cx="2374920" cy="624600"/>
            </a:xfrm>
          </p:grpSpPr>
          <p:sp>
            <p:nvSpPr>
              <p:cNvPr id="193" name="Text Box 5"/>
              <p:cNvSpPr/>
              <p:nvPr/>
            </p:nvSpPr>
            <p:spPr>
              <a:xfrm>
                <a:off x="1332000" y="2135160"/>
                <a:ext cx="237492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Product </a:t>
                </a:r>
                <a:r>
                  <a:rPr b="1" lang="en-GB" sz="1600" spc="-1" strike="noStrike">
                    <a:solidFill>
                      <a:srgbClr val="000000"/>
                    </a:solidFill>
                    <a:latin typeface="Arial"/>
                  </a:rPr>
                  <a:t>not</a:t>
                </a: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 patented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Line 6"/>
              <p:cNvSpPr/>
              <p:nvPr/>
            </p:nvSpPr>
            <p:spPr>
              <a:xfrm flipV="1">
                <a:off x="2340000" y="184788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7"/>
            <p:cNvGrpSpPr/>
            <p:nvPr/>
          </p:nvGrpSpPr>
          <p:grpSpPr>
            <a:xfrm>
              <a:off x="5507280" y="1861920"/>
              <a:ext cx="2160360" cy="624600"/>
              <a:chOff x="5507280" y="1861920"/>
              <a:chExt cx="2160360" cy="624600"/>
            </a:xfrm>
          </p:grpSpPr>
          <p:sp>
            <p:nvSpPr>
              <p:cNvPr id="196" name="Text Box 8"/>
              <p:cNvSpPr/>
              <p:nvPr/>
            </p:nvSpPr>
            <p:spPr>
              <a:xfrm>
                <a:off x="5507280" y="2149200"/>
                <a:ext cx="2160360" cy="33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Product patented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Line 9"/>
              <p:cNvSpPr/>
              <p:nvPr/>
            </p:nvSpPr>
            <p:spPr>
              <a:xfrm>
                <a:off x="6588360" y="1861920"/>
                <a:ext cx="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8" name="Group 10"/>
          <p:cNvGrpSpPr/>
          <p:nvPr/>
        </p:nvGrpSpPr>
        <p:grpSpPr>
          <a:xfrm>
            <a:off x="3995640" y="2495520"/>
            <a:ext cx="2089080" cy="1182600"/>
            <a:chOff x="3995640" y="2495520"/>
            <a:chExt cx="2089080" cy="1182600"/>
          </a:xfrm>
        </p:grpSpPr>
        <p:sp>
          <p:nvSpPr>
            <p:cNvPr id="199" name="Text Box 11"/>
            <p:cNvSpPr/>
            <p:nvPr/>
          </p:nvSpPr>
          <p:spPr>
            <a:xfrm>
              <a:off x="3995640" y="2854080"/>
              <a:ext cx="208908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pulsory licence in compliance with Art 31 TRIP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Line 12"/>
            <p:cNvSpPr/>
            <p:nvPr/>
          </p:nvSpPr>
          <p:spPr>
            <a:xfrm>
              <a:off x="5722560" y="24955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6443640" y="2495520"/>
            <a:ext cx="1871640" cy="939240"/>
            <a:chOff x="6443640" y="2495520"/>
            <a:chExt cx="1871640" cy="939240"/>
          </a:xfrm>
        </p:grpSpPr>
        <p:sp>
          <p:nvSpPr>
            <p:cNvPr id="202" name="Text Box 14"/>
            <p:cNvSpPr/>
            <p:nvPr/>
          </p:nvSpPr>
          <p:spPr>
            <a:xfrm>
              <a:off x="6443640" y="2854080"/>
              <a:ext cx="18716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greement with origina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7307280" y="24955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826920" y="2471760"/>
            <a:ext cx="3368880" cy="2102760"/>
            <a:chOff x="826920" y="2471760"/>
            <a:chExt cx="3368880" cy="2102760"/>
          </a:xfrm>
        </p:grpSpPr>
        <p:sp>
          <p:nvSpPr>
            <p:cNvPr id="205" name="Text Box 17"/>
            <p:cNvSpPr/>
            <p:nvPr/>
          </p:nvSpPr>
          <p:spPr>
            <a:xfrm>
              <a:off x="826920" y="4054320"/>
              <a:ext cx="302436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harmaceutical product can be manufactured domestically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 flipH="1">
              <a:off x="3259080" y="3695400"/>
              <a:ext cx="936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Line 19"/>
            <p:cNvSpPr/>
            <p:nvPr/>
          </p:nvSpPr>
          <p:spPr>
            <a:xfrm>
              <a:off x="2540160" y="247176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8" name="Group 20"/>
          <p:cNvGrpSpPr/>
          <p:nvPr/>
        </p:nvGrpSpPr>
        <p:grpSpPr>
          <a:xfrm>
            <a:off x="2540160" y="2475000"/>
            <a:ext cx="6119280" cy="2300400"/>
            <a:chOff x="2540160" y="2475000"/>
            <a:chExt cx="6119280" cy="2300400"/>
          </a:xfrm>
        </p:grpSpPr>
        <p:grpSp>
          <p:nvGrpSpPr>
            <p:cNvPr id="209" name="Group 21"/>
            <p:cNvGrpSpPr/>
            <p:nvPr/>
          </p:nvGrpSpPr>
          <p:grpSpPr>
            <a:xfrm>
              <a:off x="4284720" y="3713040"/>
              <a:ext cx="4374720" cy="1062360"/>
              <a:chOff x="4284720" y="3713040"/>
              <a:chExt cx="4374720" cy="1062360"/>
            </a:xfrm>
          </p:grpSpPr>
          <p:sp>
            <p:nvSpPr>
              <p:cNvPr id="210" name="Text Box 22"/>
              <p:cNvSpPr/>
              <p:nvPr/>
            </p:nvSpPr>
            <p:spPr>
              <a:xfrm>
                <a:off x="4284720" y="4071600"/>
                <a:ext cx="4374720" cy="70380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3300"/>
                    </a:solidFill>
                    <a:latin typeface="Arial"/>
                  </a:rPr>
                  <a:t>Pharmaceutical product cannot be manufactured  domestically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Line 23"/>
              <p:cNvSpPr/>
              <p:nvPr/>
            </p:nvSpPr>
            <p:spPr>
              <a:xfrm>
                <a:off x="5203440" y="3713040"/>
                <a:ext cx="0" cy="35856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Line 24"/>
            <p:cNvSpPr/>
            <p:nvPr/>
          </p:nvSpPr>
          <p:spPr>
            <a:xfrm>
              <a:off x="2540160" y="2475000"/>
              <a:ext cx="1726920" cy="15825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32720" y="4797360"/>
            <a:ext cx="2016000" cy="818640"/>
            <a:chOff x="6732720" y="4797360"/>
            <a:chExt cx="2016000" cy="818640"/>
          </a:xfrm>
        </p:grpSpPr>
        <p:sp>
          <p:nvSpPr>
            <p:cNvPr id="214" name="Text Box 26"/>
            <p:cNvSpPr/>
            <p:nvPr/>
          </p:nvSpPr>
          <p:spPr>
            <a:xfrm>
              <a:off x="6732720" y="5095800"/>
              <a:ext cx="201600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roduct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not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patented in exporting Memb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7596360" y="4797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1979640" y="4797360"/>
            <a:ext cx="5616720" cy="1719720"/>
            <a:chOff x="1979640" y="4797360"/>
            <a:chExt cx="5616720" cy="1719720"/>
          </a:xfrm>
        </p:grpSpPr>
        <p:grpSp>
          <p:nvGrpSpPr>
            <p:cNvPr id="217" name="Group 29"/>
            <p:cNvGrpSpPr/>
            <p:nvPr/>
          </p:nvGrpSpPr>
          <p:grpSpPr>
            <a:xfrm>
              <a:off x="4570560" y="4797360"/>
              <a:ext cx="1871640" cy="807480"/>
              <a:chOff x="4570560" y="4797360"/>
              <a:chExt cx="1871640" cy="807480"/>
            </a:xfrm>
          </p:grpSpPr>
          <p:sp>
            <p:nvSpPr>
              <p:cNvPr id="218" name="Text Box 30"/>
              <p:cNvSpPr/>
              <p:nvPr/>
            </p:nvSpPr>
            <p:spPr>
              <a:xfrm>
                <a:off x="4570560" y="5084640"/>
                <a:ext cx="1871640" cy="520200"/>
              </a:xfrm>
              <a:prstGeom prst="rect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3300"/>
                    </a:solidFill>
                    <a:latin typeface="Arial"/>
                  </a:rPr>
                  <a:t>Product patented in exporting Member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Line 31"/>
              <p:cNvSpPr/>
              <p:nvPr/>
            </p:nvSpPr>
            <p:spPr>
              <a:xfrm>
                <a:off x="5148360" y="4797360"/>
                <a:ext cx="0" cy="28728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Text Box 32"/>
            <p:cNvSpPr/>
            <p:nvPr/>
          </p:nvSpPr>
          <p:spPr>
            <a:xfrm>
              <a:off x="1979640" y="5813280"/>
              <a:ext cx="5616720" cy="7038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Need to use para. 6 System if exported amount is predominant share of produc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5148360" y="5601960"/>
              <a:ext cx="0" cy="19044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Line 34"/>
          <p:cNvSpPr/>
          <p:nvPr/>
        </p:nvSpPr>
        <p:spPr>
          <a:xfrm flipH="1">
            <a:off x="1258560" y="4653000"/>
            <a:ext cx="647640" cy="43164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35"/>
          <p:cNvSpPr/>
          <p:nvPr/>
        </p:nvSpPr>
        <p:spPr>
          <a:xfrm>
            <a:off x="8388360" y="3141720"/>
            <a:ext cx="647640" cy="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36"/>
          <p:cNvSpPr/>
          <p:nvPr/>
        </p:nvSpPr>
        <p:spPr>
          <a:xfrm>
            <a:off x="8101080" y="5661000"/>
            <a:ext cx="574560" cy="43200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1403280" y="189000"/>
            <a:ext cx="77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f497d"/>
                </a:solidFill>
                <a:latin typeface="Arial"/>
              </a:rPr>
              <a:t>When to Use the Para.6 Syst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38" descr=""/>
          <p:cNvPicPr/>
          <p:nvPr/>
        </p:nvPicPr>
        <p:blipFill>
          <a:blip r:embed="rId1"/>
          <a:stretch/>
        </p:blipFill>
        <p:spPr>
          <a:xfrm>
            <a:off x="0" y="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227" name="Line 39"/>
          <p:cNvSpPr/>
          <p:nvPr/>
        </p:nvSpPr>
        <p:spPr>
          <a:xfrm flipH="1">
            <a:off x="1332000" y="5373720"/>
            <a:ext cx="720720" cy="142920"/>
          </a:xfrm>
          <a:prstGeom prst="line">
            <a:avLst/>
          </a:prstGeom>
          <a:ln w="76320">
            <a:solidFill>
              <a:srgbClr val="00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40"/>
          <p:cNvGrpSpPr/>
          <p:nvPr/>
        </p:nvGrpSpPr>
        <p:grpSpPr>
          <a:xfrm>
            <a:off x="2124000" y="4797000"/>
            <a:ext cx="2232000" cy="807840"/>
            <a:chOff x="2124000" y="4797000"/>
            <a:chExt cx="2232000" cy="807840"/>
          </a:xfrm>
        </p:grpSpPr>
        <p:sp>
          <p:nvSpPr>
            <p:cNvPr id="229" name="Text Box 41"/>
            <p:cNvSpPr/>
            <p:nvPr/>
          </p:nvSpPr>
          <p:spPr>
            <a:xfrm>
              <a:off x="2124000" y="5084640"/>
              <a:ext cx="1946520" cy="520200"/>
            </a:xfrm>
            <a:prstGeom prst="rect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upply by non-WTO Membe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230" name="AutoShape 42"/>
            <p:cNvCxnSpPr/>
            <p:nvPr/>
          </p:nvCxnSpPr>
          <p:spPr>
            <a:xfrm flipH="1">
              <a:off x="3563640" y="4797000"/>
              <a:ext cx="792720" cy="259560"/>
            </a:xfrm>
            <a:prstGeom prst="straightConnector1">
              <a:avLst/>
            </a:prstGeom>
            <a:ln cap="sq" w="1260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D:\Users\tranwasescha\Pictures\Coartem%2020mg-120mg%2000078056845.jpg"/>
          <p:cNvPicPr/>
          <p:nvPr/>
        </p:nvPicPr>
        <p:blipFill>
          <a:blip r:embed="rId1"/>
          <a:stretch/>
        </p:blipFill>
        <p:spPr>
          <a:xfrm>
            <a:off x="395280" y="1125360"/>
            <a:ext cx="3456000" cy="4824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D:\Users\tranwasescha\Pictures\images.jpg"/>
          <p:cNvPicPr/>
          <p:nvPr/>
        </p:nvPicPr>
        <p:blipFill>
          <a:blip r:embed="rId2"/>
          <a:stretch/>
        </p:blipFill>
        <p:spPr>
          <a:xfrm>
            <a:off x="4932360" y="1125360"/>
            <a:ext cx="3672000" cy="4824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3"/>
          <a:stretch/>
        </p:blipFill>
        <p:spPr>
          <a:xfrm>
            <a:off x="108000" y="11592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234" name="TextBox 4"/>
          <p:cNvSpPr/>
          <p:nvPr/>
        </p:nvSpPr>
        <p:spPr>
          <a:xfrm>
            <a:off x="281160" y="6087960"/>
            <a:ext cx="194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Image used for teaching only  (TLT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oneTexte 1"/>
          <p:cNvSpPr/>
          <p:nvPr/>
        </p:nvSpPr>
        <p:spPr>
          <a:xfrm>
            <a:off x="1981080" y="34308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One of the «best practices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AE01-8C15-497B-BDF1-02D161C36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600" y="18900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RIPS-Public Health - Some Refer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06320" y="1195560"/>
            <a:ext cx="798048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oha Declaration on TRIPS and Public Health (WT/MIN(01)/DEC/2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cision on the implementation of paragraph 6 of the Doha Declaration on TRIPS and Public Health (WT/L/540 and Corr.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cision on an amendment to the TRIPS Agreement (Protocol) (WT/L/64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Annual Review of the Functioning of the System 2010 (IP/C/57 and Corr.1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Members’ laws implementing the Para.6 System: </a:t>
            </a:r>
            <a:r>
              <a:rPr b="0" lang="en-GB" sz="2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wto.org/english/tratop_e/trips_e/par6laws_e.ht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How to accept the Protocol Amending TRIPS: </a:t>
            </a:r>
            <a:r>
              <a:rPr b="0" lang="en-GB" sz="2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GB" sz="2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wto.org/english/tratop_e/trips_e/accept_e.htm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cision on extension of transition period for LDCs with respect to pharmaceutical products (IP/C/25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Decision on general extension of transition period for LDCs (IP/C/40) -  June 2013,  being discussed /negotiated at the time of Durban’s worksho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8" descr=""/>
          <p:cNvPicPr/>
          <p:nvPr/>
        </p:nvPicPr>
        <p:blipFill>
          <a:blip r:embed="rId4"/>
          <a:stretch/>
        </p:blipFill>
        <p:spPr>
          <a:xfrm>
            <a:off x="230040" y="11448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me remarks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L may help resolve but is not the panace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ed for R&amp;D of new molecules and need for affordable medic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gotiating power and importance of dialogu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task for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t regional and international 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mportance of Doha Decl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flexibilities in a manner which  does not end up being  counter-productive or inefficient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me remark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483920"/>
            <a:ext cx="850752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pplication of  Paragraph 6 System so f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wanda –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ragraph  6 System and acceptances:  not many acceptances from countries of the African Contin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t the time of Durban WIPO-DTI seminar: (in chronological order), following participating countries: Mauritius, Zambia, Uganda, Rwanda, T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views on the Paragraph 6 Syste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ery complex and bureaucrat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lexibilities used, plus voluntary actions by compan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7269-004F-41F6-8C63-09FD1A9009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de-DE" sz="4000" spc="-1" strike="noStrike">
                <a:solidFill>
                  <a:srgbClr val="1f497d"/>
                </a:solidFill>
                <a:latin typeface="Calibri"/>
              </a:rPr>
              <a:t>Consult our website</a:t>
            </a:r>
            <a:r>
              <a:rPr b="1" lang="de-DE" sz="5400" spc="-1" strike="noStrike">
                <a:solidFill>
                  <a:srgbClr val="ff0000"/>
                </a:solidFill>
                <a:latin typeface="Calibri"/>
              </a:rPr>
              <a:t> www.wto.or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 algn="ctr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de-DE" sz="3200" spc="-1" strike="noStrike">
                <a:solidFill>
                  <a:srgbClr val="c0504d"/>
                </a:solidFill>
                <a:latin typeface="Calibri"/>
              </a:rPr>
              <a:t>Other questions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2001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hu-lang.tranwasescha@wto.org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; tel.</a:t>
            </a:r>
            <a:r>
              <a:rPr b="0" lang="de-DE" sz="3200" spc="-1" strike="noStrike">
                <a:solidFill>
                  <a:srgbClr val="c0504d"/>
                </a:solidFill>
                <a:latin typeface="Calibri"/>
              </a:rPr>
              <a:t>:  +41 22 739 57 05; # 30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“life” of a patented in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31 TRIPS in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pproach of conditions versus grounds for compulsory licenses (C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t types of use without author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ules for a “common CL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ticle 31 TRIPS and public heal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Doha Declaration on TRIPS-public heal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Paragraph 6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“life” of a patented inven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rm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ideal “life” of a patented invention or how a company usually proceeds (very simplified presentation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ention:  is it patentabl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cation: rules to be fulfilled (important to disclose (dissemination of knowledge:  Art. 7 objective (“social deal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eps of procedure, depending on system adop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nt of pa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balance of interests with safeguards norm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he “life” of a patented inven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the patent owner 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rk it himself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l i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cence 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Voluntary lic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ideal because non-conflict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Know-how  ideally with patented invention (technology transfer scenari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Negotiating pow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[see  Art. 40 and delegates’ slid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BUT, what if things do not work that w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 without authorizatio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39032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pproach of the TRIPS Agre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o difficult to agree on all the various existing systems or that there should be only one or two catego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non-commercial use (“Government use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ulsory licences (or non-voluntary licences):  existing systems of CL for public interest, licences of right, CL for non-working or insufficient working, for anti-competitive practice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endent licenses (for dependent inven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se without authorization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9032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, better focu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onditions of u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ithout the patentee’s authorization (because certain situations require different conditions, certain grounds have to be mentioned, e.g.  Emergency, anti-trust, etc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understanding of some circles, inclduing governments , that Art. 31 has limited  precise groun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ticle 3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a nutshell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RIPS does no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ablish an exhaustive 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 grounds for CL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mit grounds to emergency situations in particu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RIPS do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dicate possible grounds for CL (Art.31, 8, reference to Paris Conv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t conditions for grant of CL - see Article 3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→ 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Flexibility for domestic implementation &amp; u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→ 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larification/confirmation by Doha Decl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lsory licences under Article 3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ditions for the grant of a compulsory li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dividual mer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successful efforts to obtain a voluntary license on reasonable commercial terms and conditions within a reasonable period of tim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xcept in cases of national emergency or other circumstances of extreme urgency or public non-commercial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ope and duration to be limited to the purpose for which it was authoris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exclu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9T15:30:27Z</dcterms:created>
  <dc:creator>user</dc:creator>
  <dc:description/>
  <dc:language>en-US</dc:language>
  <cp:lastModifiedBy>Prevost</cp:lastModifiedBy>
  <dcterms:modified xsi:type="dcterms:W3CDTF">2013-05-10T13:21:19Z</dcterms:modified>
  <cp:revision>24</cp:revision>
  <dc:subject/>
  <dc:title>Présentation PowerPoint</dc:title>
</cp:coreProperties>
</file>