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dt" idx="1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ftr" idx="1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 type="sldNum" idx="1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B4F893-21D5-416E-A061-DEFEE2C428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6184F-0103-4E02-843A-B7EA48C61C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A65F8-B649-48C7-B542-8AA11C998D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AC8-3F90-4895-9FA9-4C49825C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68A-EDF6-441F-A77C-433E579A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502-0AA9-4DD1-BB47-B90151F66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BE15-CD91-46E6-9B6B-06F05FCE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8AE8-976A-47A8-9835-6DF84317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BD91-A5E8-455D-908F-F148E55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C7D4-4B64-4CA4-97BF-B1C93A85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44AF-8515-4EF3-BD6C-B15D9BD0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D78B-EE1E-4A28-AB49-B7099C81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00FC-F143-441E-BFF8-28283B56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2133F-E4CA-43F3-9AFF-F1221E72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0B3-A531-4DA7-B95B-DB0675AE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4E85-69E0-4011-86CA-95824203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A83E-0089-49E4-A5FF-883F620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A4B7-BECE-42B6-998B-82B299F3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2241-A713-45DB-BD24-5312B7CBA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0049-7BF9-42B9-AE0F-49D88B38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8935-CCA2-40AB-B00E-CCAD87C1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D0F54-CBA4-4954-9805-995849FA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D4677-005D-40AA-8997-8FC545C6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805C-714A-46D8-9FF4-12F3365C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CF46-EB75-48A5-9A39-D6EB30F63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544-61E4-4FDD-93FC-4AB5F508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B876-D9A8-42EC-BD96-6A44B3F9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9C98-4B6F-4CB4-94C1-0DFD622B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F1C00-AF21-493A-822F-BE931808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A3D1D-7304-48FC-A1DB-84152318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27273-C162-4EDE-897F-6D81B139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6672-BE0B-42E1-A630-BFBC0862E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EBE7D-B488-4DF1-8446-A207AFAE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D4B71-2069-48E0-A644-F9DE3C19B59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EB9BBC-ED66-48A8-AF5A-F6ED5C9D82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1B21F-6D5E-49B7-AEEA-532362F167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6EB-161D-4929-8472-B95770AD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4E08B1-1532-4938-B002-A9AFA95C1B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60352-D010-4DD4-A2F4-A38F12E8386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3380F-61E1-4A0B-A3F2-82CE578936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FAF100-6EA5-43DC-8FB9-7B6AC23FC36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55B7C-4487-4559-B219-C35EE2B6276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533A0A-3158-4BAB-B029-86D783F518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F8EFC-7E07-4E3D-97B7-57C674B91A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07A13-EFEA-4244-99F1-A480BCE934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F5970A-9A9E-44CC-8352-7735524687C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EB7F-14AD-4BE1-AEB0-D5F80BD0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3530-539D-4E70-B933-D1DB506A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605-1548-49A1-B4E6-F422D268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E074-6344-46A9-A165-EB4AA990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42B-3A96-41C1-9195-8F13285F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6AD35-399C-45C8-85F0-1D8AC18DCE9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WTO_OMC_blanc_CMJK"/>
          <p:cNvPicPr/>
          <p:nvPr/>
        </p:nvPicPr>
        <p:blipFill>
          <a:blip r:embed="rId2"/>
          <a:stretch/>
        </p:blipFill>
        <p:spPr>
          <a:xfrm>
            <a:off x="250920" y="260280"/>
            <a:ext cx="1008000" cy="1155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E623F2-7E37-41A8-87E5-6B019698FFC5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WTO_OMC_blanc_CMJK"/>
          <p:cNvPicPr/>
          <p:nvPr/>
        </p:nvPicPr>
        <p:blipFill>
          <a:blip r:embed="rId2"/>
          <a:stretch/>
        </p:blipFill>
        <p:spPr>
          <a:xfrm>
            <a:off x="158760" y="128520"/>
            <a:ext cx="1008000" cy="11556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78673-EBF2-462C-B7FF-AE61BB872EDE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0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9187B0-5CB6-453A-A00C-1E78C27B5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3/Bur_Macro_BlackBg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pload.wikimedia.org/wikipedia/commons/9/91/Velcro_Hook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upload.wikimedia.org/wikipedia/commons/7/7f/Velcro_Loops.jpg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mailto:thu-lang.tranwasescha@wto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3"/>
          <p:cNvSpPr/>
          <p:nvPr/>
        </p:nvSpPr>
        <p:spPr>
          <a:xfrm>
            <a:off x="6659640" y="587700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Durban, South Afric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January 29 to 31, 2013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042920" y="4653000"/>
            <a:ext cx="76327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Topic 6:</a:t>
            </a:r>
            <a:r>
              <a:rPr b="0" i="1" lang="en-US" sz="2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  </a:t>
            </a:r>
            <a:r>
              <a:rPr b="1" i="1" lang="en-US" sz="2000" spc="-1" strike="noStrike">
                <a:solidFill>
                  <a:srgbClr val="00408c"/>
                </a:solidFill>
                <a:latin typeface="Arial"/>
                <a:ea typeface="Times New Roman"/>
              </a:rPr>
              <a:t>Flexibilities Related to the Definition of Patentable Subject Mat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1042920" y="3193920"/>
            <a:ext cx="7740720" cy="13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Regional Seminar for Certain African Countr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on the Implementation and Use of Sever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Patent-Related Flex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042920" y="1052640"/>
          <a:ext cx="2360520" cy="1147680"/>
        </p:xfrm>
        <a:graphic>
          <a:graphicData uri="http://schemas.openxmlformats.org/drawingml/2006/table">
            <a:tbl>
              <a:tblPr/>
              <a:tblGrid>
                <a:gridCol w="2360520"/>
              </a:tblGrid>
              <a:tr h="93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8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REPUBLIC OF SOUTH AFR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4" descr="http://upload.wikimedia.org/wikipedia/commons/thumb/2/21/Coat_of_arms_of_South_Africa.svg/90px-Coat_of_arms_of_South_Africa.svg.png"/>
          <p:cNvPicPr/>
          <p:nvPr/>
        </p:nvPicPr>
        <p:blipFill>
          <a:blip r:embed="rId2"/>
          <a:stretch/>
        </p:blipFill>
        <p:spPr>
          <a:xfrm>
            <a:off x="1116000" y="836640"/>
            <a:ext cx="76212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60560" y="2743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chniques of defining: “patentable invention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85840" y="1599840"/>
            <a:ext cx="86104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for an invention to be patentable (Art. 27.1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elty, inventive activity and industrial applic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[Disclosure under Article 29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sions from patenta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ention fulfills the three conditions but it can be not patented (n.b.: simplified summary of Art. 27.2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re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to human, animal and health,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0560" y="2743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chniques of defining: “patentable invention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85840" y="1599840"/>
            <a:ext cx="86104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for an invention to be patentable (Art. 27.1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elty, inventive activity and industrial applic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[Disclosure under Article 29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sions from patenta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ention fulfills the three conditions but it can be not patented (n.b.: simplified summary of Art. 27.2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re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to human, animal and health,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0560" y="2743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chniques of defining: “patentable invention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85840" y="1599840"/>
            <a:ext cx="86104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quirements for an invention to be patentable (Art. 27.1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velty, inventive activity and industrial applic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 [Disclosure under Article 29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clusions from patentabil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invention fulfills the three conditions but it can be not patented (n.b.: simplified summary of Art. 27.2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dre publ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to human, animal and health, environ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0560" y="2743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chniques of defining: “patentable invention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85840" y="1599840"/>
            <a:ext cx="86104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ember may ex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whole category of inventions for certain considerations;  methods (diagnostic, therapeutic, and surgical) for human and animals (art. 27.3(a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 Member may  ex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lants and animals (Art.27.3(b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sentially biological processes for production of micro-organisms (Art. 27.3(b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mbers shall not exclude from pate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icro-org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on-biological and microbiological processes (Art.27.3(b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0560" y="2743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chniques of defining: “patentable invention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85840" y="1599840"/>
            <a:ext cx="86104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embers shall protect plant 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patents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an effective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sui generi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system 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y any combination thereof (Art.27.3(b)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rticle 27.3.(b) shall be reviewed in 1999: different interpretations of “review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ew of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view with a view to revi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ditional knowledge and farmers’ rights not addressed in TRIP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lexibil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60560" y="4075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Patentable inventions” and related issues and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5840" y="1599840"/>
            <a:ext cx="86104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TO’s Work on issues of biotechnology/TRIPS-CBD/traditional knowledge (“triplets”), e.g 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IPS Council, regular se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laration of Doha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WT/MIN(01)/DEC/1) and Declaration of Hong Kong (WT/MIN(05)/D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rector-General’s consultations.  Focused on issues of disclosure in patent applications regarding genetic resources and related traditional knowledg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rant of erroneous patents (e.g. lacking novelty or inventive activity): neem tree, turmer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hoodia gordonia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File:Bur Macro BlackBg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08040" y="369720"/>
            <a:ext cx="3537000" cy="315756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5551560" y="1035000"/>
            <a:ext cx="25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relation between this and a dog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File:Velcro Hook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4680" y="4078440"/>
            <a:ext cx="2984400" cy="1306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File:Velcro Loops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608360" y="4078440"/>
            <a:ext cx="3251520" cy="13064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"/>
          <p:cNvPicPr/>
          <p:nvPr/>
        </p:nvPicPr>
        <p:blipFill>
          <a:blip r:embed="rId7"/>
          <a:stretch/>
        </p:blipFill>
        <p:spPr>
          <a:xfrm>
            <a:off x="95400" y="115920"/>
            <a:ext cx="952200" cy="1081080"/>
          </a:xfrm>
          <a:prstGeom prst="rect">
            <a:avLst/>
          </a:prstGeom>
          <a:ln w="0">
            <a:noFill/>
          </a:ln>
        </p:spPr>
      </p:pic>
      <p:sp>
        <p:nvSpPr>
          <p:cNvPr id="281" name="ZoneTexte 2"/>
          <p:cNvSpPr/>
          <p:nvPr/>
        </p:nvSpPr>
        <p:spPr>
          <a:xfrm>
            <a:off x="5433840" y="2887560"/>
            <a:ext cx="283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VELC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ZoneTexte 3"/>
          <p:cNvSpPr/>
          <p:nvPr/>
        </p:nvSpPr>
        <p:spPr>
          <a:xfrm>
            <a:off x="5695920" y="194940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Calibri"/>
              </a:rPr>
              <a:t>Burrs of the thistle (diste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ZoneTexte 7"/>
          <p:cNvSpPr/>
          <p:nvPr/>
        </p:nvSpPr>
        <p:spPr>
          <a:xfrm>
            <a:off x="3029040" y="621036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overy and  in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0928520" cy="8742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de Mestral"/>
          <p:cNvPicPr/>
          <p:nvPr/>
        </p:nvPicPr>
        <p:blipFill>
          <a:blip r:embed="rId2"/>
          <a:stretch/>
        </p:blipFill>
        <p:spPr>
          <a:xfrm>
            <a:off x="804960" y="2762280"/>
            <a:ext cx="148572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0560" y="4075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85840" y="1599840"/>
            <a:ext cx="861048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exibilities in defining patentable inven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sense” use of IP, of rights and obligations, of flexibilities (e.g. patentable inventions), otherwise “Pendulum effects”, which is not in the benefit of any par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und and reasonable use of IP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ign direct investment (even if it is one pre-requisite only among others)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rica: continent of hopes and possibilities (natural resourc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nventive activiti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entable inven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49B79-8A01-466B-BFF0-469C1A573A1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3419640" y="189000"/>
            <a:ext cx="1439640" cy="14396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539640" y="1628640"/>
            <a:ext cx="7925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0" algn="ctr">
              <a:lnSpc>
                <a:spcPct val="80000"/>
              </a:lnSpc>
              <a:spcBef>
                <a:spcPts val="3376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de-DE" sz="4000" spc="-1" strike="noStrike">
                <a:solidFill>
                  <a:srgbClr val="1f497d"/>
                </a:solidFill>
                <a:latin typeface="Calibri"/>
              </a:rPr>
              <a:t>Consult our website</a:t>
            </a:r>
            <a:r>
              <a:rPr b="1" lang="de-DE" sz="5400" spc="-1" strike="noStrike">
                <a:solidFill>
                  <a:srgbClr val="ff0000"/>
                </a:solidFill>
                <a:latin typeface="Calibri"/>
              </a:rPr>
              <a:t> www.wto.or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0760" indent="0" algn="ctr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de-DE" sz="3200" spc="-1" strike="noStrike">
                <a:solidFill>
                  <a:srgbClr val="c0504d"/>
                </a:solidFill>
                <a:latin typeface="Calibri"/>
              </a:rPr>
              <a:t>Other questions to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2001"/>
              </a:spcBef>
              <a:buClr>
                <a:srgbClr val="009966"/>
              </a:buClr>
              <a:buSzPct val="75000"/>
              <a:buFont typeface="Monotype Sort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de-DE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thu-lang.tranwasescha@wto.org</a:t>
            </a: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; tel.</a:t>
            </a:r>
            <a:r>
              <a:rPr b="0" lang="de-DE" sz="3200" spc="-1" strike="noStrike">
                <a:solidFill>
                  <a:srgbClr val="c0504d"/>
                </a:solidFill>
                <a:latin typeface="Calibri"/>
              </a:rPr>
              <a:t>:  +41 22 739 57 05; # 302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38088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3640" y="2554200"/>
            <a:ext cx="856908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lexibilities Related to the Definition of Patentable Inventions – the TRIPS Agre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826560" y="4781160"/>
            <a:ext cx="762012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u-Lang TRAN WASESCH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nsello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Intellectual Property Div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TO Secretari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324000" y="6381720"/>
            <a:ext cx="367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ran Wasescha- January 2013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  <p:sp>
        <p:nvSpPr>
          <p:cNvPr id="218" name="ZoneTexte 3"/>
          <p:cNvSpPr/>
          <p:nvPr/>
        </p:nvSpPr>
        <p:spPr>
          <a:xfrm>
            <a:off x="1200240" y="249120"/>
            <a:ext cx="72468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IPO-DTI Regional Seminar for Certain African Countries on the Implementation and Use of Several Patent-Related Flexi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alibri"/>
              </a:rPr>
              <a:t>Durban, South Africa, 29-31 January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Outli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RIPS (Trade-Related Aspects of Intellectual Property Righ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ance of intere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otiations, «acquis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ture and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WTO in a nutshe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390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8 Members, last being Laos. More than 96 of trade in goods and services (togeth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disciplinar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 mechanism of negotiations, trade-offs across the 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-driven methodology, consensus r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undertaking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hing is agreed until everything is agreed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ri-lateral avenue, e.g. Government Procurement Agre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pute settlement system and sa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IPS – balance of interes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8229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is, Berne Conventions. Balance of interests already carefully negotiated. Incorporation of WIPO’s basic co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PS: Plus certain elements or re-affirmations or clarif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lance of interes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egotiation of flexibilities, e.g. exhaustion of rights, pate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ibilities” and “constructive ambiguit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AE4A0D-CF8B-4E0E-80BE-F8DD5DDE1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952560" cy="1081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49520" y="115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105120" rIns="105120" tIns="52560" bIns="525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  <a:ea typeface="Arial"/>
              </a:rPr>
              <a:t>The IP pla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5334120" y="2438280"/>
            <a:ext cx="1447560" cy="16765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5638680" y="4495680"/>
            <a:ext cx="838440" cy="762120"/>
          </a:xfrm>
          <a:prstGeom prst="ellipse">
            <a:avLst/>
          </a:prstGeom>
          <a:solidFill>
            <a:srgbClr val="4f81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P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6"/>
          <p:cNvSpPr/>
          <p:nvPr/>
        </p:nvSpPr>
        <p:spPr>
          <a:xfrm>
            <a:off x="6934320" y="4419720"/>
            <a:ext cx="76176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1f497d"/>
                </a:solidFill>
                <a:latin typeface="Courier New"/>
              </a:rPr>
              <a:t>R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395280" y="1052640"/>
            <a:ext cx="7632720" cy="547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1692360" y="1844640"/>
            <a:ext cx="4464000" cy="3672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2195640" y="2492280"/>
            <a:ext cx="1447560" cy="1676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Par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4140360" y="2421000"/>
            <a:ext cx="1295280" cy="1447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Ber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2916360" y="4437000"/>
            <a:ext cx="838080" cy="762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IP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5435640" y="4508640"/>
            <a:ext cx="76212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400" spc="-1" strike="noStrike">
                <a:solidFill>
                  <a:srgbClr val="1f497d"/>
                </a:solidFill>
                <a:latin typeface="Courier New"/>
              </a:rPr>
              <a:t>Ro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6300720" y="2133720"/>
            <a:ext cx="136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FTAs (bilateral or region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419640" y="206064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R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15"/>
          <p:cNvSpPr/>
          <p:nvPr/>
        </p:nvSpPr>
        <p:spPr>
          <a:xfrm>
            <a:off x="2340000" y="5661000"/>
            <a:ext cx="331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2843280" y="5516640"/>
            <a:ext cx="32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IPO treaties, etc.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17"/>
          <p:cNvSpPr/>
          <p:nvPr/>
        </p:nvSpPr>
        <p:spPr>
          <a:xfrm>
            <a:off x="2340000" y="134136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18"/>
          <p:cNvSpPr/>
          <p:nvPr/>
        </p:nvSpPr>
        <p:spPr>
          <a:xfrm>
            <a:off x="3059280" y="1413000"/>
            <a:ext cx="19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tional la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19"/>
          <p:cNvSpPr/>
          <p:nvPr/>
        </p:nvSpPr>
        <p:spPr>
          <a:xfrm>
            <a:off x="539640" y="3141720"/>
            <a:ext cx="12240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gional legisl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U, OAPI, ARIPO, EPC,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1DA79B-77E2-48D7-B565-70C6615F2D9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52560" cy="10810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55560" y="1371600"/>
            <a:ext cx="7802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0760" indent="0">
              <a:lnSpc>
                <a:spcPct val="50000"/>
              </a:lnSpc>
              <a:spcBef>
                <a:spcPts val="206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"/>
              </a:rPr>
              <a:t>Minimum level of protection!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1874"/>
              </a:spcBef>
              <a:buClr>
                <a:srgbClr val="009966"/>
              </a:buClr>
              <a:buSzPct val="75000"/>
              <a:buFont typeface="Monotype Sort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ject to transitional arrangements for certain Memb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1874"/>
              </a:spcBef>
              <a:buClr>
                <a:srgbClr val="009966"/>
              </a:buClr>
              <a:buSzPct val="75000"/>
              <a:buFont typeface="Monotype Sort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eedom to go beyond this level:  national laws (CH, US, Japan, Korea, etc. ), regional laws (EU), bilateral and regional agreements, e.g. Free Trade Agreements, WIPO trea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1874"/>
              </a:spcBef>
              <a:buClr>
                <a:srgbClr val="009966"/>
              </a:buClr>
              <a:buSzPct val="75000"/>
              <a:buFont typeface="Monotype Sort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"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hal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"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visions an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"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"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visions + obligations tempered (“shall have the authority”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80000"/>
              </a:lnSpc>
              <a:spcBef>
                <a:spcPts val="1874"/>
              </a:spcBef>
              <a:buClr>
                <a:srgbClr val="009966"/>
              </a:buClr>
              <a:buSzPct val="75000"/>
              <a:buFont typeface="Monotype Sorts" charset="2"/>
              <a:buChar char="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WTO Dispute Settlemen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0">
              <a:lnSpc>
                <a:spcPct val="60000"/>
              </a:lnSpc>
              <a:spcBef>
                <a:spcPts val="187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858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TRIPS:  general</a:t>
            </a:r>
            <a:r>
              <a:rPr b="0" lang="en-US" sz="4000" spc="-1" strike="noStrike">
                <a:solidFill>
                  <a:srgbClr val="4f81bd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95280" y="134136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120" rIns="105120" tIns="52560" bIns="5256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IPS – Inv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99840"/>
            <a:ext cx="8229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,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national / regional legi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OAPI:  accord de Bangui, annexe I, article 1</a:t>
            </a:r>
            <a:r>
              <a:rPr b="0" lang="fr-CH" sz="2800" spc="-1" strike="noStrike" baseline="30000">
                <a:solidFill>
                  <a:srgbClr val="000000"/>
                </a:solidFill>
                <a:latin typeface="Calibri"/>
              </a:rPr>
              <a:t>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ARIPO: part III, article 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0560" y="274320"/>
            <a:ext cx="762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echniques of defining: “patentable inventions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599840"/>
            <a:ext cx="843912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entable inventions ;  TRIPS «patentability» and exclusions from pate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-discrimination between fields of technology (in principle: see following slides or other sessions, e.g. on compulsory licenses): Art.27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duct and process inventions: mandatory (Art. 27.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08000" y="249120"/>
            <a:ext cx="9525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5:14:53Z</dcterms:created>
  <dc:creator>Thu-Lang TRAN WASESCHA</dc:creator>
  <dc:description/>
  <dc:language>en-US</dc:language>
  <cp:lastModifiedBy>Prevost</cp:lastModifiedBy>
  <dcterms:modified xsi:type="dcterms:W3CDTF">2013-05-10T13:01:43Z</dcterms:modified>
  <cp:revision>153</cp:revision>
  <dc:subject/>
  <dc:title>The WTO TRIPS Agreement</dc:title>
</cp:coreProperties>
</file>