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10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4.wmf" ContentType="image/x-wmf"/>
  <Override PartName="/ppt/media/image3.png" ContentType="image/png"/>
  <Override PartName="/ppt/media/image17.jpeg" ContentType="image/jpeg"/>
  <Override PartName="/ppt/media/image22.jpeg" ContentType="image/jpeg"/>
  <Override PartName="/ppt/media/image15.wmf" ContentType="image/x-wmf"/>
  <Override PartName="/ppt/media/image1.jpeg" ContentType="image/jpeg"/>
  <Override PartName="/ppt/media/image5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45D4-24E8-48D1-8C5F-C7B275D0E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7C89-DA92-4952-9ECF-CDB762C30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52360" y="91116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06480" y="4730760"/>
            <a:ext cx="4984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E9C4-FD21-4300-B9AD-AAC937F369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4662-14D5-4186-8231-A34084B34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95AD-DB0D-4C5C-8992-CBC9E83DC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3B1A5-6F93-49E5-B17B-15DD0561F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6632-3567-441C-B255-EBDA24B43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F6AC-A0D4-40EC-8521-1B452A1BDB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9088-0FCA-4902-B8FC-80FEF0472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11B9-D2BE-4400-A16B-5A4032F9F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2344-CC76-493A-9EB6-A4B8D74D9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6BDF-2AFC-4F7D-A963-63032D4EF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008F7-E8AB-4D3E-9F3C-32DD13F965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70C2-9FA6-48EA-8AAC-D9F20268A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D433-76BD-49E7-BF07-3476D5569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25509-6195-4DF9-A519-705B56F12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FBDF-2836-4DAC-847B-E34272DFE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2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mailto:claus.matthes@wipo.int" TargetMode="External"/><Relationship Id="rId2" Type="http://schemas.openxmlformats.org/officeDocument/2006/relationships/hyperlink" Target="http://www.wipo.int/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149480" y="3428640"/>
            <a:ext cx="619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ent Cooperation Treaty (PC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ntroduction and Future Develop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Oslo, October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Claus Mat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Director, PCT Business Development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4749-2DD2-45C6-BCAC-B33AFDD64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061480" cy="56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SAs are the following 18 offic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4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5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6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Chile (not yet oper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7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8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9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 (October 15, 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10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11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12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blic of Ko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13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n Fe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14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15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16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ed States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17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Paten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18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dic Patent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467280" y="189000"/>
            <a:ext cx="83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PCT International Searching Auth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60CE-9FDA-4894-8C9C-A21C612A8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81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ior art for international search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37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spcAft>
                <a:spcPts val="876"/>
              </a:spcAft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 ar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415800">
              <a:spcBef>
                <a:spcPts val="624"/>
              </a:spcBef>
              <a:spcAft>
                <a:spcPts val="876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thing which has been made available to the public,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415800">
              <a:spcBef>
                <a:spcPts val="624"/>
              </a:spcBef>
              <a:spcAft>
                <a:spcPts val="876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where in the worl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415800">
              <a:spcBef>
                <a:spcPts val="624"/>
              </a:spcBef>
              <a:spcAft>
                <a:spcPts val="876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means of written disclosu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415800">
              <a:spcBef>
                <a:spcPts val="624"/>
              </a:spcBef>
              <a:spcAft>
                <a:spcPts val="876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s capable of being of assistance in determining that the claimed invention is or is not new and that it does or does not involve an inventive ste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415800">
              <a:spcBef>
                <a:spcPts val="624"/>
              </a:spcBef>
              <a:spcAft>
                <a:spcPts val="876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the making available to the  public occurr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ior to the international filing 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876"/>
              </a:spcAft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T Minimum Documentation (Rule 3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7042-C741-4146-BC51-106BF73A7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610480" cy="4962600"/>
          </a:xfrm>
          <a:prstGeom prst="rect">
            <a:avLst/>
          </a:prstGeom>
          <a:ln w="0">
            <a:noFill/>
          </a:ln>
        </p:spPr>
      </p:pic>
      <p:sp>
        <p:nvSpPr>
          <p:cNvPr id="287" name="Oval 3"/>
          <p:cNvSpPr/>
          <p:nvPr/>
        </p:nvSpPr>
        <p:spPr>
          <a:xfrm>
            <a:off x="1676520" y="914400"/>
            <a:ext cx="4232160" cy="4724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4"/>
          <p:cNvSpPr/>
          <p:nvPr/>
        </p:nvSpPr>
        <p:spPr>
          <a:xfrm>
            <a:off x="6753240" y="914400"/>
            <a:ext cx="1552680" cy="4267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5"/>
          <p:cNvSpPr/>
          <p:nvPr/>
        </p:nvSpPr>
        <p:spPr>
          <a:xfrm>
            <a:off x="457200" y="914400"/>
            <a:ext cx="1289160" cy="4724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6"/>
          <p:cNvSpPr/>
          <p:nvPr/>
        </p:nvSpPr>
        <p:spPr>
          <a:xfrm>
            <a:off x="2971800" y="5789520"/>
            <a:ext cx="2579760" cy="1079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79f"/>
                </a:solidFill>
                <a:latin typeface="Arial"/>
                <a:ea typeface="ヒラギノ角ゴ Pro W3"/>
              </a:rPr>
              <a:t>Documents relevant to whether or not your invention may be patent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7"/>
          <p:cNvSpPr/>
          <p:nvPr/>
        </p:nvSpPr>
        <p:spPr>
          <a:xfrm>
            <a:off x="0" y="5196240"/>
            <a:ext cx="2682720" cy="1789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79f"/>
                </a:solidFill>
                <a:latin typeface="Arial"/>
                <a:ea typeface="ヒラギノ角ゴ Pro W3"/>
              </a:rPr>
              <a:t>Symbols indicating</a:t>
            </a:r>
            <a:br>
              <a:rPr sz="1100"/>
            </a:br>
            <a:r>
              <a:rPr b="1" lang="en-US" sz="1100" spc="-1" strike="noStrike">
                <a:solidFill>
                  <a:srgbClr val="00279f"/>
                </a:solidFill>
                <a:latin typeface="Arial"/>
                <a:ea typeface="ヒラギノ角ゴ Pro W3"/>
              </a:rPr>
              <a:t>which aspect of patentability </a:t>
            </a:r>
            <a:br>
              <a:rPr sz="1100"/>
            </a:br>
            <a:r>
              <a:rPr b="1" lang="en-US" sz="1100" spc="-1" strike="noStrike">
                <a:solidFill>
                  <a:srgbClr val="00279f"/>
                </a:solidFill>
                <a:latin typeface="Arial"/>
                <a:ea typeface="ヒラギノ角ゴ Pro W3"/>
              </a:rPr>
              <a:t>the document cited is</a:t>
            </a:r>
            <a:br>
              <a:rPr sz="1100"/>
            </a:br>
            <a:r>
              <a:rPr b="1" lang="en-US" sz="1100" spc="-1" strike="noStrike">
                <a:solidFill>
                  <a:srgbClr val="00279f"/>
                </a:solidFill>
                <a:latin typeface="Arial"/>
                <a:ea typeface="ヒラギノ角ゴ Pro W3"/>
              </a:rPr>
              <a:t> relevant to (for example, novelty, inventive step, etc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8"/>
          <p:cNvSpPr/>
          <p:nvPr/>
        </p:nvSpPr>
        <p:spPr>
          <a:xfrm>
            <a:off x="6300000" y="5556240"/>
            <a:ext cx="2395440" cy="1079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79f"/>
                </a:solidFill>
                <a:latin typeface="Arial"/>
                <a:ea typeface="ヒラギノ角ゴ Pro W3"/>
              </a:rPr>
              <a:t>The claim numbers</a:t>
            </a:r>
            <a:br>
              <a:rPr sz="1100"/>
            </a:br>
            <a:r>
              <a:rPr b="1" lang="en-US" sz="1100" spc="-1" strike="noStrike">
                <a:solidFill>
                  <a:srgbClr val="00279f"/>
                </a:solidFill>
                <a:latin typeface="Arial"/>
                <a:ea typeface="ヒラギノ角ゴ Pro W3"/>
              </a:rPr>
              <a:t>in your application to</a:t>
            </a:r>
            <a:br>
              <a:rPr sz="1100"/>
            </a:br>
            <a:r>
              <a:rPr b="1" lang="en-US" sz="1100" spc="-1" strike="noStrike">
                <a:solidFill>
                  <a:srgbClr val="00279f"/>
                </a:solidFill>
                <a:latin typeface="Arial"/>
                <a:ea typeface="ヒラギノ角ゴ Pro W3"/>
              </a:rPr>
              <a:t>which the document is</a:t>
            </a:r>
            <a:br>
              <a:rPr sz="1100"/>
            </a:br>
            <a:r>
              <a:rPr b="1" lang="en-US" sz="1100" spc="-1" strike="noStrike">
                <a:solidFill>
                  <a:srgbClr val="00279f"/>
                </a:solidFill>
                <a:latin typeface="Arial"/>
                <a:ea typeface="ヒラギノ角ゴ Pro W3"/>
              </a:rPr>
              <a:t>relev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0" y="152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Example:  PCT International Search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D729-E5FD-4688-987A-A4ED9C113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0" y="152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Example:  PCT Written opinion of the International Searching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48800" cy="4876920"/>
          </a:xfrm>
          <a:prstGeom prst="rect">
            <a:avLst/>
          </a:prstGeom>
          <a:ln w="0">
            <a:noFill/>
          </a:ln>
        </p:spPr>
      </p:pic>
      <p:sp>
        <p:nvSpPr>
          <p:cNvPr id="297" name="Oval 4"/>
          <p:cNvSpPr/>
          <p:nvPr/>
        </p:nvSpPr>
        <p:spPr>
          <a:xfrm>
            <a:off x="3095640" y="1828800"/>
            <a:ext cx="2671920" cy="19810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5"/>
          <p:cNvSpPr/>
          <p:nvPr/>
        </p:nvSpPr>
        <p:spPr>
          <a:xfrm>
            <a:off x="703440" y="3733920"/>
            <a:ext cx="7737120" cy="2209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6"/>
          <p:cNvSpPr/>
          <p:nvPr/>
        </p:nvSpPr>
        <p:spPr>
          <a:xfrm>
            <a:off x="6611760" y="5703480"/>
            <a:ext cx="2032200" cy="842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79f"/>
                </a:solidFill>
                <a:latin typeface="Arial"/>
                <a:ea typeface="ヒラギノ角ゴ Pro W3"/>
              </a:rPr>
              <a:t>Patentability assessment</a:t>
            </a:r>
            <a:br>
              <a:rPr sz="1100"/>
            </a:br>
            <a:r>
              <a:rPr b="1" lang="en-US" sz="1100" spc="-1" strike="noStrike">
                <a:solidFill>
                  <a:srgbClr val="00279f"/>
                </a:solidFill>
                <a:latin typeface="Arial"/>
                <a:ea typeface="ヒラギノ角ゴ Pro W3"/>
              </a:rPr>
              <a:t> of clai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7"/>
          <p:cNvSpPr/>
          <p:nvPr/>
        </p:nvSpPr>
        <p:spPr>
          <a:xfrm>
            <a:off x="561960" y="5627160"/>
            <a:ext cx="2033640" cy="842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79f"/>
                </a:solidFill>
                <a:latin typeface="Arial"/>
                <a:ea typeface="ヒラギノ角ゴ Pro W3"/>
              </a:rPr>
              <a:t>Reasoning supporting the assess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AE52-2147-4ED9-B835-E0DB49949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3675240" y="2754360"/>
            <a:ext cx="1876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3016080" y="4116240"/>
            <a:ext cx="243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876600" y="2774880"/>
            <a:ext cx="8920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month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2171520" y="3486240"/>
            <a:ext cx="104148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P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253152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1140840" y="3029040"/>
            <a:ext cx="286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7696080" y="3048120"/>
            <a:ext cx="3952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266840" y="3429000"/>
            <a:ext cx="668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0"/>
          <p:cNvSpPr/>
          <p:nvPr/>
        </p:nvSpPr>
        <p:spPr>
          <a:xfrm flipV="1">
            <a:off x="2743200" y="329076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3325680" y="3490920"/>
            <a:ext cx="133848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 report &amp; written opi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380304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4528440" y="303048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3971880" y="2627280"/>
            <a:ext cx="145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5"/>
          <p:cNvSpPr/>
          <p:nvPr/>
        </p:nvSpPr>
        <p:spPr>
          <a:xfrm flipV="1">
            <a:off x="3986280" y="329220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6"/>
          <p:cNvSpPr/>
          <p:nvPr/>
        </p:nvSpPr>
        <p:spPr>
          <a:xfrm>
            <a:off x="4782960" y="3505320"/>
            <a:ext cx="1546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demand f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x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7"/>
          <p:cNvGrpSpPr/>
          <p:nvPr/>
        </p:nvGrpSpPr>
        <p:grpSpPr>
          <a:xfrm>
            <a:off x="7923240" y="2829960"/>
            <a:ext cx="543240" cy="1197720"/>
            <a:chOff x="7923240" y="2829960"/>
            <a:chExt cx="543240" cy="1197720"/>
          </a:xfrm>
        </p:grpSpPr>
        <p:sp>
          <p:nvSpPr>
            <p:cNvPr id="318" name="Line 18"/>
            <p:cNvSpPr/>
            <p:nvPr/>
          </p:nvSpPr>
          <p:spPr>
            <a:xfrm flipV="1">
              <a:off x="7954560" y="3022560"/>
              <a:ext cx="37440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9"/>
            <p:cNvSpPr/>
            <p:nvPr/>
          </p:nvSpPr>
          <p:spPr>
            <a:xfrm>
              <a:off x="7954920" y="344088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0"/>
            <p:cNvSpPr/>
            <p:nvPr/>
          </p:nvSpPr>
          <p:spPr>
            <a:xfrm>
              <a:off x="7923240" y="3429360"/>
              <a:ext cx="437400" cy="43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1"/>
            <p:cNvSpPr/>
            <p:nvPr/>
          </p:nvSpPr>
          <p:spPr>
            <a:xfrm>
              <a:off x="7943400" y="3429720"/>
              <a:ext cx="160200" cy="59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2"/>
            <p:cNvSpPr/>
            <p:nvPr/>
          </p:nvSpPr>
          <p:spPr>
            <a:xfrm flipV="1">
              <a:off x="7954920" y="327996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3"/>
            <p:cNvSpPr/>
            <p:nvPr/>
          </p:nvSpPr>
          <p:spPr>
            <a:xfrm flipV="1">
              <a:off x="7943400" y="2829960"/>
              <a:ext cx="16092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Rectangle 24"/>
          <p:cNvSpPr/>
          <p:nvPr/>
        </p:nvSpPr>
        <p:spPr>
          <a:xfrm>
            <a:off x="816480" y="3465360"/>
            <a:ext cx="103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5"/>
          <p:cNvSpPr/>
          <p:nvPr/>
        </p:nvSpPr>
        <p:spPr>
          <a:xfrm>
            <a:off x="7493760" y="2057400"/>
            <a:ext cx="812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6"/>
          <p:cNvSpPr/>
          <p:nvPr/>
        </p:nvSpPr>
        <p:spPr>
          <a:xfrm flipV="1">
            <a:off x="471312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7"/>
          <p:cNvSpPr/>
          <p:nvPr/>
        </p:nvSpPr>
        <p:spPr>
          <a:xfrm flipV="1">
            <a:off x="12668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8"/>
          <p:cNvSpPr/>
          <p:nvPr/>
        </p:nvSpPr>
        <p:spPr>
          <a:xfrm>
            <a:off x="527544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9"/>
          <p:cNvSpPr/>
          <p:nvPr/>
        </p:nvSpPr>
        <p:spPr>
          <a:xfrm flipV="1">
            <a:off x="55562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0"/>
          <p:cNvSpPr/>
          <p:nvPr/>
        </p:nvSpPr>
        <p:spPr>
          <a:xfrm>
            <a:off x="696276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1"/>
          <p:cNvSpPr/>
          <p:nvPr/>
        </p:nvSpPr>
        <p:spPr>
          <a:xfrm flipV="1">
            <a:off x="724536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2"/>
          <p:cNvSpPr/>
          <p:nvPr/>
        </p:nvSpPr>
        <p:spPr>
          <a:xfrm>
            <a:off x="6611760" y="3505320"/>
            <a:ext cx="1338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 report on paten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3"/>
          <p:cNvSpPr/>
          <p:nvPr/>
        </p:nvSpPr>
        <p:spPr>
          <a:xfrm>
            <a:off x="3809880" y="16765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Disclosing to world content of application in standardized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4"/>
          <p:cNvSpPr/>
          <p:nvPr/>
        </p:nvSpPr>
        <p:spPr>
          <a:xfrm flipV="1">
            <a:off x="4724280" y="2362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5"/>
          <p:cNvSpPr/>
          <p:nvPr/>
        </p:nvSpPr>
        <p:spPr>
          <a:xfrm>
            <a:off x="2656080" y="228600"/>
            <a:ext cx="366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The PC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324B-BC51-41FA-9F02-909F3F65A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3675240" y="2754360"/>
            <a:ext cx="1876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016080" y="4116240"/>
            <a:ext cx="243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876600" y="2774880"/>
            <a:ext cx="8920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month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2171520" y="3486240"/>
            <a:ext cx="104148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P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253152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1140840" y="3029040"/>
            <a:ext cx="286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7696080" y="3048120"/>
            <a:ext cx="3952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1266840" y="3429000"/>
            <a:ext cx="668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743200" y="329076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3325680" y="3490920"/>
            <a:ext cx="133848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 report &amp; written opi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"/>
          <p:cNvSpPr/>
          <p:nvPr/>
        </p:nvSpPr>
        <p:spPr>
          <a:xfrm>
            <a:off x="380304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4528440" y="303048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4"/>
          <p:cNvSpPr/>
          <p:nvPr/>
        </p:nvSpPr>
        <p:spPr>
          <a:xfrm>
            <a:off x="3971880" y="2627280"/>
            <a:ext cx="145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5"/>
          <p:cNvSpPr/>
          <p:nvPr/>
        </p:nvSpPr>
        <p:spPr>
          <a:xfrm flipV="1">
            <a:off x="3986280" y="329220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6"/>
          <p:cNvSpPr/>
          <p:nvPr/>
        </p:nvSpPr>
        <p:spPr>
          <a:xfrm>
            <a:off x="4782960" y="3505320"/>
            <a:ext cx="1546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File</a:t>
            </a:r>
            <a:br>
              <a:rPr sz="1400"/>
            </a:b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 demand for</a:t>
            </a:r>
            <a:br>
              <a:rPr sz="1400"/>
            </a:b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       </a:t>
            </a: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      </a:t>
            </a: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ex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7"/>
          <p:cNvGrpSpPr/>
          <p:nvPr/>
        </p:nvGrpSpPr>
        <p:grpSpPr>
          <a:xfrm>
            <a:off x="7923240" y="2829960"/>
            <a:ext cx="543240" cy="1197720"/>
            <a:chOff x="7923240" y="2829960"/>
            <a:chExt cx="543240" cy="1197720"/>
          </a:xfrm>
        </p:grpSpPr>
        <p:sp>
          <p:nvSpPr>
            <p:cNvPr id="353" name="Line 18"/>
            <p:cNvSpPr/>
            <p:nvPr/>
          </p:nvSpPr>
          <p:spPr>
            <a:xfrm flipV="1">
              <a:off x="7954560" y="3022560"/>
              <a:ext cx="37440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9"/>
            <p:cNvSpPr/>
            <p:nvPr/>
          </p:nvSpPr>
          <p:spPr>
            <a:xfrm>
              <a:off x="7954920" y="344088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0"/>
            <p:cNvSpPr/>
            <p:nvPr/>
          </p:nvSpPr>
          <p:spPr>
            <a:xfrm>
              <a:off x="7923240" y="3429360"/>
              <a:ext cx="437400" cy="43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21"/>
            <p:cNvSpPr/>
            <p:nvPr/>
          </p:nvSpPr>
          <p:spPr>
            <a:xfrm>
              <a:off x="7943400" y="3429720"/>
              <a:ext cx="160200" cy="59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22"/>
            <p:cNvSpPr/>
            <p:nvPr/>
          </p:nvSpPr>
          <p:spPr>
            <a:xfrm flipV="1">
              <a:off x="7954920" y="327996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3"/>
            <p:cNvSpPr/>
            <p:nvPr/>
          </p:nvSpPr>
          <p:spPr>
            <a:xfrm flipV="1">
              <a:off x="7943400" y="2829960"/>
              <a:ext cx="16092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Rectangle 24"/>
          <p:cNvSpPr/>
          <p:nvPr/>
        </p:nvSpPr>
        <p:spPr>
          <a:xfrm>
            <a:off x="816480" y="3465360"/>
            <a:ext cx="103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493760" y="2057400"/>
            <a:ext cx="812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6"/>
          <p:cNvSpPr/>
          <p:nvPr/>
        </p:nvSpPr>
        <p:spPr>
          <a:xfrm flipV="1">
            <a:off x="471312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7"/>
          <p:cNvSpPr/>
          <p:nvPr/>
        </p:nvSpPr>
        <p:spPr>
          <a:xfrm flipV="1">
            <a:off x="12668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8"/>
          <p:cNvSpPr/>
          <p:nvPr/>
        </p:nvSpPr>
        <p:spPr>
          <a:xfrm>
            <a:off x="527544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9"/>
          <p:cNvSpPr/>
          <p:nvPr/>
        </p:nvSpPr>
        <p:spPr>
          <a:xfrm flipV="1">
            <a:off x="55562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0"/>
          <p:cNvSpPr/>
          <p:nvPr/>
        </p:nvSpPr>
        <p:spPr>
          <a:xfrm>
            <a:off x="696276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1"/>
          <p:cNvSpPr/>
          <p:nvPr/>
        </p:nvSpPr>
        <p:spPr>
          <a:xfrm flipV="1">
            <a:off x="724536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2"/>
          <p:cNvSpPr/>
          <p:nvPr/>
        </p:nvSpPr>
        <p:spPr>
          <a:xfrm>
            <a:off x="6611760" y="3505320"/>
            <a:ext cx="1338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 report on paten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3"/>
          <p:cNvSpPr/>
          <p:nvPr/>
        </p:nvSpPr>
        <p:spPr>
          <a:xfrm>
            <a:off x="4343400" y="510552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Request an additional patentability analysis on basis of amended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>
            <a:off x="5556240" y="4876920"/>
            <a:ext cx="64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5"/>
          <p:cNvSpPr/>
          <p:nvPr/>
        </p:nvSpPr>
        <p:spPr>
          <a:xfrm>
            <a:off x="2656080" y="228600"/>
            <a:ext cx="366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The PC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2A31-6C0F-438C-B951-AFBF0A696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3675240" y="2754360"/>
            <a:ext cx="1876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3016080" y="4116240"/>
            <a:ext cx="243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876600" y="2774880"/>
            <a:ext cx="8920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month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171520" y="3486240"/>
            <a:ext cx="104148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P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253152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1140840" y="3029040"/>
            <a:ext cx="286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7696080" y="3048120"/>
            <a:ext cx="3952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1266840" y="3429000"/>
            <a:ext cx="668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0"/>
          <p:cNvSpPr/>
          <p:nvPr/>
        </p:nvSpPr>
        <p:spPr>
          <a:xfrm flipV="1">
            <a:off x="2743200" y="329076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3325680" y="3490920"/>
            <a:ext cx="133848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 report &amp; written opi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2"/>
          <p:cNvSpPr/>
          <p:nvPr/>
        </p:nvSpPr>
        <p:spPr>
          <a:xfrm>
            <a:off x="380304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3"/>
          <p:cNvSpPr/>
          <p:nvPr/>
        </p:nvSpPr>
        <p:spPr>
          <a:xfrm>
            <a:off x="4528440" y="303048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3971880" y="2627280"/>
            <a:ext cx="145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5"/>
          <p:cNvSpPr/>
          <p:nvPr/>
        </p:nvSpPr>
        <p:spPr>
          <a:xfrm flipV="1">
            <a:off x="3986280" y="329220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6"/>
          <p:cNvSpPr/>
          <p:nvPr/>
        </p:nvSpPr>
        <p:spPr>
          <a:xfrm>
            <a:off x="4782960" y="3505320"/>
            <a:ext cx="1546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demand f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x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17"/>
          <p:cNvGrpSpPr/>
          <p:nvPr/>
        </p:nvGrpSpPr>
        <p:grpSpPr>
          <a:xfrm>
            <a:off x="7923240" y="2829960"/>
            <a:ext cx="543240" cy="1197720"/>
            <a:chOff x="7923240" y="2829960"/>
            <a:chExt cx="543240" cy="1197720"/>
          </a:xfrm>
        </p:grpSpPr>
        <p:sp>
          <p:nvSpPr>
            <p:cNvPr id="388" name="Line 18"/>
            <p:cNvSpPr/>
            <p:nvPr/>
          </p:nvSpPr>
          <p:spPr>
            <a:xfrm flipV="1">
              <a:off x="7954560" y="3022560"/>
              <a:ext cx="37440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9"/>
            <p:cNvSpPr/>
            <p:nvPr/>
          </p:nvSpPr>
          <p:spPr>
            <a:xfrm>
              <a:off x="7954920" y="344088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0"/>
            <p:cNvSpPr/>
            <p:nvPr/>
          </p:nvSpPr>
          <p:spPr>
            <a:xfrm>
              <a:off x="7923240" y="3429360"/>
              <a:ext cx="437400" cy="43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1"/>
            <p:cNvSpPr/>
            <p:nvPr/>
          </p:nvSpPr>
          <p:spPr>
            <a:xfrm>
              <a:off x="7943400" y="3429720"/>
              <a:ext cx="160200" cy="59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2"/>
            <p:cNvSpPr/>
            <p:nvPr/>
          </p:nvSpPr>
          <p:spPr>
            <a:xfrm flipV="1">
              <a:off x="7954920" y="327996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3"/>
            <p:cNvSpPr/>
            <p:nvPr/>
          </p:nvSpPr>
          <p:spPr>
            <a:xfrm flipV="1">
              <a:off x="7943400" y="2829960"/>
              <a:ext cx="16092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24"/>
          <p:cNvSpPr/>
          <p:nvPr/>
        </p:nvSpPr>
        <p:spPr>
          <a:xfrm>
            <a:off x="816480" y="3465360"/>
            <a:ext cx="103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5"/>
          <p:cNvSpPr/>
          <p:nvPr/>
        </p:nvSpPr>
        <p:spPr>
          <a:xfrm>
            <a:off x="7493760" y="2057400"/>
            <a:ext cx="812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6"/>
          <p:cNvSpPr/>
          <p:nvPr/>
        </p:nvSpPr>
        <p:spPr>
          <a:xfrm flipV="1">
            <a:off x="471312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7"/>
          <p:cNvSpPr/>
          <p:nvPr/>
        </p:nvSpPr>
        <p:spPr>
          <a:xfrm flipV="1">
            <a:off x="12668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8"/>
          <p:cNvSpPr/>
          <p:nvPr/>
        </p:nvSpPr>
        <p:spPr>
          <a:xfrm>
            <a:off x="527544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9"/>
          <p:cNvSpPr/>
          <p:nvPr/>
        </p:nvSpPr>
        <p:spPr>
          <a:xfrm flipV="1">
            <a:off x="55562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30"/>
          <p:cNvSpPr/>
          <p:nvPr/>
        </p:nvSpPr>
        <p:spPr>
          <a:xfrm>
            <a:off x="696276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1"/>
          <p:cNvSpPr/>
          <p:nvPr/>
        </p:nvSpPr>
        <p:spPr>
          <a:xfrm flipV="1">
            <a:off x="724536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2"/>
          <p:cNvSpPr/>
          <p:nvPr/>
        </p:nvSpPr>
        <p:spPr>
          <a:xfrm>
            <a:off x="6611760" y="3505320"/>
            <a:ext cx="1338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preliminary report on paten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3"/>
          <p:cNvSpPr/>
          <p:nvPr/>
        </p:nvSpPr>
        <p:spPr>
          <a:xfrm>
            <a:off x="6172200" y="502920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Additional patentability analysis, designed to assist in national phase decision-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4"/>
          <p:cNvSpPr/>
          <p:nvPr/>
        </p:nvSpPr>
        <p:spPr>
          <a:xfrm>
            <a:off x="723888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5"/>
          <p:cNvSpPr/>
          <p:nvPr/>
        </p:nvSpPr>
        <p:spPr>
          <a:xfrm>
            <a:off x="2656080" y="228600"/>
            <a:ext cx="366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The PC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76BB-063A-4933-98D9-0F0E52A32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3675240" y="2754360"/>
            <a:ext cx="1876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3016080" y="4116240"/>
            <a:ext cx="243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876600" y="2774880"/>
            <a:ext cx="8920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month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2171520" y="3486240"/>
            <a:ext cx="104148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P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253152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1140840" y="3029040"/>
            <a:ext cx="286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7696080" y="3048120"/>
            <a:ext cx="3952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9"/>
          <p:cNvSpPr/>
          <p:nvPr/>
        </p:nvSpPr>
        <p:spPr>
          <a:xfrm>
            <a:off x="1266840" y="3429000"/>
            <a:ext cx="668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0"/>
          <p:cNvSpPr/>
          <p:nvPr/>
        </p:nvSpPr>
        <p:spPr>
          <a:xfrm flipV="1">
            <a:off x="2743200" y="329076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3325680" y="3490920"/>
            <a:ext cx="133848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 report &amp; written opi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380304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3"/>
          <p:cNvSpPr/>
          <p:nvPr/>
        </p:nvSpPr>
        <p:spPr>
          <a:xfrm>
            <a:off x="4528440" y="303048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4"/>
          <p:cNvSpPr/>
          <p:nvPr/>
        </p:nvSpPr>
        <p:spPr>
          <a:xfrm>
            <a:off x="3971880" y="2627280"/>
            <a:ext cx="145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5"/>
          <p:cNvSpPr/>
          <p:nvPr/>
        </p:nvSpPr>
        <p:spPr>
          <a:xfrm flipV="1">
            <a:off x="3986280" y="329220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4782960" y="3505320"/>
            <a:ext cx="1546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demand f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x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17"/>
          <p:cNvGrpSpPr/>
          <p:nvPr/>
        </p:nvGrpSpPr>
        <p:grpSpPr>
          <a:xfrm>
            <a:off x="7923240" y="2829960"/>
            <a:ext cx="543240" cy="1197720"/>
            <a:chOff x="7923240" y="2829960"/>
            <a:chExt cx="543240" cy="1197720"/>
          </a:xfrm>
        </p:grpSpPr>
        <p:sp>
          <p:nvSpPr>
            <p:cNvPr id="423" name="Line 18"/>
            <p:cNvSpPr/>
            <p:nvPr/>
          </p:nvSpPr>
          <p:spPr>
            <a:xfrm flipV="1">
              <a:off x="7954560" y="3022560"/>
              <a:ext cx="37440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19"/>
            <p:cNvSpPr/>
            <p:nvPr/>
          </p:nvSpPr>
          <p:spPr>
            <a:xfrm>
              <a:off x="7954920" y="344088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20"/>
            <p:cNvSpPr/>
            <p:nvPr/>
          </p:nvSpPr>
          <p:spPr>
            <a:xfrm>
              <a:off x="7923240" y="3429360"/>
              <a:ext cx="437400" cy="43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21"/>
            <p:cNvSpPr/>
            <p:nvPr/>
          </p:nvSpPr>
          <p:spPr>
            <a:xfrm>
              <a:off x="7943400" y="3429720"/>
              <a:ext cx="160200" cy="59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2"/>
            <p:cNvSpPr/>
            <p:nvPr/>
          </p:nvSpPr>
          <p:spPr>
            <a:xfrm flipV="1">
              <a:off x="7954920" y="327996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23"/>
            <p:cNvSpPr/>
            <p:nvPr/>
          </p:nvSpPr>
          <p:spPr>
            <a:xfrm flipV="1">
              <a:off x="7943400" y="2829960"/>
              <a:ext cx="16092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Rectangle 24"/>
          <p:cNvSpPr/>
          <p:nvPr/>
        </p:nvSpPr>
        <p:spPr>
          <a:xfrm>
            <a:off x="816480" y="3465360"/>
            <a:ext cx="103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7464960" y="2057400"/>
            <a:ext cx="8708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26"/>
          <p:cNvSpPr/>
          <p:nvPr/>
        </p:nvSpPr>
        <p:spPr>
          <a:xfrm flipV="1">
            <a:off x="471312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27"/>
          <p:cNvSpPr/>
          <p:nvPr/>
        </p:nvSpPr>
        <p:spPr>
          <a:xfrm flipV="1">
            <a:off x="12668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8"/>
          <p:cNvSpPr/>
          <p:nvPr/>
        </p:nvSpPr>
        <p:spPr>
          <a:xfrm>
            <a:off x="527544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9"/>
          <p:cNvSpPr/>
          <p:nvPr/>
        </p:nvSpPr>
        <p:spPr>
          <a:xfrm flipV="1">
            <a:off x="55562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0"/>
          <p:cNvSpPr/>
          <p:nvPr/>
        </p:nvSpPr>
        <p:spPr>
          <a:xfrm>
            <a:off x="696276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1"/>
          <p:cNvSpPr/>
          <p:nvPr/>
        </p:nvSpPr>
        <p:spPr>
          <a:xfrm flipV="1">
            <a:off x="724536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2"/>
          <p:cNvSpPr/>
          <p:nvPr/>
        </p:nvSpPr>
        <p:spPr>
          <a:xfrm>
            <a:off x="6611760" y="3505320"/>
            <a:ext cx="1338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 report on paten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3"/>
          <p:cNvSpPr/>
          <p:nvPr/>
        </p:nvSpPr>
        <p:spPr>
          <a:xfrm>
            <a:off x="7162920" y="76212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Express intention and take steps to pursue to grant in various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34"/>
          <p:cNvSpPr/>
          <p:nvPr/>
        </p:nvSpPr>
        <p:spPr>
          <a:xfrm flipH="1" flipV="1">
            <a:off x="8000640" y="1600200"/>
            <a:ext cx="176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5"/>
          <p:cNvSpPr/>
          <p:nvPr/>
        </p:nvSpPr>
        <p:spPr>
          <a:xfrm>
            <a:off x="2656080" y="228600"/>
            <a:ext cx="366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The PC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34B3-456A-4839-B294-C5AE35187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PCT</a:t>
            </a:r>
            <a:br>
              <a:rPr sz="3200"/>
            </a:b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grpSp>
        <p:nvGrpSpPr>
          <p:cNvPr id="443" name="Group 3"/>
          <p:cNvGrpSpPr/>
          <p:nvPr/>
        </p:nvGrpSpPr>
        <p:grpSpPr>
          <a:xfrm>
            <a:off x="1476360" y="2133720"/>
            <a:ext cx="6119640" cy="4089240"/>
            <a:chOff x="1476360" y="2133720"/>
            <a:chExt cx="6119640" cy="4089240"/>
          </a:xfrm>
        </p:grpSpPr>
        <p:sp>
          <p:nvSpPr>
            <p:cNvPr id="444" name="AutoShape 4"/>
            <p:cNvSpPr/>
            <p:nvPr/>
          </p:nvSpPr>
          <p:spPr>
            <a:xfrm>
              <a:off x="1476360" y="2133720"/>
              <a:ext cx="6112800" cy="40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5" name="Picture 5" descr=""/>
            <p:cNvPicPr/>
            <p:nvPr/>
          </p:nvPicPr>
          <p:blipFill>
            <a:blip r:embed="rId1"/>
            <a:stretch/>
          </p:blipFill>
          <p:spPr>
            <a:xfrm>
              <a:off x="1476360" y="2133720"/>
              <a:ext cx="6119640" cy="408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6" name="Picture 6" descr="pct treaty book"/>
          <p:cNvPicPr/>
          <p:nvPr/>
        </p:nvPicPr>
        <p:blipFill>
          <a:blip r:embed="rId2"/>
          <a:stretch/>
        </p:blipFill>
        <p:spPr>
          <a:xfrm>
            <a:off x="3059280" y="40464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9B67-C6F9-41D4-BC13-51532502E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PCT in 1978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449" name="Picture 3" descr="144-06"/>
          <p:cNvPicPr/>
          <p:nvPr/>
        </p:nvPicPr>
        <p:blipFill>
          <a:blip r:embed="rId1"/>
          <a:stretch/>
        </p:blipFill>
        <p:spPr>
          <a:xfrm>
            <a:off x="85680" y="1187280"/>
            <a:ext cx="9058320" cy="4756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0E4D-DD35-4AB5-802F-5FF406680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ing the traditional patent system to seek multinational patent protection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3212640"/>
            <a:ext cx="8964720" cy="31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patent application followed within 12 months by multiple foreign applications claiming priority under Paris Conven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ultiple formality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ultiple sear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ultiple pub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ultiple examinations and prosecutions of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lations and national fees required at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rationalization because of regional arrangemen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PO, EAPO, EPO, O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 flipV="1">
            <a:off x="4784760" y="1411200"/>
            <a:ext cx="0" cy="98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723760" y="1900080"/>
            <a:ext cx="286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361760" y="191772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2472840" y="2354400"/>
            <a:ext cx="928440" cy="5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ocal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701680" y="1870200"/>
            <a:ext cx="1006200" cy="5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bro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2882880" y="2301840"/>
            <a:ext cx="189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4784760" y="2308320"/>
            <a:ext cx="0" cy="96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>
            <a:off x="4791240" y="2308320"/>
            <a:ext cx="860400" cy="39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 flipV="1">
            <a:off x="4791240" y="1887120"/>
            <a:ext cx="860400" cy="420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 flipV="1">
            <a:off x="4791240" y="1482480"/>
            <a:ext cx="54288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4791240" y="2308320"/>
            <a:ext cx="463320" cy="79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5"/>
          <p:cNvSpPr/>
          <p:nvPr/>
        </p:nvSpPr>
        <p:spPr>
          <a:xfrm>
            <a:off x="2881440" y="221940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2003040" y="1909800"/>
            <a:ext cx="7884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month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CT Coverage Today</a:t>
            </a: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graphicFrame>
        <p:nvGraphicFramePr>
          <p:cNvPr id="451" name="Object 2"/>
          <p:cNvGraphicFramePr/>
          <p:nvPr/>
        </p:nvGraphicFramePr>
        <p:xfrm>
          <a:off x="0" y="0"/>
          <a:ext cx="10763280" cy="771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763280" cy="77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Object 2"/>
          <p:cNvGraphicFramePr/>
          <p:nvPr/>
        </p:nvGraphicFramePr>
        <p:xfrm>
          <a:off x="1447920" y="0"/>
          <a:ext cx="7696080" cy="45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0"/>
                    <a:ext cx="769608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5" name="Group 3"/>
          <p:cNvGrpSpPr/>
          <p:nvPr/>
        </p:nvGrpSpPr>
        <p:grpSpPr>
          <a:xfrm>
            <a:off x="228600" y="914400"/>
            <a:ext cx="1125000" cy="307080"/>
            <a:chOff x="228600" y="914400"/>
            <a:chExt cx="1125000" cy="307080"/>
          </a:xfrm>
        </p:grpSpPr>
        <p:sp>
          <p:nvSpPr>
            <p:cNvPr id="456" name="Rectangle 4"/>
            <p:cNvSpPr/>
            <p:nvPr/>
          </p:nvSpPr>
          <p:spPr>
            <a:xfrm>
              <a:off x="228600" y="914400"/>
              <a:ext cx="210960" cy="28548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5"/>
            <p:cNvSpPr/>
            <p:nvPr/>
          </p:nvSpPr>
          <p:spPr>
            <a:xfrm>
              <a:off x="369000" y="914400"/>
              <a:ext cx="98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=P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Text Box 6"/>
          <p:cNvSpPr/>
          <p:nvPr/>
        </p:nvSpPr>
        <p:spPr>
          <a:xfrm>
            <a:off x="33480" y="2924280"/>
            <a:ext cx="1752480" cy="58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lban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lger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go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tigua and Barbud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rmen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ustral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ustr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zerbaij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ahrain</a:t>
            </a:r>
            <a:r>
              <a:rPr b="0" lang="en-US" sz="800" spc="-1" strike="noStrike">
                <a:solidFill>
                  <a:srgbClr val="af3737"/>
                </a:solidFill>
                <a:latin typeface="Arial"/>
                <a:ea typeface="ヒラギノ角ゴ Pro W3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arbado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laru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lgiu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liz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ni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osnia and Herzegovin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otswa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razi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runei Darussal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ulgar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urkina Fas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amero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anad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entral African Republ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h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h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hi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lomb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mor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n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1353960" y="3073320"/>
            <a:ext cx="22798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sta Ric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ôte d'Ivoir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roat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b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ypru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zech Republ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mocratic People'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public of Kore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nmar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omin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ominican Republic</a:t>
            </a:r>
            <a:r>
              <a:rPr b="0" lang="en-US" sz="800" spc="-1" strike="noStrike">
                <a:solidFill>
                  <a:srgbClr val="af3737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cuad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gy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l Salvad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quatorial Guine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ston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nlan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rance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ab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amb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org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rm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ha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ree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renad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uatema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uine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2700360" y="3535200"/>
            <a:ext cx="1541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uinea-Bissau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ondur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ungar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celan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d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dones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ヒラギノ角ゴ Pro W3"/>
              </a:rPr>
              <a:t>Iran (Islamic Republic o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ヒラギノ角ゴ Pro W3"/>
              </a:rPr>
              <a:t>(4 Oct. 201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relan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srae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tal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Jap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azakhst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eny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yrgyzst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o People’s Dem Re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tvia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soth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iber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ibyan Arab Jamahiriy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iechtenste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ithuan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uxembour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adagasc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3995640" y="3135240"/>
            <a:ext cx="2622600" cy="39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alaw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alay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al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al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auritan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exic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onac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ongol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onteneg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orocc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ozambiqu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mib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etherland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ew Zea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icaragu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i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ig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orw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an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apua New Guin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e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hilippin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4932360" y="3276720"/>
            <a:ext cx="23194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o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ortug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Qat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public of Kore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public of Moldov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oman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wan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ussian Feder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aint Luc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aint Vincent and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the Grenadin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an Mari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ao Tomé e Princi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ヒラギノ角ゴ Pro W3"/>
              </a:rPr>
              <a:t>Saudi Arabia (3 Aug. 201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neg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rb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yche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ierra Leon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ingapor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lovak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loven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outh Afric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pai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ri Lank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ud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wazi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1"/>
          <p:cNvSpPr/>
          <p:nvPr/>
        </p:nvSpPr>
        <p:spPr>
          <a:xfrm>
            <a:off x="6372360" y="3459240"/>
            <a:ext cx="227952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. Kitts and Nev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we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witzer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yrian Arab Re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ajikist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hai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he former Yugoslav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public of Macedon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og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rinidad and Tobag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uni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urke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urkmenist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gand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krain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ited Arab Emir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ited Kingdo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480" indent="-5040">
              <a:lnSpc>
                <a:spcPct val="100000"/>
              </a:lnSpc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ited Republic of Tanzan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480" indent="-5040">
              <a:lnSpc>
                <a:spcPct val="100000"/>
              </a:lnSpc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ited States of Americ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zbekist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iet Na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amb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imbabw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2"/>
          <p:cNvSpPr/>
          <p:nvPr/>
        </p:nvSpPr>
        <p:spPr>
          <a:xfrm>
            <a:off x="3027240" y="0"/>
            <a:ext cx="34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ヒラギノ角ゴ Pro W3"/>
              </a:rPr>
              <a:t>148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 PCT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"/>
              </a:rPr>
              <a:t>Countries not yet in PC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250920" y="692280"/>
            <a:ext cx="3240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fghan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do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ah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anglad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hu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oli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urun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ambo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ape Ve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mocratic Republic of Co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jibou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it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uy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a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3635280" y="692280"/>
            <a:ext cx="2521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ma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r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rib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ba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d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shall Is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urit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n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omon Is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6300720" y="692280"/>
            <a:ext cx="244800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Su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i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or-L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n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va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ugu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nu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PCT Applications 2012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graphicFrame>
        <p:nvGraphicFramePr>
          <p:cNvPr id="470" name="Object 3"/>
          <p:cNvGraphicFramePr/>
          <p:nvPr/>
        </p:nvGraphicFramePr>
        <p:xfrm>
          <a:off x="250920" y="0"/>
          <a:ext cx="8686800" cy="61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0"/>
                    <a:ext cx="8686800" cy="61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Text Box 4"/>
          <p:cNvSpPr/>
          <p:nvPr/>
        </p:nvSpPr>
        <p:spPr>
          <a:xfrm>
            <a:off x="179280" y="5950080"/>
            <a:ext cx="30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94,400 PCT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+6.6% in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2050920" y="1916280"/>
            <a:ext cx="288144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L: +1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N: +1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R: +13.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: +13.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JP: +12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3708360" y="5950080"/>
            <a:ext cx="30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87.3% fully electro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orecasting +3.8% in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142920" y="1413000"/>
            <a:ext cx="9001080" cy="391788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3"/>
          <p:cNvSpPr/>
          <p:nvPr/>
        </p:nvSpPr>
        <p:spPr>
          <a:xfrm>
            <a:off x="684360" y="-17136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ends in PCT filing</a:t>
            </a: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Object 2"/>
          <p:cNvGraphicFramePr/>
          <p:nvPr/>
        </p:nvGraphicFramePr>
        <p:xfrm>
          <a:off x="179280" y="1052640"/>
          <a:ext cx="896472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896472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Rectangle 3"/>
          <p:cNvSpPr/>
          <p:nvPr/>
        </p:nvSpPr>
        <p:spPr>
          <a:xfrm>
            <a:off x="684360" y="-17136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ternational applications received in 2012 by country of origin</a:t>
            </a: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468360" y="6165720"/>
            <a:ext cx="67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p 15 countries responsible for 92.7% of IAs filed in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5"/>
          <p:cNvSpPr/>
          <p:nvPr/>
        </p:nvSpPr>
        <p:spPr>
          <a:xfrm>
            <a:off x="7740720" y="5013360"/>
            <a:ext cx="503280" cy="1152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6"/>
          <p:cNvSpPr/>
          <p:nvPr/>
        </p:nvSpPr>
        <p:spPr>
          <a:xfrm>
            <a:off x="7524720" y="4869000"/>
            <a:ext cx="432000" cy="158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3"/>
          <p:cNvSpPr/>
          <p:nvPr/>
        </p:nvSpPr>
        <p:spPr>
          <a:xfrm>
            <a:off x="179280" y="4916520"/>
            <a:ext cx="878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507,400 national phase entries estimated in 2011 (+ 4.2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31,800 (about 85%) of NPEs are from non-resident applicants, making PCT NPEs responsible for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ヒラギノ角ゴ Pro W3"/>
              </a:rPr>
              <a:t>54.9% of all non-resident patent applications filed worldwide in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tretch/>
        </p:blipFill>
        <p:spPr>
          <a:xfrm>
            <a:off x="0" y="1395360"/>
            <a:ext cx="9144000" cy="324000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6"/>
          <p:cNvSpPr/>
          <p:nvPr/>
        </p:nvSpPr>
        <p:spPr>
          <a:xfrm>
            <a:off x="684360" y="-17136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CT National phase entries—total</a:t>
            </a: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0" y="55468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SPTO most preferred DO for National Phase Entries; had highest growth among the IP5 Offices (+7.3%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razil (+12.6%) and India (+9.8%) had highest growth rates among top 10 Off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6769080" cy="440352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4"/>
          <p:cNvSpPr/>
          <p:nvPr/>
        </p:nvSpPr>
        <p:spPr>
          <a:xfrm>
            <a:off x="684360" y="-17136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CT National phase entries 2011—by target DO (1)</a:t>
            </a: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6769080" cy="492732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3"/>
          <p:cNvSpPr/>
          <p:nvPr/>
        </p:nvSpPr>
        <p:spPr>
          <a:xfrm>
            <a:off x="758880" y="0"/>
            <a:ext cx="73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CT National phase entries 2011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y target DO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Top PCT Applicants 2012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92" name="Rectangle 3"/>
          <p:cNvSpPr/>
          <p:nvPr/>
        </p:nvSpPr>
        <p:spPr>
          <a:xfrm>
            <a:off x="2394000" y="1052640"/>
            <a:ext cx="51116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TE Corporation—CN (3906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anasonic—JP (2951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arp—JP (20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uawei—CN (18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osch—DE (177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yota—JP (165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Qualcomm—US (13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emens—DE (127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hilips—NL (12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ricsson—SE (119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G Electronics—KR (109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tsubishi Electric—JP (104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EC—JP (999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ujifilm Corporation (89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tachi—JP (74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msung Electronics—KR (68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ujitsu—JP (67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—FI (67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ASF—DE (644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l—US (64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189720" y="551664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(…) of publ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T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26BA-B061-46BB-915D-A4CC085C9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PCT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─ 1970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idea:  simplify the procedure for obtaining patent protection in many countries, making it more efficient and economical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patent system:  makes available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ing tool for applic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foreign patent filings; 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tent off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akes available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l for effective processing of patent applications by off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CT Member States willing to exploit work done by oth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pct treaty book"/>
          <p:cNvPicPr/>
          <p:nvPr/>
        </p:nvPicPr>
        <p:blipFill>
          <a:blip r:embed="rId4"/>
          <a:stretch/>
        </p:blipFill>
        <p:spPr>
          <a:xfrm>
            <a:off x="2556000" y="33336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4978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Top University PCT Applicants 2012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1403280" y="1197000"/>
            <a:ext cx="59770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iversity of California (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I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rvard University (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hns Hopkins (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lumbia University (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iversity of Texa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oul National University (K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land Stanford University (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eking University (C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ity of Florida (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l Tech (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rea Advanced Institute of Science and Technology (K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rnell University (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iversity of Tokyo (J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Yonsei University (K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is Innovation Limited (G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singhua University (C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yoto University (J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iversity of Michiga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urdue University (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04840" y="259920"/>
            <a:ext cx="87631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Top Government/Research Institution PCT Applicants 2012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95280" y="1628640"/>
            <a:ext cx="8381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mmissariat a l’Energie Atomique et aux Energies Alternatives (Franc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raunhofer-Gesellschaft zur Forderung Der Angewandten Forschung e.v. (Germa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entre National de la Recherche Scientifique (CNRS) (Fr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ina Academy of Telecommunications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itute of Microelectronics of Chinese Academy of Sciences (Chi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imos Berhad (Malays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itut National de la Sante et de la Recherche Medicale (INSERM) (Fr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lectronics &amp; Telecommunications Research Institute of Ko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gency of Science, Technology and Research (Singapo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nsejo Superior de Investigaciones Cientificas (CSIC) (Spa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ted States of America, represented by the Secretary, Department of Health and Huma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tional Institute of Advanced Industrial Science and Technology (Jap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uncil of Scientific and Industrial Research (Ind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rea Research Institute of BioScience and Bio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ederlandse Organisatie voor Toegepast-Natuurwetenschappelijk Onderzoek Tno (Netherlan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ax Plank Institute (Germa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898C-3391-4C64-B929-645DD73F1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PCT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─ 1970 to today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500" name="Picture 4" descr="pct treaty book"/>
          <p:cNvPicPr/>
          <p:nvPr/>
        </p:nvPicPr>
        <p:blipFill>
          <a:blip r:embed="rId1"/>
          <a:stretch/>
        </p:blipFill>
        <p:spPr>
          <a:xfrm>
            <a:off x="3780000" y="33336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1"/>
          <p:cNvSpPr/>
          <p:nvPr/>
        </p:nvSpPr>
        <p:spPr>
          <a:xfrm>
            <a:off x="4422240" y="3198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5" descr=""/>
          <p:cNvPicPr/>
          <p:nvPr/>
        </p:nvPicPr>
        <p:blipFill>
          <a:blip r:embed="rId2"/>
          <a:stretch/>
        </p:blipFill>
        <p:spPr>
          <a:xfrm>
            <a:off x="108000" y="2035080"/>
            <a:ext cx="8928000" cy="324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C1D9-4BF3-4D2F-8EB8-D6B2865E1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PCT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─ 1970 to today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505" name="Picture 5" descr="pct treaty book"/>
          <p:cNvPicPr/>
          <p:nvPr/>
        </p:nvPicPr>
        <p:blipFill>
          <a:blip r:embed="rId1"/>
          <a:stretch/>
        </p:blipFill>
        <p:spPr>
          <a:xfrm>
            <a:off x="3924360" y="333360"/>
            <a:ext cx="914400" cy="12193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6942240" cy="4249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2C98-7593-4B35-8D74-9A1CB13DC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"/>
          <p:cNvSpPr/>
          <p:nvPr/>
        </p:nvSpPr>
        <p:spPr>
          <a:xfrm>
            <a:off x="200160" y="2411280"/>
            <a:ext cx="89154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565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postpones the major costs associated with internationalizing a patent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provides a strong basis for patenting deci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harmonizes formal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.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otects applicant from certain inadvertent err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5. evolves to meet user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6. is used by the world’s major corporations, universities and research institutions when they seek international patent protection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255600" y="849960"/>
            <a:ext cx="8604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he PCT, as the cornerstone of the international patent system, provides a worldwide system for simplified filing and processing of patent applications, whi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1964160" y="266760"/>
            <a:ext cx="53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Certain PCT Ad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BAED-C1C2-46C7-8772-D99072854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CT Challenge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686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ing the quality of PCT international phase work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 trust between patent offices, so that duplicative international phase and national phase processing can be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nguage iss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3% of applications filed in Chinese, Japanese and Kor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lping developing countries benefit from the P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 countries responsible for 92.1% of IAs published in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ing PCT accessible to applicants of all types from all Contracting States (for example, S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lping PCT users stay abreast of new development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ED8B-0D26-45F2-ABC1-B978B7268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The PCT</a:t>
            </a:r>
            <a:br>
              <a:rPr sz="3200"/>
            </a:b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─ 1970 to today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424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T extremely successful as fil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ation of formal and procedural requirements (beyond P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National and regional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atent Law Treaty (P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4" descr="pct treaty book"/>
          <p:cNvPicPr/>
          <p:nvPr/>
        </p:nvPicPr>
        <p:blipFill>
          <a:blip r:embed="rId5"/>
          <a:stretch/>
        </p:blipFill>
        <p:spPr>
          <a:xfrm>
            <a:off x="3780000" y="33336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6C32-A853-4C6B-9EEF-2E9129EF3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The PCT</a:t>
            </a:r>
            <a:br>
              <a:rPr sz="3200"/>
            </a:b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─ 1970 to today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424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:  PCT not as effective as work sharing tool in practice for addressing national quality of examination and (for some Offices) backlo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CT all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fices to re-use earlier work (international reports) in a way which increases quality or reduces the amount of work needed to achieve same level of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extent to which this is done is a decision of the office or State concerned as a matter of policy and 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pct treaty book"/>
          <p:cNvPicPr/>
          <p:nvPr/>
        </p:nvPicPr>
        <p:blipFill>
          <a:blip r:embed="rId4"/>
          <a:stretch/>
        </p:blipFill>
        <p:spPr>
          <a:xfrm>
            <a:off x="3780000" y="33336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190E-455B-44FC-B6A1-C59E1D5C5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The PCT</a:t>
            </a:r>
            <a:br>
              <a:rPr sz="3200"/>
            </a:b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─ Work Sharing Tool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424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ation was:  “flying start” for offices, work should be “rather in the nature of completing, checking and criticizing than starting from scratch in complete iso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ty is: many Offices do start “from scratch”</a:t>
            </a:r>
            <a:r>
              <a:rPr b="0" i="1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haps not in complete isolation, b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" descr="pct treaty book"/>
          <p:cNvPicPr/>
          <p:nvPr/>
        </p:nvPicPr>
        <p:blipFill>
          <a:blip r:embed="rId4"/>
          <a:stretch/>
        </p:blipFill>
        <p:spPr>
          <a:xfrm>
            <a:off x="4716360" y="26028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4CEE-C11B-4397-8670-169C4F213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PCT </a:t>
            </a: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ed: change in approach of offices vis-à-vis the PCT system, including a review of national procedures and practices and of what kind of incentives are set to use the system in a way which is beneficial to 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4" descr="pct treaty book"/>
          <p:cNvPicPr/>
          <p:nvPr/>
        </p:nvPicPr>
        <p:blipFill>
          <a:blip r:embed="rId2"/>
          <a:stretch/>
        </p:blipFill>
        <p:spPr>
          <a:xfrm>
            <a:off x="3780000" y="33336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A445-110B-4C6F-9777-DBC70A1BF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6360" y="549000"/>
            <a:ext cx="838836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CT Basics</a:t>
            </a: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4720" y="1358640"/>
            <a:ext cx="8088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ing Tool for applica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application filed, containing, by default, the designation of all States (for every kind of protection available) and usual priority claim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the effect of a regular national filing (including establishment of a priority date) in each designated State:  the international filing date is the filing date in each designated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d in on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d with one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et of formality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national processing until 30 months from priorit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reports improve basis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m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635040" y="5997600"/>
            <a:ext cx="1673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620640" y="6084720"/>
            <a:ext cx="1701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pct treaty book"/>
          <p:cNvPicPr/>
          <p:nvPr/>
        </p:nvPicPr>
        <p:blipFill>
          <a:blip r:embed="rId9"/>
          <a:stretch/>
        </p:blipFill>
        <p:spPr>
          <a:xfrm>
            <a:off x="3276720" y="11592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7B5A-39F6-4D01-AFC5-27F4095DD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PCT </a:t>
            </a: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424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quality and consistency of international repo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tter the quality of the tools (reports), the better for all Contracting States:  tools allow them to deal more effectively with requirements of their national law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maller the national examining capacity, the bigger the importance of quality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pct treaty book"/>
          <p:cNvPicPr/>
          <p:nvPr/>
        </p:nvPicPr>
        <p:blipFill>
          <a:blip r:embed="rId4"/>
          <a:stretch/>
        </p:blipFill>
        <p:spPr>
          <a:xfrm>
            <a:off x="3780000" y="33336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5BEB-97DB-4246-929C-79AA441E1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PCT </a:t>
            </a: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quality and consistency of international repo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improve quality management systems of 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21 of PCT S&amp;E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quality metrics for measuring useful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of work sharing requires metrics which estab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be re-used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ve metrics study on ISR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pct treaty book"/>
          <p:cNvPicPr/>
          <p:nvPr/>
        </p:nvPicPr>
        <p:blipFill>
          <a:blip r:embed="rId9"/>
          <a:stretch/>
        </p:blipFill>
        <p:spPr>
          <a:xfrm>
            <a:off x="3780000" y="33336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D014-6FA1-44A6-8646-95706049A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PCT </a:t>
            </a: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quality and consistency of international repo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collaborative search and 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or sharing of final produc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 project (EPO, KIPO, USP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party observations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Jul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quality feedback system for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search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ding standardization: making available of search strategies on Patent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5" descr="pct treaty book"/>
          <p:cNvPicPr/>
          <p:nvPr/>
        </p:nvPicPr>
        <p:blipFill>
          <a:blip r:embed="rId11"/>
          <a:stretch/>
        </p:blipFill>
        <p:spPr>
          <a:xfrm>
            <a:off x="3780000" y="33336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F64C-B45B-40A6-B482-A07EB1074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PCT </a:t>
            </a: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quality and consistency of international repo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standardized clauses in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explanations of relevance of cited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odification of PCT S&amp;E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opportunity for dialogue with examiner during international preliminary 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5" descr="pct treaty book"/>
          <p:cNvPicPr/>
          <p:nvPr/>
        </p:nvPicPr>
        <p:blipFill>
          <a:blip r:embed="rId6"/>
          <a:stretch/>
        </p:blipFill>
        <p:spPr>
          <a:xfrm>
            <a:off x="3780000" y="33336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918E-0976-425A-AA8C-CBF6477CF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PCT </a:t>
            </a: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68360" y="169992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imeliness of actions in international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incentives for applicants to use system effici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high quality applications and early correction of defects and filing of ame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raining for Offices, better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bly for examiners in developing country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access to effective search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ordable access to online search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pct treaty book"/>
          <p:cNvPicPr/>
          <p:nvPr/>
        </p:nvPicPr>
        <p:blipFill>
          <a:blip r:embed="rId9"/>
          <a:stretch/>
        </p:blipFill>
        <p:spPr>
          <a:xfrm>
            <a:off x="3780000" y="33336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EA5C-2E1F-4B10-99AD-A458A743A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PCT </a:t>
            </a: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access to national search and examination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atent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IPO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Offices in digitizing national patent col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4" descr="pct treaty book"/>
          <p:cNvPicPr/>
          <p:nvPr/>
        </p:nvPicPr>
        <p:blipFill>
          <a:blip r:embed="rId5"/>
          <a:stretch/>
        </p:blipFill>
        <p:spPr>
          <a:xfrm>
            <a:off x="3780000" y="33336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FCF6-B306-4A44-BBA1-0965EABF2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PCT </a:t>
            </a: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45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Where do we st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ignificant progress towards implementing recommendations endorsed by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jor achievement of the process to be seen in more general term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ecognition of importance of PCT work product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mportance of appropriate integration of PCT work products into national patent granting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ole of PCT in improving the functioning of the international patent system as a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7" descr="pct treaty book"/>
          <p:cNvPicPr/>
          <p:nvPr/>
        </p:nvPicPr>
        <p:blipFill>
          <a:blip r:embed="rId7"/>
          <a:stretch/>
        </p:blipFill>
        <p:spPr>
          <a:xfrm>
            <a:off x="3780000" y="33336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3B82-0FB5-4BF8-A6E9-53355E503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PCT </a:t>
            </a: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45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ole of the PCT in effective dissemination of techn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Greater understanding of concerns and needs of Contracting States in relation to the quality of international applications and PCT work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Greater understanding of capacity of Contracting States, to perform their own effective search and 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greater understanding of the needs for continued technical assistance for developing and least developed countries in this reg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pct treaty book"/>
          <p:cNvPicPr/>
          <p:nvPr/>
        </p:nvPicPr>
        <p:blipFill>
          <a:blip r:embed="rId5"/>
          <a:stretch/>
        </p:blipFill>
        <p:spPr>
          <a:xfrm>
            <a:off x="3780000" y="33336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5F9D-8E27-4EAF-A9F5-254AFD877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PCT </a:t>
            </a: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1988640"/>
            <a:ext cx="8245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ly:  more work need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ocu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pplicant and Office driven arran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sharing not (yet) a universally agreed concep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pct treaty book"/>
          <p:cNvPicPr/>
          <p:nvPr/>
        </p:nvPicPr>
        <p:blipFill>
          <a:blip r:embed="rId8"/>
          <a:stretch/>
        </p:blipFill>
        <p:spPr>
          <a:xfrm>
            <a:off x="3780000" y="33336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ePC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69800" y="153180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104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Online portal that provides PCT services for both applicants and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104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vailable since Ma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104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secure and direct interaction with PCT applications maintained by the International 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104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pplicants may now conduct most PCT transactions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D32B-0C09-4623-BDC6-5D08B08F4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6360" y="549000"/>
            <a:ext cx="838836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CT Basic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0881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sharing tool for Off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formality che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international pub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search report (IS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Preliminary Reports on Patentability (preliminary, non-binding opinion on novelty, inventive step (non-obviousness) and industrial applic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635040" y="5997600"/>
            <a:ext cx="1673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620640" y="6084720"/>
            <a:ext cx="1701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pct treaty book"/>
          <p:cNvPicPr/>
          <p:nvPr/>
        </p:nvPicPr>
        <p:blipFill>
          <a:blip r:embed="rId8"/>
          <a:stretch/>
        </p:blipFill>
        <p:spPr>
          <a:xfrm>
            <a:off x="3276720" y="26028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ePCT Overview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457200" y="1197000"/>
          <a:ext cx="4038480" cy="21002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nt portal develo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 portal for all actions and info, irrespective of responsible Off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SzPct val="10281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entered is used directly; no more transcription err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SzPct val="10281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 file - always up-to-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4648320" y="1197000"/>
          <a:ext cx="4038480" cy="21002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fi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checks using same functions as IB; always up-to-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SzPct val="102812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 drafts in ePCT like a normal IA file - rights carry through to 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SzPct val="102812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 IA file immediately on filin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457200" y="3429000"/>
          <a:ext cx="4038480" cy="25718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5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ing Off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SzPct val="102792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access to IB+IS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(*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SzPct val="102812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of using online tools equivalent to RO/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SzPct val="102812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r e-filing without need to run own se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SzPct val="102812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rnative to PCT-EDI with built-in local files and records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4648320" y="3427560"/>
          <a:ext cx="4038480" cy="25779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5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tional Author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SzPct val="102792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access to IB+RO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(*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SzPct val="102812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 access to application body, including all update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(*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s soon as approved by RO, IB, ISA or I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Rectangle 27"/>
          <p:cNvSpPr/>
          <p:nvPr/>
        </p:nvSpPr>
        <p:spPr>
          <a:xfrm>
            <a:off x="381600" y="6216480"/>
            <a:ext cx="615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(*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eature which would be dependent on level of participation by other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7374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CT Training Option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40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49"/>
              </a:spcBef>
              <a:spcAft>
                <a:spcPts val="649"/>
              </a:spcAft>
              <a:buSzPct val="1176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CT Distance learning course content available in the 10 PCT publication languag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spcAft>
                <a:spcPts val="649"/>
              </a:spcAft>
              <a:buSzPct val="1176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w: 29 video segments on WIPO’s Youtube channel about individual PCT topics from our Basic Seminar se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spcAft>
                <a:spcPts val="649"/>
              </a:spcAft>
              <a:buSzPct val="1176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CT Webinar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41112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free updates on developments in PCT procedures, and PCT strategies—previous webinars are archived and freel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41112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on request also for companies or law firms, for example, for focused training on how to use eP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spcAft>
                <a:spcPts val="649"/>
              </a:spcAft>
              <a:buSzPct val="1176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-person PCT Seminars and training sess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95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8C12-314F-4B5C-B017-9AE31046E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1"/>
          <a:srcRect l="0" t="7683" r="3127" b="175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1B32-1D93-412A-ACEC-C97845B15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1"/>
          <a:srcRect l="0" t="15539" r="10141" b="9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186920" y="2636640"/>
            <a:ext cx="6264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hank You</a:t>
            </a:r>
            <a:r>
              <a:rPr b="0" lang="fr-CH" sz="36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Claus Mat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Director, Patent Cooperation Treaty (PCT) Business Development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World Intellectual Property Organization (WIP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34 chemin des Colombettes, 1211 Geneva 20, Switzerl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 + 41 22 338 98 09;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MS PGothic"/>
                <a:hlinkClick r:id="rId1"/>
              </a:rPr>
              <a:t>claus.matthes@wipo.i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;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MS PGothic"/>
                <a:hlinkClick r:id="rId2"/>
              </a:rPr>
              <a:t>www.wipo.i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EB38-6FC9-43A3-BB30-590820FDA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1332000" y="115920"/>
            <a:ext cx="6657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25560" bIns="2556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Traditional pat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vs. PC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2556000" y="1371600"/>
            <a:ext cx="1152000" cy="914400"/>
            <a:chOff x="2556000" y="1371600"/>
            <a:chExt cx="1152000" cy="914400"/>
          </a:xfrm>
        </p:grpSpPr>
        <p:sp>
          <p:nvSpPr>
            <p:cNvPr id="121" name="Rectangle 4"/>
            <p:cNvSpPr/>
            <p:nvPr/>
          </p:nvSpPr>
          <p:spPr>
            <a:xfrm>
              <a:off x="2556000" y="1371600"/>
              <a:ext cx="1152000" cy="91440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5"/>
            <p:cNvSpPr/>
            <p:nvPr/>
          </p:nvSpPr>
          <p:spPr>
            <a:xfrm>
              <a:off x="2634840" y="1482480"/>
              <a:ext cx="107316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af3737"/>
                  </a:solidFill>
                  <a:latin typeface="Times New Roman"/>
                  <a:ea typeface="ヒラギノ角ゴ Pro W3"/>
                </a:rPr>
                <a:t>Fees fo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af3737"/>
                  </a:solidFill>
                  <a:latin typeface="Times New Roman"/>
                  <a:ea typeface="ヒラギノ角ゴ Pro W3"/>
                </a:rPr>
                <a:t>--translations</a:t>
              </a:r>
              <a:br>
                <a:rPr sz="900"/>
              </a:br>
              <a:r>
                <a:rPr b="1" lang="en-US" sz="900" spc="-1" strike="noStrike">
                  <a:solidFill>
                    <a:srgbClr val="af3737"/>
                  </a:solidFill>
                  <a:latin typeface="Times New Roman"/>
                  <a:ea typeface="ヒラギノ角ゴ Pro W3"/>
                </a:rPr>
                <a:t>--Office fees</a:t>
              </a:r>
              <a:br>
                <a:rPr sz="900"/>
              </a:br>
              <a:r>
                <a:rPr b="1" lang="en-US" sz="900" spc="-1" strike="noStrike">
                  <a:solidFill>
                    <a:srgbClr val="af3737"/>
                  </a:solidFill>
                  <a:latin typeface="Times New Roman"/>
                  <a:ea typeface="ヒラギノ角ゴ Pro W3"/>
                </a:rPr>
                <a:t>--local ag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6"/>
          <p:cNvSpPr/>
          <p:nvPr/>
        </p:nvSpPr>
        <p:spPr>
          <a:xfrm>
            <a:off x="1404360" y="2470320"/>
            <a:ext cx="286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2590200" y="243828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1156680" y="2924280"/>
            <a:ext cx="928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local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3607920" y="1981080"/>
            <a:ext cx="1006200" cy="5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bro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194840" y="2209680"/>
            <a:ext cx="7884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month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152388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 flipH="1">
            <a:off x="154764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3"/>
          <p:cNvGrpSpPr/>
          <p:nvPr/>
        </p:nvGrpSpPr>
        <p:grpSpPr>
          <a:xfrm>
            <a:off x="2962800" y="2370960"/>
            <a:ext cx="518760" cy="999720"/>
            <a:chOff x="2962800" y="2370960"/>
            <a:chExt cx="518760" cy="999720"/>
          </a:xfrm>
        </p:grpSpPr>
        <p:sp>
          <p:nvSpPr>
            <p:cNvPr id="131" name="Line 14"/>
            <p:cNvSpPr/>
            <p:nvPr/>
          </p:nvSpPr>
          <p:spPr>
            <a:xfrm flipV="1">
              <a:off x="2962800" y="2497680"/>
              <a:ext cx="379080" cy="37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>
              <a:off x="2963520" y="2868840"/>
              <a:ext cx="518040" cy="13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2969280" y="2871000"/>
              <a:ext cx="365760" cy="36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2964960" y="2870640"/>
              <a:ext cx="13392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8"/>
            <p:cNvSpPr/>
            <p:nvPr/>
          </p:nvSpPr>
          <p:spPr>
            <a:xfrm flipV="1">
              <a:off x="2963520" y="2733840"/>
              <a:ext cx="518040" cy="13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9"/>
            <p:cNvSpPr/>
            <p:nvPr/>
          </p:nvSpPr>
          <p:spPr>
            <a:xfrm flipV="1">
              <a:off x="2964960" y="2370960"/>
              <a:ext cx="135360" cy="49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20"/>
          <p:cNvSpPr/>
          <p:nvPr/>
        </p:nvSpPr>
        <p:spPr>
          <a:xfrm>
            <a:off x="141120" y="259092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radi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3943440" y="4097160"/>
            <a:ext cx="18763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3281400" y="5202360"/>
            <a:ext cx="2444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1193400" y="3962520"/>
            <a:ext cx="788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month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2490120" y="4691160"/>
            <a:ext cx="928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P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2801160" y="426708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6"/>
          <p:cNvSpPr/>
          <p:nvPr/>
        </p:nvSpPr>
        <p:spPr>
          <a:xfrm>
            <a:off x="1477800" y="4343400"/>
            <a:ext cx="173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7848720" y="4267080"/>
            <a:ext cx="52704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8"/>
          <p:cNvSpPr/>
          <p:nvPr/>
        </p:nvSpPr>
        <p:spPr>
          <a:xfrm>
            <a:off x="1528920" y="4645080"/>
            <a:ext cx="669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9"/>
          <p:cNvSpPr/>
          <p:nvPr/>
        </p:nvSpPr>
        <p:spPr>
          <a:xfrm flipV="1">
            <a:off x="2982960" y="4520880"/>
            <a:ext cx="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3594240" y="4694400"/>
            <a:ext cx="1341360" cy="5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 report &amp; written opin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1"/>
          <p:cNvSpPr/>
          <p:nvPr/>
        </p:nvSpPr>
        <p:spPr>
          <a:xfrm>
            <a:off x="3940200" y="4267080"/>
            <a:ext cx="63324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2"/>
          <p:cNvSpPr/>
          <p:nvPr/>
        </p:nvSpPr>
        <p:spPr>
          <a:xfrm>
            <a:off x="4768200" y="426708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3"/>
          <p:cNvSpPr/>
          <p:nvPr/>
        </p:nvSpPr>
        <p:spPr>
          <a:xfrm>
            <a:off x="4290840" y="3886200"/>
            <a:ext cx="145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ubl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4"/>
          <p:cNvSpPr/>
          <p:nvPr/>
        </p:nvSpPr>
        <p:spPr>
          <a:xfrm flipV="1">
            <a:off x="4253040" y="453384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5"/>
          <p:cNvSpPr/>
          <p:nvPr/>
        </p:nvSpPr>
        <p:spPr>
          <a:xfrm>
            <a:off x="5051520" y="4705200"/>
            <a:ext cx="15508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demand for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xamin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36"/>
          <p:cNvGrpSpPr/>
          <p:nvPr/>
        </p:nvGrpSpPr>
        <p:grpSpPr>
          <a:xfrm>
            <a:off x="8226360" y="4158000"/>
            <a:ext cx="513360" cy="972000"/>
            <a:chOff x="8226360" y="4158000"/>
            <a:chExt cx="513360" cy="972000"/>
          </a:xfrm>
        </p:grpSpPr>
        <p:sp>
          <p:nvSpPr>
            <p:cNvPr id="154" name="Line 37"/>
            <p:cNvSpPr/>
            <p:nvPr/>
          </p:nvSpPr>
          <p:spPr>
            <a:xfrm flipV="1">
              <a:off x="8226360" y="4278240"/>
              <a:ext cx="375480" cy="37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8"/>
            <p:cNvSpPr/>
            <p:nvPr/>
          </p:nvSpPr>
          <p:spPr>
            <a:xfrm>
              <a:off x="8226720" y="4640760"/>
              <a:ext cx="513000" cy="13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9"/>
            <p:cNvSpPr/>
            <p:nvPr/>
          </p:nvSpPr>
          <p:spPr>
            <a:xfrm>
              <a:off x="8236440" y="4644360"/>
              <a:ext cx="35532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0"/>
            <p:cNvSpPr/>
            <p:nvPr/>
          </p:nvSpPr>
          <p:spPr>
            <a:xfrm>
              <a:off x="8230320" y="4645080"/>
              <a:ext cx="129960" cy="48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1"/>
            <p:cNvSpPr/>
            <p:nvPr/>
          </p:nvSpPr>
          <p:spPr>
            <a:xfrm flipV="1">
              <a:off x="8226720" y="4510080"/>
              <a:ext cx="513000" cy="13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2"/>
            <p:cNvSpPr/>
            <p:nvPr/>
          </p:nvSpPr>
          <p:spPr>
            <a:xfrm flipV="1">
              <a:off x="8230320" y="4158000"/>
              <a:ext cx="130680" cy="48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43"/>
          <p:cNvSpPr/>
          <p:nvPr/>
        </p:nvSpPr>
        <p:spPr>
          <a:xfrm>
            <a:off x="1143000" y="4708440"/>
            <a:ext cx="968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lo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4"/>
          <p:cNvSpPr/>
          <p:nvPr/>
        </p:nvSpPr>
        <p:spPr>
          <a:xfrm>
            <a:off x="7808760" y="3532320"/>
            <a:ext cx="725760" cy="5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ti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h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5"/>
          <p:cNvSpPr/>
          <p:nvPr/>
        </p:nvSpPr>
        <p:spPr>
          <a:xfrm flipV="1">
            <a:off x="4981680" y="4520880"/>
            <a:ext cx="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6"/>
          <p:cNvSpPr/>
          <p:nvPr/>
        </p:nvSpPr>
        <p:spPr>
          <a:xfrm flipV="1">
            <a:off x="1528920" y="4520880"/>
            <a:ext cx="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7"/>
          <p:cNvSpPr/>
          <p:nvPr/>
        </p:nvSpPr>
        <p:spPr>
          <a:xfrm>
            <a:off x="5557680" y="4267080"/>
            <a:ext cx="56376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8"/>
          <p:cNvSpPr/>
          <p:nvPr/>
        </p:nvSpPr>
        <p:spPr>
          <a:xfrm flipV="1">
            <a:off x="5826240" y="4520880"/>
            <a:ext cx="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9"/>
          <p:cNvSpPr/>
          <p:nvPr/>
        </p:nvSpPr>
        <p:spPr>
          <a:xfrm>
            <a:off x="7245360" y="4267080"/>
            <a:ext cx="56196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0"/>
          <p:cNvSpPr/>
          <p:nvPr/>
        </p:nvSpPr>
        <p:spPr>
          <a:xfrm flipV="1">
            <a:off x="7516800" y="4520880"/>
            <a:ext cx="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1"/>
          <p:cNvSpPr/>
          <p:nvPr/>
        </p:nvSpPr>
        <p:spPr>
          <a:xfrm>
            <a:off x="6881760" y="4705200"/>
            <a:ext cx="1343160" cy="9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 report on patentabi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2"/>
          <p:cNvSpPr/>
          <p:nvPr/>
        </p:nvSpPr>
        <p:spPr>
          <a:xfrm>
            <a:off x="141120" y="4191120"/>
            <a:ext cx="12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3"/>
          <p:cNvSpPr/>
          <p:nvPr/>
        </p:nvSpPr>
        <p:spPr>
          <a:xfrm>
            <a:off x="1407960" y="4191120"/>
            <a:ext cx="2635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54"/>
          <p:cNvGrpSpPr/>
          <p:nvPr/>
        </p:nvGrpSpPr>
        <p:grpSpPr>
          <a:xfrm>
            <a:off x="7956720" y="2565360"/>
            <a:ext cx="1186920" cy="914400"/>
            <a:chOff x="7956720" y="2565360"/>
            <a:chExt cx="1186920" cy="914400"/>
          </a:xfrm>
        </p:grpSpPr>
        <p:sp>
          <p:nvSpPr>
            <p:cNvPr id="172" name="Rectangle 55"/>
            <p:cNvSpPr/>
            <p:nvPr/>
          </p:nvSpPr>
          <p:spPr>
            <a:xfrm>
              <a:off x="7956720" y="2565360"/>
              <a:ext cx="1074600" cy="91440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6"/>
            <p:cNvSpPr/>
            <p:nvPr/>
          </p:nvSpPr>
          <p:spPr>
            <a:xfrm>
              <a:off x="8044200" y="2676240"/>
              <a:ext cx="109944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af3737"/>
                  </a:solidFill>
                  <a:latin typeface="Times New Roman"/>
                  <a:ea typeface="ヒラギノ角ゴ Pro W3"/>
                </a:rPr>
                <a:t>Fees fo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af3737"/>
                  </a:solidFill>
                  <a:latin typeface="Times New Roman"/>
                  <a:ea typeface="ヒラギノ角ゴ Pro W3"/>
                </a:rPr>
                <a:t>--translations</a:t>
              </a:r>
              <a:br>
                <a:rPr sz="900"/>
              </a:br>
              <a:r>
                <a:rPr b="1" lang="en-US" sz="900" spc="-1" strike="noStrike">
                  <a:solidFill>
                    <a:srgbClr val="af3737"/>
                  </a:solidFill>
                  <a:latin typeface="Times New Roman"/>
                  <a:ea typeface="ヒラギノ角ゴ Pro W3"/>
                </a:rPr>
                <a:t>--Office fees</a:t>
              </a:r>
              <a:br>
                <a:rPr sz="900"/>
              </a:br>
              <a:r>
                <a:rPr b="1" lang="en-US" sz="900" spc="-1" strike="noStrike">
                  <a:solidFill>
                    <a:srgbClr val="af3737"/>
                  </a:solidFill>
                  <a:latin typeface="Times New Roman"/>
                  <a:ea typeface="ヒラギノ角ゴ Pro W3"/>
                </a:rPr>
                <a:t>--local ag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72AC-8E5A-427A-B020-CA59E30B6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2656080" y="228600"/>
            <a:ext cx="366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The PC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675240" y="2754360"/>
            <a:ext cx="1876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016080" y="4116240"/>
            <a:ext cx="243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876600" y="2774880"/>
            <a:ext cx="8920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month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171520" y="3486240"/>
            <a:ext cx="104148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P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253152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140840" y="3029040"/>
            <a:ext cx="286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7696080" y="3048120"/>
            <a:ext cx="3952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1266840" y="3429000"/>
            <a:ext cx="668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 flipV="1">
            <a:off x="2743200" y="329076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3325680" y="3490920"/>
            <a:ext cx="133848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 report &amp; written opi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380304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4528440" y="303048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3971880" y="2627280"/>
            <a:ext cx="145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6"/>
          <p:cNvSpPr/>
          <p:nvPr/>
        </p:nvSpPr>
        <p:spPr>
          <a:xfrm flipV="1">
            <a:off x="3986280" y="329220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4782960" y="3505320"/>
            <a:ext cx="1546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demand f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x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8"/>
          <p:cNvGrpSpPr/>
          <p:nvPr/>
        </p:nvGrpSpPr>
        <p:grpSpPr>
          <a:xfrm>
            <a:off x="7923240" y="2829960"/>
            <a:ext cx="543240" cy="1197720"/>
            <a:chOff x="7923240" y="2829960"/>
            <a:chExt cx="543240" cy="1197720"/>
          </a:xfrm>
        </p:grpSpPr>
        <p:sp>
          <p:nvSpPr>
            <p:cNvPr id="192" name="Line 19"/>
            <p:cNvSpPr/>
            <p:nvPr/>
          </p:nvSpPr>
          <p:spPr>
            <a:xfrm flipV="1">
              <a:off x="7954560" y="3022560"/>
              <a:ext cx="37440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>
              <a:off x="7954920" y="344088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7923240" y="3429360"/>
              <a:ext cx="437400" cy="43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2"/>
            <p:cNvSpPr/>
            <p:nvPr/>
          </p:nvSpPr>
          <p:spPr>
            <a:xfrm>
              <a:off x="7943400" y="3429720"/>
              <a:ext cx="160200" cy="59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3"/>
            <p:cNvSpPr/>
            <p:nvPr/>
          </p:nvSpPr>
          <p:spPr>
            <a:xfrm flipV="1">
              <a:off x="7954920" y="327996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4"/>
            <p:cNvSpPr/>
            <p:nvPr/>
          </p:nvSpPr>
          <p:spPr>
            <a:xfrm flipV="1">
              <a:off x="7943400" y="2829960"/>
              <a:ext cx="16092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25"/>
          <p:cNvSpPr/>
          <p:nvPr/>
        </p:nvSpPr>
        <p:spPr>
          <a:xfrm>
            <a:off x="815760" y="3465360"/>
            <a:ext cx="1121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Fil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7493760" y="2057400"/>
            <a:ext cx="812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7"/>
          <p:cNvSpPr/>
          <p:nvPr/>
        </p:nvSpPr>
        <p:spPr>
          <a:xfrm flipV="1">
            <a:off x="471312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8"/>
          <p:cNvSpPr/>
          <p:nvPr/>
        </p:nvSpPr>
        <p:spPr>
          <a:xfrm flipV="1">
            <a:off x="12668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527544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0"/>
          <p:cNvSpPr/>
          <p:nvPr/>
        </p:nvSpPr>
        <p:spPr>
          <a:xfrm flipV="1">
            <a:off x="55562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696276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2"/>
          <p:cNvSpPr/>
          <p:nvPr/>
        </p:nvSpPr>
        <p:spPr>
          <a:xfrm flipV="1">
            <a:off x="724536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6611760" y="3505320"/>
            <a:ext cx="1338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 report on paten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457200" y="480060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Typically a national patent application in the home country of the appli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5"/>
          <p:cNvSpPr/>
          <p:nvPr/>
        </p:nvSpPr>
        <p:spPr>
          <a:xfrm>
            <a:off x="1266840" y="3962520"/>
            <a:ext cx="14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DE4B-776A-48D5-ABD9-71D4533B4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3675240" y="2754360"/>
            <a:ext cx="1876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016080" y="4116240"/>
            <a:ext cx="243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876600" y="2774880"/>
            <a:ext cx="8920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month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2128320" y="3486240"/>
            <a:ext cx="112824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File P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3152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140840" y="3029040"/>
            <a:ext cx="286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696080" y="3048120"/>
            <a:ext cx="3952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1266840" y="3429000"/>
            <a:ext cx="668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 flipV="1">
            <a:off x="2743200" y="329076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3325680" y="3490920"/>
            <a:ext cx="133848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 report &amp; written opi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380304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528440" y="303048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3971880" y="2627280"/>
            <a:ext cx="145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5"/>
          <p:cNvSpPr/>
          <p:nvPr/>
        </p:nvSpPr>
        <p:spPr>
          <a:xfrm flipV="1">
            <a:off x="3986280" y="329220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4782960" y="3505320"/>
            <a:ext cx="1546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demand f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x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7"/>
          <p:cNvGrpSpPr/>
          <p:nvPr/>
        </p:nvGrpSpPr>
        <p:grpSpPr>
          <a:xfrm>
            <a:off x="7923240" y="2829960"/>
            <a:ext cx="543240" cy="1197720"/>
            <a:chOff x="7923240" y="2829960"/>
            <a:chExt cx="543240" cy="1197720"/>
          </a:xfrm>
        </p:grpSpPr>
        <p:sp>
          <p:nvSpPr>
            <p:cNvPr id="226" name="Line 18"/>
            <p:cNvSpPr/>
            <p:nvPr/>
          </p:nvSpPr>
          <p:spPr>
            <a:xfrm flipV="1">
              <a:off x="7954560" y="3022560"/>
              <a:ext cx="37440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9"/>
            <p:cNvSpPr/>
            <p:nvPr/>
          </p:nvSpPr>
          <p:spPr>
            <a:xfrm>
              <a:off x="7954920" y="344088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0"/>
            <p:cNvSpPr/>
            <p:nvPr/>
          </p:nvSpPr>
          <p:spPr>
            <a:xfrm>
              <a:off x="7923240" y="3429360"/>
              <a:ext cx="437400" cy="43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1"/>
            <p:cNvSpPr/>
            <p:nvPr/>
          </p:nvSpPr>
          <p:spPr>
            <a:xfrm>
              <a:off x="7943400" y="3429720"/>
              <a:ext cx="160200" cy="59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2"/>
            <p:cNvSpPr/>
            <p:nvPr/>
          </p:nvSpPr>
          <p:spPr>
            <a:xfrm flipV="1">
              <a:off x="7954920" y="327996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3"/>
            <p:cNvSpPr/>
            <p:nvPr/>
          </p:nvSpPr>
          <p:spPr>
            <a:xfrm flipV="1">
              <a:off x="7943400" y="2829960"/>
              <a:ext cx="16092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24"/>
          <p:cNvSpPr/>
          <p:nvPr/>
        </p:nvSpPr>
        <p:spPr>
          <a:xfrm>
            <a:off x="816480" y="3465360"/>
            <a:ext cx="103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5"/>
          <p:cNvSpPr/>
          <p:nvPr/>
        </p:nvSpPr>
        <p:spPr>
          <a:xfrm>
            <a:off x="7493760" y="2057400"/>
            <a:ext cx="812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6"/>
          <p:cNvSpPr/>
          <p:nvPr/>
        </p:nvSpPr>
        <p:spPr>
          <a:xfrm flipV="1">
            <a:off x="471312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7"/>
          <p:cNvSpPr/>
          <p:nvPr/>
        </p:nvSpPr>
        <p:spPr>
          <a:xfrm flipV="1">
            <a:off x="12668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8"/>
          <p:cNvSpPr/>
          <p:nvPr/>
        </p:nvSpPr>
        <p:spPr>
          <a:xfrm>
            <a:off x="527544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9"/>
          <p:cNvSpPr/>
          <p:nvPr/>
        </p:nvSpPr>
        <p:spPr>
          <a:xfrm flipV="1">
            <a:off x="55562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0"/>
          <p:cNvSpPr/>
          <p:nvPr/>
        </p:nvSpPr>
        <p:spPr>
          <a:xfrm>
            <a:off x="696276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1"/>
          <p:cNvSpPr/>
          <p:nvPr/>
        </p:nvSpPr>
        <p:spPr>
          <a:xfrm flipV="1">
            <a:off x="724536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2"/>
          <p:cNvSpPr/>
          <p:nvPr/>
        </p:nvSpPr>
        <p:spPr>
          <a:xfrm>
            <a:off x="6611760" y="3505320"/>
            <a:ext cx="1338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 report on paten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3"/>
          <p:cNvSpPr/>
          <p:nvPr/>
        </p:nvSpPr>
        <p:spPr>
          <a:xfrm>
            <a:off x="274320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4"/>
          <p:cNvSpPr/>
          <p:nvPr/>
        </p:nvSpPr>
        <p:spPr>
          <a:xfrm>
            <a:off x="1676520" y="4572000"/>
            <a:ext cx="2133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Typically filed in same national patent office--one set of fees, one language, one set of formality requirements--and legal effect in all PCT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5"/>
          <p:cNvSpPr/>
          <p:nvPr/>
        </p:nvSpPr>
        <p:spPr>
          <a:xfrm>
            <a:off x="2656080" y="228600"/>
            <a:ext cx="366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The PC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CA48-3378-43E0-9F7C-8D1009D94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3675240" y="2754360"/>
            <a:ext cx="1876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016080" y="4116240"/>
            <a:ext cx="243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876600" y="2774880"/>
            <a:ext cx="8920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month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171520" y="3486240"/>
            <a:ext cx="104148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P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253152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1140840" y="3029040"/>
            <a:ext cx="286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7696080" y="3048120"/>
            <a:ext cx="3952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9"/>
          <p:cNvSpPr/>
          <p:nvPr/>
        </p:nvSpPr>
        <p:spPr>
          <a:xfrm>
            <a:off x="1266840" y="3429000"/>
            <a:ext cx="668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 flipV="1">
            <a:off x="2743200" y="329076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3325680" y="3490920"/>
            <a:ext cx="133848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search report &amp; written opi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380304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3"/>
          <p:cNvSpPr/>
          <p:nvPr/>
        </p:nvSpPr>
        <p:spPr>
          <a:xfrm>
            <a:off x="4528440" y="303048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3971880" y="2627280"/>
            <a:ext cx="145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5"/>
          <p:cNvSpPr/>
          <p:nvPr/>
        </p:nvSpPr>
        <p:spPr>
          <a:xfrm flipV="1">
            <a:off x="3986280" y="329220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6"/>
          <p:cNvSpPr/>
          <p:nvPr/>
        </p:nvSpPr>
        <p:spPr>
          <a:xfrm>
            <a:off x="4782960" y="3505320"/>
            <a:ext cx="1546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demand f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x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7"/>
          <p:cNvGrpSpPr/>
          <p:nvPr/>
        </p:nvGrpSpPr>
        <p:grpSpPr>
          <a:xfrm>
            <a:off x="7923240" y="2829960"/>
            <a:ext cx="543240" cy="1197720"/>
            <a:chOff x="7923240" y="2829960"/>
            <a:chExt cx="543240" cy="1197720"/>
          </a:xfrm>
        </p:grpSpPr>
        <p:sp>
          <p:nvSpPr>
            <p:cNvPr id="261" name="Line 18"/>
            <p:cNvSpPr/>
            <p:nvPr/>
          </p:nvSpPr>
          <p:spPr>
            <a:xfrm flipV="1">
              <a:off x="7954560" y="3022560"/>
              <a:ext cx="37440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9"/>
            <p:cNvSpPr/>
            <p:nvPr/>
          </p:nvSpPr>
          <p:spPr>
            <a:xfrm>
              <a:off x="7954920" y="344088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0"/>
            <p:cNvSpPr/>
            <p:nvPr/>
          </p:nvSpPr>
          <p:spPr>
            <a:xfrm>
              <a:off x="7923240" y="3429360"/>
              <a:ext cx="437400" cy="43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1"/>
            <p:cNvSpPr/>
            <p:nvPr/>
          </p:nvSpPr>
          <p:spPr>
            <a:xfrm>
              <a:off x="7943400" y="3429720"/>
              <a:ext cx="160200" cy="59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2"/>
            <p:cNvSpPr/>
            <p:nvPr/>
          </p:nvSpPr>
          <p:spPr>
            <a:xfrm flipV="1">
              <a:off x="7954920" y="327996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3"/>
            <p:cNvSpPr/>
            <p:nvPr/>
          </p:nvSpPr>
          <p:spPr>
            <a:xfrm flipV="1">
              <a:off x="7943400" y="2829960"/>
              <a:ext cx="16092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Rectangle 24"/>
          <p:cNvSpPr/>
          <p:nvPr/>
        </p:nvSpPr>
        <p:spPr>
          <a:xfrm>
            <a:off x="816480" y="3465360"/>
            <a:ext cx="103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5"/>
          <p:cNvSpPr/>
          <p:nvPr/>
        </p:nvSpPr>
        <p:spPr>
          <a:xfrm>
            <a:off x="7493760" y="2057400"/>
            <a:ext cx="812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6"/>
          <p:cNvSpPr/>
          <p:nvPr/>
        </p:nvSpPr>
        <p:spPr>
          <a:xfrm flipV="1">
            <a:off x="471312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7"/>
          <p:cNvSpPr/>
          <p:nvPr/>
        </p:nvSpPr>
        <p:spPr>
          <a:xfrm flipV="1">
            <a:off x="12668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8"/>
          <p:cNvSpPr/>
          <p:nvPr/>
        </p:nvSpPr>
        <p:spPr>
          <a:xfrm>
            <a:off x="527544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9"/>
          <p:cNvSpPr/>
          <p:nvPr/>
        </p:nvSpPr>
        <p:spPr>
          <a:xfrm flipV="1">
            <a:off x="55562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0"/>
          <p:cNvSpPr/>
          <p:nvPr/>
        </p:nvSpPr>
        <p:spPr>
          <a:xfrm>
            <a:off x="696276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1"/>
          <p:cNvSpPr/>
          <p:nvPr/>
        </p:nvSpPr>
        <p:spPr>
          <a:xfrm flipV="1">
            <a:off x="724536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2"/>
          <p:cNvSpPr/>
          <p:nvPr/>
        </p:nvSpPr>
        <p:spPr>
          <a:xfrm>
            <a:off x="6611760" y="3505320"/>
            <a:ext cx="1338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 report on paten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3200400" y="4800600"/>
            <a:ext cx="175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Report on state of the art (prior art documents and their relevance) + initial patentability opi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4"/>
          <p:cNvSpPr/>
          <p:nvPr/>
        </p:nvSpPr>
        <p:spPr>
          <a:xfrm>
            <a:off x="403848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5"/>
          <p:cNvSpPr/>
          <p:nvPr/>
        </p:nvSpPr>
        <p:spPr>
          <a:xfrm>
            <a:off x="2656080" y="228600"/>
            <a:ext cx="366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The PC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0:11:44Z</dcterms:created>
  <dc:creator>MATTHES Claus</dc:creator>
  <dc:description/>
  <dc:language>en-US</dc:language>
  <cp:lastModifiedBy>PALMIERI Sylvie</cp:lastModifiedBy>
  <dcterms:modified xsi:type="dcterms:W3CDTF">2013-09-13T13:50:30Z</dcterms:modified>
  <cp:revision>250</cp:revision>
  <dc:subject/>
  <dc:title>Slide 1</dc:title>
</cp:coreProperties>
</file>