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1B17C-761E-493D-912E-988FB1F4F3B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68B3E-0DE0-4B81-A453-57E4F29598C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B58BB-43E0-4ED6-A446-F1A8D287CF1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FA11E-FD5F-40C5-A0A4-3A957AE042A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9D234-9791-4AA9-A48A-1D893ABBC4A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5E9F2-6760-4378-9529-25852C9FC04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00D8A-33AA-4E88-9B58-8A9E916568D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503A-52BA-4F29-8D37-069E56A7954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3A48E-8080-48F7-B2ED-AFC195D5122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EC569-5B37-4D5E-B92E-5D280EFB7CF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FA82B-F4C5-4E4F-889A-E88EEEA6D40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4BC54-1CE1-40A8-84FC-8869980B248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B57D8-41DB-484C-A28B-3E05A3D921D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B022F-737F-4451-BC6B-2C3010834CD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4D649-F1E6-4BBB-A82D-5CA594520C5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20994-26C0-4B4F-A0BC-499E54A0873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BD89-606F-4AE9-A247-558FFF44AB1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63E-9D99-4F42-BBD4-DEB18C52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C18-6989-4C92-B286-36DC73D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AC6-5BE7-46C5-966F-149C11F3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803-831C-42CE-93CC-509629F4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EBB-F1D7-4346-BAD1-8AF2CAA6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607-83D7-4A88-95DD-A957D61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7F6-2081-4939-B6C8-37185215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7AD-A66E-4AE7-95B5-D58F26D3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C2D-4B35-48AC-8B74-F9DD5F4C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51B-970F-468C-87BE-8E7C81A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4CB-1BA2-4F4C-9779-F97AC7B5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40C-DE5E-451F-9E1D-1FC72D4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89FC-2D5A-461C-9373-C4F6C637883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 of ST.96 XML and other WIPO XML standards 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4724280"/>
            <a:ext cx="655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XML describ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762120" y="1066680"/>
          <a:ext cx="7543800" cy="56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5438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ublishing system (2014-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fficial publication on website in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continuou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ting of formal document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mmediatel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full description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or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invention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ML formats: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ST.96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imary tasks and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Office Open XML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(.docx) to XML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ST.36/ST.96</a:t>
            </a:r>
            <a:br>
              <a:rPr sz="2600"/>
            </a:b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conve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user-friendly profiles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displaying XML in</a:t>
            </a:r>
            <a:br>
              <a:rPr sz="2600"/>
            </a:b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browsers (tune-up on-fly XS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in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PDF/A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(with ontology in RD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repositor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XSL, DTDs, X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web-servic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retrieving data via XML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current stat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IP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66ff66"/>
                </a:solidFill>
                <a:latin typeface="Arial"/>
              </a:rPr>
              <a:t>green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in effe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ee for las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yellow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may be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discontinu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for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rcRect l="1153" t="24532" r="4960" b="5088"/>
          <a:stretch/>
        </p:blipFill>
        <p:spPr>
          <a:xfrm>
            <a:off x="4284720" y="1773360"/>
            <a:ext cx="4681440" cy="234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4284720" y="4292640"/>
            <a:ext cx="46814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termina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or 20 year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have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6069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International applications via Madrid System (ME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Not  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Lucida Sans Unicode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Trademarks and Service marks , Wellknown marks and geographical indications (ST.6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ventions, industrial designs and utility model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 </a:t>
            </a:r>
            <a:r>
              <a:rPr b="1" lang="fr-FR" sz="3200" spc="-1" strike="noStrike">
                <a:solidFill>
                  <a:srgbClr val="ffff66"/>
                </a:solidFill>
                <a:latin typeface="Arial"/>
                <a:ea typeface="Arial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computer programs, databases and topologies of integrated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 of registration +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s of changes + Actua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042920" y="11592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tructure of record in Electronic 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755640" y="2997360"/>
          <a:ext cx="7132680" cy="31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97360"/>
                    <a:ext cx="71326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828800" y="1066680"/>
            <a:ext cx="5408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Calibri"/>
              </a:rPr>
              <a:t>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CorrespondenceAddres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  <a:ea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Contin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Discontinuatio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ot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Parti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's certificate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egal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lienation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ransfer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ypes of changes stored in Electronic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143000" y="1066680"/>
          <a:ext cx="6885000" cy="55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66680"/>
                    <a:ext cx="6885000" cy="55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ST.96 XML describing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685800" y="1066680"/>
          <a:ext cx="790416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66680"/>
                    <a:ext cx="790416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7:54:34Z</dcterms:created>
  <dc:creator>Dyuzhev</dc:creator>
  <dc:description/>
  <dc:language>en-US</dc:language>
  <cp:lastModifiedBy>Geraldine Rodriguez</cp:lastModifiedBy>
  <dcterms:modified xsi:type="dcterms:W3CDTF">2014-05-20T07:58:30Z</dcterms:modified>
  <cp:revision>146</cp:revision>
  <dc:subject/>
  <dc:title>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