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F19EA0E-6D18-44F5-84D0-707DF34BE1E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3A8FBD2-2BDA-4898-A52C-6D56676B1F8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C6CE2-C343-4452-8EDD-8C69D40B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7782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0120" y="3907440"/>
            <a:ext cx="7782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BE9ED-DB87-4D6D-BCD9-32BBDEEA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012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820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889E-212A-479D-9C18-1566B080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1360" y="132876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2600" y="132876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0120" y="390744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1360" y="390744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2600" y="390744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6B0D2-9448-41AB-B12D-3D89256A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349000" y="394920"/>
            <a:ext cx="618660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9012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C2CBE-C4EC-4ED5-B26D-839AF3FF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820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90120" y="3907440"/>
            <a:ext cx="7782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7782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90120" y="3907440"/>
            <a:ext cx="7782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012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820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21360" y="132876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2600" y="132876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90120" y="390744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21360" y="390744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2600" y="390744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6431-A633-4714-A1D8-66247BCB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B441E-430A-4CE6-B630-863B26A7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403DB-B472-4915-A7BC-775258BB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349000" y="394920"/>
            <a:ext cx="618660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80FCA-5446-4B81-87B2-7F514E33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012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13C1-BC85-42D9-9F75-DE14E1C0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820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583D8-933C-43C9-AFAA-BAE498A3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0120" y="3907440"/>
            <a:ext cx="7782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E5B0-5363-4D62-A721-AB08E010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c3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4c3d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4c3d5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4c3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4c3d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 rot="5400000">
            <a:off x="4559760" y="2441880"/>
            <a:ext cx="42840" cy="7782120"/>
          </a:xfrm>
          <a:prstGeom prst="rect">
            <a:avLst/>
          </a:prstGeom>
          <a:solidFill>
            <a:srgbClr val="64c3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 rot="5400000">
            <a:off x="4559760" y="-2658240"/>
            <a:ext cx="42840" cy="7782120"/>
          </a:xfrm>
          <a:prstGeom prst="rect">
            <a:avLst/>
          </a:prstGeom>
          <a:solidFill>
            <a:srgbClr val="64c3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37488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09DF-5850-4A5F-BF29-C3B4E602620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22"/>
          <p:cNvSpPr/>
          <p:nvPr/>
        </p:nvSpPr>
        <p:spPr>
          <a:xfrm>
            <a:off x="3019320" y="6367320"/>
            <a:ext cx="3149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3"/>
          <p:cNvSpPr/>
          <p:nvPr/>
        </p:nvSpPr>
        <p:spPr>
          <a:xfrm>
            <a:off x="3395520" y="6345360"/>
            <a:ext cx="2786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24"/>
          <p:cNvSpPr/>
          <p:nvPr/>
        </p:nvSpPr>
        <p:spPr>
          <a:xfrm>
            <a:off x="939960" y="4919760"/>
            <a:ext cx="3135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80620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GPTO activities related to X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28" descr="DPMAengl_Office_Farbe_en"/>
          <p:cNvPicPr/>
          <p:nvPr/>
        </p:nvPicPr>
        <p:blipFill>
          <a:blip r:embed="rId2"/>
          <a:stretch/>
        </p:blipFill>
        <p:spPr>
          <a:xfrm>
            <a:off x="162000" y="39600"/>
            <a:ext cx="2050920" cy="113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3"/>
          <p:cNvSpPr/>
          <p:nvPr/>
        </p:nvSpPr>
        <p:spPr>
          <a:xfrm rot="5400000">
            <a:off x="3070440" y="2846880"/>
            <a:ext cx="597240" cy="6738840"/>
          </a:xfrm>
          <a:prstGeom prst="rect">
            <a:avLst/>
          </a:prstGeom>
          <a:solidFill>
            <a:srgbClr val="64c3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5"/>
          <p:cNvSpPr/>
          <p:nvPr/>
        </p:nvSpPr>
        <p:spPr>
          <a:xfrm>
            <a:off x="6738840" y="5303880"/>
            <a:ext cx="2405160" cy="598320"/>
          </a:xfrm>
          <a:prstGeom prst="rect">
            <a:avLst/>
          </a:prstGeom>
          <a:solidFill>
            <a:srgbClr val="cde9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7"/>
          <p:cNvSpPr/>
          <p:nvPr/>
        </p:nvSpPr>
        <p:spPr>
          <a:xfrm>
            <a:off x="6772320" y="6043320"/>
            <a:ext cx="19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ww.dpma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9" descr="DPMAengl_Office_Farbe_en"/>
          <p:cNvPicPr/>
          <p:nvPr/>
        </p:nvPicPr>
        <p:blipFill>
          <a:blip r:embed="rId2"/>
          <a:stretch/>
        </p:blipFill>
        <p:spPr>
          <a:xfrm>
            <a:off x="162000" y="39600"/>
            <a:ext cx="2050920" cy="113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c3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4c3d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4c3d5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4c3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4c3d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register.dpma.de/DPMAregister/pat/register?lang=en&amp;AKZ=1020060546970&amp;CURSOR=0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3280" y="1619280"/>
            <a:ext cx="7557840" cy="124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PMA activities and plans related to the WIPO Standards dealing with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73280" y="3060360"/>
            <a:ext cx="755784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esentation during CWS 4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omas Plarre; Dr. Katja Bra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rman Patent and Trade Mark Office (DP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34A3-0E5E-4E03-810C-E7A5C15F96E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mo of DPMA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1976400" y="1384200"/>
            <a:ext cx="6181920" cy="470700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5"/>
          <p:cNvSpPr/>
          <p:nvPr/>
        </p:nvSpPr>
        <p:spPr>
          <a:xfrm>
            <a:off x="1703520" y="3132000"/>
            <a:ext cx="271440" cy="1828800"/>
          </a:xfrm>
          <a:custGeom>
            <a:avLst/>
            <a:gdLst>
              <a:gd name="textAreaLeft" fmla="*/ 173520 w 271440"/>
              <a:gd name="textAreaRight" fmla="*/ 271800 w 2714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303120" y="37612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gal Status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"/>
          <p:cNvSpPr/>
          <p:nvPr/>
        </p:nvSpPr>
        <p:spPr>
          <a:xfrm>
            <a:off x="1701720" y="5054760"/>
            <a:ext cx="271440" cy="666720"/>
          </a:xfrm>
          <a:custGeom>
            <a:avLst/>
            <a:gdLst>
              <a:gd name="textAreaLeft" fmla="*/ 173520 w 271440"/>
              <a:gd name="textAreaRight" fmla="*/ 271800 w 271440"/>
              <a:gd name="textAreaTop" fmla="*/ 17280 h 666720"/>
              <a:gd name="textAreaBottom" fmla="*/ 649440 h 66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330120" y="5116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.36 down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4202-CA20-45AA-93BC-1629C4F3937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mo of DPMA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1976400" y="1384200"/>
            <a:ext cx="6181920" cy="465768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9"/>
          <p:cNvSpPr/>
          <p:nvPr/>
        </p:nvSpPr>
        <p:spPr>
          <a:xfrm>
            <a:off x="1703520" y="2179800"/>
            <a:ext cx="271440" cy="3819240"/>
          </a:xfrm>
          <a:custGeom>
            <a:avLst/>
            <a:gdLst>
              <a:gd name="textAreaLeft" fmla="*/ 173520 w 271440"/>
              <a:gd name="textAreaRight" fmla="*/ 271800 w 271440"/>
              <a:gd name="textAreaTop" fmla="*/ 99360 h 3819240"/>
              <a:gd name="textAreaBottom" fmla="*/ 3719880 h 38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303120" y="35784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bliogra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FCFB-B887-4942-8581-C42B3A91C6F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mo of DPMA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1976400" y="1384200"/>
            <a:ext cx="6181920" cy="470700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5"/>
          <p:cNvSpPr/>
          <p:nvPr/>
        </p:nvSpPr>
        <p:spPr>
          <a:xfrm>
            <a:off x="1703520" y="2341440"/>
            <a:ext cx="271440" cy="3695760"/>
          </a:xfrm>
          <a:custGeom>
            <a:avLst/>
            <a:gdLst>
              <a:gd name="textAreaLeft" fmla="*/ 173520 w 271440"/>
              <a:gd name="textAreaRight" fmla="*/ 271800 w 271440"/>
              <a:gd name="textAreaTop" fmla="*/ 96120 h 3695760"/>
              <a:gd name="textAreaBottom" fmla="*/ 3599640 h 3695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303120" y="390384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gal Status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BB84-5760-4A4A-B6F4-9BF534BC4BF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3"/>
          <p:cNvSpPr/>
          <p:nvPr/>
        </p:nvSpPr>
        <p:spPr>
          <a:xfrm>
            <a:off x="2847960" y="1990800"/>
            <a:ext cx="3398760" cy="3381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ML based on used WIPO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562640" y="2327400"/>
            <a:ext cx="2095200" cy="1295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605480" y="232740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PMA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600440" y="2671560"/>
            <a:ext cx="203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ster for patents, utility models, trade marks and desig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7027920" y="2711520"/>
            <a:ext cx="1000080" cy="458280"/>
            <a:chOff x="7027920" y="2711520"/>
            <a:chExt cx="1000080" cy="458280"/>
          </a:xfrm>
        </p:grpSpPr>
        <p:sp>
          <p:nvSpPr>
            <p:cNvPr id="107" name="Rectangle 7"/>
            <p:cNvSpPr/>
            <p:nvPr/>
          </p:nvSpPr>
          <p:spPr>
            <a:xfrm>
              <a:off x="7027920" y="2722680"/>
              <a:ext cx="1000080" cy="447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8"/>
            <p:cNvSpPr/>
            <p:nvPr/>
          </p:nvSpPr>
          <p:spPr>
            <a:xfrm>
              <a:off x="7075440" y="2711520"/>
              <a:ext cx="9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.6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9"/>
          <p:cNvSpPr/>
          <p:nvPr/>
        </p:nvSpPr>
        <p:spPr>
          <a:xfrm>
            <a:off x="7026120" y="3225960"/>
            <a:ext cx="1000440" cy="447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7074000" y="32158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4836960" y="5113440"/>
            <a:ext cx="158148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2"/>
          <p:cNvGrpSpPr/>
          <p:nvPr/>
        </p:nvGrpSpPr>
        <p:grpSpPr>
          <a:xfrm>
            <a:off x="7026120" y="2205360"/>
            <a:ext cx="1000080" cy="458280"/>
            <a:chOff x="7026120" y="2205360"/>
            <a:chExt cx="1000080" cy="458280"/>
          </a:xfrm>
        </p:grpSpPr>
        <p:sp>
          <p:nvSpPr>
            <p:cNvPr id="113" name="Rectangle 13"/>
            <p:cNvSpPr/>
            <p:nvPr/>
          </p:nvSpPr>
          <p:spPr>
            <a:xfrm>
              <a:off x="7026120" y="2216160"/>
              <a:ext cx="1000080" cy="447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4"/>
            <p:cNvSpPr/>
            <p:nvPr/>
          </p:nvSpPr>
          <p:spPr>
            <a:xfrm>
              <a:off x="7073640" y="2205360"/>
              <a:ext cx="9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.3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Line 15"/>
          <p:cNvSpPr/>
          <p:nvPr/>
        </p:nvSpPr>
        <p:spPr>
          <a:xfrm>
            <a:off x="6667560" y="2371680"/>
            <a:ext cx="352440" cy="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6656400" y="2827440"/>
            <a:ext cx="366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6664320" y="3463920"/>
            <a:ext cx="36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4570560" y="3946680"/>
            <a:ext cx="2095200" cy="1285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4508640" y="3935520"/>
            <a:ext cx="22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PMA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4522680" y="4356000"/>
            <a:ext cx="21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online access to register and public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1"/>
          <p:cNvGrpSpPr/>
          <p:nvPr/>
        </p:nvGrpSpPr>
        <p:grpSpPr>
          <a:xfrm>
            <a:off x="7035840" y="4367520"/>
            <a:ext cx="1000080" cy="458280"/>
            <a:chOff x="7035840" y="4367520"/>
            <a:chExt cx="1000080" cy="458280"/>
          </a:xfrm>
        </p:grpSpPr>
        <p:sp>
          <p:nvSpPr>
            <p:cNvPr id="122" name="Rectangle 22"/>
            <p:cNvSpPr/>
            <p:nvPr/>
          </p:nvSpPr>
          <p:spPr>
            <a:xfrm>
              <a:off x="7035840" y="4378320"/>
              <a:ext cx="1000080" cy="447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3"/>
            <p:cNvSpPr/>
            <p:nvPr/>
          </p:nvSpPr>
          <p:spPr>
            <a:xfrm>
              <a:off x="7083360" y="4367520"/>
              <a:ext cx="9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.6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24"/>
          <p:cNvSpPr/>
          <p:nvPr/>
        </p:nvSpPr>
        <p:spPr>
          <a:xfrm>
            <a:off x="7034040" y="4881600"/>
            <a:ext cx="1000440" cy="447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7081920" y="4871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26"/>
          <p:cNvGrpSpPr/>
          <p:nvPr/>
        </p:nvGrpSpPr>
        <p:grpSpPr>
          <a:xfrm>
            <a:off x="7034040" y="3861000"/>
            <a:ext cx="1000080" cy="458280"/>
            <a:chOff x="7034040" y="3861000"/>
            <a:chExt cx="1000080" cy="458280"/>
          </a:xfrm>
        </p:grpSpPr>
        <p:sp>
          <p:nvSpPr>
            <p:cNvPr id="127" name="Rectangle 27"/>
            <p:cNvSpPr/>
            <p:nvPr/>
          </p:nvSpPr>
          <p:spPr>
            <a:xfrm>
              <a:off x="7034040" y="3871800"/>
              <a:ext cx="1000080" cy="447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8"/>
            <p:cNvSpPr/>
            <p:nvPr/>
          </p:nvSpPr>
          <p:spPr>
            <a:xfrm>
              <a:off x="7081560" y="3861000"/>
              <a:ext cx="9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.3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Line 29"/>
          <p:cNvSpPr/>
          <p:nvPr/>
        </p:nvSpPr>
        <p:spPr>
          <a:xfrm>
            <a:off x="6675480" y="4027320"/>
            <a:ext cx="347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0"/>
          <p:cNvSpPr/>
          <p:nvPr/>
        </p:nvSpPr>
        <p:spPr>
          <a:xfrm>
            <a:off x="6669000" y="4578480"/>
            <a:ext cx="357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1"/>
          <p:cNvSpPr/>
          <p:nvPr/>
        </p:nvSpPr>
        <p:spPr>
          <a:xfrm>
            <a:off x="6672240" y="5119560"/>
            <a:ext cx="36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2"/>
          <p:cNvSpPr/>
          <p:nvPr/>
        </p:nvSpPr>
        <p:spPr>
          <a:xfrm>
            <a:off x="2332080" y="2327400"/>
            <a:ext cx="2104920" cy="1295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3"/>
          <p:cNvSpPr/>
          <p:nvPr/>
        </p:nvSpPr>
        <p:spPr>
          <a:xfrm>
            <a:off x="2327400" y="233532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PMAdi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2341440" y="2684880"/>
            <a:ext cx="20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line filing of IP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5"/>
          <p:cNvSpPr/>
          <p:nvPr/>
        </p:nvSpPr>
        <p:spPr>
          <a:xfrm>
            <a:off x="949320" y="2701800"/>
            <a:ext cx="1000080" cy="4478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6"/>
          <p:cNvSpPr/>
          <p:nvPr/>
        </p:nvSpPr>
        <p:spPr>
          <a:xfrm>
            <a:off x="996840" y="2692080"/>
            <a:ext cx="9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7"/>
          <p:cNvSpPr/>
          <p:nvPr/>
        </p:nvSpPr>
        <p:spPr>
          <a:xfrm>
            <a:off x="947880" y="3205080"/>
            <a:ext cx="1000080" cy="4478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8"/>
          <p:cNvSpPr/>
          <p:nvPr/>
        </p:nvSpPr>
        <p:spPr>
          <a:xfrm>
            <a:off x="995400" y="31953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9"/>
          <p:cNvSpPr/>
          <p:nvPr/>
        </p:nvSpPr>
        <p:spPr>
          <a:xfrm>
            <a:off x="947880" y="2195640"/>
            <a:ext cx="1000080" cy="4474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0"/>
          <p:cNvSpPr/>
          <p:nvPr/>
        </p:nvSpPr>
        <p:spPr>
          <a:xfrm>
            <a:off x="995400" y="21855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1"/>
          <p:cNvSpPr/>
          <p:nvPr/>
        </p:nvSpPr>
        <p:spPr>
          <a:xfrm>
            <a:off x="955800" y="1660680"/>
            <a:ext cx="1000080" cy="447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2"/>
          <p:cNvSpPr/>
          <p:nvPr/>
        </p:nvSpPr>
        <p:spPr>
          <a:xfrm>
            <a:off x="965160" y="16599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3"/>
          <p:cNvSpPr/>
          <p:nvPr/>
        </p:nvSpPr>
        <p:spPr>
          <a:xfrm>
            <a:off x="1960560" y="2922480"/>
            <a:ext cx="352440" cy="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4"/>
          <p:cNvSpPr/>
          <p:nvPr/>
        </p:nvSpPr>
        <p:spPr>
          <a:xfrm>
            <a:off x="1968480" y="3378240"/>
            <a:ext cx="352440" cy="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5"/>
          <p:cNvSpPr/>
          <p:nvPr/>
        </p:nvSpPr>
        <p:spPr>
          <a:xfrm>
            <a:off x="1957320" y="1900080"/>
            <a:ext cx="381240" cy="44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7"/>
          <p:cNvSpPr/>
          <p:nvPr/>
        </p:nvSpPr>
        <p:spPr>
          <a:xfrm>
            <a:off x="2311560" y="3940200"/>
            <a:ext cx="2104920" cy="1292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8"/>
          <p:cNvSpPr/>
          <p:nvPr/>
        </p:nvSpPr>
        <p:spPr>
          <a:xfrm>
            <a:off x="2173320" y="39434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PMAdatenabg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9"/>
          <p:cNvSpPr/>
          <p:nvPr/>
        </p:nvSpPr>
        <p:spPr>
          <a:xfrm>
            <a:off x="2320920" y="4335480"/>
            <a:ext cx="203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ekly data and documents from the DPMA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0"/>
          <p:cNvSpPr/>
          <p:nvPr/>
        </p:nvSpPr>
        <p:spPr>
          <a:xfrm>
            <a:off x="936720" y="3860640"/>
            <a:ext cx="1000080" cy="447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1"/>
          <p:cNvSpPr/>
          <p:nvPr/>
        </p:nvSpPr>
        <p:spPr>
          <a:xfrm>
            <a:off x="984240" y="3850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2"/>
          <p:cNvSpPr/>
          <p:nvPr/>
        </p:nvSpPr>
        <p:spPr>
          <a:xfrm>
            <a:off x="1938240" y="4071960"/>
            <a:ext cx="352440" cy="46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4"/>
          <p:cNvSpPr/>
          <p:nvPr/>
        </p:nvSpPr>
        <p:spPr>
          <a:xfrm>
            <a:off x="3514680" y="3413520"/>
            <a:ext cx="23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internal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5"/>
          <p:cNvSpPr/>
          <p:nvPr/>
        </p:nvSpPr>
        <p:spPr>
          <a:xfrm>
            <a:off x="974880" y="5432400"/>
            <a:ext cx="276120" cy="856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6"/>
          <p:cNvSpPr/>
          <p:nvPr/>
        </p:nvSpPr>
        <p:spPr>
          <a:xfrm>
            <a:off x="973080" y="5554800"/>
            <a:ext cx="276120" cy="75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7"/>
          <p:cNvSpPr/>
          <p:nvPr/>
        </p:nvSpPr>
        <p:spPr>
          <a:xfrm>
            <a:off x="973080" y="5964120"/>
            <a:ext cx="276120" cy="114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8"/>
          <p:cNvSpPr/>
          <p:nvPr/>
        </p:nvSpPr>
        <p:spPr>
          <a:xfrm>
            <a:off x="973080" y="5678640"/>
            <a:ext cx="276120" cy="75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0"/>
          <p:cNvSpPr/>
          <p:nvPr/>
        </p:nvSpPr>
        <p:spPr>
          <a:xfrm>
            <a:off x="1380960" y="5564160"/>
            <a:ext cx="49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ML based on WIPO standards used (with different office specific enhanceme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1"/>
          <p:cNvSpPr/>
          <p:nvPr/>
        </p:nvSpPr>
        <p:spPr>
          <a:xfrm>
            <a:off x="1276200" y="5429160"/>
            <a:ext cx="133560" cy="486000"/>
          </a:xfrm>
          <a:custGeom>
            <a:avLst/>
            <a:gdLst>
              <a:gd name="textAreaLeft" fmla="*/ 0 w 133560"/>
              <a:gd name="textAreaRight" fmla="*/ 48240 w 133560"/>
              <a:gd name="textAreaTop" fmla="*/ 12600 h 486000"/>
              <a:gd name="textAreaBottom" fmla="*/ 47340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2"/>
          <p:cNvSpPr/>
          <p:nvPr/>
        </p:nvSpPr>
        <p:spPr>
          <a:xfrm>
            <a:off x="1379520" y="5914800"/>
            <a:ext cx="506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ML based on WIPO standards planed to be used (with office specific enhanceme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5"/>
          <p:cNvSpPr/>
          <p:nvPr/>
        </p:nvSpPr>
        <p:spPr>
          <a:xfrm>
            <a:off x="934920" y="4383000"/>
            <a:ext cx="1000080" cy="447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6"/>
          <p:cNvSpPr/>
          <p:nvPr/>
        </p:nvSpPr>
        <p:spPr>
          <a:xfrm>
            <a:off x="982800" y="43732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7"/>
          <p:cNvSpPr/>
          <p:nvPr/>
        </p:nvSpPr>
        <p:spPr>
          <a:xfrm>
            <a:off x="1936800" y="4594320"/>
            <a:ext cx="352440" cy="46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8"/>
          <p:cNvSpPr/>
          <p:nvPr/>
        </p:nvSpPr>
        <p:spPr>
          <a:xfrm>
            <a:off x="944640" y="4906800"/>
            <a:ext cx="1000080" cy="447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9"/>
          <p:cNvSpPr/>
          <p:nvPr/>
        </p:nvSpPr>
        <p:spPr>
          <a:xfrm>
            <a:off x="992160" y="48970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70"/>
          <p:cNvSpPr/>
          <p:nvPr/>
        </p:nvSpPr>
        <p:spPr>
          <a:xfrm>
            <a:off x="1946160" y="5118120"/>
            <a:ext cx="352440" cy="46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1"/>
          <p:cNvSpPr/>
          <p:nvPr/>
        </p:nvSpPr>
        <p:spPr>
          <a:xfrm>
            <a:off x="6654960" y="3025800"/>
            <a:ext cx="366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3"/>
          <p:cNvSpPr/>
          <p:nvPr/>
        </p:nvSpPr>
        <p:spPr>
          <a:xfrm>
            <a:off x="7043760" y="5396040"/>
            <a:ext cx="1000080" cy="447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4"/>
          <p:cNvSpPr/>
          <p:nvPr/>
        </p:nvSpPr>
        <p:spPr>
          <a:xfrm>
            <a:off x="7024680" y="54165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M-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5"/>
          <p:cNvSpPr/>
          <p:nvPr/>
        </p:nvSpPr>
        <p:spPr>
          <a:xfrm>
            <a:off x="6680160" y="5299200"/>
            <a:ext cx="352440" cy="32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7"/>
          <p:cNvSpPr/>
          <p:nvPr/>
        </p:nvSpPr>
        <p:spPr>
          <a:xfrm>
            <a:off x="1959120" y="2454120"/>
            <a:ext cx="352440" cy="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8"/>
          <p:cNvSpPr/>
          <p:nvPr/>
        </p:nvSpPr>
        <p:spPr>
          <a:xfrm>
            <a:off x="3587760" y="1430280"/>
            <a:ext cx="210492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9"/>
          <p:cNvSpPr/>
          <p:nvPr/>
        </p:nvSpPr>
        <p:spPr>
          <a:xfrm>
            <a:off x="3583080" y="13971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pa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0"/>
          <p:cNvSpPr/>
          <p:nvPr/>
        </p:nvSpPr>
        <p:spPr>
          <a:xfrm>
            <a:off x="3635280" y="1654560"/>
            <a:ext cx="20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arch for patent pub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1"/>
          <p:cNvSpPr/>
          <p:nvPr/>
        </p:nvSpPr>
        <p:spPr>
          <a:xfrm>
            <a:off x="2184480" y="1413000"/>
            <a:ext cx="1000080" cy="4474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2"/>
          <p:cNvSpPr/>
          <p:nvPr/>
        </p:nvSpPr>
        <p:spPr>
          <a:xfrm>
            <a:off x="2232000" y="1402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83"/>
          <p:cNvSpPr/>
          <p:nvPr/>
        </p:nvSpPr>
        <p:spPr>
          <a:xfrm>
            <a:off x="3195720" y="1671480"/>
            <a:ext cx="352440" cy="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4"/>
          <p:cNvSpPr/>
          <p:nvPr/>
        </p:nvSpPr>
        <p:spPr>
          <a:xfrm>
            <a:off x="971640" y="5819760"/>
            <a:ext cx="276120" cy="763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5"/>
          <p:cNvSpPr/>
          <p:nvPr/>
        </p:nvSpPr>
        <p:spPr>
          <a:xfrm>
            <a:off x="981000" y="6143760"/>
            <a:ext cx="276480" cy="114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6"/>
          <p:cNvSpPr/>
          <p:nvPr/>
        </p:nvSpPr>
        <p:spPr>
          <a:xfrm>
            <a:off x="1387440" y="6094080"/>
            <a:ext cx="506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se of ST.26 not decided y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BD46-4F41-4568-ABD3-95F09FFA306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ML based on used WIPO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4"/>
          <p:cNvSpPr/>
          <p:nvPr/>
        </p:nvSpPr>
        <p:spPr>
          <a:xfrm>
            <a:off x="690480" y="1301400"/>
            <a:ext cx="7782120" cy="49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.36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d to import and export data in different DPMA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pendant on application, different enhancements of WIPO ST.36 are u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.6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d to import and export data in different DPMA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pendant on application, different enhancements of WIPO ST.66 are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.8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d to import and export data in different DPMA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pendant on application, different enhancements of WIPO ST.86 are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.2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urrently no plans for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.9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urrently no plans for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06D4-EA1C-407F-BCCD-B94AB325861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1236600" y="1994040"/>
            <a:ext cx="3214800" cy="389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3"/>
          <p:cNvSpPr/>
          <p:nvPr/>
        </p:nvSpPr>
        <p:spPr>
          <a:xfrm>
            <a:off x="4676760" y="1994040"/>
            <a:ext cx="3119400" cy="38829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fferent views for differen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380960" y="2124000"/>
            <a:ext cx="292428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665360" y="2598840"/>
            <a:ext cx="26557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1663560" y="3035160"/>
            <a:ext cx="26575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1662120" y="3490920"/>
            <a:ext cx="2658960" cy="581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380960" y="210816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ile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1665360" y="258300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bliograf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1682640" y="3019320"/>
            <a:ext cx="23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gal statu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1687680" y="3438720"/>
            <a:ext cx="29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ference to publishe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4808520" y="2131920"/>
            <a:ext cx="2816280" cy="3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5092560" y="2635200"/>
            <a:ext cx="2532240" cy="3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6"/>
          <p:cNvSpPr/>
          <p:nvPr/>
        </p:nvSpPr>
        <p:spPr>
          <a:xfrm>
            <a:off x="5091120" y="3119400"/>
            <a:ext cx="2533680" cy="3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4808520" y="2116080"/>
            <a:ext cx="26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ocument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092560" y="2619360"/>
            <a:ext cx="24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bliograf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5110200" y="3103560"/>
            <a:ext cx="23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942840" y="1420560"/>
            <a:ext cx="72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le oriented view versus Document oriented view (e.g. ST.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"/>
          <p:cNvSpPr/>
          <p:nvPr/>
        </p:nvSpPr>
        <p:spPr>
          <a:xfrm>
            <a:off x="1514520" y="2476440"/>
            <a:ext cx="4680" cy="132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6"/>
          <p:cNvSpPr/>
          <p:nvPr/>
        </p:nvSpPr>
        <p:spPr>
          <a:xfrm>
            <a:off x="1509840" y="38098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7"/>
          <p:cNvSpPr/>
          <p:nvPr/>
        </p:nvSpPr>
        <p:spPr>
          <a:xfrm>
            <a:off x="1508040" y="321804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8"/>
          <p:cNvSpPr/>
          <p:nvPr/>
        </p:nvSpPr>
        <p:spPr>
          <a:xfrm>
            <a:off x="1511280" y="276876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9"/>
          <p:cNvSpPr/>
          <p:nvPr/>
        </p:nvSpPr>
        <p:spPr>
          <a:xfrm>
            <a:off x="4927680" y="2494080"/>
            <a:ext cx="0" cy="79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1"/>
          <p:cNvSpPr/>
          <p:nvPr/>
        </p:nvSpPr>
        <p:spPr>
          <a:xfrm>
            <a:off x="4930920" y="3292560"/>
            <a:ext cx="142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2"/>
          <p:cNvSpPr/>
          <p:nvPr/>
        </p:nvSpPr>
        <p:spPr>
          <a:xfrm>
            <a:off x="4929120" y="280512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3"/>
          <p:cNvSpPr/>
          <p:nvPr/>
        </p:nvSpPr>
        <p:spPr>
          <a:xfrm>
            <a:off x="5002200" y="4175280"/>
            <a:ext cx="2960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4"/>
          <p:cNvSpPr/>
          <p:nvPr/>
        </p:nvSpPr>
        <p:spPr>
          <a:xfrm>
            <a:off x="4797360" y="4127760"/>
            <a:ext cx="282744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bliografic data is document oriented/re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d for a single 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5"/>
          <p:cNvSpPr/>
          <p:nvPr/>
        </p:nvSpPr>
        <p:spPr>
          <a:xfrm>
            <a:off x="1447920" y="4147200"/>
            <a:ext cx="2827080" cy="17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bliografic data is file oriented/re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ditional bibliografic data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gal status data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ne file usually refers to several published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9"/>
          <p:cNvSpPr/>
          <p:nvPr/>
        </p:nvSpPr>
        <p:spPr>
          <a:xfrm rot="16200000">
            <a:off x="-399960" y="377604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register,DPMA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40"/>
          <p:cNvSpPr/>
          <p:nvPr/>
        </p:nvSpPr>
        <p:spPr>
          <a:xfrm>
            <a:off x="1047600" y="1994040"/>
            <a:ext cx="181080" cy="3882960"/>
          </a:xfrm>
          <a:custGeom>
            <a:avLst/>
            <a:gdLst>
              <a:gd name="textAreaLeft" fmla="*/ 115920 w 181080"/>
              <a:gd name="textAreaRight" fmla="*/ 181440 w 181080"/>
              <a:gd name="textAreaTop" fmla="*/ 101160 h 3882960"/>
              <a:gd name="textAreaBottom" fmla="*/ 3781800 h 388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1"/>
          <p:cNvSpPr/>
          <p:nvPr/>
        </p:nvSpPr>
        <p:spPr>
          <a:xfrm>
            <a:off x="7783560" y="1994040"/>
            <a:ext cx="203040" cy="3873240"/>
          </a:xfrm>
          <a:custGeom>
            <a:avLst/>
            <a:gdLst>
              <a:gd name="textAreaLeft" fmla="*/ 0 w 203040"/>
              <a:gd name="textAreaRight" fmla="*/ 73440 w 203040"/>
              <a:gd name="textAreaTop" fmla="*/ 70920 h 3873240"/>
              <a:gd name="textAreaBottom" fmla="*/ 3802320 h 387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33"/>
                  <a:pt x="10800" y="1266"/>
                </a:cubicBezTo>
                <a:lnTo>
                  <a:pt x="10800" y="9534"/>
                </a:lnTo>
                <a:cubicBezTo>
                  <a:pt x="10800" y="10167"/>
                  <a:pt x="16200" y="10800"/>
                  <a:pt x="21600" y="10800"/>
                </a:cubicBezTo>
                <a:cubicBezTo>
                  <a:pt x="16200" y="10800"/>
                  <a:pt x="10800" y="11433"/>
                  <a:pt x="10800" y="12066"/>
                </a:cubicBezTo>
                <a:lnTo>
                  <a:pt x="10800" y="20334"/>
                </a:lnTo>
                <a:cubicBezTo>
                  <a:pt x="10800" y="2096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2"/>
          <p:cNvSpPr/>
          <p:nvPr/>
        </p:nvSpPr>
        <p:spPr>
          <a:xfrm rot="5400000">
            <a:off x="6323040" y="3776400"/>
            <a:ext cx="37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direkt,DPMAdatenabgabe, Depat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30C9-2EBF-4A1C-AB6A-832D8076086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 rot="16200000">
            <a:off x="-399960" y="377604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register,DPMA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6"/>
          <p:cNvSpPr/>
          <p:nvPr/>
        </p:nvSpPr>
        <p:spPr>
          <a:xfrm>
            <a:off x="1047600" y="1994040"/>
            <a:ext cx="181080" cy="3882960"/>
          </a:xfrm>
          <a:custGeom>
            <a:avLst/>
            <a:gdLst>
              <a:gd name="textAreaLeft" fmla="*/ 115920 w 181080"/>
              <a:gd name="textAreaRight" fmla="*/ 181440 w 181080"/>
              <a:gd name="textAreaTop" fmla="*/ 101160 h 3882960"/>
              <a:gd name="textAreaBottom" fmla="*/ 3781800 h 388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7"/>
          <p:cNvSpPr/>
          <p:nvPr/>
        </p:nvSpPr>
        <p:spPr>
          <a:xfrm>
            <a:off x="7783560" y="1994040"/>
            <a:ext cx="203040" cy="3873240"/>
          </a:xfrm>
          <a:custGeom>
            <a:avLst/>
            <a:gdLst>
              <a:gd name="textAreaLeft" fmla="*/ 0 w 203040"/>
              <a:gd name="textAreaRight" fmla="*/ 73440 w 203040"/>
              <a:gd name="textAreaTop" fmla="*/ 70920 h 3873240"/>
              <a:gd name="textAreaBottom" fmla="*/ 3802320 h 387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33"/>
                  <a:pt x="10800" y="1266"/>
                </a:cubicBezTo>
                <a:lnTo>
                  <a:pt x="10800" y="9534"/>
                </a:lnTo>
                <a:cubicBezTo>
                  <a:pt x="10800" y="10167"/>
                  <a:pt x="16200" y="10800"/>
                  <a:pt x="21600" y="10800"/>
                </a:cubicBezTo>
                <a:cubicBezTo>
                  <a:pt x="16200" y="10800"/>
                  <a:pt x="10800" y="11433"/>
                  <a:pt x="10800" y="12066"/>
                </a:cubicBezTo>
                <a:lnTo>
                  <a:pt x="10800" y="20334"/>
                </a:lnTo>
                <a:cubicBezTo>
                  <a:pt x="10800" y="2096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1236600" y="1994040"/>
            <a:ext cx="3214800" cy="389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4676760" y="1994040"/>
            <a:ext cx="3119400" cy="38829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fferent office specific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380960" y="2124000"/>
            <a:ext cx="292428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665360" y="2598840"/>
            <a:ext cx="2655720" cy="3524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1663560" y="3035160"/>
            <a:ext cx="2657520" cy="352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1662120" y="3490920"/>
            <a:ext cx="2658960" cy="581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1380960" y="210816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ile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1665360" y="258300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bliograf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1682640" y="3019320"/>
            <a:ext cx="23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gal statu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1687680" y="343872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ference to documents 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4808520" y="2131920"/>
            <a:ext cx="2816280" cy="3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4"/>
          <p:cNvSpPr/>
          <p:nvPr/>
        </p:nvSpPr>
        <p:spPr>
          <a:xfrm>
            <a:off x="5092560" y="2635200"/>
            <a:ext cx="2532240" cy="352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5"/>
          <p:cNvSpPr/>
          <p:nvPr/>
        </p:nvSpPr>
        <p:spPr>
          <a:xfrm>
            <a:off x="5091120" y="3119400"/>
            <a:ext cx="2533680" cy="3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6"/>
          <p:cNvSpPr/>
          <p:nvPr/>
        </p:nvSpPr>
        <p:spPr>
          <a:xfrm>
            <a:off x="4808520" y="2116080"/>
            <a:ext cx="26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ocument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5092560" y="2619360"/>
            <a:ext cx="22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bliograf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5110200" y="3103560"/>
            <a:ext cx="23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0"/>
          <p:cNvSpPr/>
          <p:nvPr/>
        </p:nvSpPr>
        <p:spPr>
          <a:xfrm>
            <a:off x="1514520" y="2476440"/>
            <a:ext cx="4680" cy="132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1"/>
          <p:cNvSpPr/>
          <p:nvPr/>
        </p:nvSpPr>
        <p:spPr>
          <a:xfrm>
            <a:off x="1509840" y="38098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2"/>
          <p:cNvSpPr/>
          <p:nvPr/>
        </p:nvSpPr>
        <p:spPr>
          <a:xfrm>
            <a:off x="1508040" y="321804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3"/>
          <p:cNvSpPr/>
          <p:nvPr/>
        </p:nvSpPr>
        <p:spPr>
          <a:xfrm>
            <a:off x="1511280" y="276876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4"/>
          <p:cNvSpPr/>
          <p:nvPr/>
        </p:nvSpPr>
        <p:spPr>
          <a:xfrm>
            <a:off x="4927680" y="2494080"/>
            <a:ext cx="0" cy="79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5"/>
          <p:cNvSpPr/>
          <p:nvPr/>
        </p:nvSpPr>
        <p:spPr>
          <a:xfrm>
            <a:off x="4930920" y="3292560"/>
            <a:ext cx="142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6"/>
          <p:cNvSpPr/>
          <p:nvPr/>
        </p:nvSpPr>
        <p:spPr>
          <a:xfrm>
            <a:off x="4929120" y="280512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7"/>
          <p:cNvSpPr/>
          <p:nvPr/>
        </p:nvSpPr>
        <p:spPr>
          <a:xfrm>
            <a:off x="5002200" y="4175280"/>
            <a:ext cx="2960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8"/>
          <p:cNvSpPr/>
          <p:nvPr/>
        </p:nvSpPr>
        <p:spPr>
          <a:xfrm>
            <a:off x="4797360" y="4127760"/>
            <a:ext cx="282744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bliografic data is document oriented/re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d for a single 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9"/>
          <p:cNvSpPr/>
          <p:nvPr/>
        </p:nvSpPr>
        <p:spPr>
          <a:xfrm>
            <a:off x="1447920" y="4147200"/>
            <a:ext cx="2827080" cy="17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bliografic data are file oriented/re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ditional bibliografic data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gal status data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ne file usually refers to several published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32"/>
          <p:cNvSpPr/>
          <p:nvPr/>
        </p:nvSpPr>
        <p:spPr>
          <a:xfrm>
            <a:off x="361800" y="2397240"/>
            <a:ext cx="1028880" cy="765000"/>
          </a:xfrm>
          <a:prstGeom prst="wedgeRoundRectCallout">
            <a:avLst>
              <a:gd name="adj1" fmla="val 80865"/>
              <a:gd name="adj2" fmla="val 67013"/>
              <a:gd name="adj3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ffice specif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942840" y="1420560"/>
            <a:ext cx="72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le oriented view versus document oriented view (e.g. ST.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9"/>
          <p:cNvSpPr/>
          <p:nvPr/>
        </p:nvSpPr>
        <p:spPr>
          <a:xfrm rot="5400000">
            <a:off x="6323040" y="3776400"/>
            <a:ext cx="37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direkt,DPMAdatenabgabe, Depat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33"/>
          <p:cNvSpPr/>
          <p:nvPr/>
        </p:nvSpPr>
        <p:spPr>
          <a:xfrm>
            <a:off x="7748640" y="1992240"/>
            <a:ext cx="1028520" cy="765360"/>
          </a:xfrm>
          <a:prstGeom prst="wedgeRoundRectCallout">
            <a:avLst>
              <a:gd name="adj1" fmla="val -76236"/>
              <a:gd name="adj2" fmla="val 58712"/>
              <a:gd name="adj3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ffice specif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6D49-690B-49FA-A513-644DAF0612B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le oriented view missing in XM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c3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le oriented view represents data during life time of an IP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4c3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cument oriented view only represents snap shot at the date of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4c3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le oriented view used by DPMAregister and DPMA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4c3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cument oriented view used by DPMAdirekt, DPMAdatenabgabe, Depat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952560" y="4880880"/>
            <a:ext cx="7191360" cy="862560"/>
          </a:xfrm>
          <a:prstGeom prst="rect">
            <a:avLst/>
          </a:prstGeom>
          <a:solidFill>
            <a:srgbClr val="ffcc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1080" indent="-181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le oriented view requires differ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le oriented view not considered in WIPO XM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F9A8-3616-47D7-8D78-70667DE224C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mo of DPMA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8"/>
          <p:cNvSpPr/>
          <p:nvPr/>
        </p:nvSpPr>
        <p:spPr>
          <a:xfrm>
            <a:off x="1076400" y="3115800"/>
            <a:ext cx="76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register.dpma.de/DPMAregister/pat/register?lang=en&amp;AKZ=1020060546970&amp;CURSOR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1398-1080-49C9-A6BB-0D2A13128FD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mo of DPMA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076400" y="2811240"/>
            <a:ext cx="76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E27E-54F6-4365-B952-7579F7C4153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mo of DPMA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1968480" y="1384200"/>
            <a:ext cx="6189840" cy="471024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5"/>
          <p:cNvSpPr/>
          <p:nvPr/>
        </p:nvSpPr>
        <p:spPr>
          <a:xfrm>
            <a:off x="1704960" y="2019240"/>
            <a:ext cx="271440" cy="790560"/>
          </a:xfrm>
          <a:custGeom>
            <a:avLst/>
            <a:gdLst>
              <a:gd name="textAreaLeft" fmla="*/ 173520 w 271440"/>
              <a:gd name="textAreaRight" fmla="*/ 271800 w 271440"/>
              <a:gd name="textAreaTop" fmla="*/ 20520 h 790560"/>
              <a:gd name="textAreaBottom" fmla="*/ 770040 h 7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6"/>
          <p:cNvSpPr/>
          <p:nvPr/>
        </p:nvSpPr>
        <p:spPr>
          <a:xfrm>
            <a:off x="1703520" y="2855880"/>
            <a:ext cx="271440" cy="3200400"/>
          </a:xfrm>
          <a:custGeom>
            <a:avLst/>
            <a:gdLst>
              <a:gd name="textAreaLeft" fmla="*/ 173520 w 271440"/>
              <a:gd name="textAreaRight" fmla="*/ 271800 w 27144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380880" y="2224800"/>
            <a:ext cx="12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303120" y="414216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bliogra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1976400" y="4705200"/>
            <a:ext cx="6181920" cy="2764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0"/>
          <p:cNvSpPr/>
          <p:nvPr/>
        </p:nvSpPr>
        <p:spPr>
          <a:xfrm>
            <a:off x="7029360" y="3009960"/>
            <a:ext cx="1895400" cy="1533600"/>
          </a:xfrm>
          <a:prstGeom prst="borderCallout1">
            <a:avLst>
              <a:gd name="adj1" fmla="val 18750"/>
              <a:gd name="adj2" fmla="val -8333"/>
              <a:gd name="adj3" fmla="val 109939"/>
              <a:gd name="adj4" fmla="val -46731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g "publication reference" requires sequence, which is not considered in ST.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1:55:10Z</dcterms:created>
  <dc:creator>FrHennig</dc:creator>
  <dc:description/>
  <dc:language>en-US</dc:language>
  <cp:lastModifiedBy>Geraldine Rodriguez</cp:lastModifiedBy>
  <dcterms:modified xsi:type="dcterms:W3CDTF">2014-05-20T07:57:25Z</dcterms:modified>
  <cp:revision>62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