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1640" cy="383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9E51A-3477-4BB2-B600-7FC683A5413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EFEBC-0876-4B60-9E2D-DA8183ED2E3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2CAC9-1058-4D43-B716-4E639EACCB1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51101-02D4-45AB-B373-BEED71237EE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F795E-E4F6-4573-9D0C-BD1C9CDFE54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A5AE0-6A30-4496-ABB5-B69E86D6D41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3B3E5-30E4-4925-A53D-9829AEBE516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92BF9-7221-485A-9B2B-26B4C36B147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9AFEA-CEBD-446B-B068-F4F0C8AC194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63050-6081-4649-BFA4-72BA63EF3CF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3EA3C-1947-4FC9-9459-AEABD75EF35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7ABC7-79D8-408E-AF84-FC5CA523CD4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0C7B5-B68F-4D58-9324-02CC8990CA5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0DC36-ED6E-452E-813C-6F6FB7698A4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6DED0-64F2-4430-AFFF-A284E520342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F7444-CFE6-4952-9ABF-459D0603780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3E87C-3299-4A14-9D2A-AEF09968784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1F4D9-81BF-4757-B58D-584B16BCC4B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0EC06-4220-4CE6-B12D-9F1D6F7B97D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129-F3DA-4289-B717-68415966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13AE-D656-44C5-B630-A2C72E97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C12-BAAF-47AE-BFB4-3BA45D11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BF5-E04E-4974-A13B-E27039CC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200-6144-4354-95CB-6D8D4D1B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B54-2089-4482-B9B9-5E0FA870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835-6974-4F49-862D-05BAEFB5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ED3-60D4-4442-9A14-31BA268E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C9B-BFD6-4297-A1EA-7625AE38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1F7-9264-4929-9C8F-36632FA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2EB-B5B4-489A-921D-4525B0FA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E41-5906-49DC-A2A1-F764D0DF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B5240-ACCD-4BDF-A2D9-B381FFAE70C4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2133360"/>
            <a:ext cx="748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lications of WIPO XML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t ROS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68320" cy="981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116000" y="115920"/>
            <a:ext cx="774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Federal Institute of Industrial Prope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ROSPATE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133720" y="4292640"/>
            <a:ext cx="6553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 Zont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Engineer-Programmer at Software Application Developmen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otd3138@rupto.ru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.zontov@g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152280" y="1066680"/>
            <a:ext cx="8839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Calibri"/>
              </a:rPr>
              <a:t>Electronic Registers of trademarks and service marks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, </a:t>
            </a:r>
            <a:r>
              <a:rPr b="0" lang="fr-FR" sz="2800" spc="-1" strike="noStrike">
                <a:solidFill>
                  <a:srgbClr val="ffff66"/>
                </a:solidFill>
                <a:latin typeface="Calibri"/>
              </a:rPr>
              <a:t>wellknown marks and geographical indications (ST.6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Calibri"/>
              </a:rPr>
              <a:t>Electronic Registers of inventions and utility models (ST.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Calibri"/>
              </a:rPr>
              <a:t>Electronic</a:t>
            </a:r>
            <a:r>
              <a:rPr b="0" lang="fr-F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Calibri"/>
              </a:rPr>
              <a:t>Registers of computer programs, databases and topologies of integrated circuits (ST.3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industrial designs 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P State Electronic Regi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ub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Main page of publications por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763640" y="1049400"/>
            <a:ext cx="5784840" cy="56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erson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662120" y="1341360"/>
            <a:ext cx="5819760" cy="3333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407880" y="501336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s will be able to choose what parts and types of documents they will rece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oice will be done by selecting necessary parts and types for every kind of IP or by selecting one of the preconfigured profi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Search for Official Pub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324000" y="1219320"/>
            <a:ext cx="5959440" cy="5325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6516720" y="121932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s will be able to search documents on Portal of public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earch will be available in the following fiel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ument Ident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d of I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of docu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042920" y="115920"/>
            <a:ext cx="7740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rch for Official Publications (extende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5761080" cy="51688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6307200" y="164304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extended search will be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ded search will include search in the following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regis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fi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Representation of a Docu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4896000" cy="5543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6095880" y="137160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TML representation is a result of server XSL transformation of XML document in ST96 for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New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Publication of data from IP State Electronic Regi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Asynchronous loading of docu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Streaming media files using HTML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RSS subscriptions and access via web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Lucida Sans Unicode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042920" y="11592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F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Form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Public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IP life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IP life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Блок-схема: магнитный диск 2"/>
          <p:cNvSpPr/>
          <p:nvPr/>
        </p:nvSpPr>
        <p:spPr>
          <a:xfrm>
            <a:off x="6948360" y="1808280"/>
            <a:ext cx="1584360" cy="1439640"/>
          </a:xfrm>
          <a:prstGeom prst="flowChartMagneticDisk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Electronic State Regis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Улыбающееся лицо 3"/>
          <p:cNvSpPr/>
          <p:nvPr/>
        </p:nvSpPr>
        <p:spPr>
          <a:xfrm>
            <a:off x="598320" y="183996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ая соединительная линия 5"/>
          <p:cNvSpPr/>
          <p:nvPr/>
        </p:nvSpPr>
        <p:spPr>
          <a:xfrm>
            <a:off x="814320" y="2273400"/>
            <a:ext cx="0" cy="576000"/>
          </a:xfrm>
          <a:prstGeom prst="line">
            <a:avLst/>
          </a:prstGeom>
          <a:ln w="93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 flipH="1">
            <a:off x="492120" y="2425680"/>
            <a:ext cx="627120" cy="0"/>
          </a:xfrm>
          <a:prstGeom prst="line">
            <a:avLst/>
          </a:prstGeom>
          <a:ln w="93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ая соединительная линия 11"/>
          <p:cNvSpPr/>
          <p:nvPr/>
        </p:nvSpPr>
        <p:spPr>
          <a:xfrm flipH="1">
            <a:off x="492120" y="2849400"/>
            <a:ext cx="309600" cy="457200"/>
          </a:xfrm>
          <a:prstGeom prst="line">
            <a:avLst/>
          </a:prstGeom>
          <a:ln w="93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ая соединительная линия 12"/>
          <p:cNvSpPr/>
          <p:nvPr/>
        </p:nvSpPr>
        <p:spPr>
          <a:xfrm>
            <a:off x="819000" y="2849400"/>
            <a:ext cx="300240" cy="457200"/>
          </a:xfrm>
          <a:prstGeom prst="line">
            <a:avLst/>
          </a:prstGeom>
          <a:ln w="93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16"/>
          <p:cNvSpPr/>
          <p:nvPr/>
        </p:nvSpPr>
        <p:spPr>
          <a:xfrm>
            <a:off x="3203640" y="1832040"/>
            <a:ext cx="1800000" cy="1439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Storage in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Стрелка вправо 17"/>
          <p:cNvSpPr/>
          <p:nvPr/>
        </p:nvSpPr>
        <p:spPr>
          <a:xfrm>
            <a:off x="1476360" y="2238480"/>
            <a:ext cx="1582920" cy="711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Стрелка вправо 26"/>
          <p:cNvSpPr/>
          <p:nvPr/>
        </p:nvSpPr>
        <p:spPr>
          <a:xfrm>
            <a:off x="5129280" y="2197080"/>
            <a:ext cx="1584360" cy="7113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Стрелка вправо 20"/>
          <p:cNvSpPr/>
          <p:nvPr/>
        </p:nvSpPr>
        <p:spPr>
          <a:xfrm rot="5400000">
            <a:off x="7247160" y="3656520"/>
            <a:ext cx="984240" cy="5763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28"/>
          <p:cNvSpPr/>
          <p:nvPr/>
        </p:nvSpPr>
        <p:spPr>
          <a:xfrm>
            <a:off x="6840360" y="4581360"/>
            <a:ext cx="1800360" cy="935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Pub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Облако 21"/>
          <p:cNvSpPr/>
          <p:nvPr/>
        </p:nvSpPr>
        <p:spPr>
          <a:xfrm>
            <a:off x="3174840" y="5229360"/>
            <a:ext cx="2016360" cy="1152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W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Стрелка вниз 22"/>
          <p:cNvSpPr/>
          <p:nvPr/>
        </p:nvSpPr>
        <p:spPr>
          <a:xfrm>
            <a:off x="3419640" y="3452760"/>
            <a:ext cx="684000" cy="14763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Стрелка вниз 23"/>
          <p:cNvSpPr/>
          <p:nvPr/>
        </p:nvSpPr>
        <p:spPr>
          <a:xfrm rot="10800000">
            <a:off x="4157280" y="3452400"/>
            <a:ext cx="647640" cy="14763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27"/>
          <p:cNvSpPr/>
          <p:nvPr/>
        </p:nvSpPr>
        <p:spPr>
          <a:xfrm>
            <a:off x="2700360" y="4067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ic communication in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33"/>
          <p:cNvSpPr/>
          <p:nvPr/>
        </p:nvSpPr>
        <p:spPr>
          <a:xfrm>
            <a:off x="1441440" y="29908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4"/>
          <p:cNvSpPr/>
          <p:nvPr/>
        </p:nvSpPr>
        <p:spPr>
          <a:xfrm>
            <a:off x="5191200" y="29908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189000" y="4067280"/>
            <a:ext cx="199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XML TF</a:t>
            </a: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 do not always have timely opportunity to consider the IPO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apid changes in national legis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The work of different TFs is interconn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alibri"/>
              </a:rPr>
              <a:t>National extensions of WIPO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alibri"/>
              </a:rPr>
              <a:t>(e.g. Transaction, Notifications, E-Renew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isting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Planned to launch in 20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alibri"/>
              </a:rPr>
              <a:t>New electronic app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alibri"/>
              </a:rPr>
              <a:t>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alibri"/>
              </a:rPr>
              <a:t>New electronic pub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alibri"/>
              </a:rPr>
              <a:t>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ic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Calibri"/>
              </a:rPr>
              <a:t>M</a:t>
            </a: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odule for receiving applications from external information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Will accept applications from trusted information systems for all types of legal actions on all objects of intellectual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Will work with legally significant correspondence on all types of legal actions on all objects of intellectual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Applications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Intersystem interactions via SO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Use of WIPO standard ST.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Mandatory use of electronic signatures at all stages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1280" y="31680"/>
            <a:ext cx="77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Key features of Applications Mod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611280" y="31680"/>
            <a:ext cx="77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.96 in Applications Mod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1600200" y="1371600"/>
          <a:ext cx="5916600" cy="432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371600"/>
                    <a:ext cx="59166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7"/>
          <p:cNvSpPr/>
          <p:nvPr/>
        </p:nvSpPr>
        <p:spPr>
          <a:xfrm>
            <a:off x="1065240" y="5867280"/>
            <a:ext cx="69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chema for RUTrademark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Reg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PO</dc:creator>
  <dc:description/>
  <dc:language>en-US</dc:language>
  <cp:lastModifiedBy>RODRIGUEZ Geraldine</cp:lastModifiedBy>
  <dcterms:modified xsi:type="dcterms:W3CDTF">2016-03-22T16:11:56Z</dcterms:modified>
  <cp:revision>25</cp:revision>
  <dc:subject>CWS/4BIS</dc:subject>
  <dc:title> Applications of WIPO XML Standards at ROSPAT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