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BBD-A2B1-4D19-9DC7-4C93A2D5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54F-4E6B-4DAD-AE25-4393320C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5F9-129C-45F6-B731-B7A4C9EC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F90-17B0-4C44-B3E5-5CA7C425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B2D3-4EDF-4E7B-8D2D-F7D6E17D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439F-017A-404A-80EC-6BFD67CB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AE5C-DA0D-4E06-AFF4-153B5B79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A598-657D-47B9-A00E-88535406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84CD-6C83-44DC-8DB3-6C5A0469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D151-4BF8-40C1-824C-F11F9A3B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F5EA-F0EA-4CFA-A0AA-5C2F5901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403-67EE-477A-890E-38CA49A0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0807-FA96-4ABF-8940-D5238802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40E5-D838-4273-8591-CBB9ABA4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FED9-F538-42E6-B293-A9D6E7C4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C037-ADBB-40A4-9B77-E6E37143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DAAB-2D65-4C2E-B155-B230DCF1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766-62B6-44FC-AD92-60940100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C8E9-F673-410C-BD56-73B7D56D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344-A4C0-4D3F-A729-2ACD12EA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A4A-1DCA-4F8A-8431-3E7C476A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99A-9F04-4A81-82D2-BEACC464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FAF-00B6-424A-BC0F-E015C213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E87-EC35-4B71-BD43-22C833FE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c575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B4A4-50AB-4C5E-8EE5-C93A7ABDF5DD}" type="slidenum">
              <a:rPr b="0" lang="de-DE" sz="12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Times New Roman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258560"/>
            <a:ext cx="7485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c57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B897-C809-4729-B19E-B8D2E03F05E9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9" name="Coloredframe"/>
          <p:cNvSpPr/>
          <p:nvPr/>
        </p:nvSpPr>
        <p:spPr>
          <a:xfrm>
            <a:off x="1208160" y="0"/>
            <a:ext cx="799308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58560"/>
            <a:ext cx="7485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Progress Report</a:t>
            </a:r>
            <a:br>
              <a:rPr sz="3600"/>
            </a:b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TF Sequence Listing in XML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640" y="4724280"/>
            <a:ext cx="3384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R. Suarez y Gonzalez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91080" y="4724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15.04.2013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Repor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rst Draft agreed in March 2012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Public consultations by some offices till August 2012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Processing of the comments till December 2012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daptation of the First Draft to the public comments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nce December 2012, JPO, USPTO and EPO engaged discussion with the Database Providers DDBJ, NCBI and EBI respectively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Summary of the results from the Public Consultations (1/2)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Held by JPO, USPTO and EPO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High number of comments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milar results across the three consultations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Summary of the results from the Public Consultations (2/2)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omments related to: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e text of the new proposa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ll comments have been considered in the revised texts of the proposal - typically minor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e implementation of the standard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ransition issues, drafting of the new format, ..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s such not under the responsibility of the Task Force, will be taken into account when drafting an advice for the MIA and PCT Working Group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Roadmap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Due to delays in the contacts with the DB providers, revised roadmap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Round 6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xtended till end of June 2013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f required, closed with a Task Force Meeting to finalize the Draft 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(date and venue to be confirmed)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nal round of revisions, during summer 2013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ubmission of the documents to WIPO in September 2013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68996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Thank you !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Questions ?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1:56:00Z</dcterms:created>
  <dc:creator>Raul Suarez y Gonzalez</dc:creator>
  <dc:description/>
  <dc:language>en-US</dc:language>
  <cp:lastModifiedBy>Raul Suarez y Gonzalez</cp:lastModifiedBy>
  <dcterms:modified xsi:type="dcterms:W3CDTF">2013-04-12T07:21:39Z</dcterms:modified>
  <cp:revision>3</cp:revision>
  <dc:subject/>
  <dc:title>Progress Report TF Sequence Listing in X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hema">
    <vt:lpwstr>red</vt:lpwstr>
  </property>
</Properties>
</file>