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29B-2F9E-4708-8CB7-F47DE52B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5D4-9BD7-4E60-B1B4-961DD233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6A6-7508-4937-9180-4F274D81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52A-EF95-40C2-81DA-7837A71E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1EE5-DA5D-4699-877E-0CA00C37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9679-3BC0-4B7A-BB02-588EECD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F9A6-8A97-4AE6-A0B6-D7C60FD2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B6AE-7D2F-470E-92A0-F235943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43B0-4FA1-4E32-AB4A-0C868616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15B9-E7B7-4C1F-9867-143D9D1B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520E-9AAB-4F0A-A53F-7714AB8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DB4-0BBF-479C-9265-C5026F6D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C030-37E6-4BBE-8685-86961FDA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D697-95D3-413D-9E9E-A7245A6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9CE2-CD22-48AD-856D-09112805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1BE2-1642-4C35-BC90-36A893FF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D017-B725-4DFD-8647-0C7E4D91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163-09E0-437A-9C3C-692A0AD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F1A-493E-491D-9F77-07444993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CE4-28E8-409A-887E-10ED6D14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E5-A56E-4E89-9ACB-E8EED2FB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FEE-28AC-430C-A868-818605F8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5A1-3F39-4E9A-9B69-154C76D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161-887A-406D-BA41-20061DDE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B509-1E49-4B04-95DF-DCFF9E7AC056}" type="slidenum"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r>
              <a:rPr b="0" lang="de-DE" sz="1200" spc="-1" strike="noStrike">
                <a:solidFill>
                  <a:srgbClr val="4c575f"/>
                </a:solidFill>
                <a:latin typeface="Times New Roman"/>
              </a:rPr>
              <a:t>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5F79-1EBF-4D95-8DF5-06AFB475082B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9" name="Coloredframe"/>
          <p:cNvSpPr/>
          <p:nvPr/>
        </p:nvSpPr>
        <p:spPr>
          <a:xfrm>
            <a:off x="1208160" y="0"/>
            <a:ext cx="799308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58560"/>
            <a:ext cx="7485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Progress Report</a:t>
            </a:r>
            <a:br>
              <a:rPr sz="3600"/>
            </a:br>
            <a:r>
              <a:rPr b="1" lang="en-US" sz="3600" spc="-1" strike="noStrike">
                <a:solidFill>
                  <a:srgbClr val="404b56"/>
                </a:solidFill>
                <a:latin typeface="Arial"/>
              </a:rPr>
              <a:t>TF Sequence Listing in XML</a:t>
            </a:r>
            <a:endParaRPr b="1" lang="en-US" sz="36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4724280"/>
            <a:ext cx="3384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R. Suarez y Gonzalez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91080" y="472428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15.04.2013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por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rst Draft agreed in March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Public consultations by some offices till August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Processing of the comments till December 2012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daptation of the First Draft to the public comment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nce December 2012, JPO, USPTO and EPO engaged discussion with the Database Providers DDBJ, NCBI and EBI respectively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ummary of the results from the Public Consultations (1/2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Held by JPO, USPTO and EPO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High number of comment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milar results across the three consultations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ummary of the results from the Public Consultations (2/2)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omments related to: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e text of the new proposa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ll comments have been considered in the revised texts of the proposal - typically minor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e implementation of the standard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ransition issues, drafting of the new format, ..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as such not under the responsibility of the Task Force, will be taken into account when drafting an advice for the MIA and PCT Working Group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oadmap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ue to delays in the contacts with the DB providers, revised roadmap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Round 6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extended till end of June 2013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f required, closed with a Task Force Meeting to finalize the Draft 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(date and venue to be confirmed)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nal round of revisions, during summer 2013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ubmission of the documents to WIPO in September 2013</a:t>
            </a:r>
            <a:br>
              <a:rPr sz="1800"/>
            </a:b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68996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Thank you !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Questions ?</a:t>
            </a:r>
            <a:endParaRPr b="1" lang="en-US" sz="20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1:56:00Z</dcterms:created>
  <dc:creator>Raul Suarez y Gonzalez</dc:creator>
  <dc:description/>
  <dc:language>en-US</dc:language>
  <cp:lastModifiedBy>Raul Suarez y Gonzalez</cp:lastModifiedBy>
  <dcterms:modified xsi:type="dcterms:W3CDTF">2013-04-12T07:21:39Z</dcterms:modified>
  <cp:revision>3</cp:revision>
  <dc:subject/>
  <dc:title>Progress Report TF Sequence Listing in X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hema">
    <vt:lpwstr>red</vt:lpwstr>
  </property>
</Properties>
</file>