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BAD3-E4B8-4E21-98CE-A0CBB8D38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CB27-01EF-4A82-8BE9-E134AC340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785C-CAE7-4D54-B9F3-D2CC50822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4832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1264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4832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1264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3FF0-13D2-42B9-8D8C-C021907B9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88A8-40CA-4846-8A83-A010CE825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4832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264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436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84832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1264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EC84-B1DC-43DB-9C22-10CD18EC7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FF58-6DF8-42C8-BDB9-977E37A72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F795-FE07-41BB-824C-55CC28C7B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3D75-B9F6-4BAF-844E-7FF551EC5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DBAA-EABA-4A29-AACA-C8C8CDAD9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306E-B8DA-4A8E-8047-C64BCF00E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4DB2-E648-49AC-9607-7327734D0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F86C-8728-481B-AD10-67F273C10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01800" y="3499920"/>
            <a:ext cx="5757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lans to Accelerate Revision and Publication Procedure of the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084640"/>
            <a:ext cx="2147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Ning 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Section - W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Adoption by the CE (Febru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more year between the completion of the work by the WG and th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43671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436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3933720"/>
            <a:ext cx="107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933720"/>
            <a:ext cx="115092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/F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38920" y="4006800"/>
            <a:ext cx="100836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3671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26920" y="4222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367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4367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3671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4920" y="4367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6200" y="3933720"/>
            <a:ext cx="1081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4560" y="3933720"/>
            <a:ext cx="1152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2920" y="4367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number of revisio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workload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to shorten the revis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involve more Offices in the substantial revis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Impact of the Five-Year Pla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PC revision procedure will remain unchanged at initial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E will decide next year whether changes are needed to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he number of working days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special Task Forc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Revis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Revis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ponsibility of the IPC revision is given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projects – with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s to be revised – prioritized – to be adopted b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requests in these areas – directly to the IPC/WG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ed wit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requests in other areas – to the IPC/CE with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tions within the revision projects –  to be created with cond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600" spc="-1" strike="noStrike">
                <a:solidFill>
                  <a:srgbClr val="00408c"/>
                </a:solidFill>
                <a:latin typeface="Arial"/>
              </a:rPr>
              <a:t>IPC Revision Procedure (cont.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l adoption of the amendments by the IPC/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n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mediately after the IPC/WG – to be scheduled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future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d b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Publicat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2854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854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2421000"/>
            <a:ext cx="10792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2421000"/>
            <a:ext cx="11509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/F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2494080"/>
            <a:ext cx="100800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28544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55640" y="270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854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2421000"/>
            <a:ext cx="10810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3280" y="2421000"/>
            <a:ext cx="115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2854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52308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4797360"/>
            <a:ext cx="10792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4797360"/>
            <a:ext cx="11509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ado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4870440"/>
            <a:ext cx="100800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52308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55640" y="5086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5230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5230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230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2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4920" y="4797360"/>
            <a:ext cx="1081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3280" y="4797360"/>
            <a:ext cx="1152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52308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1800" y="3499920"/>
            <a:ext cx="5757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08c"/>
                </a:solidFill>
                <a:latin typeface="Arial Black"/>
                <a:ea typeface="ヒラギノ角ゴ Pro W3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9960" y="5084640"/>
            <a:ext cx="2147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805360"/>
            <a:ext cx="69343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PC Revis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PC Public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of the Five-Yea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Fu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vis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Fu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Public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Revis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ibility of the IPC revision was given to one unique body (IPC Revision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G meets twice yea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/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ember / Dec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Revis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requests from IP5 CHC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 or Trilateral projects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 - automatically included in the IPC revision program with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requests from other Offices – included with conditions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al criteria – size &amp; growth 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itment to reclassification (PCT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by the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Situatio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few revision requests have been submitted directly to the C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those without need for reclassification - accep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as those creating new subdivisions –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ly, no mo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vision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Situatio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otal number of new subdivisions during 2007 to 2013 decr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 of 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expense in Classification by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408c"/>
                </a:solidFill>
                <a:latin typeface="Arial"/>
              </a:rPr>
              <a:t>Distribution of Revision Project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42920" y="1611360"/>
          <a:ext cx="6813720" cy="451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11360"/>
                    <a:ext cx="6813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PC yearly publication (January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ation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Concordance List (R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chword Index (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C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arly publication (July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ation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Concordance List (R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ity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y to publish twice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satisfaction - annual publica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WIPO</dc:creator>
  <dc:description/>
  <cp:keywords>IPC</cp:keywords>
  <dc:language>en-US</dc:language>
  <cp:lastModifiedBy>Xu</cp:lastModifiedBy>
  <dcterms:modified xsi:type="dcterms:W3CDTF">2013-02-26T07:25:49Z</dcterms:modified>
  <cp:revision>24</cp:revision>
  <dc:subject>IPC Workshop (2013) - Plans to accelerate revision and publication procedure of the IPC</dc:subject>
  <dc:title>IPC Workshop (2013) - Plans to accelerate revision and publication procedure of the IPC</dc:title>
</cp:coreProperties>
</file>