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32.xml" ContentType="application/vnd.openxmlformats-officedocument.theme+xml"/>
  <Override PartName="/ppt/theme/theme44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</p:sldMasterIdLst>
  <p:notesMasterIdLst>
    <p:notesMasterId r:id="rId45"/>
  </p:notesMasterIdLst>
  <p:sldIdLst>
    <p:sldId id="256" r:id="rId46"/>
    <p:sldId id="257" r:id="rId47"/>
    <p:sldId id="258" r:id="rId48"/>
    <p:sldId id="259" r:id="rId49"/>
    <p:sldId id="260" r:id="rId50"/>
    <p:sldId id="261" r:id="rId51"/>
    <p:sldId id="262" r:id="rId52"/>
    <p:sldId id="263" r:id="rId53"/>
    <p:sldId id="264" r:id="rId54"/>
    <p:sldId id="265" r:id="rId55"/>
    <p:sldId id="266" r:id="rId56"/>
    <p:sldId id="267" r:id="rId57"/>
    <p:sldId id="268" r:id="rId58"/>
    <p:sldId id="269" r:id="rId59"/>
    <p:sldId id="270" r:id="rId60"/>
    <p:sldId id="271" r:id="rId61"/>
    <p:sldId id="272" r:id="rId62"/>
    <p:sldId id="273" r:id="rId63"/>
    <p:sldId id="274" r:id="rId64"/>
    <p:sldId id="275" r:id="rId65"/>
    <p:sldId id="276" r:id="rId66"/>
    <p:sldId id="277" r:id="rId6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notesMaster" Target="notesMasters/notesMaster1.xml"/><Relationship Id="rId46" Type="http://schemas.openxmlformats.org/officeDocument/2006/relationships/slide" Target="slides/slide1.xml"/><Relationship Id="rId47" Type="http://schemas.openxmlformats.org/officeDocument/2006/relationships/slide" Target="slides/slide2.xml"/><Relationship Id="rId48" Type="http://schemas.openxmlformats.org/officeDocument/2006/relationships/slide" Target="slides/slide3.xml"/><Relationship Id="rId49" Type="http://schemas.openxmlformats.org/officeDocument/2006/relationships/slide" Target="slides/slide4.xml"/><Relationship Id="rId50" Type="http://schemas.openxmlformats.org/officeDocument/2006/relationships/slide" Target="slides/slide5.xml"/><Relationship Id="rId51" Type="http://schemas.openxmlformats.org/officeDocument/2006/relationships/slide" Target="slides/slide6.xml"/><Relationship Id="rId52" Type="http://schemas.openxmlformats.org/officeDocument/2006/relationships/slide" Target="slides/slide7.xml"/><Relationship Id="rId53" Type="http://schemas.openxmlformats.org/officeDocument/2006/relationships/slide" Target="slides/slide8.xml"/><Relationship Id="rId54" Type="http://schemas.openxmlformats.org/officeDocument/2006/relationships/slide" Target="slides/slide9.xml"/><Relationship Id="rId55" Type="http://schemas.openxmlformats.org/officeDocument/2006/relationships/slide" Target="slides/slide10.xml"/><Relationship Id="rId56" Type="http://schemas.openxmlformats.org/officeDocument/2006/relationships/slide" Target="slides/slide11.xml"/><Relationship Id="rId57" Type="http://schemas.openxmlformats.org/officeDocument/2006/relationships/slide" Target="slides/slide12.xml"/><Relationship Id="rId58" Type="http://schemas.openxmlformats.org/officeDocument/2006/relationships/slide" Target="slides/slide13.xml"/><Relationship Id="rId59" Type="http://schemas.openxmlformats.org/officeDocument/2006/relationships/slide" Target="slides/slide14.xml"/><Relationship Id="rId60" Type="http://schemas.openxmlformats.org/officeDocument/2006/relationships/slide" Target="slides/slide15.xml"/><Relationship Id="rId61" Type="http://schemas.openxmlformats.org/officeDocument/2006/relationships/slide" Target="slides/slide16.xml"/><Relationship Id="rId62" Type="http://schemas.openxmlformats.org/officeDocument/2006/relationships/slide" Target="slides/slide17.xml"/><Relationship Id="rId63" Type="http://schemas.openxmlformats.org/officeDocument/2006/relationships/slide" Target="slides/slide18.xml"/><Relationship Id="rId64" Type="http://schemas.openxmlformats.org/officeDocument/2006/relationships/slide" Target="slides/slide19.xml"/><Relationship Id="rId65" Type="http://schemas.openxmlformats.org/officeDocument/2006/relationships/slide" Target="slides/slide20.xml"/><Relationship Id="rId66" Type="http://schemas.openxmlformats.org/officeDocument/2006/relationships/slide" Target="slides/slide21.xml"/><Relationship Id="rId67" Type="http://schemas.openxmlformats.org/officeDocument/2006/relationships/slide" Target="slides/slide22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dt" idx="4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 type="sldImg"/>
          </p:nvPr>
        </p:nvSpPr>
        <p:spPr>
          <a:xfrm>
            <a:off x="1104840" y="641160"/>
            <a:ext cx="4648320" cy="34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 type="ftr" idx="4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 type="sldNum" idx="4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B21897-8EB6-4D93-98CE-99155E130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E162A5-A9E2-4657-BF79-D3D3F3925FAF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33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Foliennummernplatzhalt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AAFFC8-D3BC-4D16-9567-3E548FD86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EB0600-42FD-4D6B-BD01-68DA6BCB1D21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575289-A834-470C-A0B0-6DBFE8755D64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E87CF2-F94E-4D6D-937D-7BDE7E9CD6E1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1533C4-BA68-4E5D-B4A1-6E2EE3F6B1FF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878671-E04D-4277-8056-7A14EE6D4BF4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D941-FA67-4084-B578-D90FB6A0D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07C8-E5F2-4E7F-8482-ECEFCE0F324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20A20-154B-45DD-B25E-DBDC88E4893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4AB6C-CB11-49A3-986C-3D553CF2146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DF545-91A5-4E9F-85C4-C38ECDE8B3A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814C8-5B48-4F08-863C-3D66BCADB1C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F02C6-1542-4F5F-973E-285AA7DFA0C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03703-22A8-4D72-B469-99EBF808C5D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A66B1-9773-4EEB-A30F-74F0DF62FB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35586-9716-4A0D-A342-6EF8BD33F19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9ADDD-5D02-401C-BC82-20D0F1236AA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F73D48-0A14-4BC4-AD2B-D7A8564B7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EAD2-C58C-421A-BA59-4A906823775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290A1C-F07A-41DA-80CA-E125425F3D5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EAD0E1-D698-43E8-8C42-F221C4A679F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0A3F0B-3413-4969-A857-EBC54498B26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B5C980-FDB9-44EB-9582-5D77931AA7A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E0F195-960B-4F5C-AE66-312E01D44F2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C94A07-B0BB-4B16-816E-3AC5AEA5B61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0102BC-FD31-4E07-BBF7-C39988F5EF0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27391C-FBC1-42BF-A259-FED9E779EDA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B916E8-3919-4696-90FF-DA2B48D1810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D106B7-AF2A-49E9-8C1D-5DB31EC25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AF9D-E0FE-48EB-9969-3602FB16F87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DA5B3F-B108-448B-B336-172B46EC1F3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E5CB6-24DF-4A7E-968E-F6AB6844236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EB23D-4065-4E21-9411-76C3ED6448C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D7FD2-3F8E-430F-91FD-277E93A3333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F4B4D-9FF9-435B-82D3-1AD0933FDD6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5C8B7-8587-4188-9AB2-5B07A02C996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27DB6-09B5-49DE-A3B4-693FA86E927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7F659-BC1E-457C-B498-00B2F328B65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139F0-CD27-4039-86FB-57895F36577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79BC2-F05D-4121-AF28-3C035DB5A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05B-1C5A-4E32-B3AB-7F4ABE15D3C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0D296-1C36-473F-8E84-0CC1C92BEF0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065F9-B95F-4BC5-80E9-7D255A4E35E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D9FA8-1D63-4889-AE0D-2DB3B7EE7AD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611A2D-D8A8-4331-8DBA-B52A70D6ABA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F14A21-0571-486F-A0A1-BAC720650B7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4965F9-00F6-47BD-9214-2D9E353F497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448368-C119-4121-8FC4-53F0C49EE02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6BE7C6-B18A-49E2-B191-2E1B0215AD4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25CF9C-D43C-46CA-8C50-713118B8770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DEE723-4525-45B0-A6DB-85449BF44D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56F-D16B-49AB-A715-9E9EABAE7F2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8D15E6-8735-453D-AAE8-3CE3C8201AB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ABE6AB-5D24-466A-81A7-C62C32B41DF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9A71AA-B694-40D6-99D9-182E667ADE3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1C687A-E53A-4662-9593-3E40917D37E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4372D4-2D89-4D38-9F57-877532E43B7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69C16-7AB3-4498-B807-A5D2A781CBB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F6566-02F3-4759-A37C-D8425D7CDD9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084C07-BE04-462E-BF19-4A5A4959A9F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5216F-47BE-476F-A5BE-2878500C3B1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E73FD-82A7-4D12-9175-823CBAC5B8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C7E-1338-4C7F-AB52-1DB08EFD933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8C505-025A-4D77-BB1F-A58AFF2FADD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7DC28-4FD3-4231-8C53-1F3B6022F6D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B3709-00FE-4AD6-9C5B-1D76972BC99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99F00-A296-4499-BDEE-B68D2D72B3A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AD077-6123-4F1D-8A90-107F39AFCEF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CCA04-57BF-4029-8D3F-94B383DB37A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B4354-1703-4F96-8A04-CFBF355269C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55F34-51F3-483A-81C4-0EB34D47D84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058DF-9EDB-418A-882F-D13F3C3D4DD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5E980-88B0-46A8-851A-2E76D2F8AE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A45-CB9B-490C-BB25-9171FC52048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EEFF7-0BC5-4236-AB0A-4A4B5E35B91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58230-C874-492A-BCC4-D043A42D9DF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33598-B45F-4CBF-A32A-E359885DD5A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FFBF4-BBCF-4DB3-9320-3053C139ED5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33A32-2387-4277-9555-8A81F7BD5C8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454F9-FBCB-435A-AA37-05FAF7DF4C9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245D1-99BF-4A09-9966-5276D1B2105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659B4-0891-4879-A19F-9DF40112E30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53521-5DE7-480F-A79A-619CB1DE1C6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9B5C45-B21B-41FB-AA83-8E9D08FD37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49A-9CA2-48DB-8649-236CECFC7D2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AFF61D-A879-4692-B69D-E0251B1EB2E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71CD6C-D847-4E52-9242-5647D703DAC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FEA19F-5C98-4F94-9641-6870CC1888B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E9D2D0-1B3D-4C1C-A0E1-017ABF65E7D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5DEC36-68DB-4E7D-9D86-532F187185D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745DFE-0E78-4984-B66B-16816FE8DEC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01E621-2530-4B18-8357-55F3802041E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267F78-0F90-4BB2-B7A6-A14CB13C532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ED4544-DC00-4F42-A000-C81D29F3674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7B1CB9-451F-44EE-A6E7-E06E944064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3F9-0EA7-4D8D-969D-86F45D7E3EB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5B28FF-6DEF-4EE6-A0BC-5AA83B520D2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4CA331-E48F-4B4B-AF3A-EB4D1720A2C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1BC13F-ED8C-455B-AF9D-44DA68748C0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12F64C-E2DB-473F-AC7C-749C83855E6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A79D90-99BF-4C98-BAD9-88D91E5710D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1E06C6-387A-47A5-950D-E668E6078D6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27C95F-55CC-4E33-8FE3-186185C0BF2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727CD8-2100-43E2-9D4C-1CD30875B6A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99EA7E-503E-4D3F-848D-9F4DBC64527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99A106-3758-4C32-9052-26313B88EC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28E-438A-4D9F-8C17-B560856CDE9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AD7BF5-1C2B-473A-9CC6-10EFF895036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54F5BC-6700-494D-9F90-C32C8A88D7B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F1C3C7-E52D-4706-A883-9DBD696593D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74E6E-16A2-4D07-967D-4269B6401F8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B13D9-DFE8-4901-8A1B-A1B08D5F012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D3CB7-6675-4B65-B69D-6223F14A40B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5DAAB-FED1-4D9A-9775-A432F8A4A7B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4FE87-3298-423F-BA3F-8EC18FA6C4D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4A9E9-461C-48FB-A58F-07E1CCDA222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2A362-17C0-4DC9-AAB8-E5A6A545CB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7AA2-C83D-47A5-A623-57A4E3D26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ABD-4B5F-409F-8B63-79E67009915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9F6E1-359C-4426-B337-FBC06507FF7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0DDEC-B9ED-414B-8D96-6F5353B012D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6387F-5BB9-4242-A9AF-7C303DDE31B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17384-9DC1-400E-A786-8B7DA829508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FCC57-D196-4781-83C3-B127466028E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38CD6C-EB99-4404-8182-686EC8D9442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CC697D-83A8-4BAF-B096-27F8A045F74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D14F3C-1A66-4E31-BA4B-0061F5C92AA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EF0F3A-07F4-47C7-908B-0A8A32E4BCB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579818-66E2-4A67-9000-478016A6D8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B5A-4EE0-47D0-B9C5-1827C8EE844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D70A20-9E51-496C-BBEA-C869DB44862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8FA89B-E4C7-4D20-8F64-4FEC5FEBCB0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52A9F6-D84C-4BCD-861B-455D5B4331C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D29D17-FD57-4476-A613-33FBD24E198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831D39-D3C8-4C8E-9E3C-1CAFA620D0B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6BD80C-79F0-4397-9933-7343DC5326C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F2E8AE-A4A9-4D83-B261-101839767DE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2C046A-161D-45D6-9BBA-BC0BF760215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FB80EA-9043-4E6B-977B-B1854DE075B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442964-7583-49A9-A0FC-43073119E6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17E-68E1-4D9B-8EE5-D149C7E78A1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0713A3-C0E2-492E-A65A-89930F7402D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CCB409-055B-4C90-B59D-A4825A085A6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F73A59-E619-4235-88C7-8727AF99815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1ECA89-CB67-45B6-B55A-7A72F659644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A1D0DA-024C-443B-84BF-6163481DE4F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AB94BB-6058-43C1-9597-F0A08CD5381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12D9F8-8EF7-4771-AE65-255E73D5AAD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A27D1A-5ABA-420A-A207-292086FD27A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12E13F-6A30-43EA-A5E0-99AD5E96809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CB3-6545-4827-95D9-1009C9519D5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542-63C3-4BD7-8FE0-EB702B64778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F5893-0D8E-41C0-94B5-79B03AFFE18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303CE-1263-4776-AA01-152ADB97CE3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4C5FC-0D96-42B9-8362-FA19CBB5851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8098D-DCED-4155-AFC0-CCC5CEE8680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F096B-8013-4748-A848-D67E8DBDE2F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63B0-7B98-4456-BAAF-6C3EB66327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5FEEA-9079-4559-8636-81D186C3F20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CAC77-747A-4A8A-AF12-5FCCA99F531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43F65-EB10-40D4-B2A9-8514FDA720DB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8E725-1618-4430-8FD6-F01FA7F2F8E6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C2C8E-C3A9-44D5-97E9-25A674902AF0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66BED-4851-474D-ABD7-3F25D91CCC17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EBC74-1AA3-4D4D-9129-095B0352150B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8A3A4B-1766-4DC2-8FFB-46D00CF1B447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EBD0F5-5A78-4ED6-B588-3B3D91FE962C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B73CE4-7B58-4398-9CCC-5AA37A149F7E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3B39-4AED-446A-962F-11A99A8F9C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E55F75-961C-43FE-BF69-E2A882F4E05D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AFD725-7957-44E7-B857-8FF745389625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5AE5BF-AD8F-43FA-99AF-8505FE05B189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FA78E4-10E7-47FA-B8FF-7B3898CB9698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B125C-F621-4276-8D8C-B4F869AF5A1D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1C586B-D82D-4C36-8D95-6F52C83A81B9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3AEF67-E9DF-4A24-9B27-33377E35B418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6AC834-4658-4A2A-921E-ABBCE3853B19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BCD9BE-419D-4B7B-94D8-5FD6B9721F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1C59BA-B2A7-449E-837B-2CB9BE8E438C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25B089-17DC-4286-A57B-D178793E1ACE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253361-82E1-48FE-BAAA-386A4393758B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EF0263-E5D1-4BD3-BC2F-D5D18CD219EF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4C5CC5-C6A6-42AA-8560-59CDA8919CA2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3F4C68-7F5A-4C04-86C9-D2D87D206491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E04DC1-7991-47F2-8FC8-7E9F43227205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E7842A-380E-474C-9392-735ED35D0547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943A43-4AEF-47A7-B899-39D71CC243BD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A85535-3BB6-4CFB-B961-2CA0D1ABFA64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0DD2F-DF08-456F-98BF-A69900EBC1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3D1C48-9983-4A0D-BD4C-59A1DF8EE5C0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EC07F-D2B4-4697-BCE3-20DCC8F10517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0F1B5-65D0-4B57-A4FC-123681DAB5DA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4627E-01B0-48F4-8917-D0BACC996BAE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FEB20-9774-4BFE-A378-C00F574CC272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20A38-A4D9-4F5C-8E46-C16AB23B6254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92347-CB88-4872-A0A5-6C40C38FDCB0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F5D3C-9A9A-4680-A4E8-2D2B5758F837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AD909-881D-4CD3-9C34-EBE20EC983CF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4EA6F-8E25-4BE8-804B-28EB3CB7286B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40799-D6D9-4DC5-9FBF-3A8EB337A7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8110F9-B0FB-4FEA-8C94-0DB209F87BA3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DBDD3-3DD7-46F4-97B8-2BA6B152FA58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EB9A1FF-965C-41EF-9B79-0D1AB160E731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6BA7DBB-C629-4052-9443-E5CADB7E8271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4A02079-564C-4F4D-BD99-8C3E160ED075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800D6E-5E6E-46AA-A8B1-1A3BA4C08405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046E38-90FA-43BF-964B-E9A71024D3D4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025750-162D-4C89-8BB1-037F92803999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3CE0F6-B77E-46AA-A0FC-2456F1A797C7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7840618-45BB-4F9F-AE4C-3BD7C2678207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1395B8-9032-4022-BC27-F3340BFAB8B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A6BA6-B4BD-4A2E-BD6A-119B359B4327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9AA652F-A8FC-48A4-85B7-DE27C857FB1C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E27427A-0DB9-4E7F-A5E3-6A738DACF5A7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62E3FBC-0A26-4864-A688-5561862396FA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8A27DF-4E7C-4923-917E-EB8C1D000D09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8DA1DD-CA84-4D19-9101-EB8DD6AEEF1A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33788B-3F53-4015-B9D8-0E2E98DF6E81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6D5C66F-5E6C-485F-B661-67D08E1823EC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413A60-6F91-41B4-AC46-D1E5D66BD555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754C8D-8275-40C1-B08F-FB7F34135FFD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3FB916-32E7-42D6-B381-8EECBE34B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47C8-014F-4BF5-BCBF-19FE5054A0A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CC5E-A084-43E8-8D23-8E2369FDE789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B48B22-44FF-4687-ACC6-230A39E6FDDA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023E10-3E10-4ACA-BC5E-0F8DF15FD535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B5D3BD-D2F5-4353-96E8-A4176C72793A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49DE5D-F9ED-45B7-AC13-502A05E7B1D3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87E9F8-97EE-42D8-8AFF-3FB330822478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987B7-DCC7-486E-8E6A-B65F1FE1CA7C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E1474-53BB-4BE6-9F91-C0C6DAF8A91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73CC3-FD9E-4714-B52D-12AC5C761F1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4436-E16A-4735-BA19-AD0BE657AF9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7EA5C-B34D-4E2D-89C0-18F98C47579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1419E-A1A0-4300-8E48-74150F09342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CBDEA-2C82-41B2-ACA5-7D8D477C68B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15870-239D-4383-B6F9-AEA90095487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5810C-7031-46CC-95AF-58935DDA6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7E90-F7CA-4D0B-9968-07973AAC84E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FB56-AD91-4632-9F3D-04572DB9399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6C10C4-4D73-4E63-A061-0418DC3C5D9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B9AE0-EFC4-4373-ADD9-D2C00CE8F50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ADCD6-444F-41E0-9523-60E1FB36DFF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23E200-35C4-4815-A593-654599D53A8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33560-A577-4D11-ACFF-92CE82F0631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38D9E-5570-417B-8A4E-A932B7EBB83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57046-A81D-486A-AC49-CB7C360BB01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F618B0-BF3C-4D14-B64C-D6A05C245F9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991F9-8F6E-4C88-A9A0-A1190C435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C5DD-D00E-4386-B781-F09738AE31D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453BE-10B0-418E-9AB4-84B99C9E188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EB6D76-285B-4B3D-A4BD-2925727F3CF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32322C-05FF-4B75-9D47-9A7FC1AE4F9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28F4DD-3B13-48D4-8317-4457E1AEE55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175B31-7882-402E-AE97-39756D0312B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CA560D-E515-480E-8DC0-3E0280E74B5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EF9929-72DB-479D-AD96-FDE4C1A4DE4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9E2DCF-F51F-47D2-B18E-CB2FF83B07C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2FBD6C-C128-4F4F-955A-21C5E33FB6C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9D96C6-BE58-4D85-9BD3-6DA2D8F2C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79D4-5486-4C1A-9F87-9639AD1959D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BD2AF8-8781-47A5-BBDF-77AE78C41F4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3D9708-3A25-40AC-ADDA-B5554A3B3C1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C961C9-8406-48FD-93AA-05CCD417359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9391A2-0212-4A17-BAB9-252E2957DBF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EC8180-2BDF-45A1-9DD2-BE16E1B018C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B1E9F0-A6EB-40B8-AA9C-E56AB79F78E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82783C-1249-40A9-9A09-34A00EA3B65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CE237F-198E-4258-9976-B745DB64F88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781BD9-ED36-4AF2-8686-5B79535FBB8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54708E-C6C8-4DD3-BEC3-D82E81830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2166-5344-458E-8B04-1FCFD92BF7B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1575EA-CE23-4B73-AA48-BB62A3F66E2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B72F30-F073-4B13-8231-B175354EDC5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4B8BAD-51AC-421A-90CB-EA6FA80D170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2897AC-590F-4148-8DE2-13A3E188734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115662-3F7B-44F7-A055-B530E98955B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A64AC1-B2B4-4427-894A-AED003E27E8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2EA36C-307D-4B3F-9437-82E60FF73C5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5FCD8-E2BD-4EBC-B1FD-8C7F6F7ADCE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B1CC2-F956-4665-BDE4-BCBB4B289A9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EFCEC-8086-426E-893E-F764E3406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24720" y="639756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B0EE-5273-413C-879A-BD45C3C398D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917640" y="49356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17640" y="152856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54296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Line 18"/>
          <p:cNvSpPr/>
          <p:nvPr/>
        </p:nvSpPr>
        <p:spPr>
          <a:xfrm>
            <a:off x="917640" y="1365120"/>
            <a:ext cx="736920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5" name="Picture 19" descr="tr_hrz_rgb_pos"/>
          <p:cNvPicPr/>
          <p:nvPr/>
        </p:nvPicPr>
        <p:blipFill>
          <a:blip r:embed="rId2"/>
          <a:srcRect l="0" t="0" r="0" b="20690"/>
          <a:stretch/>
        </p:blipFill>
        <p:spPr>
          <a:xfrm>
            <a:off x="385920" y="6324480"/>
            <a:ext cx="1687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Num" idx="19"/>
          </p:nvPr>
        </p:nvSpPr>
        <p:spPr>
          <a:xfrm>
            <a:off x="8424720" y="639756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41CD-975D-4CB6-AE93-40B4ACA80E00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0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title"/>
          </p:nvPr>
        </p:nvSpPr>
        <p:spPr>
          <a:xfrm>
            <a:off x="917640" y="49356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7640" y="152856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54296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917640" y="1365120"/>
            <a:ext cx="736920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405" name="Picture 7" descr="tr_hrz_rgb_pos"/>
          <p:cNvPicPr/>
          <p:nvPr/>
        </p:nvPicPr>
        <p:blipFill>
          <a:blip r:embed="rId2"/>
          <a:srcRect l="0" t="0" r="0" b="20690"/>
          <a:stretch/>
        </p:blipFill>
        <p:spPr>
          <a:xfrm>
            <a:off x="385920" y="6324480"/>
            <a:ext cx="1687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443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444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5" name="Picture 5" descr="hc_DividerBG_blu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hc_Divider_TransLogo"/>
          <p:cNvPicPr/>
          <p:nvPr/>
        </p:nvPicPr>
        <p:blipFill>
          <a:blip r:embed="rId4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98200" y="51228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21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94FD-9029-43CA-98F5-4EB1601303AD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2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1" name="Line 11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hc_DividerGraphBG_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sldNum" idx="23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8191-98A7-47BB-9ED0-707189080C5C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ftr" idx="24"/>
          </p:nvPr>
        </p:nvSpPr>
        <p:spPr>
          <a:xfrm>
            <a:off x="3123720" y="640080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7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531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532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3" name="Picture 5" descr="hc_Divider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hc_Divider_TransLogo"/>
          <p:cNvPicPr/>
          <p:nvPr/>
        </p:nvPicPr>
        <p:blipFill>
          <a:blip r:embed="rId4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sldNum" idx="25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1963-5E93-4C91-B201-BA90CF7B70B3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6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11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577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578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9" name="Picture 5" descr="hc_DividerGraph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sldNum" idx="27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FA35-4FAF-4968-9E03-6AC4EC0A2B90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8"/>
          </p:nvPr>
        </p:nvSpPr>
        <p:spPr>
          <a:xfrm>
            <a:off x="3123720" y="640080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10"/>
          <p:cNvSpPr/>
          <p:nvPr/>
        </p:nvSpPr>
        <p:spPr>
          <a:xfrm>
            <a:off x="896760" y="1368360"/>
            <a:ext cx="73486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622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623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4" name="Picture 5" descr="hc_Divider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sldNum" idx="29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B3D6-0A6F-4B66-B782-F108DE81DDBA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 flipV="1">
            <a:off x="898560" y="1368000"/>
            <a:ext cx="7388280" cy="324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629" name="Picture 10" descr="hc_Divider_TransLogo"/>
          <p:cNvPicPr/>
          <p:nvPr/>
        </p:nvPicPr>
        <p:blipFill>
          <a:blip r:embed="rId4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4"/>
          <p:cNvSpPr>
            <a:spLocks noGrp="1"/>
          </p:cNvSpPr>
          <p:nvPr>
            <p:ph type="ftr" idx="30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668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669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0" name="Picture 5" descr="hc_DividerGraph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sldNum" idx="31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BC56-4CD2-41AF-BB26-828F321E410E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898200" y="49320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9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32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hc_DividerBG_C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3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sldNum" idx="33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1707-3EFA-41E3-AE89-1B9142D499F0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ftr" idx="34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title"/>
          </p:nvPr>
        </p:nvSpPr>
        <p:spPr>
          <a:xfrm>
            <a:off x="898200" y="487080"/>
            <a:ext cx="73882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body"/>
          </p:nvPr>
        </p:nvSpPr>
        <p:spPr>
          <a:xfrm>
            <a:off x="898200" y="1515960"/>
            <a:ext cx="73882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756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757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8" name="Picture 5" descr="hc_DividerGraphBG_C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sldNum" idx="35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05C5-21B0-45DF-B2DB-E76C41DBEDF6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title"/>
          </p:nvPr>
        </p:nvSpPr>
        <p:spPr>
          <a:xfrm>
            <a:off x="898200" y="500040"/>
            <a:ext cx="7388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Line 9"/>
          <p:cNvSpPr/>
          <p:nvPr/>
        </p:nvSpPr>
        <p:spPr>
          <a:xfrm>
            <a:off x="896760" y="1368360"/>
            <a:ext cx="73486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36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0" y="0"/>
            <a:ext cx="9144000" cy="341280"/>
          </a:xfrm>
          <a:prstGeom prst="rect">
            <a:avLst/>
          </a:prstGeom>
          <a:solidFill>
            <a:srgbClr val="7aa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sldNum" idx="37"/>
          </p:nvPr>
        </p:nvSpPr>
        <p:spPr>
          <a:xfrm>
            <a:off x="8221680" y="6334200"/>
            <a:ext cx="544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C238-839A-43D6-BA4E-278AAEE85897}" type="slidenum">
              <a:rPr b="1" lang="en-US" sz="1200" spc="-1" strike="noStrike">
                <a:solidFill>
                  <a:srgbClr val="006cb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Grafik 16" descr="STNLogoHI.new.tif"/>
          <p:cNvPicPr/>
          <p:nvPr/>
        </p:nvPicPr>
        <p:blipFill>
          <a:blip r:embed="rId2"/>
          <a:stretch/>
        </p:blipFill>
        <p:spPr>
          <a:xfrm>
            <a:off x="438120" y="6286680"/>
            <a:ext cx="849240" cy="29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43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44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Picture 5" descr="hc_Divider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c_Divider_TransLogo"/>
          <p:cNvPicPr/>
          <p:nvPr/>
        </p:nvPicPr>
        <p:blipFill>
          <a:blip r:embed="rId4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ldNum" idx="3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D713-7E0F-4D3B-83D5-28C5F5D851B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Line 4"/>
          <p:cNvSpPr/>
          <p:nvPr/>
        </p:nvSpPr>
        <p:spPr>
          <a:xfrm>
            <a:off x="366840" y="2060640"/>
            <a:ext cx="839916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842" name="Picture 10" descr="tr_hrz_rgb_pos"/>
          <p:cNvPicPr/>
          <p:nvPr/>
        </p:nvPicPr>
        <p:blipFill>
          <a:blip r:embed="rId2"/>
          <a:srcRect l="0" t="0" r="0" b="20690"/>
          <a:stretch/>
        </p:blipFill>
        <p:spPr>
          <a:xfrm>
            <a:off x="6048360" y="5977080"/>
            <a:ext cx="2733840" cy="69660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17640" y="49356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7640" y="152856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54296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882" name="Picture 5" descr="hc_DividerBG_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11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923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924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Picture 5" descr="hc_DividerGraph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10" descr="hc_DividerBG_W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6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005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006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7" name="Picture 9" descr="hc_DividerGraph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898200" y="49320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0" descr="hc_DividerBG_C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6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98200" y="487080"/>
            <a:ext cx="73882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898200" y="1515960"/>
            <a:ext cx="73882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087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088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9" name="Picture 9" descr="hc_DividerGraphBG_C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98200" y="500040"/>
            <a:ext cx="7388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Line 4"/>
          <p:cNvSpPr/>
          <p:nvPr/>
        </p:nvSpPr>
        <p:spPr>
          <a:xfrm>
            <a:off x="355680" y="4321080"/>
            <a:ext cx="841032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129" name="Picture 5" descr="RTR1KWE8_cropped"/>
          <p:cNvPicPr/>
          <p:nvPr/>
        </p:nvPicPr>
        <p:blipFill>
          <a:blip r:embed="rId2"/>
          <a:stretch/>
        </p:blipFill>
        <p:spPr>
          <a:xfrm>
            <a:off x="339840" y="371520"/>
            <a:ext cx="8451720" cy="290520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6" descr="tr_hrz_rgb_pos"/>
          <p:cNvPicPr/>
          <p:nvPr/>
        </p:nvPicPr>
        <p:blipFill>
          <a:blip r:embed="rId3"/>
          <a:srcRect l="0" t="0" r="0" b="20690"/>
          <a:stretch/>
        </p:blipFill>
        <p:spPr>
          <a:xfrm>
            <a:off x="6048360" y="5977080"/>
            <a:ext cx="2733840" cy="696600"/>
          </a:xfrm>
          <a:prstGeom prst="rect">
            <a:avLst/>
          </a:prstGeom>
          <a:ln w="0">
            <a:noFill/>
          </a:ln>
        </p:spPr>
      </p:pic>
      <p:sp>
        <p:nvSpPr>
          <p:cNvPr id="1131" name="AutoShape 7"/>
          <p:cNvSpPr/>
          <p:nvPr/>
        </p:nvSpPr>
        <p:spPr>
          <a:xfrm>
            <a:off x="-1252440" y="-442800"/>
            <a:ext cx="11648880" cy="77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132" name="Picture 8" descr=""/>
          <p:cNvPicPr/>
          <p:nvPr/>
        </p:nvPicPr>
        <p:blipFill>
          <a:blip r:embed="rId4"/>
          <a:stretch/>
        </p:blipFill>
        <p:spPr>
          <a:xfrm>
            <a:off x="341280" y="263520"/>
            <a:ext cx="8464680" cy="3116160"/>
          </a:xfrm>
          <a:prstGeom prst="rect">
            <a:avLst/>
          </a:prstGeom>
          <a:ln w="0">
            <a:noFill/>
          </a:ln>
        </p:spPr>
      </p:pic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1440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22860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486080" indent="-11448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Line 4"/>
          <p:cNvSpPr/>
          <p:nvPr/>
        </p:nvSpPr>
        <p:spPr>
          <a:xfrm>
            <a:off x="355680" y="4321080"/>
            <a:ext cx="841032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172" name="Picture 5" descr="RTR1KWE8_cropped"/>
          <p:cNvPicPr/>
          <p:nvPr/>
        </p:nvPicPr>
        <p:blipFill>
          <a:blip r:embed="rId2"/>
          <a:stretch/>
        </p:blipFill>
        <p:spPr>
          <a:xfrm>
            <a:off x="339840" y="371520"/>
            <a:ext cx="8451720" cy="290520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6" descr="tr_hrz_rgb_pos"/>
          <p:cNvPicPr/>
          <p:nvPr/>
        </p:nvPicPr>
        <p:blipFill>
          <a:blip r:embed="rId3"/>
          <a:srcRect l="0" t="0" r="0" b="20690"/>
          <a:stretch/>
        </p:blipFill>
        <p:spPr>
          <a:xfrm>
            <a:off x="6048360" y="5977080"/>
            <a:ext cx="2733840" cy="696600"/>
          </a:xfrm>
          <a:prstGeom prst="rect">
            <a:avLst/>
          </a:prstGeom>
          <a:ln w="0">
            <a:noFill/>
          </a:ln>
        </p:spPr>
      </p:pic>
      <p:sp>
        <p:nvSpPr>
          <p:cNvPr id="1174" name="AutoShape 7"/>
          <p:cNvSpPr/>
          <p:nvPr/>
        </p:nvSpPr>
        <p:spPr>
          <a:xfrm>
            <a:off x="-1252440" y="-442800"/>
            <a:ext cx="11648880" cy="77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1440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22860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486080" indent="-11448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Line 4"/>
          <p:cNvSpPr/>
          <p:nvPr/>
        </p:nvSpPr>
        <p:spPr>
          <a:xfrm>
            <a:off x="366840" y="2060640"/>
            <a:ext cx="839916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214" name="Picture 5" descr="tr_hrz_rgb_pos"/>
          <p:cNvPicPr/>
          <p:nvPr/>
        </p:nvPicPr>
        <p:blipFill>
          <a:blip r:embed="rId2"/>
          <a:srcRect l="0" t="0" r="0" b="20690"/>
          <a:stretch/>
        </p:blipFill>
        <p:spPr>
          <a:xfrm>
            <a:off x="6048360" y="5977080"/>
            <a:ext cx="2733840" cy="696600"/>
          </a:xfrm>
          <a:prstGeom prst="rect">
            <a:avLst/>
          </a:prstGeom>
          <a:ln w="0">
            <a:noFill/>
          </a:ln>
        </p:spPr>
      </p:pic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7640" y="49356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7640" y="152856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54296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90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5" descr="hc_DividerGraph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ldNum" idx="5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3816-A7A1-40F2-884B-E5EFD581D98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6"/>
          </p:nvPr>
        </p:nvSpPr>
        <p:spPr>
          <a:xfrm>
            <a:off x="3123720" y="640080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896760" y="1368360"/>
            <a:ext cx="73486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Picture 2" descr="hc_DividerBG_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4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898200" y="51228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3" name="Picture 2" descr="hc_DividerGraphBG_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333" name="Picture 3" descr="hc_DividerBG_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5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3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374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375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6" name="Picture 5" descr="hc_DividerGraph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Picture 2" descr="hc_DividerBG_W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3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5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456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457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8" name="Picture 5" descr="hc_DividerGraph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898200" y="49320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Picture 2" descr="hc_DividerBG_C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8" name="Picture 3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98200" y="487080"/>
            <a:ext cx="73882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898200" y="1515960"/>
            <a:ext cx="73882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7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538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539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0" name="Picture 5" descr="hc_DividerGraphBG_C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98200" y="500040"/>
            <a:ext cx="7388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9" name="Picture 2" descr="STN-FIZ-PPT-Title-artwork"/>
          <p:cNvPicPr/>
          <p:nvPr/>
        </p:nvPicPr>
        <p:blipFill>
          <a:blip r:embed="rId2"/>
          <a:srcRect l="0" t="7183" r="0" b="10408"/>
          <a:stretch/>
        </p:blipFill>
        <p:spPr>
          <a:xfrm>
            <a:off x="0" y="0"/>
            <a:ext cx="9144000" cy="5649840"/>
          </a:xfrm>
          <a:prstGeom prst="rect">
            <a:avLst/>
          </a:prstGeom>
          <a:ln w="0">
            <a:noFill/>
          </a:ln>
        </p:spPr>
      </p:pic>
      <p:grpSp>
        <p:nvGrpSpPr>
          <p:cNvPr id="1580" name="Gruppieren 7"/>
          <p:cNvGrpSpPr/>
          <p:nvPr/>
        </p:nvGrpSpPr>
        <p:grpSpPr>
          <a:xfrm>
            <a:off x="398520" y="6286680"/>
            <a:ext cx="2860560" cy="423720"/>
            <a:chOff x="398520" y="6286680"/>
            <a:chExt cx="2860560" cy="423720"/>
          </a:xfrm>
        </p:grpSpPr>
        <p:pic>
          <p:nvPicPr>
            <p:cNvPr id="1581" name="Picture 8" descr="STN_title"/>
            <p:cNvPicPr/>
            <p:nvPr/>
          </p:nvPicPr>
          <p:blipFill>
            <a:blip r:embed="rId3"/>
            <a:srcRect l="0" t="90711" r="52855" b="0"/>
            <a:stretch/>
          </p:blipFill>
          <p:spPr>
            <a:xfrm>
              <a:off x="398520" y="6288480"/>
              <a:ext cx="2860560" cy="42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2" name="Grafik 9" descr="STNLogoHI.new.tif"/>
            <p:cNvPicPr/>
            <p:nvPr/>
          </p:nvPicPr>
          <p:blipFill>
            <a:blip r:embed="rId4"/>
            <a:stretch/>
          </p:blipFill>
          <p:spPr>
            <a:xfrm>
              <a:off x="437040" y="6286680"/>
              <a:ext cx="849240" cy="29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2"/>
          <p:cNvSpPr/>
          <p:nvPr/>
        </p:nvSpPr>
        <p:spPr>
          <a:xfrm>
            <a:off x="0" y="0"/>
            <a:ext cx="9144000" cy="341280"/>
          </a:xfrm>
          <a:prstGeom prst="rect">
            <a:avLst/>
          </a:prstGeom>
          <a:solidFill>
            <a:srgbClr val="7aa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622" name="Grafik 16" descr="STNLogoHI.new.tif"/>
          <p:cNvPicPr/>
          <p:nvPr/>
        </p:nvPicPr>
        <p:blipFill>
          <a:blip r:embed="rId2"/>
          <a:stretch/>
        </p:blipFill>
        <p:spPr>
          <a:xfrm>
            <a:off x="438120" y="6286680"/>
            <a:ext cx="849240" cy="296640"/>
          </a:xfrm>
          <a:prstGeom prst="rect">
            <a:avLst/>
          </a:prstGeom>
          <a:ln w="0">
            <a:noFill/>
          </a:ln>
        </p:spPr>
      </p:pic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 type="sldNum" idx="38"/>
          </p:nvPr>
        </p:nvSpPr>
        <p:spPr>
          <a:xfrm>
            <a:off x="822276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cb8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60EE-1ED8-4416-9F8C-349EE69AD5AE}" type="slidenum">
              <a:rPr b="1" lang="en-US" sz="1200" spc="-1" strike="noStrike">
                <a:solidFill>
                  <a:srgbClr val="006cb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34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35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Picture 12" descr="hc_Divider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ldNum" idx="7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F566-F08D-46A3-A2FC-71116BE9EC0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V="1">
            <a:off x="898560" y="1368000"/>
            <a:ext cx="7388280" cy="324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41" name="Picture 6" descr="hc_Divider_TransLogo"/>
          <p:cNvPicPr/>
          <p:nvPr/>
        </p:nvPicPr>
        <p:blipFill>
          <a:blip r:embed="rId4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2"/>
          <p:cNvSpPr/>
          <p:nvPr/>
        </p:nvSpPr>
        <p:spPr>
          <a:xfrm>
            <a:off x="0" y="0"/>
            <a:ext cx="9144000" cy="341280"/>
          </a:xfrm>
          <a:prstGeom prst="rect">
            <a:avLst/>
          </a:prstGeom>
          <a:solidFill>
            <a:srgbClr val="7aa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663" name="Grafik 16" descr="STNLogoHI.new.tif"/>
          <p:cNvPicPr/>
          <p:nvPr/>
        </p:nvPicPr>
        <p:blipFill>
          <a:blip r:embed="rId2"/>
          <a:stretch/>
        </p:blipFill>
        <p:spPr>
          <a:xfrm>
            <a:off x="438120" y="6286680"/>
            <a:ext cx="849240" cy="296640"/>
          </a:xfrm>
          <a:prstGeom prst="rect">
            <a:avLst/>
          </a:prstGeom>
          <a:ln w="0">
            <a:noFill/>
          </a:ln>
        </p:spPr>
      </p:pic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sldNum" idx="39"/>
          </p:nvPr>
        </p:nvSpPr>
        <p:spPr>
          <a:xfrm>
            <a:off x="8221680" y="6334200"/>
            <a:ext cx="544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cb8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C047-AC7B-4D15-B3C1-D5147FAED9F3}" type="slidenum">
              <a:rPr b="1" lang="en-US" sz="1200" spc="-1" strike="noStrike">
                <a:solidFill>
                  <a:srgbClr val="006cb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ectangle 2"/>
          <p:cNvSpPr/>
          <p:nvPr/>
        </p:nvSpPr>
        <p:spPr>
          <a:xfrm>
            <a:off x="0" y="0"/>
            <a:ext cx="9144000" cy="341280"/>
          </a:xfrm>
          <a:prstGeom prst="rect">
            <a:avLst/>
          </a:prstGeom>
          <a:solidFill>
            <a:srgbClr val="7aa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704" name="Grafik 16" descr="STNLogoHI.new.tif"/>
          <p:cNvPicPr/>
          <p:nvPr/>
        </p:nvPicPr>
        <p:blipFill>
          <a:blip r:embed="rId2"/>
          <a:stretch/>
        </p:blipFill>
        <p:spPr>
          <a:xfrm>
            <a:off x="438120" y="6286680"/>
            <a:ext cx="849240" cy="296640"/>
          </a:xfrm>
          <a:prstGeom prst="rect">
            <a:avLst/>
          </a:prstGeom>
          <a:ln w="0">
            <a:noFill/>
          </a:ln>
        </p:spPr>
      </p:pic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 type="sldNum" idx="40"/>
          </p:nvPr>
        </p:nvSpPr>
        <p:spPr>
          <a:xfrm>
            <a:off x="8221680" y="6334200"/>
            <a:ext cx="544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cb8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BAF7-F97F-48FD-9C18-DB31B6D742B2}" type="slidenum">
              <a:rPr b="1" lang="en-US" sz="1200" spc="-1" strike="noStrike">
                <a:solidFill>
                  <a:srgbClr val="006cb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2"/>
          <p:cNvSpPr/>
          <p:nvPr/>
        </p:nvSpPr>
        <p:spPr>
          <a:xfrm>
            <a:off x="0" y="0"/>
            <a:ext cx="9144000" cy="341280"/>
          </a:xfrm>
          <a:prstGeom prst="rect">
            <a:avLst/>
          </a:prstGeom>
          <a:solidFill>
            <a:srgbClr val="7aa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745" name="Grafik 16" descr="STNLogoHI.new.tif"/>
          <p:cNvPicPr/>
          <p:nvPr/>
        </p:nvPicPr>
        <p:blipFill>
          <a:blip r:embed="rId2"/>
          <a:stretch/>
        </p:blipFill>
        <p:spPr>
          <a:xfrm>
            <a:off x="438120" y="6286680"/>
            <a:ext cx="849240" cy="296640"/>
          </a:xfrm>
          <a:prstGeom prst="rect">
            <a:avLst/>
          </a:prstGeom>
          <a:ln w="0">
            <a:noFill/>
          </a:ln>
        </p:spPr>
      </p:pic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 type="sldNum" idx="41"/>
          </p:nvPr>
        </p:nvSpPr>
        <p:spPr>
          <a:xfrm>
            <a:off x="8221680" y="6334200"/>
            <a:ext cx="544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cb8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1390-FB86-4D48-9AD3-9003CF380410}" type="slidenum">
              <a:rPr b="1" lang="en-US" sz="1200" spc="-1" strike="noStrike">
                <a:solidFill>
                  <a:srgbClr val="006cb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5" name="Picture 2" descr="STN-FIZ-PPT-Title-artwork"/>
          <p:cNvPicPr/>
          <p:nvPr/>
        </p:nvPicPr>
        <p:blipFill>
          <a:blip r:embed="rId2"/>
          <a:srcRect l="0" t="7183" r="0" b="10408"/>
          <a:stretch/>
        </p:blipFill>
        <p:spPr>
          <a:xfrm>
            <a:off x="0" y="0"/>
            <a:ext cx="9144000" cy="5649840"/>
          </a:xfrm>
          <a:prstGeom prst="rect">
            <a:avLst/>
          </a:prstGeom>
          <a:ln w="0">
            <a:noFill/>
          </a:ln>
        </p:spPr>
      </p:pic>
      <p:sp>
        <p:nvSpPr>
          <p:cNvPr id="1786" name="Rectangle 3"/>
          <p:cNvSpPr/>
          <p:nvPr/>
        </p:nvSpPr>
        <p:spPr>
          <a:xfrm>
            <a:off x="5702400" y="4756320"/>
            <a:ext cx="3270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Z Karlsruhe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cb8"/>
                </a:solidFill>
                <a:uFillTx/>
                <a:latin typeface="Arial"/>
              </a:rPr>
              <a:t>helpdesk@fiz-karlsruhe.de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and Training: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cb8"/>
                </a:solidFill>
                <a:uFillTx/>
                <a:latin typeface="Arial"/>
              </a:rPr>
              <a:t>www.stn-international.de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7" name="Rectangle 3"/>
          <p:cNvSpPr/>
          <p:nvPr/>
        </p:nvSpPr>
        <p:spPr>
          <a:xfrm>
            <a:off x="465120" y="4756320"/>
            <a:ext cx="415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6cb8"/>
                </a:solidFill>
                <a:uFillTx/>
                <a:latin typeface="Arial"/>
              </a:rPr>
              <a:t>help@cas.org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and Training: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cb8"/>
                </a:solidFill>
                <a:uFillTx/>
                <a:latin typeface="Arial"/>
              </a:rPr>
              <a:t>www.cas.org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  <p:grpSp>
        <p:nvGrpSpPr>
          <p:cNvPr id="1788" name="Gruppieren 10"/>
          <p:cNvGrpSpPr/>
          <p:nvPr/>
        </p:nvGrpSpPr>
        <p:grpSpPr>
          <a:xfrm>
            <a:off x="385920" y="6272280"/>
            <a:ext cx="2858760" cy="425520"/>
            <a:chOff x="385920" y="6272280"/>
            <a:chExt cx="2858760" cy="425520"/>
          </a:xfrm>
        </p:grpSpPr>
        <p:pic>
          <p:nvPicPr>
            <p:cNvPr id="1789" name="Picture 8" descr="STN_title"/>
            <p:cNvPicPr/>
            <p:nvPr/>
          </p:nvPicPr>
          <p:blipFill>
            <a:blip r:embed="rId3"/>
            <a:srcRect l="0" t="90711" r="52855" b="0"/>
            <a:stretch/>
          </p:blipFill>
          <p:spPr>
            <a:xfrm>
              <a:off x="385920" y="6274080"/>
              <a:ext cx="285876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0" name="Grafik 12" descr="STNLogoHI.new.tif"/>
            <p:cNvPicPr/>
            <p:nvPr/>
          </p:nvPicPr>
          <p:blipFill>
            <a:blip r:embed="rId4"/>
            <a:stretch/>
          </p:blipFill>
          <p:spPr>
            <a:xfrm>
              <a:off x="424440" y="6272280"/>
              <a:ext cx="848880" cy="29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80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81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11" descr="hc_DividerGraph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sldNum" idx="9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2E60-EF22-431B-B3D6-EC104D6D058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898200" y="49320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0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2" descr="hc_DividerBG_C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ldNum" idx="11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B0FA-79B7-4038-BFF4-146CE850742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ftr" idx="12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title"/>
          </p:nvPr>
        </p:nvSpPr>
        <p:spPr>
          <a:xfrm>
            <a:off x="898200" y="487080"/>
            <a:ext cx="73882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898200" y="1515960"/>
            <a:ext cx="73882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268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269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0" name="Picture 11" descr="hc_DividerGraphBG_C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sldNum" idx="13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4BDA-46F4-493C-9F10-75184C255FE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98200" y="500040"/>
            <a:ext cx="7388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896760" y="1368360"/>
            <a:ext cx="73486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336600" y="1530360"/>
            <a:ext cx="21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13" name="Picture 3" descr="TR_SlideLogo_BW600"/>
          <p:cNvPicPr/>
          <p:nvPr/>
        </p:nvPicPr>
        <p:blipFill>
          <a:blip r:embed="rId2"/>
          <a:stretch/>
        </p:blipFill>
        <p:spPr>
          <a:xfrm>
            <a:off x="371520" y="6323040"/>
            <a:ext cx="1652400" cy="5364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ftr" idx="15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Num" idx="16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6240-8134-4B5E-8259-DB027E96E60B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1440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22860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486080" indent="-11448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18" name="Picture 8" descr="slideMaster_Logo600"/>
          <p:cNvPicPr/>
          <p:nvPr/>
        </p:nvPicPr>
        <p:blipFill>
          <a:blip r:embed="rId3"/>
          <a:stretch/>
        </p:blipFill>
        <p:spPr>
          <a:xfrm>
            <a:off x="371520" y="6323040"/>
            <a:ext cx="1644480" cy="528480"/>
          </a:xfrm>
          <a:prstGeom prst="rect">
            <a:avLst/>
          </a:prstGeom>
          <a:ln w="0">
            <a:noFill/>
          </a:ln>
        </p:spPr>
      </p:pic>
      <p:sp>
        <p:nvSpPr>
          <p:cNvPr id="319" name="Line 9"/>
          <p:cNvSpPr/>
          <p:nvPr/>
        </p:nvSpPr>
        <p:spPr>
          <a:xfrm>
            <a:off x="917640" y="1365120"/>
            <a:ext cx="736920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336600" y="1530360"/>
            <a:ext cx="21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57" name="Picture 3" descr="TR_SlideLogo_BW600"/>
          <p:cNvPicPr/>
          <p:nvPr/>
        </p:nvPicPr>
        <p:blipFill>
          <a:blip r:embed="rId2"/>
          <a:stretch/>
        </p:blipFill>
        <p:spPr>
          <a:xfrm>
            <a:off x="371520" y="6323040"/>
            <a:ext cx="1652400" cy="536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ftr" idx="17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ldNum" idx="18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78F1-F269-44DB-BF7F-B6BC9B6394ED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1440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22860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486080" indent="-11448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62" name="Picture 8" descr="slideMaster_Logo600"/>
          <p:cNvPicPr/>
          <p:nvPr/>
        </p:nvPicPr>
        <p:blipFill>
          <a:blip r:embed="rId3"/>
          <a:stretch/>
        </p:blipFill>
        <p:spPr>
          <a:xfrm>
            <a:off x="371520" y="6323040"/>
            <a:ext cx="1644480" cy="528480"/>
          </a:xfrm>
          <a:prstGeom prst="rect">
            <a:avLst/>
          </a:prstGeom>
          <a:ln w="0">
            <a:noFill/>
          </a:ln>
        </p:spPr>
      </p:pic>
      <p:sp>
        <p:nvSpPr>
          <p:cNvPr id="363" name="Line 9"/>
          <p:cNvSpPr/>
          <p:nvPr/>
        </p:nvSpPr>
        <p:spPr>
          <a:xfrm>
            <a:off x="917640" y="1365120"/>
            <a:ext cx="736920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61800" y="3448080"/>
            <a:ext cx="838224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PATCOM - THOMSON REUTERS</a:t>
            </a:r>
            <a:br>
              <a:rPr sz="3200"/>
            </a:b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assification needs and first experiences with CPC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ubTitle"/>
          </p:nvPr>
        </p:nvSpPr>
        <p:spPr>
          <a:xfrm>
            <a:off x="361800" y="4411800"/>
            <a:ext cx="838224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IPC WORKSHOP, Geneva  2013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4b4b4b"/>
                </a:solidFill>
                <a:latin typeface="Arial"/>
              </a:rPr>
              <a:t>Doina Nanu 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PC –THREAT OR OPPORTUNITY?</a:t>
            </a:r>
            <a:br>
              <a:rPr sz="2800"/>
            </a:b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Yet another classification system or chance for Integration in IPC or be the backbone for global classification?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Granular, but how representative for technology developments in Japan, China, Korea?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Applied to a large number of collections but not available at the  time of patent document publication (except for US data, EP)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PC –THREAT OR OPPORTUNITY?</a:t>
            </a:r>
            <a:br>
              <a:rPr sz="2800"/>
            </a:b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onclusions  (2)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63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25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oncordance with IPC good for now but how will the divergence be avoided as CPC evolves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f more offices join in, how will the consistency of classification be maintained?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Role of the USPTO in consolidating the success of  CPC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Role of WIPO in unifying the very best of the existing systems into a global classification, consistently applied by patent offices worldwide irrespective of their size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155160" y="4460760"/>
            <a:ext cx="88218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6cb6"/>
                </a:solidFill>
                <a:latin typeface="Arial"/>
              </a:rPr>
              <a:t>Classification needs and first experiences with CPC </a:t>
            </a:r>
            <a:br>
              <a:rPr sz="2800"/>
            </a:br>
            <a:r>
              <a:rPr b="0" lang="en-US" sz="2800" spc="-1" strike="noStrike">
                <a:solidFill>
                  <a:srgbClr val="056cb6"/>
                </a:solidFill>
                <a:latin typeface="Arial"/>
              </a:rPr>
              <a:t>- IPC Quality Issues -</a:t>
            </a:r>
            <a:endParaRPr b="0" lang="en-US" sz="28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65" name="Rectangle 3"/>
          <p:cNvSpPr/>
          <p:nvPr/>
        </p:nvSpPr>
        <p:spPr>
          <a:xfrm>
            <a:off x="401760" y="5543640"/>
            <a:ext cx="8051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hristiane Emmerich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ATCOM/FIZ Karlsruhe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IPC Workshop, Geneva 2013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IPC Quality Issues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441360" y="1317240"/>
            <a:ext cx="8245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valid IPCs in the DOCDB back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ssing IPCs of new patent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6BA6-A4CE-421B-88E5-986B7A90BAF4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Invalid IPCs in DOCDB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70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3DAA-87A6-427A-B99B-06F126AF76FA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871" name="Picture 2" descr=""/>
          <p:cNvPicPr/>
          <p:nvPr/>
        </p:nvPicPr>
        <p:blipFill>
          <a:blip r:embed="rId1"/>
          <a:srcRect l="10754" t="29962" r="54093" b="54891"/>
          <a:stretch/>
        </p:blipFill>
        <p:spPr>
          <a:xfrm>
            <a:off x="627120" y="1271520"/>
            <a:ext cx="4614840" cy="12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2" name="Picture 2" descr=""/>
          <p:cNvPicPr/>
          <p:nvPr/>
        </p:nvPicPr>
        <p:blipFill>
          <a:blip r:embed="rId2"/>
          <a:srcRect l="11579" t="32633" r="52896" b="24775"/>
          <a:stretch/>
        </p:blipFill>
        <p:spPr>
          <a:xfrm>
            <a:off x="3913200" y="2238480"/>
            <a:ext cx="4713120" cy="353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3" name="Textfeld 4"/>
          <p:cNvSpPr/>
          <p:nvPr/>
        </p:nvSpPr>
        <p:spPr>
          <a:xfrm>
            <a:off x="260280" y="3718080"/>
            <a:ext cx="33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IPC subgroup </a:t>
            </a:r>
            <a:r>
              <a:rPr b="0" i="1" lang="de-DE" sz="1800" spc="-1" strike="noStrike">
                <a:solidFill>
                  <a:srgbClr val="c00000"/>
                </a:solidFill>
                <a:latin typeface="Arial"/>
              </a:rPr>
              <a:t>C12N 5/06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transferred to </a:t>
            </a:r>
            <a:r>
              <a:rPr b="0" i="1" lang="de-DE" sz="1800" spc="-1" strike="noStrike">
                <a:solidFill>
                  <a:srgbClr val="c00000"/>
                </a:solidFill>
                <a:latin typeface="Arial"/>
              </a:rPr>
              <a:t>C12N 5/07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us further subgroups with IPC version 2010.01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4" name="Nach oben gebogener Pfeil 6"/>
          <p:cNvSpPr/>
          <p:nvPr/>
        </p:nvSpPr>
        <p:spPr>
          <a:xfrm rot="5400000">
            <a:off x="2874600" y="2719440"/>
            <a:ext cx="849240" cy="731880"/>
          </a:xfrm>
          <a:prstGeom prst="pie">
            <a:avLst/>
          </a:prstGeom>
          <a:solidFill>
            <a:srgbClr val="006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5" name="Textfeld 7"/>
          <p:cNvSpPr/>
          <p:nvPr/>
        </p:nvSpPr>
        <p:spPr>
          <a:xfrm>
            <a:off x="5780160" y="1440000"/>
            <a:ext cx="24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IPC Revision 2010.01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Invalid IPCs in DOCDB</a:t>
            </a:r>
            <a:br>
              <a:rPr sz="3200"/>
            </a:br>
            <a:r>
              <a:rPr b="0" lang="de-DE" sz="2000" spc="-1" strike="noStrike">
                <a:solidFill>
                  <a:srgbClr val="006cb8"/>
                </a:solidFill>
                <a:latin typeface="Arial"/>
              </a:rPr>
              <a:t>C12N 5/06 became invalid with IPC version 2010.01</a:t>
            </a:r>
            <a:endParaRPr b="0" lang="en-US" sz="20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77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550C-6208-4542-8E08-B69A4767FE5A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graphicFrame>
        <p:nvGraphicFramePr>
          <p:cNvPr id="1878" name=""/>
          <p:cNvGraphicFramePr/>
          <p:nvPr/>
        </p:nvGraphicFramePr>
        <p:xfrm>
          <a:off x="1523880" y="1625760"/>
          <a:ext cx="6096240" cy="3336840"/>
        </p:xfrm>
        <a:graphic>
          <a:graphicData uri="http://schemas.openxmlformats.org/drawingml/2006/table">
            <a:tbl>
              <a:tblPr/>
              <a:tblGrid>
                <a:gridCol w="2882880"/>
                <a:gridCol w="3213360"/>
              </a:tblGrid>
              <a:tr h="371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.556 records with C12N 5/06 IPC reform codes only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13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76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33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30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26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84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1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7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  <p:sp>
        <p:nvSpPr>
          <p:cNvPr id="1879" name="Textfeld 5"/>
          <p:cNvSpPr/>
          <p:nvPr/>
        </p:nvSpPr>
        <p:spPr>
          <a:xfrm>
            <a:off x="1560600" y="5121360"/>
            <a:ext cx="64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 25.115 records in INPADOCDB with C12N 5/06 (IPC8) of which 559 provide the revised code  C12N 5/07 (plus further subgroups), search week 06/2013</a:t>
            </a:r>
            <a:endParaRPr b="0" lang="en-US" sz="1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Invalid IPCs in DOCDB</a:t>
            </a:r>
            <a:br>
              <a:rPr sz="3200"/>
            </a:b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81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50A4-00D9-4C33-ACD8-C71427A2E951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2" name="Rectangle 3"/>
          <p:cNvSpPr/>
          <p:nvPr/>
        </p:nvSpPr>
        <p:spPr>
          <a:xfrm>
            <a:off x="469800" y="2004840"/>
            <a:ext cx="8188560" cy="3744720"/>
          </a:xfrm>
          <a:prstGeom prst="rect">
            <a:avLst/>
          </a:prstGeom>
          <a:solidFill>
            <a:srgbClr val="d9e5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    59944434 INPADOCDB ED 20091217 EW 200951 UP 20100422 UW 201016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N    38698386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    USE OF FXA, FVIIA, TF, OR A COMBINATION THEREOF AS ANTI-APOPTOTIC AGENTS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TILISATION DE FXA, DE FVIIA, DE TF OU D'UNE COMBINAISON DE CEUX-CI EN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NT QU'AGENTS ANTI-APOPTOTIQUES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    DAUBIE, VALERY; POCHET, ROLAND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S   DAUBIE VALERY, BE; POCHET ROLAND, B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    UNIVERSITE LIBRE DE BRUXELLES; DAUBIE, VALERY; POCHET, ROLAND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S   UNIV BRUXELLES, BE; DAUBIE VALERY, BE; POCHET ROLAND, B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    </a:t>
            </a:r>
            <a:r>
              <a:rPr b="1" lang="en-US" sz="1200" spc="-1" strike="noStrike">
                <a:solidFill>
                  <a:srgbClr val="c00000"/>
                </a:solidFill>
                <a:latin typeface="Courier New"/>
              </a:rPr>
              <a:t>WO 2009146746        A1 20091210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T   WOA1 INTERNATIONAL APPLICATION PUBLISHED WITH INTERNATIONAL SEARCH REPORT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I    WO 2008-EP56994      W  20080605  English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IT   WOW International application Number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AI  WO 2008-EP56994      W  20080605  (WOW, 20091217, Y) 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AIT WOW International application Number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PCI  C12N0005-06    [I,A]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PC   C12N0005-0031; C12N2500-84; C12N2501-70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PC   C12N0005-00M2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CO   M12N0500:84; M12N0501:700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3" name="Rechteck 7"/>
          <p:cNvSpPr/>
          <p:nvPr/>
        </p:nvSpPr>
        <p:spPr>
          <a:xfrm>
            <a:off x="469800" y="4950000"/>
            <a:ext cx="4977000" cy="2044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441360" y="1199880"/>
            <a:ext cx="824544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WO2009/146746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has one invalid IPC assigned, no reclassification data are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New Patent Publications without IPC* </a:t>
            </a:r>
            <a:br>
              <a:rPr sz="3200"/>
            </a:br>
            <a:r>
              <a:rPr b="0" lang="de-DE" sz="2400" spc="-1" strike="noStrike">
                <a:solidFill>
                  <a:srgbClr val="006cb8"/>
                </a:solidFill>
                <a:latin typeface="Arial"/>
              </a:rPr>
              <a:t>in DOCDB from August 2012</a:t>
            </a:r>
            <a:endParaRPr b="0" lang="en-US" sz="24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86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A8BB-9B73-4912-8C1E-FE08709065BE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graphicFrame>
        <p:nvGraphicFramePr>
          <p:cNvPr id="1887" name=""/>
          <p:cNvGraphicFramePr/>
          <p:nvPr/>
        </p:nvGraphicFramePr>
        <p:xfrm>
          <a:off x="1386000" y="1608120"/>
          <a:ext cx="6234120" cy="1854360"/>
        </p:xfrm>
        <a:graphic>
          <a:graphicData uri="http://schemas.openxmlformats.org/drawingml/2006/table">
            <a:tbl>
              <a:tblPr/>
              <a:tblGrid>
                <a:gridCol w="3116160"/>
                <a:gridCol w="311796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73.086 new publications from August 201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PC8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30.82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PC7, only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2*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lassified IPC, only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899**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IPC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763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  <p:sp>
        <p:nvSpPr>
          <p:cNvPr id="1888" name="Textfeld 5"/>
          <p:cNvSpPr/>
          <p:nvPr/>
        </p:nvSpPr>
        <p:spPr>
          <a:xfrm>
            <a:off x="1860480" y="3892680"/>
            <a:ext cx="70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00000"/>
                </a:solidFill>
                <a:latin typeface="Arial"/>
              </a:rPr>
              <a:t>2,5 %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f new publications have no IPC assigned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9" name="Pfeil nach rechts 6"/>
          <p:cNvSpPr/>
          <p:nvPr/>
        </p:nvSpPr>
        <p:spPr>
          <a:xfrm>
            <a:off x="425520" y="3943440"/>
            <a:ext cx="1270080" cy="29664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006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0" name="Textfeld 7"/>
          <p:cNvSpPr/>
          <p:nvPr/>
        </p:nvSpPr>
        <p:spPr>
          <a:xfrm>
            <a:off x="453600" y="5237280"/>
            <a:ext cx="53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new INPADOCDB records (new applications)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* BE A3 (251), AR A1 (164), BE A5 (86), EP A1 (63)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** TW (3678), PT (1479), KR (1062), SG (140), EA (101)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F5FC-3447-4534-A0DB-57123C6BB8AB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New Patent Publications without IPC </a:t>
            </a:r>
            <a:br>
              <a:rPr sz="3200"/>
            </a:br>
            <a:r>
              <a:rPr b="0" lang="de-DE" sz="2400" spc="-1" strike="noStrike">
                <a:solidFill>
                  <a:srgbClr val="006cb8"/>
                </a:solidFill>
                <a:latin typeface="Arial"/>
              </a:rPr>
              <a:t>in DOCDB from August 2012</a:t>
            </a:r>
            <a:endParaRPr b="0" lang="en-US" sz="2400" spc="-1" strike="noStrike">
              <a:solidFill>
                <a:srgbClr val="006cb8"/>
              </a:solidFill>
              <a:latin typeface="Arial"/>
            </a:endParaRPr>
          </a:p>
        </p:txBody>
      </p:sp>
      <p:graphicFrame>
        <p:nvGraphicFramePr>
          <p:cNvPr id="1893" name=""/>
          <p:cNvGraphicFramePr/>
          <p:nvPr/>
        </p:nvGraphicFramePr>
        <p:xfrm>
          <a:off x="779400" y="1924200"/>
          <a:ext cx="8024760" cy="2519280"/>
        </p:xfrm>
        <a:graphic>
          <a:graphicData uri="http://schemas.openxmlformats.org/drawingml/2006/table">
            <a:tbl>
              <a:tblPr/>
              <a:tblGrid>
                <a:gridCol w="2436840"/>
                <a:gridCol w="1860480"/>
                <a:gridCol w="372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lication typ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IPC code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ign patent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710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S1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0.648), CR S, DO 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zette references 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39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B D0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9.525), IL D0, AP D0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ty model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80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U1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.179), CN U, FI U1, BR U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934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e next slid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763</a:t>
                      </a:r>
                      <a:endParaRPr b="0" lang="en-US" sz="20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</a:tbl>
          </a:graphicData>
        </a:graphic>
      </p:graphicFrame>
      <p:sp>
        <p:nvSpPr>
          <p:cNvPr id="1894" name="Rechteck 7"/>
          <p:cNvSpPr/>
          <p:nvPr/>
        </p:nvSpPr>
        <p:spPr>
          <a:xfrm>
            <a:off x="757080" y="4017960"/>
            <a:ext cx="8070840" cy="4366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5" name="Textfeld 8"/>
          <p:cNvSpPr/>
          <p:nvPr/>
        </p:nvSpPr>
        <p:spPr>
          <a:xfrm>
            <a:off x="1626480" y="6256440"/>
            <a:ext cx="49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number of new records in INPADOCDB without IPC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New Patent Publications without IPC </a:t>
            </a:r>
            <a:br>
              <a:rPr sz="3200"/>
            </a:br>
            <a:r>
              <a:rPr b="0" lang="de-DE" sz="2400" spc="-1" strike="noStrike">
                <a:solidFill>
                  <a:srgbClr val="006cb8"/>
                </a:solidFill>
                <a:latin typeface="Arial"/>
              </a:rPr>
              <a:t>in DOCDB from August 2012</a:t>
            </a:r>
            <a:endParaRPr b="0" lang="en-US" sz="24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97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BE05-5FFD-4E6F-92E7-6AE7EBCD7CA5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graphicFrame>
        <p:nvGraphicFramePr>
          <p:cNvPr id="1898" name=""/>
          <p:cNvGraphicFramePr/>
          <p:nvPr/>
        </p:nvGraphicFramePr>
        <p:xfrm>
          <a:off x="1295280" y="1889280"/>
          <a:ext cx="6685200" cy="2865240"/>
        </p:xfrm>
        <a:graphic>
          <a:graphicData uri="http://schemas.openxmlformats.org/drawingml/2006/table">
            <a:tbl>
              <a:tblPr/>
              <a:tblGrid>
                <a:gridCol w="1967040"/>
                <a:gridCol w="2068560"/>
                <a:gridCol w="2649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ent publica-tion typ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IPC code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number of publication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A1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22  (99,9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227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 A1, A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54  (2,8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201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 A1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31 (96,2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75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 A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6 (0,1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4.327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 A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9 (6,9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0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A1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 (0,1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.679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  <p:sp>
        <p:nvSpPr>
          <p:cNvPr id="1899" name="Pfeil nach rechts 6"/>
          <p:cNvSpPr/>
          <p:nvPr/>
        </p:nvSpPr>
        <p:spPr>
          <a:xfrm>
            <a:off x="422280" y="2692440"/>
            <a:ext cx="665280" cy="44280"/>
          </a:xfrm>
          <a:prstGeom prst="rightArrow">
            <a:avLst>
              <a:gd name="adj1" fmla="val 50000"/>
              <a:gd name="adj2" fmla="val 50220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0" name="Pfeil nach rechts 7"/>
          <p:cNvSpPr/>
          <p:nvPr/>
        </p:nvSpPr>
        <p:spPr>
          <a:xfrm>
            <a:off x="433440" y="3451320"/>
            <a:ext cx="665280" cy="46080"/>
          </a:xfrm>
          <a:prstGeom prst="rightArrow">
            <a:avLst>
              <a:gd name="adj1" fmla="val 50000"/>
              <a:gd name="adj2" fmla="val 4999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1" name="Pfeil nach rechts 8"/>
          <p:cNvSpPr/>
          <p:nvPr/>
        </p:nvSpPr>
        <p:spPr>
          <a:xfrm>
            <a:off x="433440" y="3057480"/>
            <a:ext cx="665280" cy="44640"/>
          </a:xfrm>
          <a:prstGeom prst="rightArrow">
            <a:avLst>
              <a:gd name="adj1" fmla="val 50000"/>
              <a:gd name="adj2" fmla="val 49815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2" name="Textfeld 9"/>
          <p:cNvSpPr/>
          <p:nvPr/>
        </p:nvSpPr>
        <p:spPr>
          <a:xfrm>
            <a:off x="1626480" y="6256440"/>
            <a:ext cx="49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number of new records in INPADOCDB without IPC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ASSIFICATION NEEDS AND FIRST EXPERIENCES WITH CPC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39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ntroduction – classification systems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s Patent Classification still needed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Patent classification uses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lassification challenges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PC – threat or opportunity - Conclusions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New PCT-Publications without IPC</a:t>
            </a:r>
            <a:br>
              <a:rPr sz="3200"/>
            </a:br>
            <a:r>
              <a:rPr b="0" lang="de-DE" sz="2400" spc="-1" strike="noStrike">
                <a:solidFill>
                  <a:srgbClr val="006cb8"/>
                </a:solidFill>
                <a:latin typeface="Arial"/>
              </a:rPr>
              <a:t>in DOCDB from August 2012</a:t>
            </a:r>
            <a:endParaRPr b="0" lang="en-US" sz="24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04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D8E3-46C8-415E-AF91-09EDD9438AAD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graphicFrame>
        <p:nvGraphicFramePr>
          <p:cNvPr id="1905" name=""/>
          <p:cNvGraphicFramePr/>
          <p:nvPr/>
        </p:nvGraphicFramePr>
        <p:xfrm>
          <a:off x="1909800" y="1798560"/>
          <a:ext cx="5002200" cy="3336840"/>
        </p:xfrm>
        <a:graphic>
          <a:graphicData uri="http://schemas.openxmlformats.org/drawingml/2006/table">
            <a:tbl>
              <a:tblPr/>
              <a:tblGrid>
                <a:gridCol w="2502000"/>
                <a:gridCol w="2500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CT-Filing Offic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of Records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8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6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7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B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3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54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  <p:sp>
        <p:nvSpPr>
          <p:cNvPr id="1906" name="Textfeld 5"/>
          <p:cNvSpPr/>
          <p:nvPr/>
        </p:nvSpPr>
        <p:spPr>
          <a:xfrm>
            <a:off x="1555200" y="6256440"/>
            <a:ext cx="53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number of new PCT-records in INPADOCDB without IPC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25160" y="379440"/>
            <a:ext cx="847404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New PCT-Publication without IPC in DOCDB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08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28EF-556A-4C25-98FB-7584980803CD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9" name="Rectangle 3"/>
          <p:cNvSpPr/>
          <p:nvPr/>
        </p:nvSpPr>
        <p:spPr>
          <a:xfrm>
            <a:off x="485640" y="1917720"/>
            <a:ext cx="8188560" cy="4565880"/>
          </a:xfrm>
          <a:prstGeom prst="rect">
            <a:avLst/>
          </a:prstGeom>
          <a:solidFill>
            <a:srgbClr val="d9e5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    70190717 INPADOCDB ED 20120830 EW 201235 UP 20120906 UW 201236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N    45280289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    VERFAHREN ZUM BETREIBEN EINES SOLARBEHEIZTEN ABHITZEDAMPFERZEUGERS SOWI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LARTHERMISCHER ABHITZEDAMPFERZEUGER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THOD FOR OPERATING A SOLAR-HEATED WASTE HEAT STEAM GENERATOR, AND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LAR-THERMAL WASTE HEAT STEAM GENERATOR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E POUR FAIRE FONCTIONNER UN GENERATEUR DE VAPEUR A RECUPERATION D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LEUR CHAUFFE A L'ENERGIE SOLAIRE ET GENERATEUR DE VAPEUR A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CUPERATION DE CHALEUR CHAUFFE A L'ENERGIE SOLAIRE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    BRUECKNER, JAN; FRANKE, JOACHIM; THOMAS, FRANK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S   BRUECKNER JAN, DE; FRANKE JOACHIM, DE; THOMAS FRANK, D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    SIEMENS AKTIENGESELLSCHAFT; BRUECKNER, JAN; FRANKE, JOACHIM; THOMAS,FRANK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S   SIEMENS AG, DE; BRUECKNER JAN, DE; FRANKE JOACHIM, DE; THOMAS FRANK, D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T    Patent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    </a:t>
            </a:r>
            <a:r>
              <a:rPr b="1" lang="en-US" sz="1200" spc="-1" strike="noStrike">
                <a:solidFill>
                  <a:srgbClr val="c00000"/>
                </a:solidFill>
                <a:latin typeface="Courier New"/>
              </a:rPr>
              <a:t>WO 2012110342        A2 20120823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T   WOA2 INTERNATIONAL APPLICATION PUBLISHED WITHOUT INTERNATIONAL SEARCH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PORT or INTERNATIONAL APPLICATION PUBLISHED WITH DECLARATION UNDER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TICLE 17 (2) (A) [FROM 20090101 ONWARDS]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I    WO 2012-EP51920      W  20120206  German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IT   WOW International application Number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AI  DE 2011-102011004263 A  20110217  (DEA, 20120823, Y) 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AIT DEA Patent application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C   1. THERE IS 1 CITED REFERENCE (0 PATENT, 1 NON PATENT) AVAILABLE FOR THIS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CORD. ALL CITATIONS ARE AVAILABLE IN THE RE FORMAT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441360" y="1270080"/>
            <a:ext cx="82454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WO2012/11034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has no IPC or ECLA/CPC assig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12" name=""/>
          <p:cNvSpPr txBox="1"/>
          <p:nvPr/>
        </p:nvSpPr>
        <p:spPr>
          <a:xfrm>
            <a:off x="441000" y="1317240"/>
            <a:ext cx="84661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Reclassification of the MCD backfile needs to be enhanced to ensure comprehensive retrieval when searching with the current version of the IPC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WIPO should encourage smaller patent authorities to assign IPCs more extensively, e.g. IT, SG, 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PCT searching authorities should be encouraged to assign IPCs more timely to PCT documents, so that IPC could be used for monitoring purpo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B336-20F0-44FA-96A9-43AC252F0026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(TOO) MANY PATENT CLASSIFICATION SYSTEMS 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nternational Patent Classification – WIPO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ooperative Patent Classification (ECLA)– EPO/USPTO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US Patent Classification (until 2015) – USPTO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DECLA – German Patent and Trademark Office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FI /F-Terms – Japanese Patent Office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DWPI Manual Coding system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ommon Hybrid Classification – Global Patent Classification 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IS PATENT CLASSIFICATION STILL NEEDED?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 fontScale="96000"/>
          </a:bodyPr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Increasing global patent activity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Classification systems require high maintenance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2" marL="877680" indent="-16416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High granularity, often dependent on national, regional technology profile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77680" indent="-16416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Frequent updating cycles (revisions, reclassifications)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77680" indent="-16416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Consistent classification rules  often reconciled with national patent law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3" marL="1207080" indent="-219240">
              <a:spcBef>
                <a:spcPts val="400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b4b4b"/>
                </a:solidFill>
                <a:latin typeface="Arial"/>
              </a:rPr>
              <a:t>The more refined to meet  specific requirements, the higher the maintenance and, paradoxically, risk of failing 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  <a:p>
            <a:pPr lvl="2" marL="877680" indent="-16416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Different classification systems (national, regional) 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Recent classification developments (CPC, CHC) - substantial projects undertaken by  patent offices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High interest from patent user community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8000"/>
                </a:solidFill>
                <a:latin typeface="Arial"/>
              </a:rPr>
              <a:t>Patent classification  has multiple applications and is useful !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PATENT CLASSIFICATION USES 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920880" y="1522440"/>
            <a:ext cx="73692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 fontScale="94000"/>
          </a:bodyPr>
          <a:p>
            <a:pPr lvl="1" marL="590760" indent="-26820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8000"/>
                </a:solidFill>
                <a:latin typeface="Arial"/>
              </a:rPr>
              <a:t>Search tool :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-16092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Language independent : overcomes translation variations  and terminology alternatives in emerging technologies, as well as spelling errors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-16092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Suitable for Technology drill down and  concept retrieval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1" marL="590760" indent="-26820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8000"/>
                </a:solidFill>
                <a:latin typeface="Arial"/>
              </a:rPr>
              <a:t>Document routing tool: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-16092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In production and editorial departments patent documents are routed to  technology experts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-16092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In product creation :  for alerts and patent profiles 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-16092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In Machine  Translation developments where the classification is used to associate the correct technical dictionary with the respective technology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0">
              <a:spcBef>
                <a:spcPts val="56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0">
              <a:spcBef>
                <a:spcPts val="56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0">
              <a:spcBef>
                <a:spcPts val="56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1" marL="5907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0">
              <a:spcBef>
                <a:spcPts val="56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0">
              <a:spcBef>
                <a:spcPts val="56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LASSIFICATION CHALLENGES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lassification features with limited user benefits: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Inconsistency of classification attributes  (eg generating office, position, source of classification, etc.)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Insufficient details related to certain classification features, linking codes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Missing classification 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nvalid classification 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Availability at publication with the rest of  bibliographic data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MISSING/INVALID  IPCs IN NEW PULICATIONS LOADED IN  DWPI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1849" name="Content Placeholder 4" descr=""/>
          <p:cNvPicPr/>
          <p:nvPr/>
        </p:nvPicPr>
        <p:blipFill>
          <a:blip r:embed="rId1"/>
          <a:stretch/>
        </p:blipFill>
        <p:spPr>
          <a:xfrm>
            <a:off x="914400" y="1517760"/>
            <a:ext cx="73756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IPC – SAME INVENTION, DIFFERENT CLASSIFICATION 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1851" name="Picture 2" descr=""/>
          <p:cNvPicPr/>
          <p:nvPr/>
        </p:nvPicPr>
        <p:blipFill>
          <a:blip r:embed="rId1"/>
          <a:stretch/>
        </p:blipFill>
        <p:spPr>
          <a:xfrm>
            <a:off x="504720" y="4579920"/>
            <a:ext cx="7966080" cy="1566720"/>
          </a:xfrm>
          <a:prstGeom prst="rect">
            <a:avLst/>
          </a:prstGeom>
          <a:ln w="0">
            <a:noFill/>
          </a:ln>
        </p:spPr>
      </p:pic>
      <p:pic>
        <p:nvPicPr>
          <p:cNvPr id="1852" name="Picture 2" descr=""/>
          <p:cNvPicPr/>
          <p:nvPr/>
        </p:nvPicPr>
        <p:blipFill>
          <a:blip r:embed="rId2"/>
          <a:stretch/>
        </p:blipFill>
        <p:spPr>
          <a:xfrm>
            <a:off x="336600" y="1495440"/>
            <a:ext cx="3584520" cy="2592360"/>
          </a:xfrm>
          <a:prstGeom prst="rect">
            <a:avLst/>
          </a:prstGeom>
          <a:ln w="0">
            <a:noFill/>
          </a:ln>
        </p:spPr>
      </p:pic>
      <p:pic>
        <p:nvPicPr>
          <p:cNvPr id="1853" name="Picture 3" descr=""/>
          <p:cNvPicPr/>
          <p:nvPr/>
        </p:nvPicPr>
        <p:blipFill>
          <a:blip r:embed="rId3"/>
          <a:stretch/>
        </p:blipFill>
        <p:spPr>
          <a:xfrm>
            <a:off x="2521080" y="1454040"/>
            <a:ext cx="3933720" cy="609840"/>
          </a:xfrm>
          <a:prstGeom prst="rect">
            <a:avLst/>
          </a:prstGeom>
          <a:ln w="12600">
            <a:solidFill>
              <a:srgbClr val="ff8000"/>
            </a:solidFill>
            <a:miter/>
          </a:ln>
        </p:spPr>
      </p:pic>
      <p:sp>
        <p:nvSpPr>
          <p:cNvPr id="1854" name="Straight Connector 11"/>
          <p:cNvSpPr/>
          <p:nvPr/>
        </p:nvSpPr>
        <p:spPr>
          <a:xfrm flipH="1">
            <a:off x="937800" y="1974960"/>
            <a:ext cx="1567080" cy="368280"/>
          </a:xfrm>
          <a:prstGeom prst="line">
            <a:avLst/>
          </a:prstGeom>
          <a:ln w="1260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5" name="TextBox 16"/>
          <p:cNvSpPr/>
          <p:nvPr/>
        </p:nvSpPr>
        <p:spPr>
          <a:xfrm>
            <a:off x="6808680" y="1414440"/>
            <a:ext cx="1528920" cy="3112920"/>
          </a:xfrm>
          <a:prstGeom prst="rect">
            <a:avLst/>
          </a:prstGeom>
          <a:noFill/>
          <a:ln w="1260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b4b4b"/>
                </a:solidFill>
                <a:latin typeface="Arial"/>
              </a:rPr>
              <a:t>IPCs applied only once within family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23L 1/0522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23L 1/09 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23L 2/00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61K 47/14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61K 47/26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61K 47/36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61K 8/97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61Q 13/00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B01F 17/00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B01F 17/34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B01F 17/36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B01F 3/08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C08B 35/02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C08J 3/02 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C08L 3/06  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6" name="Down Arrow 22"/>
          <p:cNvSpPr/>
          <p:nvPr/>
        </p:nvSpPr>
        <p:spPr>
          <a:xfrm>
            <a:off x="1560600" y="4141800"/>
            <a:ext cx="1144440" cy="376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0800000"/>
          </a:gradFill>
          <a:ln w="93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7" name="Bent Arrow 33"/>
          <p:cNvSpPr/>
          <p:nvPr/>
        </p:nvSpPr>
        <p:spPr>
          <a:xfrm>
            <a:off x="5248440" y="3389400"/>
            <a:ext cx="1428480" cy="982440"/>
          </a:xfrm>
          <a:prstGeom prst="pi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93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HALLENGE  MEANS OPPORTUNITY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Missing  and invalid IPCs – value add by assigning front end classification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nconsistent classification 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DWPI Manual coding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DWPI patent family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onfusing Attributes - product  enhancement features eg  Inventive, non-inventive, generating office, version, etc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8:02:24Z</dcterms:created>
  <dc:creator>Ed White</dc:creator>
  <dc:description/>
  <cp:keywords>IPC</cp:keywords>
  <dc:language>en-US</dc:language>
  <cp:lastModifiedBy>Malanga</cp:lastModifiedBy>
  <dcterms:modified xsi:type="dcterms:W3CDTF">2013-02-25T13:54:57Z</dcterms:modified>
  <cp:revision>245</cp:revision>
  <dc:subject>IPC Workshop (2013) - Classification needs and first experiences with CPC</dc:subject>
  <dc:title>IPC Workshop (2013) - Classification needs and first experiences with CPC</dc:title>
</cp:coreProperties>
</file>