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100E-B4DF-44B9-85E9-2E7FBF1E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1B6-BF17-487A-B94F-7CA37C52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8AE1-65C5-46D9-8FBA-F074425F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139-C54B-4103-96CE-FA333BB0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2ACE-310A-40A4-9832-15C41B0F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F030-7839-485F-826D-7CB55705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5E23-3794-489F-A28D-EF601CC7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4B21-67F3-4B0E-A40B-3822DD43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6649-31FC-4088-8F91-882A0888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BCFB-0444-4B55-9432-142520D7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D2A1-90C9-40FE-A423-8123CC61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1FE-8B56-4115-B09A-415608D6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AFF3-5DF9-43AA-8E48-C3B94C27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2CC5-D918-4B80-BABD-3C285A1D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B2D5-1E69-4493-9B63-4D3FD4A6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E514-3E63-44D0-8C67-005F9A5E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2223-E481-4278-AEA0-68B41DD1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98C4-072A-4162-AB1B-C06E87B7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9F3C-CF2D-4F00-9150-919F49A9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080-4E25-4AFE-BDCD-3CCA4675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1A1-50AF-4F31-B7C7-6424FF7D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2705-9D81-413A-A738-68503C76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02E-CBEC-4ED0-A8DA-5166C9F2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0002-E81A-4D9C-9F66-7294A961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7308360" y="6584760"/>
            <a:ext cx="11509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0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7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"/>
          <p:cNvPicPr/>
          <p:nvPr/>
        </p:nvPicPr>
        <p:blipFill>
          <a:blip r:embed="rId3"/>
          <a:stretch/>
        </p:blipFill>
        <p:spPr>
          <a:xfrm>
            <a:off x="8540640" y="0"/>
            <a:ext cx="603360" cy="603360"/>
          </a:xfrm>
          <a:prstGeom prst="rect">
            <a:avLst/>
          </a:prstGeom>
          <a:ln w="0">
            <a:noFill/>
          </a:ln>
        </p:spPr>
      </p:pic>
      <p:sp>
        <p:nvSpPr>
          <p:cNvPr id="9" name="Rectangle 6"/>
          <p:cNvSpPr/>
          <p:nvPr/>
        </p:nvSpPr>
        <p:spPr>
          <a:xfrm>
            <a:off x="7086600" y="6521400"/>
            <a:ext cx="19051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EB76-53F9-4EC5-98F1-C5C802CE1861}" type="slidenum">
              <a:rPr b="1" lang="en-US" sz="1200" spc="-1" strike="noStrike">
                <a:solidFill>
                  <a:srgbClr val="273c56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"/>
          <p:cNvSpPr/>
          <p:nvPr/>
        </p:nvSpPr>
        <p:spPr>
          <a:xfrm>
            <a:off x="865656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7" name="Coloredframe"/>
          <p:cNvSpPr/>
          <p:nvPr/>
        </p:nvSpPr>
        <p:spPr>
          <a:xfrm>
            <a:off x="1208160" y="0"/>
            <a:ext cx="3538440" cy="58752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48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8491680" y="0"/>
            <a:ext cx="652320" cy="652320"/>
          </a:xfrm>
          <a:prstGeom prst="rect">
            <a:avLst/>
          </a:prstGeom>
          <a:ln w="0">
            <a:noFill/>
          </a:ln>
        </p:spPr>
      </p:pic>
      <p:sp>
        <p:nvSpPr>
          <p:cNvPr id="50" name="Coloredframe"/>
          <p:cNvSpPr/>
          <p:nvPr/>
        </p:nvSpPr>
        <p:spPr>
          <a:xfrm>
            <a:off x="4756320" y="0"/>
            <a:ext cx="3735360" cy="58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51" name="Picture 12" descr=""/>
          <p:cNvPicPr/>
          <p:nvPr/>
        </p:nvPicPr>
        <p:blipFill>
          <a:blip r:embed="rId4"/>
          <a:srcRect l="0" t="0" r="2625" b="0"/>
          <a:stretch/>
        </p:blipFill>
        <p:spPr>
          <a:xfrm>
            <a:off x="5224320" y="3413160"/>
            <a:ext cx="2211480" cy="11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5"/>
          <a:stretch/>
        </p:blipFill>
        <p:spPr>
          <a:xfrm>
            <a:off x="1582560" y="3252960"/>
            <a:ext cx="1527480" cy="1527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6"/>
          <a:srcRect l="0" t="42946" r="0" b="10737"/>
          <a:stretch/>
        </p:blipFill>
        <p:spPr>
          <a:xfrm>
            <a:off x="0" y="5618160"/>
            <a:ext cx="9144000" cy="1239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AAF8-3475-4892-ACFC-D72E2DA9F81A}" type="slidenum"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9"/>
          <p:cNvSpPr/>
          <p:nvPr/>
        </p:nvSpPr>
        <p:spPr>
          <a:xfrm>
            <a:off x="468360" y="2401920"/>
            <a:ext cx="804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325440" y="1252440"/>
            <a:ext cx="8572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575f"/>
                </a:solidFill>
                <a:latin typeface="Arial"/>
              </a:rPr>
              <a:t>IPC vs. CPC compared</a:t>
            </a:r>
            <a:endParaRPr b="1" lang="en-US" sz="36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575f"/>
                </a:solidFill>
                <a:latin typeface="Arial"/>
              </a:rPr>
              <a:t>Third IPC Workshop (WIPO)</a:t>
            </a:r>
            <a:endParaRPr b="1" lang="en-US" sz="2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85640" y="4889520"/>
            <a:ext cx="41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Roberto IASEVOLI, EPO</a:t>
            </a:r>
            <a:br>
              <a:rPr sz="1800"/>
            </a:b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CPC Implementation Group</a:t>
            </a: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6754680" y="5068800"/>
            <a:ext cx="21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25 February 2013</a:t>
            </a: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PC scheme layou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77720" y="1135080"/>
          <a:ext cx="8355240" cy="5238720"/>
        </p:xfrm>
        <a:graphic>
          <a:graphicData uri="http://schemas.openxmlformats.org/drawingml/2006/table">
            <a:tbl>
              <a:tblPr/>
              <a:tblGrid>
                <a:gridCol w="6411960"/>
                <a:gridCol w="1943280"/>
              </a:tblGrid>
              <a:tr h="860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ections A-H</a:t>
                      </a:r>
                      <a:endParaRPr b="1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ection Y</a:t>
                      </a:r>
                      <a:endParaRPr b="1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204280">
                <a:tc>
                  <a:txBody>
                    <a:bodyPr lIns="90000" rIns="90000" anchor="t">
                      <a:noAutofit/>
                    </a:bodyPr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ain trunk</a:t>
                      </a:r>
                      <a:endParaRPr b="1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647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ubclass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160 000 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ymbol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vention or additional inform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{...} used to distinguish CPC text from IPC on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ubclass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7 300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ymbol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cluding former USPC "XRAC's and digests"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tagging of emerging cross-sectional technologies 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dditional information onl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74040">
                <a:tc>
                  <a:txBody>
                    <a:bodyPr lIns="90000" rIns="90000" anchor="t">
                      <a:noAutofit/>
                    </a:bodyPr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dexing codes ─ 2000 series</a:t>
                      </a:r>
                      <a:endParaRPr b="1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82 000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ymbols 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former "breakdown" and "orthogonal" ICO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clude IPC indexing cod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dditional information onl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Y </a:t>
            </a:r>
            <a:r>
              <a:rPr b="1" i="1" lang="en-US" sz="2400" spc="-1" strike="noStrike">
                <a:solidFill>
                  <a:srgbClr val="404b56"/>
                </a:solidFill>
                <a:latin typeface="Arial"/>
              </a:rPr>
              <a:t>a.k.a.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 the 9th section of the schem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47640" y="1197000"/>
          <a:ext cx="7883640" cy="428796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09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2243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deas over a 9th section of the IPC, to cover emerging technologies, cross-sectional in the sense that the new schemes would span over many schemes of the A-H sections, was explored at the time "Nanotech" was discussed in the 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"Nanotech" was the trigger to have in ECLA the 9th section for tagging of emerging technologies</a:t>
                      </a:r>
                      <a:br>
                        <a:rPr sz="1600"/>
                      </a:br>
                      <a:br>
                        <a:rPr sz="1600"/>
                      </a:br>
                      <a:br>
                        <a:rPr sz="1600"/>
                      </a:br>
                      <a:br>
                        <a:rPr sz="1600"/>
                      </a:b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later Y01 (Nanotech) was moved to B82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173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the 9th section of the IPC could not be created because of the high IT impact on certain offic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Y section stays in CPC for tagging of emerging cross-sectional technologi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now includes also former 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USPC XRAC's and digest (Y10S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Definitions availability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47640" y="1023840"/>
          <a:ext cx="8148600" cy="5191200"/>
        </p:xfrm>
        <a:graphic>
          <a:graphicData uri="http://schemas.openxmlformats.org/drawingml/2006/table">
            <a:tbl>
              <a:tblPr/>
              <a:tblGrid>
                <a:gridCol w="4056120"/>
                <a:gridCol w="4092480"/>
              </a:tblGrid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ww.wipo.int/ipcpub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ww.cpcinfo.org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ww.uspto.gov/web/patents/classification/index.html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orldwide.espacenet.com/classific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13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efinitions are "one click away" next to the IPC symbol they relate to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efinitions are expected for all subclasses (except indexing schemes) and 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ain-groups, at least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efinitions are currently available as XML/PDF files at subclass level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116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marks their availability in the IPC pag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marks their availability in the espacenet pag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vailable also on USPTO classification resourc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plan to have all IPC subclasses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(except indexing ones) cover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urrently ~1/3 of the total is read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plan to have all of CPC subclasses (except indexing ones) and main-groups cover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ll ready by mid 2013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Definitions layou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47640" y="1197000"/>
          <a:ext cx="7883640" cy="173844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28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1410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 Template exists to structure information in the best wa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XML schema mirrors the Template structur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 Template exists which is almost identical to the IPC on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XML schema is compatible with the IPC on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What / where / how to classify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47640" y="1197000"/>
          <a:ext cx="7883640" cy="338148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857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the IPC Guide provides the required information on the proper usage of the 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the CPC Guide does not exist (yet)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but the CPC follows IPC Guide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"unless differently stated"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219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hat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: contribution over the prior art; other features interesting for search ...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here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: function-oriented vs. application-oriented places ...</a:t>
                      </a:r>
                      <a:br>
                        <a:rPr sz="1600"/>
                      </a:b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how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: invention vs. additional information; indexing schemes ...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hat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ontribution over the prior art; 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other features interesting for search ...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here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eflect IPC practice to a very large extent, unless differently stated in the CPC Definition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how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: invention vs. additional information; indexing schemes ...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Databas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47640" y="1197000"/>
          <a:ext cx="7883640" cy="350208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3171960"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C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the master database for the IPC, collecting allocations sent by all offices worldwid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CD is the authoritative source of the IPC classification data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t also generates reclassification working lists (RWL) for all offices at each IPC revis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-DB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 "dual master" database with synchronization, to ensure independence of operations of the two offices, while offering refreshed access to the shared allocation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-DB is the authoritative source of the CPC classification data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atabase "products" are not exported from CPC-DB but from the local databases, e.g. DOC-DB/XML is fed by DOC-DB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88880" y="5248440"/>
            <a:ext cx="8212320" cy="86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Dual master" databases with data synchronization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CPC-DB will be the authoritative source for CPC classification data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90440" y="2003400"/>
            <a:ext cx="8785440" cy="2692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PC database (CPC-DB)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llocation standard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47640" y="1197000"/>
          <a:ext cx="7883640" cy="95868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29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tandard 8 (ST8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based on ST8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439200"/>
            <a:ext cx="83883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llocation standard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Arial"/>
              </a:rPr>
              <a:t>—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 from the IPC ST8 ...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78800" cy="489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678800" cy="48960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5"/>
          <p:cNvSpPr/>
          <p:nvPr/>
        </p:nvSpPr>
        <p:spPr>
          <a:xfrm>
            <a:off x="7153200" y="3621240"/>
            <a:ext cx="1079640" cy="502920"/>
          </a:xfrm>
          <a:prstGeom prst="leftArrow">
            <a:avLst>
              <a:gd name="adj1" fmla="val 50000"/>
              <a:gd name="adj2" fmla="val 53669"/>
            </a:avLst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4932360" y="3860640"/>
            <a:ext cx="503280" cy="0"/>
          </a:xfrm>
          <a:prstGeom prst="line">
            <a:avLst/>
          </a:prstGeom>
          <a:ln w="50760">
            <a:solidFill>
              <a:srgbClr val="ab0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7151760" y="1449360"/>
            <a:ext cx="1079280" cy="503280"/>
          </a:xfrm>
          <a:prstGeom prst="leftArrow">
            <a:avLst>
              <a:gd name="adj1" fmla="val 50000"/>
              <a:gd name="adj2" fmla="val 53612"/>
            </a:avLst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5580000" y="1484280"/>
            <a:ext cx="6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362b"/>
                </a:solidFill>
                <a:latin typeface="Arial"/>
              </a:rPr>
              <a:t>, Y</a:t>
            </a:r>
            <a:endParaRPr b="1" lang="en-US" sz="20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4932360" y="5589720"/>
            <a:ext cx="1224000" cy="0"/>
          </a:xfrm>
          <a:prstGeom prst="line">
            <a:avLst/>
          </a:prstGeom>
          <a:ln w="50760">
            <a:solidFill>
              <a:srgbClr val="ab0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7129440" y="5353200"/>
            <a:ext cx="1079640" cy="502920"/>
          </a:xfrm>
          <a:prstGeom prst="leftArrow">
            <a:avLst>
              <a:gd name="adj1" fmla="val 50000"/>
              <a:gd name="adj2" fmla="val 53669"/>
            </a:avLst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7159680" y="4206960"/>
            <a:ext cx="1079280" cy="503280"/>
          </a:xfrm>
          <a:prstGeom prst="leftArrow">
            <a:avLst>
              <a:gd name="adj1" fmla="val 50000"/>
              <a:gd name="adj2" fmla="val 53612"/>
            </a:avLst>
          </a:prstGeom>
          <a:blipFill rotWithShape="0">
            <a:blip r:embed="rId6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078520" y="4457880"/>
            <a:ext cx="179280" cy="12600"/>
          </a:xfrm>
          <a:prstGeom prst="line">
            <a:avLst/>
          </a:prstGeom>
          <a:ln w="50760">
            <a:solidFill>
              <a:srgbClr val="ab0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5286240" y="42591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362b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llocation standard (cont'd)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Arial"/>
              </a:rPr>
              <a:t>—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... to the CPC on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788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Outline</a:t>
            </a: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4440" y="1125000"/>
            <a:ext cx="827100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Governance and operation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Documentation coverag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Scheme: availability and layout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Definitions: availability and layout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What / how / where to classify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Allocation standard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Revision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Questions &amp; Answer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Revisions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47640" y="1197000"/>
          <a:ext cx="7883640" cy="490860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29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925560"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yearly (ready 6 months in advance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orked out by the IPC/WG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up to monthly (ready 6 weeks in advance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orked out by the CPC EB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platform: IPC IEF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platform: CPC collaborative environment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3225600"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the following deliverables are expected: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cheme / Definition project chang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1" marL="7621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en français aussi !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RL (cross-reference list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ompilation of chang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1" marL="7621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tems from the two abov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CL (revision concordance list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WL (reclassification working lists) for all participating offic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I (Catchword Index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the following deliverables are expected: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cheme / Definition project chang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RL (cross-reference list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ompilation of chang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1" marL="7621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tems from the two abov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CL (revision concordance list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WL (reclassification working lists) for CPC offic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ICL (CPC-IPC concordance list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Questions &amp; Answers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ank you !!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55640" y="1197000"/>
          <a:ext cx="7670880" cy="4621320"/>
        </p:xfrm>
        <a:graphic>
          <a:graphicData uri="http://schemas.openxmlformats.org/drawingml/2006/table">
            <a:tbl>
              <a:tblPr/>
              <a:tblGrid>
                <a:gridCol w="635040"/>
                <a:gridCol w="3505320"/>
                <a:gridCol w="3530520"/>
              </a:tblGrid>
              <a:tr h="351720">
                <a:tc>
                  <a:txBody>
                    <a:bodyPr lIns="54000" rIns="54000" tIns="54000" bIns="54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48276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1971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trasbourg Agreement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201492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200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 Reform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"invention" vs. "additional" inform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"advanced" vs. "core" level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eclassified document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dditional layer of the IPC (Definitions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201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Oct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bilateral agreement EPO-USPTO for the launch of 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2011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implified IPC Reform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lassification in "full IPC" vs. "main-group only" instead of "advanced" vs. "core" level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History (cont'd)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55640" y="1197000"/>
          <a:ext cx="7670880" cy="3341520"/>
        </p:xfrm>
        <a:graphic>
          <a:graphicData uri="http://schemas.openxmlformats.org/drawingml/2006/table">
            <a:tbl>
              <a:tblPr/>
              <a:tblGrid>
                <a:gridCol w="635040"/>
                <a:gridCol w="3505320"/>
                <a:gridCol w="3530520"/>
              </a:tblGrid>
              <a:tr h="352440">
                <a:tc>
                  <a:txBody>
                    <a:bodyPr lIns="54000" rIns="54000" tIns="54000" bIns="54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59544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201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17th version of the IPC launch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1st version of the CPC launch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2013 Apr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next version of the CPC expect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2013 Ma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next version of the CPC expect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201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next version of the IPC expect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next version of the CPC expect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Governance and operations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25320" y="1197000"/>
          <a:ext cx="7905960" cy="3584520"/>
        </p:xfrm>
        <a:graphic>
          <a:graphicData uri="http://schemas.openxmlformats.org/drawingml/2006/table">
            <a:tbl>
              <a:tblPr/>
              <a:tblGrid>
                <a:gridCol w="4003920"/>
                <a:gridCol w="3902040"/>
              </a:tblGrid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 Union members, under the supervision of WIPO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EPO &amp; USPTO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operations are described in the CONOPS document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operations are described in the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 OPS document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ommittee of Experts (IPC/CE)</a:t>
                      </a:r>
                      <a:br>
                        <a:rPr sz="1600"/>
                      </a:br>
                      <a:br>
                        <a:rPr sz="1600"/>
                      </a:b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eetings are physically held yearly at WIPO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 Implementation Group (CPC IG) to hand over to CPC Joint Board (CPC JB) in operation phase (July 2013)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eetings are (physically or VICO) held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quarterly/monthl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Governance and operations (cont'd)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47640" y="1197000"/>
          <a:ext cx="7883640" cy="275904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 revisions are expected to take place yearl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 revisions are expected to take place up to monthl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evisions are worked out by the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evision Working Group (IPC/WG)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eetings are physically held twice a year at WIPO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evisions are worked out by the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Joint Editorial Board (EB)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eetings are (VICO) held weekl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Documentation coverag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47640" y="1197000"/>
          <a:ext cx="7883640" cy="217116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60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18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almost all of worldwide published patent documents after 1975 (entry in force of the Strasbourg Agreement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minimum PCT documentation available in EN, FR, DE (and NL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+ whole of US patent document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+ CPCNO allocations: EPO member states can send their allocations in CPC format, to retrieve them later in EPOQU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Scheme availability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47640" y="1197000"/>
          <a:ext cx="8069400" cy="1985760"/>
        </p:xfrm>
        <a:graphic>
          <a:graphicData uri="http://schemas.openxmlformats.org/drawingml/2006/table">
            <a:tbl>
              <a:tblPr/>
              <a:tblGrid>
                <a:gridCol w="4016520"/>
                <a:gridCol w="4052880"/>
              </a:tblGrid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1655640"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ww.wipo.int/ipcpub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ww.cpcinfo.org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 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ww.uspto.gov/web/patents/classification/index.html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 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orldwide.espacenet.com/classific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IPC scheme layou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77720" y="1135080"/>
          <a:ext cx="6411960" cy="5208480"/>
        </p:xfrm>
        <a:graphic>
          <a:graphicData uri="http://schemas.openxmlformats.org/drawingml/2006/table">
            <a:tbl>
              <a:tblPr/>
              <a:tblGrid>
                <a:gridCol w="64119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ections A-H</a:t>
                      </a:r>
                      <a:endParaRPr b="1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2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631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ubclass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71 000 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ymbol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vention or additional inform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</a:tr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dexing codes</a:t>
                      </a:r>
                      <a:endParaRPr b="1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dditional information onl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s a rule numbering starts at 101/00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3" marL="16765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but C07D main groups start at 201/00 ...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6:48:09Z</dcterms:created>
  <dc:creator>eb81195</dc:creator>
  <dc:description/>
  <cp:keywords>IPC</cp:keywords>
  <dc:language>en-US</dc:language>
  <cp:lastModifiedBy>Malanga</cp:lastModifiedBy>
  <dcterms:modified xsi:type="dcterms:W3CDTF">2013-02-25T13:53:19Z</dcterms:modified>
  <cp:revision>786</cp:revision>
  <dc:subject>IPC Workshop (2013) - IPC vs. CPC compared</dc:subject>
  <dc:title>IPC Workshop (2013) - IPC vs. CPC compared</dc:title>
</cp:coreProperties>
</file>