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05D4-7CE2-46AE-BACE-15D31E425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5F69-E10B-48CC-AF90-79A7C0C73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CB9F-1930-4E96-A920-EC7B49765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AEA-F0B2-4C2B-9C15-AD17F5502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333B-9D43-47FF-B6C5-535012F5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AFF1-1CFA-4232-93FF-E593AB6FC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6DA7-5F05-4FEE-A96F-5BC979623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2AB9-31D9-4C05-B36E-0801E4C02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5A92-9DAD-49BF-91B7-57CE7AA23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248F-4BD7-4F62-9CA7-39E3FD09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4DB4-93FF-405C-8A44-B1848B3BF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2188-6EAB-47D2-87CA-989FB9D01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D79-B11E-4A1D-84E2-950AC814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500280"/>
            <a:ext cx="7415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cent developments in the I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29360"/>
            <a:ext cx="2147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013360"/>
            <a:ext cx="305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Koichi Matsush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, W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81360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7000"/>
            <a:ext cx="5724360" cy="1512720"/>
          </a:xfrm>
          <a:prstGeom prst="wedgeRectCallout">
            <a:avLst>
              <a:gd name="adj1" fmla="val -60898"/>
              <a:gd name="adj2" fmla="val 38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   • Methods for producing synthetic speech;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7 • • Concept to speech synthesisers; Generation of natural phrases from machine-based concep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33 • • Voice ed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   • • Details of speech synthesi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7 • • • Architecture of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6   • Elementary speech units used in speech synthesisers;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7   • •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8   • Text analysis or generation of parameters for speech synthesis ou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10   • • Prosody rules derived from text; Stress or into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1844640"/>
            <a:ext cx="5364000" cy="2233800"/>
          </a:xfrm>
          <a:prstGeom prst="wedgeRectCallout">
            <a:avLst>
              <a:gd name="adj1" fmla="val -66277"/>
              <a:gd name="adj2" fmla="val -6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1 • Assessment or evaluation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2 • Feature extraction for speech recognition; Selection of recogni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4 • Segmentation; Word boundary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6 • Creation of reference templates; Training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8 • Speech classification or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0 • Speech recognition techniques specially adapted for robustness in adverse environ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2 • Procedures used during a speech recognit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4 • Speech recognition using non-acoustical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6 • Speech to tex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8 • Constructional details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2276640"/>
            <a:ext cx="4933800" cy="1800000"/>
          </a:xfrm>
          <a:prstGeom prst="wedgeRectCallout">
            <a:avLst>
              <a:gd name="adj1" fmla="val -72490"/>
              <a:gd name="adj2" fmla="val 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2 • Preprocessing operations, Pattern representation or mod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4 • Training, enrolment or model 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6 • Decision making techniques; Pattern match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8 • • Use of distortion metrics or a particular distance between probe pattern and referenc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0 • • Multimodal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2 • • Score norm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4 • • Use of phonemic categorisation or speech recognition prior to speaker recognition or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6 • Hidden Markov models [HMMs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8 • Artificial neural networks; Connectionist approa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0 • Pattern transformations or operations aimed at increasing system robus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2 • Interactive procedures; Man-machine 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852640"/>
            <a:ext cx="4356000" cy="1513080"/>
          </a:xfrm>
          <a:prstGeom prst="wedgeRectCallout">
            <a:avLst>
              <a:gd name="adj1" fmla="val -82143"/>
              <a:gd name="adj2" fmla="val 6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2 • Dynamic bit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5 • Correction of errors induced by the transmission channel, if related to the coding algorit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8 • Multichannel audio signal coding or decoding; stereophon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2 • Comfort noise or silence 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8 • Audio watermarking, i.e. embedding inaudible data in the au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2   • using spectral analysis, e.g. transform vocoders or subband voco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4   • using predictive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716280"/>
            <a:ext cx="4067280" cy="1297080"/>
          </a:xfrm>
          <a:prstGeom prst="wedgeRectCallout">
            <a:avLst>
              <a:gd name="adj1" fmla="val -70412"/>
              <a:gd name="adj2" fmla="val 14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03 • Changing voice quality, e.g. pitch or form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2   • Speech enhancement, e.g. noise reduction or echo cance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4   • Time compression or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6   • Transformation of speech into a non-audible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724280"/>
            <a:ext cx="3924360" cy="1944720"/>
          </a:xfrm>
          <a:prstGeom prst="wedgeRectCallout">
            <a:avLst>
              <a:gd name="adj1" fmla="val -74796"/>
              <a:gd name="adj2" fmla="val -27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03 • characterised by the type of extracted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27 • characterised by the analysis techn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5 • characterised by the type of analysis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8 • specially adapted for particula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5 • for modelling vocal tract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8 • Detection of presence or absence of voice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0 • Pitch determination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3 • Discriminating between voiced and unvoiced parts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69336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99D7-2406-465D-BB15-E3D442306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9C0D-AEA5-4F64-97B9-12174DE03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E70C-BC13-46A8-A22A-40A2E201C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8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7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subclass E05B (locks), 5 new main groups will b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060640"/>
            <a:ext cx="7777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B0EE-C613-4734-9254-4B023EE0A1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341360"/>
            <a:ext cx="5977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1628640"/>
            <a:ext cx="4464000" cy="2592360"/>
          </a:xfrm>
          <a:prstGeom prst="wedgeRectCallout">
            <a:avLst>
              <a:gd name="adj1" fmla="val -70699"/>
              <a:gd name="adj2" fmla="val -50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0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or accident situ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pecially controlled locking actions in case of open doors or in case of doors moved from an open to a closed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unctions related to actuation of locks from the passenger compartment of the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llowing simultaneous actuation of locking or unlocking elements and a hand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rotection against weather or di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Noise prevention; Anti-ratt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eans for damping the movement of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urglar preven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several wings simultaneou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one wing by shutting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utomatic securing or unlocking of bolts triggered by certain vehicle paramet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2781360"/>
            <a:ext cx="4284720" cy="792000"/>
          </a:xfrm>
          <a:prstGeom prst="wedgeRectCallout">
            <a:avLst>
              <a:gd name="adj1" fmla="val -66671"/>
              <a:gd name="adj2" fmla="val -4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Mounting of vehicle locks or parts ther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Connections between movable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7280" y="2997360"/>
            <a:ext cx="4176720" cy="1800000"/>
          </a:xfrm>
          <a:prstGeom prst="wedgeRectCallout">
            <a:avLst>
              <a:gd name="adj1" fmla="val -76000"/>
              <a:gd name="adj2" fmla="val -2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type of actuator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function or purpose of the powered actu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constructional features of the actuator or the power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neumatic or hydraulic circu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irc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9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anual override in case of power 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1640" y="4365720"/>
            <a:ext cx="4032360" cy="1368360"/>
          </a:xfrm>
          <a:prstGeom prst="wedgeRectCallout">
            <a:avLst>
              <a:gd name="adj1" fmla="val -82912"/>
              <a:gd name="adj2" fmla="val -48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railway freight-cars, freight containers or the like; Locks for the cargo compartments of commercial lorries, trucks or v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luggage compartments, car boot lids or car bon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2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glove compartments, console boxes, fuel inlet covers or the l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passenger or like do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1280" y="5300640"/>
            <a:ext cx="3673440" cy="1368360"/>
          </a:xfrm>
          <a:prstGeom prst="wedgeRectCallout">
            <a:avLst>
              <a:gd name="adj1" fmla="val -78175"/>
              <a:gd name="adj2" fmla="val -2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as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tri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ylinder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ill-buttons, garnish buttons or inner door lock kn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Hand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olts or de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777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82AF-A303-4515-AA85-5E320EE6BB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7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H02S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089080"/>
            <a:ext cx="78487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628640"/>
            <a:ext cx="80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ain groups will b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355920"/>
            <a:ext cx="7848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385A-6D7A-4C0E-AFE7-2174823FF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 (cont.)</a:t>
            </a: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771560"/>
            <a:ext cx="784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2421000"/>
            <a:ext cx="4248360" cy="863640"/>
          </a:xfrm>
          <a:prstGeom prst="wedgeRectCallout">
            <a:avLst>
              <a:gd name="adj1" fmla="val -67115"/>
              <a:gd name="adj2" fmla="val 42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including a supplementary source of electric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Hybrid wind-PV energy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ystems characterised by their energy storage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ophotovolta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obile PV generator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068640"/>
            <a:ext cx="4392360" cy="1655640"/>
          </a:xfrm>
          <a:prstGeom prst="wedgeRectCallout">
            <a:avLst>
              <a:gd name="adj1" fmla="val -64421"/>
              <a:gd name="adj2" fmla="val -11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the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an immovable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moto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buil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specially adapted for roof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specially adapted for flat roo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Roof tile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Building materials integr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being movable or adju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solar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4292640"/>
            <a:ext cx="4392360" cy="431640"/>
          </a:xfrm>
          <a:prstGeom prst="wedgeRectCallout">
            <a:avLst>
              <a:gd name="adj1" fmla="val -61240"/>
              <a:gd name="adj2" fmla="val -56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rame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ollapsible or foldabl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508640"/>
            <a:ext cx="4572000" cy="1871640"/>
          </a:xfrm>
          <a:prstGeom prst="wedgeRectCallout">
            <a:avLst>
              <a:gd name="adj1" fmla="val -66634"/>
              <a:gd name="adj2" fmla="val -3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leaning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for removing s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Opt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Light-reflecting or light-concentrating me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DC/AC inverter means associated with the PV module it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specially adapted electrical connection means to be structurally associated with the PV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haracterised by special electrical interconnection means between two or mor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Energy storage means, e.g. batteries, structurally associ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al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o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to utilise heat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6091200"/>
            <a:ext cx="3816360" cy="433440"/>
          </a:xfrm>
          <a:prstGeom prst="wedgeRectCallout">
            <a:avLst>
              <a:gd name="adj1" fmla="val -67972"/>
              <a:gd name="adj2" fmla="val -18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esting of PV de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using optical means, e.g. using electrolumin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0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4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B0A4-D47E-4493-9B41-23FF85859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Trend in IPC revision (2010-2014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4720" y="1007280"/>
            <a:ext cx="8675640" cy="5853960"/>
            <a:chOff x="504720" y="1007280"/>
            <a:chExt cx="8675640" cy="585396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504720" y="1162080"/>
              <a:ext cx="8675640" cy="56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250040" y="100728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grou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8880" y="576036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8640" y="63334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5183280" cy="19018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6542-862B-4934-A6DF-EC4C0B08CD6E}" type="slidenum">
              <a:t>17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CB51-0376-41B4-8C63-597081CE00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2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1324080"/>
            <a:ext cx="8424720" cy="38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9760-C91E-4934-B9C6-A1B7CF6A6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280360" cy="39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F692-27CB-4819-82BA-FECD6E058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351640" cy="40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1115-61D9-4229-BDEF-CBD05304F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1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G04R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main groups had been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422440"/>
            <a:ext cx="8135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997360"/>
            <a:ext cx="64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27AC-C586-44CE-9450-680B9574D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16280"/>
            <a:ext cx="532764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5080" y="2276640"/>
            <a:ext cx="4464000" cy="2519280"/>
          </a:xfrm>
          <a:prstGeom prst="wedgeRectCallout">
            <a:avLst>
              <a:gd name="adj1" fmla="val -61273"/>
              <a:gd name="adj2" fmla="val -18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2 • the radio signal being sent by a satellite, e.g. 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4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6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8 • the radio signal being broadcast from a long-wave call 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0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2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4 • the radio signal being a telecommunication standard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6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8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0 • the radio signal being an AM/FM standard signal, e.g. 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2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4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6 • the radio signal being a near-field communication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8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30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724280"/>
            <a:ext cx="4319280" cy="649440"/>
          </a:xfrm>
          <a:prstGeom prst="wedgeRectCallout">
            <a:avLst>
              <a:gd name="adj1" fmla="val -54226"/>
              <a:gd name="adj2" fmla="val -98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2 • by phase lo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4 • by detecting the radio signal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6 • by computing the time value implied by the ra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5372280"/>
            <a:ext cx="4608360" cy="1152360"/>
          </a:xfrm>
          <a:prstGeom prst="wedgeRectCallout">
            <a:avLst>
              <a:gd name="adj1" fmla="val -59162"/>
              <a:gd name="adj2" fmla="val -7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2 • Antennas also serving as components of clocks or wa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4 • Antennas attached to or integrated in watch bracel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6 • Antennas attached to or integrated in clock or watch 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8 • • inside bez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0 • • insid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2 • • • inside metal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4 • specific to electromechanical timepie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3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BCA6-C22E-4865-8832-849BDB5A88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4 (IPC-2013.01)</a:t>
            </a:r>
            <a:br>
              <a:rPr sz="24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main group G06F 21/00, 5 one dot groups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058840"/>
            <a:ext cx="77756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6040" indent="-13460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6F 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855880"/>
            <a:ext cx="7199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A83E-0C97-44F6-A99C-2FACA689C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616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30440"/>
            <a:ext cx="719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440" y="2421000"/>
            <a:ext cx="5759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6360" y="2276640"/>
            <a:ext cx="3887640" cy="645840"/>
          </a:xfrm>
          <a:prstGeom prst="wedgeRectCallout">
            <a:avLst>
              <a:gd name="adj1" fmla="val -69314"/>
              <a:gd name="adj2" fmla="val 22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2 • • Protecting executable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4 • • • against software analysis or reverse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6 • • Program or content 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852640"/>
            <a:ext cx="4067280" cy="2232000"/>
          </a:xfrm>
          <a:prstGeom prst="wedgeRectCallout">
            <a:avLst>
              <a:gd name="adj1" fmla="val -84037"/>
              <a:gd name="adj2" fmla="val -3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1 • • Us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2 • • • using biometric data, e.g. fingerprints, iris scans or voice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3 • • • using certif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4 • • • involving the use of external additional devices, e.g. dongles or smar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5 • • • • communicating wireles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6 • • • by graphic or iconic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0 • • • by quorum, i.e. whereby two or more security principals are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1 • • • where a single sign-on provides access to a plurality of comp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2 • • • using separate channels for security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3 • • • • wireless cha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4 • • Program or device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5 • • Structures or tools for the administration of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6 • • • by designing passwords or checking the strength of pass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4076640"/>
            <a:ext cx="4356000" cy="1152720"/>
          </a:xfrm>
          <a:prstGeom prst="wedgeRectCallout">
            <a:avLst>
              <a:gd name="adj1" fmla="val -78499"/>
              <a:gd name="adj2" fmla="val -39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1 • • at application load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2 • • during program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3 • • • by executing in a restricted environment, e.g. sandbox or secure virtual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4 • • • by adding security routines or objects to 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5 • • Detecting local intrusion or implementing counter-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6 • • • Computer malware detection or handling, e.g. anti-virus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7 • • Certifying or maintaining trusted computer plat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4795920"/>
            <a:ext cx="3384720" cy="433440"/>
          </a:xfrm>
          <a:prstGeom prst="wedgeRectCallout">
            <a:avLst>
              <a:gd name="adj1" fmla="val -103939"/>
              <a:gd name="adj2" fmla="val -70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2 • • Protecting access to data via a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4 • • Protecting data integ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202360"/>
            <a:ext cx="4140360" cy="1655640"/>
          </a:xfrm>
          <a:prstGeom prst="wedgeRectCallout">
            <a:avLst>
              <a:gd name="adj1" fmla="val -67712"/>
              <a:gd name="adj2" fmla="val -27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1 • • to assure secure computing or processing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8 • • to assure secure storage of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1 • • by operating on th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2 • • Protecting input, output or interconnectio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6 • • Secure or tamper-resistant hous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8 • • Detecting or preventing theft o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408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5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3D64-6E31-4886-8607-FCEB434CF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4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, Speech recogni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484280"/>
            <a:ext cx="78472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6780-A051-4059-A742-DC75F1ABD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Malanga</cp:lastModifiedBy>
  <dcterms:modified xsi:type="dcterms:W3CDTF">2013-02-25T18:50:40Z</dcterms:modified>
  <cp:revision>66</cp:revision>
  <dc:subject>IPC Workshop (2013) - Recent developments in the IPC</dc:subject>
  <dc:title>IPC Workshop (2013) - Recent developments in the IPC</dc:title>
</cp:coreProperties>
</file>