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5190-D690-4C38-934C-B28333D3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D866-A402-4E9A-B7F7-98C3FF73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E858-7F99-4FA2-95AE-3B2ACAC5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E191-23FF-4430-8C5A-53577F9A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898B-E7A9-435E-86B2-D39EAF02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3E72-4DB6-4886-AD57-D37A3AC8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B834-B9B7-4126-A331-C4D709A3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2432-A192-4673-94A7-587B6F63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A903-CFC6-4F52-954D-B1EAE03F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F57B-56B5-437C-AB47-A4B629E4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8469-78DC-4541-B769-D9D0E9B2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831B-3CF9-4263-8F1A-C45BE586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9716-FA4F-4193-9AEA-C025E855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BF84-9882-4200-BD7C-D289BA38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0C4B-FCD2-4BB7-A6E1-6A5535E6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E9DF-0A39-4DC3-BE36-15FC7376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C284-025D-4C01-AB95-077ECB89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7E2B-53B9-41B6-9754-D8B1D413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3FCD-2A9D-448D-9552-E1906D92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0503-85D4-4230-8CE7-9CD3B0C5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2A38-32EE-4F97-94D7-28287FBA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818C-047B-4BCF-AF70-49198199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5B52-F06F-4809-9E2B-21B92A80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A47F-4109-4409-B0DB-77AD5EAE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24CA-6E24-4CDA-B822-BA645C1517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40BF-7109-43C1-9306-E2036D6B51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tent Classifications as ‘Knowledge’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…towards a more conscious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auto)categorization of pat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canum Developmen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581280" y="1219320"/>
            <a:ext cx="5105520" cy="49845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fferences in examiner’s 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43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there are references in IPC, patent examiners may assign them different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s mark overlapping subject matter are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class level, frequency of references in IPC is simila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differences between selecte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rst symbol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rereform practice, simulate preclassif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315200" y="5029200"/>
            <a:ext cx="990720" cy="838080"/>
          </a:xfrm>
          <a:prstGeom prst="ellipse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29000" y="2743200"/>
            <a:ext cx="1676520" cy="3808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81480" y="1143000"/>
            <a:ext cx="304920" cy="1600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05520" y="2666880"/>
            <a:ext cx="380880" cy="45720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05320" y="1600200"/>
            <a:ext cx="4724280" cy="228600"/>
          </a:xfrm>
          <a:prstGeom prst="ellipse">
            <a:avLst/>
          </a:prstGeom>
          <a:noFill/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86200" y="1143000"/>
            <a:ext cx="304920" cy="4648320"/>
          </a:xfrm>
          <a:prstGeom prst="ellipse">
            <a:avLst/>
          </a:prstGeom>
          <a:noFill/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05320" y="4495680"/>
            <a:ext cx="3657600" cy="228600"/>
          </a:xfrm>
          <a:prstGeom prst="ellipse">
            <a:avLst/>
          </a:prstGeom>
          <a:noFill/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34320" y="1143000"/>
            <a:ext cx="228600" cy="3505320"/>
          </a:xfrm>
          <a:prstGeom prst="ellipse">
            <a:avLst/>
          </a:prstGeom>
          <a:noFill/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638680" y="3276720"/>
            <a:ext cx="457200" cy="457200"/>
          </a:xfrm>
          <a:prstGeom prst="ellipse">
            <a:avLst/>
          </a:prstGeom>
          <a:noFill/>
          <a:ln w="22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3276720"/>
            <a:ext cx="152280" cy="457200"/>
          </a:xfrm>
          <a:prstGeom prst="ellipse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15000" y="1600200"/>
            <a:ext cx="380880" cy="228600"/>
          </a:xfrm>
          <a:prstGeom prst="ellipse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038480" y="3733920"/>
            <a:ext cx="1447920" cy="380880"/>
          </a:xfrm>
          <a:prstGeom prst="wedgeRoundRectCallout">
            <a:avLst>
              <a:gd name="adj1" fmla="val -43638"/>
              <a:gd name="adj2" fmla="val -80833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61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s C07 and C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486400" y="4114800"/>
            <a:ext cx="838080" cy="228600"/>
          </a:xfrm>
          <a:prstGeom prst="wedgeRoundRectCallout">
            <a:avLst>
              <a:gd name="adj1" fmla="val -14203"/>
              <a:gd name="adj2" fmla="val -211111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07-C12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191120" y="4876920"/>
            <a:ext cx="838080" cy="228600"/>
          </a:xfrm>
          <a:prstGeom prst="wedgeRoundRectCallout">
            <a:avLst>
              <a:gd name="adj1" fmla="val -26134"/>
              <a:gd name="adj2" fmla="val -130555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16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48520" y="5486400"/>
            <a:ext cx="838080" cy="228600"/>
          </a:xfrm>
          <a:prstGeom prst="wedgeRoundRectCallout">
            <a:avLst>
              <a:gd name="adj1" fmla="val 75569"/>
              <a:gd name="adj2" fmla="val -142361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-H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2286000"/>
            <a:ext cx="838080" cy="228600"/>
          </a:xfrm>
          <a:prstGeom prst="wedgeRoundRectCallout">
            <a:avLst>
              <a:gd name="adj1" fmla="val -17615"/>
              <a:gd name="adj2" fmla="val 153472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65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67080" y="1295280"/>
            <a:ext cx="838440" cy="228600"/>
          </a:xfrm>
          <a:prstGeom prst="wedgeRoundRectCallout">
            <a:avLst>
              <a:gd name="adj1" fmla="val -60606"/>
              <a:gd name="adj2" fmla="val 81944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47,A61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62720" y="2590920"/>
            <a:ext cx="838080" cy="228600"/>
          </a:xfrm>
          <a:prstGeom prst="wedgeRoundRectCallout">
            <a:avLst>
              <a:gd name="adj1" fmla="val -59467"/>
              <a:gd name="adj2" fmla="val 96527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60-B65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3581280" y="1228680"/>
            <a:ext cx="5105520" cy="50958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fusion of autocategoriz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43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there are references in IPC, autocategorizers fail more frequent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 symbol” may be selected different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class level, frequency of references in IPC is simila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differences between selecte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rst symb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an autocategorizer (2002 data, to simulate preclassif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315200" y="5029200"/>
            <a:ext cx="990720" cy="838080"/>
          </a:xfrm>
          <a:prstGeom prst="ellipse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29000" y="2743200"/>
            <a:ext cx="1676520" cy="3808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81480" y="1143000"/>
            <a:ext cx="304920" cy="1600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105520" y="2666880"/>
            <a:ext cx="380880" cy="45720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505320" y="1600200"/>
            <a:ext cx="4724280" cy="228600"/>
          </a:xfrm>
          <a:prstGeom prst="ellipse">
            <a:avLst/>
          </a:prstGeom>
          <a:noFill/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1143000"/>
            <a:ext cx="304920" cy="4648320"/>
          </a:xfrm>
          <a:prstGeom prst="ellipse">
            <a:avLst/>
          </a:prstGeom>
          <a:noFill/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505320" y="4495680"/>
            <a:ext cx="3657600" cy="228600"/>
          </a:xfrm>
          <a:prstGeom prst="ellipse">
            <a:avLst/>
          </a:prstGeom>
          <a:noFill/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934320" y="1143000"/>
            <a:ext cx="228600" cy="3505320"/>
          </a:xfrm>
          <a:prstGeom prst="ellipse">
            <a:avLst/>
          </a:prstGeom>
          <a:noFill/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38680" y="3276720"/>
            <a:ext cx="457200" cy="457200"/>
          </a:xfrm>
          <a:prstGeom prst="ellipse">
            <a:avLst/>
          </a:prstGeom>
          <a:noFill/>
          <a:ln w="22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962520" y="3276720"/>
            <a:ext cx="152280" cy="457200"/>
          </a:xfrm>
          <a:prstGeom prst="ellipse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1600200"/>
            <a:ext cx="380880" cy="228600"/>
          </a:xfrm>
          <a:prstGeom prst="ellipse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38480" y="3733920"/>
            <a:ext cx="1447920" cy="380880"/>
          </a:xfrm>
          <a:prstGeom prst="wedgeRoundRectCallout">
            <a:avLst>
              <a:gd name="adj1" fmla="val -43638"/>
              <a:gd name="adj2" fmla="val -80833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61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s C07 and C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86400" y="4114800"/>
            <a:ext cx="838080" cy="228600"/>
          </a:xfrm>
          <a:prstGeom prst="wedgeRoundRectCallout">
            <a:avLst>
              <a:gd name="adj1" fmla="val -14203"/>
              <a:gd name="adj2" fmla="val -211111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07-C12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191120" y="4876920"/>
            <a:ext cx="838080" cy="228600"/>
          </a:xfrm>
          <a:prstGeom prst="wedgeRoundRectCallout">
            <a:avLst>
              <a:gd name="adj1" fmla="val -26134"/>
              <a:gd name="adj2" fmla="val -130555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16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248520" y="5486400"/>
            <a:ext cx="838080" cy="228600"/>
          </a:xfrm>
          <a:prstGeom prst="wedgeRoundRectCallout">
            <a:avLst>
              <a:gd name="adj1" fmla="val 75569"/>
              <a:gd name="adj2" fmla="val -142361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-H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429000" y="2286000"/>
            <a:ext cx="838080" cy="228600"/>
          </a:xfrm>
          <a:prstGeom prst="wedgeRoundRectCallout">
            <a:avLst>
              <a:gd name="adj1" fmla="val -17615"/>
              <a:gd name="adj2" fmla="val 153472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65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67080" y="1295280"/>
            <a:ext cx="838440" cy="228600"/>
          </a:xfrm>
          <a:prstGeom prst="wedgeRoundRectCallout">
            <a:avLst>
              <a:gd name="adj1" fmla="val -60606"/>
              <a:gd name="adj2" fmla="val 81944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47,A61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562720" y="2590920"/>
            <a:ext cx="838080" cy="228600"/>
          </a:xfrm>
          <a:prstGeom prst="wedgeRoundRectCallout">
            <a:avLst>
              <a:gd name="adj1" fmla="val -59467"/>
              <a:gd name="adj2" fmla="val 96527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60-B65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ence statistics in I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class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 classification dif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classification autocategorization e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 similar characteristic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higher levels of I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may be even more important on lower levels, having there more complex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an easier access to the rules maybe welcome both by human and machine categor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sentation of IPCInf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nalysis and data preparation was performed as in-house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ng relevant relation types (about 15 main relations and further ~20) (excerpts belo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sing IPC scheme, definitions, catchwords and R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ing relation graph in RDBM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&gt;1.5 m rela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ult is presented on a user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rtible to RDF or OWL for further u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ent taxonomy relations, s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Old English Text MT"/>
              </a:rPr>
              <a:t>referenc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transitive!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01B 1/00 Hand tools (edge trimmers for lawns A01G 3/06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01G 3/06 Hand-held edge trimmers or shears for lawns (mowers combined with lawn edgers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01D 43/1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Old English Text MT"/>
              </a:rPr>
              <a:t>precedence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over 600 transitive cases, e.g A61M 3/00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61M 5/00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61M 36/00 [in definitions!]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01B 3/24 Tractor-drawn ploughs (A01B 3/04 takes precedence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01B 3/04 Animal-drawn plough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Old English Text MT"/>
              </a:rPr>
              <a:t>limiting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01N PRESERVATION OF BODIES…; BIOCIDES, e.g. AS DISINFECTANTS, AS PESTICIDES OR AS HERBICIDES; … 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 Definitions for A01N subclas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gicidal, bactericidal, insecticidal, disinfecting or antiseptic paper D21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ent taxonomy relations, s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ld English Text MT"/>
              </a:rPr>
              <a:t>indexing 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uidance heading before A61K 101/00</a:t>
            </a:r>
            <a:br>
              <a:rPr sz="1600"/>
            </a:br>
            <a:br>
              <a:rPr sz="12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dexing scheme associated with group A61K 51/00, relating to the nature of the radioactive substanc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ld English Text MT"/>
              </a:rPr>
              <a:t>placerule 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 before A01N 25/00, even specifying an exception…</a:t>
            </a:r>
            <a:br>
              <a:rPr sz="1600"/>
            </a:br>
            <a:br>
              <a:rPr sz="12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groups A01N 27/00-A01N 65/00,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in the absence of an indication to the contra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an active ingredient is classified in the last appropriate place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ld English Text MT"/>
              </a:rPr>
              <a:t>priorities (standardseq)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main groups in IPC where no place rule is appli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ld English Text MT"/>
              </a:rPr>
              <a:t>cooccurrence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.g. in catchwords: also the text of IPC mentions the reference</a:t>
            </a:r>
            <a:br>
              <a:rPr sz="1600"/>
            </a:br>
            <a:br>
              <a:rPr sz="12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DITIONING harvested crops A01D 43/10, A01D 82/0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01D 43/10 with means for crushing or bruising the mown crop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01D 82/00 Crop conditioners, i.e. machines for crushing or bruising stalks (mowers combined with means for crushing or bruising the mown crop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01D 43/1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sentation of IPCInfo /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00092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55670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keep reading if interest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al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mathematical no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ed for audience not familiar with I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‘patent’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uto)categorization tas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r multiclass hierarchic categorization t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n a hierarchic taxonomy (a patent classification) with categ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n a set of training documents, each associated to multiple categori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or…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xpert knowing both state of the art of the field and the taxon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a document, provide a list of potential categories (preferably with relevan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egorization level may be fixed (preclassification) or fu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usual hierarchic categorization task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a hierarchic taxonomy (classification syste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a list of taxonomy nodes (classification symbols) for a document that best match the subject matter of the taxonomy 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t” is based o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perts: understanding the subject matt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computers: providing the hierarchy, and training with sample categorized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patent classification task is somewhat more complicate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41911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nd considering classification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72200" y="481176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and the rules?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‘patent’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uto)categorization task, but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lly a regular multiclass hierarchic categorization task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xonomy: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defini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(manuals or handbooks) and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revis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and therefor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nown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lation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between categories (rules of classification, e.g. last place rule, takes preceden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ondary categori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non-primary categories (indexing codes, ‘not used as first symbol’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tegories excluded for ‘final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tegorization (top levels of the hierarchy) but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quired in preclassificatio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where secondary categories cannot be us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cu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tain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tadat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priorities, inventor, applican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arious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fields”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title, abstract, description, claim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fields are subject of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pendent categorizatio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claims)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fields may be use just globally (abstract, descriptio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nges: subject matter of a symbol, classification rules and procedu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vided categories may require revisions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xonomy can be revise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 regular intervals or immediatel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.g. there is no more ‘main classification symbol’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lassification may help to reduce the scope but requires handling failu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ations: Hierarchic taxono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onomy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egory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category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⊗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∉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 function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⋃</a:t>
            </a:r>
            <a:r>
              <a:rPr b="0" i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⊗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unction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ing a non-directed tre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cestors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⋃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⊗, transitive closure of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 function (subcategories)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endants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transitive closure of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ts of taxonomy (‘sections’)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 Unicode MS"/>
                <a:ea typeface="Arial Unicode MS"/>
              </a:rPr>
              <a:t>⊗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⊂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,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⊗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= {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∊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|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(r)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⊗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ations: Patent taxono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vel of category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e.g. ‘subclass’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ying category level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⊂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ying category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⊂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br>
              <a:rPr sz="2400"/>
            </a:b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l-GR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{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∊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(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∊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on-classifying category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‾ ⊂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‾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∖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Category symbol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↔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$</a:t>
            </a:r>
            <a:r>
              <a:rPr b="0" i="1" lang="en-US" sz="2400" spc="-1" strike="noStrike">
                <a:solidFill>
                  <a:srgbClr val="ffffff"/>
                </a:solidFill>
                <a:latin typeface="Brush Script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ands for str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Category sort relation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 &lt;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⇔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) &lt;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s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applicable 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Unicode MS"/>
                <a:ea typeface="Arial Unicode MS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egory interval: [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= {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∈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≤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∧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≤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su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descendants form a contiguous interval, i.e.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∀ 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∈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[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)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)]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∈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219320" y="3657600"/>
            <a:ext cx="57909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ations: category rel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on types: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</a:rPr>
              <a:t>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→ (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℘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)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∪</a:t>
            </a:r>
            <a:r>
              <a:rPr b="0" i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⊗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relations in a taxonomy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Old English Text M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⊂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☓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☓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  <a:ea typeface="Arial Unicode MS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All relations for a category: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  <a:ea typeface="Arial Unicode MS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Unicode MS"/>
                <a:ea typeface="Arial Unicode MS"/>
              </a:rPr>
              <a:t>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→ (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</a:rPr>
              <a:t>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vious relation types in hierarchies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{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</a:rPr>
              <a:t>par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</a:rPr>
              <a:t>chi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</a:rPr>
              <a:t>ancest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</a:rPr>
              <a:t>descendan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⊂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  <a:ea typeface="Arial Unicode MS"/>
              </a:rPr>
              <a:t>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defined as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</a:rPr>
              <a:t>par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≈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</a:rPr>
              <a:t>chi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≈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Further obvious relation: sibling (s), as child of parent (c)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  <a:ea typeface="Arial Unicode MS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Old English Text M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Interval and set relations: union of the single-category form, e.g.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  <a:ea typeface="Arial Unicode MS"/>
              </a:rPr>
              <a:t>descend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({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 Unicode MS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,[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 Unicode MS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,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 Unicode MS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]}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result abbreviated as an interval or set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Old English Text MT"/>
              </a:rPr>
              <a:t>descend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) = [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)),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))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1600200" y="3733920"/>
                <a:ext cx="46022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bling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∈</m:t>
                                  </m:r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⊗</m:t>
                                      </m:r>
                                    </m:sub>
                                  </m:sSub>
                                  <m:r>
                                    <m:t xml:space="preserve">|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c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c</m:t>
                              </m:r>
                              <m:r>
                                <m:t xml:space="preserve">∈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⊗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c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c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|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c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c</m:t>
                              </m:r>
                              <m:r>
                                <m:t xml:space="preserve">∉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⊗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ent taxonomy relation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single ver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rtable re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</a:t>
            </a:r>
            <a:r>
              <a:rPr b="0" lang="en-US" sz="2400" spc="-1" strike="noStrike">
                <a:solidFill>
                  <a:srgbClr val="ffffff"/>
                </a:solidFill>
                <a:latin typeface="Old English Text MT"/>
              </a:rPr>
              <a:t>refer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tegory ‘refers’ to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s </a:t>
            </a:r>
            <a:r>
              <a:rPr b="0" lang="en-US" sz="2400" spc="-1" strike="noStrike">
                <a:solidFill>
                  <a:srgbClr val="ffffff"/>
                </a:solidFill>
                <a:latin typeface="Old English Text MT"/>
              </a:rPr>
              <a:t>preced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’ re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Old English Tex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ld English Text MT"/>
              </a:rPr>
              <a:t>limi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ferences, very similar to </a:t>
            </a:r>
            <a:r>
              <a:rPr b="0" lang="en-US" sz="2400" spc="-1" strike="noStrike">
                <a:solidFill>
                  <a:srgbClr val="ffffff"/>
                </a:solidFill>
                <a:latin typeface="Old English Text MT"/>
              </a:rPr>
              <a:t>prece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ed </a:t>
            </a:r>
            <a:r>
              <a:rPr b="0" lang="en-US" sz="2400" spc="-1" strike="noStrike">
                <a:solidFill>
                  <a:srgbClr val="ffffff"/>
                </a:solidFill>
                <a:latin typeface="Old English Text MT"/>
              </a:rPr>
              <a:t>index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ymbols on an inter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cedence relations on sibl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Old English Tex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ld English Text MT"/>
              </a:rPr>
              <a:t>placeru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irst place rule or last place r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Old English Tex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ld English Text MT"/>
              </a:rPr>
              <a:t>prior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siblings prioritized by ‘standardized sequence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</a:rPr>
              <a:t>cooccurr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references (commutativ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ent taxonomy relations, s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Old English Text MT"/>
              </a:rPr>
              <a:t>referenc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ay refer further!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01B 1/00 Hand tools (edge trimmers for lawns A01G 3/06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01G 3/06 Hand-held edge trimmers or shears for lawns (mowers combined with lawn edgers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01D 43/1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Old English Text MT"/>
              </a:rPr>
              <a:t>precedence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01B 3/24 Tractor-drawn ploughs (A01B 3/04 takes precedence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01B 3/04 Animal-drawn plough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Old English Text MT"/>
              </a:rPr>
              <a:t>limiting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01N PRESERVATION OF BODIES…; BIOCIDES, e.g. AS DISINFECTANTS, AS PESTICIDES OR AS HERBICIDES; … 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 Definitions for A01N subclas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gicidal, bactericidal, insecticidal, disinfecting or antiseptic paper D21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ent taxonomy relations, s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ld English Text MT"/>
              </a:rPr>
              <a:t>indexing 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uidance heading before A61K 101/00</a:t>
            </a:r>
            <a:br>
              <a:rPr sz="1600"/>
            </a:br>
            <a:br>
              <a:rPr sz="12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dexing scheme associated with group A61K 51/00, relating to the nature of the radioactive substanc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ld English Text MT"/>
              </a:rPr>
              <a:t>placerule 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 before A01N 25/00, even specifying an exception…</a:t>
            </a:r>
            <a:br>
              <a:rPr sz="1600"/>
            </a:br>
            <a:br>
              <a:rPr sz="12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groups A01N 27/00-A01N 65/00,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in the absence of an indication to the contra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an active ingredient is classified in the last appropriate place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ld English Text MT"/>
              </a:rPr>
              <a:t>priorities (stand.seq.)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in groups in IPC where no place rule is appli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ld English Text MT"/>
              </a:rPr>
              <a:t>cooccurrence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catchwords: also the text of IPC mentions the reference</a:t>
            </a:r>
            <a:br>
              <a:rPr sz="1600"/>
            </a:br>
            <a:br>
              <a:rPr sz="12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DITIONING harvested crops A01D 43/10, A01D 82/0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01D 43/10 with means for crushing or bruising the mown crop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01D 82/00 Crop conditioners, i.e. machines for crushing or bruising stalks (mowers combined with means for crushing or bruising the mown crop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01D 43/1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ent taxonomy relations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ltiple vers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ent taxonomies change in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ormer category (or a set) may b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ransferred 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single or a set of new categories or, it is recognized that the subject matter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vered 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single or set of existing categ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newer version, all the categories which are associated to a single or a set of former categories, are in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</a:rPr>
              <a:t>concorda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</a:rPr>
              <a:t>concorda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ation may be computed by transitive traversing category changes over multiple ver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ent taxonomy relations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ordance relation s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11: B24B 49/00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suring or gauging equipment for controlling the feed movement of the grinding tool or work; Arrangements of indicating or measuring equipment, e.g. for indicating the start of the grinding opera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12: B24B 49/00 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B24B 37/005 - 37/015, B24B 49/00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24B 37/005 . Control means for lapping machines or device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24B 37/013 . . Devices or means for detecting lapping comple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24B 37/015 . . Temperature control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24B 49/00 Measuring or gauging equipment for controlling the feed movement of the grinding tool or work; Arrangements of indicating or measuring equipment, e.g. for indicating the start of the grinding operation ( B24B 33/06</a:t>
            </a: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, B24B 37/005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takes precedence; if applicable to other machine tools, B23Q 15/00-B23Q 17/00 take precede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ffect of relations on categor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weighted directed graph can be built between categ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ever an ‘oracle’ (e.g. a flat categorizer, a fielded search etc.) proposes a category, related categories must be evaluated and verified, may be, in a given order, considering also we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may also benefit from knowing, in adv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der of evaluation, e.g. standardized sequences, priority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on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enhance a good hit or suppress a false hi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co-classifi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ypical methods of categor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38880" y="16002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00800" y="22096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38880" y="22096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9920" y="2819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14479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198108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19920" y="316080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36440" y="16765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ots (sec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37880" y="2209680"/>
            <a:ext cx="21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classify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‘preclassification’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v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81680" y="2819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400" y="1828800"/>
            <a:ext cx="5335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38960" y="18763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467480" y="1828800"/>
            <a:ext cx="5335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248160" y="2514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29400" y="2514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24680" y="22096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43800" y="2819520"/>
            <a:ext cx="2286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29600" y="2819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7772040" y="2514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53280" y="251460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00800" y="35812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62920" y="35812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629040" y="32767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327672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848720" y="35812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610480" y="35812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8076960" y="32767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458200" y="32767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05920" y="16002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16002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22096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22096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819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14479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98108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316080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2819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066680" y="1828800"/>
            <a:ext cx="533520" cy="380880"/>
          </a:xfrm>
          <a:prstGeom prst="line">
            <a:avLst/>
          </a:prstGeom>
          <a:ln w="9360">
            <a:solidFill>
              <a:srgbClr val="ffff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76240" y="1876320"/>
            <a:ext cx="0" cy="30492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05120" y="1828800"/>
            <a:ext cx="533160" cy="30492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85440" y="2514600"/>
            <a:ext cx="152280" cy="228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2514600"/>
            <a:ext cx="152640" cy="228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62320" y="22096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2819520"/>
            <a:ext cx="2286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2819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209680" y="2514600"/>
            <a:ext cx="152640" cy="228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2514600"/>
            <a:ext cx="152280" cy="228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35812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35812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066680" y="3276720"/>
            <a:ext cx="152640" cy="228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3276720"/>
            <a:ext cx="152280" cy="228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35812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8120" y="35812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514240" y="3276720"/>
            <a:ext cx="152280" cy="228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3276720"/>
            <a:ext cx="152640" cy="228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43200" y="16002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41911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81680" y="41911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248160" y="38862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29400" y="38862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42670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42670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371240" y="3886200"/>
            <a:ext cx="152280" cy="228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3886200"/>
            <a:ext cx="152640" cy="228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47242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est is the winner on each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487692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edy hierarchic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versing down on best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3505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ring training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781680" y="3047760"/>
            <a:ext cx="685800" cy="533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6248520" y="3505320"/>
            <a:ext cx="533160" cy="380880"/>
            <a:chOff x="6248520" y="3505320"/>
            <a:chExt cx="533160" cy="380880"/>
          </a:xfrm>
        </p:grpSpPr>
        <p:sp>
          <p:nvSpPr>
            <p:cNvPr id="238" name=""/>
            <p:cNvSpPr/>
            <p:nvPr/>
          </p:nvSpPr>
          <p:spPr>
            <a:xfrm>
              <a:off x="6248520" y="3505320"/>
              <a:ext cx="53316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6324480" y="3505320"/>
              <a:ext cx="3812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5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500"/>
                            </p:stCondLst>
                            <p:childTnLst>
                              <p:par>
                                <p:cTn id="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500" fill="hold"/>
                                        <p:tgtEl>
                                          <p:spTgt spid="2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92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05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8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2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indefinite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0" dur="indefinite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3" dur="indefinite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5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48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on features of patent classification sche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erarch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vered subject matter of a higher level contains subject matter of a lower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: may be assigned to a higher level when none of the lower levels f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nodes (symbols) cannot be used (in general or alone) for class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erarchy lev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ing schem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emes contain specific rules –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between symb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ce / priority / precedence / limiting r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ing r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s to symbols to be taken in consid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les given in the scheme are extended by definitions / manuals of class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emes can be multiling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by various offices, cultures (maybe slightly differentl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relations in patent categor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343400" y="19810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5909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43400" y="25909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32004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18288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23623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3541680"/>
            <a:ext cx="2438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86200" y="32004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733560" y="2209680"/>
            <a:ext cx="53316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43480" y="225756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2209680"/>
            <a:ext cx="5335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352680" y="289548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33920" y="289548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29200" y="25909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3200400"/>
            <a:ext cx="2286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34120" y="32004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76560" y="289548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57800" y="289548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05320" y="3962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3962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733560" y="3657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14800" y="3657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3962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15000" y="3962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181480" y="365760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62720" y="3657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410080" y="19810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4572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4572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352680" y="426708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33920" y="426708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895480" y="52578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erarchic, rules, refer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429000" y="3352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09880" y="3428640"/>
            <a:ext cx="762120" cy="609480"/>
          </a:xfrm>
          <a:prstGeom prst="line">
            <a:avLst/>
          </a:prstGeom>
          <a:ln w="15840">
            <a:solidFill>
              <a:srgbClr val="ff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3581280"/>
            <a:ext cx="1524240" cy="304920"/>
          </a:xfrm>
          <a:prstGeom prst="wedgeRectCallout">
            <a:avLst>
              <a:gd name="adj1" fmla="val 142814"/>
              <a:gd name="adj2" fmla="val -22135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st place ru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4572000"/>
            <a:ext cx="1981080" cy="304920"/>
          </a:xfrm>
          <a:prstGeom prst="wedgeRectCallout">
            <a:avLst>
              <a:gd name="adj1" fmla="val -89824"/>
              <a:gd name="adj2" fmla="val -346875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kes preced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5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1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1" dur="indefinite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2" dur="indefinite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7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500"/>
                            </p:stCondLst>
                            <p:childTnLst>
                              <p:par>
                                <p:cTn id="167" nodeType="after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7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5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indefinite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81" dur="indefinite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8000"/>
                            </p:stCondLst>
                            <p:childTnLst>
                              <p:par>
                                <p:cTn id="18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indefinite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-128,-128,-128)"/>
                                      </p:to>
                                    </p:set>
                                    <p:set>
                                      <p:cBhvr>
                                        <p:cTn id="199" dur="indefinite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28,-128,-128)"/>
                                      </p:to>
                                    </p:set>
                                    <p:set>
                                      <p:cBhvr>
                                        <p:cTn id="202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indefinite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11" dur="indefinite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21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22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80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80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indefinite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28,-128,-128)"/>
                                      </p:to>
                                    </p:set>
                                    <p:set>
                                      <p:cBhvr>
                                        <p:cTn id="234" dur="indefinite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28,-128,-128)"/>
                                      </p:to>
                                    </p:set>
                                    <p:set>
                                      <p:cBhvr>
                                        <p:cTn id="237" dur="indefinite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2000" fill="hold"/>
                                        <p:tgtEl>
                                          <p:spTgt spid="2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a (more) formal analysis and presentation is advantageo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ntly: the rules ar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ed as tex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rious master fi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machine-readable but not machine-interpretable way (it is ‘content’ but not yet ‘knowledge’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ts of complex rules spread ov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ple sour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e.g. definitions) and places (e.g. reverse referenc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for humans and computer programs, it causes trouble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ect and app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ll the rules systemati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worth then to convert IPC content 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explicit IPC ‘knowledge’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ypothe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s were ma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verify confu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patent exami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various autocategoriz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y are in correlation to relations given in I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references in IPC: higher overlap between subject matter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the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re references in IPC between two area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igher the confusion of humans and compu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knowledge coded in IPC is, indeed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y patent categor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ing the hypothe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patent examiners take seriously references in I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re references between two symbols, the higher number of co-class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tice between two offices can be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re references in IPC, the higher likelihood of different dec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usion of autocategoriz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failures if subject matter area is overlapp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categorization vs. IPC 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43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here are references in IPC, patent examiners take them serious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ferences mark overlapping subject matter area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/o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ferences propose the use of secondary (indexing) symbo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class level, frequency of references in IPC is simila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frequency of common use of symbols of both classes in patent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3581280" y="1219320"/>
            <a:ext cx="5029200" cy="50148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7315200" y="5029200"/>
            <a:ext cx="990720" cy="838080"/>
          </a:xfrm>
          <a:prstGeom prst="ellipse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29000" y="2743200"/>
            <a:ext cx="1676520" cy="3808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81480" y="1143000"/>
            <a:ext cx="304920" cy="1600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05520" y="2666880"/>
            <a:ext cx="380880" cy="45720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05320" y="1600200"/>
            <a:ext cx="533160" cy="152280"/>
          </a:xfrm>
          <a:prstGeom prst="ellipse">
            <a:avLst/>
          </a:prstGeom>
          <a:noFill/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62520" y="1143000"/>
            <a:ext cx="228600" cy="533520"/>
          </a:xfrm>
          <a:prstGeom prst="ellipse">
            <a:avLst/>
          </a:prstGeom>
          <a:noFill/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3657600" cy="228600"/>
          </a:xfrm>
          <a:prstGeom prst="ellipse">
            <a:avLst/>
          </a:prstGeom>
          <a:noFill/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934320" y="1143000"/>
            <a:ext cx="228600" cy="3505320"/>
          </a:xfrm>
          <a:prstGeom prst="ellipse">
            <a:avLst/>
          </a:prstGeom>
          <a:noFill/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638680" y="3276720"/>
            <a:ext cx="457200" cy="457200"/>
          </a:xfrm>
          <a:prstGeom prst="ellipse">
            <a:avLst/>
          </a:prstGeom>
          <a:noFill/>
          <a:ln w="22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62520" y="3276720"/>
            <a:ext cx="152280" cy="457200"/>
          </a:xfrm>
          <a:prstGeom prst="ellipse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15000" y="1600200"/>
            <a:ext cx="380880" cy="228600"/>
          </a:xfrm>
          <a:prstGeom prst="ellipse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038480" y="3733920"/>
            <a:ext cx="1447920" cy="380880"/>
          </a:xfrm>
          <a:prstGeom prst="wedgeRoundRectCallout">
            <a:avLst>
              <a:gd name="adj1" fmla="val -43638"/>
              <a:gd name="adj2" fmla="val -80833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61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s C07 and C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4114800"/>
            <a:ext cx="838080" cy="228600"/>
          </a:xfrm>
          <a:prstGeom prst="wedgeRoundRectCallout">
            <a:avLst>
              <a:gd name="adj1" fmla="val -14203"/>
              <a:gd name="adj2" fmla="val -211111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07-C12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191120" y="4876920"/>
            <a:ext cx="838080" cy="228600"/>
          </a:xfrm>
          <a:prstGeom prst="wedgeRoundRectCallout">
            <a:avLst>
              <a:gd name="adj1" fmla="val -26134"/>
              <a:gd name="adj2" fmla="val -130555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16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248520" y="5486400"/>
            <a:ext cx="838080" cy="228600"/>
          </a:xfrm>
          <a:prstGeom prst="wedgeRoundRectCallout">
            <a:avLst>
              <a:gd name="adj1" fmla="val 75569"/>
              <a:gd name="adj2" fmla="val -142361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-H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29000" y="2286000"/>
            <a:ext cx="838080" cy="228600"/>
          </a:xfrm>
          <a:prstGeom prst="wedgeRoundRectCallout">
            <a:avLst>
              <a:gd name="adj1" fmla="val -17615"/>
              <a:gd name="adj2" fmla="val 153472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65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267080" y="1295280"/>
            <a:ext cx="838440" cy="228600"/>
          </a:xfrm>
          <a:prstGeom prst="wedgeRoundRectCallout">
            <a:avLst>
              <a:gd name="adj1" fmla="val -60606"/>
              <a:gd name="adj2" fmla="val 81944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47,A61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2590920"/>
            <a:ext cx="838080" cy="228600"/>
          </a:xfrm>
          <a:prstGeom prst="wedgeRoundRectCallout">
            <a:avLst>
              <a:gd name="adj1" fmla="val -59467"/>
              <a:gd name="adj2" fmla="val 96527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60-B65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0:34:59Z</dcterms:created>
  <dc:creator>Attila Torcsvari</dc:creator>
  <dc:description/>
  <cp:keywords>IPC</cp:keywords>
  <dc:language>en-US</dc:language>
  <cp:lastModifiedBy>Malanga</cp:lastModifiedBy>
  <dcterms:modified xsi:type="dcterms:W3CDTF">2013-02-25T13:34:39Z</dcterms:modified>
  <cp:revision>7</cp:revision>
  <dc:subject>IPC Workshop (2013) - Patent Classifications as “Knowledge”  …towards a more conscious (auto)categorization of patents</dc:subject>
  <dc:title>IPC Workshop (2013) - Patent Classifications as “Knowledge”  …towards a more conscious (auto)categorization of patents</dc:title>
</cp:coreProperties>
</file>