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7.wmf" ContentType="image/x-wmf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.jpeg" ContentType="image/jpeg"/>
  <Override PartName="/ppt/media/image25.png" ContentType="image/png"/>
  <Override PartName="/ppt/media/image24.png" ContentType="image/png"/>
  <Override PartName="/ppt/media/image23.png" ContentType="image/png"/>
  <Override PartName="/ppt/media/image5.png" ContentType="image/png"/>
  <Override PartName="/ppt/media/image10.png" ContentType="image/png"/>
  <Override PartName="/ppt/media/image22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5.png" ContentType="image/png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6064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2"/>
          </p:nvPr>
        </p:nvSpPr>
        <p:spPr>
          <a:xfrm>
            <a:off x="3884760" y="-360"/>
            <a:ext cx="296064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2640" y="685800"/>
            <a:ext cx="4560840" cy="341784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00408c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524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3"/>
          </p:nvPr>
        </p:nvSpPr>
        <p:spPr>
          <a:xfrm>
            <a:off x="0" y="8685000"/>
            <a:ext cx="296064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4"/>
          </p:nvPr>
        </p:nvSpPr>
        <p:spPr>
          <a:xfrm>
            <a:off x="3884760" y="8685000"/>
            <a:ext cx="296064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689EAB-161B-494C-8E96-D071D0638AA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tex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ments for balancing moving parts; elements for damping the movement of parts; elements for restraining or preventing the movement of parts, e.g. for zeroising; caging devices for moving parts when not in 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01D 11/08 – G01D 11/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formative refer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tention is drawn to the following places, which may be of interest for search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ns for absorbing shock or damping vibration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16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pression of vibrations in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16F 15/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7110A5-2E77-4323-AE22-8767525021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40840"/>
            <a:ext cx="82184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773360"/>
            <a:ext cx="821844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6840" y="4041360"/>
            <a:ext cx="821844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44495F-D3FA-4AF7-B117-72C8C154F9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240840"/>
            <a:ext cx="82184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773360"/>
            <a:ext cx="401040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120" y="1773360"/>
            <a:ext cx="401040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6840" y="4041360"/>
            <a:ext cx="401040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120" y="4041360"/>
            <a:ext cx="401040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BA5E74-B492-4391-8CE1-D81C69CF85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40840"/>
            <a:ext cx="82184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773360"/>
            <a:ext cx="264600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5680" y="1773360"/>
            <a:ext cx="264600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14160" y="1773360"/>
            <a:ext cx="264600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6840" y="4041360"/>
            <a:ext cx="264600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5680" y="4041360"/>
            <a:ext cx="264600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14160" y="4041360"/>
            <a:ext cx="264600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CB8D2E-98AF-4771-9364-5405631613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240840"/>
            <a:ext cx="82184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6840" y="1773360"/>
            <a:ext cx="8218440" cy="434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6840" y="240840"/>
            <a:ext cx="82184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6840" y="1773360"/>
            <a:ext cx="8218440" cy="43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40840"/>
            <a:ext cx="82184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6840" y="1773360"/>
            <a:ext cx="4010400" cy="43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120" y="1773360"/>
            <a:ext cx="4010400" cy="43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40840"/>
            <a:ext cx="82184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6840" y="240840"/>
            <a:ext cx="8218440" cy="55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40840"/>
            <a:ext cx="82184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773360"/>
            <a:ext cx="401040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120" y="1773360"/>
            <a:ext cx="4010400" cy="43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6840" y="4041360"/>
            <a:ext cx="401040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6840" y="240840"/>
            <a:ext cx="82184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6840" y="1773360"/>
            <a:ext cx="8218440" cy="434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61723A-D63C-40AD-BFD9-25972BEB68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40840"/>
            <a:ext cx="82184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773360"/>
            <a:ext cx="4010400" cy="43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120" y="1773360"/>
            <a:ext cx="401040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68120" y="4041360"/>
            <a:ext cx="401040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240840"/>
            <a:ext cx="82184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773360"/>
            <a:ext cx="401040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120" y="1773360"/>
            <a:ext cx="401040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6840" y="4041360"/>
            <a:ext cx="821844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240840"/>
            <a:ext cx="82184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773360"/>
            <a:ext cx="821844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6840" y="4041360"/>
            <a:ext cx="821844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240840"/>
            <a:ext cx="82184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773360"/>
            <a:ext cx="401040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120" y="1773360"/>
            <a:ext cx="401040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41360"/>
            <a:ext cx="401040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68120" y="4041360"/>
            <a:ext cx="401040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40840"/>
            <a:ext cx="82184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773360"/>
            <a:ext cx="264600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5680" y="1773360"/>
            <a:ext cx="264600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14160" y="1773360"/>
            <a:ext cx="264600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6840" y="4041360"/>
            <a:ext cx="264600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5680" y="4041360"/>
            <a:ext cx="264600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14160" y="4041360"/>
            <a:ext cx="264600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40840"/>
            <a:ext cx="82184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6840" y="1773360"/>
            <a:ext cx="8218440" cy="43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289D62-7385-417C-95AC-6C25093C5E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40840"/>
            <a:ext cx="82184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773360"/>
            <a:ext cx="4010400" cy="43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120" y="1773360"/>
            <a:ext cx="4010400" cy="43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787FB3-816D-46AD-BFD4-FCBA5772B4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240840"/>
            <a:ext cx="82184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FA3CD9-378F-489B-9C0D-01B555ABC1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6840" y="240840"/>
            <a:ext cx="8218440" cy="55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CCD9F0-5F9C-4069-85DA-A112FB0707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40840"/>
            <a:ext cx="82184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6840" y="1773360"/>
            <a:ext cx="401040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120" y="1773360"/>
            <a:ext cx="4010400" cy="43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6840" y="4041360"/>
            <a:ext cx="401040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6449D7-DDE0-422D-8BE2-96B8E2CEAA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40840"/>
            <a:ext cx="82184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773360"/>
            <a:ext cx="4010400" cy="43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1773360"/>
            <a:ext cx="401040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120" y="4041360"/>
            <a:ext cx="401040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52EA67-91A9-4CCD-ACE9-D67E392920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40840"/>
            <a:ext cx="82184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773360"/>
            <a:ext cx="401040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120" y="1773360"/>
            <a:ext cx="401040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041360"/>
            <a:ext cx="821844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3A53A-C8C1-451E-979E-4BF8931628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40840"/>
            <a:ext cx="82184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00408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773360"/>
            <a:ext cx="8218440" cy="43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010280" y="0"/>
            <a:ext cx="21225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AF012A-1FAE-49CE-8D85-26868863808D}" type="slidenum"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440" y="2130480"/>
            <a:ext cx="77612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00408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6840" y="160452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mailto:Bruno.Pouliquen@wipo.int" TargetMode="External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1.jpeg"/><Relationship Id="rId4" Type="http://schemas.openxmlformats.org/officeDocument/2006/relationships/image" Target="../media/image21.jpeg"/><Relationship Id="rId5" Type="http://schemas.openxmlformats.org/officeDocument/2006/relationships/image" Target="../media/image21.jpeg"/><Relationship Id="rId6" Type="http://schemas.openxmlformats.org/officeDocument/2006/relationships/image" Target="../media/image21.jpeg"/><Relationship Id="rId7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4.png"/><Relationship Id="rId5" Type="http://schemas.openxmlformats.org/officeDocument/2006/relationships/image" Target="../media/image8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patentscope.wipo.int/translate/simpleTranslate.jsf?id=JP75694586&amp;langpair=jaen" TargetMode="External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7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wmf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hyperlink" Target="http://patentscope.wipo.int/translateUN/translateIPC.jsf" TargetMode="External"/><Relationship Id="rId4" Type="http://schemas.openxmlformats.org/officeDocument/2006/relationships/hyperlink" Target="http://patentscope.wipo.int/translateUN/translateIPC.jsf" TargetMode="External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2700000"/>
            <a:ext cx="9144000" cy="9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3360"/>
                <a:tab algn="l" pos="10779120"/>
                <a:tab algn="l" pos="10780560"/>
                <a:tab algn="l" pos="10782360"/>
              </a:tabLst>
            </a:pPr>
            <a:r>
              <a:rPr b="1" lang="en-US" sz="3200" spc="-1" strike="noStrike">
                <a:solidFill>
                  <a:srgbClr val="00408c"/>
                </a:solidFill>
                <a:latin typeface="Arial"/>
              </a:rPr>
              <a:t>Tapta4IPC: </a:t>
            </a:r>
            <a:r>
              <a:rPr b="0" lang="en-US" sz="3200" spc="-1" strike="noStrike">
                <a:solidFill>
                  <a:srgbClr val="00408c"/>
                </a:solidFill>
                <a:latin typeface="Arial"/>
              </a:rPr>
              <a:t>helping translation of IPC definitions</a:t>
            </a:r>
            <a:endParaRPr b="0" lang="en-US" sz="32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62040" y="5805360"/>
            <a:ext cx="693432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408c"/>
                </a:solidFill>
                <a:latin typeface="Arial"/>
                <a:ea typeface="ヒラギノ角ゴ Pro W3"/>
              </a:rPr>
              <a:t>Bruno Pouliquen (</a:t>
            </a:r>
            <a:r>
              <a:rPr b="0" lang="en-US" sz="1800" spc="-1" strike="noStrike" u="sng">
                <a:solidFill>
                  <a:srgbClr val="ccccff"/>
                </a:solidFill>
                <a:uFillTx/>
                <a:latin typeface="Arial"/>
                <a:ea typeface="ヒラギノ角ゴ Pro W3"/>
                <a:hlinkClick r:id="rId2"/>
              </a:rPr>
              <a:t>Bruno.Pouliquen@wipo.int</a:t>
            </a:r>
            <a:r>
              <a:rPr b="0" lang="en-US" sz="1800" spc="-1" strike="noStrike">
                <a:solidFill>
                  <a:srgbClr val="00408c"/>
                </a:solidFill>
                <a:latin typeface="Arial"/>
                <a:ea typeface="ヒラギノ角ゴ Pro W3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183360" y="6408720"/>
            <a:ext cx="25290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40000"/>
              </a:lnSpc>
              <a:spcBef>
                <a:spcPts val="81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81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3399ff"/>
                </a:solidFill>
                <a:latin typeface="Arial Black"/>
                <a:ea typeface="ヒラギノ角ゴ Pro W3"/>
              </a:rPr>
              <a:t>25 feb 2013, IPC worksho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4319640"/>
            <a:ext cx="823752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1800" spc="-1" strike="noStrike">
                <a:solidFill>
                  <a:srgbClr val="00408c"/>
                </a:solidFill>
                <a:latin typeface="Arial"/>
                <a:ea typeface="ヒラギノ角ゴ Pro W3"/>
              </a:rPr>
              <a:t>Translation assistant for patent titles and abstracts in PATENTSCOPE - potential use in translating IPC definitions collabo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496360" y="533520"/>
            <a:ext cx="17784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559720" y="863640"/>
            <a:ext cx="190440" cy="31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698400" y="863640"/>
            <a:ext cx="8229600" cy="444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1920" indent="-331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1920" indent="-331920">
              <a:spcBef>
                <a:spcPts val="601"/>
              </a:spcBef>
              <a:buSzPct val="102812"/>
              <a:buBlip>
                <a:blip r:embed="rId2"/>
              </a:buBlip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http://fulty3.wipo.int:8080/Wtapta/translateIPC.js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554040" y="216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600" spc="-1" strike="noStrike">
                <a:solidFill>
                  <a:srgbClr val="00408c"/>
                </a:solidFill>
                <a:latin typeface="Arial"/>
              </a:rPr>
              <a:t>Tapta4IPC prototype (2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3"/>
          <a:stretch/>
        </p:blipFill>
        <p:spPr>
          <a:xfrm>
            <a:off x="826920" y="1125360"/>
            <a:ext cx="6608880" cy="337212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4"/>
          <a:stretch/>
        </p:blipFill>
        <p:spPr>
          <a:xfrm>
            <a:off x="826920" y="2305080"/>
            <a:ext cx="7745760" cy="4219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408c"/>
                </a:solidFill>
                <a:latin typeface="Arial"/>
              </a:rPr>
              <a:t>Conclusion / future work</a:t>
            </a: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4000" y="1341360"/>
            <a:ext cx="8229600" cy="444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1920" indent="-33192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a prototype, but the quality looks already accep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1920" indent="-33192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man evalua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1920" indent="-33192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tter integrate the t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PCA6TRANSDEF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1920" indent="-331920"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languag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1920" indent="0">
              <a:spcBef>
                <a:spcPts val="601"/>
              </a:spcBef>
              <a:buNone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1" dur="1000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6" dur="1000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1" dur="1000"/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4" dur="1000"/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9" dur="1000"/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6840" y="240840"/>
            <a:ext cx="82184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00408c"/>
                </a:solidFill>
                <a:latin typeface="Arial"/>
              </a:rPr>
              <a:t>Tapta4IPC in various languages</a:t>
            </a: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3628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pta4IPC should work reasonably well on the following languages (we have built some language specific tools and we have patent corpora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rm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pan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or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ani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utch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rtugu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in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ssi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re challeng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zech, Slovak, Polish (many word forms, training corpus?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onian (even more word forms, would in theory require more training corpu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 languages: Arabic, Italian, Danish, Swedish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6840" y="240840"/>
            <a:ext cx="82184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00408c"/>
                </a:solidFill>
                <a:latin typeface="Arial"/>
              </a:rPr>
              <a:t>Thank you for your attention</a:t>
            </a: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2050560" y="2058480"/>
            <a:ext cx="56991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omic Sans MS"/>
              </a:rPr>
              <a:t>شكرا لكم على اهتمامكم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Merci pour votre attention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SimSun"/>
              </a:rPr>
              <a:t>感谢您的关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Grazie per la vostra attenzione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¡ Gracias por su atención 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mic Sans MS"/>
              </a:rPr>
              <a:t>Vielen Dank für Ihre Aufmerksamkeit!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Obrigado pela vossa atenção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Dziękuję bardzo za Państwa uwagę!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Děkujeme za Vaši pozornost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Ďakujem ti veľmi pekne za tvoju pozornosť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Tänan tähelepanu eest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Благодарим за Вашето внимание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Tak for Jeres opmærksomhed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Thank you for your attention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0299999993294478"/>
                                  </p:iterate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5292720" y="4579920"/>
            <a:ext cx="3851280" cy="19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250920" y="907920"/>
            <a:ext cx="7560720" cy="947520"/>
            <a:chOff x="250920" y="907920"/>
            <a:chExt cx="7560720" cy="947520"/>
          </a:xfrm>
        </p:grpSpPr>
        <p:sp>
          <p:nvSpPr>
            <p:cNvPr id="99" name=""/>
            <p:cNvSpPr/>
            <p:nvPr/>
          </p:nvSpPr>
          <p:spPr>
            <a:xfrm>
              <a:off x="581760" y="921960"/>
              <a:ext cx="7229880" cy="93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31920" indent="-331920"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tatistical Machine Translation: bottom-up approac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31920" indent="-331920"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no rules, no grammar, no dictionary, no terminology, only the parallel texts (bitexts)</a:t>
              </a:r>
              <a:br>
                <a:rPr sz="2400"/>
              </a:b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31920" indent="-331920"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31920" indent="-331920"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96720" y="907920"/>
              <a:ext cx="164520" cy="36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" name="" descr=""/>
            <p:cNvPicPr/>
            <p:nvPr/>
          </p:nvPicPr>
          <p:blipFill>
            <a:blip r:embed="rId2"/>
            <a:stretch/>
          </p:blipFill>
          <p:spPr>
            <a:xfrm>
              <a:off x="250920" y="1015560"/>
              <a:ext cx="257760" cy="264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2" name=""/>
          <p:cNvGrpSpPr/>
          <p:nvPr/>
        </p:nvGrpSpPr>
        <p:grpSpPr>
          <a:xfrm>
            <a:off x="495360" y="2733840"/>
            <a:ext cx="8227800" cy="947160"/>
            <a:chOff x="495360" y="2733840"/>
            <a:chExt cx="8227800" cy="947160"/>
          </a:xfrm>
        </p:grpSpPr>
        <p:sp>
          <p:nvSpPr>
            <p:cNvPr id="103" name=""/>
            <p:cNvSpPr/>
            <p:nvPr/>
          </p:nvSpPr>
          <p:spPr>
            <a:xfrm>
              <a:off x="855720" y="2747880"/>
              <a:ext cx="7867440" cy="93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33360" indent="-331920"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e use an open-source system: Mos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33360" indent="-331920"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54120" y="2733840"/>
              <a:ext cx="179280" cy="36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5" name="" descr=""/>
            <p:cNvPicPr/>
            <p:nvPr/>
          </p:nvPicPr>
          <p:blipFill>
            <a:blip r:embed="rId3"/>
            <a:stretch/>
          </p:blipFill>
          <p:spPr>
            <a:xfrm>
              <a:off x="495360" y="2839680"/>
              <a:ext cx="280800" cy="264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6" name=""/>
          <p:cNvGrpSpPr/>
          <p:nvPr/>
        </p:nvGrpSpPr>
        <p:grpSpPr>
          <a:xfrm>
            <a:off x="485640" y="3886200"/>
            <a:ext cx="7181640" cy="1702800"/>
            <a:chOff x="485640" y="3886200"/>
            <a:chExt cx="7181640" cy="1702800"/>
          </a:xfrm>
        </p:grpSpPr>
        <p:sp>
          <p:nvSpPr>
            <p:cNvPr id="107" name=""/>
            <p:cNvSpPr/>
            <p:nvPr/>
          </p:nvSpPr>
          <p:spPr>
            <a:xfrm>
              <a:off x="799920" y="3908520"/>
              <a:ext cx="6867360" cy="168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apta: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anslation of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tent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tles and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bstrac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0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Originally built to translate patent applic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0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dapted to various applic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23880" y="3886200"/>
              <a:ext cx="156600" cy="6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9" name="" descr=""/>
            <p:cNvPicPr/>
            <p:nvPr/>
          </p:nvPicPr>
          <p:blipFill>
            <a:blip r:embed="rId4"/>
            <a:stretch/>
          </p:blipFill>
          <p:spPr>
            <a:xfrm>
              <a:off x="485640" y="4077000"/>
              <a:ext cx="245160" cy="476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0" name=""/>
          <p:cNvSpPr/>
          <p:nvPr/>
        </p:nvSpPr>
        <p:spPr>
          <a:xfrm>
            <a:off x="457200" y="-71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408c"/>
                </a:solidFill>
                <a:latin typeface="Arial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5"/>
          <a:stretch/>
        </p:blipFill>
        <p:spPr>
          <a:xfrm>
            <a:off x="7499520" y="2197080"/>
            <a:ext cx="1033200" cy="1663560"/>
          </a:xfrm>
          <a:prstGeom prst="rect">
            <a:avLst/>
          </a:prstGeom>
          <a:ln w="0">
            <a:noFill/>
          </a:ln>
        </p:spPr>
      </p:pic>
      <p:grpSp>
        <p:nvGrpSpPr>
          <p:cNvPr id="112" name=""/>
          <p:cNvGrpSpPr/>
          <p:nvPr/>
        </p:nvGrpSpPr>
        <p:grpSpPr>
          <a:xfrm>
            <a:off x="7308720" y="692280"/>
            <a:ext cx="1582920" cy="1368360"/>
            <a:chOff x="7308720" y="692280"/>
            <a:chExt cx="1582920" cy="1368360"/>
          </a:xfrm>
        </p:grpSpPr>
        <p:sp>
          <p:nvSpPr>
            <p:cNvPr id="113" name=""/>
            <p:cNvSpPr/>
            <p:nvPr/>
          </p:nvSpPr>
          <p:spPr>
            <a:xfrm>
              <a:off x="7308720" y="692280"/>
              <a:ext cx="1582920" cy="1368360"/>
            </a:xfrm>
            <a:prstGeom prst="triangle">
              <a:avLst>
                <a:gd name="adj" fmla="val 50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883640" y="1339920"/>
              <a:ext cx="433440" cy="36036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812000" y="1771920"/>
              <a:ext cx="647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812000" y="1065240"/>
              <a:ext cx="1008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yste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7" name="" descr=""/>
          <p:cNvPicPr/>
          <p:nvPr/>
        </p:nvPicPr>
        <p:blipFill>
          <a:blip r:embed="rId6"/>
          <a:stretch/>
        </p:blipFill>
        <p:spPr>
          <a:xfrm>
            <a:off x="4932360" y="5373720"/>
            <a:ext cx="928800" cy="10335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7"/>
          <a:stretch/>
        </p:blipFill>
        <p:spPr>
          <a:xfrm>
            <a:off x="3564000" y="5373720"/>
            <a:ext cx="1152360" cy="9907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8"/>
          <a:srcRect l="54772" t="0" r="0" b="0"/>
          <a:stretch/>
        </p:blipFill>
        <p:spPr>
          <a:xfrm>
            <a:off x="2411280" y="5157720"/>
            <a:ext cx="1013040" cy="1484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500"/>
                            </p:stCondLst>
                            <p:childTnLst>
                              <p:par>
                                <p:cTn id="3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5292720" y="4579920"/>
            <a:ext cx="3851280" cy="19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39640" y="4795920"/>
            <a:ext cx="7920000" cy="1557360"/>
          </a:xfrm>
          <a:prstGeom prst="rightArrow">
            <a:avLst>
              <a:gd name="adj1" fmla="val 87972"/>
              <a:gd name="adj2" fmla="val 5798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84080" y="3235320"/>
            <a:ext cx="652464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r system prepares the data for Moses, apply some post-processing (filter, pruning, binarization, optimization…) and offers a Web interface to transl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7400" y="3213000"/>
            <a:ext cx="149400" cy="6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240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408c"/>
                </a:solidFill>
                <a:latin typeface="Arial"/>
              </a:rPr>
              <a:t>Tapta framewo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826920" y="5021280"/>
            <a:ext cx="792360" cy="987480"/>
            <a:chOff x="826920" y="5021280"/>
            <a:chExt cx="792360" cy="987480"/>
          </a:xfrm>
        </p:grpSpPr>
        <p:pic>
          <p:nvPicPr>
            <p:cNvPr id="126" name="" descr=""/>
            <p:cNvPicPr/>
            <p:nvPr/>
          </p:nvPicPr>
          <p:blipFill>
            <a:blip r:embed="rId2"/>
            <a:stretch/>
          </p:blipFill>
          <p:spPr>
            <a:xfrm>
              <a:off x="863640" y="5021280"/>
              <a:ext cx="755640" cy="75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826920" y="5732280"/>
              <a:ext cx="648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le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1547640" y="5011560"/>
            <a:ext cx="792360" cy="974880"/>
            <a:chOff x="1547640" y="5011560"/>
            <a:chExt cx="792360" cy="974880"/>
          </a:xfrm>
        </p:grpSpPr>
        <p:pic>
          <p:nvPicPr>
            <p:cNvPr id="129" name="" descr=""/>
            <p:cNvPicPr/>
            <p:nvPr/>
          </p:nvPicPr>
          <p:blipFill>
            <a:blip r:embed="rId3"/>
            <a:stretch/>
          </p:blipFill>
          <p:spPr>
            <a:xfrm>
              <a:off x="1547640" y="5011560"/>
              <a:ext cx="720720" cy="72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>
              <a:off x="1547640" y="5803560"/>
              <a:ext cx="792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-cle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2268360" y="4940280"/>
            <a:ext cx="792360" cy="1190880"/>
            <a:chOff x="2268360" y="4940280"/>
            <a:chExt cx="792360" cy="1190880"/>
          </a:xfrm>
        </p:grpSpPr>
        <p:pic>
          <p:nvPicPr>
            <p:cNvPr id="132" name="" descr=""/>
            <p:cNvPicPr/>
            <p:nvPr/>
          </p:nvPicPr>
          <p:blipFill>
            <a:blip r:embed="rId4"/>
            <a:stretch/>
          </p:blipFill>
          <p:spPr>
            <a:xfrm>
              <a:off x="2378160" y="4940280"/>
              <a:ext cx="609480" cy="98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"/>
            <p:cNvSpPr/>
            <p:nvPr/>
          </p:nvSpPr>
          <p:spPr>
            <a:xfrm>
              <a:off x="2268360" y="5948280"/>
              <a:ext cx="792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rain-mode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3059280" y="5011560"/>
            <a:ext cx="865080" cy="903600"/>
            <a:chOff x="3059280" y="5011560"/>
            <a:chExt cx="865080" cy="903600"/>
          </a:xfrm>
        </p:grpSpPr>
        <p:pic>
          <p:nvPicPr>
            <p:cNvPr id="135" name="" descr=""/>
            <p:cNvPicPr/>
            <p:nvPr/>
          </p:nvPicPr>
          <p:blipFill>
            <a:blip r:embed="rId5"/>
            <a:stretch/>
          </p:blipFill>
          <p:spPr>
            <a:xfrm>
              <a:off x="3059280" y="5011560"/>
              <a:ext cx="755640" cy="7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"/>
            <p:cNvSpPr/>
            <p:nvPr/>
          </p:nvSpPr>
          <p:spPr>
            <a:xfrm>
              <a:off x="3132000" y="5732280"/>
              <a:ext cx="792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ost-filt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3851280" y="4940280"/>
            <a:ext cx="863640" cy="1046520"/>
            <a:chOff x="3851280" y="4940280"/>
            <a:chExt cx="863640" cy="1046520"/>
          </a:xfrm>
        </p:grpSpPr>
        <p:pic>
          <p:nvPicPr>
            <p:cNvPr id="138" name="" descr=""/>
            <p:cNvPicPr/>
            <p:nvPr/>
          </p:nvPicPr>
          <p:blipFill>
            <a:blip r:embed="rId6"/>
            <a:stretch/>
          </p:blipFill>
          <p:spPr>
            <a:xfrm>
              <a:off x="3851280" y="4940280"/>
              <a:ext cx="863640" cy="83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"/>
            <p:cNvSpPr/>
            <p:nvPr/>
          </p:nvSpPr>
          <p:spPr>
            <a:xfrm>
              <a:off x="4140360" y="5803920"/>
              <a:ext cx="431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un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4788000" y="4940280"/>
            <a:ext cx="863640" cy="1046520"/>
            <a:chOff x="4788000" y="4940280"/>
            <a:chExt cx="863640" cy="1046520"/>
          </a:xfrm>
        </p:grpSpPr>
        <p:pic>
          <p:nvPicPr>
            <p:cNvPr id="141" name="" descr=""/>
            <p:cNvPicPr/>
            <p:nvPr/>
          </p:nvPicPr>
          <p:blipFill>
            <a:blip r:embed="rId7"/>
            <a:stretch/>
          </p:blipFill>
          <p:spPr>
            <a:xfrm>
              <a:off x="4788000" y="4940280"/>
              <a:ext cx="826920" cy="82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"/>
            <p:cNvSpPr/>
            <p:nvPr/>
          </p:nvSpPr>
          <p:spPr>
            <a:xfrm>
              <a:off x="4932360" y="5803920"/>
              <a:ext cx="719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binariz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5506920" y="4940280"/>
            <a:ext cx="1008360" cy="1046520"/>
            <a:chOff x="5506920" y="4940280"/>
            <a:chExt cx="1008360" cy="1046520"/>
          </a:xfrm>
        </p:grpSpPr>
        <p:pic>
          <p:nvPicPr>
            <p:cNvPr id="144" name="" descr=""/>
            <p:cNvPicPr/>
            <p:nvPr/>
          </p:nvPicPr>
          <p:blipFill>
            <a:blip r:embed="rId8"/>
            <a:stretch/>
          </p:blipFill>
          <p:spPr>
            <a:xfrm>
              <a:off x="5506920" y="4940280"/>
              <a:ext cx="1008360" cy="81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5724360" y="5803920"/>
              <a:ext cx="719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ptimiz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6589800" y="4900680"/>
            <a:ext cx="1077840" cy="1154160"/>
            <a:chOff x="6589800" y="4900680"/>
            <a:chExt cx="1077840" cy="1154160"/>
          </a:xfrm>
        </p:grpSpPr>
        <p:pic>
          <p:nvPicPr>
            <p:cNvPr id="147" name="" descr=""/>
            <p:cNvPicPr/>
            <p:nvPr/>
          </p:nvPicPr>
          <p:blipFill>
            <a:blip r:embed="rId9"/>
            <a:stretch/>
          </p:blipFill>
          <p:spPr>
            <a:xfrm>
              <a:off x="6589800" y="4900680"/>
              <a:ext cx="1077840" cy="96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"/>
            <p:cNvSpPr/>
            <p:nvPr/>
          </p:nvSpPr>
          <p:spPr>
            <a:xfrm>
              <a:off x="6804000" y="5871960"/>
              <a:ext cx="719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blis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" name=""/>
          <p:cNvSpPr/>
          <p:nvPr/>
        </p:nvSpPr>
        <p:spPr>
          <a:xfrm flipH="1" flipV="1" rot="16200000">
            <a:off x="5794920" y="1988640"/>
            <a:ext cx="1081080" cy="790560"/>
          </a:xfrm>
          <a:custGeom>
            <a:avLst/>
            <a:gdLst>
              <a:gd name="textAreaLeft" fmla="*/ -360 w 1081080"/>
              <a:gd name="textAreaRight" fmla="*/ 1081080 w 1081080"/>
              <a:gd name="textAreaTop" fmla="*/ 360 h 790560"/>
              <a:gd name="textAreaBottom" fmla="*/ 791280 h 790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1790640" y="981000"/>
            <a:ext cx="3796560" cy="2366280"/>
            <a:chOff x="1790640" y="981000"/>
            <a:chExt cx="3796560" cy="2366280"/>
          </a:xfrm>
        </p:grpSpPr>
        <p:grpSp>
          <p:nvGrpSpPr>
            <p:cNvPr id="151" name=""/>
            <p:cNvGrpSpPr/>
            <p:nvPr/>
          </p:nvGrpSpPr>
          <p:grpSpPr>
            <a:xfrm>
              <a:off x="1790640" y="981000"/>
              <a:ext cx="3796560" cy="2366280"/>
              <a:chOff x="1790640" y="981000"/>
              <a:chExt cx="3796560" cy="2366280"/>
            </a:xfrm>
          </p:grpSpPr>
          <p:grpSp>
            <p:nvGrpSpPr>
              <p:cNvPr id="152" name=""/>
              <p:cNvGrpSpPr/>
              <p:nvPr/>
            </p:nvGrpSpPr>
            <p:grpSpPr>
              <a:xfrm>
                <a:off x="4571280" y="981000"/>
                <a:ext cx="1015920" cy="2366280"/>
                <a:chOff x="4571280" y="981000"/>
                <a:chExt cx="1015920" cy="2366280"/>
              </a:xfrm>
            </p:grpSpPr>
            <p:sp>
              <p:nvSpPr>
                <p:cNvPr id="153" name=""/>
                <p:cNvSpPr/>
                <p:nvPr/>
              </p:nvSpPr>
              <p:spPr>
                <a:xfrm>
                  <a:off x="4572000" y="981000"/>
                  <a:ext cx="1008000" cy="936720"/>
                </a:xfrm>
                <a:prstGeom prst="can">
                  <a:avLst>
                    <a:gd name="adj" fmla="val 25000"/>
                  </a:avLst>
                </a:prstGeom>
                <a:noFill/>
                <a:ln cap="sq"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4571280" y="1216080"/>
                  <a:ext cx="1015920" cy="58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0" lang="fr-FR" sz="1600" spc="-1" strike="noStrike">
                      <a:solidFill>
                        <a:srgbClr val="000000"/>
                      </a:solidFill>
                      <a:latin typeface="Arial"/>
                    </a:rPr>
                    <a:t>source</a:t>
                  </a:r>
                  <a:br>
                    <a:rPr sz="1600"/>
                  </a:br>
                  <a:r>
                    <a:rPr b="0" lang="fr-FR" sz="1600" spc="-1" strike="noStrike">
                      <a:solidFill>
                        <a:srgbClr val="000000"/>
                      </a:solidFill>
                      <a:latin typeface="Arial"/>
                    </a:rPr>
                    <a:t>language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4670280" y="3009960"/>
                  <a:ext cx="7920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0" i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Bitexts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6" name=""/>
              <p:cNvSpPr/>
              <p:nvPr/>
            </p:nvSpPr>
            <p:spPr>
              <a:xfrm>
                <a:off x="2987640" y="1773360"/>
                <a:ext cx="1419120" cy="492120"/>
              </a:xfrm>
              <a:prstGeom prst="rightArrow">
                <a:avLst>
                  <a:gd name="adj1" fmla="val 50000"/>
                  <a:gd name="adj2" fmla="val 72092"/>
                </a:avLst>
              </a:prstGeom>
              <a:noFill/>
              <a:ln cap="sq"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2916360" y="2265480"/>
                <a:ext cx="158436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ather/convert dat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1790640" y="1197000"/>
                <a:ext cx="647640" cy="647640"/>
              </a:xfrm>
              <a:prstGeom prst="verticalScroll">
                <a:avLst>
                  <a:gd name="adj" fmla="val 12500"/>
                </a:avLst>
              </a:prstGeom>
              <a:solidFill>
                <a:srgbClr val="00b8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59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1790640" y="1916280"/>
                <a:ext cx="790560" cy="709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0" name=""/>
              <p:cNvSpPr/>
              <p:nvPr/>
            </p:nvSpPr>
            <p:spPr>
              <a:xfrm>
                <a:off x="1790640" y="2708280"/>
                <a:ext cx="647640" cy="504720"/>
              </a:xfrm>
              <a:prstGeom prst="flowChartMagneticDisk">
                <a:avLst/>
              </a:prstGeom>
              <a:solidFill>
                <a:srgbClr val="00b8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1" name=""/>
            <p:cNvSpPr/>
            <p:nvPr/>
          </p:nvSpPr>
          <p:spPr>
            <a:xfrm>
              <a:off x="4565520" y="1969920"/>
              <a:ext cx="1008360" cy="936720"/>
            </a:xfrm>
            <a:prstGeom prst="can">
              <a:avLst>
                <a:gd name="adj" fmla="val 25000"/>
              </a:avLst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564800" y="2205000"/>
              <a:ext cx="10159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Arial"/>
                </a:rPr>
                <a:t>target</a:t>
              </a:r>
              <a:br>
                <a:rPr sz="1600"/>
              </a:br>
              <a:r>
                <a:rPr b="0" lang="fr-FR" sz="1600" spc="-1" strike="noStrike">
                  <a:solidFill>
                    <a:srgbClr val="000000"/>
                  </a:solidFill>
                  <a:latin typeface="Arial"/>
                </a:rPr>
                <a:t>languag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2000"/>
                            </p:stCondLst>
                            <p:childTnLst>
                              <p:par>
                                <p:cTn id="5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2500"/>
                            </p:stCondLst>
                            <p:childTnLst>
                              <p:par>
                                <p:cTn id="5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3000"/>
                            </p:stCondLst>
                            <p:childTnLst>
                              <p:par>
                                <p:cTn id="6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3500"/>
                            </p:stCondLst>
                            <p:childTnLst>
                              <p:par>
                                <p:cTn id="6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4000"/>
                            </p:stCondLst>
                            <p:childTnLst>
                              <p:par>
                                <p:cTn id="6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4500"/>
                            </p:stCondLst>
                            <p:childTnLst>
                              <p:par>
                                <p:cTn id="7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5000"/>
                            </p:stCondLst>
                            <p:childTnLst>
                              <p:par>
                                <p:cTn id="7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500"/>
                            </p:stCondLst>
                            <p:childTnLst>
                              <p:par>
                                <p:cTn id="8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40840"/>
            <a:ext cx="82184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00408c"/>
                </a:solidFill>
                <a:latin typeface="Arial"/>
              </a:rPr>
              <a:t>Introduction: Tapta</a:t>
            </a: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773360"/>
            <a:ext cx="8218440" cy="43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WIPO, as part of Patentscop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glish,French,German,Chinese,Japanes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g. 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http://patentscope.wipo.int/translate/simpleTranslate.jsf?id=JP75694586&amp;langpair=ja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tomatic translation of a patent application only available in Japanese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nited Nation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English from/into Arabic,French,Spanish,Russian &amp; Chinese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1042920" y="2886120"/>
            <a:ext cx="7151760" cy="10476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4"/>
          <a:stretch/>
        </p:blipFill>
        <p:spPr>
          <a:xfrm>
            <a:off x="784080" y="4334040"/>
            <a:ext cx="4364280" cy="247968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5"/>
          <a:stretch/>
        </p:blipFill>
        <p:spPr>
          <a:xfrm>
            <a:off x="-36360" y="5694480"/>
            <a:ext cx="9180360" cy="83016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6"/>
          <a:srcRect l="54772" t="0" r="0" b="0"/>
          <a:stretch/>
        </p:blipFill>
        <p:spPr>
          <a:xfrm>
            <a:off x="0" y="1844640"/>
            <a:ext cx="422280" cy="61920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7"/>
          <a:stretch/>
        </p:blipFill>
        <p:spPr>
          <a:xfrm>
            <a:off x="0" y="3973680"/>
            <a:ext cx="539640" cy="46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500"/>
                            </p:stCondLst>
                            <p:childTnLst>
                              <p:par>
                                <p:cTn id="9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000"/>
                            </p:stCondLst>
                            <p:childTnLst>
                              <p:par>
                                <p:cTn id="9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"/>
                            </p:stCondLst>
                            <p:childTnLst>
                              <p:par>
                                <p:cTn id="10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-7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600" spc="-1" strike="noStrike">
                <a:solidFill>
                  <a:srgbClr val="00408c"/>
                </a:solidFill>
                <a:latin typeface="Arial"/>
              </a:rPr>
              <a:t>Technical workflow</a:t>
            </a: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5364000" y="5230800"/>
            <a:ext cx="2951280" cy="719280"/>
            <a:chOff x="5364000" y="5230800"/>
            <a:chExt cx="2951280" cy="719280"/>
          </a:xfrm>
        </p:grpSpPr>
        <p:sp>
          <p:nvSpPr>
            <p:cNvPr id="173" name=""/>
            <p:cNvSpPr/>
            <p:nvPr/>
          </p:nvSpPr>
          <p:spPr>
            <a:xfrm>
              <a:off x="5364000" y="5230800"/>
              <a:ext cx="2951280" cy="719280"/>
            </a:xfrm>
            <a:prstGeom prst="cube">
              <a:avLst>
                <a:gd name="adj" fmla="val 25000"/>
              </a:avLst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622840" y="5373720"/>
              <a:ext cx="222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Arial"/>
                </a:rPr>
                <a:t>Moses’ train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"/>
          <p:cNvSpPr/>
          <p:nvPr/>
        </p:nvSpPr>
        <p:spPr>
          <a:xfrm>
            <a:off x="1523880" y="1628640"/>
            <a:ext cx="816120" cy="360360"/>
          </a:xfrm>
          <a:prstGeom prst="rightArrow">
            <a:avLst>
              <a:gd name="adj1" fmla="val 50000"/>
              <a:gd name="adj2" fmla="val 56618"/>
            </a:avLst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627280" y="4724280"/>
            <a:ext cx="289080" cy="2160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rot="12600000">
            <a:off x="4948200" y="5812920"/>
            <a:ext cx="287280" cy="432000"/>
          </a:xfrm>
          <a:prstGeom prst="downArrow">
            <a:avLst>
              <a:gd name="adj1" fmla="val 50000"/>
              <a:gd name="adj2" fmla="val 37594"/>
            </a:avLst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4932360" y="4149720"/>
            <a:ext cx="1225440" cy="1008000"/>
            <a:chOff x="4932360" y="4149720"/>
            <a:chExt cx="1225440" cy="1008000"/>
          </a:xfrm>
        </p:grpSpPr>
        <p:sp>
          <p:nvSpPr>
            <p:cNvPr id="179" name=""/>
            <p:cNvSpPr/>
            <p:nvPr/>
          </p:nvSpPr>
          <p:spPr>
            <a:xfrm>
              <a:off x="4932360" y="4149720"/>
              <a:ext cx="1225440" cy="1008000"/>
            </a:xfrm>
            <a:prstGeom prst="can">
              <a:avLst>
                <a:gd name="adj" fmla="val 25000"/>
              </a:avLst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932360" y="4437000"/>
              <a:ext cx="11523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Arial"/>
                </a:rPr>
                <a:t>phrase tab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" name=""/>
          <p:cNvGrpSpPr/>
          <p:nvPr/>
        </p:nvGrpSpPr>
        <p:grpSpPr>
          <a:xfrm>
            <a:off x="6372360" y="4149720"/>
            <a:ext cx="1439640" cy="936720"/>
            <a:chOff x="6372360" y="4149720"/>
            <a:chExt cx="1439640" cy="936720"/>
          </a:xfrm>
        </p:grpSpPr>
        <p:sp>
          <p:nvSpPr>
            <p:cNvPr id="182" name=""/>
            <p:cNvSpPr/>
            <p:nvPr/>
          </p:nvSpPr>
          <p:spPr>
            <a:xfrm>
              <a:off x="6443640" y="4149720"/>
              <a:ext cx="1225080" cy="936720"/>
            </a:xfrm>
            <a:prstGeom prst="can">
              <a:avLst>
                <a:gd name="adj" fmla="val 25000"/>
              </a:avLst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372360" y="4365720"/>
              <a:ext cx="1439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Arial"/>
                </a:rPr>
                <a:t>reordering mode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" name=""/>
          <p:cNvSpPr/>
          <p:nvPr/>
        </p:nvSpPr>
        <p:spPr>
          <a:xfrm flipV="1">
            <a:off x="6156360" y="5013360"/>
            <a:ext cx="288720" cy="287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4788000" y="2421000"/>
            <a:ext cx="4358160" cy="1295280"/>
            <a:chOff x="4788000" y="2421000"/>
            <a:chExt cx="4358160" cy="1295280"/>
          </a:xfrm>
        </p:grpSpPr>
        <p:sp>
          <p:nvSpPr>
            <p:cNvPr id="186" name=""/>
            <p:cNvSpPr/>
            <p:nvPr/>
          </p:nvSpPr>
          <p:spPr>
            <a:xfrm>
              <a:off x="6443640" y="2421000"/>
              <a:ext cx="812880" cy="815760"/>
            </a:xfrm>
            <a:prstGeom prst="pie">
              <a:avLst/>
            </a:prstGeom>
            <a:solidFill>
              <a:srgbClr val="ffffcc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7" name=""/>
            <p:cNvGrpSpPr/>
            <p:nvPr/>
          </p:nvGrpSpPr>
          <p:grpSpPr>
            <a:xfrm>
              <a:off x="4788000" y="3355920"/>
              <a:ext cx="1295640" cy="360360"/>
              <a:chOff x="4788000" y="3355920"/>
              <a:chExt cx="1295640" cy="360360"/>
            </a:xfrm>
          </p:grpSpPr>
          <p:sp>
            <p:nvSpPr>
              <p:cNvPr id="188" name=""/>
              <p:cNvSpPr/>
              <p:nvPr/>
            </p:nvSpPr>
            <p:spPr>
              <a:xfrm>
                <a:off x="4788000" y="3355920"/>
                <a:ext cx="1295280" cy="360360"/>
              </a:xfrm>
              <a:prstGeom prst="cube">
                <a:avLst>
                  <a:gd name="adj" fmla="val 25000"/>
                </a:avLst>
              </a:prstGeom>
              <a:noFill/>
              <a:ln cap="sq"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4857480" y="3429000"/>
                <a:ext cx="1226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Arial"/>
                  </a:rPr>
                  <a:t>Moses decode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0" name=""/>
            <p:cNvGrpSpPr/>
            <p:nvPr/>
          </p:nvGrpSpPr>
          <p:grpSpPr>
            <a:xfrm>
              <a:off x="6300720" y="3355920"/>
              <a:ext cx="1296000" cy="360360"/>
              <a:chOff x="6300720" y="3355920"/>
              <a:chExt cx="1296000" cy="360360"/>
            </a:xfrm>
          </p:grpSpPr>
          <p:sp>
            <p:nvSpPr>
              <p:cNvPr id="191" name=""/>
              <p:cNvSpPr/>
              <p:nvPr/>
            </p:nvSpPr>
            <p:spPr>
              <a:xfrm>
                <a:off x="6300720" y="3355920"/>
                <a:ext cx="1295640" cy="360360"/>
              </a:xfrm>
              <a:prstGeom prst="cube">
                <a:avLst>
                  <a:gd name="adj" fmla="val 25000"/>
                </a:avLst>
              </a:prstGeom>
              <a:noFill/>
              <a:ln cap="sq"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6370560" y="3429000"/>
                <a:ext cx="1226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Arial"/>
                  </a:rPr>
                  <a:t>Moses decode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3" name=""/>
            <p:cNvSpPr/>
            <p:nvPr/>
          </p:nvSpPr>
          <p:spPr>
            <a:xfrm>
              <a:off x="7850160" y="3355920"/>
              <a:ext cx="1295280" cy="360360"/>
            </a:xfrm>
            <a:prstGeom prst="cube">
              <a:avLst>
                <a:gd name="adj" fmla="val 25000"/>
              </a:avLst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920000" y="3429000"/>
              <a:ext cx="1226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Moses decod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269120" y="2479680"/>
              <a:ext cx="1441440" cy="71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Arial"/>
                </a:rPr>
                <a:t>Transl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25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Arial"/>
                </a:rPr>
                <a:t>serv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96" name=""/>
          <p:cNvGraphicFramePr/>
          <p:nvPr/>
        </p:nvGraphicFramePr>
        <p:xfrm>
          <a:off x="552600" y="5084640"/>
          <a:ext cx="4251240" cy="1447560"/>
        </p:xfrm>
        <a:graphic>
          <a:graphicData uri="http://schemas.openxmlformats.org/drawingml/2006/table">
            <a:tbl>
              <a:tblPr/>
              <a:tblGrid>
                <a:gridCol w="1890720"/>
                <a:gridCol w="2360520"/>
              </a:tblGrid>
              <a:tr h="199440">
                <a:tc>
                  <a:txBody>
                    <a:bodyPr lIns="90000" rIns="90000" tIns="0" bIns="46800" anchor="t">
                      <a:noAutofit/>
                    </a:bodyPr>
                    <a:p>
                      <a:pPr marL="343080" indent="-335160" algn="ctr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46800" anchor="t">
                      <a:noAutofit/>
                    </a:bodyPr>
                    <a:p>
                      <a:pPr marL="343080" indent="-335160" algn="ctr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4000">
                <a:tc>
                  <a:txBody>
                    <a:bodyPr lIns="90000" rIns="9000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mic Sans MS"/>
                          <a:ea typeface="MS Mincho"/>
                        </a:rPr>
                        <a:t>Strengthening of forum for human dignity : legal a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Comic Sans MS"/>
                          <a:ea typeface="MS Mincho"/>
                        </a:rPr>
                        <a:t>Fortalecimiento del foro para la dignidad humana – asistencia jurídic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720">
                <a:tc>
                  <a:txBody>
                    <a:bodyPr lIns="90000" rIns="9000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mic Sans MS"/>
                          <a:ea typeface="MS Mincho"/>
                        </a:rPr>
                        <a:t>must respect all aspects of human dignit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Comic Sans MS"/>
                          <a:ea typeface="MS Mincho"/>
                        </a:rPr>
                        <a:t>debe respetar todos los aspectos de la dignidad human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720">
                <a:tc>
                  <a:txBody>
                    <a:bodyPr lIns="90000" rIns="9000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omic Sans MS"/>
                          <a:ea typeface="MS Mincho"/>
                        </a:rPr>
                        <a:t>should fully respect human dignit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Comic Sans MS"/>
                          <a:ea typeface="MS Mincho"/>
                        </a:rPr>
                        <a:t>se deben respetar plenamente la dignidad human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97" name=""/>
          <p:cNvGrpSpPr/>
          <p:nvPr/>
        </p:nvGrpSpPr>
        <p:grpSpPr>
          <a:xfrm>
            <a:off x="4397400" y="115920"/>
            <a:ext cx="4746600" cy="2665440"/>
            <a:chOff x="4397400" y="115920"/>
            <a:chExt cx="4746600" cy="2665440"/>
          </a:xfrm>
        </p:grpSpPr>
        <p:sp>
          <p:nvSpPr>
            <p:cNvPr id="198" name=""/>
            <p:cNvSpPr/>
            <p:nvPr/>
          </p:nvSpPr>
          <p:spPr>
            <a:xfrm>
              <a:off x="4397400" y="1555920"/>
              <a:ext cx="1441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Arial"/>
                </a:rPr>
                <a:t>Transl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Arial"/>
                </a:rPr>
                <a:t>cli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9" name="" descr=""/>
            <p:cNvPicPr/>
            <p:nvPr/>
          </p:nvPicPr>
          <p:blipFill>
            <a:blip r:embed="rId2"/>
            <a:stretch/>
          </p:blipFill>
          <p:spPr>
            <a:xfrm>
              <a:off x="4643280" y="115920"/>
              <a:ext cx="1221120" cy="115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"/>
            <p:cNvSpPr/>
            <p:nvPr/>
          </p:nvSpPr>
          <p:spPr>
            <a:xfrm>
              <a:off x="5149800" y="2205000"/>
              <a:ext cx="287280" cy="576360"/>
            </a:xfrm>
            <a:prstGeom prst="upDownArrow">
              <a:avLst>
                <a:gd name="adj1" fmla="val 50000"/>
                <a:gd name="adj2" fmla="val 39939"/>
              </a:avLst>
            </a:prstGeom>
            <a:solidFill>
              <a:srgbClr val="ffffff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1" name="" descr=""/>
            <p:cNvPicPr/>
            <p:nvPr/>
          </p:nvPicPr>
          <p:blipFill>
            <a:blip r:embed="rId3"/>
            <a:srcRect l="7921" t="15443" r="51213" b="31265"/>
            <a:stretch/>
          </p:blipFill>
          <p:spPr>
            <a:xfrm>
              <a:off x="5810400" y="496800"/>
              <a:ext cx="3333600" cy="1596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2" name=""/>
          <p:cNvGrpSpPr/>
          <p:nvPr/>
        </p:nvGrpSpPr>
        <p:grpSpPr>
          <a:xfrm>
            <a:off x="7740720" y="4149720"/>
            <a:ext cx="1439640" cy="936720"/>
            <a:chOff x="7740720" y="4149720"/>
            <a:chExt cx="1439640" cy="936720"/>
          </a:xfrm>
        </p:grpSpPr>
        <p:sp>
          <p:nvSpPr>
            <p:cNvPr id="203" name=""/>
            <p:cNvSpPr/>
            <p:nvPr/>
          </p:nvSpPr>
          <p:spPr>
            <a:xfrm>
              <a:off x="7812000" y="4149720"/>
              <a:ext cx="1225440" cy="936720"/>
            </a:xfrm>
            <a:prstGeom prst="can">
              <a:avLst>
                <a:gd name="adj" fmla="val 25000"/>
              </a:avLst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740720" y="4365720"/>
              <a:ext cx="1439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Arial"/>
                </a:rPr>
                <a:t>language mode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5" name=""/>
          <p:cNvSpPr/>
          <p:nvPr/>
        </p:nvSpPr>
        <p:spPr>
          <a:xfrm flipV="1">
            <a:off x="6804000" y="3789360"/>
            <a:ext cx="576360" cy="28728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2340000" y="1125360"/>
            <a:ext cx="1511280" cy="3456000"/>
            <a:chOff x="2340000" y="1125360"/>
            <a:chExt cx="1511280" cy="3456000"/>
          </a:xfrm>
        </p:grpSpPr>
        <p:grpSp>
          <p:nvGrpSpPr>
            <p:cNvPr id="207" name=""/>
            <p:cNvGrpSpPr/>
            <p:nvPr/>
          </p:nvGrpSpPr>
          <p:grpSpPr>
            <a:xfrm>
              <a:off x="2340000" y="4078080"/>
              <a:ext cx="1224000" cy="503280"/>
              <a:chOff x="2340000" y="4078080"/>
              <a:chExt cx="1224000" cy="503280"/>
            </a:xfrm>
          </p:grpSpPr>
          <p:sp>
            <p:nvSpPr>
              <p:cNvPr id="208" name=""/>
              <p:cNvSpPr/>
              <p:nvPr/>
            </p:nvSpPr>
            <p:spPr>
              <a:xfrm>
                <a:off x="2340000" y="4078080"/>
                <a:ext cx="1224000" cy="503280"/>
              </a:xfrm>
              <a:prstGeom prst="cube">
                <a:avLst>
                  <a:gd name="adj" fmla="val 25000"/>
                </a:avLst>
              </a:prstGeom>
              <a:solidFill>
                <a:srgbClr val="ffffff"/>
              </a:solidFill>
              <a:ln cap="sq"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2411280" y="4222440"/>
                <a:ext cx="1079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1400" spc="-1" strike="noStrike">
                    <a:solidFill>
                      <a:srgbClr val="000000"/>
                    </a:solidFill>
                    <a:latin typeface="Arial"/>
                  </a:rPr>
                  <a:t>Filter align.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0" name=""/>
            <p:cNvGrpSpPr/>
            <p:nvPr/>
          </p:nvGrpSpPr>
          <p:grpSpPr>
            <a:xfrm>
              <a:off x="2411280" y="2349360"/>
              <a:ext cx="1224000" cy="502920"/>
              <a:chOff x="2411280" y="2349360"/>
              <a:chExt cx="1224000" cy="502920"/>
            </a:xfrm>
          </p:grpSpPr>
          <p:sp>
            <p:nvSpPr>
              <p:cNvPr id="211" name=""/>
              <p:cNvSpPr/>
              <p:nvPr/>
            </p:nvSpPr>
            <p:spPr>
              <a:xfrm>
                <a:off x="2411280" y="2349360"/>
                <a:ext cx="1224000" cy="502920"/>
              </a:xfrm>
              <a:prstGeom prst="cube">
                <a:avLst>
                  <a:gd name="adj" fmla="val 25000"/>
                </a:avLst>
              </a:prstGeom>
              <a:noFill/>
              <a:ln cap="sq"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2411280" y="2493720"/>
                <a:ext cx="12240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1000" spc="-1" strike="noStrike">
                    <a:solidFill>
                      <a:srgbClr val="000000"/>
                    </a:solidFill>
                    <a:latin typeface="Arial"/>
                  </a:rPr>
                  <a:t>Tokenization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3" name=""/>
            <p:cNvGrpSpPr/>
            <p:nvPr/>
          </p:nvGrpSpPr>
          <p:grpSpPr>
            <a:xfrm>
              <a:off x="2340000" y="3500280"/>
              <a:ext cx="1224000" cy="542880"/>
              <a:chOff x="2340000" y="3500280"/>
              <a:chExt cx="1224000" cy="542880"/>
            </a:xfrm>
          </p:grpSpPr>
          <p:sp>
            <p:nvSpPr>
              <p:cNvPr id="214" name=""/>
              <p:cNvSpPr/>
              <p:nvPr/>
            </p:nvSpPr>
            <p:spPr>
              <a:xfrm>
                <a:off x="2340000" y="3500280"/>
                <a:ext cx="1224000" cy="502920"/>
              </a:xfrm>
              <a:prstGeom prst="cube">
                <a:avLst>
                  <a:gd name="adj" fmla="val 25000"/>
                </a:avLst>
              </a:prstGeom>
              <a:solidFill>
                <a:srgbClr val="ffffff"/>
              </a:solidFill>
              <a:ln cap="sq"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2411280" y="3644640"/>
                <a:ext cx="107964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1000" spc="-1" strike="noStrike">
                    <a:solidFill>
                      <a:srgbClr val="000000"/>
                    </a:solidFill>
                    <a:latin typeface="Arial"/>
                  </a:rPr>
                  <a:t>Score alignmen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6" name=""/>
            <p:cNvGrpSpPr/>
            <p:nvPr/>
          </p:nvGrpSpPr>
          <p:grpSpPr>
            <a:xfrm>
              <a:off x="2411280" y="1125360"/>
              <a:ext cx="1224000" cy="527040"/>
              <a:chOff x="2411280" y="1125360"/>
              <a:chExt cx="1224000" cy="527040"/>
            </a:xfrm>
          </p:grpSpPr>
          <p:sp>
            <p:nvSpPr>
              <p:cNvPr id="217" name=""/>
              <p:cNvSpPr/>
              <p:nvPr/>
            </p:nvSpPr>
            <p:spPr>
              <a:xfrm>
                <a:off x="2411280" y="1125360"/>
                <a:ext cx="1224000" cy="503280"/>
              </a:xfrm>
              <a:prstGeom prst="cube">
                <a:avLst>
                  <a:gd name="adj" fmla="val 25000"/>
                </a:avLst>
              </a:prstGeom>
              <a:solidFill>
                <a:srgbClr val="ffffff"/>
              </a:solidFill>
              <a:ln cap="sq"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2484360" y="1253880"/>
                <a:ext cx="93672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1000" spc="-1" strike="noStrike">
                    <a:solidFill>
                      <a:srgbClr val="000000"/>
                    </a:solidFill>
                    <a:latin typeface="Arial"/>
                  </a:rPr>
                  <a:t>Filter wrong languag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9" name=""/>
            <p:cNvGrpSpPr/>
            <p:nvPr/>
          </p:nvGrpSpPr>
          <p:grpSpPr>
            <a:xfrm>
              <a:off x="2411280" y="1773000"/>
              <a:ext cx="1224000" cy="503280"/>
              <a:chOff x="2411280" y="1773000"/>
              <a:chExt cx="1224000" cy="503280"/>
            </a:xfrm>
          </p:grpSpPr>
          <p:sp>
            <p:nvSpPr>
              <p:cNvPr id="220" name=""/>
              <p:cNvSpPr/>
              <p:nvPr/>
            </p:nvSpPr>
            <p:spPr>
              <a:xfrm>
                <a:off x="2411280" y="1773000"/>
                <a:ext cx="1224000" cy="503280"/>
              </a:xfrm>
              <a:prstGeom prst="cube">
                <a:avLst>
                  <a:gd name="adj" fmla="val 25000"/>
                </a:avLst>
              </a:prstGeom>
              <a:solidFill>
                <a:srgbClr val="ffffff"/>
              </a:solidFill>
              <a:ln cap="sq"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2484360" y="1917360"/>
                <a:ext cx="1079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1000" spc="-1" strike="noStrike">
                    <a:solidFill>
                      <a:srgbClr val="000000"/>
                    </a:solidFill>
                    <a:latin typeface="Arial"/>
                  </a:rPr>
                  <a:t>Sentence-spli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2" name=""/>
            <p:cNvSpPr/>
            <p:nvPr/>
          </p:nvSpPr>
          <p:spPr>
            <a:xfrm>
              <a:off x="3708360" y="1341000"/>
              <a:ext cx="142920" cy="576360"/>
            </a:xfrm>
            <a:custGeom>
              <a:avLst/>
              <a:gdLst>
                <a:gd name="textAreaLeft" fmla="*/ 19080 w 142920"/>
                <a:gd name="textAreaRight" fmla="*/ 123840 w 142920"/>
                <a:gd name="textAreaTop" fmla="*/ 100800 h 576360"/>
                <a:gd name="textAreaBottom" fmla="*/ 417960 h 5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708360" y="1989000"/>
              <a:ext cx="142920" cy="576000"/>
            </a:xfrm>
            <a:custGeom>
              <a:avLst/>
              <a:gdLst>
                <a:gd name="textAreaLeft" fmla="*/ 19080 w 142920"/>
                <a:gd name="textAreaRight" fmla="*/ 123840 w 142920"/>
                <a:gd name="textAreaTop" fmla="*/ 100800 h 576000"/>
                <a:gd name="textAreaBottom" fmla="*/ 417600 h 57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708360" y="2565000"/>
              <a:ext cx="142920" cy="576360"/>
            </a:xfrm>
            <a:custGeom>
              <a:avLst/>
              <a:gdLst>
                <a:gd name="textAreaLeft" fmla="*/ 19080 w 142920"/>
                <a:gd name="textAreaRight" fmla="*/ 123840 w 142920"/>
                <a:gd name="textAreaTop" fmla="*/ 100800 h 576360"/>
                <a:gd name="textAreaBottom" fmla="*/ 417960 h 5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708360" y="3141360"/>
              <a:ext cx="142920" cy="576360"/>
            </a:xfrm>
            <a:custGeom>
              <a:avLst/>
              <a:gdLst>
                <a:gd name="textAreaLeft" fmla="*/ 19080 w 142920"/>
                <a:gd name="textAreaRight" fmla="*/ 123840 w 142920"/>
                <a:gd name="textAreaTop" fmla="*/ 100800 h 576360"/>
                <a:gd name="textAreaBottom" fmla="*/ 417960 h 5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708360" y="3717720"/>
              <a:ext cx="142920" cy="576000"/>
            </a:xfrm>
            <a:custGeom>
              <a:avLst/>
              <a:gdLst>
                <a:gd name="textAreaLeft" fmla="*/ 19080 w 142920"/>
                <a:gd name="textAreaRight" fmla="*/ 123840 w 142920"/>
                <a:gd name="textAreaTop" fmla="*/ 100800 h 576000"/>
                <a:gd name="textAreaBottom" fmla="*/ 417600 h 57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7" name=""/>
            <p:cNvGrpSpPr/>
            <p:nvPr/>
          </p:nvGrpSpPr>
          <p:grpSpPr>
            <a:xfrm>
              <a:off x="2340000" y="2925360"/>
              <a:ext cx="1326960" cy="503280"/>
              <a:chOff x="2340000" y="2925360"/>
              <a:chExt cx="1326960" cy="503280"/>
            </a:xfrm>
          </p:grpSpPr>
          <p:sp>
            <p:nvSpPr>
              <p:cNvPr id="228" name=""/>
              <p:cNvSpPr/>
              <p:nvPr/>
            </p:nvSpPr>
            <p:spPr>
              <a:xfrm>
                <a:off x="2340000" y="2925360"/>
                <a:ext cx="1224000" cy="503280"/>
              </a:xfrm>
              <a:prstGeom prst="cube">
                <a:avLst>
                  <a:gd name="adj" fmla="val 25000"/>
                </a:avLst>
              </a:prstGeom>
              <a:solidFill>
                <a:srgbClr val="ffffff"/>
              </a:solidFill>
              <a:ln cap="sq"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2340000" y="3070080"/>
                <a:ext cx="13269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Arial"/>
                  </a:rPr>
                  <a:t>Sentence-alig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0" name=""/>
            <p:cNvGrpSpPr/>
            <p:nvPr/>
          </p:nvGrpSpPr>
          <p:grpSpPr>
            <a:xfrm>
              <a:off x="2340000" y="4078080"/>
              <a:ext cx="1224000" cy="503280"/>
              <a:chOff x="2340000" y="4078080"/>
              <a:chExt cx="1224000" cy="503280"/>
            </a:xfrm>
          </p:grpSpPr>
          <p:sp>
            <p:nvSpPr>
              <p:cNvPr id="231" name=""/>
              <p:cNvSpPr/>
              <p:nvPr/>
            </p:nvSpPr>
            <p:spPr>
              <a:xfrm>
                <a:off x="2340000" y="4078080"/>
                <a:ext cx="1224000" cy="503280"/>
              </a:xfrm>
              <a:prstGeom prst="cube">
                <a:avLst>
                  <a:gd name="adj" fmla="val 25000"/>
                </a:avLst>
              </a:prstGeom>
              <a:solidFill>
                <a:srgbClr val="ffffff"/>
              </a:solidFill>
              <a:ln cap="sq"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2411280" y="4222440"/>
                <a:ext cx="1079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1400" spc="-1" strike="noStrike">
                    <a:solidFill>
                      <a:srgbClr val="000000"/>
                    </a:solidFill>
                    <a:latin typeface="Arial"/>
                  </a:rPr>
                  <a:t>Filter align.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"/>
            <p:cNvGrpSpPr/>
            <p:nvPr/>
          </p:nvGrpSpPr>
          <p:grpSpPr>
            <a:xfrm>
              <a:off x="2411280" y="1125360"/>
              <a:ext cx="1224000" cy="527040"/>
              <a:chOff x="2411280" y="1125360"/>
              <a:chExt cx="1224000" cy="527040"/>
            </a:xfrm>
          </p:grpSpPr>
          <p:sp>
            <p:nvSpPr>
              <p:cNvPr id="234" name=""/>
              <p:cNvSpPr/>
              <p:nvPr/>
            </p:nvSpPr>
            <p:spPr>
              <a:xfrm>
                <a:off x="2411280" y="1125360"/>
                <a:ext cx="1224000" cy="503280"/>
              </a:xfrm>
              <a:prstGeom prst="cube">
                <a:avLst>
                  <a:gd name="adj" fmla="val 25000"/>
                </a:avLst>
              </a:prstGeom>
              <a:solidFill>
                <a:srgbClr val="ffffff"/>
              </a:solidFill>
              <a:ln cap="sq"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2484360" y="1253880"/>
                <a:ext cx="93672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1000" spc="-1" strike="noStrike">
                    <a:solidFill>
                      <a:srgbClr val="000000"/>
                    </a:solidFill>
                    <a:latin typeface="Arial"/>
                  </a:rPr>
                  <a:t>Filter wrong languag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6" name=""/>
          <p:cNvSpPr/>
          <p:nvPr/>
        </p:nvSpPr>
        <p:spPr>
          <a:xfrm>
            <a:off x="904320" y="6524640"/>
            <a:ext cx="343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itexts aligned at sentenc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394560" y="907920"/>
            <a:ext cx="1022040" cy="2365920"/>
            <a:chOff x="394560" y="907920"/>
            <a:chExt cx="1022040" cy="2365920"/>
          </a:xfrm>
        </p:grpSpPr>
        <p:grpSp>
          <p:nvGrpSpPr>
            <p:cNvPr id="238" name=""/>
            <p:cNvGrpSpPr/>
            <p:nvPr/>
          </p:nvGrpSpPr>
          <p:grpSpPr>
            <a:xfrm>
              <a:off x="400680" y="907920"/>
              <a:ext cx="1015920" cy="2365920"/>
              <a:chOff x="400680" y="907920"/>
              <a:chExt cx="1015920" cy="2365920"/>
            </a:xfrm>
          </p:grpSpPr>
          <p:sp>
            <p:nvSpPr>
              <p:cNvPr id="239" name=""/>
              <p:cNvSpPr/>
              <p:nvPr/>
            </p:nvSpPr>
            <p:spPr>
              <a:xfrm>
                <a:off x="401400" y="907920"/>
                <a:ext cx="1007640" cy="936360"/>
              </a:xfrm>
              <a:prstGeom prst="can">
                <a:avLst>
                  <a:gd name="adj" fmla="val 25000"/>
                </a:avLst>
              </a:prstGeom>
              <a:noFill/>
              <a:ln cap="sq"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400680" y="1142640"/>
                <a:ext cx="101592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1600" spc="-1" strike="noStrike">
                    <a:solidFill>
                      <a:srgbClr val="000000"/>
                    </a:solidFill>
                    <a:latin typeface="Arial"/>
                  </a:rPr>
                  <a:t>source</a:t>
                </a:r>
                <a:br>
                  <a:rPr sz="1600"/>
                </a:br>
                <a:r>
                  <a:rPr b="0" lang="fr-FR" sz="1600" spc="-1" strike="noStrike">
                    <a:solidFill>
                      <a:srgbClr val="000000"/>
                    </a:solidFill>
                    <a:latin typeface="Arial"/>
                  </a:rPr>
                  <a:t>languag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499320" y="2936520"/>
                <a:ext cx="792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i="1" lang="en-US" sz="1600" spc="-1" strike="noStrike">
                    <a:solidFill>
                      <a:srgbClr val="000000"/>
                    </a:solidFill>
                    <a:latin typeface="Arial"/>
                  </a:rPr>
                  <a:t>Bitext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2" name=""/>
            <p:cNvSpPr/>
            <p:nvPr/>
          </p:nvSpPr>
          <p:spPr>
            <a:xfrm>
              <a:off x="395280" y="1896840"/>
              <a:ext cx="1008000" cy="936720"/>
            </a:xfrm>
            <a:prstGeom prst="can">
              <a:avLst>
                <a:gd name="adj" fmla="val 25000"/>
              </a:avLst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94560" y="2131920"/>
              <a:ext cx="10159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Arial"/>
                </a:rPr>
                <a:t>target</a:t>
              </a:r>
              <a:br>
                <a:rPr sz="1600"/>
              </a:br>
              <a:r>
                <a:rPr b="0" lang="fr-FR" sz="1600" spc="-1" strike="noStrike">
                  <a:solidFill>
                    <a:srgbClr val="000000"/>
                  </a:solidFill>
                  <a:latin typeface="Arial"/>
                </a:rPr>
                <a:t>languag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0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4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2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500"/>
                            </p:stCondLst>
                            <p:childTnLst>
                              <p:par>
                                <p:cTn id="16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6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500"/>
                            </p:stCondLst>
                            <p:childTnLst>
                              <p:par>
                                <p:cTn id="17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5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8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1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6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304920" y="0"/>
            <a:ext cx="4843440" cy="11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600" spc="-1" strike="noStrike">
                <a:solidFill>
                  <a:srgbClr val="00408c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408c"/>
                </a:solidFill>
                <a:latin typeface="Arial"/>
              </a:rPr>
              <a:t>IPC contex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394920" y="1483920"/>
            <a:ext cx="82184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ther da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t existing defini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IPC schema (xml on WIPO websit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“few” texts from pat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rn” translation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late new tex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6840" y="240840"/>
            <a:ext cx="82184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00408c"/>
                </a:solidFill>
                <a:latin typeface="Arial"/>
              </a:rPr>
              <a:t>Get existing data, build parallel texts</a:t>
            </a: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2"/>
          <a:stretch/>
        </p:blipFill>
        <p:spPr>
          <a:xfrm>
            <a:off x="34920" y="1584360"/>
            <a:ext cx="4753080" cy="2178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248" name="" descr=""/>
          <p:cNvPicPr/>
          <p:nvPr/>
        </p:nvPicPr>
        <p:blipFill>
          <a:blip r:embed="rId3"/>
          <a:stretch/>
        </p:blipFill>
        <p:spPr>
          <a:xfrm>
            <a:off x="3564000" y="1557360"/>
            <a:ext cx="5280120" cy="2222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49" name=""/>
          <p:cNvSpPr/>
          <p:nvPr/>
        </p:nvSpPr>
        <p:spPr>
          <a:xfrm>
            <a:off x="34920" y="4067280"/>
            <a:ext cx="5402160" cy="1372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ipcEntry kind="1" symbol="B61F0019020000" ipcLevel="A" entryType="K" lang="EN"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textBody&gt; &lt;title&gt; &lt;titlePar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text&gt;Wheel guards&lt;/tex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/titlePart&gt;&lt;/title&gt;&lt;/textBody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/ipcEntry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189080" y="5850000"/>
            <a:ext cx="5565240" cy="916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/2013/0145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EN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" sz="1800" spc="-1" strike="noStrike">
                <a:solidFill>
                  <a:srgbClr val="000000"/>
                </a:solidFill>
                <a:latin typeface="Arial"/>
              </a:rPr>
              <a:t>TYRE FOR VEHICLE WHEEL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FR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NEUMATIQUE POUR ROUES DE VÉHI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61080" y="3789360"/>
            <a:ext cx="165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PC schema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20560" y="5537160"/>
            <a:ext cx="161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tent texts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403880" y="4060800"/>
            <a:ext cx="4128840" cy="1372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ipcEntry kind="1" symbol="B61F0019020000" ipcLevel="A" entryType="K" lang="FR"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textBody&gt; &lt;title&gt;&lt;titlePar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text&gt;Couvre-roues&lt;/tex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/titlePart&gt;&lt;/title&gt;&lt;/textBody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/ipcEntry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435640" y="4653000"/>
            <a:ext cx="1081080" cy="360360"/>
          </a:xfrm>
          <a:prstGeom prst="flowChartAlternateProcess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042920" y="4724280"/>
            <a:ext cx="1225440" cy="289080"/>
          </a:xfrm>
          <a:prstGeom prst="flowChartAlternateProcess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476360" y="3573360"/>
            <a:ext cx="576360" cy="289080"/>
          </a:xfrm>
          <a:prstGeom prst="flowChartAlternateProcess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932360" y="3500280"/>
            <a:ext cx="576360" cy="289080"/>
          </a:xfrm>
          <a:prstGeom prst="flowChartAlternateProcess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1763640" y="6093000"/>
            <a:ext cx="3384720" cy="360360"/>
          </a:xfrm>
          <a:prstGeom prst="flowChartAlternateProcess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763640" y="6453360"/>
            <a:ext cx="5040360" cy="404640"/>
          </a:xfrm>
          <a:prstGeom prst="flowChartAlternateProcess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484360" y="2133720"/>
            <a:ext cx="6586560" cy="1150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1" name=""/>
          <p:cNvGraphicFramePr/>
          <p:nvPr/>
        </p:nvGraphicFramePr>
        <p:xfrm>
          <a:off x="2411280" y="1989000"/>
          <a:ext cx="6551640" cy="1224000"/>
        </p:xfrm>
        <a:graphic>
          <a:graphicData uri="http://schemas.openxmlformats.org/drawingml/2006/table">
            <a:tbl>
              <a:tblPr/>
              <a:tblGrid>
                <a:gridCol w="2598840"/>
                <a:gridCol w="3952800"/>
              </a:tblGrid>
              <a:tr h="405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Whee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rou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438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Wheel guar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vre-rou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379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Tyre for vehicle whee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Pneumatique pour roues de véhi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</a:tbl>
          </a:graphicData>
        </a:graphic>
      </p:graphicFrame>
      <p:sp>
        <p:nvSpPr>
          <p:cNvPr id="262" name=""/>
          <p:cNvSpPr/>
          <p:nvPr/>
        </p:nvSpPr>
        <p:spPr>
          <a:xfrm>
            <a:off x="687960" y="1203480"/>
            <a:ext cx="229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isting definitions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851280" y="1700280"/>
            <a:ext cx="316872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text: training material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rot="1917000">
            <a:off x="1834920" y="2852640"/>
            <a:ext cx="574560" cy="5050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3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6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9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2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5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8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6840" y="240840"/>
            <a:ext cx="82184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00408c"/>
                </a:solidFill>
                <a:latin typeface="Arial"/>
              </a:rPr>
              <a:t>How well it works?</a:t>
            </a: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6840" y="1773360"/>
            <a:ext cx="8218440" cy="43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468360" y="1844640"/>
            <a:ext cx="8229600" cy="444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0480">
              <a:spcBef>
                <a:spcPts val="60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 evaluation: BLEU sc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04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ciple : similarity of n-grams between evaluated and reference sent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0480">
              <a:spcBef>
                <a:spcPts val="60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IPC definition English-French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leu=48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0480">
              <a:spcBef>
                <a:spcPts val="60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without patent data: 44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0480">
              <a:spcBef>
                <a:spcPts val="60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925640" y="4357800"/>
            <a:ext cx="502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od qu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3"/>
          <a:stretch/>
        </p:blipFill>
        <p:spPr>
          <a:xfrm>
            <a:off x="1763640" y="443700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4"/>
          <a:stretch/>
        </p:blipFill>
        <p:spPr>
          <a:xfrm>
            <a:off x="1763640" y="4869000"/>
            <a:ext cx="216000" cy="21564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/>
          <p:nvPr/>
        </p:nvSpPr>
        <p:spPr>
          <a:xfrm>
            <a:off x="1925640" y="4797360"/>
            <a:ext cx="502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eds human post-edi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554040" y="216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600" spc="-1" strike="noStrike">
                <a:solidFill>
                  <a:srgbClr val="00408c"/>
                </a:solidFill>
                <a:latin typeface="Arial"/>
              </a:rPr>
              <a:t>Tapta4IPC prototype (1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2"/>
          <a:stretch/>
        </p:blipFill>
        <p:spPr>
          <a:xfrm>
            <a:off x="379440" y="1198440"/>
            <a:ext cx="6608880" cy="337212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/>
          <p:nvPr/>
        </p:nvSpPr>
        <p:spPr>
          <a:xfrm>
            <a:off x="879480" y="5248440"/>
            <a:ext cx="5997600" cy="642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ve demo usin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http://</a:t>
            </a:r>
            <a:r>
              <a:rPr b="0" lang="en-US" sz="18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patentscope.wipo.int/translateUN/translateIPC.js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3T07:04:21Z</dcterms:created>
  <dc:creator>Bruno Pouliquen</dc:creator>
  <dc:description/>
  <cp:keywords>IPC</cp:keywords>
  <dc:language>en-US</dc:language>
  <cp:lastModifiedBy>Malanga</cp:lastModifiedBy>
  <dcterms:modified xsi:type="dcterms:W3CDTF">2013-02-25T18:54:54Z</dcterms:modified>
  <cp:revision>47</cp:revision>
  <dc:subject>IPC Workshop (2013) - Tapta4IPC:  helping translation of IPC definitions</dc:subject>
  <dc:title>IPC Workshop (2013) - Tapta4IPC:  helping translation of IPC definitions</dc:title>
</cp:coreProperties>
</file>