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C901-8ADB-4326-9028-E80F52B9B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2E01-D5EF-49EE-A120-B80D387BB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9EE0-7BC4-42C6-9BC4-9B1DD4A9F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9FC6-ECEE-4445-B3F7-EED2D8341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B37E-F069-4AC0-A787-72A932AD4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BC2B-D23F-47BF-B21C-73A461431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9EBF-DB30-41F8-90AD-C11000F4D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F631-497E-481A-AB6C-39BB2591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4E1F-3FA6-4EFC-B0C3-E1D479332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86DB-4BC6-474D-B8D4-C69C7D5D4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80AD-89EC-4B59-AD0E-CC9201F7E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ED8C-80E9-4642-84B8-22CF8E72F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8BDA-6619-4624-BB56-91CC2BF3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pub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hyperlink" Target="http://www.wipo.int/ipc/itos4ipc/ITSupport_and_download_area/20130101/pdf/scheme/full_ipc/eindex.html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pub/shared/htm/help_EN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classifications/ipc/en/ITsupport/prototypes/index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tools and illustrating materials in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CAT web service architectur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59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205000"/>
            <a:ext cx="165744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5772240" cy="454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93080" y="1628640"/>
            <a:ext cx="1726920" cy="2087640"/>
          </a:xfrm>
          <a:prstGeom prst="rect">
            <a:avLst/>
          </a:prstGeom>
          <a:solidFill>
            <a:srgbClr val="fff2d9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256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256536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492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07120" y="126828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2708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2421000"/>
            <a:ext cx="1008000" cy="100656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ftware application access using 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948360" y="2492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1740600"/>
            <a:ext cx="1152720" cy="45900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rowse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565360"/>
            <a:ext cx="100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2766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22766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77080" y="206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0560" y="112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5640" y="206064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2766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 used for call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of the document to be class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n which the text is written (English or 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C level at which the classification should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Return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ed categories at the requested IPC level, along with a confidence score for each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Example of potential appl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outing of text documents according to the technical field from the predicted IPC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se Retrieval of a group patent documents potentially related to a technical text (IPCCAT + bridge of the IPC internet pub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Java client to illustrate calls to IPCCAT Web servic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635120"/>
            <a:ext cx="916632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ownload and IT support for the IPC</a:t>
            </a:r>
            <a:endParaRPr b="0" lang="en-US" sz="35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classifications/ipc/en/support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 each IPC re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y products e.g. (PDF , statistics, valid symbol list, spreadsheet, list of affected symbols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ftware packages and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hub: http://www.wipo.int/classifications/ipc/en/ITsupport/links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support systems 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publication platform (IPCP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w Web services for Internet publication and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ap of IT resources for IPC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87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92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95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97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716360" y="3016080"/>
            <a:ext cx="2734920" cy="822240"/>
            <a:chOff x="4716360" y="3016080"/>
            <a:chExt cx="2734920" cy="822240"/>
          </a:xfrm>
        </p:grpSpPr>
        <p:sp>
          <p:nvSpPr>
            <p:cNvPr id="100" name=""/>
            <p:cNvSpPr/>
            <p:nvPr/>
          </p:nvSpPr>
          <p:spPr>
            <a:xfrm>
              <a:off x="4716360" y="3016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959360" y="3141720"/>
              <a:ext cx="2491920" cy="696600"/>
              <a:chOff x="4959360" y="3141720"/>
              <a:chExt cx="2491920" cy="69660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6098400" y="3141720"/>
                <a:ext cx="1352880" cy="39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0880" y="3539880"/>
                <a:ext cx="794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9360" y="3539880"/>
                <a:ext cx="109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8400" y="3548160"/>
                <a:ext cx="409680" cy="29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07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5640" y="-27000"/>
            <a:ext cx="3708360" cy="2448000"/>
            <a:chOff x="5435640" y="-27000"/>
            <a:chExt cx="3708360" cy="2448000"/>
          </a:xfrm>
        </p:grpSpPr>
        <p:grpSp>
          <p:nvGrpSpPr>
            <p:cNvPr id="110" name=""/>
            <p:cNvGrpSpPr/>
            <p:nvPr/>
          </p:nvGrpSpPr>
          <p:grpSpPr>
            <a:xfrm>
              <a:off x="5715000" y="-27000"/>
              <a:ext cx="3429000" cy="2094840"/>
              <a:chOff x="5715000" y="-27000"/>
              <a:chExt cx="3429000" cy="2094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715000" y="734760"/>
                <a:ext cx="1447560" cy="762120"/>
                <a:chOff x="5715000" y="734760"/>
                <a:chExt cx="1447560" cy="762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715000" y="734760"/>
                  <a:ext cx="1447560" cy="76212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15000" y="887040"/>
                  <a:ext cx="144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-</a:t>
                  </a: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4"/>
                    </a:rPr>
                    <a:t>foru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314840" y="-27000"/>
                <a:ext cx="1829160" cy="2094840"/>
                <a:chOff x="7314840" y="-27000"/>
                <a:chExt cx="1829160" cy="2094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543800" y="-27000"/>
                  <a:ext cx="1600200" cy="20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PC revision sugg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ist server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314840" y="73476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7314840" y="142020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5435640" y="1963800"/>
              <a:ext cx="1657440" cy="457200"/>
              <a:chOff x="5435640" y="1963800"/>
              <a:chExt cx="165744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5435640" y="1963800"/>
                <a:ext cx="1657440" cy="45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1963800"/>
                <a:ext cx="152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emplat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6443640" y="155700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24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40440" y="3284640"/>
            <a:ext cx="3919320" cy="1223640"/>
            <a:chOff x="5140440" y="3284640"/>
            <a:chExt cx="3919320" cy="1223640"/>
          </a:xfrm>
        </p:grpSpPr>
        <p:grpSp>
          <p:nvGrpSpPr>
            <p:cNvPr id="127" name=""/>
            <p:cNvGrpSpPr/>
            <p:nvPr/>
          </p:nvGrpSpPr>
          <p:grpSpPr>
            <a:xfrm>
              <a:off x="7612200" y="3284640"/>
              <a:ext cx="1447560" cy="550800"/>
              <a:chOff x="7612200" y="3284640"/>
              <a:chExt cx="1447560" cy="55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612200" y="328464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2200" y="331452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/>
                  </a:rPr>
                  <a:t>PD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140440" y="3957480"/>
              <a:ext cx="1447560" cy="550800"/>
              <a:chOff x="5140440" y="3957480"/>
              <a:chExt cx="1447560" cy="550800"/>
            </a:xfrm>
          </p:grpSpPr>
          <p:sp>
            <p:nvSpPr>
              <p:cNvPr id="131" name=""/>
              <p:cNvSpPr/>
              <p:nvPr/>
            </p:nvSpPr>
            <p:spPr>
              <a:xfrm>
                <a:off x="5140440" y="395748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40440" y="3987360"/>
                <a:ext cx="144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/>
                  </a:rPr>
                  <a:t>Static IP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659640" y="3860640"/>
              <a:ext cx="1806120" cy="550800"/>
              <a:chOff x="6659640" y="3860640"/>
              <a:chExt cx="1806120" cy="550800"/>
            </a:xfrm>
          </p:grpSpPr>
          <p:sp>
            <p:nvSpPr>
              <p:cNvPr id="134" name=""/>
              <p:cNvSpPr/>
              <p:nvPr/>
            </p:nvSpPr>
            <p:spPr>
              <a:xfrm>
                <a:off x="6659640" y="3860640"/>
                <a:ext cx="180612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59640" y="3890520"/>
                <a:ext cx="180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200" spc="-1" strike="noStrike">
                    <a:solidFill>
                      <a:srgbClr val="000000"/>
                    </a:solidFill>
                    <a:latin typeface="Arial"/>
                  </a:rPr>
                  <a:t>statistic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203640" y="2349360"/>
            <a:ext cx="1828800" cy="2070360"/>
            <a:chOff x="3203640" y="2349360"/>
            <a:chExt cx="1828800" cy="2070360"/>
          </a:xfrm>
        </p:grpSpPr>
        <p:sp>
          <p:nvSpPr>
            <p:cNvPr id="137" name=""/>
            <p:cNvSpPr/>
            <p:nvPr/>
          </p:nvSpPr>
          <p:spPr>
            <a:xfrm>
              <a:off x="3203640" y="3048120"/>
              <a:ext cx="18288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2240" y="33526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STER FI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2349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32000" y="4581360"/>
            <a:ext cx="3541680" cy="1909800"/>
            <a:chOff x="3132000" y="4581360"/>
            <a:chExt cx="3541680" cy="1909800"/>
          </a:xfrm>
        </p:grpSpPr>
        <p:grpSp>
          <p:nvGrpSpPr>
            <p:cNvPr id="141" name=""/>
            <p:cNvGrpSpPr/>
            <p:nvPr/>
          </p:nvGrpSpPr>
          <p:grpSpPr>
            <a:xfrm>
              <a:off x="3132000" y="5327640"/>
              <a:ext cx="1513080" cy="838080"/>
              <a:chOff x="3132000" y="5327640"/>
              <a:chExt cx="1513080" cy="838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132000" y="5327640"/>
                <a:ext cx="1513080" cy="8380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32000" y="5440320"/>
                <a:ext cx="1513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Arial"/>
                  </a:rPr>
                  <a:t>MCD @E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859280" y="5950080"/>
              <a:ext cx="1814400" cy="54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24360" y="4581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571640" y="5877000"/>
              <a:ext cx="28908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9280" y="603720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RE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59280" y="4005360"/>
            <a:ext cx="4143240" cy="2347920"/>
            <a:chOff x="4859280" y="4005360"/>
            <a:chExt cx="4143240" cy="2347920"/>
          </a:xfrm>
        </p:grpSpPr>
        <p:sp>
          <p:nvSpPr>
            <p:cNvPr id="149" name=""/>
            <p:cNvSpPr/>
            <p:nvPr/>
          </p:nvSpPr>
          <p:spPr>
            <a:xfrm>
              <a:off x="8548560" y="400536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59280" y="5200560"/>
              <a:ext cx="4143240" cy="1152720"/>
              <a:chOff x="4859280" y="5200560"/>
              <a:chExt cx="4143240" cy="1152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948360" y="5734080"/>
                <a:ext cx="2054160" cy="619200"/>
                <a:chOff x="6948360" y="5734080"/>
                <a:chExt cx="2054160" cy="619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360" y="5734080"/>
                  <a:ext cx="2054160" cy="6192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59240" y="5762520"/>
                  <a:ext cx="1943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2200" spc="-1" strike="noStrike">
                      <a:solidFill>
                        <a:srgbClr val="000000"/>
                      </a:solidFill>
                      <a:latin typeface="Arial"/>
                    </a:rPr>
                    <a:t>IPCA6TRANS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859280" y="5200560"/>
                <a:ext cx="1663920" cy="533520"/>
                <a:chOff x="4859280" y="5200560"/>
                <a:chExt cx="166392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859280" y="5200560"/>
                  <a:ext cx="1663920" cy="5335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859280" y="5274000"/>
                  <a:ext cx="166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PC b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revision support systems and IPC master fil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Where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fo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reworked and upgraded during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 to replace the IPC revision management system (RIPC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e impact on 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ipo.int/ipcpub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bilized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ersion 3.0 : Evolution towards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wards software package as virtual machine to simplify version up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62" name="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65" name="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70" name="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74" name="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77" name="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URL and web services of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RL based access e.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ipcpub/#refresh=notes&amp;menulang=FR&amp;notion=scheme&amp;version=20130101&amp;symbol=A01N&amp;indexes=no&amp;viewmode=a&amp;priorityorder=no&amp;showdeleted=no&amp;notes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urn a symbol selected in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valid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cumentation in the on-line help of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: Several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under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PUBPREP on-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what is the latest published version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IPC Symbol Val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n IPC Symbol version indic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one xml definition into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eb service for text categorization in the IPC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available since end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the IPCCA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about precision, coverage in the on-line help of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und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PC-IT download and IT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(including WSDL 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totype to illustrate calls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30:14Z</dcterms:modified>
  <cp:revision>49</cp:revision>
  <dc:subject>IPC Workshop (2013) - IT tools and illustrating materials</dc:subject>
  <dc:title>IPC Workshop (2013) - IT tools and illustrating materials</dc:title>
</cp:coreProperties>
</file>