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D2D81-1122-488C-83EF-8B128F8607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26CFB-358E-4A30-A12B-771E38B536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F5202-D86E-4AD7-8D42-0D69B7712E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F1AEA-0558-4BD6-96EB-01ADF56389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CB89B-D8B7-45D3-9992-4219B493A2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0085E-4F75-48E3-8CDF-A0DA2EDD9D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9D525-6B5E-4775-8382-B865F69709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C8255-1745-46FB-AC0F-D66E9F073A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0B2C5-3497-4DC1-AA16-4D6B12A17A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9D506-8A8D-4760-AD21-841E28BDEE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782E8-6A0B-46AA-AF53-C2AB855C56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CD4DC-EEE8-4666-8CF2-90BA43B89A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3C92-50C8-4E92-A69A-CDB52A26F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ipo.int/ripcis/index.htm" TargetMode="External"/><Relationship Id="rId3" Type="http://schemas.openxmlformats.org/officeDocument/2006/relationships/hyperlink" Target="http://www.wipo.int/ipc-ief/" TargetMode="External"/><Relationship Id="rId4" Type="http://schemas.openxmlformats.org/officeDocument/2006/relationships/hyperlink" Target="http://www.wipo.int/ipc/itos4ipc/ITSupport_and_download_area/20130101/pdf/scheme/full_ipc/eindex.html" TargetMode="External"/><Relationship Id="rId5" Type="http://schemas.openxmlformats.org/officeDocument/2006/relationships/hyperlink" Target="http://www.wipo.int/ipcpub" TargetMode="External"/><Relationship Id="rId6" Type="http://schemas.openxmlformats.org/officeDocument/2006/relationships/hyperlink" Target="http://www.wipo.int/classifications/ipc/en/ITsupport/Version20130101/transformations/viewer/index.htm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218960" y="3103560"/>
            <a:ext cx="65214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Third IPC Workshop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Common publication viewer of the IPC, CPC and F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249960" y="5253120"/>
            <a:ext cx="2147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3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Genev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February 25-26, 20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2836800"/>
            <a:ext cx="38088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30480" y="5805360"/>
            <a:ext cx="69339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Patrick Fiév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Head of IT System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00"/>
                </a:solidFill>
                <a:latin typeface="Arial"/>
                <a:ea typeface="ヒラギノ角ゴ Pro W3"/>
              </a:rPr>
              <a:t>F</a:t>
            </a:r>
            <a:r>
              <a:rPr b="1" lang="en-US" sz="4300" spc="-1" strike="noStrike">
                <a:solidFill>
                  <a:srgbClr val="663300"/>
                </a:solidFill>
                <a:latin typeface="Arial"/>
                <a:ea typeface="ヒラギノ角ゴ Pro W3"/>
              </a:rPr>
              <a:t>IPC</a:t>
            </a:r>
            <a:r>
              <a:rPr b="1" lang="en-US" sz="4300" spc="-1" strike="noStrike">
                <a:solidFill>
                  <a:srgbClr val="d41212"/>
                </a:solidFill>
                <a:latin typeface="Arial"/>
                <a:ea typeface="ヒラギノ角ゴ Pro W3"/>
              </a:rPr>
              <a:t>PC</a:t>
            </a:r>
            <a:r>
              <a:rPr b="1" lang="en-US" sz="43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 viewer project</a:t>
            </a:r>
            <a:endParaRPr b="0" lang="en-US" sz="43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50752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6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Planned impact on IPCPUB user interf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Parallel viewer only for the English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Preserve « path », « full » and « hierarchic »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IPC definitions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Exclusions: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ther language options (FR, EN/F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rrelevant tabs (e.g. RCL, Compilation Catch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PDF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Possibly some options of the sear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00"/>
                </a:solidFill>
                <a:latin typeface="Arial"/>
                <a:ea typeface="ヒラギノ角ゴ Pro W3"/>
              </a:rPr>
              <a:t>F</a:t>
            </a:r>
            <a:r>
              <a:rPr b="1" lang="en-US" sz="4300" spc="-1" strike="noStrike">
                <a:solidFill>
                  <a:srgbClr val="663300"/>
                </a:solidFill>
                <a:latin typeface="Arial"/>
                <a:ea typeface="ヒラギノ角ゴ Pro W3"/>
              </a:rPr>
              <a:t>IPC</a:t>
            </a:r>
            <a:r>
              <a:rPr b="1" lang="en-US" sz="4300" spc="-1" strike="noStrike">
                <a:solidFill>
                  <a:srgbClr val="d41212"/>
                </a:solidFill>
                <a:latin typeface="Arial"/>
                <a:ea typeface="ヒラギノ角ゴ Pro W3"/>
              </a:rPr>
              <a:t>PC</a:t>
            </a:r>
            <a:r>
              <a:rPr b="1" lang="en-US" sz="43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 viewer project</a:t>
            </a:r>
            <a:endParaRPr b="0" lang="en-US" sz="43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specific bridge for parallel 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bridge for FIPCPC view to esp@cenet / JPO-IPD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ore links to other classifications (ECLA, CPC, USP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00"/>
                </a:solidFill>
                <a:latin typeface="Arial"/>
                <a:ea typeface="ヒラギノ角ゴ Pro W3"/>
              </a:rPr>
              <a:t>F</a:t>
            </a:r>
            <a:r>
              <a:rPr b="1" lang="en-US" sz="4300" spc="-1" strike="noStrike">
                <a:solidFill>
                  <a:srgbClr val="663300"/>
                </a:solidFill>
                <a:latin typeface="Arial"/>
                <a:ea typeface="ヒラギノ角ゴ Pro W3"/>
              </a:rPr>
              <a:t>IPC</a:t>
            </a:r>
            <a:r>
              <a:rPr b="1" lang="en-US" sz="4300" spc="-1" strike="noStrike">
                <a:solidFill>
                  <a:srgbClr val="d41212"/>
                </a:solidFill>
                <a:latin typeface="Arial"/>
                <a:ea typeface="ヒラギノ角ゴ Pro W3"/>
              </a:rPr>
              <a:t>PC</a:t>
            </a:r>
            <a:r>
              <a:rPr b="1" lang="en-US" sz="43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 viewer project</a:t>
            </a:r>
            <a:endParaRPr b="0" lang="en-US" sz="43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Targeted timel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Presentation to the 46th IPC committee of Expert (20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Common publication viewer of the IPC, CPC and FI</a:t>
            </a:r>
            <a:endParaRPr b="0" lang="en-US" sz="39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E.g. How would you like to see FIPCP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4360" y="4916520"/>
            <a:ext cx="81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ct WIPO a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laims@wipo.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408c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The </a:t>
            </a:r>
            <a:r>
              <a:rPr b="1" lang="en-US" sz="3000" spc="-1" strike="noStrike">
                <a:solidFill>
                  <a:srgbClr val="006600"/>
                </a:solidFill>
                <a:latin typeface="Arial"/>
                <a:ea typeface="ヒラギノ角ゴ Pro W3"/>
              </a:rPr>
              <a:t>F</a:t>
            </a:r>
            <a:r>
              <a:rPr b="1" lang="en-US" sz="3000" spc="-1" strike="noStrike">
                <a:solidFill>
                  <a:srgbClr val="663300"/>
                </a:solidFill>
                <a:latin typeface="Arial"/>
                <a:ea typeface="ヒラギノ角ゴ Pro W3"/>
              </a:rPr>
              <a:t>IPC</a:t>
            </a:r>
            <a:r>
              <a:rPr b="1" lang="en-US" sz="3000" spc="-1" strike="noStrike">
                <a:solidFill>
                  <a:srgbClr val="d41212"/>
                </a:solidFill>
                <a:latin typeface="Arial"/>
                <a:ea typeface="ヒラギノ角ゴ Pro W3"/>
              </a:rPr>
              <a:t>PC</a:t>
            </a: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 viewer pro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status and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WIPO’s inten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Targeted tim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408c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The </a:t>
            </a:r>
            <a:r>
              <a:rPr b="1" lang="en-US" sz="3000" spc="-1" strike="noStrike">
                <a:solidFill>
                  <a:srgbClr val="006600"/>
                </a:solidFill>
                <a:latin typeface="Arial"/>
                <a:ea typeface="ヒラギノ角ゴ Pro W3"/>
              </a:rPr>
              <a:t>F</a:t>
            </a:r>
            <a:r>
              <a:rPr b="1" lang="en-US" sz="3000" spc="-1" strike="noStrike">
                <a:solidFill>
                  <a:srgbClr val="663300"/>
                </a:solidFill>
                <a:latin typeface="Arial"/>
                <a:ea typeface="ヒラギノ角ゴ Pro W3"/>
              </a:rPr>
              <a:t>IPC</a:t>
            </a:r>
            <a:r>
              <a:rPr b="1" lang="en-US" sz="3000" spc="-1" strike="noStrike">
                <a:solidFill>
                  <a:srgbClr val="d41212"/>
                </a:solidFill>
                <a:latin typeface="Arial"/>
                <a:ea typeface="ヒラギノ角ゴ Pro W3"/>
              </a:rPr>
              <a:t>PC</a:t>
            </a: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 viewer pro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viewer for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F</a:t>
            </a:r>
            <a:r>
              <a:rPr b="0" lang="en-US" sz="2400" spc="-1" strike="noStrike" u="sng">
                <a:solidFill>
                  <a:srgbClr val="006600"/>
                </a:solidFill>
                <a:uFillTx/>
                <a:latin typeface="Arial"/>
              </a:rPr>
              <a:t>I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/ </a:t>
            </a:r>
            <a:r>
              <a:rPr b="0" lang="en-US" sz="2400" spc="-1" strike="noStrike" u="sng">
                <a:solidFill>
                  <a:srgbClr val="663300"/>
                </a:solidFill>
                <a:uFillTx/>
                <a:latin typeface="Arial"/>
              </a:rPr>
              <a:t>I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US" sz="2400" spc="-1" strike="noStrike" u="sng">
                <a:solidFill>
                  <a:srgbClr val="663300"/>
                </a:solidFill>
                <a:uFillTx/>
                <a:latin typeface="Arial"/>
              </a:rPr>
              <a:t>C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/ </a:t>
            </a:r>
            <a:r>
              <a:rPr b="0" lang="en-US" sz="2400" spc="-1" strike="noStrike" u="sng">
                <a:solidFill>
                  <a:srgbClr val="d41212"/>
                </a:solidFill>
                <a:uFillTx/>
                <a:latin typeface="Arial"/>
              </a:rPr>
              <a:t>C</a:t>
            </a:r>
            <a:r>
              <a:rPr b="0" lang="en-US" sz="2400" spc="-1" strike="noStrike">
                <a:solidFill>
                  <a:srgbClr val="d41212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C centric i.e.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displays FI or CPC from IPC where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Functionnality extension to the IPC publication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00"/>
                </a:solidFill>
                <a:latin typeface="Arial"/>
                <a:ea typeface="ヒラギノ角ゴ Pro W3"/>
              </a:rPr>
              <a:t>F</a:t>
            </a:r>
            <a:r>
              <a:rPr b="1" lang="en-US" sz="4300" spc="-1" strike="noStrike">
                <a:solidFill>
                  <a:srgbClr val="663300"/>
                </a:solidFill>
                <a:latin typeface="Arial"/>
                <a:ea typeface="ヒラギノ角ゴ Pro W3"/>
              </a:rPr>
              <a:t>IPC</a:t>
            </a:r>
            <a:r>
              <a:rPr b="1" lang="en-US" sz="4300" spc="-1" strike="noStrike">
                <a:solidFill>
                  <a:srgbClr val="d41212"/>
                </a:solidFill>
                <a:latin typeface="Arial"/>
                <a:ea typeface="ヒラギノ角ゴ Pro W3"/>
              </a:rPr>
              <a:t>PC</a:t>
            </a:r>
            <a:r>
              <a:rPr b="1" lang="en-US" sz="43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 viewer project</a:t>
            </a:r>
            <a:endParaRPr b="0" lang="en-US" sz="43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Status: Delayed until Q2/201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Project preparation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Preliminary investigations through EPO/WIPO and JPO/WIPO bilateral meeting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00"/>
                </a:solidFill>
                <a:latin typeface="Arial"/>
                <a:ea typeface="ヒラギノ角ゴ Pro W3"/>
              </a:rPr>
              <a:t>F</a:t>
            </a:r>
            <a:r>
              <a:rPr b="1" lang="en-US" sz="4300" spc="-1" strike="noStrike">
                <a:solidFill>
                  <a:srgbClr val="663300"/>
                </a:solidFill>
                <a:latin typeface="Arial"/>
                <a:ea typeface="ヒラギノ角ゴ Pro W3"/>
              </a:rPr>
              <a:t>IPC</a:t>
            </a:r>
            <a:r>
              <a:rPr b="1" lang="en-US" sz="4300" spc="-1" strike="noStrike">
                <a:solidFill>
                  <a:srgbClr val="d41212"/>
                </a:solidFill>
                <a:latin typeface="Arial"/>
                <a:ea typeface="ヒラギノ角ゴ Pro W3"/>
              </a:rPr>
              <a:t>PC</a:t>
            </a:r>
            <a:r>
              <a:rPr b="1" lang="en-US" sz="43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 viewer project</a:t>
            </a:r>
            <a:endParaRPr b="0" lang="en-US" sz="43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Current assump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PC to CPC and IPC to FI is 100% 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WIPO can get CPC and FI in fully specified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CPC + FI specific texts are 100% marked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Extension of IPCPUB functionnality where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00"/>
                </a:solidFill>
                <a:latin typeface="Arial"/>
                <a:ea typeface="ヒラギノ角ゴ Pro W3"/>
              </a:rPr>
              <a:t>F</a:t>
            </a:r>
            <a:r>
              <a:rPr b="1" lang="en-US" sz="4300" spc="-1" strike="noStrike">
                <a:solidFill>
                  <a:srgbClr val="663300"/>
                </a:solidFill>
                <a:latin typeface="Arial"/>
                <a:ea typeface="ヒラギノ角ゴ Pro W3"/>
              </a:rPr>
              <a:t>IPC</a:t>
            </a:r>
            <a:r>
              <a:rPr b="1" lang="en-US" sz="4300" spc="-1" strike="noStrike">
                <a:solidFill>
                  <a:srgbClr val="d41212"/>
                </a:solidFill>
                <a:latin typeface="Arial"/>
                <a:ea typeface="ヒラギノ角ゴ Pro W3"/>
              </a:rPr>
              <a:t>PC</a:t>
            </a:r>
            <a:r>
              <a:rPr b="1" lang="en-US" sz="43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 viewer project</a:t>
            </a:r>
            <a:endParaRPr b="0" lang="en-US" sz="43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WIPO’s intentions (excerpt from a 2010 WIPO presentati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03200" y="537264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-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07920" y="5407560"/>
            <a:ext cx="144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c-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340000" y="2408400"/>
            <a:ext cx="3816360" cy="3110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11280" y="2719440"/>
            <a:ext cx="3816360" cy="552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4643280" y="2709720"/>
            <a:ext cx="3816360" cy="1516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2340000" y="4208400"/>
            <a:ext cx="3816360" cy="3110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611280" y="4519440"/>
            <a:ext cx="3816360" cy="854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4643280" y="4508640"/>
            <a:ext cx="3816360" cy="37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00"/>
                </a:solidFill>
                <a:latin typeface="Arial"/>
                <a:ea typeface="ヒラギノ角ゴ Pro W3"/>
              </a:rPr>
              <a:t>F</a:t>
            </a:r>
            <a:r>
              <a:rPr b="1" lang="en-US" sz="4300" spc="-1" strike="noStrike">
                <a:solidFill>
                  <a:srgbClr val="663300"/>
                </a:solidFill>
                <a:latin typeface="Arial"/>
                <a:ea typeface="ヒラギノ角ゴ Pro W3"/>
              </a:rPr>
              <a:t>IPC</a:t>
            </a:r>
            <a:r>
              <a:rPr b="1" lang="en-US" sz="4300" spc="-1" strike="noStrike">
                <a:solidFill>
                  <a:srgbClr val="d41212"/>
                </a:solidFill>
                <a:latin typeface="Arial"/>
                <a:ea typeface="ヒラギノ角ゴ Pro W3"/>
              </a:rPr>
              <a:t>PC</a:t>
            </a:r>
            <a:r>
              <a:rPr b="1" lang="en-US" sz="43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 viewer project</a:t>
            </a:r>
            <a:endParaRPr b="0" lang="en-US" sz="43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With further considera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7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PC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4292640"/>
            <a:ext cx="9145440" cy="903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835280" y="4581360"/>
            <a:ext cx="4608360" cy="936720"/>
          </a:xfrm>
          <a:prstGeom prst="ellipse">
            <a:avLst/>
          </a:prstGeom>
          <a:noFill/>
          <a:ln w="38160">
            <a:solidFill>
              <a:srgbClr val="d412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4920" y="2898720"/>
            <a:ext cx="9080640" cy="530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68360" y="371808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9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CPC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00"/>
                </a:solidFill>
                <a:latin typeface="Arial"/>
                <a:ea typeface="ヒラギノ角ゴ Pro W3"/>
              </a:rPr>
              <a:t>F</a:t>
            </a:r>
            <a:r>
              <a:rPr b="1" lang="en-US" sz="4300" spc="-1" strike="noStrike">
                <a:solidFill>
                  <a:srgbClr val="663300"/>
                </a:solidFill>
                <a:latin typeface="Arial"/>
                <a:ea typeface="ヒラギノ角ゴ Pro W3"/>
              </a:rPr>
              <a:t>IPC</a:t>
            </a:r>
            <a:r>
              <a:rPr b="1" lang="en-US" sz="4300" spc="-1" strike="noStrike">
                <a:solidFill>
                  <a:srgbClr val="d41212"/>
                </a:solidFill>
                <a:latin typeface="Arial"/>
                <a:ea typeface="ヒラギノ角ゴ Pro W3"/>
              </a:rPr>
              <a:t>PC</a:t>
            </a:r>
            <a:r>
              <a:rPr b="1" lang="en-US" sz="43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 viewer project</a:t>
            </a:r>
            <a:endParaRPr b="0" lang="en-US" sz="43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With further considera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Synchronization rules between IPC/CPC/F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concordance table or algorith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Synchronized scrolling / independent scrolling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mpact on the software package for patent off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e.g. IPC in SK with CPC and FI in EN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Disable FIPCPC options from the packa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43920"/>
            <a:ext cx="64198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1212"/>
                </a:solidFill>
                <a:latin typeface="Arial"/>
              </a:rPr>
              <a:t>Impact of FIPCPC on IT resources for IPC</a:t>
            </a: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3200" y="1989000"/>
            <a:ext cx="8229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880" y="2514600"/>
            <a:ext cx="9753480" cy="0"/>
          </a:xfrm>
          <a:prstGeom prst="line">
            <a:avLst/>
          </a:prstGeom>
          <a:ln w="572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55520" y="1295280"/>
            <a:ext cx="2671560" cy="1600200"/>
            <a:chOff x="155520" y="1295280"/>
            <a:chExt cx="2671560" cy="1600200"/>
          </a:xfrm>
        </p:grpSpPr>
        <p:sp>
          <p:nvSpPr>
            <p:cNvPr id="111" name=""/>
            <p:cNvSpPr/>
            <p:nvPr/>
          </p:nvSpPr>
          <p:spPr>
            <a:xfrm>
              <a:off x="155520" y="1295280"/>
              <a:ext cx="2671560" cy="9471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vision of edition N+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1679040" y="2297160"/>
              <a:ext cx="4680" cy="598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 flipH="1">
            <a:off x="2880" y="4952880"/>
            <a:ext cx="9753480" cy="0"/>
          </a:xfrm>
          <a:prstGeom prst="line">
            <a:avLst/>
          </a:prstGeom>
          <a:ln w="572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5520" y="5440320"/>
            <a:ext cx="266688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blication of edition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57320" y="2971800"/>
            <a:ext cx="2663640" cy="2362320"/>
            <a:chOff x="157320" y="2971800"/>
            <a:chExt cx="2663640" cy="2362320"/>
          </a:xfrm>
        </p:grpSpPr>
        <p:sp>
          <p:nvSpPr>
            <p:cNvPr id="116" name=""/>
            <p:cNvSpPr/>
            <p:nvPr/>
          </p:nvSpPr>
          <p:spPr>
            <a:xfrm>
              <a:off x="157320" y="2971800"/>
              <a:ext cx="2663640" cy="1818000"/>
            </a:xfrm>
            <a:prstGeom prst="rect">
              <a:avLst/>
            </a:prstGeom>
            <a:solidFill>
              <a:srgbClr val="98d0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arl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ccess to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dition N+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45920" y="48006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3203640" y="1219320"/>
            <a:ext cx="2361600" cy="1066680"/>
            <a:chOff x="3203640" y="1219320"/>
            <a:chExt cx="2361600" cy="1066680"/>
          </a:xfrm>
        </p:grpSpPr>
        <p:sp>
          <p:nvSpPr>
            <p:cNvPr id="119" name=""/>
            <p:cNvSpPr/>
            <p:nvPr/>
          </p:nvSpPr>
          <p:spPr>
            <a:xfrm flipH="1">
              <a:off x="4879800" y="1295280"/>
              <a:ext cx="6854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3203640" y="1219320"/>
              <a:ext cx="1472760" cy="1066680"/>
              <a:chOff x="3203640" y="1219320"/>
              <a:chExt cx="1472760" cy="1066680"/>
            </a:xfrm>
          </p:grpSpPr>
          <p:sp>
            <p:nvSpPr>
              <p:cNvPr id="121" name=""/>
              <p:cNvSpPr/>
              <p:nvPr/>
            </p:nvSpPr>
            <p:spPr>
              <a:xfrm>
                <a:off x="3203640" y="1219320"/>
                <a:ext cx="1447560" cy="106668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355920" y="1523880"/>
                <a:ext cx="1320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2"/>
                  </a:rPr>
                  <a:t>RIPCI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"/>
          <p:cNvSpPr/>
          <p:nvPr/>
        </p:nvSpPr>
        <p:spPr>
          <a:xfrm>
            <a:off x="3203640" y="3137040"/>
            <a:ext cx="1828800" cy="1371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32240" y="3352680"/>
            <a:ext cx="1447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PC MASTER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715000" y="-27000"/>
            <a:ext cx="3429000" cy="2094840"/>
            <a:chOff x="5715000" y="-27000"/>
            <a:chExt cx="3429000" cy="2094840"/>
          </a:xfrm>
        </p:grpSpPr>
        <p:grpSp>
          <p:nvGrpSpPr>
            <p:cNvPr id="126" name=""/>
            <p:cNvGrpSpPr/>
            <p:nvPr/>
          </p:nvGrpSpPr>
          <p:grpSpPr>
            <a:xfrm>
              <a:off x="5715000" y="734760"/>
              <a:ext cx="1447560" cy="762120"/>
              <a:chOff x="5715000" y="734760"/>
              <a:chExt cx="1447560" cy="762120"/>
            </a:xfrm>
          </p:grpSpPr>
          <p:sp>
            <p:nvSpPr>
              <p:cNvPr id="127" name=""/>
              <p:cNvSpPr/>
              <p:nvPr/>
            </p:nvSpPr>
            <p:spPr>
              <a:xfrm>
                <a:off x="5715000" y="734760"/>
                <a:ext cx="1447560" cy="76212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715000" y="887040"/>
                <a:ext cx="144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E-</a:t>
                </a:r>
                <a:r>
                  <a:rPr b="0" lang="en-US" sz="24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3"/>
                  </a:rPr>
                  <a:t>foru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7314840" y="-27000"/>
              <a:ext cx="1829160" cy="2094840"/>
              <a:chOff x="7314840" y="-27000"/>
              <a:chExt cx="1829160" cy="2094840"/>
            </a:xfrm>
          </p:grpSpPr>
          <p:sp>
            <p:nvSpPr>
              <p:cNvPr id="130" name=""/>
              <p:cNvSpPr/>
              <p:nvPr/>
            </p:nvSpPr>
            <p:spPr>
              <a:xfrm>
                <a:off x="7543800" y="-27000"/>
                <a:ext cx="1600200" cy="209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PC revision suggestion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list server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7314840" y="73476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 flipV="1">
                <a:off x="7314840" y="142020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3" name=""/>
          <p:cNvGrpSpPr/>
          <p:nvPr/>
        </p:nvGrpSpPr>
        <p:grpSpPr>
          <a:xfrm>
            <a:off x="7612200" y="3284640"/>
            <a:ext cx="1447560" cy="550800"/>
            <a:chOff x="7612200" y="3284640"/>
            <a:chExt cx="1447560" cy="550800"/>
          </a:xfrm>
        </p:grpSpPr>
        <p:sp>
          <p:nvSpPr>
            <p:cNvPr id="134" name=""/>
            <p:cNvSpPr/>
            <p:nvPr/>
          </p:nvSpPr>
          <p:spPr>
            <a:xfrm>
              <a:off x="7612200" y="3284640"/>
              <a:ext cx="1447560" cy="550800"/>
            </a:xfrm>
            <a:prstGeom prst="ellipse">
              <a:avLst/>
            </a:prstGeom>
            <a:solidFill>
              <a:srgbClr val="98d0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12200" y="331452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Arial"/>
                  <a:hlinkClick r:id="rId4"/>
                </a:rPr>
                <a:t>PD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4716360" y="301608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959360" y="3141720"/>
            <a:ext cx="2491920" cy="696600"/>
            <a:chOff x="4959360" y="3141720"/>
            <a:chExt cx="2491920" cy="696600"/>
          </a:xfrm>
        </p:grpSpPr>
        <p:sp>
          <p:nvSpPr>
            <p:cNvPr id="138" name=""/>
            <p:cNvSpPr/>
            <p:nvPr/>
          </p:nvSpPr>
          <p:spPr>
            <a:xfrm flipV="1">
              <a:off x="6098400" y="3141720"/>
              <a:ext cx="1352880" cy="398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050880" y="3539880"/>
              <a:ext cx="794160" cy="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59360" y="3539880"/>
              <a:ext cx="1091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098400" y="3548160"/>
              <a:ext cx="409680" cy="29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132000" y="5327640"/>
            <a:ext cx="1513080" cy="838080"/>
            <a:chOff x="3132000" y="5327640"/>
            <a:chExt cx="1513080" cy="838080"/>
          </a:xfrm>
        </p:grpSpPr>
        <p:sp>
          <p:nvSpPr>
            <p:cNvPr id="143" name=""/>
            <p:cNvSpPr/>
            <p:nvPr/>
          </p:nvSpPr>
          <p:spPr>
            <a:xfrm>
              <a:off x="3132000" y="5327640"/>
              <a:ext cx="1513080" cy="83808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32000" y="5440320"/>
              <a:ext cx="1513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000" spc="-1" strike="noStrike">
                  <a:solidFill>
                    <a:srgbClr val="000000"/>
                  </a:solidFill>
                  <a:latin typeface="Arial"/>
                </a:rPr>
                <a:t>MCD @EP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7451640" y="2590920"/>
            <a:ext cx="1447560" cy="550800"/>
            <a:chOff x="7451640" y="2590920"/>
            <a:chExt cx="1447560" cy="550800"/>
          </a:xfrm>
        </p:grpSpPr>
        <p:sp>
          <p:nvSpPr>
            <p:cNvPr id="146" name=""/>
            <p:cNvSpPr/>
            <p:nvPr/>
          </p:nvSpPr>
          <p:spPr>
            <a:xfrm>
              <a:off x="7451640" y="2590920"/>
              <a:ext cx="1447560" cy="550800"/>
            </a:xfrm>
            <a:prstGeom prst="ellipse">
              <a:avLst/>
            </a:prstGeom>
            <a:solidFill>
              <a:srgbClr val="98d0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 u="sng">
                  <a:solidFill>
                    <a:srgbClr val="009999"/>
                  </a:solidFill>
                  <a:uFillTx/>
                  <a:latin typeface="Arial"/>
                  <a:hlinkClick r:id="rId5"/>
                </a:rPr>
                <a:t>IPCPU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451640" y="2667240"/>
              <a:ext cx="1447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435640" y="1963800"/>
            <a:ext cx="1657440" cy="457200"/>
            <a:chOff x="5435640" y="1963800"/>
            <a:chExt cx="1657440" cy="457200"/>
          </a:xfrm>
        </p:grpSpPr>
        <p:sp>
          <p:nvSpPr>
            <p:cNvPr id="149" name=""/>
            <p:cNvSpPr/>
            <p:nvPr/>
          </p:nvSpPr>
          <p:spPr>
            <a:xfrm>
              <a:off x="5435640" y="1963800"/>
              <a:ext cx="1657440" cy="4572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64160" y="1963800"/>
              <a:ext cx="1528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Templat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 flipV="1">
            <a:off x="6443640" y="155700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51000" y="1066680"/>
            <a:ext cx="0" cy="5486400"/>
          </a:xfrm>
          <a:prstGeom prst="line">
            <a:avLst/>
          </a:prstGeom>
          <a:ln w="572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5140440" y="3957480"/>
            <a:ext cx="1447560" cy="550800"/>
            <a:chOff x="5140440" y="3957480"/>
            <a:chExt cx="1447560" cy="550800"/>
          </a:xfrm>
        </p:grpSpPr>
        <p:sp>
          <p:nvSpPr>
            <p:cNvPr id="154" name=""/>
            <p:cNvSpPr/>
            <p:nvPr/>
          </p:nvSpPr>
          <p:spPr>
            <a:xfrm>
              <a:off x="5140440" y="3957480"/>
              <a:ext cx="1447560" cy="550800"/>
            </a:xfrm>
            <a:prstGeom prst="ellipse">
              <a:avLst/>
            </a:prstGeom>
            <a:solidFill>
              <a:srgbClr val="98d0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140440" y="3987360"/>
              <a:ext cx="1447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 u="sng">
                  <a:solidFill>
                    <a:srgbClr val="009999"/>
                  </a:solidFill>
                  <a:uFillTx/>
                  <a:latin typeface="Arial"/>
                  <a:hlinkClick r:id="rId6"/>
                </a:rPr>
                <a:t>Static IPC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8548560" y="4005360"/>
            <a:ext cx="0" cy="863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6948360" y="5084640"/>
            <a:ext cx="2054160" cy="619200"/>
            <a:chOff x="6948360" y="5084640"/>
            <a:chExt cx="2054160" cy="619200"/>
          </a:xfrm>
        </p:grpSpPr>
        <p:sp>
          <p:nvSpPr>
            <p:cNvPr id="158" name=""/>
            <p:cNvSpPr/>
            <p:nvPr/>
          </p:nvSpPr>
          <p:spPr>
            <a:xfrm>
              <a:off x="6948360" y="5084640"/>
              <a:ext cx="2054160" cy="6192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059240" y="5113080"/>
              <a:ext cx="1943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PCCA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6948360" y="5734080"/>
            <a:ext cx="2054160" cy="619200"/>
            <a:chOff x="6948360" y="5734080"/>
            <a:chExt cx="2054160" cy="619200"/>
          </a:xfrm>
        </p:grpSpPr>
        <p:sp>
          <p:nvSpPr>
            <p:cNvPr id="161" name=""/>
            <p:cNvSpPr/>
            <p:nvPr/>
          </p:nvSpPr>
          <p:spPr>
            <a:xfrm>
              <a:off x="6948360" y="5734080"/>
              <a:ext cx="2054160" cy="6192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59240" y="5762520"/>
              <a:ext cx="1943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200" spc="-1" strike="noStrike">
                  <a:solidFill>
                    <a:srgbClr val="000000"/>
                  </a:solidFill>
                  <a:latin typeface="Arial"/>
                </a:rPr>
                <a:t>IPCA6TRAN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859280" y="5950080"/>
            <a:ext cx="1814400" cy="541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859280" y="603720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CRE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4859280" y="5200560"/>
            <a:ext cx="1663920" cy="533520"/>
            <a:chOff x="4859280" y="5200560"/>
            <a:chExt cx="1663920" cy="533520"/>
          </a:xfrm>
        </p:grpSpPr>
        <p:sp>
          <p:nvSpPr>
            <p:cNvPr id="166" name=""/>
            <p:cNvSpPr/>
            <p:nvPr/>
          </p:nvSpPr>
          <p:spPr>
            <a:xfrm>
              <a:off x="4859280" y="5200560"/>
              <a:ext cx="1663920" cy="53352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59280" y="5274000"/>
              <a:ext cx="166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PC brid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659640" y="3860640"/>
            <a:ext cx="1806120" cy="550800"/>
            <a:chOff x="6659640" y="3860640"/>
            <a:chExt cx="1806120" cy="550800"/>
          </a:xfrm>
        </p:grpSpPr>
        <p:sp>
          <p:nvSpPr>
            <p:cNvPr id="169" name=""/>
            <p:cNvSpPr/>
            <p:nvPr/>
          </p:nvSpPr>
          <p:spPr>
            <a:xfrm>
              <a:off x="6659640" y="3860640"/>
              <a:ext cx="1806120" cy="550800"/>
            </a:xfrm>
            <a:prstGeom prst="ellipse">
              <a:avLst/>
            </a:prstGeom>
            <a:solidFill>
              <a:srgbClr val="98d0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659640" y="3890520"/>
              <a:ext cx="1806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200" spc="-1" strike="noStrike">
                  <a:solidFill>
                    <a:srgbClr val="000000"/>
                  </a:solidFill>
                  <a:latin typeface="Arial"/>
                </a:rPr>
                <a:t>statistic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851280" y="2349360"/>
            <a:ext cx="0" cy="648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24360" y="4581360"/>
            <a:ext cx="0" cy="648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571640" y="5877000"/>
            <a:ext cx="289080" cy="288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95640" y="2421000"/>
            <a:ext cx="5042160" cy="1008000"/>
          </a:xfrm>
          <a:prstGeom prst="ellipse">
            <a:avLst/>
          </a:prstGeom>
          <a:noFill/>
          <a:ln w="57240">
            <a:solidFill>
              <a:srgbClr val="d412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282920" y="4940280"/>
            <a:ext cx="2737080" cy="936720"/>
          </a:xfrm>
          <a:prstGeom prst="ellipse">
            <a:avLst/>
          </a:prstGeom>
          <a:noFill/>
          <a:ln w="57240">
            <a:solidFill>
              <a:srgbClr val="d412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84720" y="2658960"/>
            <a:ext cx="280836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d41212"/>
                </a:solidFill>
                <a:latin typeface="Arial"/>
              </a:rPr>
              <a:t>+ CPC&amp;FI XML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4T09:50:24Z</dcterms:created>
  <dc:creator>Fievet</dc:creator>
  <dc:description/>
  <cp:keywords>IPC</cp:keywords>
  <dc:language>en-US</dc:language>
  <cp:lastModifiedBy>Malanga</cp:lastModifiedBy>
  <dcterms:modified xsi:type="dcterms:W3CDTF">2013-02-25T13:13:53Z</dcterms:modified>
  <cp:revision>50</cp:revision>
  <dc:subject>IPC Workshop (2013) - Common publication viewer for FI IPC CPC</dc:subject>
  <dc:title>IPC Workshop (2013) - Common publication viewer for FI IPC CPC</dc:title>
</cp:coreProperties>
</file>