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D17-8422-45F2-A650-9FD79D9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329-D4FC-494A-9995-96F1555B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E1F-E3E4-4504-9DBB-36C90BA5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DB6-EF75-4D98-89AD-A38C012E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00CB-DAE1-4500-B89D-703E01D2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525-8FD5-403C-865F-8C6EB5D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660E-423A-406F-842F-DFCFA6B1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A39-C5CA-4488-AD56-357EFB69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9C2D-9992-41CD-A49B-AE9F428F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3348-235F-4B8E-A1C4-308ABBC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5FF2-F938-4327-A91F-AEFEC09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993-8AD4-4EB6-BAC3-052283C5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B78C-DB01-4982-B347-A68AD1B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1332-A4E4-42E3-BB6C-DA8787E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30BE-35B0-4F2D-A2BA-1D86EF49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6C0-B8B1-4B8D-8185-B4F43BE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324-DF1D-4937-B122-70D9DA73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250-859F-487D-88AC-A64FD97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1A2-307C-477D-BCE6-1B6ABEB1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906-399A-460A-8EF0-F95F1C0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F8A-048A-4A26-AADC-F0155C36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AA1-50CA-4321-AB33-655BDA6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DDA-B5F8-4AFD-8138-B52A948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E77-27D3-41C8-B01F-FD27B7D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0A4-2D0F-4233-86D4-17736BA02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E03-33FD-4F1B-9DC5-155B5C6523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IPC-CPC-FI experimental view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and possible applications </a:t>
            </a:r>
            <a:br>
              <a:rPr sz="44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x samp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505040" cy="4643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8560" y="5867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19320"/>
            <a:ext cx="2133720" cy="533160"/>
          </a:xfrm>
          <a:prstGeom prst="wedgeRectCallout">
            <a:avLst>
              <a:gd name="adj1" fmla="val -21578"/>
              <a:gd name="adj2" fmla="val 18273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d to IPC and found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2133720" cy="304920"/>
          </a:xfrm>
          <a:prstGeom prst="wedgeRectCallout">
            <a:avLst>
              <a:gd name="adj1" fmla="val -103722"/>
              <a:gd name="adj2" fmla="val 16823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if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4114800"/>
            <a:ext cx="2133720" cy="304920"/>
          </a:xfrm>
          <a:prstGeom prst="wedgeRectCallout">
            <a:avLst>
              <a:gd name="adj1" fmla="val -70833"/>
              <a:gd name="adj2" fmla="val -208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733560" cy="291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2360" y="59436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C 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PC and IPC schem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T aspec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structured classific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C available in English, in multiple XML files, and PDF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available in English and French, in a single XML master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mat of the XML files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of texts is difficult but necessary marks are given in C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bvious to convert them in either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on a common platform may be difficult without harm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a common plat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ncor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of IPC revision work (harmon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ility of convers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C to IPC scheme master file-like XML is checke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roof of concept, for supporting both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TD, similar to IPC master file DTD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ing a limited set of new elements (&lt;5) and attributes (&lt;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as a custom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a set of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nce converted and 2…/… codes added as extension of the concor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e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four-pane presentation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| concordance | C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 (just as an on-the-fly retrieval by UR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browsing with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in one window also moves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ing on text synchronizes the other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ing concordance and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62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7920" y="51814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ordance of 2…/… symbol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when texts are equ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ort of revision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iblity of conversion of CPC scheme parts is 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x XML format, uploadable to RIPCIS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Word file created, uploadable to the e-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set of CPC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267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2:37:22Z</dcterms:modified>
  <cp:revision>9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