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D3E4-506D-4EC4-9456-5BEC11381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4776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7A6C-BB83-42AE-9758-9BDA554F0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96432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5938-4E50-4E90-8113-49D59C949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4832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1264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84832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01264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A1CB-FD92-486C-8637-5F2B4C9F8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25A7-742B-490E-8047-0F5BA46E3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6432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4360" y="4776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96432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4832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264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436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84832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01264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2647-49E7-4BB7-B9F3-BCBBE47AE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22AE-29FA-40DB-A6B7-A1B7DBE05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3025-7258-4CA9-A765-368B19311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33CD-E157-4F4F-8037-B534094AD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3B8F-7900-4618-9D4B-72ACE6DDC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432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28F7-A311-43B2-8305-A96E62574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9084-5AB4-48AE-8850-EEB578F83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41EA-EBEF-4734-8D6B-32294DA9F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01800" y="3499920"/>
            <a:ext cx="5757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lans to Accelerate Revision and Publication Procedure of the I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084640"/>
            <a:ext cx="2147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no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IPC Work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Ning 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Section - W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Publication Procedure (cont.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218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Adoption by the CE (Febru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more year between the completion of the work by the WG and the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43671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4367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3933720"/>
            <a:ext cx="107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933720"/>
            <a:ext cx="115092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E /F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38920" y="4006800"/>
            <a:ext cx="100836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ub./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43671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26920" y="4222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367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4367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43671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4920" y="43671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6200" y="3933720"/>
            <a:ext cx="1081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4560" y="3933720"/>
            <a:ext cx="1152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arly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Jul.1,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2920" y="43671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d number of revision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d workload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to shorten the revis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s to involve more Offices in the substantial revis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Impact of the Five-Year Plan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PC revision procedure will remain unchanged at initial s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E will decide next year whether changes are needed to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the number of working days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special Task Forc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Proposed Future 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 Revision Procedur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Proposed Future 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 Revision Procedure (cont.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ponsibility of the IPC revision is given 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sion projects – with pri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s to be revised – prioritized – to be adopted b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sion requests in these areas – directly to the IPC/WG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ated with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sion requests in other areas – to the IPC/CE with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itions within the revision projects –  to be created with cond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Proposed Future </a:t>
            </a:r>
            <a:r>
              <a:rPr b="1" lang="en-US" sz="3600" spc="-1" strike="noStrike">
                <a:solidFill>
                  <a:srgbClr val="00408c"/>
                </a:solidFill>
                <a:latin typeface="Arial"/>
              </a:rPr>
              <a:t>IPC Revision Procedure (cont.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al adoption of the amendments by the IPC/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on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mediately after the IPC/WG – to be scheduled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ly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ed future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d by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Proposed Future 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 Publication Procedur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28544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2854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2421000"/>
            <a:ext cx="107928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00720" y="2421000"/>
            <a:ext cx="115092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E /F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7640" y="2494080"/>
            <a:ext cx="100800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ub./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285444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55640" y="270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854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2421000"/>
            <a:ext cx="108108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3280" y="2421000"/>
            <a:ext cx="1152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arly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Jul.1,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28544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52308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5230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4797360"/>
            <a:ext cx="10792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4797360"/>
            <a:ext cx="115092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E ado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May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67640" y="4870440"/>
            <a:ext cx="100800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ub./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52308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55640" y="5086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5230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5230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5230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5230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4920" y="4797360"/>
            <a:ext cx="1081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3280" y="4797360"/>
            <a:ext cx="1152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arly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Jul.1,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1640" y="52308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1800" y="3499920"/>
            <a:ext cx="5757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08c"/>
                </a:solidFill>
                <a:latin typeface="Arial Black"/>
                <a:ea typeface="ヒラギノ角ゴ Pro W3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49960" y="5084640"/>
            <a:ext cx="2147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no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IPC Work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5805360"/>
            <a:ext cx="69343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PC Revis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PC Publica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 of the Five-Yea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Fu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Revis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Fu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Publica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Revision Procedur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ponsibility of the IPC revision was given to one unique body (IPC Revision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G meets twice yea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/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vember / Dece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Revision Procedure (cont.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 requests from IP5 CHC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cts) or Trilateral projects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cts) - automatically included in the IPC revision program with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 requests from other Offices – included with conditions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c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erical criteria – size &amp; growth 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itment to reclassification (PCT 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by the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Situation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few revision requests have been submitted directly to the C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those without need for reclassification - accep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as those creating new subdivisions –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ly, no mo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vision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Situation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otal number of new subdivisions during 2007 to 2013 decre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 of Re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d expense in Classification by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408c"/>
                </a:solidFill>
                <a:latin typeface="Arial"/>
              </a:rPr>
              <a:t>Distribution of Revision Project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42920" y="1611360"/>
          <a:ext cx="6813720" cy="4514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611360"/>
                    <a:ext cx="68137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Publication Procedur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PC yearly publication (January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ilation of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 Concordance List (R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chword Index (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C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Publication Procedure (cont.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Early publication (July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ilation of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 Concordance List (R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ity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ility to publish twice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ver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 satisfaction - annual publicat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02:35Z</dcterms:created>
  <dc:creator>WIPO</dc:creator>
  <dc:description/>
  <cp:keywords>IPC</cp:keywords>
  <dc:language>en-US</dc:language>
  <cp:lastModifiedBy>Xu</cp:lastModifiedBy>
  <dcterms:modified xsi:type="dcterms:W3CDTF">2013-02-26T07:25:49Z</dcterms:modified>
  <cp:revision>24</cp:revision>
  <dc:subject>IPC Workshop (2013) - Plans to accelerate revision and publication procedure of the IPC</dc:subject>
  <dc:title>IPC Workshop (2013) - Plans to accelerate revision and publication procedure of the IPC</dc:title>
</cp:coreProperties>
</file>