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32.xml" ContentType="application/vnd.openxmlformats-officedocument.theme+xml"/>
  <Override PartName="/ppt/theme/theme44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2.png" ContentType="image/png"/>
  <Override PartName="/ppt/media/image3.png" ContentType="image/png"/>
  <Override PartName="/ppt/media/image17.jpeg" ContentType="image/jpe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2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</p:sldMasterIdLst>
  <p:notesMasterIdLst>
    <p:notesMasterId r:id="rId45"/>
  </p:notesMasterIdLst>
  <p:sldIdLst>
    <p:sldId id="256" r:id="rId46"/>
    <p:sldId id="257" r:id="rId47"/>
    <p:sldId id="258" r:id="rId48"/>
    <p:sldId id="259" r:id="rId49"/>
    <p:sldId id="260" r:id="rId50"/>
    <p:sldId id="261" r:id="rId51"/>
    <p:sldId id="262" r:id="rId52"/>
    <p:sldId id="263" r:id="rId53"/>
    <p:sldId id="264" r:id="rId54"/>
    <p:sldId id="265" r:id="rId55"/>
    <p:sldId id="266" r:id="rId56"/>
    <p:sldId id="267" r:id="rId57"/>
    <p:sldId id="268" r:id="rId58"/>
    <p:sldId id="269" r:id="rId59"/>
    <p:sldId id="270" r:id="rId60"/>
    <p:sldId id="271" r:id="rId61"/>
    <p:sldId id="272" r:id="rId62"/>
    <p:sldId id="273" r:id="rId63"/>
    <p:sldId id="274" r:id="rId64"/>
    <p:sldId id="275" r:id="rId65"/>
    <p:sldId id="276" r:id="rId66"/>
    <p:sldId id="277" r:id="rId6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notesMaster" Target="notesMasters/notesMaster1.xml"/><Relationship Id="rId46" Type="http://schemas.openxmlformats.org/officeDocument/2006/relationships/slide" Target="slides/slide1.xml"/><Relationship Id="rId47" Type="http://schemas.openxmlformats.org/officeDocument/2006/relationships/slide" Target="slides/slide2.xml"/><Relationship Id="rId48" Type="http://schemas.openxmlformats.org/officeDocument/2006/relationships/slide" Target="slides/slide3.xml"/><Relationship Id="rId49" Type="http://schemas.openxmlformats.org/officeDocument/2006/relationships/slide" Target="slides/slide4.xml"/><Relationship Id="rId50" Type="http://schemas.openxmlformats.org/officeDocument/2006/relationships/slide" Target="slides/slide5.xml"/><Relationship Id="rId51" Type="http://schemas.openxmlformats.org/officeDocument/2006/relationships/slide" Target="slides/slide6.xml"/><Relationship Id="rId52" Type="http://schemas.openxmlformats.org/officeDocument/2006/relationships/slide" Target="slides/slide7.xml"/><Relationship Id="rId53" Type="http://schemas.openxmlformats.org/officeDocument/2006/relationships/slide" Target="slides/slide8.xml"/><Relationship Id="rId54" Type="http://schemas.openxmlformats.org/officeDocument/2006/relationships/slide" Target="slides/slide9.xml"/><Relationship Id="rId55" Type="http://schemas.openxmlformats.org/officeDocument/2006/relationships/slide" Target="slides/slide10.xml"/><Relationship Id="rId56" Type="http://schemas.openxmlformats.org/officeDocument/2006/relationships/slide" Target="slides/slide11.xml"/><Relationship Id="rId57" Type="http://schemas.openxmlformats.org/officeDocument/2006/relationships/slide" Target="slides/slide12.xml"/><Relationship Id="rId58" Type="http://schemas.openxmlformats.org/officeDocument/2006/relationships/slide" Target="slides/slide13.xml"/><Relationship Id="rId59" Type="http://schemas.openxmlformats.org/officeDocument/2006/relationships/slide" Target="slides/slide14.xml"/><Relationship Id="rId60" Type="http://schemas.openxmlformats.org/officeDocument/2006/relationships/slide" Target="slides/slide15.xml"/><Relationship Id="rId61" Type="http://schemas.openxmlformats.org/officeDocument/2006/relationships/slide" Target="slides/slide16.xml"/><Relationship Id="rId62" Type="http://schemas.openxmlformats.org/officeDocument/2006/relationships/slide" Target="slides/slide17.xml"/><Relationship Id="rId63" Type="http://schemas.openxmlformats.org/officeDocument/2006/relationships/slide" Target="slides/slide18.xml"/><Relationship Id="rId64" Type="http://schemas.openxmlformats.org/officeDocument/2006/relationships/slide" Target="slides/slide19.xml"/><Relationship Id="rId65" Type="http://schemas.openxmlformats.org/officeDocument/2006/relationships/slide" Target="slides/slide20.xml"/><Relationship Id="rId66" Type="http://schemas.openxmlformats.org/officeDocument/2006/relationships/slide" Target="slides/slide21.xml"/><Relationship Id="rId67" Type="http://schemas.openxmlformats.org/officeDocument/2006/relationships/slide" Target="slides/slide22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 type="dt" idx="42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 type="sldImg"/>
          </p:nvPr>
        </p:nvSpPr>
        <p:spPr>
          <a:xfrm>
            <a:off x="1104840" y="641160"/>
            <a:ext cx="4648320" cy="348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 type="body"/>
          </p:nvPr>
        </p:nvSpPr>
        <p:spPr>
          <a:xfrm>
            <a:off x="315720" y="4295520"/>
            <a:ext cx="6281640" cy="452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5"/>
          <p:cNvSpPr>
            <a:spLocks noGrp="1"/>
          </p:cNvSpPr>
          <p:nvPr>
            <p:ph type="ftr" idx="43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PlaceHolder 6"/>
          <p:cNvSpPr>
            <a:spLocks noGrp="1"/>
          </p:cNvSpPr>
          <p:nvPr>
            <p:ph type="sldNum" idx="44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2BF1ED0-3300-44C5-8DD6-6BE220B84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3325150-D7C8-49DE-B356-E6DD804C6279}" type="slidenum">
              <a:rPr b="0" lang="en-US" sz="12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15" name="PlaceHolder 1"/>
          <p:cNvSpPr>
            <a:spLocks noGrp="1"/>
          </p:cNvSpPr>
          <p:nvPr>
            <p:ph type="sldImg"/>
          </p:nvPr>
        </p:nvSpPr>
        <p:spPr>
          <a:xfrm>
            <a:off x="1104840" y="64152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1916" name="PlaceHolder 2"/>
          <p:cNvSpPr>
            <a:spLocks noGrp="1"/>
          </p:cNvSpPr>
          <p:nvPr>
            <p:ph type="body"/>
          </p:nvPr>
        </p:nvSpPr>
        <p:spPr>
          <a:xfrm>
            <a:off x="315720" y="4295520"/>
            <a:ext cx="6281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sldImg"/>
          </p:nvPr>
        </p:nvSpPr>
        <p:spPr>
          <a:xfrm>
            <a:off x="1104840" y="64152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1933" name="PlaceHolder 2"/>
          <p:cNvSpPr>
            <a:spLocks noGrp="1"/>
          </p:cNvSpPr>
          <p:nvPr>
            <p:ph type="body"/>
          </p:nvPr>
        </p:nvSpPr>
        <p:spPr>
          <a:xfrm>
            <a:off x="315720" y="4295520"/>
            <a:ext cx="6281640" cy="452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Foliennummernplatzhalt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1540AA2-251B-47D9-B38E-892D1786F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sldImg"/>
          </p:nvPr>
        </p:nvSpPr>
        <p:spPr>
          <a:xfrm>
            <a:off x="1104840" y="64152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1918" name="PlaceHolder 2"/>
          <p:cNvSpPr>
            <a:spLocks noGrp="1"/>
          </p:cNvSpPr>
          <p:nvPr>
            <p:ph type="body"/>
          </p:nvPr>
        </p:nvSpPr>
        <p:spPr>
          <a:xfrm>
            <a:off x="315720" y="4295520"/>
            <a:ext cx="6281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2ECEBB8-73FB-4F1F-93DD-F5D3B96B75A4}" type="slidenum">
              <a:rPr b="0" lang="en-US" sz="12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sldImg"/>
          </p:nvPr>
        </p:nvSpPr>
        <p:spPr>
          <a:xfrm>
            <a:off x="1104840" y="64152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1921" name="PlaceHolder 2"/>
          <p:cNvSpPr>
            <a:spLocks noGrp="1"/>
          </p:cNvSpPr>
          <p:nvPr>
            <p:ph type="body"/>
          </p:nvPr>
        </p:nvSpPr>
        <p:spPr>
          <a:xfrm>
            <a:off x="315720" y="4295520"/>
            <a:ext cx="6281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F783B4A-1B9E-46B0-A88A-9A03F11F1600}" type="slidenum">
              <a:rPr b="0" lang="en-US" sz="12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9E74785-E52F-4843-9A31-0FE6EDAF8737}" type="slidenum">
              <a:rPr b="0" lang="en-US" sz="12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24" name="PlaceHolder 1"/>
          <p:cNvSpPr>
            <a:spLocks noGrp="1"/>
          </p:cNvSpPr>
          <p:nvPr>
            <p:ph type="sldImg"/>
          </p:nvPr>
        </p:nvSpPr>
        <p:spPr>
          <a:xfrm>
            <a:off x="1104840" y="64152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1925" name="PlaceHolder 2"/>
          <p:cNvSpPr>
            <a:spLocks noGrp="1"/>
          </p:cNvSpPr>
          <p:nvPr>
            <p:ph type="body"/>
          </p:nvPr>
        </p:nvSpPr>
        <p:spPr>
          <a:xfrm>
            <a:off x="315720" y="4295520"/>
            <a:ext cx="6281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sldImg"/>
          </p:nvPr>
        </p:nvSpPr>
        <p:spPr>
          <a:xfrm>
            <a:off x="1104840" y="64152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1927" name="PlaceHolder 2"/>
          <p:cNvSpPr>
            <a:spLocks noGrp="1"/>
          </p:cNvSpPr>
          <p:nvPr>
            <p:ph type="body"/>
          </p:nvPr>
        </p:nvSpPr>
        <p:spPr>
          <a:xfrm>
            <a:off x="315720" y="4295520"/>
            <a:ext cx="6281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186AB49-92F6-449C-820A-BE6BB88D9F9E}" type="slidenum">
              <a:rPr b="0" lang="en-US" sz="12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sldImg"/>
          </p:nvPr>
        </p:nvSpPr>
        <p:spPr>
          <a:xfrm>
            <a:off x="1104840" y="64152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1930" name="PlaceHolder 2"/>
          <p:cNvSpPr>
            <a:spLocks noGrp="1"/>
          </p:cNvSpPr>
          <p:nvPr>
            <p:ph type="body"/>
          </p:nvPr>
        </p:nvSpPr>
        <p:spPr>
          <a:xfrm>
            <a:off x="315720" y="4295520"/>
            <a:ext cx="6281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851716C-A0D5-4CB1-84EC-6C321716F7AE}" type="slidenum">
              <a:rPr b="0" lang="en-US" sz="12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ABFEA-E387-46D3-845B-DBAABFCCDC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829BE-73F7-4C84-9E82-17E222298E2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D9871-40CA-4717-B98B-C9B2ACCB2B1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F1116-CFD0-4A5B-A878-1887481F7B7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C6104-83B0-429A-B668-542C2155AB4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D811A-8C38-46E0-8B41-6F1B30A106B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0DA52-F92D-4AD5-8267-5FC72E50632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0A601-4B67-468E-8158-75D11AD2E30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1CFB9-10C5-49B5-B50E-BA4F9851588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5DD960-DC7D-4463-B021-E90546E69B0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3FC737-C61E-42CF-BF6F-AAA99CF59D7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34358B0-0CBB-4DB4-899F-945695861D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ABA8E-C42A-4CF2-A3F3-97A1C39F68C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67EDBF7-0132-4A57-B000-FBBA7F6B720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12E350-DCDC-4BF9-ACF7-328CAE909CB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3A08EB-D38F-474D-B923-C0AF621EA43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CDF56A-EE06-4FE2-B9DD-1619C014642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3BD7F3A-65E5-4B88-8C8B-49DBE327270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899BB95-8BDD-489A-BF4E-CCA7BE94671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C12F16F-B588-4331-877C-25EBC4436AA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98C9A03-7302-4029-A86C-C4DBD9FC285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02D7FC8-8AEF-42F6-84C2-D730B3B2391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DDA62C3-2D75-428D-9D6D-986310049F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10D0D-3DC1-4B5F-B912-036E5F2E377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713B51B-C6E9-49EB-909A-35F09C944D5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EFFC80-74F8-43A6-9539-D6FB9AE86D6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D7FA4-9BC6-4E73-8DBD-897B8C7F513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40827A-E4BB-4F72-9A36-1F10615D9ADC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D61C6-5E32-40D5-BC77-8674F277380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7A7A7-7349-48DE-A91B-E798B52B8E8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EB7C8D-1610-49B0-9200-A648C264D13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37B263-EFBA-4FC3-AC27-FDD44DC531D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B9777-4CAD-4F07-8BEA-754F1C57D00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014A7-12DC-44C4-A306-5AF80F96E3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970C-3233-45AC-B3E7-4D644AAF2861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BCFF6F-DC76-4003-AEEB-BFFDA1E2B7C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792D4-CB2E-4763-B565-753BCBC6CBD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7238A-F359-497C-A8D7-C85ADEF614F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C912FC-5AA8-4C54-9E58-C2F74DC1B63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87C98C-5F94-4C25-9738-5D74B730B23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20F1DE-E8E6-4E1E-9456-2C0B68A6B80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7951CE-8112-4748-8278-05B4A34D381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C8EAFC-BA20-41F9-BE2D-31ADF6C7A49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D12A0A-9DCC-473D-B6FA-64C323C3A7D8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EABD5E-3F9F-457B-9126-BADD34F075A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33C2-3988-4EE2-95EA-00282C7C5E1D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B6BF0E-04AA-4205-A841-0212A18E0C9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636030-F744-495C-8FE3-A97E28E5605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B004A6-6AE9-473B-A087-4A9342E547A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5440EA-3525-458A-9162-BC90FDBEC577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2B7F3D-D871-4C97-A197-696C73B1C0C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2BCF1E-EC8C-4477-8FEB-46C5C0E4110D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B90CF2-1B09-4410-8BF2-8E4A20EF93E8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DBA7CE-D2E9-458C-8C00-2F6A5BFA6FC5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C952DF-077F-4D04-A9BE-4219417422CF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063508-3777-4974-80FA-9FEE7A95D2B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05EE-230F-441B-A0D7-7B958858741E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FF14F6-9D89-45B2-8EEC-4098111447AD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8ADF4E-8963-4783-BBFD-D78A118202F8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0668DF-52C5-48FE-97C4-F2DAB4E04074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91B3A7-51F9-42D2-89D0-E90684DEAB58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A6FB05-127D-46EE-B4A5-89B823D71AD9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2922E8-8470-4277-AE43-53B85A0B2DB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36339E-DDCA-4B43-B831-2D1AFA166EB4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4088EE-90AB-4D5D-B80B-D9FA33280C49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FDD539-E2FF-4EB0-BAA1-D790581CB9E9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32F119-C907-4C52-A229-D0F340FD105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4DF5-F75B-4AA7-82F2-6349D2E8FA73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146C5B-3F9C-4E13-A4F9-038DCA67B0CF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D5D349-3C8F-4B99-B5F2-C2863986AE62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76DCD4-CF94-439D-8A38-055436F1DBB7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6B4659-61B4-42BE-B89D-9049416B5375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2C21F9-FBE1-46DA-B71B-4D2AC5D73F09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3906E8-0EFF-4DB9-B174-103012856BCE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92CC7D-A052-409C-B030-2BF09309D65C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3B8636-DAE5-4229-BEAF-D22FD8CAC247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4CFCFB-9F3C-4AF3-B65D-DCEF4C78DE50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F5CBD83-CC7E-475B-B2A4-5347C6B926B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BC32-5236-4F8E-9A82-88F18B09D6F2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59FB6D1-959F-4122-8D7E-B148A6D2CD5D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0955E2C-E483-4CDD-8B75-6809DDB780B6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1DE8789-E04C-4F05-A2AC-5A73CC416CDF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2155B40-8056-4BAF-92D3-D35877203885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065804C-0EA7-41FF-B3DC-DBEA3C6F2977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49718A9-D188-4F23-8F94-E07762B77627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EE7A74A-D888-4686-A3A4-DA1C7B131092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51E15C0-E3ED-446C-B228-D3AF921ACC8F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4245FFF-CC8B-4681-808B-B05BF426D17D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EA624C1-54B9-488A-89EA-126144B8568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D386-5CD4-4834-AC31-05B6C7E5AB6A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BA406D3-051C-4CCA-B346-FD0FD487DD67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1909076-EF85-410D-95FD-8A56810F3693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C9FEB18-66F8-45E2-BEA7-BD7836B9ADFF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6B838DD-0A11-445E-8151-BDB5A116C851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7C009EC-9194-487E-B76C-A12126142A80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C797898-009B-4238-8E4D-F31D84E722D4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D7B04E6-88F6-4704-A03B-973DAFF58CB4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5F03DE3-CFA5-4EAF-B6EE-481536700857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C1387C4-A4F7-41A8-9B3E-98884BD17742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74AD1C7-097B-492E-AD63-431E6988C2E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E3A5-6B14-418B-8E49-C13159E9446A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BAFFFC4-F425-468A-A3E7-8C7630BC29F2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BBC6BCF-9203-4410-ACB1-E40EABF476E5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852FC0C-6519-4239-B45F-CFE5CEDD53AE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4F41DF-B398-41E4-95D7-A0C1A494E299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D12372-37E6-42D8-A0AC-C4D8121760D5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11F136-C739-43B1-BB4D-64DDBE1E295D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E71D66-0F2E-4140-8D39-3AC7EBC4B120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5DB705-F0F3-4363-B25B-9F7AA0BC70C2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823E55-DFB5-466A-B764-8AF7293EB2BF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EBB7DF-40FA-4A32-99FD-D992653872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8F551-5D0A-42E2-9A44-0D29A2923D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227C-C07F-47B3-BE4E-193613A06BB7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48694B-D362-42F6-AEF5-E41638CCBB05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3697F3-2DE1-4A44-9ABD-40994DDE993B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EDAFDB-AF4F-4A45-9474-1A6AFF6A48AC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13BBA3-13B9-4578-87D9-3F8703C0002A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65DDE4-0DFA-40ED-8CFE-B821C859AC53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807DCCA-523E-4779-BA15-8DA241418818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B8D6B3C-EF00-42F6-ACF1-69EA7213F69F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5B160C8-DE55-469C-BDFB-49F8E7DD7F19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DFB4977-8C84-4D51-B6DD-95FBF6386D33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E78AD0A-C00D-4655-B298-65DD8065433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55BE-8A03-41EB-A6A1-4B3BC94BBC54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7554534-10D6-40CE-B496-F6F4AC625C83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89050AD-F029-4356-A061-B7B37835A85F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9C71A60-A998-4BBF-BA64-41339482A71B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1E67F48-FA42-497F-9F1F-2C52448C2646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D2B1A40-84BE-4637-BB57-B8B7CFB0D50A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8737B6B-8721-4C36-AA3E-143013632D5B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3A3DB48-B39D-41CE-899F-A31398404B7F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A45E1FF-5E89-4580-8B4F-3CCA99ABCC59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6C1A3EB-A46E-4A54-8B5B-E7DDA59B08EC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B5A25FC-9090-419F-85DB-CEE5133B26A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5448-CBE0-49A0-A116-51313CF42E8C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728768B-3303-4146-AC58-FAFEDFCE546E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04FBB49-7229-4912-B613-20742BB2E9CD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0C0EB6C-CA49-46D7-9764-80FFD2BD6041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D289F56-B0FE-40C7-9444-381B1937A688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003A2C8-4162-408A-9B54-5921B021117D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76B6754-04A2-4DEA-AA95-70CFB93BD668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542A9B4-648A-411A-9868-29FA94B1E67A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523F05B-2DB5-4CE7-AB3C-1605571E0068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BC3A3C1-1E08-45AA-AEE9-DC5EBA4971F8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82E0-8B24-45F2-A2A7-C70BF9FDF532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310A-49F4-4D9F-84D8-BDCF791DF0A5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48C4A3-FFE9-4E1E-9406-BD865A5F808A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C156DA-7E52-45CE-8210-6B91DF41EBB8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582E69-458E-4868-800E-2D1DC3C33700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8AE250-A109-4EDD-96A7-BACA959A8FEE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F7B35E-B494-4C6D-9BC7-996E220A6811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87587-C1BB-4743-875B-BE73E583486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1C930C-908B-40C2-80C8-BAB3B5C65994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FCB159-7231-40E4-A216-CD8A054B4CA6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038A52-CBE0-4FDF-93F2-048747992B0F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D395BD-8467-4470-BF06-DA1473CE11E6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564B5A-25BF-4DF0-B54C-FC277C6DBBDE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A744DA-A9B2-4D28-9B50-3A18663E02EB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B4AC08-3A9A-4F22-8453-9C16B2A23134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04A9F6-8052-4E4B-94D1-9348A443BF1B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A66303-A398-4CCE-99A9-966970A51EA1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607B1B-807F-4B8A-8AB3-2A3E21228437}" type="slidenum">
              <a:t>&lt;#&gt;</a:t>
            </a:fld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AE1CD-7184-4732-807B-40F5D957C21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311144-847E-4227-9DE3-8121E48A8EC0}" type="slidenum">
              <a:t>&lt;#&gt;</a:t>
            </a:fld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CDA6D7-36EE-444C-AAE0-FB293693FF32}" type="slidenum">
              <a:t>&lt;#&gt;</a:t>
            </a:fld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777504-4232-4074-9B3F-DB4BDCE06DFA}" type="slidenum">
              <a:t>&lt;#&gt;</a:t>
            </a:fld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7A05C4-E90A-4956-8F11-41FD8E6F3E5C}" type="slidenum">
              <a:t>&lt;#&gt;</a:t>
            </a:fld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60B118-FB76-4875-A408-214724646789}" type="slidenum">
              <a:t>&lt;#&gt;</a:t>
            </a:fld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C41921-FC4F-4FA9-B0C5-4DF9558999A2}" type="slidenum">
              <a:t>&lt;#&gt;</a:t>
            </a:fld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F5E9387-44E9-4AA7-94DD-3A569570DED2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61BB32F-7729-40A4-9CD8-68E88EBFEBC3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ACFE3DC-E0F5-4C40-BC92-41D0B117414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108A58-1DA6-4532-ABC9-8427089A0DDD}" type="slidenum">
              <a:t>&lt;#&gt;</a:t>
            </a:fld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FF0A9ED-4241-4A7C-B5C1-C02CB8DF0311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48636F2-A60D-4570-A7F6-B11AC76EA0A0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A81F646-52C4-4686-9509-A02C3F340AEB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F9C3BE4-CC58-4B3B-B469-2A0F2F313A3C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38E783D-924A-4FE8-B28B-5F4FB662E90B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177672F-212A-4991-AD87-45726CF3AABD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A6ED43D-DD02-4431-993C-B63572D09510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93AB680-8F6F-434F-9B31-F324F04D1013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CD1B35C-37A0-42EA-9E57-2A76F09A617F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324DDC-F995-4A5D-9D5E-717BBCA8955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79863A-4BFD-4C87-966D-06517E184866}" type="slidenum">
              <a:t>&lt;#&gt;</a:t>
            </a:fld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46B77F-3A8C-4787-8DC6-378BBB34CA7C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E5BBB6-DB68-4E31-AD65-1FC4BCA0408F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D71484-4431-40EA-8140-5A5810E3C92B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E0CB40-0D22-4E34-8632-30112C0DC419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92B8B3-E718-4019-AD26-4BA71D1C4C81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854355-A399-409E-A651-EEC0B51043D0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5C4E92-25EA-4FBD-9C2C-8FD20ECF5025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1B74D5-B5A2-42CF-AEE5-F129E134B261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012884-4C5C-46B7-A183-FB0E54306893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352983-B56F-4D58-AA1D-534AFF704B7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510DB7-5694-431D-B5C8-396749AE301F}" type="slidenum">
              <a:t>&lt;#&gt;</a:t>
            </a:fld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1FC78F-2127-4B2C-A929-F41CCEF2A122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1806B4E-ABC2-4B84-BFBA-70A35473EEAF}" type="slidenum">
              <a:t>&lt;#&gt;</a:t>
            </a:fld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15A0780-502E-4E32-B9CC-9AC985870BC1}" type="slidenum">
              <a:t>&lt;#&gt;</a:t>
            </a:fld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F56F363-7B76-4425-A7B3-9F71600743B4}" type="slidenum">
              <a:t>&lt;#&gt;</a:t>
            </a:fld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3D23F2D-4F92-41DB-8D43-60C6DB2D7B4A}" type="slidenum">
              <a:t>&lt;#&gt;</a:t>
            </a:fld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ACE8D65-74B1-4E23-AB3C-B23DC430AA41}" type="slidenum">
              <a:t>&lt;#&gt;</a:t>
            </a:fld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4B04AC9-2D19-41F6-83AD-72D5AC78B73E}" type="slidenum">
              <a:t>&lt;#&gt;</a:t>
            </a:fld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20CACD0-DD3B-4723-9C93-A4BA83C881FA}" type="slidenum">
              <a:t>&lt;#&gt;</a:t>
            </a:fld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6B5EF0A-1989-4904-A5BA-AD467C6B3C00}" type="slidenum">
              <a:t>&lt;#&gt;</a:t>
            </a:fld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FCC2516-1483-4533-9055-D4A8E42F51A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FB732-5666-4668-98B9-DA20359C8797}" type="slidenum">
              <a:t>&lt;#&gt;</a:t>
            </a:fld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0DE6712-7B8F-443C-B609-62226603435C}" type="slidenum">
              <a:t>&lt;#&gt;</a:t>
            </a:fld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5446E17-4467-4B2E-B001-88C28D6AF273}" type="slidenum">
              <a:t>&lt;#&gt;</a:t>
            </a:fld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48EE5AF-3E33-4E72-A4C6-6A73EAC7A8E9}" type="slidenum">
              <a:t>&lt;#&gt;</a:t>
            </a:fld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EB98CCB-091D-4200-B4EA-BFFF050E16A2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EC99376-8CC9-487F-A0CD-2BFB3A554924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AE1FC23-84CD-484E-9BC0-8EB29BB10C94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FDA8484-EFFF-4CB8-9B48-89A6AB046391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91B90B9-5C4E-44B7-8F7A-555FCA4FD8AA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E51BD68-D4DC-4996-84CA-ED0E64764DB4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943ED98-AB5F-47BF-850C-A9350F564F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BE183-9EAA-41FF-A09C-EBEBB93F791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BFC38-9830-4640-9D2E-9149C10B98C7}" type="slidenum">
              <a:t>&lt;#&gt;</a:t>
            </a:fld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6E9711F-3ECC-453D-8C3B-9A329AD2D2C2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7E137F6-B26E-4783-BE89-493A9BAD70F9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98B4D62-963B-4020-AA85-F8BE3FFBAA73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34772FA-2CA3-404B-AC4F-E9451EE9C871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C33DCEE-8B24-4803-8EF6-AE176A7B3741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D1657-73B1-4BAF-B6B9-C6C2FC4CCD3C}" type="slidenum">
              <a:t>&lt;#&gt;</a:t>
            </a:fld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4F52D-A45A-4998-9D8E-7CD6CE25054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9FB47-4F56-4193-A65B-C98754170B9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478B3-152E-45C1-BACE-C982CAEA756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23EE8-6A14-428F-9E07-059823E6406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191EE-5D0F-4BC9-AB78-AB858561174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C3FCE-20E9-4D19-ACFC-F0E9D3D25D6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150FF-3012-4E2A-BAEB-495583F704C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3DA37-A106-49F8-A42D-AC66B5FB54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FECDE-E4C2-44DE-BBCE-87493C68F73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F6900-AE53-413B-863B-BF9E9FB6DC7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A98360-21AB-4272-811D-C5018B84938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6782BE-7888-4E34-9A6D-C2C0FE35981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F59B8B-5F34-490B-9075-02111B5BD71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1657B7-2154-4A8E-97D0-93E009B8E5E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C76679-723C-48D8-AD52-60682FDBFE5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BF5DA3-F47A-4871-A5DF-70E37E5EA82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DAC8E7-BDF3-4CDC-B791-082130617FB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BB8D03-082F-4CBE-8183-4C8C9ED4943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97CCD3-CDA3-4AA3-8C71-027189E645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AB78F-C979-4333-BBA7-11814D0DCB1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7F2E8F-B31A-4F98-AECC-BD33039BFD9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7CDF19-4075-449D-B960-E61C8006597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C8ACE9-613B-4E20-976D-4BC345365CB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021386-04D9-4709-874D-31FE3100602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62BB4F2-01E4-4C85-99FC-1A22D360A3B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A85875-45D9-4308-87A1-679486458DB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541C05E-AA46-4C66-8CA4-5C5997C0951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14D674-9372-4F93-90F2-7D58B6B9D12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C394CD-2C2E-4AC1-807A-0CA7E228E0D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C2F875-B520-49C1-9057-52F8339949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45012-B72C-43CB-A05B-BD95A64CCFA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92B217-2674-466F-A17A-72E056BD5B8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AACCD5-66B6-48C9-8CD0-125F6D4EAE9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DF88B8-8EC6-40E2-94C1-014436F59FC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D8079F-CCC7-457C-8267-3C0BED19149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8BFBFAD-6E82-48DC-92FF-52573DCFEFB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329B29B-09EE-4A1F-955D-EBBA862C07A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2C1EEC-635C-4F5C-BC92-2BA31AE3F62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C208B5-CDA2-444C-A812-B7BBE6550C2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BA49278-0A63-4DFA-B21B-48213B9FDFC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4EA805-0D7F-4EBF-A1EF-EB74D651F6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BF437-C061-4927-BD68-BD20B397A23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9EA5384-4D07-4707-85DE-A7555548406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26C6CD-8307-41FA-BBC3-3E4A53C4010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286F24-CBC5-4D1A-BC88-523EA26603E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AB8F10-D31B-49E8-BFE3-6DBEA715787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5988709-6C7C-4F35-A225-1DEE616DF4E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F1E2FA-1B34-4B65-A316-ED25C18D21B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7EB5EA-0E6E-440E-A59F-4C0B97F52E3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382CA-4B64-45AB-954B-70078A1FD82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48E00-DE6D-45E2-A881-BA9F0A12E87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EA8DF-6B6A-495A-82E4-C452F1E675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4.jpeg"/><Relationship Id="rId3" Type="http://schemas.openxmlformats.org/officeDocument/2006/relationships/image" Target="../media/image1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13.xml"/><Relationship Id="rId6" Type="http://schemas.openxmlformats.org/officeDocument/2006/relationships/slideLayout" Target="../slideLayouts/slideLayout314.xml"/><Relationship Id="rId7" Type="http://schemas.openxmlformats.org/officeDocument/2006/relationships/slideLayout" Target="../slideLayouts/slideLayout315.xml"/><Relationship Id="rId8" Type="http://schemas.openxmlformats.org/officeDocument/2006/relationships/slideLayout" Target="../slideLayouts/slideLayout316.xml"/><Relationship Id="rId9" Type="http://schemas.openxmlformats.org/officeDocument/2006/relationships/slideLayout" Target="../slideLayouts/slideLayout317.xml"/><Relationship Id="rId10" Type="http://schemas.openxmlformats.org/officeDocument/2006/relationships/slideLayout" Target="../slideLayouts/slideLayout318.xml"/><Relationship Id="rId11" Type="http://schemas.openxmlformats.org/officeDocument/2006/relationships/slideLayout" Target="../slideLayouts/slideLayout319.xml"/><Relationship Id="rId12" Type="http://schemas.openxmlformats.org/officeDocument/2006/relationships/slideLayout" Target="../slideLayouts/slideLayout320.xml"/><Relationship Id="rId13" Type="http://schemas.openxmlformats.org/officeDocument/2006/relationships/slideLayout" Target="../slideLayouts/slideLayout321.xml"/><Relationship Id="rId14" Type="http://schemas.openxmlformats.org/officeDocument/2006/relationships/slideLayout" Target="../slideLayouts/slideLayout322.xml"/><Relationship Id="rId15" Type="http://schemas.openxmlformats.org/officeDocument/2006/relationships/slideLayout" Target="../slideLayouts/slideLayout323.xml"/><Relationship Id="rId16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4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3.xml"/><Relationship Id="rId5" Type="http://schemas.openxmlformats.org/officeDocument/2006/relationships/slideLayout" Target="../slideLayouts/slideLayout374.xml"/><Relationship Id="rId6" Type="http://schemas.openxmlformats.org/officeDocument/2006/relationships/slideLayout" Target="../slideLayouts/slideLayout375.xml"/><Relationship Id="rId7" Type="http://schemas.openxmlformats.org/officeDocument/2006/relationships/slideLayout" Target="../slideLayouts/slideLayout376.xml"/><Relationship Id="rId8" Type="http://schemas.openxmlformats.org/officeDocument/2006/relationships/slideLayout" Target="../slideLayouts/slideLayout377.xml"/><Relationship Id="rId9" Type="http://schemas.openxmlformats.org/officeDocument/2006/relationships/slideLayout" Target="../slideLayouts/slideLayout378.xml"/><Relationship Id="rId10" Type="http://schemas.openxmlformats.org/officeDocument/2006/relationships/slideLayout" Target="../slideLayouts/slideLayout379.xml"/><Relationship Id="rId11" Type="http://schemas.openxmlformats.org/officeDocument/2006/relationships/slideLayout" Target="../slideLayouts/slideLayout380.xml"/><Relationship Id="rId12" Type="http://schemas.openxmlformats.org/officeDocument/2006/relationships/slideLayout" Target="../slideLayouts/slideLayout381.xml"/><Relationship Id="rId13" Type="http://schemas.openxmlformats.org/officeDocument/2006/relationships/slideLayout" Target="../slideLayouts/slideLayout382.xml"/><Relationship Id="rId14" Type="http://schemas.openxmlformats.org/officeDocument/2006/relationships/slideLayout" Target="../slideLayouts/slideLayout383.xml"/><Relationship Id="rId15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85.xml"/><Relationship Id="rId5" Type="http://schemas.openxmlformats.org/officeDocument/2006/relationships/slideLayout" Target="../slideLayouts/slideLayout386.xml"/><Relationship Id="rId6" Type="http://schemas.openxmlformats.org/officeDocument/2006/relationships/slideLayout" Target="../slideLayouts/slideLayout387.xml"/><Relationship Id="rId7" Type="http://schemas.openxmlformats.org/officeDocument/2006/relationships/slideLayout" Target="../slideLayouts/slideLayout388.xml"/><Relationship Id="rId8" Type="http://schemas.openxmlformats.org/officeDocument/2006/relationships/slideLayout" Target="../slideLayouts/slideLayout389.xml"/><Relationship Id="rId9" Type="http://schemas.openxmlformats.org/officeDocument/2006/relationships/slideLayout" Target="../slideLayouts/slideLayout390.xml"/><Relationship Id="rId10" Type="http://schemas.openxmlformats.org/officeDocument/2006/relationships/slideLayout" Target="../slideLayouts/slideLayout391.xml"/><Relationship Id="rId11" Type="http://schemas.openxmlformats.org/officeDocument/2006/relationships/slideLayout" Target="../slideLayouts/slideLayout392.xml"/><Relationship Id="rId12" Type="http://schemas.openxmlformats.org/officeDocument/2006/relationships/slideLayout" Target="../slideLayouts/slideLayout393.xml"/><Relationship Id="rId13" Type="http://schemas.openxmlformats.org/officeDocument/2006/relationships/slideLayout" Target="../slideLayouts/slideLayout394.xml"/><Relationship Id="rId14" Type="http://schemas.openxmlformats.org/officeDocument/2006/relationships/slideLayout" Target="../slideLayouts/slideLayout395.xml"/><Relationship Id="rId15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97.xml"/><Relationship Id="rId5" Type="http://schemas.openxmlformats.org/officeDocument/2006/relationships/slideLayout" Target="../slideLayouts/slideLayout398.xml"/><Relationship Id="rId6" Type="http://schemas.openxmlformats.org/officeDocument/2006/relationships/slideLayout" Target="../slideLayouts/slideLayout399.xml"/><Relationship Id="rId7" Type="http://schemas.openxmlformats.org/officeDocument/2006/relationships/slideLayout" Target="../slideLayouts/slideLayout400.xml"/><Relationship Id="rId8" Type="http://schemas.openxmlformats.org/officeDocument/2006/relationships/slideLayout" Target="../slideLayouts/slideLayout401.xml"/><Relationship Id="rId9" Type="http://schemas.openxmlformats.org/officeDocument/2006/relationships/slideLayout" Target="../slideLayouts/slideLayout402.xml"/><Relationship Id="rId10" Type="http://schemas.openxmlformats.org/officeDocument/2006/relationships/slideLayout" Target="../slideLayouts/slideLayout403.xml"/><Relationship Id="rId11" Type="http://schemas.openxmlformats.org/officeDocument/2006/relationships/slideLayout" Target="../slideLayouts/slideLayout404.xml"/><Relationship Id="rId12" Type="http://schemas.openxmlformats.org/officeDocument/2006/relationships/slideLayout" Target="../slideLayouts/slideLayout405.xml"/><Relationship Id="rId13" Type="http://schemas.openxmlformats.org/officeDocument/2006/relationships/slideLayout" Target="../slideLayouts/slideLayout406.xml"/><Relationship Id="rId14" Type="http://schemas.openxmlformats.org/officeDocument/2006/relationships/slideLayout" Target="../slideLayouts/slideLayout407.xml"/><Relationship Id="rId15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09.xml"/><Relationship Id="rId5" Type="http://schemas.openxmlformats.org/officeDocument/2006/relationships/slideLayout" Target="../slideLayouts/slideLayout410.xml"/><Relationship Id="rId6" Type="http://schemas.openxmlformats.org/officeDocument/2006/relationships/slideLayout" Target="../slideLayouts/slideLayout411.xml"/><Relationship Id="rId7" Type="http://schemas.openxmlformats.org/officeDocument/2006/relationships/slideLayout" Target="../slideLayouts/slideLayout412.xml"/><Relationship Id="rId8" Type="http://schemas.openxmlformats.org/officeDocument/2006/relationships/slideLayout" Target="../slideLayouts/slideLayout413.xml"/><Relationship Id="rId9" Type="http://schemas.openxmlformats.org/officeDocument/2006/relationships/slideLayout" Target="../slideLayouts/slideLayout414.xml"/><Relationship Id="rId10" Type="http://schemas.openxmlformats.org/officeDocument/2006/relationships/slideLayout" Target="../slideLayouts/slideLayout415.xml"/><Relationship Id="rId11" Type="http://schemas.openxmlformats.org/officeDocument/2006/relationships/slideLayout" Target="../slideLayouts/slideLayout416.xml"/><Relationship Id="rId12" Type="http://schemas.openxmlformats.org/officeDocument/2006/relationships/slideLayout" Target="../slideLayouts/slideLayout417.xml"/><Relationship Id="rId13" Type="http://schemas.openxmlformats.org/officeDocument/2006/relationships/slideLayout" Target="../slideLayouts/slideLayout418.xml"/><Relationship Id="rId14" Type="http://schemas.openxmlformats.org/officeDocument/2006/relationships/slideLayout" Target="../slideLayouts/slideLayout419.xml"/><Relationship Id="rId15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33.xml"/><Relationship Id="rId5" Type="http://schemas.openxmlformats.org/officeDocument/2006/relationships/slideLayout" Target="../slideLayouts/slideLayout434.xml"/><Relationship Id="rId6" Type="http://schemas.openxmlformats.org/officeDocument/2006/relationships/slideLayout" Target="../slideLayouts/slideLayout435.xml"/><Relationship Id="rId7" Type="http://schemas.openxmlformats.org/officeDocument/2006/relationships/slideLayout" Target="../slideLayouts/slideLayout436.xml"/><Relationship Id="rId8" Type="http://schemas.openxmlformats.org/officeDocument/2006/relationships/slideLayout" Target="../slideLayouts/slideLayout437.xml"/><Relationship Id="rId9" Type="http://schemas.openxmlformats.org/officeDocument/2006/relationships/slideLayout" Target="../slideLayouts/slideLayout438.xml"/><Relationship Id="rId10" Type="http://schemas.openxmlformats.org/officeDocument/2006/relationships/slideLayout" Target="../slideLayouts/slideLayout439.xml"/><Relationship Id="rId11" Type="http://schemas.openxmlformats.org/officeDocument/2006/relationships/slideLayout" Target="../slideLayouts/slideLayout440.xml"/><Relationship Id="rId12" Type="http://schemas.openxmlformats.org/officeDocument/2006/relationships/slideLayout" Target="../slideLayouts/slideLayout441.xml"/><Relationship Id="rId13" Type="http://schemas.openxmlformats.org/officeDocument/2006/relationships/slideLayout" Target="../slideLayouts/slideLayout442.xml"/><Relationship Id="rId14" Type="http://schemas.openxmlformats.org/officeDocument/2006/relationships/slideLayout" Target="../slideLayouts/slideLayout443.xml"/><Relationship Id="rId15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445.xml"/><Relationship Id="rId6" Type="http://schemas.openxmlformats.org/officeDocument/2006/relationships/slideLayout" Target="../slideLayouts/slideLayout446.xml"/><Relationship Id="rId7" Type="http://schemas.openxmlformats.org/officeDocument/2006/relationships/slideLayout" Target="../slideLayouts/slideLayout447.xml"/><Relationship Id="rId8" Type="http://schemas.openxmlformats.org/officeDocument/2006/relationships/slideLayout" Target="../slideLayouts/slideLayout448.xml"/><Relationship Id="rId9" Type="http://schemas.openxmlformats.org/officeDocument/2006/relationships/slideLayout" Target="../slideLayouts/slideLayout449.xml"/><Relationship Id="rId10" Type="http://schemas.openxmlformats.org/officeDocument/2006/relationships/slideLayout" Target="../slideLayouts/slideLayout450.xml"/><Relationship Id="rId11" Type="http://schemas.openxmlformats.org/officeDocument/2006/relationships/slideLayout" Target="../slideLayouts/slideLayout451.xml"/><Relationship Id="rId12" Type="http://schemas.openxmlformats.org/officeDocument/2006/relationships/slideLayout" Target="../slideLayouts/slideLayout452.xml"/><Relationship Id="rId13" Type="http://schemas.openxmlformats.org/officeDocument/2006/relationships/slideLayout" Target="../slideLayouts/slideLayout453.xml"/><Relationship Id="rId14" Type="http://schemas.openxmlformats.org/officeDocument/2006/relationships/slideLayout" Target="../slideLayouts/slideLayout454.xml"/><Relationship Id="rId15" Type="http://schemas.openxmlformats.org/officeDocument/2006/relationships/slideLayout" Target="../slideLayouts/slideLayout455.xml"/><Relationship Id="rId16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05.xml"/><Relationship Id="rId6" Type="http://schemas.openxmlformats.org/officeDocument/2006/relationships/slideLayout" Target="../slideLayouts/slideLayout506.xml"/><Relationship Id="rId7" Type="http://schemas.openxmlformats.org/officeDocument/2006/relationships/slideLayout" Target="../slideLayouts/slideLayout507.xml"/><Relationship Id="rId8" Type="http://schemas.openxmlformats.org/officeDocument/2006/relationships/slideLayout" Target="../slideLayouts/slideLayout508.xml"/><Relationship Id="rId9" Type="http://schemas.openxmlformats.org/officeDocument/2006/relationships/slideLayout" Target="../slideLayouts/slideLayout509.xml"/><Relationship Id="rId10" Type="http://schemas.openxmlformats.org/officeDocument/2006/relationships/slideLayout" Target="../slideLayouts/slideLayout510.xml"/><Relationship Id="rId11" Type="http://schemas.openxmlformats.org/officeDocument/2006/relationships/slideLayout" Target="../slideLayouts/slideLayout511.xml"/><Relationship Id="rId12" Type="http://schemas.openxmlformats.org/officeDocument/2006/relationships/slideLayout" Target="../slideLayouts/slideLayout512.xml"/><Relationship Id="rId13" Type="http://schemas.openxmlformats.org/officeDocument/2006/relationships/slideLayout" Target="../slideLayouts/slideLayout513.xml"/><Relationship Id="rId14" Type="http://schemas.openxmlformats.org/officeDocument/2006/relationships/slideLayout" Target="../slideLayouts/slideLayout514.xml"/><Relationship Id="rId15" Type="http://schemas.openxmlformats.org/officeDocument/2006/relationships/slideLayout" Target="../slideLayouts/slideLayout515.xml"/><Relationship Id="rId16" Type="http://schemas.openxmlformats.org/officeDocument/2006/relationships/slideLayout" Target="../slideLayouts/slideLayout516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424720" y="6397560"/>
            <a:ext cx="45720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9C498-9439-436F-A5E9-4FA07FEE2D0C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3720" y="6397560"/>
            <a:ext cx="5172120" cy="231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917640" y="493560"/>
            <a:ext cx="736920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917640" y="1528560"/>
            <a:ext cx="736920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28560" indent="-285480">
              <a:spcBef>
                <a:spcPts val="1500"/>
              </a:spcBef>
              <a:buClr>
                <a:srgbClr val="ff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97164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257480" indent="-171720">
              <a:spcBef>
                <a:spcPts val="1500"/>
              </a:spcBef>
              <a:buClr>
                <a:srgbClr val="ff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1542960" indent="-17136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1542960" indent="-171360">
              <a:spcBef>
                <a:spcPts val="1500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1542960" indent="-171360">
              <a:spcBef>
                <a:spcPts val="1500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Line 18"/>
          <p:cNvSpPr/>
          <p:nvPr/>
        </p:nvSpPr>
        <p:spPr>
          <a:xfrm>
            <a:off x="917640" y="1365120"/>
            <a:ext cx="7369200" cy="0"/>
          </a:xfrm>
          <a:prstGeom prst="line">
            <a:avLst/>
          </a:prstGeom>
          <a:ln cap="rnd" w="24120">
            <a:solidFill>
              <a:srgbClr val="4b4b4b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5" name="Picture 19" descr="tr_hrz_rgb_pos"/>
          <p:cNvPicPr/>
          <p:nvPr/>
        </p:nvPicPr>
        <p:blipFill>
          <a:blip r:embed="rId2"/>
          <a:srcRect l="0" t="0" r="0" b="20690"/>
          <a:stretch/>
        </p:blipFill>
        <p:spPr>
          <a:xfrm>
            <a:off x="385920" y="6324480"/>
            <a:ext cx="1687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Num" idx="19"/>
          </p:nvPr>
        </p:nvSpPr>
        <p:spPr>
          <a:xfrm>
            <a:off x="8424720" y="6397560"/>
            <a:ext cx="45720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0A2ED-4640-42A9-8C4C-47BCC40F7B9F}" type="slidenum"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0"/>
          </p:nvPr>
        </p:nvSpPr>
        <p:spPr>
          <a:xfrm>
            <a:off x="3123720" y="6397560"/>
            <a:ext cx="5172120" cy="231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title"/>
          </p:nvPr>
        </p:nvSpPr>
        <p:spPr>
          <a:xfrm>
            <a:off x="917640" y="493560"/>
            <a:ext cx="736920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917640" y="1528560"/>
            <a:ext cx="736920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28560" indent="-285480">
              <a:spcBef>
                <a:spcPts val="1500"/>
              </a:spcBef>
              <a:buClr>
                <a:srgbClr val="ff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97164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257480" indent="-171720">
              <a:spcBef>
                <a:spcPts val="1500"/>
              </a:spcBef>
              <a:buClr>
                <a:srgbClr val="ff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1542960" indent="-17136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1542960" indent="-171360">
              <a:spcBef>
                <a:spcPts val="1500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1542960" indent="-171360">
              <a:spcBef>
                <a:spcPts val="1500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04" name="Line 6"/>
          <p:cNvSpPr/>
          <p:nvPr/>
        </p:nvSpPr>
        <p:spPr>
          <a:xfrm>
            <a:off x="917640" y="1365120"/>
            <a:ext cx="7369200" cy="0"/>
          </a:xfrm>
          <a:prstGeom prst="line">
            <a:avLst/>
          </a:prstGeom>
          <a:ln cap="rnd" w="24120">
            <a:solidFill>
              <a:srgbClr val="4b4b4b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405" name="Picture 7" descr="tr_hrz_rgb_pos"/>
          <p:cNvPicPr/>
          <p:nvPr/>
        </p:nvPicPr>
        <p:blipFill>
          <a:blip r:embed="rId2"/>
          <a:srcRect l="0" t="0" r="0" b="20690"/>
          <a:stretch/>
        </p:blipFill>
        <p:spPr>
          <a:xfrm>
            <a:off x="385920" y="6324480"/>
            <a:ext cx="1687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Group 2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sp>
          <p:nvSpPr>
            <p:cNvPr id="443" name="Rectangle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4b4b"/>
                </a:solidFill>
                <a:latin typeface="Arial"/>
              </a:endParaRPr>
            </a:p>
          </p:txBody>
        </p:sp>
        <p:pic>
          <p:nvPicPr>
            <p:cNvPr id="444" name="Picture 4" descr="TR_SlideLogo_BW600"/>
            <p:cNvPicPr/>
            <p:nvPr/>
          </p:nvPicPr>
          <p:blipFill>
            <a:blip r:embed="rId2"/>
            <a:stretch/>
          </p:blipFill>
          <p:spPr>
            <a:xfrm>
              <a:off x="371520" y="6324480"/>
              <a:ext cx="1652400" cy="536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5" name="Picture 5" descr="hc_DividerBG_blue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6" descr="hc_Divider_TransLogo"/>
          <p:cNvPicPr/>
          <p:nvPr/>
        </p:nvPicPr>
        <p:blipFill>
          <a:blip r:embed="rId4"/>
          <a:stretch/>
        </p:blipFill>
        <p:spPr>
          <a:xfrm>
            <a:off x="384120" y="6324480"/>
            <a:ext cx="1630440" cy="36216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98200" y="512280"/>
            <a:ext cx="7388280" cy="8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898200" y="1528560"/>
            <a:ext cx="73882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14360" indent="-22860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60020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60020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60020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sldNum" idx="21"/>
          </p:nvPr>
        </p:nvSpPr>
        <p:spPr>
          <a:xfrm>
            <a:off x="8424720" y="6394320"/>
            <a:ext cx="45720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138C0-5992-4CEB-BF59-FC1529F29115}" type="slidenum"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22"/>
          </p:nvPr>
        </p:nvSpPr>
        <p:spPr>
          <a:xfrm>
            <a:off x="3123720" y="6394320"/>
            <a:ext cx="5172120" cy="231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51" name="Line 11"/>
          <p:cNvSpPr/>
          <p:nvPr/>
        </p:nvSpPr>
        <p:spPr>
          <a:xfrm>
            <a:off x="898560" y="1368360"/>
            <a:ext cx="7388280" cy="0"/>
          </a:xfrm>
          <a:prstGeom prst="line">
            <a:avLst/>
          </a:prstGeom>
          <a:ln cap="rnd" w="2412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2" descr="hc_DividerGraphBG_blu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9" name="PlaceHolder 1"/>
          <p:cNvSpPr>
            <a:spLocks noGrp="1"/>
          </p:cNvSpPr>
          <p:nvPr>
            <p:ph type="sldNum" idx="23"/>
          </p:nvPr>
        </p:nvSpPr>
        <p:spPr>
          <a:xfrm>
            <a:off x="8424720" y="6400800"/>
            <a:ext cx="45720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66708-C0B3-4F27-A2C9-5C2FCE3AF43B}" type="slidenum"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ftr" idx="24"/>
          </p:nvPr>
        </p:nvSpPr>
        <p:spPr>
          <a:xfrm>
            <a:off x="3123720" y="6400800"/>
            <a:ext cx="5172120" cy="231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title"/>
          </p:nvPr>
        </p:nvSpPr>
        <p:spPr>
          <a:xfrm>
            <a:off x="898200" y="519120"/>
            <a:ext cx="738828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body"/>
          </p:nvPr>
        </p:nvSpPr>
        <p:spPr>
          <a:xfrm>
            <a:off x="898200" y="1528560"/>
            <a:ext cx="73882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600200" indent="-22860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600200" indent="-22860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600200" indent="-22860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Line 7"/>
          <p:cNvSpPr/>
          <p:nvPr/>
        </p:nvSpPr>
        <p:spPr>
          <a:xfrm>
            <a:off x="898560" y="1368360"/>
            <a:ext cx="7388280" cy="0"/>
          </a:xfrm>
          <a:prstGeom prst="line">
            <a:avLst/>
          </a:prstGeom>
          <a:ln cap="rnd" w="2412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Group 2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sp>
          <p:nvSpPr>
            <p:cNvPr id="531" name="Rectangle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4b4b"/>
                </a:solidFill>
                <a:latin typeface="Arial"/>
              </a:endParaRPr>
            </a:p>
          </p:txBody>
        </p:sp>
        <p:pic>
          <p:nvPicPr>
            <p:cNvPr id="532" name="Picture 4" descr="TR_SlideLogo_BW600"/>
            <p:cNvPicPr/>
            <p:nvPr/>
          </p:nvPicPr>
          <p:blipFill>
            <a:blip r:embed="rId2"/>
            <a:stretch/>
          </p:blipFill>
          <p:spPr>
            <a:xfrm>
              <a:off x="371520" y="6324480"/>
              <a:ext cx="1652400" cy="536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3" name="Picture 5" descr="hc_DividerBG_purple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6" descr="hc_Divider_TransLogo"/>
          <p:cNvPicPr/>
          <p:nvPr/>
        </p:nvPicPr>
        <p:blipFill>
          <a:blip r:embed="rId4"/>
          <a:stretch/>
        </p:blipFill>
        <p:spPr>
          <a:xfrm>
            <a:off x="384120" y="6324480"/>
            <a:ext cx="1630440" cy="3621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sldNum" idx="25"/>
          </p:nvPr>
        </p:nvSpPr>
        <p:spPr>
          <a:xfrm>
            <a:off x="8424720" y="6394320"/>
            <a:ext cx="45720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321E9-4DDA-4506-827F-74D58C9F3C0B}" type="slidenum"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ftr" idx="26"/>
          </p:nvPr>
        </p:nvSpPr>
        <p:spPr>
          <a:xfrm>
            <a:off x="3123720" y="6394320"/>
            <a:ext cx="5172120" cy="231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title"/>
          </p:nvPr>
        </p:nvSpPr>
        <p:spPr>
          <a:xfrm>
            <a:off x="898200" y="518760"/>
            <a:ext cx="738828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body"/>
          </p:nvPr>
        </p:nvSpPr>
        <p:spPr>
          <a:xfrm>
            <a:off x="898200" y="1528560"/>
            <a:ext cx="73882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14360" indent="-22860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60020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60020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60020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Line 11"/>
          <p:cNvSpPr/>
          <p:nvPr/>
        </p:nvSpPr>
        <p:spPr>
          <a:xfrm>
            <a:off x="898560" y="1368360"/>
            <a:ext cx="7388280" cy="0"/>
          </a:xfrm>
          <a:prstGeom prst="line">
            <a:avLst/>
          </a:prstGeom>
          <a:ln cap="rnd" w="2412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2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sp>
          <p:nvSpPr>
            <p:cNvPr id="577" name="Rectangle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4b4b"/>
                </a:solidFill>
                <a:latin typeface="Arial"/>
              </a:endParaRPr>
            </a:p>
          </p:txBody>
        </p:sp>
        <p:pic>
          <p:nvPicPr>
            <p:cNvPr id="578" name="Picture 4" descr="TR_SlideLogo_BW600"/>
            <p:cNvPicPr/>
            <p:nvPr/>
          </p:nvPicPr>
          <p:blipFill>
            <a:blip r:embed="rId2"/>
            <a:stretch/>
          </p:blipFill>
          <p:spPr>
            <a:xfrm>
              <a:off x="371520" y="6324480"/>
              <a:ext cx="1652400" cy="536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79" name="Picture 5" descr="hc_DividerGraphBG_purple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0" name="PlaceHolder 1"/>
          <p:cNvSpPr>
            <a:spLocks noGrp="1"/>
          </p:cNvSpPr>
          <p:nvPr>
            <p:ph type="sldNum" idx="27"/>
          </p:nvPr>
        </p:nvSpPr>
        <p:spPr>
          <a:xfrm>
            <a:off x="8424720" y="6400800"/>
            <a:ext cx="45720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541E5-562B-4F69-8441-B441E8B82C8D}" type="slidenum"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ftr" idx="28"/>
          </p:nvPr>
        </p:nvSpPr>
        <p:spPr>
          <a:xfrm>
            <a:off x="3123720" y="6400800"/>
            <a:ext cx="5172120" cy="231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title"/>
          </p:nvPr>
        </p:nvSpPr>
        <p:spPr>
          <a:xfrm>
            <a:off x="898200" y="519120"/>
            <a:ext cx="738828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body"/>
          </p:nvPr>
        </p:nvSpPr>
        <p:spPr>
          <a:xfrm>
            <a:off x="898200" y="1528560"/>
            <a:ext cx="73882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17136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Line 10"/>
          <p:cNvSpPr/>
          <p:nvPr/>
        </p:nvSpPr>
        <p:spPr>
          <a:xfrm>
            <a:off x="896760" y="1368360"/>
            <a:ext cx="7348680" cy="0"/>
          </a:xfrm>
          <a:prstGeom prst="line">
            <a:avLst/>
          </a:prstGeom>
          <a:ln cap="rnd" w="2412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Group 2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sp>
          <p:nvSpPr>
            <p:cNvPr id="622" name="Rectangle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4b4b"/>
                </a:solidFill>
                <a:latin typeface="Arial"/>
              </a:endParaRPr>
            </a:p>
          </p:txBody>
        </p:sp>
        <p:pic>
          <p:nvPicPr>
            <p:cNvPr id="623" name="Picture 4" descr="TR_SlideLogo_BW600"/>
            <p:cNvPicPr/>
            <p:nvPr/>
          </p:nvPicPr>
          <p:blipFill>
            <a:blip r:embed="rId2"/>
            <a:stretch/>
          </p:blipFill>
          <p:spPr>
            <a:xfrm>
              <a:off x="371520" y="6324480"/>
              <a:ext cx="1652400" cy="536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24" name="Picture 5" descr="hc_DividerBG_Wgrey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5" name="PlaceHolder 1"/>
          <p:cNvSpPr>
            <a:spLocks noGrp="1"/>
          </p:cNvSpPr>
          <p:nvPr>
            <p:ph type="sldNum" idx="29"/>
          </p:nvPr>
        </p:nvSpPr>
        <p:spPr>
          <a:xfrm>
            <a:off x="8424720" y="6394320"/>
            <a:ext cx="45720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9AEDE-3D88-4B28-8FF9-2D82F6AB011F}" type="slidenum"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title"/>
          </p:nvPr>
        </p:nvSpPr>
        <p:spPr>
          <a:xfrm>
            <a:off x="898200" y="518760"/>
            <a:ext cx="73882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body"/>
          </p:nvPr>
        </p:nvSpPr>
        <p:spPr>
          <a:xfrm>
            <a:off x="898200" y="1528560"/>
            <a:ext cx="73882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17136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Line 9"/>
          <p:cNvSpPr/>
          <p:nvPr/>
        </p:nvSpPr>
        <p:spPr>
          <a:xfrm flipV="1">
            <a:off x="898560" y="1368000"/>
            <a:ext cx="7388280" cy="3240"/>
          </a:xfrm>
          <a:prstGeom prst="line">
            <a:avLst/>
          </a:prstGeom>
          <a:ln cap="rnd" w="2412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629" name="Picture 10" descr="hc_Divider_TransLogo"/>
          <p:cNvPicPr/>
          <p:nvPr/>
        </p:nvPicPr>
        <p:blipFill>
          <a:blip r:embed="rId4"/>
          <a:stretch/>
        </p:blipFill>
        <p:spPr>
          <a:xfrm>
            <a:off x="384120" y="6324480"/>
            <a:ext cx="1630440" cy="362160"/>
          </a:xfrm>
          <a:prstGeom prst="rect">
            <a:avLst/>
          </a:prstGeom>
          <a:ln w="0">
            <a:noFill/>
          </a:ln>
        </p:spPr>
      </p:pic>
      <p:sp>
        <p:nvSpPr>
          <p:cNvPr id="630" name="PlaceHolder 4"/>
          <p:cNvSpPr>
            <a:spLocks noGrp="1"/>
          </p:cNvSpPr>
          <p:nvPr>
            <p:ph type="ftr" idx="30"/>
          </p:nvPr>
        </p:nvSpPr>
        <p:spPr>
          <a:xfrm>
            <a:off x="3123720" y="6397560"/>
            <a:ext cx="5172120" cy="231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7" name="Group 2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sp>
          <p:nvSpPr>
            <p:cNvPr id="668" name="Rectangle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4b4b"/>
                </a:solidFill>
                <a:latin typeface="Arial"/>
              </a:endParaRPr>
            </a:p>
          </p:txBody>
        </p:sp>
        <p:pic>
          <p:nvPicPr>
            <p:cNvPr id="669" name="Picture 4" descr="TR_SlideLogo_BW600"/>
            <p:cNvPicPr/>
            <p:nvPr/>
          </p:nvPicPr>
          <p:blipFill>
            <a:blip r:embed="rId2"/>
            <a:stretch/>
          </p:blipFill>
          <p:spPr>
            <a:xfrm>
              <a:off x="371520" y="6324480"/>
              <a:ext cx="1652400" cy="536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70" name="Picture 5" descr="hc_DividerGraphBG_Wgrey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1" name="PlaceHolder 1"/>
          <p:cNvSpPr>
            <a:spLocks noGrp="1"/>
          </p:cNvSpPr>
          <p:nvPr>
            <p:ph type="sldNum" idx="31"/>
          </p:nvPr>
        </p:nvSpPr>
        <p:spPr>
          <a:xfrm>
            <a:off x="8424720" y="6400800"/>
            <a:ext cx="45720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8EC48-F2FC-4FB8-A8A5-B43EB47FABB4}" type="slidenum"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title"/>
          </p:nvPr>
        </p:nvSpPr>
        <p:spPr>
          <a:xfrm>
            <a:off x="898200" y="493200"/>
            <a:ext cx="7388280" cy="8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body"/>
          </p:nvPr>
        </p:nvSpPr>
        <p:spPr>
          <a:xfrm>
            <a:off x="898200" y="1528560"/>
            <a:ext cx="73882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17136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Line 9"/>
          <p:cNvSpPr/>
          <p:nvPr/>
        </p:nvSpPr>
        <p:spPr>
          <a:xfrm>
            <a:off x="898560" y="1368360"/>
            <a:ext cx="7388280" cy="0"/>
          </a:xfrm>
          <a:prstGeom prst="line">
            <a:avLst/>
          </a:prstGeom>
          <a:ln cap="rnd" w="2412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ftr" idx="32"/>
          </p:nvPr>
        </p:nvSpPr>
        <p:spPr>
          <a:xfrm>
            <a:off x="3123720" y="6394320"/>
            <a:ext cx="5172120" cy="231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2" name="Picture 2" descr="hc_DividerBG_Cgre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3" descr="hc_Divider_TransLogo"/>
          <p:cNvPicPr/>
          <p:nvPr/>
        </p:nvPicPr>
        <p:blipFill>
          <a:blip r:embed="rId3"/>
          <a:stretch/>
        </p:blipFill>
        <p:spPr>
          <a:xfrm>
            <a:off x="384120" y="6324480"/>
            <a:ext cx="1630440" cy="362160"/>
          </a:xfrm>
          <a:prstGeom prst="rect">
            <a:avLst/>
          </a:prstGeom>
          <a:ln w="0">
            <a:noFill/>
          </a:ln>
        </p:spPr>
      </p:pic>
      <p:sp>
        <p:nvSpPr>
          <p:cNvPr id="714" name="PlaceHolder 1"/>
          <p:cNvSpPr>
            <a:spLocks noGrp="1"/>
          </p:cNvSpPr>
          <p:nvPr>
            <p:ph type="sldNum" idx="33"/>
          </p:nvPr>
        </p:nvSpPr>
        <p:spPr>
          <a:xfrm>
            <a:off x="8424720" y="6394320"/>
            <a:ext cx="45720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16FCD-F080-44AA-83E8-03B2EDB2EFE4}" type="slidenum"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ftr" idx="34"/>
          </p:nvPr>
        </p:nvSpPr>
        <p:spPr>
          <a:xfrm>
            <a:off x="3123720" y="6394320"/>
            <a:ext cx="5172120" cy="231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 type="title"/>
          </p:nvPr>
        </p:nvSpPr>
        <p:spPr>
          <a:xfrm>
            <a:off x="898200" y="487080"/>
            <a:ext cx="7388280" cy="8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 type="body"/>
          </p:nvPr>
        </p:nvSpPr>
        <p:spPr>
          <a:xfrm>
            <a:off x="898200" y="1515960"/>
            <a:ext cx="7388280" cy="457056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17136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Line 8"/>
          <p:cNvSpPr/>
          <p:nvPr/>
        </p:nvSpPr>
        <p:spPr>
          <a:xfrm>
            <a:off x="898560" y="1368360"/>
            <a:ext cx="7388280" cy="0"/>
          </a:xfrm>
          <a:prstGeom prst="line">
            <a:avLst/>
          </a:prstGeom>
          <a:ln cap="rnd" w="2412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5" name="Group 2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sp>
          <p:nvSpPr>
            <p:cNvPr id="756" name="Rectangle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4b4b"/>
                </a:solidFill>
                <a:latin typeface="Arial"/>
              </a:endParaRPr>
            </a:p>
          </p:txBody>
        </p:sp>
        <p:pic>
          <p:nvPicPr>
            <p:cNvPr id="757" name="Picture 4" descr="TR_SlideLogo_BW600"/>
            <p:cNvPicPr/>
            <p:nvPr/>
          </p:nvPicPr>
          <p:blipFill>
            <a:blip r:embed="rId2"/>
            <a:stretch/>
          </p:blipFill>
          <p:spPr>
            <a:xfrm>
              <a:off x="371520" y="6324480"/>
              <a:ext cx="1652400" cy="536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58" name="Picture 5" descr="hc_DividerGraphBG_Cgrey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9" name="PlaceHolder 1"/>
          <p:cNvSpPr>
            <a:spLocks noGrp="1"/>
          </p:cNvSpPr>
          <p:nvPr>
            <p:ph type="sldNum" idx="35"/>
          </p:nvPr>
        </p:nvSpPr>
        <p:spPr>
          <a:xfrm>
            <a:off x="8424720" y="6400800"/>
            <a:ext cx="45720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25C0D-404E-4114-B3A9-EE8E7085ED19}" type="slidenum"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title"/>
          </p:nvPr>
        </p:nvSpPr>
        <p:spPr>
          <a:xfrm>
            <a:off x="898200" y="500040"/>
            <a:ext cx="738828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body"/>
          </p:nvPr>
        </p:nvSpPr>
        <p:spPr>
          <a:xfrm>
            <a:off x="898200" y="1528560"/>
            <a:ext cx="73882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17136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Line 9"/>
          <p:cNvSpPr/>
          <p:nvPr/>
        </p:nvSpPr>
        <p:spPr>
          <a:xfrm>
            <a:off x="896760" y="1368360"/>
            <a:ext cx="7348680" cy="0"/>
          </a:xfrm>
          <a:prstGeom prst="line">
            <a:avLst/>
          </a:prstGeom>
          <a:ln cap="rnd" w="2412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 type="ftr" idx="36"/>
          </p:nvPr>
        </p:nvSpPr>
        <p:spPr>
          <a:xfrm>
            <a:off x="3123720" y="6397560"/>
            <a:ext cx="5172120" cy="231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2"/>
          <p:cNvSpPr/>
          <p:nvPr/>
        </p:nvSpPr>
        <p:spPr>
          <a:xfrm>
            <a:off x="0" y="0"/>
            <a:ext cx="9144000" cy="341280"/>
          </a:xfrm>
          <a:prstGeom prst="rect">
            <a:avLst/>
          </a:prstGeom>
          <a:solidFill>
            <a:srgbClr val="7aa5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cb8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 type="sldNum" idx="37"/>
          </p:nvPr>
        </p:nvSpPr>
        <p:spPr>
          <a:xfrm>
            <a:off x="8221680" y="6334200"/>
            <a:ext cx="5443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6c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651EB-9DB2-493E-8C10-0D181C475889}" type="slidenum">
              <a:rPr b="1" lang="en-US" sz="1200" spc="-1" strike="noStrike">
                <a:solidFill>
                  <a:srgbClr val="006cb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4" name="Grafik 16" descr="STNLogoHI.new.tif"/>
          <p:cNvPicPr/>
          <p:nvPr/>
        </p:nvPicPr>
        <p:blipFill>
          <a:blip r:embed="rId2"/>
          <a:stretch/>
        </p:blipFill>
        <p:spPr>
          <a:xfrm>
            <a:off x="438120" y="6286680"/>
            <a:ext cx="849240" cy="29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2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sp>
          <p:nvSpPr>
            <p:cNvPr id="43" name="Rectangle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4b4b"/>
                </a:solidFill>
                <a:latin typeface="Arial"/>
              </a:endParaRPr>
            </a:p>
          </p:txBody>
        </p:sp>
        <p:pic>
          <p:nvPicPr>
            <p:cNvPr id="44" name="Picture 4" descr="TR_SlideLogo_BW600"/>
            <p:cNvPicPr/>
            <p:nvPr/>
          </p:nvPicPr>
          <p:blipFill>
            <a:blip r:embed="rId2"/>
            <a:stretch/>
          </p:blipFill>
          <p:spPr>
            <a:xfrm>
              <a:off x="371520" y="6324480"/>
              <a:ext cx="1652400" cy="536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Picture 5" descr="hc_DividerBG_purple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hc_Divider_TransLogo"/>
          <p:cNvPicPr/>
          <p:nvPr/>
        </p:nvPicPr>
        <p:blipFill>
          <a:blip r:embed="rId4"/>
          <a:stretch/>
        </p:blipFill>
        <p:spPr>
          <a:xfrm>
            <a:off x="384120" y="6324480"/>
            <a:ext cx="1630440" cy="3621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sldNum" idx="3"/>
          </p:nvPr>
        </p:nvSpPr>
        <p:spPr>
          <a:xfrm>
            <a:off x="8424720" y="6394320"/>
            <a:ext cx="45720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BEA64-B7C0-4D4C-AD3D-A228E4772CAA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4"/>
          </p:nvPr>
        </p:nvSpPr>
        <p:spPr>
          <a:xfrm>
            <a:off x="3123720" y="6394320"/>
            <a:ext cx="5172120" cy="231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title"/>
          </p:nvPr>
        </p:nvSpPr>
        <p:spPr>
          <a:xfrm>
            <a:off x="898200" y="518760"/>
            <a:ext cx="738828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898200" y="1528560"/>
            <a:ext cx="73882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14360" indent="-22860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60020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60020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60020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Line 15"/>
          <p:cNvSpPr/>
          <p:nvPr/>
        </p:nvSpPr>
        <p:spPr>
          <a:xfrm>
            <a:off x="898560" y="1368360"/>
            <a:ext cx="7388280" cy="0"/>
          </a:xfrm>
          <a:prstGeom prst="line">
            <a:avLst/>
          </a:prstGeom>
          <a:ln cap="rnd" w="2412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Line 4"/>
          <p:cNvSpPr/>
          <p:nvPr/>
        </p:nvSpPr>
        <p:spPr>
          <a:xfrm>
            <a:off x="366840" y="2060640"/>
            <a:ext cx="8399160" cy="0"/>
          </a:xfrm>
          <a:prstGeom prst="line">
            <a:avLst/>
          </a:prstGeom>
          <a:ln cap="rnd" w="24120">
            <a:solidFill>
              <a:srgbClr val="4b4b4b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842" name="Picture 10" descr="tr_hrz_rgb_pos"/>
          <p:cNvPicPr/>
          <p:nvPr/>
        </p:nvPicPr>
        <p:blipFill>
          <a:blip r:embed="rId2"/>
          <a:srcRect l="0" t="0" r="0" b="20690"/>
          <a:stretch/>
        </p:blipFill>
        <p:spPr>
          <a:xfrm>
            <a:off x="6048360" y="5977080"/>
            <a:ext cx="2733840" cy="696600"/>
          </a:xfrm>
          <a:prstGeom prst="rect">
            <a:avLst/>
          </a:prstGeom>
          <a:ln w="0">
            <a:noFill/>
          </a:ln>
        </p:spPr>
      </p:pic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917640" y="493560"/>
            <a:ext cx="736920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917640" y="1528560"/>
            <a:ext cx="736920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28560" indent="-285480">
              <a:spcBef>
                <a:spcPts val="1500"/>
              </a:spcBef>
              <a:buClr>
                <a:srgbClr val="ff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97164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257480" indent="-171720">
              <a:spcBef>
                <a:spcPts val="1500"/>
              </a:spcBef>
              <a:buClr>
                <a:srgbClr val="ff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1542960" indent="-17136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1542960" indent="-171360">
              <a:spcBef>
                <a:spcPts val="1500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1542960" indent="-171360">
              <a:spcBef>
                <a:spcPts val="1500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96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882" name="Picture 5" descr="hc_DividerBG_purpl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3" name="Picture 11" descr="hc_Divider_TransLogo"/>
          <p:cNvPicPr/>
          <p:nvPr/>
        </p:nvPicPr>
        <p:blipFill>
          <a:blip r:embed="rId3"/>
          <a:stretch/>
        </p:blipFill>
        <p:spPr>
          <a:xfrm>
            <a:off x="384120" y="6324480"/>
            <a:ext cx="1630440" cy="362160"/>
          </a:xfrm>
          <a:prstGeom prst="rect">
            <a:avLst/>
          </a:prstGeom>
          <a:ln w="0">
            <a:noFill/>
          </a:ln>
        </p:spPr>
      </p:pic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898200" y="518760"/>
            <a:ext cx="738828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898200" y="1528560"/>
            <a:ext cx="73882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14360" indent="-22860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60020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60020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60020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96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2" name="Group 2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sp>
          <p:nvSpPr>
            <p:cNvPr id="923" name="Rectangle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4b4b"/>
                </a:solidFill>
                <a:latin typeface="Arial"/>
              </a:endParaRPr>
            </a:p>
          </p:txBody>
        </p:sp>
        <p:pic>
          <p:nvPicPr>
            <p:cNvPr id="924" name="Picture 4" descr="TR_SlideLogo_BW600"/>
            <p:cNvPicPr/>
            <p:nvPr/>
          </p:nvPicPr>
          <p:blipFill>
            <a:blip r:embed="rId2"/>
            <a:stretch/>
          </p:blipFill>
          <p:spPr>
            <a:xfrm>
              <a:off x="371520" y="6324480"/>
              <a:ext cx="1652400" cy="536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25" name="Picture 5" descr="hc_DividerGraphBG_purple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98200" y="519120"/>
            <a:ext cx="738828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898200" y="1528560"/>
            <a:ext cx="73882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17136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96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4" name="Picture 10" descr="hc_DividerBG_Wgre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6" descr="hc_Divider_TransLogo"/>
          <p:cNvPicPr/>
          <p:nvPr/>
        </p:nvPicPr>
        <p:blipFill>
          <a:blip r:embed="rId3"/>
          <a:stretch/>
        </p:blipFill>
        <p:spPr>
          <a:xfrm>
            <a:off x="384120" y="6324480"/>
            <a:ext cx="1630440" cy="362160"/>
          </a:xfrm>
          <a:prstGeom prst="rect">
            <a:avLst/>
          </a:prstGeom>
          <a:ln w="0">
            <a:noFill/>
          </a:ln>
        </p:spPr>
      </p:pic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98200" y="518760"/>
            <a:ext cx="73882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898200" y="1528560"/>
            <a:ext cx="73882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17136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96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4" name="Group 2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sp>
          <p:nvSpPr>
            <p:cNvPr id="1005" name="Rectangle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4b4b"/>
                </a:solidFill>
                <a:latin typeface="Arial"/>
              </a:endParaRPr>
            </a:p>
          </p:txBody>
        </p:sp>
        <p:pic>
          <p:nvPicPr>
            <p:cNvPr id="1006" name="Picture 4" descr="TR_SlideLogo_BW600"/>
            <p:cNvPicPr/>
            <p:nvPr/>
          </p:nvPicPr>
          <p:blipFill>
            <a:blip r:embed="rId2"/>
            <a:stretch/>
          </p:blipFill>
          <p:spPr>
            <a:xfrm>
              <a:off x="371520" y="6324480"/>
              <a:ext cx="1652400" cy="536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07" name="Picture 9" descr="hc_DividerGraphBG_Wgrey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898200" y="493200"/>
            <a:ext cx="7388280" cy="8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898200" y="1528560"/>
            <a:ext cx="73882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17136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96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Picture 10" descr="hc_DividerBG_Cgre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6" descr="hc_Divider_TransLogo"/>
          <p:cNvPicPr/>
          <p:nvPr/>
        </p:nvPicPr>
        <p:blipFill>
          <a:blip r:embed="rId3"/>
          <a:stretch/>
        </p:blipFill>
        <p:spPr>
          <a:xfrm>
            <a:off x="384120" y="6324480"/>
            <a:ext cx="1630440" cy="362160"/>
          </a:xfrm>
          <a:prstGeom prst="rect">
            <a:avLst/>
          </a:prstGeom>
          <a:ln w="0">
            <a:noFill/>
          </a:ln>
        </p:spPr>
      </p:pic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898200" y="487080"/>
            <a:ext cx="7388280" cy="8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body"/>
          </p:nvPr>
        </p:nvSpPr>
        <p:spPr>
          <a:xfrm>
            <a:off x="898200" y="1515960"/>
            <a:ext cx="7388280" cy="457056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17136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96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2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sp>
          <p:nvSpPr>
            <p:cNvPr id="1087" name="Rectangle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4b4b"/>
                </a:solidFill>
                <a:latin typeface="Arial"/>
              </a:endParaRPr>
            </a:p>
          </p:txBody>
        </p:sp>
        <p:pic>
          <p:nvPicPr>
            <p:cNvPr id="1088" name="Picture 4" descr="TR_SlideLogo_BW600"/>
            <p:cNvPicPr/>
            <p:nvPr/>
          </p:nvPicPr>
          <p:blipFill>
            <a:blip r:embed="rId2"/>
            <a:stretch/>
          </p:blipFill>
          <p:spPr>
            <a:xfrm>
              <a:off x="371520" y="6324480"/>
              <a:ext cx="1652400" cy="536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89" name="Picture 9" descr="hc_DividerGraphBG_Cgrey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898200" y="500040"/>
            <a:ext cx="738828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898200" y="1528560"/>
            <a:ext cx="73882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17136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Line 4"/>
          <p:cNvSpPr/>
          <p:nvPr/>
        </p:nvSpPr>
        <p:spPr>
          <a:xfrm>
            <a:off x="355680" y="4321080"/>
            <a:ext cx="8410320" cy="0"/>
          </a:xfrm>
          <a:prstGeom prst="line">
            <a:avLst/>
          </a:prstGeom>
          <a:ln cap="rnd" w="24120">
            <a:solidFill>
              <a:srgbClr val="4b4b4b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1129" name="Picture 5" descr="RTR1KWE8_cropped"/>
          <p:cNvPicPr/>
          <p:nvPr/>
        </p:nvPicPr>
        <p:blipFill>
          <a:blip r:embed="rId2"/>
          <a:stretch/>
        </p:blipFill>
        <p:spPr>
          <a:xfrm>
            <a:off x="339840" y="371520"/>
            <a:ext cx="8451720" cy="290520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6" descr="tr_hrz_rgb_pos"/>
          <p:cNvPicPr/>
          <p:nvPr/>
        </p:nvPicPr>
        <p:blipFill>
          <a:blip r:embed="rId3"/>
          <a:srcRect l="0" t="0" r="0" b="20690"/>
          <a:stretch/>
        </p:blipFill>
        <p:spPr>
          <a:xfrm>
            <a:off x="6048360" y="5977080"/>
            <a:ext cx="2733840" cy="696600"/>
          </a:xfrm>
          <a:prstGeom prst="rect">
            <a:avLst/>
          </a:prstGeom>
          <a:ln w="0">
            <a:noFill/>
          </a:ln>
        </p:spPr>
      </p:pic>
      <p:sp>
        <p:nvSpPr>
          <p:cNvPr id="1131" name="AutoShape 7"/>
          <p:cNvSpPr/>
          <p:nvPr/>
        </p:nvSpPr>
        <p:spPr>
          <a:xfrm>
            <a:off x="-1252440" y="-442800"/>
            <a:ext cx="11648880" cy="77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1132" name="Picture 8" descr=""/>
          <p:cNvPicPr/>
          <p:nvPr/>
        </p:nvPicPr>
        <p:blipFill>
          <a:blip r:embed="rId4"/>
          <a:stretch/>
        </p:blipFill>
        <p:spPr>
          <a:xfrm>
            <a:off x="341280" y="263520"/>
            <a:ext cx="8464680" cy="3116160"/>
          </a:xfrm>
          <a:prstGeom prst="rect">
            <a:avLst/>
          </a:prstGeom>
          <a:ln w="0">
            <a:noFill/>
          </a:ln>
        </p:spPr>
      </p:pic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917640" y="506520"/>
            <a:ext cx="736920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917640" y="1525320"/>
            <a:ext cx="736920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28560" indent="-285480">
              <a:spcBef>
                <a:spcPts val="1500"/>
              </a:spcBef>
              <a:buClr>
                <a:srgbClr val="ff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914400" indent="-17136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257480" indent="-228600">
              <a:spcBef>
                <a:spcPts val="1500"/>
              </a:spcBef>
              <a:buClr>
                <a:srgbClr val="ff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1486080" indent="-11448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1486080" indent="-114480">
              <a:spcBef>
                <a:spcPts val="1500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1486080" indent="-114480">
              <a:spcBef>
                <a:spcPts val="1500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5"/>
    <p:sldLayoutId id="2147483988" r:id="rId6"/>
    <p:sldLayoutId id="2147483989" r:id="rId7"/>
    <p:sldLayoutId id="2147483990" r:id="rId8"/>
    <p:sldLayoutId id="2147483991" r:id="rId9"/>
    <p:sldLayoutId id="2147483992" r:id="rId10"/>
    <p:sldLayoutId id="2147483993" r:id="rId11"/>
    <p:sldLayoutId id="2147483994" r:id="rId12"/>
    <p:sldLayoutId id="2147483995" r:id="rId13"/>
    <p:sldLayoutId id="2147483996" r:id="rId14"/>
    <p:sldLayoutId id="2147483997" r:id="rId15"/>
    <p:sldLayoutId id="2147483998" r:id="rId16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Line 4"/>
          <p:cNvSpPr/>
          <p:nvPr/>
        </p:nvSpPr>
        <p:spPr>
          <a:xfrm>
            <a:off x="355680" y="4321080"/>
            <a:ext cx="8410320" cy="0"/>
          </a:xfrm>
          <a:prstGeom prst="line">
            <a:avLst/>
          </a:prstGeom>
          <a:ln cap="rnd" w="24120">
            <a:solidFill>
              <a:srgbClr val="4b4b4b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1172" name="Picture 5" descr="RTR1KWE8_cropped"/>
          <p:cNvPicPr/>
          <p:nvPr/>
        </p:nvPicPr>
        <p:blipFill>
          <a:blip r:embed="rId2"/>
          <a:stretch/>
        </p:blipFill>
        <p:spPr>
          <a:xfrm>
            <a:off x="339840" y="371520"/>
            <a:ext cx="8451720" cy="2905200"/>
          </a:xfrm>
          <a:prstGeom prst="rect">
            <a:avLst/>
          </a:prstGeom>
          <a:ln w="0">
            <a:noFill/>
          </a:ln>
        </p:spPr>
      </p:pic>
      <p:pic>
        <p:nvPicPr>
          <p:cNvPr id="1173" name="Picture 6" descr="tr_hrz_rgb_pos"/>
          <p:cNvPicPr/>
          <p:nvPr/>
        </p:nvPicPr>
        <p:blipFill>
          <a:blip r:embed="rId3"/>
          <a:srcRect l="0" t="0" r="0" b="20690"/>
          <a:stretch/>
        </p:blipFill>
        <p:spPr>
          <a:xfrm>
            <a:off x="6048360" y="5977080"/>
            <a:ext cx="2733840" cy="696600"/>
          </a:xfrm>
          <a:prstGeom prst="rect">
            <a:avLst/>
          </a:prstGeom>
          <a:ln w="0">
            <a:noFill/>
          </a:ln>
        </p:spPr>
      </p:pic>
      <p:sp>
        <p:nvSpPr>
          <p:cNvPr id="1174" name="AutoShape 7"/>
          <p:cNvSpPr/>
          <p:nvPr/>
        </p:nvSpPr>
        <p:spPr>
          <a:xfrm>
            <a:off x="-1252440" y="-442800"/>
            <a:ext cx="11648880" cy="77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917640" y="506520"/>
            <a:ext cx="736920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917640" y="1525320"/>
            <a:ext cx="736920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28560" indent="-285480">
              <a:spcBef>
                <a:spcPts val="1500"/>
              </a:spcBef>
              <a:buClr>
                <a:srgbClr val="ff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914400" indent="-17136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257480" indent="-228600">
              <a:spcBef>
                <a:spcPts val="1500"/>
              </a:spcBef>
              <a:buClr>
                <a:srgbClr val="ff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1486080" indent="-11448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1486080" indent="-114480">
              <a:spcBef>
                <a:spcPts val="1500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1486080" indent="-114480">
              <a:spcBef>
                <a:spcPts val="1500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Line 4"/>
          <p:cNvSpPr/>
          <p:nvPr/>
        </p:nvSpPr>
        <p:spPr>
          <a:xfrm>
            <a:off x="366840" y="2060640"/>
            <a:ext cx="8399160" cy="0"/>
          </a:xfrm>
          <a:prstGeom prst="line">
            <a:avLst/>
          </a:prstGeom>
          <a:ln cap="rnd" w="24120">
            <a:solidFill>
              <a:srgbClr val="4b4b4b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1214" name="Picture 5" descr="tr_hrz_rgb_pos"/>
          <p:cNvPicPr/>
          <p:nvPr/>
        </p:nvPicPr>
        <p:blipFill>
          <a:blip r:embed="rId2"/>
          <a:srcRect l="0" t="0" r="0" b="20690"/>
          <a:stretch/>
        </p:blipFill>
        <p:spPr>
          <a:xfrm>
            <a:off x="6048360" y="5977080"/>
            <a:ext cx="2733840" cy="696600"/>
          </a:xfrm>
          <a:prstGeom prst="rect">
            <a:avLst/>
          </a:prstGeom>
          <a:ln w="0">
            <a:noFill/>
          </a:ln>
        </p:spPr>
      </p:pic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917640" y="493560"/>
            <a:ext cx="736920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917640" y="1528560"/>
            <a:ext cx="736920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28560" indent="-285480">
              <a:spcBef>
                <a:spcPts val="1500"/>
              </a:spcBef>
              <a:buClr>
                <a:srgbClr val="ff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97164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257480" indent="-171720">
              <a:spcBef>
                <a:spcPts val="1500"/>
              </a:spcBef>
              <a:buClr>
                <a:srgbClr val="ff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1542960" indent="-17136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1542960" indent="-171360">
              <a:spcBef>
                <a:spcPts val="1500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1542960" indent="-171360">
              <a:spcBef>
                <a:spcPts val="1500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sp>
          <p:nvSpPr>
            <p:cNvPr id="89" name="Rectangle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4b4b"/>
                </a:solidFill>
                <a:latin typeface="Arial"/>
              </a:endParaRPr>
            </a:p>
          </p:txBody>
        </p:sp>
        <p:pic>
          <p:nvPicPr>
            <p:cNvPr id="90" name="Picture 4" descr="TR_SlideLogo_BW600"/>
            <p:cNvPicPr/>
            <p:nvPr/>
          </p:nvPicPr>
          <p:blipFill>
            <a:blip r:embed="rId2"/>
            <a:stretch/>
          </p:blipFill>
          <p:spPr>
            <a:xfrm>
              <a:off x="371520" y="6324480"/>
              <a:ext cx="1652400" cy="536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1" name="Picture 5" descr="hc_DividerGraphBG_purple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sldNum" idx="5"/>
          </p:nvPr>
        </p:nvSpPr>
        <p:spPr>
          <a:xfrm>
            <a:off x="8424720" y="6400800"/>
            <a:ext cx="45720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E1E3D-FAA7-4BD2-B6F7-C1FB2C8C5EAD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ftr" idx="6"/>
          </p:nvPr>
        </p:nvSpPr>
        <p:spPr>
          <a:xfrm>
            <a:off x="3123720" y="6400800"/>
            <a:ext cx="5172120" cy="231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title"/>
          </p:nvPr>
        </p:nvSpPr>
        <p:spPr>
          <a:xfrm>
            <a:off x="898200" y="519120"/>
            <a:ext cx="738828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898200" y="1528560"/>
            <a:ext cx="73882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17136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Line 13"/>
          <p:cNvSpPr/>
          <p:nvPr/>
        </p:nvSpPr>
        <p:spPr>
          <a:xfrm>
            <a:off x="896760" y="1368360"/>
            <a:ext cx="7348680" cy="0"/>
          </a:xfrm>
          <a:prstGeom prst="line">
            <a:avLst/>
          </a:prstGeom>
          <a:ln cap="rnd" w="2412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96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Picture 2" descr="hc_DividerBG_blu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4" name="Picture 4" descr="hc_Divider_TransLogo"/>
          <p:cNvPicPr/>
          <p:nvPr/>
        </p:nvPicPr>
        <p:blipFill>
          <a:blip r:embed="rId3"/>
          <a:stretch/>
        </p:blipFill>
        <p:spPr>
          <a:xfrm>
            <a:off x="384120" y="6324480"/>
            <a:ext cx="1630440" cy="362160"/>
          </a:xfrm>
          <a:prstGeom prst="rect">
            <a:avLst/>
          </a:prstGeom>
          <a:ln w="0">
            <a:noFill/>
          </a:ln>
        </p:spPr>
      </p:pic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898200" y="512280"/>
            <a:ext cx="7388280" cy="8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898200" y="1528560"/>
            <a:ext cx="73882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14360" indent="-22860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60020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60020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60020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96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3" name="Picture 2" descr="hc_DividerGraphBG_blu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898200" y="519120"/>
            <a:ext cx="738828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898200" y="1528560"/>
            <a:ext cx="73882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600200" indent="-22860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600200" indent="-22860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600200" indent="-22860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96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1333" name="Picture 3" descr="hc_DividerBG_purpl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34" name="Picture 5" descr="hc_Divider_TransLogo"/>
          <p:cNvPicPr/>
          <p:nvPr/>
        </p:nvPicPr>
        <p:blipFill>
          <a:blip r:embed="rId3"/>
          <a:stretch/>
        </p:blipFill>
        <p:spPr>
          <a:xfrm>
            <a:off x="384120" y="6324480"/>
            <a:ext cx="1630440" cy="362160"/>
          </a:xfrm>
          <a:prstGeom prst="rect">
            <a:avLst/>
          </a:prstGeom>
          <a:ln w="0">
            <a:noFill/>
          </a:ln>
        </p:spPr>
      </p:pic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898200" y="518760"/>
            <a:ext cx="738828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898200" y="1528560"/>
            <a:ext cx="73882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14360" indent="-22860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60020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60020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60020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4"/>
    <p:sldLayoutId id="2147484053" r:id="rId5"/>
    <p:sldLayoutId id="2147484054" r:id="rId6"/>
    <p:sldLayoutId id="2147484055" r:id="rId7"/>
    <p:sldLayoutId id="2147484056" r:id="rId8"/>
    <p:sldLayoutId id="2147484057" r:id="rId9"/>
    <p:sldLayoutId id="2147484058" r:id="rId10"/>
    <p:sldLayoutId id="2147484059" r:id="rId11"/>
    <p:sldLayoutId id="2147484060" r:id="rId12"/>
    <p:sldLayoutId id="2147484061" r:id="rId13"/>
    <p:sldLayoutId id="2147484062" r:id="rId14"/>
    <p:sldLayoutId id="2147484063" r:id="rId15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96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3" name="Group 2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sp>
          <p:nvSpPr>
            <p:cNvPr id="1374" name="Rectangle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4b4b"/>
                </a:solidFill>
                <a:latin typeface="Arial"/>
              </a:endParaRPr>
            </a:p>
          </p:txBody>
        </p:sp>
        <p:pic>
          <p:nvPicPr>
            <p:cNvPr id="1375" name="Picture 4" descr="TR_SlideLogo_BW600"/>
            <p:cNvPicPr/>
            <p:nvPr/>
          </p:nvPicPr>
          <p:blipFill>
            <a:blip r:embed="rId2"/>
            <a:stretch/>
          </p:blipFill>
          <p:spPr>
            <a:xfrm>
              <a:off x="371520" y="6324480"/>
              <a:ext cx="1652400" cy="536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76" name="Picture 5" descr="hc_DividerGraphBG_purple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898200" y="519120"/>
            <a:ext cx="738828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898200" y="1528560"/>
            <a:ext cx="73882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17136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4"/>
    <p:sldLayoutId id="2147484066" r:id="rId5"/>
    <p:sldLayoutId id="2147484067" r:id="rId6"/>
    <p:sldLayoutId id="2147484068" r:id="rId7"/>
    <p:sldLayoutId id="2147484069" r:id="rId8"/>
    <p:sldLayoutId id="2147484070" r:id="rId9"/>
    <p:sldLayoutId id="2147484071" r:id="rId10"/>
    <p:sldLayoutId id="2147484072" r:id="rId11"/>
    <p:sldLayoutId id="2147484073" r:id="rId12"/>
    <p:sldLayoutId id="2147484074" r:id="rId13"/>
    <p:sldLayoutId id="2147484075" r:id="rId14"/>
    <p:sldLayoutId id="2147484076" r:id="rId15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96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5" name="Picture 2" descr="hc_DividerBG_Wgre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16" name="Picture 3" descr="hc_Divider_TransLogo"/>
          <p:cNvPicPr/>
          <p:nvPr/>
        </p:nvPicPr>
        <p:blipFill>
          <a:blip r:embed="rId3"/>
          <a:stretch/>
        </p:blipFill>
        <p:spPr>
          <a:xfrm>
            <a:off x="384120" y="6324480"/>
            <a:ext cx="1630440" cy="362160"/>
          </a:xfrm>
          <a:prstGeom prst="rect">
            <a:avLst/>
          </a:prstGeom>
          <a:ln w="0">
            <a:noFill/>
          </a:ln>
        </p:spPr>
      </p:pic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898200" y="518760"/>
            <a:ext cx="73882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898200" y="1528560"/>
            <a:ext cx="73882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17136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4"/>
    <p:sldLayoutId id="2147484079" r:id="rId5"/>
    <p:sldLayoutId id="2147484080" r:id="rId6"/>
    <p:sldLayoutId id="2147484081" r:id="rId7"/>
    <p:sldLayoutId id="2147484082" r:id="rId8"/>
    <p:sldLayoutId id="2147484083" r:id="rId9"/>
    <p:sldLayoutId id="2147484084" r:id="rId10"/>
    <p:sldLayoutId id="2147484085" r:id="rId11"/>
    <p:sldLayoutId id="2147484086" r:id="rId12"/>
    <p:sldLayoutId id="2147484087" r:id="rId13"/>
    <p:sldLayoutId id="2147484088" r:id="rId14"/>
    <p:sldLayoutId id="2147484089" r:id="rId15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96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5" name="Group 2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sp>
          <p:nvSpPr>
            <p:cNvPr id="1456" name="Rectangle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4b4b"/>
                </a:solidFill>
                <a:latin typeface="Arial"/>
              </a:endParaRPr>
            </a:p>
          </p:txBody>
        </p:sp>
        <p:pic>
          <p:nvPicPr>
            <p:cNvPr id="1457" name="Picture 4" descr="TR_SlideLogo_BW600"/>
            <p:cNvPicPr/>
            <p:nvPr/>
          </p:nvPicPr>
          <p:blipFill>
            <a:blip r:embed="rId2"/>
            <a:stretch/>
          </p:blipFill>
          <p:spPr>
            <a:xfrm>
              <a:off x="371520" y="6324480"/>
              <a:ext cx="1652400" cy="536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58" name="Picture 5" descr="hc_DividerGraphBG_Wgrey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898200" y="493200"/>
            <a:ext cx="7388280" cy="8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898200" y="1528560"/>
            <a:ext cx="73882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17136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4"/>
    <p:sldLayoutId id="2147484092" r:id="rId5"/>
    <p:sldLayoutId id="2147484093" r:id="rId6"/>
    <p:sldLayoutId id="2147484094" r:id="rId7"/>
    <p:sldLayoutId id="2147484095" r:id="rId8"/>
    <p:sldLayoutId id="2147484096" r:id="rId9"/>
    <p:sldLayoutId id="2147484097" r:id="rId10"/>
    <p:sldLayoutId id="2147484098" r:id="rId11"/>
    <p:sldLayoutId id="2147484099" r:id="rId12"/>
    <p:sldLayoutId id="2147484100" r:id="rId13"/>
    <p:sldLayoutId id="2147484101" r:id="rId14"/>
    <p:sldLayoutId id="2147484102" r:id="rId15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96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7" name="Picture 2" descr="hc_DividerBG_Cgre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98" name="Picture 3" descr="hc_Divider_TransLogo"/>
          <p:cNvPicPr/>
          <p:nvPr/>
        </p:nvPicPr>
        <p:blipFill>
          <a:blip r:embed="rId3"/>
          <a:stretch/>
        </p:blipFill>
        <p:spPr>
          <a:xfrm>
            <a:off x="384120" y="6324480"/>
            <a:ext cx="1630440" cy="362160"/>
          </a:xfrm>
          <a:prstGeom prst="rect">
            <a:avLst/>
          </a:prstGeom>
          <a:ln w="0">
            <a:noFill/>
          </a:ln>
        </p:spPr>
      </p:pic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898200" y="487080"/>
            <a:ext cx="7388280" cy="8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 type="body"/>
          </p:nvPr>
        </p:nvSpPr>
        <p:spPr>
          <a:xfrm>
            <a:off x="898200" y="1515960"/>
            <a:ext cx="7388280" cy="457056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17136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96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7" name="Group 2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sp>
          <p:nvSpPr>
            <p:cNvPr id="1538" name="Rectangle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4b4b"/>
                </a:solidFill>
                <a:latin typeface="Arial"/>
              </a:endParaRPr>
            </a:p>
          </p:txBody>
        </p:sp>
        <p:pic>
          <p:nvPicPr>
            <p:cNvPr id="1539" name="Picture 4" descr="TR_SlideLogo_BW600"/>
            <p:cNvPicPr/>
            <p:nvPr/>
          </p:nvPicPr>
          <p:blipFill>
            <a:blip r:embed="rId2"/>
            <a:stretch/>
          </p:blipFill>
          <p:spPr>
            <a:xfrm>
              <a:off x="371520" y="6324480"/>
              <a:ext cx="1652400" cy="536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40" name="Picture 5" descr="hc_DividerGraphBG_Cgrey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898200" y="500040"/>
            <a:ext cx="738828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 type="body"/>
          </p:nvPr>
        </p:nvSpPr>
        <p:spPr>
          <a:xfrm>
            <a:off x="898200" y="1528560"/>
            <a:ext cx="73882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17136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4"/>
    <p:sldLayoutId id="2147484118" r:id="rId5"/>
    <p:sldLayoutId id="2147484119" r:id="rId6"/>
    <p:sldLayoutId id="2147484120" r:id="rId7"/>
    <p:sldLayoutId id="2147484121" r:id="rId8"/>
    <p:sldLayoutId id="2147484122" r:id="rId9"/>
    <p:sldLayoutId id="2147484123" r:id="rId10"/>
    <p:sldLayoutId id="2147484124" r:id="rId11"/>
    <p:sldLayoutId id="2147484125" r:id="rId12"/>
    <p:sldLayoutId id="2147484126" r:id="rId13"/>
    <p:sldLayoutId id="2147484127" r:id="rId14"/>
    <p:sldLayoutId id="2147484128" r:id="rId15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9" name="Picture 2" descr="STN-FIZ-PPT-Title-artwork"/>
          <p:cNvPicPr/>
          <p:nvPr/>
        </p:nvPicPr>
        <p:blipFill>
          <a:blip r:embed="rId2"/>
          <a:srcRect l="0" t="7183" r="0" b="10408"/>
          <a:stretch/>
        </p:blipFill>
        <p:spPr>
          <a:xfrm>
            <a:off x="0" y="0"/>
            <a:ext cx="9144000" cy="5649840"/>
          </a:xfrm>
          <a:prstGeom prst="rect">
            <a:avLst/>
          </a:prstGeom>
          <a:ln w="0">
            <a:noFill/>
          </a:ln>
        </p:spPr>
      </p:pic>
      <p:grpSp>
        <p:nvGrpSpPr>
          <p:cNvPr id="1580" name="Gruppieren 7"/>
          <p:cNvGrpSpPr/>
          <p:nvPr/>
        </p:nvGrpSpPr>
        <p:grpSpPr>
          <a:xfrm>
            <a:off x="398520" y="6286680"/>
            <a:ext cx="2860560" cy="423720"/>
            <a:chOff x="398520" y="6286680"/>
            <a:chExt cx="2860560" cy="423720"/>
          </a:xfrm>
        </p:grpSpPr>
        <p:pic>
          <p:nvPicPr>
            <p:cNvPr id="1581" name="Picture 8" descr="STN_title"/>
            <p:cNvPicPr/>
            <p:nvPr/>
          </p:nvPicPr>
          <p:blipFill>
            <a:blip r:embed="rId3"/>
            <a:srcRect l="0" t="90711" r="52855" b="0"/>
            <a:stretch/>
          </p:blipFill>
          <p:spPr>
            <a:xfrm>
              <a:off x="398520" y="6288480"/>
              <a:ext cx="2860560" cy="42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2" name="Grafik 9" descr="STNLogoHI.new.tif"/>
            <p:cNvPicPr/>
            <p:nvPr/>
          </p:nvPicPr>
          <p:blipFill>
            <a:blip r:embed="rId4"/>
            <a:stretch/>
          </p:blipFill>
          <p:spPr>
            <a:xfrm>
              <a:off x="437040" y="6286680"/>
              <a:ext cx="849240" cy="296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cb8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 type="body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5"/>
    <p:sldLayoutId id="2147484131" r:id="rId6"/>
    <p:sldLayoutId id="2147484132" r:id="rId7"/>
    <p:sldLayoutId id="2147484133" r:id="rId8"/>
    <p:sldLayoutId id="2147484134" r:id="rId9"/>
    <p:sldLayoutId id="2147484135" r:id="rId10"/>
    <p:sldLayoutId id="2147484136" r:id="rId11"/>
    <p:sldLayoutId id="2147484137" r:id="rId12"/>
    <p:sldLayoutId id="2147484138" r:id="rId13"/>
    <p:sldLayoutId id="2147484139" r:id="rId14"/>
    <p:sldLayoutId id="2147484140" r:id="rId15"/>
    <p:sldLayoutId id="2147484141" r:id="rId16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Rectangle 2"/>
          <p:cNvSpPr/>
          <p:nvPr/>
        </p:nvSpPr>
        <p:spPr>
          <a:xfrm>
            <a:off x="0" y="0"/>
            <a:ext cx="9144000" cy="341280"/>
          </a:xfrm>
          <a:prstGeom prst="rect">
            <a:avLst/>
          </a:prstGeom>
          <a:solidFill>
            <a:srgbClr val="7aa5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1622" name="Grafik 16" descr="STNLogoHI.new.tif"/>
          <p:cNvPicPr/>
          <p:nvPr/>
        </p:nvPicPr>
        <p:blipFill>
          <a:blip r:embed="rId2"/>
          <a:stretch/>
        </p:blipFill>
        <p:spPr>
          <a:xfrm>
            <a:off x="438120" y="6286680"/>
            <a:ext cx="849240" cy="296640"/>
          </a:xfrm>
          <a:prstGeom prst="rect">
            <a:avLst/>
          </a:prstGeom>
          <a:ln w="0">
            <a:noFill/>
          </a:ln>
        </p:spPr>
      </p:pic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cb8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 type="body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 type="sldNum" idx="38"/>
          </p:nvPr>
        </p:nvSpPr>
        <p:spPr>
          <a:xfrm>
            <a:off x="8222760" y="6334200"/>
            <a:ext cx="54468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6cb8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69705-3A88-4554-90B5-165734CC8574}" type="slidenum">
              <a:rPr b="1" lang="en-US" sz="1200" spc="-1" strike="noStrike">
                <a:solidFill>
                  <a:srgbClr val="006cb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2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sp>
          <p:nvSpPr>
            <p:cNvPr id="134" name="Rectangle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4b4b"/>
                </a:solidFill>
                <a:latin typeface="Arial"/>
              </a:endParaRPr>
            </a:p>
          </p:txBody>
        </p:sp>
        <p:pic>
          <p:nvPicPr>
            <p:cNvPr id="135" name="Picture 4" descr="TR_SlideLogo_BW600"/>
            <p:cNvPicPr/>
            <p:nvPr/>
          </p:nvPicPr>
          <p:blipFill>
            <a:blip r:embed="rId2"/>
            <a:stretch/>
          </p:blipFill>
          <p:spPr>
            <a:xfrm>
              <a:off x="371520" y="6324480"/>
              <a:ext cx="1652400" cy="536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6" name="Picture 12" descr="hc_DividerBG_Wgrey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sldNum" idx="7"/>
          </p:nvPr>
        </p:nvSpPr>
        <p:spPr>
          <a:xfrm>
            <a:off x="8424720" y="6394320"/>
            <a:ext cx="45720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B677E-ECF9-4D88-88E3-D78947D58F48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898200" y="518760"/>
            <a:ext cx="73882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body"/>
          </p:nvPr>
        </p:nvSpPr>
        <p:spPr>
          <a:xfrm>
            <a:off x="898200" y="1528560"/>
            <a:ext cx="73882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17136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6"/>
          <p:cNvSpPr/>
          <p:nvPr/>
        </p:nvSpPr>
        <p:spPr>
          <a:xfrm flipV="1">
            <a:off x="898560" y="1368000"/>
            <a:ext cx="7388280" cy="3240"/>
          </a:xfrm>
          <a:prstGeom prst="line">
            <a:avLst/>
          </a:prstGeom>
          <a:ln cap="rnd" w="2412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141" name="Picture 6" descr="hc_Divider_TransLogo"/>
          <p:cNvPicPr/>
          <p:nvPr/>
        </p:nvPicPr>
        <p:blipFill>
          <a:blip r:embed="rId4"/>
          <a:stretch/>
        </p:blipFill>
        <p:spPr>
          <a:xfrm>
            <a:off x="384120" y="6324480"/>
            <a:ext cx="1630440" cy="36216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4"/>
          <p:cNvSpPr>
            <a:spLocks noGrp="1"/>
          </p:cNvSpPr>
          <p:nvPr>
            <p:ph type="ftr" idx="8"/>
          </p:nvPr>
        </p:nvSpPr>
        <p:spPr>
          <a:xfrm>
            <a:off x="3123720" y="6397560"/>
            <a:ext cx="5172120" cy="231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2"/>
          <p:cNvSpPr/>
          <p:nvPr/>
        </p:nvSpPr>
        <p:spPr>
          <a:xfrm>
            <a:off x="0" y="0"/>
            <a:ext cx="9144000" cy="341280"/>
          </a:xfrm>
          <a:prstGeom prst="rect">
            <a:avLst/>
          </a:prstGeom>
          <a:solidFill>
            <a:srgbClr val="7aa5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1663" name="Grafik 16" descr="STNLogoHI.new.tif"/>
          <p:cNvPicPr/>
          <p:nvPr/>
        </p:nvPicPr>
        <p:blipFill>
          <a:blip r:embed="rId2"/>
          <a:stretch/>
        </p:blipFill>
        <p:spPr>
          <a:xfrm>
            <a:off x="438120" y="6286680"/>
            <a:ext cx="849240" cy="296640"/>
          </a:xfrm>
          <a:prstGeom prst="rect">
            <a:avLst/>
          </a:prstGeom>
          <a:ln w="0">
            <a:noFill/>
          </a:ln>
        </p:spPr>
      </p:pic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cb8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 type="body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 type="sldNum" idx="39"/>
          </p:nvPr>
        </p:nvSpPr>
        <p:spPr>
          <a:xfrm>
            <a:off x="8221680" y="6334200"/>
            <a:ext cx="5443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6cb8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70258-38B3-40F5-8B08-8742EEADAA41}" type="slidenum">
              <a:rPr b="1" lang="en-US" sz="1200" spc="-1" strike="noStrike">
                <a:solidFill>
                  <a:srgbClr val="006cb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Rectangle 2"/>
          <p:cNvSpPr/>
          <p:nvPr/>
        </p:nvSpPr>
        <p:spPr>
          <a:xfrm>
            <a:off x="0" y="0"/>
            <a:ext cx="9144000" cy="341280"/>
          </a:xfrm>
          <a:prstGeom prst="rect">
            <a:avLst/>
          </a:prstGeom>
          <a:solidFill>
            <a:srgbClr val="7aa5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1704" name="Grafik 16" descr="STNLogoHI.new.tif"/>
          <p:cNvPicPr/>
          <p:nvPr/>
        </p:nvPicPr>
        <p:blipFill>
          <a:blip r:embed="rId2"/>
          <a:stretch/>
        </p:blipFill>
        <p:spPr>
          <a:xfrm>
            <a:off x="438120" y="6286680"/>
            <a:ext cx="849240" cy="296640"/>
          </a:xfrm>
          <a:prstGeom prst="rect">
            <a:avLst/>
          </a:prstGeom>
          <a:ln w="0">
            <a:noFill/>
          </a:ln>
        </p:spPr>
      </p:pic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cb8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 type="sldNum" idx="40"/>
          </p:nvPr>
        </p:nvSpPr>
        <p:spPr>
          <a:xfrm>
            <a:off x="8221680" y="6334200"/>
            <a:ext cx="5443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6cb8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ACAD4-0807-444D-A3DC-A75E6C84A991}" type="slidenum">
              <a:rPr b="1" lang="en-US" sz="1200" spc="-1" strike="noStrike">
                <a:solidFill>
                  <a:srgbClr val="006cb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Rectangle 2"/>
          <p:cNvSpPr/>
          <p:nvPr/>
        </p:nvSpPr>
        <p:spPr>
          <a:xfrm>
            <a:off x="0" y="0"/>
            <a:ext cx="9144000" cy="341280"/>
          </a:xfrm>
          <a:prstGeom prst="rect">
            <a:avLst/>
          </a:prstGeom>
          <a:solidFill>
            <a:srgbClr val="7aa5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1745" name="Grafik 16" descr="STNLogoHI.new.tif"/>
          <p:cNvPicPr/>
          <p:nvPr/>
        </p:nvPicPr>
        <p:blipFill>
          <a:blip r:embed="rId2"/>
          <a:stretch/>
        </p:blipFill>
        <p:spPr>
          <a:xfrm>
            <a:off x="438120" y="6286680"/>
            <a:ext cx="849240" cy="296640"/>
          </a:xfrm>
          <a:prstGeom prst="rect">
            <a:avLst/>
          </a:prstGeom>
          <a:ln w="0">
            <a:noFill/>
          </a:ln>
        </p:spPr>
      </p:pic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cb8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 type="body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 type="sldNum" idx="41"/>
          </p:nvPr>
        </p:nvSpPr>
        <p:spPr>
          <a:xfrm>
            <a:off x="8221680" y="6334200"/>
            <a:ext cx="5443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6cb8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9DE14-9DFB-452F-9A74-399C6D9406EB}" type="slidenum">
              <a:rPr b="1" lang="en-US" sz="1200" spc="-1" strike="noStrike">
                <a:solidFill>
                  <a:srgbClr val="006cb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5" name="Picture 2" descr="STN-FIZ-PPT-Title-artwork"/>
          <p:cNvPicPr/>
          <p:nvPr/>
        </p:nvPicPr>
        <p:blipFill>
          <a:blip r:embed="rId2"/>
          <a:srcRect l="0" t="7183" r="0" b="10408"/>
          <a:stretch/>
        </p:blipFill>
        <p:spPr>
          <a:xfrm>
            <a:off x="0" y="0"/>
            <a:ext cx="9144000" cy="5649840"/>
          </a:xfrm>
          <a:prstGeom prst="rect">
            <a:avLst/>
          </a:prstGeom>
          <a:ln w="0">
            <a:noFill/>
          </a:ln>
        </p:spPr>
      </p:pic>
      <p:sp>
        <p:nvSpPr>
          <p:cNvPr id="1786" name="Rectangle 3"/>
          <p:cNvSpPr/>
          <p:nvPr/>
        </p:nvSpPr>
        <p:spPr>
          <a:xfrm>
            <a:off x="5702400" y="4756320"/>
            <a:ext cx="3270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231840" indent="-231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Z Karlsruhe</a:t>
            </a: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cb8"/>
                </a:solidFill>
                <a:uFillTx/>
                <a:latin typeface="Arial"/>
              </a:rPr>
              <a:t>helpdesk@fiz-karlsruhe.de</a:t>
            </a: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and Training:</a:t>
            </a: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cb8"/>
                </a:solidFill>
                <a:uFillTx/>
                <a:latin typeface="Arial"/>
              </a:rPr>
              <a:t>www.stn-international.de</a:t>
            </a: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87" name="Rectangle 3"/>
          <p:cNvSpPr/>
          <p:nvPr/>
        </p:nvSpPr>
        <p:spPr>
          <a:xfrm>
            <a:off x="465120" y="4756320"/>
            <a:ext cx="4159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231840" indent="-231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</a:t>
            </a: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US" sz="2000" spc="-1" strike="noStrike" u="sng">
                <a:solidFill>
                  <a:srgbClr val="006cb8"/>
                </a:solidFill>
                <a:uFillTx/>
                <a:latin typeface="Arial"/>
              </a:rPr>
              <a:t>help@cas.org</a:t>
            </a: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and Training:</a:t>
            </a: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cb8"/>
                </a:solidFill>
                <a:uFillTx/>
                <a:latin typeface="Arial"/>
              </a:rPr>
              <a:t>www.cas.org</a:t>
            </a: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</p:txBody>
      </p:sp>
      <p:grpSp>
        <p:nvGrpSpPr>
          <p:cNvPr id="1788" name="Gruppieren 10"/>
          <p:cNvGrpSpPr/>
          <p:nvPr/>
        </p:nvGrpSpPr>
        <p:grpSpPr>
          <a:xfrm>
            <a:off x="385920" y="6272280"/>
            <a:ext cx="2858760" cy="425520"/>
            <a:chOff x="385920" y="6272280"/>
            <a:chExt cx="2858760" cy="425520"/>
          </a:xfrm>
        </p:grpSpPr>
        <p:pic>
          <p:nvPicPr>
            <p:cNvPr id="1789" name="Picture 8" descr="STN_title"/>
            <p:cNvPicPr/>
            <p:nvPr/>
          </p:nvPicPr>
          <p:blipFill>
            <a:blip r:embed="rId3"/>
            <a:srcRect l="0" t="90711" r="52855" b="0"/>
            <a:stretch/>
          </p:blipFill>
          <p:spPr>
            <a:xfrm>
              <a:off x="385920" y="6274080"/>
              <a:ext cx="2858760" cy="42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0" name="Grafik 12" descr="STNLogoHI.new.tif"/>
            <p:cNvPicPr/>
            <p:nvPr/>
          </p:nvPicPr>
          <p:blipFill>
            <a:blip r:embed="rId4"/>
            <a:stretch/>
          </p:blipFill>
          <p:spPr>
            <a:xfrm>
              <a:off x="424440" y="6272280"/>
              <a:ext cx="848880" cy="297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cb8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 type="body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5"/>
    <p:sldLayoutId id="2147484196" r:id="rId6"/>
    <p:sldLayoutId id="2147484197" r:id="rId7"/>
    <p:sldLayoutId id="2147484198" r:id="rId8"/>
    <p:sldLayoutId id="2147484199" r:id="rId9"/>
    <p:sldLayoutId id="2147484200" r:id="rId10"/>
    <p:sldLayoutId id="2147484201" r:id="rId11"/>
    <p:sldLayoutId id="2147484202" r:id="rId12"/>
    <p:sldLayoutId id="2147484203" r:id="rId13"/>
    <p:sldLayoutId id="2147484204" r:id="rId14"/>
    <p:sldLayoutId id="2147484205" r:id="rId15"/>
    <p:sldLayoutId id="2147484206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sp>
          <p:nvSpPr>
            <p:cNvPr id="180" name="Rectangle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4b4b"/>
                </a:solidFill>
                <a:latin typeface="Arial"/>
              </a:endParaRPr>
            </a:p>
          </p:txBody>
        </p:sp>
        <p:pic>
          <p:nvPicPr>
            <p:cNvPr id="181" name="Picture 4" descr="TR_SlideLogo_BW600"/>
            <p:cNvPicPr/>
            <p:nvPr/>
          </p:nvPicPr>
          <p:blipFill>
            <a:blip r:embed="rId2"/>
            <a:stretch/>
          </p:blipFill>
          <p:spPr>
            <a:xfrm>
              <a:off x="371520" y="6324480"/>
              <a:ext cx="1652400" cy="536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2" name="Picture 11" descr="hc_DividerGraphBG_Wgrey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sldNum" idx="9"/>
          </p:nvPr>
        </p:nvSpPr>
        <p:spPr>
          <a:xfrm>
            <a:off x="8424720" y="6400800"/>
            <a:ext cx="45720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8CE6A-3DAB-4ADA-AEB3-BEC583A6B067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898200" y="493200"/>
            <a:ext cx="7388280" cy="8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body"/>
          </p:nvPr>
        </p:nvSpPr>
        <p:spPr>
          <a:xfrm>
            <a:off x="898200" y="1528560"/>
            <a:ext cx="73882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17136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14"/>
          <p:cNvSpPr/>
          <p:nvPr/>
        </p:nvSpPr>
        <p:spPr>
          <a:xfrm>
            <a:off x="898560" y="1368360"/>
            <a:ext cx="7388280" cy="0"/>
          </a:xfrm>
          <a:prstGeom prst="line">
            <a:avLst/>
          </a:prstGeom>
          <a:ln cap="rnd" w="2412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0"/>
          </p:nvPr>
        </p:nvSpPr>
        <p:spPr>
          <a:xfrm>
            <a:off x="3123720" y="6394320"/>
            <a:ext cx="5172120" cy="231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12" descr="hc_DividerBG_Cgre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hc_Divider_TransLogo"/>
          <p:cNvPicPr/>
          <p:nvPr/>
        </p:nvPicPr>
        <p:blipFill>
          <a:blip r:embed="rId3"/>
          <a:stretch/>
        </p:blipFill>
        <p:spPr>
          <a:xfrm>
            <a:off x="384120" y="6324480"/>
            <a:ext cx="1630440" cy="36216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sldNum" idx="11"/>
          </p:nvPr>
        </p:nvSpPr>
        <p:spPr>
          <a:xfrm>
            <a:off x="8424720" y="6394320"/>
            <a:ext cx="45720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979E1-549A-4B61-B551-34AE437B0915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ftr" idx="12"/>
          </p:nvPr>
        </p:nvSpPr>
        <p:spPr>
          <a:xfrm>
            <a:off x="3123720" y="6394320"/>
            <a:ext cx="5172120" cy="231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title"/>
          </p:nvPr>
        </p:nvSpPr>
        <p:spPr>
          <a:xfrm>
            <a:off x="898200" y="487080"/>
            <a:ext cx="7388280" cy="8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body"/>
          </p:nvPr>
        </p:nvSpPr>
        <p:spPr>
          <a:xfrm>
            <a:off x="898200" y="1515960"/>
            <a:ext cx="7388280" cy="457056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17136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16"/>
          <p:cNvSpPr/>
          <p:nvPr/>
        </p:nvSpPr>
        <p:spPr>
          <a:xfrm>
            <a:off x="898560" y="1368360"/>
            <a:ext cx="7388280" cy="0"/>
          </a:xfrm>
          <a:prstGeom prst="line">
            <a:avLst/>
          </a:prstGeom>
          <a:ln cap="rnd" w="2412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sp>
          <p:nvSpPr>
            <p:cNvPr id="268" name="Rectangle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4b4b"/>
                </a:solidFill>
                <a:latin typeface="Arial"/>
              </a:endParaRPr>
            </a:p>
          </p:txBody>
        </p:sp>
        <p:pic>
          <p:nvPicPr>
            <p:cNvPr id="269" name="Picture 4" descr="TR_SlideLogo_BW600"/>
            <p:cNvPicPr/>
            <p:nvPr/>
          </p:nvPicPr>
          <p:blipFill>
            <a:blip r:embed="rId2"/>
            <a:stretch/>
          </p:blipFill>
          <p:spPr>
            <a:xfrm>
              <a:off x="371520" y="6324480"/>
              <a:ext cx="1652400" cy="536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0" name="Picture 11" descr="hc_DividerGraphBG_Cgrey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sldNum" idx="13"/>
          </p:nvPr>
        </p:nvSpPr>
        <p:spPr>
          <a:xfrm>
            <a:off x="8424720" y="6400800"/>
            <a:ext cx="45720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966E8-9FF3-4346-B65E-2C464309C007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898200" y="500040"/>
            <a:ext cx="738828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body"/>
          </p:nvPr>
        </p:nvSpPr>
        <p:spPr>
          <a:xfrm>
            <a:off x="898200" y="1528560"/>
            <a:ext cx="73882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17136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Line 14"/>
          <p:cNvSpPr/>
          <p:nvPr/>
        </p:nvSpPr>
        <p:spPr>
          <a:xfrm>
            <a:off x="896760" y="1368360"/>
            <a:ext cx="7348680" cy="0"/>
          </a:xfrm>
          <a:prstGeom prst="line">
            <a:avLst/>
          </a:prstGeom>
          <a:ln cap="rnd" w="2412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14"/>
          </p:nvPr>
        </p:nvSpPr>
        <p:spPr>
          <a:xfrm>
            <a:off x="3123720" y="6397560"/>
            <a:ext cx="5172120" cy="231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336600" y="1530360"/>
            <a:ext cx="21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313" name="Picture 3" descr="TR_SlideLogo_BW600"/>
          <p:cNvPicPr/>
          <p:nvPr/>
        </p:nvPicPr>
        <p:blipFill>
          <a:blip r:embed="rId2"/>
          <a:stretch/>
        </p:blipFill>
        <p:spPr>
          <a:xfrm>
            <a:off x="371520" y="6323040"/>
            <a:ext cx="1652400" cy="53640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ftr" idx="15"/>
          </p:nvPr>
        </p:nvSpPr>
        <p:spPr>
          <a:xfrm>
            <a:off x="3123720" y="6394320"/>
            <a:ext cx="5172120" cy="231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ldNum" idx="16"/>
          </p:nvPr>
        </p:nvSpPr>
        <p:spPr>
          <a:xfrm>
            <a:off x="8424720" y="6394320"/>
            <a:ext cx="45720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54733-11B7-41AD-BFB8-711ED1FCDE50}" type="slidenum"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title"/>
          </p:nvPr>
        </p:nvSpPr>
        <p:spPr>
          <a:xfrm>
            <a:off x="917640" y="506520"/>
            <a:ext cx="736920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body"/>
          </p:nvPr>
        </p:nvSpPr>
        <p:spPr>
          <a:xfrm>
            <a:off x="917640" y="1525320"/>
            <a:ext cx="736920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28560" indent="-285480">
              <a:spcBef>
                <a:spcPts val="1500"/>
              </a:spcBef>
              <a:buClr>
                <a:srgbClr val="ff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914400" indent="-17136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257480" indent="-228600">
              <a:spcBef>
                <a:spcPts val="1500"/>
              </a:spcBef>
              <a:buClr>
                <a:srgbClr val="ff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1486080" indent="-11448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1486080" indent="-114480">
              <a:spcBef>
                <a:spcPts val="1500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1486080" indent="-114480">
              <a:spcBef>
                <a:spcPts val="1500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318" name="Picture 8" descr="slideMaster_Logo600"/>
          <p:cNvPicPr/>
          <p:nvPr/>
        </p:nvPicPr>
        <p:blipFill>
          <a:blip r:embed="rId3"/>
          <a:stretch/>
        </p:blipFill>
        <p:spPr>
          <a:xfrm>
            <a:off x="371520" y="6323040"/>
            <a:ext cx="1644480" cy="528480"/>
          </a:xfrm>
          <a:prstGeom prst="rect">
            <a:avLst/>
          </a:prstGeom>
          <a:ln w="0">
            <a:noFill/>
          </a:ln>
        </p:spPr>
      </p:pic>
      <p:sp>
        <p:nvSpPr>
          <p:cNvPr id="319" name="Line 9"/>
          <p:cNvSpPr/>
          <p:nvPr/>
        </p:nvSpPr>
        <p:spPr>
          <a:xfrm>
            <a:off x="917640" y="1365120"/>
            <a:ext cx="7369200" cy="0"/>
          </a:xfrm>
          <a:prstGeom prst="line">
            <a:avLst/>
          </a:prstGeom>
          <a:ln cap="rnd" w="24120">
            <a:solidFill>
              <a:srgbClr val="4b4b4b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336600" y="1530360"/>
            <a:ext cx="21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357" name="Picture 3" descr="TR_SlideLogo_BW600"/>
          <p:cNvPicPr/>
          <p:nvPr/>
        </p:nvPicPr>
        <p:blipFill>
          <a:blip r:embed="rId2"/>
          <a:stretch/>
        </p:blipFill>
        <p:spPr>
          <a:xfrm>
            <a:off x="371520" y="6323040"/>
            <a:ext cx="1652400" cy="53640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ftr" idx="17"/>
          </p:nvPr>
        </p:nvSpPr>
        <p:spPr>
          <a:xfrm>
            <a:off x="3123720" y="6394320"/>
            <a:ext cx="5172120" cy="231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ldNum" idx="18"/>
          </p:nvPr>
        </p:nvSpPr>
        <p:spPr>
          <a:xfrm>
            <a:off x="8424720" y="6394320"/>
            <a:ext cx="45720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A6E3A-D577-4829-8E4C-E623506B4E9F}" type="slidenum"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title"/>
          </p:nvPr>
        </p:nvSpPr>
        <p:spPr>
          <a:xfrm>
            <a:off x="917640" y="506520"/>
            <a:ext cx="736920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body"/>
          </p:nvPr>
        </p:nvSpPr>
        <p:spPr>
          <a:xfrm>
            <a:off x="917640" y="1525320"/>
            <a:ext cx="736920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28560" indent="-285480">
              <a:spcBef>
                <a:spcPts val="1500"/>
              </a:spcBef>
              <a:buClr>
                <a:srgbClr val="ff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914400" indent="-17136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257480" indent="-228600">
              <a:spcBef>
                <a:spcPts val="1500"/>
              </a:spcBef>
              <a:buClr>
                <a:srgbClr val="ff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1486080" indent="-11448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1486080" indent="-114480">
              <a:spcBef>
                <a:spcPts val="1500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1486080" indent="-114480">
              <a:spcBef>
                <a:spcPts val="1500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362" name="Picture 8" descr="slideMaster_Logo600"/>
          <p:cNvPicPr/>
          <p:nvPr/>
        </p:nvPicPr>
        <p:blipFill>
          <a:blip r:embed="rId3"/>
          <a:stretch/>
        </p:blipFill>
        <p:spPr>
          <a:xfrm>
            <a:off x="371520" y="6323040"/>
            <a:ext cx="1644480" cy="528480"/>
          </a:xfrm>
          <a:prstGeom prst="rect">
            <a:avLst/>
          </a:prstGeom>
          <a:ln w="0">
            <a:noFill/>
          </a:ln>
        </p:spPr>
      </p:pic>
      <p:sp>
        <p:nvSpPr>
          <p:cNvPr id="363" name="Line 9"/>
          <p:cNvSpPr/>
          <p:nvPr/>
        </p:nvSpPr>
        <p:spPr>
          <a:xfrm>
            <a:off x="917640" y="1365120"/>
            <a:ext cx="7369200" cy="0"/>
          </a:xfrm>
          <a:prstGeom prst="line">
            <a:avLst/>
          </a:prstGeom>
          <a:ln cap="rnd" w="24120">
            <a:solidFill>
              <a:srgbClr val="4b4b4b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4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4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361800" y="3448080"/>
            <a:ext cx="8382240" cy="90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8000"/>
                </a:solidFill>
                <a:latin typeface="Arial"/>
              </a:rPr>
              <a:t>PATCOM - THOMSON REUTERS</a:t>
            </a:r>
            <a:br>
              <a:rPr sz="3200"/>
            </a:br>
            <a:r>
              <a:rPr b="0" lang="en-US" sz="2800" spc="-1" strike="noStrike">
                <a:solidFill>
                  <a:srgbClr val="ff8000"/>
                </a:solidFill>
                <a:latin typeface="Arial"/>
              </a:rPr>
              <a:t>Classification needs and first experiences with CPC</a:t>
            </a:r>
            <a:endParaRPr b="0" lang="en-US" sz="28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 type="subTitle"/>
          </p:nvPr>
        </p:nvSpPr>
        <p:spPr>
          <a:xfrm>
            <a:off x="361800" y="4411800"/>
            <a:ext cx="8382240" cy="12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b4b4b"/>
                </a:solidFill>
                <a:latin typeface="Arial"/>
              </a:rPr>
              <a:t>IPC WORKSHOP, Geneva  2013</a:t>
            </a:r>
            <a:endParaRPr b="0" lang="en-US" sz="1800" spc="-1" strike="noStrike">
              <a:solidFill>
                <a:srgbClr val="4b4b4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4b4b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4b4b4b"/>
                </a:solidFill>
                <a:latin typeface="Arial"/>
              </a:rPr>
              <a:t>Doina Nanu </a:t>
            </a:r>
            <a:endParaRPr b="0" lang="en-US" sz="18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917640" y="506520"/>
            <a:ext cx="736920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8000"/>
                </a:solidFill>
                <a:latin typeface="Arial"/>
              </a:rPr>
              <a:t>CPC –THREAT OR OPPORTUNITY?</a:t>
            </a:r>
            <a:br>
              <a:rPr sz="2800"/>
            </a:br>
            <a:r>
              <a:rPr b="0" lang="en-GB" sz="2800" spc="-1" strike="noStrike">
                <a:solidFill>
                  <a:srgbClr val="ff8000"/>
                </a:solidFill>
                <a:latin typeface="Arial"/>
              </a:rPr>
              <a:t>Conclusions (1)</a:t>
            </a:r>
            <a:endParaRPr b="0" lang="en-US" sz="28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1861" name=""/>
          <p:cNvSpPr txBox="1"/>
          <p:nvPr/>
        </p:nvSpPr>
        <p:spPr>
          <a:xfrm>
            <a:off x="917640" y="1525320"/>
            <a:ext cx="736920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b4b4b"/>
                </a:solidFill>
                <a:latin typeface="Arial"/>
              </a:rPr>
              <a:t>Yet another classification system or chance for Integration in IPC or be the backbone for global classification?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b4b4b"/>
                </a:solidFill>
                <a:latin typeface="Arial"/>
              </a:rPr>
              <a:t>Granular, but how representative for technology developments in Japan, China, Korea?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b4b4b"/>
                </a:solidFill>
                <a:latin typeface="Arial"/>
              </a:rPr>
              <a:t>Applied to a large number of collections but not available at the  time of patent document publication (except for US data, EP)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28560" indent="-285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917640" y="506520"/>
            <a:ext cx="736920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8000"/>
                </a:solidFill>
                <a:latin typeface="Arial"/>
              </a:rPr>
              <a:t>CPC –THREAT OR OPPORTUNITY?</a:t>
            </a:r>
            <a:br>
              <a:rPr sz="2800"/>
            </a:br>
            <a:r>
              <a:rPr b="0" lang="en-GB" sz="2800" spc="-1" strike="noStrike">
                <a:solidFill>
                  <a:srgbClr val="ff8000"/>
                </a:solidFill>
                <a:latin typeface="Arial"/>
              </a:rPr>
              <a:t>Conclusions  (2)</a:t>
            </a:r>
            <a:endParaRPr b="0" lang="en-US" sz="28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1863" name=""/>
          <p:cNvSpPr txBox="1"/>
          <p:nvPr/>
        </p:nvSpPr>
        <p:spPr>
          <a:xfrm>
            <a:off x="917640" y="1525320"/>
            <a:ext cx="736920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25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b4b4b"/>
                </a:solidFill>
                <a:latin typeface="Arial"/>
              </a:rPr>
              <a:t>Concordance with IPC good for now but how will the divergence be avoided as CPC evolves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b4b4b"/>
                </a:solidFill>
                <a:latin typeface="Arial"/>
              </a:rPr>
              <a:t>If more offices join in, how will the consistency of classification be maintained?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28560" indent="-285480">
              <a:spcBef>
                <a:spcPts val="751"/>
              </a:spcBef>
              <a:buClr>
                <a:srgbClr val="ff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b4b4b"/>
                </a:solidFill>
                <a:latin typeface="Arial"/>
              </a:rPr>
              <a:t>Role of the USPTO in consolidating the success of  CPC </a:t>
            </a: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  <a:p>
            <a:pPr lvl="1" marL="628560" indent="-285480">
              <a:spcBef>
                <a:spcPts val="751"/>
              </a:spcBef>
              <a:buClr>
                <a:srgbClr val="ff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b4b4b"/>
                </a:solidFill>
                <a:latin typeface="Arial"/>
              </a:rPr>
              <a:t>Role of WIPO in unifying the very best of the existing systems into a global classification, consistently applied by patent offices worldwide irrespective of their size </a:t>
            </a: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155160" y="4460760"/>
            <a:ext cx="88218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6cb6"/>
                </a:solidFill>
                <a:latin typeface="Arial"/>
              </a:rPr>
              <a:t>Classification needs and first experiences with CPC </a:t>
            </a:r>
            <a:br>
              <a:rPr sz="2800"/>
            </a:br>
            <a:r>
              <a:rPr b="0" lang="en-US" sz="2800" spc="-1" strike="noStrike">
                <a:solidFill>
                  <a:srgbClr val="056cb6"/>
                </a:solidFill>
                <a:latin typeface="Arial"/>
              </a:rPr>
              <a:t>- IPC Quality Issues -</a:t>
            </a:r>
            <a:endParaRPr b="0" lang="en-US" sz="28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865" name="Rectangle 3"/>
          <p:cNvSpPr/>
          <p:nvPr/>
        </p:nvSpPr>
        <p:spPr>
          <a:xfrm>
            <a:off x="401760" y="5543640"/>
            <a:ext cx="80517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Christiane Emmerich</a:t>
            </a: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PATCOM/FIZ Karlsruhe</a:t>
            </a:r>
            <a:endParaRPr b="0" lang="en-US" sz="1800" spc="-1" strike="noStrike">
              <a:solidFill>
                <a:srgbClr val="4b4b4b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IPC Workshop, Geneva 2013</a:t>
            </a:r>
            <a:endParaRPr b="0" lang="en-US" sz="18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6cb8"/>
                </a:solidFill>
                <a:latin typeface="Arial"/>
              </a:rPr>
              <a:t>IPC Quality Issues</a:t>
            </a: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867" name=""/>
          <p:cNvSpPr txBox="1"/>
          <p:nvPr/>
        </p:nvSpPr>
        <p:spPr>
          <a:xfrm>
            <a:off x="441360" y="1317240"/>
            <a:ext cx="82454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valid IPCs in the DOCDB back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issing IPCs of new patent pub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Foliennummernplatzhalter 3"/>
          <p:cNvSpPr/>
          <p:nvPr/>
        </p:nvSpPr>
        <p:spPr>
          <a:xfrm>
            <a:off x="8223120" y="6334200"/>
            <a:ext cx="5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21BB1-193B-444D-8C5B-0B26DBF68213}" type="slidenum">
              <a:rPr b="1" lang="en-US" sz="1200" spc="-1" strike="noStrike">
                <a:solidFill>
                  <a:srgbClr val="006cb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6cb8"/>
                </a:solidFill>
                <a:latin typeface="Arial"/>
              </a:rPr>
              <a:t>Invalid IPCs in DOCDB</a:t>
            </a: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870" name="Foliennummernplatzhalter 3"/>
          <p:cNvSpPr/>
          <p:nvPr/>
        </p:nvSpPr>
        <p:spPr>
          <a:xfrm>
            <a:off x="8223120" y="6334200"/>
            <a:ext cx="5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4B900-5454-46F8-B7C1-A6C511E8C467}" type="slidenum">
              <a:rPr b="1" lang="en-US" sz="1200" spc="-1" strike="noStrike">
                <a:solidFill>
                  <a:srgbClr val="006cb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1871" name="Picture 2" descr=""/>
          <p:cNvPicPr/>
          <p:nvPr/>
        </p:nvPicPr>
        <p:blipFill>
          <a:blip r:embed="rId1"/>
          <a:srcRect l="10754" t="29962" r="54093" b="54891"/>
          <a:stretch/>
        </p:blipFill>
        <p:spPr>
          <a:xfrm>
            <a:off x="627120" y="1271520"/>
            <a:ext cx="4614840" cy="1243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72" name="Picture 2" descr=""/>
          <p:cNvPicPr/>
          <p:nvPr/>
        </p:nvPicPr>
        <p:blipFill>
          <a:blip r:embed="rId2"/>
          <a:srcRect l="11579" t="32633" r="52896" b="24775"/>
          <a:stretch/>
        </p:blipFill>
        <p:spPr>
          <a:xfrm>
            <a:off x="3913200" y="2238480"/>
            <a:ext cx="4713120" cy="3531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73" name="Textfeld 4"/>
          <p:cNvSpPr/>
          <p:nvPr/>
        </p:nvSpPr>
        <p:spPr>
          <a:xfrm>
            <a:off x="260280" y="3718080"/>
            <a:ext cx="330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e IPC subgroup </a:t>
            </a:r>
            <a:r>
              <a:rPr b="0" i="1" lang="de-DE" sz="1800" spc="-1" strike="noStrike">
                <a:solidFill>
                  <a:srgbClr val="c00000"/>
                </a:solidFill>
                <a:latin typeface="Arial"/>
              </a:rPr>
              <a:t>C12N 5/06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as transferred to </a:t>
            </a:r>
            <a:r>
              <a:rPr b="0" i="1" lang="de-DE" sz="1800" spc="-1" strike="noStrike">
                <a:solidFill>
                  <a:srgbClr val="c00000"/>
                </a:solidFill>
                <a:latin typeface="Arial"/>
              </a:rPr>
              <a:t>C12N 5/07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lus further subgroups with IPC version 2010.01</a:t>
            </a:r>
            <a:endParaRPr b="0" lang="en-US" sz="18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74" name="Nach oben gebogener Pfeil 6"/>
          <p:cNvSpPr/>
          <p:nvPr/>
        </p:nvSpPr>
        <p:spPr>
          <a:xfrm rot="5400000">
            <a:off x="2874600" y="2719440"/>
            <a:ext cx="849240" cy="731880"/>
          </a:xfrm>
          <a:prstGeom prst="pie">
            <a:avLst/>
          </a:prstGeom>
          <a:solidFill>
            <a:srgbClr val="006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75" name="Textfeld 7"/>
          <p:cNvSpPr/>
          <p:nvPr/>
        </p:nvSpPr>
        <p:spPr>
          <a:xfrm>
            <a:off x="5780160" y="1440000"/>
            <a:ext cx="24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IPC Revision 2010.01</a:t>
            </a:r>
            <a:endParaRPr b="0" lang="en-US" sz="18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6cb8"/>
                </a:solidFill>
                <a:latin typeface="Arial"/>
              </a:rPr>
              <a:t>Invalid IPCs in DOCDB</a:t>
            </a:r>
            <a:br>
              <a:rPr sz="3200"/>
            </a:br>
            <a:r>
              <a:rPr b="0" lang="de-DE" sz="2000" spc="-1" strike="noStrike">
                <a:solidFill>
                  <a:srgbClr val="006cb8"/>
                </a:solidFill>
                <a:latin typeface="Arial"/>
              </a:rPr>
              <a:t>C12N 5/06 became invalid with IPC version 2010.01</a:t>
            </a:r>
            <a:endParaRPr b="0" lang="en-US" sz="20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877" name="Foliennummernplatzhalter 3"/>
          <p:cNvSpPr/>
          <p:nvPr/>
        </p:nvSpPr>
        <p:spPr>
          <a:xfrm>
            <a:off x="8223120" y="6334200"/>
            <a:ext cx="5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55178-358F-41F9-85C4-D84391AD7C8C}" type="slidenum">
              <a:rPr b="1" lang="en-US" sz="1200" spc="-1" strike="noStrike">
                <a:solidFill>
                  <a:srgbClr val="006cb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b4b4b"/>
              </a:solidFill>
              <a:latin typeface="Arial"/>
            </a:endParaRPr>
          </a:p>
        </p:txBody>
      </p:sp>
      <p:graphicFrame>
        <p:nvGraphicFramePr>
          <p:cNvPr id="1878" name=""/>
          <p:cNvGraphicFramePr/>
          <p:nvPr/>
        </p:nvGraphicFramePr>
        <p:xfrm>
          <a:off x="1523880" y="1625760"/>
          <a:ext cx="6096240" cy="3336840"/>
        </p:xfrm>
        <a:graphic>
          <a:graphicData uri="http://schemas.openxmlformats.org/drawingml/2006/table">
            <a:tbl>
              <a:tblPr/>
              <a:tblGrid>
                <a:gridCol w="2882880"/>
                <a:gridCol w="3213360"/>
              </a:tblGrid>
              <a:tr h="371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.556 records with C12N 5/06 IPC reform codes only*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cb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713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P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476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O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233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230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726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484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1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N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7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</a:tr>
            </a:tbl>
          </a:graphicData>
        </a:graphic>
      </p:graphicFrame>
      <p:sp>
        <p:nvSpPr>
          <p:cNvPr id="1879" name="Textfeld 5"/>
          <p:cNvSpPr/>
          <p:nvPr/>
        </p:nvSpPr>
        <p:spPr>
          <a:xfrm>
            <a:off x="1560600" y="5121360"/>
            <a:ext cx="640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* 25.115 records in INPADOCDB with C12N 5/06 (IPC8) of which 559 provide the revised code  C12N 5/07 (plus further subgroups), search week 06/2013</a:t>
            </a:r>
            <a:endParaRPr b="0" lang="en-US" sz="14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6cb8"/>
                </a:solidFill>
                <a:latin typeface="Arial"/>
              </a:rPr>
              <a:t>Invalid IPCs in DOCDB</a:t>
            </a:r>
            <a:br>
              <a:rPr sz="3200"/>
            </a:b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881" name="Foliennummernplatzhalter 3"/>
          <p:cNvSpPr/>
          <p:nvPr/>
        </p:nvSpPr>
        <p:spPr>
          <a:xfrm>
            <a:off x="8223120" y="6334200"/>
            <a:ext cx="5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C0CA5-8809-4624-8C32-02ECEDFCACD5}" type="slidenum">
              <a:rPr b="1" lang="en-US" sz="1200" spc="-1" strike="noStrike">
                <a:solidFill>
                  <a:srgbClr val="006cb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82" name="Rectangle 3"/>
          <p:cNvSpPr/>
          <p:nvPr/>
        </p:nvSpPr>
        <p:spPr>
          <a:xfrm>
            <a:off x="469800" y="2004840"/>
            <a:ext cx="8188560" cy="3744720"/>
          </a:xfrm>
          <a:prstGeom prst="rect">
            <a:avLst/>
          </a:prstGeom>
          <a:solidFill>
            <a:srgbClr val="d9e5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N    59944434 INPADOCDB ED 20091217 EW 200951 UP 20100422 UW 201016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N    38698386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    USE OF FXA, FVIIA, TF, OR A COMBINATION THEREOF AS ANTI-APOPTOTIC AGENTS.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UTILISATION DE FXA, DE FVIIA, DE TF OU D'UNE COMBINAISON DE CEUX-CI EN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ANT QU'AGENTS ANTI-APOPTOTIQUES.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    DAUBIE, VALERY; POCHET, ROLAND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S   DAUBIE VALERY, BE; POCHET ROLAND, BE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A    UNIVERSITE LIBRE DE BRUXELLES; DAUBIE, VALERY; POCHET, ROLAND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AS   UNIV BRUXELLES, BE; DAUBIE VALERY, BE; POCHET ROLAND, BE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I    </a:t>
            </a:r>
            <a:r>
              <a:rPr b="1" lang="en-US" sz="1200" spc="-1" strike="noStrike">
                <a:solidFill>
                  <a:srgbClr val="c00000"/>
                </a:solidFill>
                <a:latin typeface="Courier New"/>
              </a:rPr>
              <a:t>WO 2009146746        A1 20091210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IT   WOA1 INTERNATIONAL APPLICATION PUBLISHED WITH INTERNATIONAL SEARCH REPORT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I    WO 2008-EP56994      W  20080605  English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IT   WOW International application Number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AI  WO 2008-EP56994      W  20080605  (WOW, 20091217, Y) 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AIT WOW International application Number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PCI  C12N0005-06    [I,A]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PC   C12N0005-0031; C12N2500-84; C12N2501-70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PC   C12N0005-00M2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CO   M12N0500:84; M12N0501:700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83" name="Rechteck 7"/>
          <p:cNvSpPr/>
          <p:nvPr/>
        </p:nvSpPr>
        <p:spPr>
          <a:xfrm>
            <a:off x="469800" y="4950000"/>
            <a:ext cx="4977000" cy="20448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84" name=""/>
          <p:cNvSpPr txBox="1"/>
          <p:nvPr/>
        </p:nvSpPr>
        <p:spPr>
          <a:xfrm>
            <a:off x="441360" y="1199880"/>
            <a:ext cx="8245440" cy="8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WO2009/146746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has one invalid IPC assigned, no reclassification data are availa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6cb8"/>
                </a:solidFill>
                <a:latin typeface="Arial"/>
              </a:rPr>
              <a:t>New Patent Publications without IPC* </a:t>
            </a:r>
            <a:br>
              <a:rPr sz="3200"/>
            </a:br>
            <a:r>
              <a:rPr b="0" lang="de-DE" sz="2400" spc="-1" strike="noStrike">
                <a:solidFill>
                  <a:srgbClr val="006cb8"/>
                </a:solidFill>
                <a:latin typeface="Arial"/>
              </a:rPr>
              <a:t>in DOCDB from August 2012</a:t>
            </a:r>
            <a:endParaRPr b="0" lang="en-US" sz="24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886" name="Foliennummernplatzhalter 3"/>
          <p:cNvSpPr/>
          <p:nvPr/>
        </p:nvSpPr>
        <p:spPr>
          <a:xfrm>
            <a:off x="8223120" y="6334200"/>
            <a:ext cx="5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16D50-9F38-4364-AADA-85FD340084F7}" type="slidenum">
              <a:rPr b="1" lang="en-US" sz="1200" spc="-1" strike="noStrike">
                <a:solidFill>
                  <a:srgbClr val="006cb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b4b4b"/>
              </a:solidFill>
              <a:latin typeface="Arial"/>
            </a:endParaRPr>
          </a:p>
        </p:txBody>
      </p:sp>
      <p:graphicFrame>
        <p:nvGraphicFramePr>
          <p:cNvPr id="1887" name=""/>
          <p:cNvGraphicFramePr/>
          <p:nvPr/>
        </p:nvGraphicFramePr>
        <p:xfrm>
          <a:off x="1386000" y="1608120"/>
          <a:ext cx="6234120" cy="1854360"/>
        </p:xfrm>
        <a:graphic>
          <a:graphicData uri="http://schemas.openxmlformats.org/drawingml/2006/table">
            <a:tbl>
              <a:tblPr/>
              <a:tblGrid>
                <a:gridCol w="3116160"/>
                <a:gridCol w="3117960"/>
              </a:tblGrid>
              <a:tr h="371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373.086 new publications from August 2012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cb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PC8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30.822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PC7, only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2**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classified IPC, only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899***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 IPC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.763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</a:tr>
            </a:tbl>
          </a:graphicData>
        </a:graphic>
      </p:graphicFrame>
      <p:sp>
        <p:nvSpPr>
          <p:cNvPr id="1888" name="Textfeld 5"/>
          <p:cNvSpPr/>
          <p:nvPr/>
        </p:nvSpPr>
        <p:spPr>
          <a:xfrm>
            <a:off x="1860480" y="3892680"/>
            <a:ext cx="703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c00000"/>
                </a:solidFill>
                <a:latin typeface="Arial"/>
              </a:rPr>
              <a:t>2,5 %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of new publications have no IPC assigned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89" name="Pfeil nach rechts 6"/>
          <p:cNvSpPr/>
          <p:nvPr/>
        </p:nvSpPr>
        <p:spPr>
          <a:xfrm>
            <a:off x="425520" y="3943440"/>
            <a:ext cx="1270080" cy="296640"/>
          </a:xfrm>
          <a:prstGeom prst="rightArrow">
            <a:avLst>
              <a:gd name="adj1" fmla="val 50000"/>
              <a:gd name="adj2" fmla="val 50051"/>
            </a:avLst>
          </a:prstGeom>
          <a:solidFill>
            <a:srgbClr val="006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90" name="Textfeld 7"/>
          <p:cNvSpPr/>
          <p:nvPr/>
        </p:nvSpPr>
        <p:spPr>
          <a:xfrm>
            <a:off x="453600" y="5237280"/>
            <a:ext cx="532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* new INPADOCDB records (new applications)</a:t>
            </a:r>
            <a:endParaRPr b="0" lang="en-US" sz="1600" spc="-1" strike="noStrike">
              <a:solidFill>
                <a:srgbClr val="4b4b4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** BE A3 (251), AR A1 (164), BE A5 (86), EP A1 (63)</a:t>
            </a:r>
            <a:endParaRPr b="0" lang="en-US" sz="1600" spc="-1" strike="noStrike">
              <a:solidFill>
                <a:srgbClr val="4b4b4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*** TW (3678), PT (1479), KR (1062), SG (140), EA (101)</a:t>
            </a:r>
            <a:endParaRPr b="0" lang="en-US" sz="16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Foliennummernplatzhalter 3"/>
          <p:cNvSpPr/>
          <p:nvPr/>
        </p:nvSpPr>
        <p:spPr>
          <a:xfrm>
            <a:off x="8223120" y="6334200"/>
            <a:ext cx="5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C7D29-B69A-4629-8E5D-1C65CD189DD7}" type="slidenum">
              <a:rPr b="1" lang="en-US" sz="1200" spc="-1" strike="noStrike">
                <a:solidFill>
                  <a:srgbClr val="006cb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6cb8"/>
                </a:solidFill>
                <a:latin typeface="Arial"/>
              </a:rPr>
              <a:t>New Patent Publications without IPC </a:t>
            </a:r>
            <a:br>
              <a:rPr sz="3200"/>
            </a:br>
            <a:r>
              <a:rPr b="0" lang="de-DE" sz="2400" spc="-1" strike="noStrike">
                <a:solidFill>
                  <a:srgbClr val="006cb8"/>
                </a:solidFill>
                <a:latin typeface="Arial"/>
              </a:rPr>
              <a:t>in DOCDB from August 2012</a:t>
            </a:r>
            <a:endParaRPr b="0" lang="en-US" sz="2400" spc="-1" strike="noStrike">
              <a:solidFill>
                <a:srgbClr val="006cb8"/>
              </a:solidFill>
              <a:latin typeface="Arial"/>
            </a:endParaRPr>
          </a:p>
        </p:txBody>
      </p:sp>
      <p:graphicFrame>
        <p:nvGraphicFramePr>
          <p:cNvPr id="1893" name=""/>
          <p:cNvGraphicFramePr/>
          <p:nvPr/>
        </p:nvGraphicFramePr>
        <p:xfrm>
          <a:off x="779400" y="1924200"/>
          <a:ext cx="8024760" cy="2519280"/>
        </p:xfrm>
        <a:graphic>
          <a:graphicData uri="http://schemas.openxmlformats.org/drawingml/2006/table">
            <a:tbl>
              <a:tblPr/>
              <a:tblGrid>
                <a:gridCol w="2436840"/>
                <a:gridCol w="1860480"/>
                <a:gridCol w="37274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blication type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c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 IPC code*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c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mments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cb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ign patents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710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S1 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10.648), CR S, DO S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zette references 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539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B D0 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9.525), IL D0, AP D0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tility models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80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 U1 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1.179), CN U, FI U1, BR U2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.934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e next slide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.763</a:t>
                      </a:r>
                      <a:endParaRPr b="0" lang="en-US" sz="20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</a:tr>
            </a:tbl>
          </a:graphicData>
        </a:graphic>
      </p:graphicFrame>
      <p:sp>
        <p:nvSpPr>
          <p:cNvPr id="1894" name="Rechteck 7"/>
          <p:cNvSpPr/>
          <p:nvPr/>
        </p:nvSpPr>
        <p:spPr>
          <a:xfrm>
            <a:off x="757080" y="4017960"/>
            <a:ext cx="8070840" cy="43668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95" name="Textfeld 8"/>
          <p:cNvSpPr/>
          <p:nvPr/>
        </p:nvSpPr>
        <p:spPr>
          <a:xfrm>
            <a:off x="1626480" y="6256440"/>
            <a:ext cx="490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*number of new records in INPADOCDB without IPC</a:t>
            </a:r>
            <a:endParaRPr b="0" lang="en-US" sz="16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6cb8"/>
                </a:solidFill>
                <a:latin typeface="Arial"/>
              </a:rPr>
              <a:t>New Patent Publications without IPC </a:t>
            </a:r>
            <a:br>
              <a:rPr sz="3200"/>
            </a:br>
            <a:r>
              <a:rPr b="0" lang="de-DE" sz="2400" spc="-1" strike="noStrike">
                <a:solidFill>
                  <a:srgbClr val="006cb8"/>
                </a:solidFill>
                <a:latin typeface="Arial"/>
              </a:rPr>
              <a:t>in DOCDB from August 2012</a:t>
            </a:r>
            <a:endParaRPr b="0" lang="en-US" sz="24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897" name="Foliennummernplatzhalter 3"/>
          <p:cNvSpPr/>
          <p:nvPr/>
        </p:nvSpPr>
        <p:spPr>
          <a:xfrm>
            <a:off x="8223120" y="6334200"/>
            <a:ext cx="5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2E99-4068-4A3F-8F13-06A9B6F53434}" type="slidenum">
              <a:rPr b="1" lang="en-US" sz="1200" spc="-1" strike="noStrike">
                <a:solidFill>
                  <a:srgbClr val="006cb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b4b4b"/>
              </a:solidFill>
              <a:latin typeface="Arial"/>
            </a:endParaRPr>
          </a:p>
        </p:txBody>
      </p:sp>
      <p:graphicFrame>
        <p:nvGraphicFramePr>
          <p:cNvPr id="1898" name=""/>
          <p:cNvGraphicFramePr/>
          <p:nvPr/>
        </p:nvGraphicFramePr>
        <p:xfrm>
          <a:off x="1295280" y="1889280"/>
          <a:ext cx="6685200" cy="2865240"/>
        </p:xfrm>
        <a:graphic>
          <a:graphicData uri="http://schemas.openxmlformats.org/drawingml/2006/table">
            <a:tbl>
              <a:tblPr/>
              <a:tblGrid>
                <a:gridCol w="1967040"/>
                <a:gridCol w="2068560"/>
                <a:gridCol w="26496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tent publica-tion type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c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 IPC code*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c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number of publications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cb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 A1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22  (99,9%)</a:t>
                      </a:r>
                      <a:endParaRPr b="0" lang="en-US" sz="14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227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O A1, A2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54  (2,8%)</a:t>
                      </a:r>
                      <a:endParaRPr b="0" lang="en-US" sz="14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.201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G A1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31 (96,2%)</a:t>
                      </a:r>
                      <a:endParaRPr b="0" lang="en-US" sz="14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775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N A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6 (0,1%)</a:t>
                      </a:r>
                      <a:endParaRPr b="0" lang="en-US" sz="14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4.327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 A2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9 (6,9%)</a:t>
                      </a:r>
                      <a:endParaRPr b="0" lang="en-US" sz="14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002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A1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9 (0,1%)</a:t>
                      </a:r>
                      <a:endParaRPr b="0" lang="en-US" sz="14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0.679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</a:tr>
            </a:tbl>
          </a:graphicData>
        </a:graphic>
      </p:graphicFrame>
      <p:sp>
        <p:nvSpPr>
          <p:cNvPr id="1899" name="Pfeil nach rechts 6"/>
          <p:cNvSpPr/>
          <p:nvPr/>
        </p:nvSpPr>
        <p:spPr>
          <a:xfrm>
            <a:off x="422280" y="2692440"/>
            <a:ext cx="665280" cy="44280"/>
          </a:xfrm>
          <a:prstGeom prst="rightArrow">
            <a:avLst>
              <a:gd name="adj1" fmla="val 50000"/>
              <a:gd name="adj2" fmla="val 50220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00" name="Pfeil nach rechts 7"/>
          <p:cNvSpPr/>
          <p:nvPr/>
        </p:nvSpPr>
        <p:spPr>
          <a:xfrm>
            <a:off x="433440" y="3451320"/>
            <a:ext cx="665280" cy="46080"/>
          </a:xfrm>
          <a:prstGeom prst="rightArrow">
            <a:avLst>
              <a:gd name="adj1" fmla="val 50000"/>
              <a:gd name="adj2" fmla="val 4999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01" name="Pfeil nach rechts 8"/>
          <p:cNvSpPr/>
          <p:nvPr/>
        </p:nvSpPr>
        <p:spPr>
          <a:xfrm>
            <a:off x="433440" y="3057480"/>
            <a:ext cx="665280" cy="44640"/>
          </a:xfrm>
          <a:prstGeom prst="rightArrow">
            <a:avLst>
              <a:gd name="adj1" fmla="val 50000"/>
              <a:gd name="adj2" fmla="val 49815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02" name="Textfeld 9"/>
          <p:cNvSpPr/>
          <p:nvPr/>
        </p:nvSpPr>
        <p:spPr>
          <a:xfrm>
            <a:off x="1626480" y="6256440"/>
            <a:ext cx="490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*number of new records in INPADOCDB without IPC</a:t>
            </a:r>
            <a:endParaRPr b="0" lang="en-US" sz="16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917640" y="506520"/>
            <a:ext cx="736920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Arial"/>
              </a:rPr>
              <a:t>CLASSIFICATION NEEDS AND FIRST EXPERIENCES WITH CPC</a:t>
            </a:r>
            <a:endParaRPr b="0" lang="en-US" sz="28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1839" name=""/>
          <p:cNvSpPr txBox="1"/>
          <p:nvPr/>
        </p:nvSpPr>
        <p:spPr>
          <a:xfrm>
            <a:off x="917640" y="1525320"/>
            <a:ext cx="736920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b4b4b"/>
                </a:solidFill>
                <a:latin typeface="Arial"/>
              </a:rPr>
              <a:t>Introduction – classification systems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b4b4b"/>
                </a:solidFill>
                <a:latin typeface="Arial"/>
              </a:rPr>
              <a:t>Is Patent Classification still needed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b4b4b"/>
                </a:solidFill>
                <a:latin typeface="Arial"/>
              </a:rPr>
              <a:t>Patent classification uses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b4b4b"/>
                </a:solidFill>
                <a:latin typeface="Arial"/>
              </a:rPr>
              <a:t>Classification challenges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b4b4b"/>
                </a:solidFill>
                <a:latin typeface="Arial"/>
              </a:rPr>
              <a:t>CPC – threat or opportunity - Conclusions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6cb8"/>
                </a:solidFill>
                <a:latin typeface="Arial"/>
              </a:rPr>
              <a:t>New PCT-Publications without IPC</a:t>
            </a:r>
            <a:br>
              <a:rPr sz="3200"/>
            </a:br>
            <a:r>
              <a:rPr b="0" lang="de-DE" sz="2400" spc="-1" strike="noStrike">
                <a:solidFill>
                  <a:srgbClr val="006cb8"/>
                </a:solidFill>
                <a:latin typeface="Arial"/>
              </a:rPr>
              <a:t>in DOCDB from August 2012</a:t>
            </a:r>
            <a:endParaRPr b="0" lang="en-US" sz="24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904" name="Foliennummernplatzhalter 3"/>
          <p:cNvSpPr/>
          <p:nvPr/>
        </p:nvSpPr>
        <p:spPr>
          <a:xfrm>
            <a:off x="8223120" y="6334200"/>
            <a:ext cx="5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9073-278A-45BB-9D97-4C19E7BF287C}" type="slidenum">
              <a:rPr b="1" lang="en-US" sz="1200" spc="-1" strike="noStrike">
                <a:solidFill>
                  <a:srgbClr val="006cb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b4b4b"/>
              </a:solidFill>
              <a:latin typeface="Arial"/>
            </a:endParaRPr>
          </a:p>
        </p:txBody>
      </p:sp>
      <p:graphicFrame>
        <p:nvGraphicFramePr>
          <p:cNvPr id="1905" name=""/>
          <p:cNvGraphicFramePr/>
          <p:nvPr/>
        </p:nvGraphicFramePr>
        <p:xfrm>
          <a:off x="1909800" y="1798560"/>
          <a:ext cx="5002200" cy="3336840"/>
        </p:xfrm>
        <a:graphic>
          <a:graphicData uri="http://schemas.openxmlformats.org/drawingml/2006/table">
            <a:tbl>
              <a:tblPr/>
              <a:tblGrid>
                <a:gridCol w="2502000"/>
                <a:gridCol w="2500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CT-Filing Office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c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 of Records*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cb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8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6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R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7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B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3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B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4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N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654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</a:tr>
            </a:tbl>
          </a:graphicData>
        </a:graphic>
      </p:graphicFrame>
      <p:sp>
        <p:nvSpPr>
          <p:cNvPr id="1906" name="Textfeld 5"/>
          <p:cNvSpPr/>
          <p:nvPr/>
        </p:nvSpPr>
        <p:spPr>
          <a:xfrm>
            <a:off x="1555200" y="6256440"/>
            <a:ext cx="537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*number of new PCT-records in INPADOCDB without IPC</a:t>
            </a:r>
            <a:endParaRPr b="0" lang="en-US" sz="16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425160" y="379440"/>
            <a:ext cx="847404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6cb8"/>
                </a:solidFill>
                <a:latin typeface="Arial"/>
              </a:rPr>
              <a:t>New PCT-Publication without IPC in DOCDB</a:t>
            </a: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908" name="Foliennummernplatzhalter 3"/>
          <p:cNvSpPr/>
          <p:nvPr/>
        </p:nvSpPr>
        <p:spPr>
          <a:xfrm>
            <a:off x="8223120" y="6334200"/>
            <a:ext cx="5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D328E-A82B-4921-B8EE-E7818369EF91}" type="slidenum">
              <a:rPr b="1" lang="en-US" sz="1200" spc="-1" strike="noStrike">
                <a:solidFill>
                  <a:srgbClr val="006cb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09" name="Rectangle 3"/>
          <p:cNvSpPr/>
          <p:nvPr/>
        </p:nvSpPr>
        <p:spPr>
          <a:xfrm>
            <a:off x="485640" y="1917720"/>
            <a:ext cx="8188560" cy="4565880"/>
          </a:xfrm>
          <a:prstGeom prst="rect">
            <a:avLst/>
          </a:prstGeom>
          <a:solidFill>
            <a:srgbClr val="d9e5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N    70190717 INPADOCDB ED 20120830 EW 201235 UP 20120906 UW 201236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N    45280289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    VERFAHREN ZUM BETREIBEN EINES SOLARBEHEIZTEN ABHITZEDAMPFERZEUGERS SOWIE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OLARTHERMISCHER ABHITZEDAMPFERZEUGER.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ETHOD FOR OPERATING A SOLAR-HEATED WASTE HEAT STEAM GENERATOR, AND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OLAR-THERMAL WASTE HEAT STEAM GENERATOR.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OCEDE POUR FAIRE FONCTIONNER UN GENERATEUR DE VAPEUR A RECUPERATION DE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HALEUR CHAUFFE A L'ENERGIE SOLAIRE ET GENERATEUR DE VAPEUR A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CUPERATION DE CHALEUR CHAUFFE A L'ENERGIE SOLAIRE.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    BRUECKNER, JAN; FRANKE, JOACHIM; THOMAS, FRANK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S   BRUECKNER JAN, DE; FRANKE JOACHIM, DE; THOMAS FRANK, DE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A    SIEMENS AKTIENGESELLSCHAFT; BRUECKNER, JAN; FRANKE, JOACHIM; THOMAS,FRANK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AS   SIEMENS AG, DE; BRUECKNER JAN, DE; FRANKE JOACHIM, DE; THOMAS FRANK, DE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T    Patent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I    </a:t>
            </a:r>
            <a:r>
              <a:rPr b="1" lang="en-US" sz="1200" spc="-1" strike="noStrike">
                <a:solidFill>
                  <a:srgbClr val="c00000"/>
                </a:solidFill>
                <a:latin typeface="Courier New"/>
              </a:rPr>
              <a:t>WO 2012110342        A2 20120823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IT   WOA2 INTERNATIONAL APPLICATION PUBLISHED WITHOUT INTERNATIONAL SEARCH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PORT or INTERNATIONAL APPLICATION PUBLISHED WITH DECLARATION UNDER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RTICLE 17 (2) (A) [FROM 20090101 ONWARDS]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I    WO 2012-EP51920      W  20120206  German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IT   WOW International application Number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AI  DE 2011-102011004263 A  20110217  (DEA, 20120823, Y) 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AIT DEA Patent application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C   1. THERE IS 1 CITED REFERENCE (0 PATENT, 1 NON PATENT) AVAILABLE FOR THIS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CORD. ALL CITATIONS ARE AVAILABLE IN THE RE FORMAT.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441360" y="1270080"/>
            <a:ext cx="824544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WO2012/11034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has no IPC or ECLA/CPC assign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6cb8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912" name=""/>
          <p:cNvSpPr txBox="1"/>
          <p:nvPr/>
        </p:nvSpPr>
        <p:spPr>
          <a:xfrm>
            <a:off x="441000" y="1317240"/>
            <a:ext cx="846612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0000"/>
                </a:solidFill>
                <a:latin typeface="Arial"/>
              </a:rPr>
              <a:t>Reclassification of the MCD backfile needs to be enhanced to ensure comprehensive retrieval when searching with the current version of the IPC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0000"/>
                </a:solidFill>
                <a:latin typeface="Arial"/>
              </a:rPr>
              <a:t>WIPO should encourage smaller patent authorities to assign IPCs more extensively, e.g. IT, SG, A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0000"/>
                </a:solidFill>
                <a:latin typeface="Arial"/>
              </a:rPr>
              <a:t>PCT searching authorities should be encouraged to assign IPCs more timely to PCT documents, so that IPC could be used for monitoring purpos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Foliennummernplatzhalter 3"/>
          <p:cNvSpPr/>
          <p:nvPr/>
        </p:nvSpPr>
        <p:spPr>
          <a:xfrm>
            <a:off x="8223120" y="6334200"/>
            <a:ext cx="5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57ABD-38D4-4B2A-8D60-46489DD52620}" type="slidenum">
              <a:rPr b="1" lang="en-US" sz="1200" spc="-1" strike="noStrike">
                <a:solidFill>
                  <a:srgbClr val="006cb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917640" y="506520"/>
            <a:ext cx="736920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8000"/>
                </a:solidFill>
                <a:latin typeface="Arial"/>
              </a:rPr>
              <a:t>(TOO) MANY PATENT CLASSIFICATION SYSTEMS </a:t>
            </a:r>
            <a:endParaRPr b="0" lang="en-US" sz="28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917640" y="1525320"/>
            <a:ext cx="736920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b4b4b"/>
                </a:solidFill>
                <a:latin typeface="Arial"/>
              </a:rPr>
              <a:t>International Patent Classification – WIPO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b4b4b"/>
                </a:solidFill>
                <a:latin typeface="Arial"/>
              </a:rPr>
              <a:t>Cooperative Patent Classification (ECLA)– EPO/USPTO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b4b4b"/>
                </a:solidFill>
                <a:latin typeface="Arial"/>
              </a:rPr>
              <a:t>US Patent Classification (until 2015) – USPTO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b4b4b"/>
                </a:solidFill>
                <a:latin typeface="Arial"/>
              </a:rPr>
              <a:t>DECLA – German Patent and Trademark Office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b4b4b"/>
                </a:solidFill>
                <a:latin typeface="Arial"/>
              </a:rPr>
              <a:t>FI /F-Terms – Japanese Patent Office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b4b4b"/>
                </a:solidFill>
                <a:latin typeface="Arial"/>
              </a:rPr>
              <a:t>DWPI Manual Coding system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b4b4b"/>
                </a:solidFill>
                <a:latin typeface="Arial"/>
              </a:rPr>
              <a:t>Common Hybrid Classification – Global Patent Classification 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917640" y="506520"/>
            <a:ext cx="736920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8000"/>
                </a:solidFill>
                <a:latin typeface="Arial"/>
              </a:rPr>
              <a:t>IS PATENT CLASSIFICATION STILL NEEDED?</a:t>
            </a:r>
            <a:endParaRPr b="0" lang="en-US" sz="28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1843" name=""/>
          <p:cNvSpPr txBox="1"/>
          <p:nvPr/>
        </p:nvSpPr>
        <p:spPr>
          <a:xfrm>
            <a:off x="917640" y="1525320"/>
            <a:ext cx="736920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 fontScale="96000"/>
          </a:bodyPr>
          <a:p>
            <a:pPr lvl="1" marL="603360" indent="-273960">
              <a:spcBef>
                <a:spcPts val="751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b4b4b"/>
                </a:solidFill>
                <a:latin typeface="Arial"/>
              </a:rPr>
              <a:t>Increasing global patent activity</a:t>
            </a: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  <a:p>
            <a:pPr lvl="1" marL="603360" indent="-273960">
              <a:spcBef>
                <a:spcPts val="751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b4b4b"/>
                </a:solidFill>
                <a:latin typeface="Arial"/>
              </a:rPr>
              <a:t>Classification systems require high maintenance</a:t>
            </a: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  <a:p>
            <a:pPr lvl="2" marL="877680" indent="-164160">
              <a:spcBef>
                <a:spcPts val="561"/>
              </a:spcBef>
              <a:buClr>
                <a:srgbClr val="ff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b4b4b"/>
                </a:solidFill>
                <a:latin typeface="Arial"/>
              </a:rPr>
              <a:t>High granularity, often dependent on national, regional technology profile</a:t>
            </a:r>
            <a:endParaRPr b="0" lang="en-US" sz="1800" spc="-1" strike="noStrike">
              <a:solidFill>
                <a:srgbClr val="4b4b4b"/>
              </a:solidFill>
              <a:latin typeface="Arial"/>
            </a:endParaRPr>
          </a:p>
          <a:p>
            <a:pPr lvl="2" marL="877680" indent="-164160">
              <a:spcBef>
                <a:spcPts val="561"/>
              </a:spcBef>
              <a:buClr>
                <a:srgbClr val="ff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b4b4b"/>
                </a:solidFill>
                <a:latin typeface="Arial"/>
              </a:rPr>
              <a:t>Frequent updating cycles (revisions, reclassifications)</a:t>
            </a:r>
            <a:endParaRPr b="0" lang="en-US" sz="1800" spc="-1" strike="noStrike">
              <a:solidFill>
                <a:srgbClr val="4b4b4b"/>
              </a:solidFill>
              <a:latin typeface="Arial"/>
            </a:endParaRPr>
          </a:p>
          <a:p>
            <a:pPr lvl="2" marL="877680" indent="-164160">
              <a:spcBef>
                <a:spcPts val="561"/>
              </a:spcBef>
              <a:buClr>
                <a:srgbClr val="ff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b4b4b"/>
                </a:solidFill>
                <a:latin typeface="Arial"/>
              </a:rPr>
              <a:t>Consistent classification rules  often reconciled with national patent law</a:t>
            </a:r>
            <a:endParaRPr b="0" lang="en-US" sz="1800" spc="-1" strike="noStrike">
              <a:solidFill>
                <a:srgbClr val="4b4b4b"/>
              </a:solidFill>
              <a:latin typeface="Arial"/>
            </a:endParaRPr>
          </a:p>
          <a:p>
            <a:pPr lvl="3" marL="1207080" indent="-219240">
              <a:spcBef>
                <a:spcPts val="400"/>
              </a:spcBef>
              <a:buClr>
                <a:srgbClr val="ff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b4b4b"/>
                </a:solidFill>
                <a:latin typeface="Arial"/>
              </a:rPr>
              <a:t>The more refined to meet  specific requirements, the higher the maintenance and, paradoxically, risk of failing </a:t>
            </a:r>
            <a:endParaRPr b="0" lang="en-US" sz="1600" spc="-1" strike="noStrike">
              <a:solidFill>
                <a:srgbClr val="4b4b4b"/>
              </a:solidFill>
              <a:latin typeface="Arial"/>
            </a:endParaRPr>
          </a:p>
          <a:p>
            <a:pPr lvl="2" marL="877680" indent="-164160">
              <a:spcBef>
                <a:spcPts val="561"/>
              </a:spcBef>
              <a:buClr>
                <a:srgbClr val="ff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b4b4b"/>
                </a:solidFill>
                <a:latin typeface="Arial"/>
              </a:rPr>
              <a:t>Different classification systems (national, regional) </a:t>
            </a:r>
            <a:endParaRPr b="0" lang="en-US" sz="1800" spc="-1" strike="noStrike">
              <a:solidFill>
                <a:srgbClr val="4b4b4b"/>
              </a:solidFill>
              <a:latin typeface="Arial"/>
            </a:endParaRPr>
          </a:p>
          <a:p>
            <a:pPr lvl="1" marL="603360" indent="-273960">
              <a:spcBef>
                <a:spcPts val="751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b4b4b"/>
                </a:solidFill>
                <a:latin typeface="Arial"/>
              </a:rPr>
              <a:t>Recent classification developments (CPC, CHC) - substantial projects undertaken by  patent offices</a:t>
            </a: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  <a:p>
            <a:pPr lvl="1" marL="603360" indent="-273960">
              <a:spcBef>
                <a:spcPts val="751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b4b4b"/>
                </a:solidFill>
                <a:latin typeface="Arial"/>
              </a:rPr>
              <a:t>High interest from patent user community </a:t>
            </a: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  <a:p>
            <a:pPr lvl="1" marL="603360" indent="-273960">
              <a:spcBef>
                <a:spcPts val="751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8000"/>
                </a:solidFill>
                <a:latin typeface="Arial"/>
              </a:rPr>
              <a:t>Patent classification  has multiple applications and is useful !</a:t>
            </a: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  <a:p>
            <a:pPr lvl="1" marL="603360" indent="-273960">
              <a:spcBef>
                <a:spcPts val="751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917640" y="506520"/>
            <a:ext cx="736920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8000"/>
                </a:solidFill>
                <a:latin typeface="Arial"/>
              </a:rPr>
              <a:t>PATENT CLASSIFICATION USES </a:t>
            </a:r>
            <a:endParaRPr b="0" lang="en-US" sz="28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920880" y="1522440"/>
            <a:ext cx="73692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 fontScale="94000"/>
          </a:bodyPr>
          <a:p>
            <a:pPr lvl="1" marL="590760" indent="-268200">
              <a:spcBef>
                <a:spcPts val="751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8000"/>
                </a:solidFill>
                <a:latin typeface="Arial"/>
              </a:rPr>
              <a:t>Search tool : </a:t>
            </a: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  <a:p>
            <a:pPr lvl="2" marL="859320" indent="-160920">
              <a:spcBef>
                <a:spcPts val="561"/>
              </a:spcBef>
              <a:buClr>
                <a:srgbClr val="ff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b4b4b"/>
                </a:solidFill>
                <a:latin typeface="Arial"/>
              </a:rPr>
              <a:t>Language independent : overcomes translation variations  and terminology alternatives in emerging technologies, as well as spelling errors</a:t>
            </a:r>
            <a:endParaRPr b="0" lang="en-US" sz="1800" spc="-1" strike="noStrike">
              <a:solidFill>
                <a:srgbClr val="4b4b4b"/>
              </a:solidFill>
              <a:latin typeface="Arial"/>
            </a:endParaRPr>
          </a:p>
          <a:p>
            <a:pPr lvl="2" marL="859320" indent="-160920">
              <a:spcBef>
                <a:spcPts val="561"/>
              </a:spcBef>
              <a:buClr>
                <a:srgbClr val="ff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b4b4b"/>
                </a:solidFill>
                <a:latin typeface="Arial"/>
              </a:rPr>
              <a:t>Suitable for Technology drill down and  concept retrieval</a:t>
            </a:r>
            <a:endParaRPr b="0" lang="en-US" sz="1800" spc="-1" strike="noStrike">
              <a:solidFill>
                <a:srgbClr val="4b4b4b"/>
              </a:solidFill>
              <a:latin typeface="Arial"/>
            </a:endParaRPr>
          </a:p>
          <a:p>
            <a:pPr lvl="1" marL="590760" indent="-268200">
              <a:spcBef>
                <a:spcPts val="751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8000"/>
                </a:solidFill>
                <a:latin typeface="Arial"/>
              </a:rPr>
              <a:t>Document routing tool:</a:t>
            </a: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  <a:p>
            <a:pPr lvl="2" marL="859320" indent="-160920">
              <a:spcBef>
                <a:spcPts val="561"/>
              </a:spcBef>
              <a:buClr>
                <a:srgbClr val="ff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b4b4b"/>
                </a:solidFill>
                <a:latin typeface="Arial"/>
              </a:rPr>
              <a:t>In production and editorial departments patent documents are routed to  technology experts</a:t>
            </a:r>
            <a:endParaRPr b="0" lang="en-US" sz="1800" spc="-1" strike="noStrike">
              <a:solidFill>
                <a:srgbClr val="4b4b4b"/>
              </a:solidFill>
              <a:latin typeface="Arial"/>
            </a:endParaRPr>
          </a:p>
          <a:p>
            <a:pPr lvl="2" marL="859320" indent="-160920">
              <a:spcBef>
                <a:spcPts val="561"/>
              </a:spcBef>
              <a:buClr>
                <a:srgbClr val="ff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b4b4b"/>
                </a:solidFill>
                <a:latin typeface="Arial"/>
              </a:rPr>
              <a:t>In product creation :  for alerts and patent profiles </a:t>
            </a:r>
            <a:endParaRPr b="0" lang="en-US" sz="1800" spc="-1" strike="noStrike">
              <a:solidFill>
                <a:srgbClr val="4b4b4b"/>
              </a:solidFill>
              <a:latin typeface="Arial"/>
            </a:endParaRPr>
          </a:p>
          <a:p>
            <a:pPr lvl="2" marL="859320" indent="-160920">
              <a:spcBef>
                <a:spcPts val="561"/>
              </a:spcBef>
              <a:buClr>
                <a:srgbClr val="ff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b4b4b"/>
                </a:solidFill>
                <a:latin typeface="Arial"/>
              </a:rPr>
              <a:t>In Machine  Translation developments where the classification is used to associate the correct technical dictionary with the respective technology</a:t>
            </a:r>
            <a:endParaRPr b="0" lang="en-US" sz="1800" spc="-1" strike="noStrike">
              <a:solidFill>
                <a:srgbClr val="4b4b4b"/>
              </a:solidFill>
              <a:latin typeface="Arial"/>
            </a:endParaRPr>
          </a:p>
          <a:p>
            <a:pPr lvl="2" marL="859320" indent="0">
              <a:spcBef>
                <a:spcPts val="56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4b4b"/>
              </a:solidFill>
              <a:latin typeface="Arial"/>
            </a:endParaRPr>
          </a:p>
          <a:p>
            <a:pPr lvl="2" marL="859320" indent="0">
              <a:spcBef>
                <a:spcPts val="56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4b4b"/>
              </a:solidFill>
              <a:latin typeface="Arial"/>
            </a:endParaRPr>
          </a:p>
          <a:p>
            <a:pPr lvl="2" marL="859320" indent="0">
              <a:spcBef>
                <a:spcPts val="56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b4b4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b4b4b"/>
              </a:solidFill>
              <a:latin typeface="Arial"/>
            </a:endParaRPr>
          </a:p>
          <a:p>
            <a:pPr lvl="1" marL="5907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  <a:p>
            <a:pPr lvl="2" marL="859320" indent="0">
              <a:spcBef>
                <a:spcPts val="56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4b4b"/>
              </a:solidFill>
              <a:latin typeface="Arial"/>
            </a:endParaRPr>
          </a:p>
          <a:p>
            <a:pPr lvl="2" marL="859320" indent="0">
              <a:spcBef>
                <a:spcPts val="56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917640" y="506520"/>
            <a:ext cx="736920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8000"/>
                </a:solidFill>
                <a:latin typeface="Arial"/>
              </a:rPr>
              <a:t>CLASSIFICATION CHALLENGES</a:t>
            </a:r>
            <a:endParaRPr b="0" lang="en-US" sz="28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1847" name=""/>
          <p:cNvSpPr txBox="1"/>
          <p:nvPr/>
        </p:nvSpPr>
        <p:spPr>
          <a:xfrm>
            <a:off x="917640" y="1525320"/>
            <a:ext cx="736920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b4b4b"/>
                </a:solidFill>
                <a:latin typeface="Arial"/>
              </a:rPr>
              <a:t>Classification features with limited user benefits: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28560" indent="-285480">
              <a:spcBef>
                <a:spcPts val="751"/>
              </a:spcBef>
              <a:buClr>
                <a:srgbClr val="ff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b4b4b"/>
                </a:solidFill>
                <a:latin typeface="Arial"/>
              </a:rPr>
              <a:t>Inconsistency of classification attributes  (eg generating office, position, source of classification, etc.)</a:t>
            </a: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  <a:p>
            <a:pPr lvl="1" marL="628560" indent="-285480">
              <a:spcBef>
                <a:spcPts val="751"/>
              </a:spcBef>
              <a:buClr>
                <a:srgbClr val="ff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b4b4b"/>
                </a:solidFill>
                <a:latin typeface="Arial"/>
              </a:rPr>
              <a:t>Insufficient details related to certain classification features, linking codes</a:t>
            </a: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b4b4b"/>
                </a:solidFill>
                <a:latin typeface="Arial"/>
              </a:rPr>
              <a:t>Missing classification 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b4b4b"/>
                </a:solidFill>
                <a:latin typeface="Arial"/>
              </a:rPr>
              <a:t>Invalid classification 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b4b4b"/>
                </a:solidFill>
                <a:latin typeface="Arial"/>
              </a:rPr>
              <a:t>Availability at publication with the rest of  bibliographic data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917640" y="506520"/>
            <a:ext cx="736920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8000"/>
                </a:solidFill>
                <a:latin typeface="Arial"/>
              </a:rPr>
              <a:t>MISSING/INVALID  IPCs IN NEW PULICATIONS LOADED IN  DWPI</a:t>
            </a:r>
            <a:endParaRPr b="0" lang="en-US" sz="2800" spc="-1" strike="noStrike">
              <a:solidFill>
                <a:srgbClr val="ff8000"/>
              </a:solidFill>
              <a:latin typeface="Arial"/>
            </a:endParaRPr>
          </a:p>
        </p:txBody>
      </p:sp>
      <p:pic>
        <p:nvPicPr>
          <p:cNvPr id="1849" name="Content Placeholder 4" descr=""/>
          <p:cNvPicPr/>
          <p:nvPr/>
        </p:nvPicPr>
        <p:blipFill>
          <a:blip r:embed="rId1"/>
          <a:stretch/>
        </p:blipFill>
        <p:spPr>
          <a:xfrm>
            <a:off x="914400" y="1517760"/>
            <a:ext cx="737568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917640" y="506520"/>
            <a:ext cx="736920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8000"/>
                </a:solidFill>
                <a:latin typeface="Arial"/>
              </a:rPr>
              <a:t>IPC – SAME INVENTION, DIFFERENT CLASSIFICATION </a:t>
            </a:r>
            <a:endParaRPr b="0" lang="en-US" sz="2800" spc="-1" strike="noStrike">
              <a:solidFill>
                <a:srgbClr val="ff8000"/>
              </a:solidFill>
              <a:latin typeface="Arial"/>
            </a:endParaRPr>
          </a:p>
        </p:txBody>
      </p:sp>
      <p:pic>
        <p:nvPicPr>
          <p:cNvPr id="1851" name="Picture 2" descr=""/>
          <p:cNvPicPr/>
          <p:nvPr/>
        </p:nvPicPr>
        <p:blipFill>
          <a:blip r:embed="rId1"/>
          <a:stretch/>
        </p:blipFill>
        <p:spPr>
          <a:xfrm>
            <a:off x="504720" y="4579920"/>
            <a:ext cx="7966080" cy="1566720"/>
          </a:xfrm>
          <a:prstGeom prst="rect">
            <a:avLst/>
          </a:prstGeom>
          <a:ln w="0">
            <a:noFill/>
          </a:ln>
        </p:spPr>
      </p:pic>
      <p:pic>
        <p:nvPicPr>
          <p:cNvPr id="1852" name="Picture 2" descr=""/>
          <p:cNvPicPr/>
          <p:nvPr/>
        </p:nvPicPr>
        <p:blipFill>
          <a:blip r:embed="rId2"/>
          <a:stretch/>
        </p:blipFill>
        <p:spPr>
          <a:xfrm>
            <a:off x="336600" y="1495440"/>
            <a:ext cx="3584520" cy="2592360"/>
          </a:xfrm>
          <a:prstGeom prst="rect">
            <a:avLst/>
          </a:prstGeom>
          <a:ln w="0">
            <a:noFill/>
          </a:ln>
        </p:spPr>
      </p:pic>
      <p:pic>
        <p:nvPicPr>
          <p:cNvPr id="1853" name="Picture 3" descr=""/>
          <p:cNvPicPr/>
          <p:nvPr/>
        </p:nvPicPr>
        <p:blipFill>
          <a:blip r:embed="rId3"/>
          <a:stretch/>
        </p:blipFill>
        <p:spPr>
          <a:xfrm>
            <a:off x="2521080" y="1454040"/>
            <a:ext cx="3933720" cy="609840"/>
          </a:xfrm>
          <a:prstGeom prst="rect">
            <a:avLst/>
          </a:prstGeom>
          <a:ln w="12600">
            <a:solidFill>
              <a:srgbClr val="ff8000"/>
            </a:solidFill>
            <a:miter/>
          </a:ln>
        </p:spPr>
      </p:pic>
      <p:sp>
        <p:nvSpPr>
          <p:cNvPr id="1854" name="Straight Connector 11"/>
          <p:cNvSpPr/>
          <p:nvPr/>
        </p:nvSpPr>
        <p:spPr>
          <a:xfrm flipH="1">
            <a:off x="937800" y="1974960"/>
            <a:ext cx="1567080" cy="368280"/>
          </a:xfrm>
          <a:prstGeom prst="line">
            <a:avLst/>
          </a:prstGeom>
          <a:ln w="1260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55" name="TextBox 16"/>
          <p:cNvSpPr/>
          <p:nvPr/>
        </p:nvSpPr>
        <p:spPr>
          <a:xfrm>
            <a:off x="6808680" y="1414440"/>
            <a:ext cx="1528920" cy="3112920"/>
          </a:xfrm>
          <a:prstGeom prst="rect">
            <a:avLst/>
          </a:prstGeom>
          <a:noFill/>
          <a:ln w="1260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b4b4b"/>
                </a:solidFill>
                <a:latin typeface="Arial"/>
              </a:rPr>
              <a:t>IPCs applied only once within family</a:t>
            </a:r>
            <a:endParaRPr b="0" lang="en-US" sz="800" spc="-1" strike="noStrike">
              <a:solidFill>
                <a:srgbClr val="4b4b4b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b4b4b"/>
                </a:solidFill>
                <a:latin typeface="Arial"/>
              </a:rPr>
              <a:t>A23L 1/0522</a:t>
            </a:r>
            <a:endParaRPr b="0" lang="en-US" sz="800" spc="-1" strike="noStrike">
              <a:solidFill>
                <a:srgbClr val="4b4b4b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b4b4b"/>
                </a:solidFill>
                <a:latin typeface="Arial"/>
              </a:rPr>
              <a:t>A23L 1/09 </a:t>
            </a:r>
            <a:endParaRPr b="0" lang="en-US" sz="800" spc="-1" strike="noStrike">
              <a:solidFill>
                <a:srgbClr val="4b4b4b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b4b4b"/>
                </a:solidFill>
                <a:latin typeface="Arial"/>
              </a:rPr>
              <a:t>A23L 2/00</a:t>
            </a:r>
            <a:endParaRPr b="0" lang="en-US" sz="800" spc="-1" strike="noStrike">
              <a:solidFill>
                <a:srgbClr val="4b4b4b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b4b4b"/>
                </a:solidFill>
                <a:latin typeface="Arial"/>
              </a:rPr>
              <a:t>A61K 47/14</a:t>
            </a:r>
            <a:endParaRPr b="0" lang="en-US" sz="800" spc="-1" strike="noStrike">
              <a:solidFill>
                <a:srgbClr val="4b4b4b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b4b4b"/>
                </a:solidFill>
                <a:latin typeface="Arial"/>
              </a:rPr>
              <a:t>A61K 47/26</a:t>
            </a:r>
            <a:endParaRPr b="0" lang="en-US" sz="800" spc="-1" strike="noStrike">
              <a:solidFill>
                <a:srgbClr val="4b4b4b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b4b4b"/>
                </a:solidFill>
                <a:latin typeface="Arial"/>
              </a:rPr>
              <a:t>A61K 47/36</a:t>
            </a:r>
            <a:endParaRPr b="0" lang="en-US" sz="800" spc="-1" strike="noStrike">
              <a:solidFill>
                <a:srgbClr val="4b4b4b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b4b4b"/>
                </a:solidFill>
                <a:latin typeface="Arial"/>
              </a:rPr>
              <a:t>A61K 8/97</a:t>
            </a:r>
            <a:endParaRPr b="0" lang="en-US" sz="800" spc="-1" strike="noStrike">
              <a:solidFill>
                <a:srgbClr val="4b4b4b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b4b4b"/>
                </a:solidFill>
                <a:latin typeface="Arial"/>
              </a:rPr>
              <a:t>A61Q 13/00</a:t>
            </a:r>
            <a:endParaRPr b="0" lang="en-US" sz="800" spc="-1" strike="noStrike">
              <a:solidFill>
                <a:srgbClr val="4b4b4b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b4b4b"/>
                </a:solidFill>
                <a:latin typeface="Arial"/>
              </a:rPr>
              <a:t>B01F 17/00</a:t>
            </a:r>
            <a:endParaRPr b="0" lang="en-US" sz="800" spc="-1" strike="noStrike">
              <a:solidFill>
                <a:srgbClr val="4b4b4b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b4b4b"/>
                </a:solidFill>
                <a:latin typeface="Arial"/>
              </a:rPr>
              <a:t>B01F 17/34</a:t>
            </a:r>
            <a:endParaRPr b="0" lang="en-US" sz="800" spc="-1" strike="noStrike">
              <a:solidFill>
                <a:srgbClr val="4b4b4b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b4b4b"/>
                </a:solidFill>
                <a:latin typeface="Arial"/>
              </a:rPr>
              <a:t>B01F 17/36</a:t>
            </a:r>
            <a:endParaRPr b="0" lang="en-US" sz="800" spc="-1" strike="noStrike">
              <a:solidFill>
                <a:srgbClr val="4b4b4b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b4b4b"/>
                </a:solidFill>
                <a:latin typeface="Arial"/>
              </a:rPr>
              <a:t>B01F 3/08</a:t>
            </a:r>
            <a:endParaRPr b="0" lang="en-US" sz="800" spc="-1" strike="noStrike">
              <a:solidFill>
                <a:srgbClr val="4b4b4b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b4b4b"/>
                </a:solidFill>
                <a:latin typeface="Arial"/>
              </a:rPr>
              <a:t>C08B 35/02</a:t>
            </a:r>
            <a:endParaRPr b="0" lang="en-US" sz="800" spc="-1" strike="noStrike">
              <a:solidFill>
                <a:srgbClr val="4b4b4b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b4b4b"/>
                </a:solidFill>
                <a:latin typeface="Arial"/>
              </a:rPr>
              <a:t>C08J 3/02 </a:t>
            </a:r>
            <a:endParaRPr b="0" lang="en-US" sz="800" spc="-1" strike="noStrike">
              <a:solidFill>
                <a:srgbClr val="4b4b4b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b4b4b"/>
                </a:solidFill>
                <a:latin typeface="Arial"/>
              </a:rPr>
              <a:t>C08L 3/06  </a:t>
            </a:r>
            <a:endParaRPr b="0" lang="en-US" sz="8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56" name="Down Arrow 22"/>
          <p:cNvSpPr/>
          <p:nvPr/>
        </p:nvSpPr>
        <p:spPr>
          <a:xfrm>
            <a:off x="1560600" y="4141800"/>
            <a:ext cx="1144440" cy="37620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10800000"/>
          </a:gradFill>
          <a:ln w="9360">
            <a:solidFill>
              <a:srgbClr val="ff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182880" tIns="0" bIns="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57" name="Bent Arrow 33"/>
          <p:cNvSpPr/>
          <p:nvPr/>
        </p:nvSpPr>
        <p:spPr>
          <a:xfrm>
            <a:off x="5248440" y="3389400"/>
            <a:ext cx="1428480" cy="982440"/>
          </a:xfrm>
          <a:prstGeom prst="pie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16200000"/>
          </a:gradFill>
          <a:ln w="9360">
            <a:solidFill>
              <a:srgbClr val="ff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182880" tIns="0" bIns="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917640" y="506520"/>
            <a:ext cx="736920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8000"/>
                </a:solidFill>
                <a:latin typeface="Arial"/>
              </a:rPr>
              <a:t>CHALLENGE  MEANS OPPORTUNITY</a:t>
            </a:r>
            <a:endParaRPr b="0" lang="en-US" sz="28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1859" name=""/>
          <p:cNvSpPr txBox="1"/>
          <p:nvPr/>
        </p:nvSpPr>
        <p:spPr>
          <a:xfrm>
            <a:off x="917640" y="1525320"/>
            <a:ext cx="736920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b4b4b"/>
                </a:solidFill>
                <a:latin typeface="Arial"/>
              </a:rPr>
              <a:t>Missing  and invalid IPCs – value add by assigning front end classification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b4b4b"/>
                </a:solidFill>
                <a:latin typeface="Arial"/>
              </a:rPr>
              <a:t>Inconsistent classification 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28560" indent="-285480">
              <a:spcBef>
                <a:spcPts val="751"/>
              </a:spcBef>
              <a:buClr>
                <a:srgbClr val="ff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b4b4b"/>
                </a:solidFill>
                <a:latin typeface="Arial"/>
              </a:rPr>
              <a:t>DWPI Manual coding </a:t>
            </a: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  <a:p>
            <a:pPr lvl="1" marL="628560" indent="-285480">
              <a:spcBef>
                <a:spcPts val="751"/>
              </a:spcBef>
              <a:buClr>
                <a:srgbClr val="ff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b4b4b"/>
                </a:solidFill>
                <a:latin typeface="Arial"/>
              </a:rPr>
              <a:t>DWPI patent family </a:t>
            </a: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  <a:p>
            <a:pPr lvl="1" marL="628560" indent="-285480">
              <a:spcBef>
                <a:spcPts val="751"/>
              </a:spcBef>
              <a:buClr>
                <a:srgbClr val="ff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b4b4b"/>
                </a:solidFill>
                <a:latin typeface="Arial"/>
              </a:rPr>
              <a:t>Confusing Attributes - product  enhancement features eg  Inventive, non-inventive, generating office, version, etc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18:02:24Z</dcterms:created>
  <dc:creator>Ed White</dc:creator>
  <dc:description/>
  <cp:keywords>IPC</cp:keywords>
  <dc:language>en-US</dc:language>
  <cp:lastModifiedBy>Malanga</cp:lastModifiedBy>
  <dcterms:modified xsi:type="dcterms:W3CDTF">2013-02-25T13:54:57Z</dcterms:modified>
  <cp:revision>245</cp:revision>
  <dc:subject>IPC Workshop (2013) - Classification needs and first experiences with CPC</dc:subject>
  <dc:title>IPC Workshop (2013) - Classification needs and first experiences with CPC</dc:title>
</cp:coreProperties>
</file>