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425-1FB6-4876-BF82-23010755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6DB-8930-4593-A0FE-3C698BD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190-E2FF-4704-96D5-5F052B9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130-FB25-4E8F-B8CA-24F62B75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0149-AF95-4C6F-8FD2-AF112D5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9F3-B3A7-458A-8E0B-AC96839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C7C-B0CC-4F89-9374-4132B43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F36-0296-41F2-B0E7-713D1303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D63C-77B0-4179-91FA-1A04F0A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8C7-5D05-48C4-8F61-F3DCC48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45FE-8795-457B-AFDE-AC90A63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1CC-9FD4-4563-A275-6535CA9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1B01-E3BC-4E02-87C4-62EDD0A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4E4F-697E-4E36-98DA-3D7DE3D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CAD-AFE5-42AB-A41B-8B28510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045-0AC4-4A16-A65E-AE034CD3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F303-74F6-4E20-A345-AEDEECFC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FB5-BE94-4EA6-8478-AF24A5C6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B20-A696-4B22-B5BC-DBCD7FC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E74-5086-4196-B250-8F784DC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330-7A59-4B1C-B419-41C2E9F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E7D-69BC-4074-BD4F-97B8002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EAC-E8CC-4DAE-BD11-5850D9CA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274-1E86-427E-B540-B71D589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6"/>
          <p:cNvSpPr/>
          <p:nvPr/>
        </p:nvSpPr>
        <p:spPr>
          <a:xfrm>
            <a:off x="7086600" y="6521400"/>
            <a:ext cx="1905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95F-9456-4880-925C-13D4D40328B9}" type="slidenum">
              <a:rPr b="1" lang="en-US" sz="1200" spc="-1" strike="noStrike">
                <a:solidFill>
                  <a:srgbClr val="273c56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7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8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50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094-E89D-4C17-9567-87C68F37A93D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25440" y="1252440"/>
            <a:ext cx="857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575f"/>
                </a:solidFill>
                <a:latin typeface="Arial"/>
              </a:rPr>
              <a:t>IPC vs. CPC compared</a:t>
            </a: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575f"/>
                </a:solidFill>
                <a:latin typeface="Arial"/>
              </a:rPr>
              <a:t>Third IPC Workshop (WIPO)</a:t>
            </a:r>
            <a:endParaRPr b="1" lang="en-US" sz="2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85640" y="4889520"/>
            <a:ext cx="41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Roberto IASEVOLI, EPO</a:t>
            </a:r>
            <a:br>
              <a:rPr sz="1800"/>
            </a:b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PC Implementation Group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754680" y="506880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25 February 2013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47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...} used to distinguish CPC text from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ing former USPC "XRAC's and digests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agging of emerging cross-sectional technologie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 IPC indexing cod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404b56"/>
                </a:solidFill>
                <a:latin typeface="Arial"/>
              </a:rPr>
              <a:t>a.k.a.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the 9th section of the schem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7640" y="1197000"/>
          <a:ext cx="7883640" cy="42879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224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deas over a 9th section of the IPC, to cover emerging technologies, cross-sectional in the sense that the new schemes would span over many schemes of the A-H sections, was explored at the time "Nanotech" was discussed in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Nanotech" was the trigger to have in ECLA the 9th section for tagging of emerging technologies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later Y01 (Nanotech) was moved to B82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7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9th section of the IPC could not be created because of the high IT impact on certain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 section stays in CPC for tagging of emerging cross-sectional technologi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ow includes also former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SPC XRAC's and digest (Y10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640" y="1023840"/>
          <a:ext cx="8148600" cy="5191200"/>
        </p:xfrm>
        <a:graphic>
          <a:graphicData uri="http://schemas.openxmlformats.org/drawingml/2006/table">
            <a:tbl>
              <a:tblPr/>
              <a:tblGrid>
                <a:gridCol w="4056120"/>
                <a:gridCol w="40924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"one click away" next to the IPC symbol they relate 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expected for all subclasses (except indexing schemes) and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-groups, at leas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currently available as XML/PDF files at subclass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IPC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espacenet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vailable also on USPTO classification resour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IPC subclasse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(except indexing ones)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urrently ~1/3 of the total is read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of CPC subclasses (except indexing ones) and main-groups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ll ready by mid 2013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7640" y="1197000"/>
          <a:ext cx="7883640" cy="17384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8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4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to structure information in the best w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mirrors the Template structur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which is almost identical to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is compatible with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What / where / how to classif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7640" y="1197000"/>
          <a:ext cx="7883640" cy="33814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IPC Guide provides the required information on the proper usage of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CPC Guide does not exist (yet)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the CPC follows IPC Guid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unless differently stated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contribution over the prior art; 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function-oriented vs. application-oriented places ...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ntribution over the prior art;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flect IPC practice to a very large extent, unless differently stated in the CPC Defini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7640" y="1197000"/>
          <a:ext cx="7883640" cy="35020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31719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master database for the IPC, collecting allocations sent by all offices worldwid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 is the authoritative source of the I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t also generates reclassification working lists (RWL) for all offices at each IPC revis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"dual master" database with synchronization, to ensure independence of operations of the two offices, while offering refreshed access to the shared alloca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 is the authoritative source of the C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abase "products" are not exported from CPC-DB but from the local databases, e.g. DOC-DB/XML is fed by DO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8880" y="5248440"/>
            <a:ext cx="8212320" cy="86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Dual master" databases with data synchroniz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PC-DB will be the authoritative source for CPC classification dat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0440" y="2003400"/>
            <a:ext cx="878544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database (CPC-DB)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7640" y="1197000"/>
          <a:ext cx="7883640" cy="9586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andard 8 (ST8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ased on ST8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from the IPC ST8 ...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7153200" y="362124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7151760" y="14493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580000" y="1484280"/>
            <a:ext cx="6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, Y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932360" y="5589720"/>
            <a:ext cx="122400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7129440" y="535320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7159680" y="42069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78520" y="4457880"/>
            <a:ext cx="179280" cy="1260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286240" y="42591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(cont'd)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... to the CPC on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4440" y="1125000"/>
            <a:ext cx="82710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Scheme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efinitions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hat / how / where to classif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7640" y="1197000"/>
          <a:ext cx="7883640" cy="490860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9255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early (ready 6 month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IPC/W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p to monthly (ready 6 week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CPC E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IPC IEF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CPC collaborative environ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322560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n français aussi !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all participating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 (Catchword Index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CPC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CL (CPC-IPC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ank you !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197000"/>
          <a:ext cx="7670880" cy="46213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172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4827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rasbourg Agree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014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0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invention" vs. "additional"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advanced" vs. "core"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classified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layer of the IPC (Definition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ilateral agreement EPO-USPTO for the launch of 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implified 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lassification in "full IPC" vs. "main-group only" instead of "advanced" vs. "core" leve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197000"/>
          <a:ext cx="7670880" cy="33415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244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59544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7th version of the I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st version of the C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Apr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M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I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25320" y="1197000"/>
          <a:ext cx="7905960" cy="3584520"/>
        </p:xfrm>
        <a:graphic>
          <a:graphicData uri="http://schemas.openxmlformats.org/drawingml/2006/table">
            <a:tbl>
              <a:tblPr/>
              <a:tblGrid>
                <a:gridCol w="4003920"/>
                <a:gridCol w="390204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Union members, under the supervision of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PO &amp; USP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CON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mittee of Experts (IPC/CE)</a:t>
                      </a: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yearly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Implementation Group (CPC IG) to hand over to CPC Joint Board (CPC JB) in operation phase (July 2013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physically or VICO) held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quarterly/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7640" y="1197000"/>
          <a:ext cx="7883640" cy="27590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visions are expected to take place year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revisions are expected to take place up to 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 Working Group (IPC/WG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twice a year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oint Editorial Board (EB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VICO) held week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7640" y="1197000"/>
          <a:ext cx="7883640" cy="21711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6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8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almost all of worldwide published patent documents after 1975 (entry in force of the Strasbourg Agreemen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minimum PCT documentation available in EN, FR, DE (and NL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whole of US patent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CPCNO allocations: EPO member states can send their allocations in CPC format, to retrieve them later in EPOQU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cheme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47640" y="1197000"/>
          <a:ext cx="8069400" cy="1985760"/>
        </p:xfrm>
        <a:graphic>
          <a:graphicData uri="http://schemas.openxmlformats.org/drawingml/2006/table">
            <a:tbl>
              <a:tblPr/>
              <a:tblGrid>
                <a:gridCol w="4016520"/>
                <a:gridCol w="40528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6556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I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7720" y="1135080"/>
          <a:ext cx="6411960" cy="520848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31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71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s a rule numbering starts at 101/00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3" marL="16765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C07D main groups start at 201/00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eb81195</dc:creator>
  <dc:description/>
  <cp:keywords>IPC</cp:keywords>
  <dc:language>en-US</dc:language>
  <cp:lastModifiedBy>Malanga</cp:lastModifiedBy>
  <dcterms:modified xsi:type="dcterms:W3CDTF">2013-02-25T13:53:19Z</dcterms:modified>
  <cp:revision>786</cp:revision>
  <dc:subject>IPC Workshop (2013) - IPC vs. CPC compared</dc:subject>
  <dc:title>IPC Workshop (2013) - IPC vs. CPC compared</dc:title>
</cp:coreProperties>
</file>