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82C-0B89-4784-A013-8B5CE96F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E41-0209-4CC4-AEC8-F16954EC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B58-27B2-41DF-A0B2-33D8F33F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DB3-539C-43E5-85FF-663E5A1D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974-8571-4DD4-A56B-0C1B4DE2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EE9-9C20-4E4C-A1FF-610169C6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45C-55EC-4126-8E29-49591875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626-5176-4888-AFE5-C47B38FA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A75-0C2A-4332-AEDD-860F3AB1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901-DAE7-4501-8CF5-8BEF8DE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CC1-9886-47D2-85D8-257191D3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540-EC6D-4F52-B168-EF110ED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1BC-586B-4B0C-BC92-E215C0EA1BB3}" type="datetime">
              <a:rPr b="0" lang="fr-CH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Presentation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D31D-1FDC-4EDB-83DF-65370710301E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 6" descr=""/>
          <p:cNvPicPr/>
          <p:nvPr/>
        </p:nvPicPr>
        <p:blipFill>
          <a:blip r:embed="rId2"/>
          <a:stretch/>
        </p:blipFill>
        <p:spPr>
          <a:xfrm>
            <a:off x="82440" y="44280"/>
            <a:ext cx="960480" cy="10810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5440" y="333360"/>
            <a:ext cx="6478560" cy="1295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tomatic Categoriz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Patent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space réservé du pied de page 2"/>
          <p:cNvSpPr/>
          <p:nvPr/>
        </p:nvSpPr>
        <p:spPr>
          <a:xfrm>
            <a:off x="2050920" y="6232680"/>
            <a:ext cx="540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f7f"/>
                </a:solidFill>
                <a:latin typeface="Calibri"/>
              </a:rPr>
              <a:t>Presentation to the 3rd IPC Workshop, WIPO, Feb. 25-26,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11280" y="1989000"/>
            <a:ext cx="82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ed for automatic categorization of patent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of automatic categor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automatic categorization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quick word about the IPCCAT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categorization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y to use an automatic categor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CCAT 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1765440" y="333360"/>
            <a:ext cx="6478560" cy="1008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Need for Automatic Categ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Patent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71640" y="1989000"/>
            <a:ext cx="7921440" cy="17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th in number of patent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2’140’600 patent applications worldwide in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Up from 1’050’700 in 1995 (more than doubled in 16 year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WIPO IP Indica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049040" y="3835440"/>
            <a:ext cx="617940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(and growing) number of IPC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631 Sub-Classes in IPC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7’392 Main Groups in IPC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IPCCAT Help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692360" y="404640"/>
            <a:ext cx="6621480" cy="5763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pose of Automatic Categ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2276640"/>
            <a:ext cx="8136000" cy="22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not be used as a fully automated categor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verage error rate at 5 to 10% at Class level, up to 20% or more at Main Group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atch classification is possible but requires downstream elimination of predictions which are below a given confidence thresh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8360" y="4724280"/>
            <a:ext cx="8424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her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sist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human exami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uggests most probable IPC categor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Interactions with the examiner (asking for more predictions at a different IPC level, forcing a given domain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68360" y="1527120"/>
            <a:ext cx="78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e patent application processing at Patent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1619280" y="333360"/>
            <a:ext cx="676764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es Automatic Categorization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4360" y="1557360"/>
            <a:ext cx="806436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 an artificial intelligence program to recognize typical examples for each IPC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ovide already-classified patents for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Essential: Balancing the number of examples across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more examples the bet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30240" y="3808440"/>
            <a:ext cx="7570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ubmit patent applications whose IPC categories are already know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lculate categorization accur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Quick Word About The IPCCAT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971640" y="2179800"/>
            <a:ext cx="75708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rictly statistic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o linguistic or other human-defined ru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o it is language independ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71640" y="47577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egorization algorithm: Neural Networks of the Winnow type, improved by Simple Shift with the help of W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971640" y="342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n adaptation of the indexing method to the various languages supported (English, French, Spanish) so as to process collocations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971640" y="5661000"/>
            <a:ext cx="74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ed through several competitions on the Internet (latest one : the CLEF-2010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71640" y="12304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PCCAT project was designed, managed and financed by WIPO from 2002 to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asuring Categorization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971640" y="1598760"/>
            <a:ext cx="7993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e really good we would only have to predict all the categories all the time! So we need two different rat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On all the predictions made, how many were corr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On all the correct categories which should have been predicted, how many did we actually fi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4292640"/>
            <a:ext cx="74865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diction accuracy is directly correlated 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number of categories at each IPC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number of available training documents for each categ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y To Use An Automatic Categor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26920" y="1706400"/>
            <a:ext cx="82090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don’t know which section or class is the most relevan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sk for a direct prediction at the finest possible level (Main Group); 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sk for a prediction at a coarser level (Class) and refine it down to Sub-Class, then to Main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26920" y="4100400"/>
            <a:ext cx="7848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know which section or class is the most relevan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ce a prediction under the relevant section or class (reduces the risk of erro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Refine the prediction at the next level(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CCAT 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28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38:55Z</dcterms:created>
  <dc:creator>Karim Benzineb</dc:creator>
  <dc:description/>
  <cp:keywords>IPC</cp:keywords>
  <dc:language>en-US</dc:language>
  <cp:lastModifiedBy>Malanga</cp:lastModifiedBy>
  <dcterms:modified xsi:type="dcterms:W3CDTF">2013-02-25T13:43:12Z</dcterms:modified>
  <cp:revision>39</cp:revision>
  <dc:subject>IPC Workshop (2013) - Automatic Categorization</dc:subject>
  <dc:title>IPC Workshop (2013) - Automatic Categorization</dc:title>
</cp:coreProperties>
</file>