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D02-EE8C-4135-A92C-270203EB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AD3-CC50-44DC-BA24-09EA714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500-20BB-4BE1-9049-872AEDDE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62F-02DF-4179-A65D-3E509710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94E-B993-4BF1-811A-570CEAF0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A1BF-0EB7-4B4A-98AA-5D645B3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EDE-2AE4-41A2-BF3C-7F310663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C499-960E-43E7-BD94-764920E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CFE-C46D-4154-AAC6-AD639C9E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B10E-8904-4995-9DFE-E1C3210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F92F-17E3-4FFF-A1B4-EAAC7DDA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4F0-48C5-4267-99E3-89DED34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E400-7C10-4263-B408-96EC9E2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939C-7FE8-491F-9771-5354ACC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79B3-4DE0-45C3-A261-D9A6256E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7DB-9FD6-4D80-9651-3384EDAE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5D03-0647-43CD-BD86-EBDA845E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6FC-E555-41AB-80BC-743B7AA8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C54-66AF-4B6E-9813-D7BE17A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3C4-871B-4113-9EF7-62974D6A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8F3-FBAA-40F3-B43A-C5F1D5BC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ECB-B87E-4602-9EEB-582DA96D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827-14BB-4978-AEA7-3CFB8B8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7F9-4ECB-431F-B6F6-A701AE77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F891-FB9E-434C-BC01-786C8E5BC7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C5AA-E36A-4C6C-886F-F02DCA496B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ent Classifications as ‘Knowledge’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towards a more conscious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auto)categorization of pa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anum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105520" cy="49845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ces in examiner’s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references in IPC, patent examiners may assign them differ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s mark overlapping subject matter are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fferences between selec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symbo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reform practice, simulate preclassif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1600200"/>
            <a:ext cx="4724280" cy="22860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143000"/>
            <a:ext cx="304920" cy="46483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581280" y="1228680"/>
            <a:ext cx="5105520" cy="5095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usion of autocategoriz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references in IPC, autocategorizers fail more frequ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symbol” may be selected different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fferences between selec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symb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n autocategorizer (2002 data, to simulate preclassif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1600200"/>
            <a:ext cx="4724280" cy="22860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1143000"/>
            <a:ext cx="304920" cy="46483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statistics in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classification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lassification autocategorization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similar characterist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gher levels of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be even more important on lower levels, having there more complex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an easier access to the rules maybe welcome both by human and machine categor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tion of IPC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nalysis and data preparation was performed as in-hous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relevant relation types (about 15 main relations and further ~20) (excerpts bel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sing IPC scheme, definitions, catchwords and R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relation graph in RDB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&gt;1.5 m re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presented on a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ible to RDF or OWL for further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referen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ransitive!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1/00 Hand tools (edge trimmers for lawns A01G 3/06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G 3/06 Hand-held edge trimmers or shears for lawns (mowers combined with lawn edger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01D 43/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precedenc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over 600 transitive cases, e.g A61M 3/00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61M 5/00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61M 36/00 [in definitions!]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24 Tractor-drawn ploughs (A01B 3/04 takes precedenc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04 Animal-drawn plough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limiting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N PRESERVATION OF BODIES…; BIOCIDES, e.g. AS DISINFECTANTS, AS PESTICIDES OR AS HERBICIDES; …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 Definitions for A01N subclas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gicidal, bactericidal, insecticidal, disinfecting or antiseptic paper D21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indexing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idance heading before A61K 101/00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cheme associated with group A61K 51/00, relating to the nature of the radioactive substa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lacerule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before A01N 25/00, even specifying an exception…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groups A01N 27/00-A01N 65/00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n the absence of an indication to the contra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 active ingredient is classified in the last appropriate pla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riorities (standardseq)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main groups in IPC where no place rule is appli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cooccurrenc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in catchwords: also the text of IPC mentions the reference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ING harvested crops A01D 43/10, A01D 82/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43/10 with means for crushing or bruising the mown crop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82/00 Crop conditioners, i.e. machines for crushing or bruising stalks (mowers combined with means for crushing or bruising the mown crop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01D 43/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tion of IPCInfo /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009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5567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eep reading if interes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athematical no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ed for audience not familiar with 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‘patent’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to)categorization ta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ulticlass hierarchic categorization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hierarchic taxonomy (a patent classification) with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set of training documents, each associated to multiple categor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or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xpert knowing both state of the art of the field and the tax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document, provide a list of potential categories (preferably with relev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ization level may be fixed (preclassification) or f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usual hierarchic categorization task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a hierarchic taxonomy (classification syst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list of taxonomy nodes (classification symbols) for a document that best match the subject matter of the taxonomy 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” is based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perts: understanding the subject mat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puters: providing the hierarchy, and training with sample categorized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patent classification task is somewhat more complicat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d considering classification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48117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nd the rules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‘patent’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to)categorization task, bu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regular multiclass hierarchic categorization tas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xonomy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fini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manuals or handbooks) and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vis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d therefo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between categories (rules of classification, e.g. last place rule, takes precede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ondary categori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non-primary categories (indexing codes, ‘not used as first symbol’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egories excluded for ‘final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tegorization (top levels of the hierarchy) bu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d in preclassific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ere secondary categories cannot be us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i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tada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priorities, inventor, applica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fields”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title, abstract, description, claim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fields are subject of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t categoriz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claims)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fields may be use just globally (abstract, descrip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s: subject matter of a symbol, classification rules and 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vided categories may require revision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xonomy can be revis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 regular intervals or immediate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 there is no more ‘main classification symbol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lassification may help to reduce the scope but requires handling fail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Hierarchic tax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onomy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y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ategory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∉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functio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⋃</a:t>
            </a:r>
            <a:r>
              <a:rPr b="0" i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unc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ing a non-directed tre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estor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, transitive closur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function (subcategories)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endant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transitive closure of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s of taxonomy (‘sections’)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{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∊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(r)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Patent tax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of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.g. ‘subclass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ing category level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ing categor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br>
              <a:rPr sz="2400"/>
            </a:b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l-G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∊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n-classifying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‾ 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‾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∖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tegory symbol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↔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i="1" lang="en-US" sz="24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nds for st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tegory sort relation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⇔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s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pplicable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Unicode MS"/>
                <a:ea typeface="Arial Unicode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interval: 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u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escendants form a contiguous interval, i.e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∀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)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)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19320" y="3657600"/>
            <a:ext cx="5790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category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 types: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→ (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∪</a:t>
            </a:r>
            <a:r>
              <a:rPr b="0" i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⊗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relations in a taxonomy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Old English Text M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⊂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☓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ll relations for a category: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→ (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ious relation types in hierarchies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ch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ances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descenda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⊂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defined as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ch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urther obvious relation: sibling (s), as child of parent (c)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Interval and set relations: union of the single-category form, e.g.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descend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({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,[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,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]}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 abbreviated as an interval or set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descend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= 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)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)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600200" y="3733920"/>
                <a:ext cx="4602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bling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⊗</m:t>
                                      </m:r>
                                    </m:sub>
                                  </m:sSub>
                                  <m:r>
                                    <m:t xml:space="preserve">|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⊗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∉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⊗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single ver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table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refe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tegory ‘refers’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ece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re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lim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ferences, very similar to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ece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index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mbols on an inter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edence relations on sib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lace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irst place rule or last place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io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blings prioritized by ‘standardized sequenc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occurr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references (commut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referen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y refer further!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1/00 Hand tools (edge trimmers for lawns A01G 3/06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G 3/06 Hand-held edge trimmers or shears for lawns (mowers combined with lawn edger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01D 43/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precedenc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24 Tractor-drawn ploughs (A01B 3/04 takes precedence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04 Animal-drawn plough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limiting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N PRESERVATION OF BODIES…; BIOCIDES, e.g. AS DISINFECTANTS, AS PESTICIDES OR AS HERBICIDES; …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 Definitions for A01N subclas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gicidal, bactericidal, insecticidal, disinfecting or antiseptic paper D21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indexing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idance heading before A61K 101/00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cheme associated with group A61K 51/00, relating to the nature of the radioactive substa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lacerule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before A01N 25/00, even specifying an exception…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groups A01N 27/00-A01N 65/00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n the absence of an indication to the contra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 active ingredient is classified in the last appropriate pla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riorities (stand.seq.)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 groups in IPC where no place rule is appli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cooccurrenc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catchwords: also the text of IPC mentions the reference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ING harvested crops A01D 43/10, A01D 82/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43/10 with means for crushing or bruising the mown crop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82/00 Crop conditioners, i.e. machines for crushing or bruising stalks (mowers combined with means for crushing or bruising the mown crop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01D 43/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ver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nt taxonomies change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er category (or a set) may b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red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ingle or a set of new categories or, it is recognized that the subject matter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vered 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ingle or set of existing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newer version, all the categories which are associated to a single or a set of former categories, are in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ncord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ncord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on may be computed by transitive traversing category changes over multiple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ordance relation s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1: B24B 49/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ing or gauging equipment for controlling the feed movement of the grinding tool or work; Arrangements of indicating or measuring equipment, e.g. for indicating the start of the grinding opera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2: B24B 49/00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24B 37/005 - 37/015, B24B 49/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05 . Control means for lapping machines or devic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13 . . Devices or means for detecting lapping comple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15 . . Temperature control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24B 49/00 Measuring or gauging equipment for controlling the feed movement of the grinding tool or work; Arrangements of indicating or measuring equipment, e.g. for indicating the start of the grinding operation ( B24B 33/06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, B24B 37/005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takes precedence; if applicable to other machine tools, B23Q 15/00-B23Q 17/00 take prece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relations on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eighted directed graph can be built between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ever an ‘oracle’ (e.g. a flat categorizer, a fielded search etc.) proposes a category, related categories must be evaluated and verified, may be, in a given order, considering also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may also benefit from knowing,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of evaluation, e.g. standardized sequences, priority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nhance a good hit or suppress a false h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co-classifi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 methods of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447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1981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31608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6440" y="16765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(sec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7880" y="220968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classify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‘preclassification’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400" y="1828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38960" y="1876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182880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24816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46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28195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77204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53280" y="251460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62904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32767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07696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447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81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1608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066680" y="1828800"/>
            <a:ext cx="533520" cy="380880"/>
          </a:xfrm>
          <a:prstGeom prst="line">
            <a:avLst/>
          </a:prstGeom>
          <a:ln w="93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76240" y="1876320"/>
            <a:ext cx="0" cy="30492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828800"/>
            <a:ext cx="533160" cy="30492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440" y="25146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5146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209680" y="25146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5146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066680" y="327672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327672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14240" y="327672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27672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24816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4267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4267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71240" y="38862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8862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724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st is the winner on eac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8769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dy hierarchi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ersing down on best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505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raining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781680" y="30477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248520" y="3505320"/>
            <a:ext cx="533160" cy="380880"/>
            <a:chOff x="6248520" y="3505320"/>
            <a:chExt cx="533160" cy="380880"/>
          </a:xfrm>
        </p:grpSpPr>
        <p:sp>
          <p:nvSpPr>
            <p:cNvPr id="238" name=""/>
            <p:cNvSpPr/>
            <p:nvPr/>
          </p:nvSpPr>
          <p:spPr>
            <a:xfrm>
              <a:off x="6248520" y="3505320"/>
              <a:ext cx="53316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24480" y="3505320"/>
              <a:ext cx="3812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4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 features of patent classification sche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ed subject matter of a higher level contains subject matter of a lower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: may be assigned to a higher level when none of the lower levels f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nodes (symbols) cannot be used (in general or alone) for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archy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chem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s contain specific rules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between symb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/ priority / precedence / limiting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s to symbols to be taken in consid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s given in the scheme are extended by definitions / manuals of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s can be multiling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by various offices, cultures (maybe slightly different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relations in patent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1981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828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2362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354168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33560" y="2209680"/>
            <a:ext cx="5331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43480" y="22575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20968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35268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2004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3356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81480" y="365760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1981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4572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52680" y="42670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42670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52578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archic, rules, 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290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09880" y="3428640"/>
            <a:ext cx="762120" cy="609480"/>
          </a:xfrm>
          <a:prstGeom prst="line">
            <a:avLst/>
          </a:prstGeom>
          <a:ln w="1584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3581280"/>
            <a:ext cx="1524240" cy="304920"/>
          </a:xfrm>
          <a:prstGeom prst="wedgeRectCallout">
            <a:avLst>
              <a:gd name="adj1" fmla="val 142814"/>
              <a:gd name="adj2" fmla="val -2213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place r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4572000"/>
            <a:ext cx="1981080" cy="304920"/>
          </a:xfrm>
          <a:prstGeom prst="wedgeRectCallout">
            <a:avLst>
              <a:gd name="adj1" fmla="val -89824"/>
              <a:gd name="adj2" fmla="val -346875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kes prece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5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199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02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4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 (more) formal analysis and presentation is advantageo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: the rules a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ed as tex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ous master 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achine-readable but not machine-interpretable way (it is ‘content’ but not yet ‘knowledg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complex rules spread ov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e.g. definitions) and places (e.g. reverse refere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for humans and computer programs, it causes trouble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 and app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the rules syste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worth then to convert IPC content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xplicit IPC ‘knowledge’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were ma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verify conf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ent exam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various autocategoriz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are in correlation to relations given in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references in IPC: higher overlap between subject matter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in IPC between two area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gher the confusion of humans and comp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nowledge coded in IPC is, indeed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patent categor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ing the 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patent examiners take seriously references in I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between two symbols, the higher number of co-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between two offices can b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in IPC, the higher likelihood of differen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ion of autocategori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ailures if subject matter area is overl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ategorization vs. IPC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 are references in IPC, patent examiners take them seriou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s mark overlapping subject matter area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/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s propose the use of secondary (indexing) symb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frequency of common use of symbols of both classes in paten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581280" y="1219320"/>
            <a:ext cx="5029200" cy="5014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1600200"/>
            <a:ext cx="533160" cy="15228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1143000"/>
            <a:ext cx="228600" cy="5335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0:34:59Z</dcterms:created>
  <dc:creator>Attila Torcsvari</dc:creator>
  <dc:description/>
  <cp:keywords>IPC</cp:keywords>
  <dc:language>en-US</dc:language>
  <cp:lastModifiedBy>Malanga</cp:lastModifiedBy>
  <dcterms:modified xsi:type="dcterms:W3CDTF">2013-02-25T13:34:39Z</dcterms:modified>
  <cp:revision>7</cp:revision>
  <dc:subject>IPC Workshop (2013) - Patent Classifications as “Knowledge”  …towards a more conscious (auto)categorization of patents</dc:subject>
  <dc:title>IPC Workshop (2013) - Patent Classifications as “Knowledge”  …towards a more conscious (auto)categorization of patents</dc:title>
</cp:coreProperties>
</file>