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5A18-8674-44B7-A4A5-06F56DE3A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tex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for balancing moving parts; elements for damping the movement of parts; elements for restraining or preventing the movement of parts, e.g. for zeroising; caging devices for moving parts when not in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01D 11/08 – G01D 11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ve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is drawn to the following places, which may be of interest for sear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for absorbing shock or damping vib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ression of vibrations i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 15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B05D-520C-4158-9C02-18F46F1C8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E1B7-EF25-40FB-B2EA-103398EEA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2C16-91EA-4DA7-B773-B86DC8AA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A383-D008-4E24-9FC6-A95E8E7A5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D5D1-4ECA-4D5D-8AE5-1C271CA22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1D1C-216F-4A8C-969F-0859E8FB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C0AF-36B5-4C06-A94C-420BC65A1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2297-CA8D-462E-886F-E642BFDDF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9BE1-6C07-48EB-B09C-759C8CC27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2FF7-18D1-45E7-BF5B-29263C119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DC49-081B-4C36-B09A-1B2DB9056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09B9-D052-4B21-BAEC-F0FEB0420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B4B28-2AB7-4C69-8C4C-7794C98FC21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runo.Pouliquen@wipo.int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tentscope.wipo.int/translate/simpleTranslate.jsf?id=JP75694586&amp;langpair=jaen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patentscope.wipo.int/translateUN/translateIPC.jsf" TargetMode="External"/><Relationship Id="rId4" Type="http://schemas.openxmlformats.org/officeDocument/2006/relationships/hyperlink" Target="http://patentscope.wipo.int/translateUN/translateIPC.jsf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0000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Tapta4IPC: 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helping translation of IPC defini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04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Bruno Pouliquen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ヒラギノ角ゴ Pro W3"/>
                <a:hlinkClick r:id="rId2"/>
              </a:rPr>
              <a:t>Bruno.Pouliquen@wipo.int</a:t>
            </a: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83360" y="6408720"/>
            <a:ext cx="252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25 feb 2013, IPC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319640"/>
            <a:ext cx="823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ranslation assistant for patent titles and abstracts in PATENTSCOPE - potential use in translating IPC definition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6360" y="533520"/>
            <a:ext cx="177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59720" y="863640"/>
            <a:ext cx="1904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8400" y="863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ttp://fulty3.wipo.int:8080/Wtapta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6608880" cy="337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826920" y="230508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nclusion / future work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rototype, but the quality looks alread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ntegrate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A6TRANSDE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angu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4IPC in various languag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ta4IPC should work reasonably well on the following languages (we have built some language specific tools and we have patent corpor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ch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ech, Slovak, Polish (many word forms, training corpu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n (even more word forms, would in theory require more training cor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languages: Arabic, Italian, Danish, Swedish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050560" y="2058480"/>
            <a:ext cx="5699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شكرا لكم على اهتمامك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rci pour votre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per la vostra attenzi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¡ Gracias por su atenció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Vielen Dank für Ihre Aufmerksamkeit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rigado pela vossa atençã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ziękuję bardzo za Państwa uwagę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ěkujeme za Vaši pozorn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Ďakujem ti veľmi pekne za tvoju pozornos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änan tähelepanu e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лагодарим за Вашето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k for Jeres opmærksomh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nk you for 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299999993294478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920" y="907920"/>
            <a:ext cx="7560720" cy="947520"/>
            <a:chOff x="250920" y="907920"/>
            <a:chExt cx="7560720" cy="947520"/>
          </a:xfrm>
        </p:grpSpPr>
        <p:sp>
          <p:nvSpPr>
            <p:cNvPr id="99" name=""/>
            <p:cNvSpPr/>
            <p:nvPr/>
          </p:nvSpPr>
          <p:spPr>
            <a:xfrm>
              <a:off x="581760" y="921960"/>
              <a:ext cx="72298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stical Machine Translation: bottom-up appro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rules, no grammar, no dictionary, no terminology, only the parallel texts (bitexts)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720" y="907920"/>
              <a:ext cx="164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50920" y="1015560"/>
              <a:ext cx="257760" cy="2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495360" y="2733840"/>
            <a:ext cx="8227800" cy="947160"/>
            <a:chOff x="495360" y="2733840"/>
            <a:chExt cx="8227800" cy="947160"/>
          </a:xfrm>
        </p:grpSpPr>
        <p:sp>
          <p:nvSpPr>
            <p:cNvPr id="103" name=""/>
            <p:cNvSpPr/>
            <p:nvPr/>
          </p:nvSpPr>
          <p:spPr>
            <a:xfrm>
              <a:off x="855720" y="2747880"/>
              <a:ext cx="786744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an open-source system: Mo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120" y="2733840"/>
              <a:ext cx="1792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495360" y="2839680"/>
              <a:ext cx="280800" cy="26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85640" y="3886200"/>
            <a:ext cx="7181640" cy="1702800"/>
            <a:chOff x="485640" y="3886200"/>
            <a:chExt cx="7181640" cy="1702800"/>
          </a:xfrm>
        </p:grpSpPr>
        <p:sp>
          <p:nvSpPr>
            <p:cNvPr id="107" name=""/>
            <p:cNvSpPr/>
            <p:nvPr/>
          </p:nvSpPr>
          <p:spPr>
            <a:xfrm>
              <a:off x="799920" y="3908520"/>
              <a:ext cx="686736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pta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slation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ten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les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str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ly built to translate patent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apted to various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3880" y="3886200"/>
              <a:ext cx="15660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85640" y="4077000"/>
              <a:ext cx="24516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457200" y="-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499520" y="2197080"/>
            <a:ext cx="1033200" cy="16635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308720" y="692280"/>
            <a:ext cx="1582920" cy="1368360"/>
            <a:chOff x="7308720" y="692280"/>
            <a:chExt cx="1582920" cy="1368360"/>
          </a:xfrm>
        </p:grpSpPr>
        <p:sp>
          <p:nvSpPr>
            <p:cNvPr id="113" name=""/>
            <p:cNvSpPr/>
            <p:nvPr/>
          </p:nvSpPr>
          <p:spPr>
            <a:xfrm>
              <a:off x="7308720" y="692280"/>
              <a:ext cx="1582920" cy="1368360"/>
            </a:xfrm>
            <a:prstGeom prst="triangle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3640" y="1339920"/>
              <a:ext cx="433440" cy="360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17719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12000" y="10652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5373720"/>
            <a:ext cx="928800" cy="103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564000" y="5373720"/>
            <a:ext cx="1152360" cy="9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54772" t="0" r="0" b="0"/>
          <a:stretch/>
        </p:blipFill>
        <p:spPr>
          <a:xfrm>
            <a:off x="2411280" y="5157720"/>
            <a:ext cx="10130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795920"/>
            <a:ext cx="7920000" cy="1557360"/>
          </a:xfrm>
          <a:prstGeom prst="rightArrow">
            <a:avLst>
              <a:gd name="adj1" fmla="val 87972"/>
              <a:gd name="adj2" fmla="val 57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4080" y="3235320"/>
            <a:ext cx="6524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 prepares the data for Moses, apply some post-processing (filter, pruning, binarization, optimization…) and offers a Web interface to trans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400" y="3213000"/>
            <a:ext cx="1494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6920" y="5021280"/>
            <a:ext cx="792360" cy="987480"/>
            <a:chOff x="826920" y="5021280"/>
            <a:chExt cx="792360" cy="987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63640" y="5021280"/>
              <a:ext cx="755640" cy="75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5732280"/>
              <a:ext cx="64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47640" y="5011560"/>
            <a:ext cx="792360" cy="974880"/>
            <a:chOff x="1547640" y="5011560"/>
            <a:chExt cx="792360" cy="97488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1547640" y="501156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47640" y="580356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-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68360" y="4940280"/>
            <a:ext cx="792360" cy="1190880"/>
            <a:chOff x="2268360" y="4940280"/>
            <a:chExt cx="792360" cy="119088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2378160" y="4940280"/>
              <a:ext cx="609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268360" y="5948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-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59280" y="5011560"/>
            <a:ext cx="865080" cy="903600"/>
            <a:chOff x="3059280" y="5011560"/>
            <a:chExt cx="865080" cy="90360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059280" y="50115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32000" y="5732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t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280" y="4940280"/>
            <a:ext cx="863640" cy="1046520"/>
            <a:chOff x="3851280" y="4940280"/>
            <a:chExt cx="863640" cy="1046520"/>
          </a:xfrm>
        </p:grpSpPr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3851280" y="4940280"/>
              <a:ext cx="863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140360" y="5803920"/>
              <a:ext cx="4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u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88000" y="4940280"/>
            <a:ext cx="863640" cy="1046520"/>
            <a:chOff x="4788000" y="4940280"/>
            <a:chExt cx="863640" cy="104652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4788000" y="4940280"/>
              <a:ext cx="8269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32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na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506920" y="4940280"/>
            <a:ext cx="1008360" cy="1046520"/>
            <a:chOff x="5506920" y="4940280"/>
            <a:chExt cx="1008360" cy="104652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506920" y="4940280"/>
              <a:ext cx="100836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724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m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89800" y="4900680"/>
            <a:ext cx="1077840" cy="1154160"/>
            <a:chOff x="6589800" y="4900680"/>
            <a:chExt cx="1077840" cy="1154160"/>
          </a:xfrm>
        </p:grpSpPr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6589800" y="4900680"/>
              <a:ext cx="1077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04000" y="587196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flipV="1" rot="16200000">
            <a:off x="5794920" y="1988640"/>
            <a:ext cx="1081080" cy="790560"/>
          </a:xfrm>
          <a:custGeom>
            <a:avLst/>
            <a:gdLst>
              <a:gd name="textAreaLeft" fmla="*/ -360 w 1081080"/>
              <a:gd name="textAreaRight" fmla="*/ 1081080 w 108108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90640" y="981000"/>
            <a:ext cx="3796560" cy="2366280"/>
            <a:chOff x="1790640" y="981000"/>
            <a:chExt cx="3796560" cy="2366280"/>
          </a:xfrm>
        </p:grpSpPr>
        <p:grpSp>
          <p:nvGrpSpPr>
            <p:cNvPr id="151" name=""/>
            <p:cNvGrpSpPr/>
            <p:nvPr/>
          </p:nvGrpSpPr>
          <p:grpSpPr>
            <a:xfrm>
              <a:off x="1790640" y="981000"/>
              <a:ext cx="3796560" cy="2366280"/>
              <a:chOff x="1790640" y="981000"/>
              <a:chExt cx="3796560" cy="23662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571280" y="981000"/>
                <a:ext cx="1015920" cy="2366280"/>
                <a:chOff x="4571280" y="981000"/>
                <a:chExt cx="1015920" cy="2366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572000" y="981000"/>
                  <a:ext cx="1008000" cy="936720"/>
                </a:xfrm>
                <a:prstGeom prst="can">
                  <a:avLst>
                    <a:gd name="adj" fmla="val 25000"/>
                  </a:avLst>
                </a:prstGeom>
                <a:noFill/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1280" y="1216080"/>
                  <a:ext cx="1015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langu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70280" y="3009960"/>
                  <a:ext cx="792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itex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2987640" y="1773360"/>
                <a:ext cx="1419120" cy="492120"/>
              </a:xfrm>
              <a:prstGeom prst="rightArrow">
                <a:avLst>
                  <a:gd name="adj1" fmla="val 50000"/>
                  <a:gd name="adj2" fmla="val 72092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16360" y="2265480"/>
                <a:ext cx="1584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ther/convert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90640" y="1197000"/>
                <a:ext cx="647640" cy="647640"/>
              </a:xfrm>
              <a:prstGeom prst="verticalScroll">
                <a:avLst>
                  <a:gd name="adj" fmla="val 125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90640" y="1916280"/>
                <a:ext cx="79056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790640" y="2708280"/>
                <a:ext cx="647640" cy="504720"/>
              </a:xfrm>
              <a:prstGeom prst="flowChartMagneticDisk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565520" y="1969920"/>
              <a:ext cx="100836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4800" y="22050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: Tapt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PO, as part of Patentscop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glish,French,German,Chinese,Japane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atentscope.wipo.int/translate/simpleTranslate.jsf?id=JP75694586&amp;langpair=ja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translation of a patent application only available in Japanes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ited N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lish from/into Arabic,French,Spanish,Russian &amp; Chines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2886120"/>
            <a:ext cx="7151760" cy="104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080" y="4334040"/>
            <a:ext cx="4364280" cy="2479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-36360" y="5694480"/>
            <a:ext cx="9180360" cy="83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rcRect l="54772" t="0" r="0" b="0"/>
          <a:stretch/>
        </p:blipFill>
        <p:spPr>
          <a:xfrm>
            <a:off x="0" y="1844640"/>
            <a:ext cx="422280" cy="619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3973680"/>
            <a:ext cx="539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echnical workflo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64000" y="5230800"/>
            <a:ext cx="2951280" cy="719280"/>
            <a:chOff x="5364000" y="5230800"/>
            <a:chExt cx="2951280" cy="719280"/>
          </a:xfrm>
        </p:grpSpPr>
        <p:sp>
          <p:nvSpPr>
            <p:cNvPr id="173" name=""/>
            <p:cNvSpPr/>
            <p:nvPr/>
          </p:nvSpPr>
          <p:spPr>
            <a:xfrm>
              <a:off x="5364000" y="5230800"/>
              <a:ext cx="2951280" cy="7192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2840" y="537372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oses’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3880" y="1628640"/>
            <a:ext cx="816120" cy="360360"/>
          </a:xfrm>
          <a:prstGeom prst="rightArrow">
            <a:avLst>
              <a:gd name="adj1" fmla="val 50000"/>
              <a:gd name="adj2" fmla="val 56618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72428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2600000">
            <a:off x="4948200" y="581292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32360" y="4149720"/>
            <a:ext cx="1225440" cy="1008000"/>
            <a:chOff x="4932360" y="4149720"/>
            <a:chExt cx="1225440" cy="1008000"/>
          </a:xfrm>
        </p:grpSpPr>
        <p:sp>
          <p:nvSpPr>
            <p:cNvPr id="179" name=""/>
            <p:cNvSpPr/>
            <p:nvPr/>
          </p:nvSpPr>
          <p:spPr>
            <a:xfrm>
              <a:off x="4932360" y="4149720"/>
              <a:ext cx="1225440" cy="10080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2360" y="4437000"/>
              <a:ext cx="115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hrase 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372360" y="4149720"/>
            <a:ext cx="1439640" cy="936720"/>
            <a:chOff x="6372360" y="4149720"/>
            <a:chExt cx="1439640" cy="936720"/>
          </a:xfrm>
        </p:grpSpPr>
        <p:sp>
          <p:nvSpPr>
            <p:cNvPr id="182" name=""/>
            <p:cNvSpPr/>
            <p:nvPr/>
          </p:nvSpPr>
          <p:spPr>
            <a:xfrm>
              <a:off x="6443640" y="4149720"/>
              <a:ext cx="122508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236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ordering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6156360" y="5013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788000" y="2421000"/>
            <a:ext cx="4358160" cy="1295280"/>
            <a:chOff x="4788000" y="2421000"/>
            <a:chExt cx="4358160" cy="1295280"/>
          </a:xfrm>
        </p:grpSpPr>
        <p:sp>
          <p:nvSpPr>
            <p:cNvPr id="186" name=""/>
            <p:cNvSpPr/>
            <p:nvPr/>
          </p:nvSpPr>
          <p:spPr>
            <a:xfrm>
              <a:off x="6443640" y="2421000"/>
              <a:ext cx="812880" cy="815760"/>
            </a:xfrm>
            <a:prstGeom prst="pie">
              <a:avLst/>
            </a:prstGeom>
            <a:solidFill>
              <a:srgbClr val="ffff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788000" y="3355920"/>
              <a:ext cx="1295640" cy="360360"/>
              <a:chOff x="4788000" y="3355920"/>
              <a:chExt cx="129564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788000" y="3355920"/>
                <a:ext cx="129528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5748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300720" y="3355920"/>
              <a:ext cx="1296000" cy="360360"/>
              <a:chOff x="6300720" y="3355920"/>
              <a:chExt cx="1296000" cy="360360"/>
            </a:xfrm>
          </p:grpSpPr>
          <p:sp>
            <p:nvSpPr>
              <p:cNvPr id="191" name=""/>
              <p:cNvSpPr/>
              <p:nvPr/>
            </p:nvSpPr>
            <p:spPr>
              <a:xfrm>
                <a:off x="6300720" y="3355920"/>
                <a:ext cx="129564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056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850160" y="3355920"/>
              <a:ext cx="1295280" cy="36036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0000" y="342900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oses deco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9120" y="2479680"/>
              <a:ext cx="1441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52600" y="5084640"/>
          <a:ext cx="4251240" cy="1447560"/>
        </p:xfrm>
        <a:graphic>
          <a:graphicData uri="http://schemas.openxmlformats.org/drawingml/2006/table">
            <a:tbl>
              <a:tblPr/>
              <a:tblGrid>
                <a:gridCol w="1890720"/>
                <a:gridCol w="2360520"/>
              </a:tblGrid>
              <a:tr h="199440"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trengthening of forum for human dignity : legal a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ortalecimiento del foro para la dignidad humana – asistenci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ust respect all aspects of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be respetar todos los aspectos d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hould fully respect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e deben respetar plenament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397400" y="115920"/>
            <a:ext cx="4746600" cy="2665440"/>
            <a:chOff x="4397400" y="115920"/>
            <a:chExt cx="4746600" cy="2665440"/>
          </a:xfrm>
        </p:grpSpPr>
        <p:sp>
          <p:nvSpPr>
            <p:cNvPr id="198" name=""/>
            <p:cNvSpPr/>
            <p:nvPr/>
          </p:nvSpPr>
          <p:spPr>
            <a:xfrm>
              <a:off x="4397400" y="15559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643280" y="115920"/>
              <a:ext cx="12211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149800" y="2205000"/>
              <a:ext cx="287280" cy="576360"/>
            </a:xfrm>
            <a:prstGeom prst="upDownArrow">
              <a:avLst>
                <a:gd name="adj1" fmla="val 50000"/>
                <a:gd name="adj2" fmla="val 39939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rcRect l="7921" t="15443" r="51213" b="31265"/>
            <a:stretch/>
          </p:blipFill>
          <p:spPr>
            <a:xfrm>
              <a:off x="5810400" y="496800"/>
              <a:ext cx="3333600" cy="15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7740720" y="4149720"/>
            <a:ext cx="1439640" cy="936720"/>
            <a:chOff x="7740720" y="4149720"/>
            <a:chExt cx="1439640" cy="936720"/>
          </a:xfrm>
        </p:grpSpPr>
        <p:sp>
          <p:nvSpPr>
            <p:cNvPr id="203" name=""/>
            <p:cNvSpPr/>
            <p:nvPr/>
          </p:nvSpPr>
          <p:spPr>
            <a:xfrm>
              <a:off x="7812000" y="4149720"/>
              <a:ext cx="122544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072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anguage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804000" y="378936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40000" y="1125360"/>
            <a:ext cx="1511280" cy="3456000"/>
            <a:chOff x="2340000" y="1125360"/>
            <a:chExt cx="1511280" cy="3456000"/>
          </a:xfrm>
        </p:grpSpPr>
        <p:grpSp>
          <p:nvGrpSpPr>
            <p:cNvPr id="207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08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411280" y="2349360"/>
              <a:ext cx="1224000" cy="502920"/>
              <a:chOff x="2411280" y="2349360"/>
              <a:chExt cx="1224000" cy="502920"/>
            </a:xfrm>
          </p:grpSpPr>
          <p:sp>
            <p:nvSpPr>
              <p:cNvPr id="211" name=""/>
              <p:cNvSpPr/>
              <p:nvPr/>
            </p:nvSpPr>
            <p:spPr>
              <a:xfrm>
                <a:off x="2411280" y="2349360"/>
                <a:ext cx="1224000" cy="50292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11280" y="2493720"/>
                <a:ext cx="12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Tokeniz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340000" y="3500280"/>
              <a:ext cx="1224000" cy="542880"/>
              <a:chOff x="2340000" y="3500280"/>
              <a:chExt cx="1224000" cy="542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340000" y="3500280"/>
                <a:ext cx="1224000" cy="5029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11280" y="3644640"/>
                <a:ext cx="107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core align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17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411280" y="1773000"/>
              <a:ext cx="1224000" cy="503280"/>
              <a:chOff x="2411280" y="1773000"/>
              <a:chExt cx="1224000" cy="503280"/>
            </a:xfrm>
          </p:grpSpPr>
          <p:sp>
            <p:nvSpPr>
              <p:cNvPr id="220" name=""/>
              <p:cNvSpPr/>
              <p:nvPr/>
            </p:nvSpPr>
            <p:spPr>
              <a:xfrm>
                <a:off x="2411280" y="177300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84360" y="191736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entence-spli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708360" y="1341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08360" y="198900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8360" y="2565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08360" y="314136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08360" y="371772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2925360"/>
              <a:ext cx="1326960" cy="503280"/>
              <a:chOff x="2340000" y="2925360"/>
              <a:chExt cx="1326960" cy="503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9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40000" y="3070080"/>
                <a:ext cx="132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Sentence-al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904320" y="652464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texts aligned at senten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4560" y="907920"/>
            <a:ext cx="1022040" cy="2365920"/>
            <a:chOff x="394560" y="907920"/>
            <a:chExt cx="1022040" cy="2365920"/>
          </a:xfrm>
        </p:grpSpPr>
        <p:grpSp>
          <p:nvGrpSpPr>
            <p:cNvPr id="238" name=""/>
            <p:cNvGrpSpPr/>
            <p:nvPr/>
          </p:nvGrpSpPr>
          <p:grpSpPr>
            <a:xfrm>
              <a:off x="400680" y="907920"/>
              <a:ext cx="1015920" cy="2365920"/>
              <a:chOff x="400680" y="907920"/>
              <a:chExt cx="1015920" cy="2365920"/>
            </a:xfrm>
          </p:grpSpPr>
          <p:sp>
            <p:nvSpPr>
              <p:cNvPr id="239" name=""/>
              <p:cNvSpPr/>
              <p:nvPr/>
            </p:nvSpPr>
            <p:spPr>
              <a:xfrm>
                <a:off x="401400" y="907920"/>
                <a:ext cx="1007640" cy="936360"/>
              </a:xfrm>
              <a:prstGeom prst="can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0680" y="1142640"/>
                <a:ext cx="1015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br>
                  <a:rPr sz="1600"/>
                </a:b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9320" y="293652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Bitex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5280" y="1896840"/>
              <a:ext cx="100800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213192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0"/>
            <a:ext cx="48434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IPC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21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isting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PC schema (xml on WIPO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few” texts from pa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” trans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new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Get existing data, build parallel tex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4920" y="1584360"/>
            <a:ext cx="4753080" cy="217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280120" cy="222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34920" y="4067280"/>
            <a:ext cx="540216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E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 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Wheel guard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9080" y="5850000"/>
            <a:ext cx="556524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/2013/0145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YRE FOR VEHICLE WHEE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NEUMATIQUE POUR ROUES DE VÉHI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1080" y="378936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sche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0560" y="55371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tex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03880" y="4060800"/>
            <a:ext cx="41288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F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Couvre-roue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4653000"/>
            <a:ext cx="108108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4724280"/>
            <a:ext cx="122544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57336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50028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6093000"/>
            <a:ext cx="338472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6453360"/>
            <a:ext cx="5040360" cy="404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133720"/>
            <a:ext cx="658656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11280" y="1989000"/>
          <a:ext cx="6551640" cy="1224000"/>
        </p:xfrm>
        <a:graphic>
          <a:graphicData uri="http://schemas.openxmlformats.org/drawingml/2006/table">
            <a:tbl>
              <a:tblPr/>
              <a:tblGrid>
                <a:gridCol w="2598840"/>
                <a:gridCol w="395280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 gu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vre-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yre for vehicle 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neumatique pour roues de véhi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687960" y="12034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defini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1700280"/>
            <a:ext cx="316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ext: training mater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17000">
            <a:off x="1834920" y="2852640"/>
            <a:ext cx="5745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How well it works?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844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evaluation: BLEU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 : similarity of n-grams between evaluated and referenc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IPC definition English-Frenc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u=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out patent data: 4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25640" y="435780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763640" y="443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763640" y="486900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925640" y="479736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human post-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9440" y="1198440"/>
            <a:ext cx="6608880" cy="3372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79480" y="5248440"/>
            <a:ext cx="5997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demo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atentscope.wipo.int/translateUN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7:04:21Z</dcterms:created>
  <dc:creator>Bruno Pouliquen</dc:creator>
  <dc:description/>
  <cp:keywords>IPC</cp:keywords>
  <dc:language>en-US</dc:language>
  <cp:lastModifiedBy>Malanga</cp:lastModifiedBy>
  <dcterms:modified xsi:type="dcterms:W3CDTF">2013-02-25T18:54:54Z</dcterms:modified>
  <cp:revision>47</cp:revision>
  <dc:subject>IPC Workshop (2013) - Tapta4IPC:  helping translation of IPC definitions</dc:subject>
  <dc:title>IPC Workshop (2013) - Tapta4IPC:  helping translation of IPC definitions</dc:title>
</cp:coreProperties>
</file>