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AFFF-F0AE-46DA-AC06-7B527B6B8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A6FD-3934-4628-9B34-D3D6690E8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3935-DED6-4FC1-AA7E-67BCF8AA8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A248-90C1-48B7-A7BC-6BA3499D2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1969-99EC-4456-9588-23081EA74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A02B-8585-4F07-BA3B-C5C40D9E0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1A64-ECDC-4B49-85D7-A85EBCA39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EDDC-1A25-47A7-B8F4-7BF52D278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A740-FE7B-4ACD-87E2-21C6244AF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7495-2635-4AA7-B88D-629FB037A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8737-AC7D-41A7-852F-CA766E62C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4899-D572-4176-AFA9-37032EE8B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65B5-BF20-4D02-9F3A-8886FBDBB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ipo.int/ripcis/index.htm" TargetMode="External"/><Relationship Id="rId3" Type="http://schemas.openxmlformats.org/officeDocument/2006/relationships/hyperlink" Target="http://www.wipo.int/ipcpub" TargetMode="External"/><Relationship Id="rId4" Type="http://schemas.openxmlformats.org/officeDocument/2006/relationships/hyperlink" Target="http://www.wipo.int/ipc-ief/" TargetMode="External"/><Relationship Id="rId5" Type="http://schemas.openxmlformats.org/officeDocument/2006/relationships/hyperlink" Target="http://www.wipo.int/ipc/itos4ipc/ITSupport_and_download_area/20130101/pdf/scheme/full_ipc/eindex.html" TargetMode="External"/><Relationship Id="rId6" Type="http://schemas.openxmlformats.org/officeDocument/2006/relationships/hyperlink" Target="http://www.wipo.int/classifications/ipc/en/ITsupport/Version20130101/transformations/viewer/index.htm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wipo.int/ipc-ief/" TargetMode="External"/><Relationship Id="rId4" Type="http://schemas.openxmlformats.org/officeDocument/2006/relationships/hyperlink" Target="http://www.wipo.int/ipc-ief/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wipo.int/ipcpub/shared/htm/help_EN.htm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hyperlink" Target="http://www.wipo.int/classifications/ipc/en/ITsupport/prototypes/index.html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8960" y="3103560"/>
            <a:ext cx="6521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ird IPC Workshop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T tools and illustrating materials in the IP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5-26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83680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CAT web service architectur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844640"/>
            <a:ext cx="2592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2920" y="2205000"/>
            <a:ext cx="165744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92360" y="1197000"/>
            <a:ext cx="5772240" cy="4543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093080" y="1628640"/>
            <a:ext cx="1726920" cy="2087640"/>
          </a:xfrm>
          <a:prstGeom prst="rect">
            <a:avLst/>
          </a:prstGeom>
          <a:solidFill>
            <a:srgbClr val="fff2d9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72360" y="2565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2565360"/>
            <a:ext cx="716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4922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07120" y="126828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Remote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360" y="270828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96360" y="2421000"/>
            <a:ext cx="1008000" cy="1006560"/>
          </a:xfrm>
          <a:prstGeom prst="rect">
            <a:avLst/>
          </a:prstGeom>
          <a:solidFill>
            <a:srgbClr val="fff2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oftware application access using web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948360" y="2492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51640" y="1740600"/>
            <a:ext cx="1152720" cy="459000"/>
          </a:xfrm>
          <a:prstGeom prst="rect">
            <a:avLst/>
          </a:prstGeom>
          <a:solidFill>
            <a:srgbClr val="fff2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Browse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2565360"/>
            <a:ext cx="100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2276640"/>
            <a:ext cx="1150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140360" y="227664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77080" y="2060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0560" y="112536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Remote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75640" y="2060640"/>
            <a:ext cx="576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227664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Web services for IPCC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ML fragment used for call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xt of the document to be class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in which the text is written (English or Fre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C level at which the classification should be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red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Web services for IPCC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Returne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ML frag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redicted categories at the requested IPC level, along with a confidence score for each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Web services for IPCC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Example of potential applic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routing of text documents according to the technical field from the predicted IPC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ase Retrieval of a group patent documents potentially related to a technical text (IPCCAT + bridge of the IPC internet pub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Java client to illustrate calls to IPCCAT Web service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1635120"/>
            <a:ext cx="9166320" cy="39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Download and IT support for the IPC</a:t>
            </a:r>
            <a:endParaRPr b="0" lang="en-US" sz="35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ttp://www.wipo.int/classifications/ipc/en/support/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 each IPC rev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Master files and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by products e.g. (PDF , statistics, valid symbol list, spreadsheet, list of affected symbols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oftware packages and tool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hub: http://www.wipo.int/classifications/ipc/en/ITsupport/links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T support for the IPC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ims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s on IPC-related IT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revision support systems and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Ma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publication platform (IPCPU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ew Web services for Internet publication and IPC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Download and IT suppor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64198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Map of IT resources for IPC 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880" y="2514600"/>
            <a:ext cx="9753480" cy="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55520" y="1295280"/>
            <a:ext cx="2671560" cy="1600200"/>
            <a:chOff x="155520" y="1295280"/>
            <a:chExt cx="2671560" cy="1600200"/>
          </a:xfrm>
        </p:grpSpPr>
        <p:sp>
          <p:nvSpPr>
            <p:cNvPr id="87" name=""/>
            <p:cNvSpPr/>
            <p:nvPr/>
          </p:nvSpPr>
          <p:spPr>
            <a:xfrm>
              <a:off x="155520" y="1295280"/>
              <a:ext cx="2671560" cy="947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vision of edition N+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679040" y="2297160"/>
              <a:ext cx="4680" cy="59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 flipH="1">
            <a:off x="2880" y="4952880"/>
            <a:ext cx="9753480" cy="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5520" y="5440320"/>
            <a:ext cx="266688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ation of edition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7320" y="2971800"/>
            <a:ext cx="2663640" cy="2362320"/>
            <a:chOff x="157320" y="2971800"/>
            <a:chExt cx="2663640" cy="2362320"/>
          </a:xfrm>
        </p:grpSpPr>
        <p:sp>
          <p:nvSpPr>
            <p:cNvPr id="92" name=""/>
            <p:cNvSpPr/>
            <p:nvPr/>
          </p:nvSpPr>
          <p:spPr>
            <a:xfrm>
              <a:off x="157320" y="2971800"/>
              <a:ext cx="2663640" cy="1818000"/>
            </a:xfrm>
            <a:prstGeom prst="rect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arl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ccess t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dition N+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45920" y="4800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203640" y="1219320"/>
            <a:ext cx="2361600" cy="1066680"/>
            <a:chOff x="3203640" y="1219320"/>
            <a:chExt cx="2361600" cy="1066680"/>
          </a:xfrm>
        </p:grpSpPr>
        <p:sp>
          <p:nvSpPr>
            <p:cNvPr id="95" name=""/>
            <p:cNvSpPr/>
            <p:nvPr/>
          </p:nvSpPr>
          <p:spPr>
            <a:xfrm flipH="1">
              <a:off x="4879800" y="1295280"/>
              <a:ext cx="6854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203640" y="1219320"/>
              <a:ext cx="1472760" cy="1066680"/>
              <a:chOff x="3203640" y="1219320"/>
              <a:chExt cx="1472760" cy="1066680"/>
            </a:xfrm>
          </p:grpSpPr>
          <p:sp>
            <p:nvSpPr>
              <p:cNvPr id="97" name=""/>
              <p:cNvSpPr/>
              <p:nvPr/>
            </p:nvSpPr>
            <p:spPr>
              <a:xfrm>
                <a:off x="3203640" y="1219320"/>
                <a:ext cx="1447560" cy="106668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55920" y="1523880"/>
                <a:ext cx="132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/>
                  </a:rPr>
                  <a:t>RIPCI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716360" y="3016080"/>
            <a:ext cx="2734920" cy="822240"/>
            <a:chOff x="4716360" y="3016080"/>
            <a:chExt cx="2734920" cy="822240"/>
          </a:xfrm>
        </p:grpSpPr>
        <p:sp>
          <p:nvSpPr>
            <p:cNvPr id="100" name=""/>
            <p:cNvSpPr/>
            <p:nvPr/>
          </p:nvSpPr>
          <p:spPr>
            <a:xfrm>
              <a:off x="4716360" y="3016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orm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959360" y="3141720"/>
              <a:ext cx="2491920" cy="696600"/>
              <a:chOff x="4959360" y="3141720"/>
              <a:chExt cx="2491920" cy="696600"/>
            </a:xfrm>
          </p:grpSpPr>
          <p:sp>
            <p:nvSpPr>
              <p:cNvPr id="102" name=""/>
              <p:cNvSpPr/>
              <p:nvPr/>
            </p:nvSpPr>
            <p:spPr>
              <a:xfrm flipV="1">
                <a:off x="6098400" y="3141720"/>
                <a:ext cx="1352880" cy="39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50880" y="3539880"/>
                <a:ext cx="794160" cy="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59360" y="3539880"/>
                <a:ext cx="109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8400" y="3548160"/>
                <a:ext cx="409680" cy="29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7451640" y="2590920"/>
            <a:ext cx="1447560" cy="550800"/>
            <a:chOff x="7451640" y="2590920"/>
            <a:chExt cx="1447560" cy="550800"/>
          </a:xfrm>
        </p:grpSpPr>
        <p:sp>
          <p:nvSpPr>
            <p:cNvPr id="107" name=""/>
            <p:cNvSpPr/>
            <p:nvPr/>
          </p:nvSpPr>
          <p:spPr>
            <a:xfrm>
              <a:off x="7451640" y="2590920"/>
              <a:ext cx="1447560" cy="550800"/>
            </a:xfrm>
            <a:prstGeom prst="ellipse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 u="sng">
                  <a:solidFill>
                    <a:srgbClr val="009999"/>
                  </a:solidFill>
                  <a:uFillTx/>
                  <a:latin typeface="Arial"/>
                  <a:hlinkClick r:id="rId3"/>
                </a:rPr>
                <a:t>IPCP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51640" y="2667240"/>
              <a:ext cx="1447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5640" y="-27000"/>
            <a:ext cx="3708360" cy="2448000"/>
            <a:chOff x="5435640" y="-27000"/>
            <a:chExt cx="3708360" cy="2448000"/>
          </a:xfrm>
        </p:grpSpPr>
        <p:grpSp>
          <p:nvGrpSpPr>
            <p:cNvPr id="110" name=""/>
            <p:cNvGrpSpPr/>
            <p:nvPr/>
          </p:nvGrpSpPr>
          <p:grpSpPr>
            <a:xfrm>
              <a:off x="5715000" y="-27000"/>
              <a:ext cx="3429000" cy="2094840"/>
              <a:chOff x="5715000" y="-27000"/>
              <a:chExt cx="3429000" cy="2094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5715000" y="734760"/>
                <a:ext cx="1447560" cy="762120"/>
                <a:chOff x="5715000" y="734760"/>
                <a:chExt cx="1447560" cy="762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715000" y="734760"/>
                  <a:ext cx="1447560" cy="76212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715000" y="887040"/>
                  <a:ext cx="1447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-</a:t>
                  </a:r>
                  <a:r>
                    <a:rPr b="0" lang="en-US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4"/>
                    </a:rPr>
                    <a:t>foru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314840" y="-27000"/>
                <a:ext cx="1829160" cy="2094840"/>
                <a:chOff x="7314840" y="-27000"/>
                <a:chExt cx="1829160" cy="20948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7543800" y="-27000"/>
                  <a:ext cx="1600200" cy="20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PC revision sugg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list servers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7314840" y="734760"/>
                  <a:ext cx="30492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 flipV="1">
                  <a:off x="7314840" y="1420200"/>
                  <a:ext cx="30492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5435640" y="1963800"/>
              <a:ext cx="1657440" cy="457200"/>
              <a:chOff x="5435640" y="1963800"/>
              <a:chExt cx="165744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5435640" y="1963800"/>
                <a:ext cx="1657440" cy="45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64160" y="1963800"/>
                <a:ext cx="1528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Template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 flipV="1">
              <a:off x="6443640" y="1557000"/>
              <a:ext cx="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51000" y="1066680"/>
            <a:ext cx="0" cy="548640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948360" y="5084640"/>
            <a:ext cx="2054160" cy="619200"/>
            <a:chOff x="6948360" y="5084640"/>
            <a:chExt cx="2054160" cy="619200"/>
          </a:xfrm>
        </p:grpSpPr>
        <p:sp>
          <p:nvSpPr>
            <p:cNvPr id="124" name=""/>
            <p:cNvSpPr/>
            <p:nvPr/>
          </p:nvSpPr>
          <p:spPr>
            <a:xfrm>
              <a:off x="6948360" y="5084640"/>
              <a:ext cx="2054160" cy="619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59240" y="5113080"/>
              <a:ext cx="194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PCCA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40440" y="3284640"/>
            <a:ext cx="3919320" cy="1223640"/>
            <a:chOff x="5140440" y="3284640"/>
            <a:chExt cx="3919320" cy="1223640"/>
          </a:xfrm>
        </p:grpSpPr>
        <p:grpSp>
          <p:nvGrpSpPr>
            <p:cNvPr id="127" name=""/>
            <p:cNvGrpSpPr/>
            <p:nvPr/>
          </p:nvGrpSpPr>
          <p:grpSpPr>
            <a:xfrm>
              <a:off x="7612200" y="3284640"/>
              <a:ext cx="1447560" cy="550800"/>
              <a:chOff x="7612200" y="3284640"/>
              <a:chExt cx="1447560" cy="550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612200" y="3284640"/>
                <a:ext cx="1447560" cy="550800"/>
              </a:xfrm>
              <a:prstGeom prst="ellipse">
                <a:avLst/>
              </a:prstGeom>
              <a:solidFill>
                <a:srgbClr val="98d0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12200" y="331452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/>
                  </a:rPr>
                  <a:t>PD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140440" y="3957480"/>
              <a:ext cx="1447560" cy="550800"/>
              <a:chOff x="5140440" y="3957480"/>
              <a:chExt cx="1447560" cy="550800"/>
            </a:xfrm>
          </p:grpSpPr>
          <p:sp>
            <p:nvSpPr>
              <p:cNvPr id="131" name=""/>
              <p:cNvSpPr/>
              <p:nvPr/>
            </p:nvSpPr>
            <p:spPr>
              <a:xfrm>
                <a:off x="5140440" y="3957480"/>
                <a:ext cx="1447560" cy="550800"/>
              </a:xfrm>
              <a:prstGeom prst="ellipse">
                <a:avLst/>
              </a:prstGeom>
              <a:solidFill>
                <a:srgbClr val="98d0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40440" y="3987360"/>
                <a:ext cx="1447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/>
                  </a:rPr>
                  <a:t>Static IP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659640" y="3860640"/>
              <a:ext cx="1806120" cy="550800"/>
              <a:chOff x="6659640" y="3860640"/>
              <a:chExt cx="1806120" cy="550800"/>
            </a:xfrm>
          </p:grpSpPr>
          <p:sp>
            <p:nvSpPr>
              <p:cNvPr id="134" name=""/>
              <p:cNvSpPr/>
              <p:nvPr/>
            </p:nvSpPr>
            <p:spPr>
              <a:xfrm>
                <a:off x="6659640" y="3860640"/>
                <a:ext cx="1806120" cy="550800"/>
              </a:xfrm>
              <a:prstGeom prst="ellipse">
                <a:avLst/>
              </a:prstGeom>
              <a:solidFill>
                <a:srgbClr val="98d0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59640" y="3890520"/>
                <a:ext cx="1806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2200" spc="-1" strike="noStrike">
                    <a:solidFill>
                      <a:srgbClr val="000000"/>
                    </a:solidFill>
                    <a:latin typeface="Arial"/>
                  </a:rPr>
                  <a:t>statistic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3203640" y="2349360"/>
            <a:ext cx="1828800" cy="2070360"/>
            <a:chOff x="3203640" y="2349360"/>
            <a:chExt cx="1828800" cy="2070360"/>
          </a:xfrm>
        </p:grpSpPr>
        <p:sp>
          <p:nvSpPr>
            <p:cNvPr id="137" name=""/>
            <p:cNvSpPr/>
            <p:nvPr/>
          </p:nvSpPr>
          <p:spPr>
            <a:xfrm>
              <a:off x="3203640" y="3048120"/>
              <a:ext cx="1828800" cy="1371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2240" y="3352680"/>
              <a:ext cx="144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ASTER FI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1280" y="2349360"/>
              <a:ext cx="0" cy="64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132000" y="4581360"/>
            <a:ext cx="3541680" cy="1909800"/>
            <a:chOff x="3132000" y="4581360"/>
            <a:chExt cx="3541680" cy="1909800"/>
          </a:xfrm>
        </p:grpSpPr>
        <p:grpSp>
          <p:nvGrpSpPr>
            <p:cNvPr id="141" name=""/>
            <p:cNvGrpSpPr/>
            <p:nvPr/>
          </p:nvGrpSpPr>
          <p:grpSpPr>
            <a:xfrm>
              <a:off x="3132000" y="5327640"/>
              <a:ext cx="1513080" cy="838080"/>
              <a:chOff x="3132000" y="5327640"/>
              <a:chExt cx="1513080" cy="838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132000" y="5327640"/>
                <a:ext cx="1513080" cy="83808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32000" y="5440320"/>
                <a:ext cx="1513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2000" spc="-1" strike="noStrike">
                    <a:solidFill>
                      <a:srgbClr val="000000"/>
                    </a:solidFill>
                    <a:latin typeface="Arial"/>
                  </a:rPr>
                  <a:t>MCD @E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4859280" y="5950080"/>
              <a:ext cx="1814400" cy="5410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24360" y="4581360"/>
              <a:ext cx="0" cy="64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4571640" y="5877000"/>
              <a:ext cx="28908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59280" y="603720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CRE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59280" y="4005360"/>
            <a:ext cx="4143240" cy="2347920"/>
            <a:chOff x="4859280" y="4005360"/>
            <a:chExt cx="4143240" cy="2347920"/>
          </a:xfrm>
        </p:grpSpPr>
        <p:sp>
          <p:nvSpPr>
            <p:cNvPr id="149" name=""/>
            <p:cNvSpPr/>
            <p:nvPr/>
          </p:nvSpPr>
          <p:spPr>
            <a:xfrm>
              <a:off x="8548560" y="4005360"/>
              <a:ext cx="0" cy="86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859280" y="5200560"/>
              <a:ext cx="4143240" cy="1152720"/>
              <a:chOff x="4859280" y="5200560"/>
              <a:chExt cx="4143240" cy="11527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6948360" y="5734080"/>
                <a:ext cx="2054160" cy="619200"/>
                <a:chOff x="6948360" y="5734080"/>
                <a:chExt cx="2054160" cy="6192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948360" y="5734080"/>
                  <a:ext cx="2054160" cy="61920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59240" y="5762520"/>
                  <a:ext cx="1943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H" sz="2200" spc="-1" strike="noStrike">
                      <a:solidFill>
                        <a:srgbClr val="000000"/>
                      </a:solidFill>
                      <a:latin typeface="Arial"/>
                    </a:rPr>
                    <a:t>IPCA6TRANS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859280" y="5200560"/>
                <a:ext cx="1663920" cy="533520"/>
                <a:chOff x="4859280" y="5200560"/>
                <a:chExt cx="1663920" cy="533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859280" y="5200560"/>
                  <a:ext cx="1663920" cy="53352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859280" y="5274000"/>
                  <a:ext cx="1663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PC bridg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IPC revision support systems and IPC master file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Where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PC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for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reworked and upgraded during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M project to replace the IPC revision management system (RIPC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ossible impact on IPC ma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ipo.int/ipcpub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abilized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Version 3.0 : Evolution towards service oriented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owards software package as virtual machine to simplify version upg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24000" y="1197000"/>
            <a:ext cx="8172360" cy="5113440"/>
            <a:chOff x="324000" y="1197000"/>
            <a:chExt cx="8172360" cy="5113440"/>
          </a:xfrm>
        </p:grpSpPr>
        <p:sp>
          <p:nvSpPr>
            <p:cNvPr id="162" name=""/>
            <p:cNvSpPr/>
            <p:nvPr/>
          </p:nvSpPr>
          <p:spPr>
            <a:xfrm>
              <a:off x="324000" y="1197000"/>
              <a:ext cx="8172360" cy="5113440"/>
            </a:xfrm>
            <a:prstGeom prst="ellipse">
              <a:avLst/>
            </a:prstGeom>
            <a:solidFill>
              <a:srgbClr val="b1e7e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20320" y="1413000"/>
              <a:ext cx="209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A6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55640" y="2060640"/>
            <a:ext cx="7128000" cy="4105080"/>
            <a:chOff x="755640" y="2060640"/>
            <a:chExt cx="7128000" cy="4105080"/>
          </a:xfrm>
        </p:grpSpPr>
        <p:sp>
          <p:nvSpPr>
            <p:cNvPr id="165" name=""/>
            <p:cNvSpPr/>
            <p:nvPr/>
          </p:nvSpPr>
          <p:spPr>
            <a:xfrm>
              <a:off x="755640" y="2060640"/>
              <a:ext cx="7128000" cy="4105080"/>
            </a:xfrm>
            <a:prstGeom prst="ellipse">
              <a:avLst/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20560" y="2852640"/>
              <a:ext cx="1312920" cy="459720"/>
            </a:xfrm>
            <a:prstGeom prst="rect">
              <a:avLst/>
            </a:prstGeom>
            <a:solidFill>
              <a:srgbClr val="e1f80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P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53000" y="2314440"/>
              <a:ext cx="2698200" cy="459720"/>
            </a:xfrm>
            <a:prstGeom prst="rect">
              <a:avLst/>
            </a:prstGeom>
            <a:solidFill>
              <a:srgbClr val="e1f8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A6TRANS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16840" y="2674800"/>
              <a:ext cx="1838880" cy="459720"/>
            </a:xfrm>
            <a:prstGeom prst="rect">
              <a:avLst/>
            </a:prstGeom>
            <a:solidFill>
              <a:srgbClr val="e1f8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Defviewer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403280" y="3036240"/>
            <a:ext cx="5832720" cy="3009600"/>
            <a:chOff x="1403280" y="3036240"/>
            <a:chExt cx="5832720" cy="3009600"/>
          </a:xfrm>
        </p:grpSpPr>
        <p:sp>
          <p:nvSpPr>
            <p:cNvPr id="170" name=""/>
            <p:cNvSpPr/>
            <p:nvPr/>
          </p:nvSpPr>
          <p:spPr>
            <a:xfrm>
              <a:off x="1403280" y="3036240"/>
              <a:ext cx="5832720" cy="300960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46920" y="318780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re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arget model: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049480" y="3787920"/>
            <a:ext cx="4610160" cy="2089080"/>
            <a:chOff x="2049480" y="3787920"/>
            <a:chExt cx="4610160" cy="2089080"/>
          </a:xfrm>
        </p:grpSpPr>
        <p:sp>
          <p:nvSpPr>
            <p:cNvPr id="174" name=""/>
            <p:cNvSpPr/>
            <p:nvPr/>
          </p:nvSpPr>
          <p:spPr>
            <a:xfrm>
              <a:off x="2049480" y="3787920"/>
              <a:ext cx="4610160" cy="2089080"/>
            </a:xfrm>
            <a:prstGeom prst="ellipse">
              <a:avLst/>
            </a:prstGeom>
            <a:solidFill>
              <a:srgbClr val="f4c4a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18880" y="4051440"/>
              <a:ext cx="30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XML split/un-spl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627280" y="4910040"/>
            <a:ext cx="3382920" cy="636840"/>
            <a:chOff x="2627280" y="4910040"/>
            <a:chExt cx="3382920" cy="636840"/>
          </a:xfrm>
        </p:grpSpPr>
        <p:sp>
          <p:nvSpPr>
            <p:cNvPr id="177" name=""/>
            <p:cNvSpPr/>
            <p:nvPr/>
          </p:nvSpPr>
          <p:spPr>
            <a:xfrm>
              <a:off x="2627280" y="4910040"/>
              <a:ext cx="3382920" cy="6368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50880" y="491652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common l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PC Internet publication Web servic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URL and web services of the IPC interne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RL based access e.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ttp://www.wipo.int/ipcpub/#refresh=notes&amp;menulang=FR&amp;notion=scheme&amp;version=20130101&amp;symbol=A01N&amp;indexes=no&amp;viewmode=a&amp;priorityorder=no&amp;showdeleted=no&amp;notes=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turn a symbol selected in the IPC interne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validatio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cumentation in the on-line help of IPCP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PC Internet publication Web servic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urrent STATUS: Several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under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PCPUBPREP on-line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what is the latest published version of the I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heck IPC Symbol Valid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an IPC Symbol version indicat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ransform one xml definition into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Web service for text categorization in the IPC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US:available since end of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xtension of the IPCCA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formation about precision, coverage in the on-line help of IPC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unde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PC-IT download and IT sup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(including WSDL 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totype to illustrate calls to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09:50:24Z</dcterms:created>
  <dc:creator>Fievet</dc:creator>
  <dc:description/>
  <cp:keywords>IPC</cp:keywords>
  <dc:language>en-US</dc:language>
  <cp:lastModifiedBy>Malanga</cp:lastModifiedBy>
  <dcterms:modified xsi:type="dcterms:W3CDTF">2013-02-25T13:30:14Z</dcterms:modified>
  <cp:revision>49</cp:revision>
  <dc:subject>IPC Workshop (2013) - IT tools and illustrating materials</dc:subject>
  <dc:title>IPC Workshop (2013) - IT tools and illustrating materials</dc:title>
</cp:coreProperties>
</file>