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3DC1-254B-4BF9-8B91-3D1F04048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C4D2-B03C-4FC4-96AA-FC84F1626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638C-40A1-4795-9152-8378C85B2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6495-9535-4B81-A202-D102ED89F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912E-C2B7-45CD-9A73-1DCC389B9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BF86-283F-4862-8118-A8A925EA5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D50E-E088-4E61-A45E-E368AD0DC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B8B1-2E01-4C32-A387-B5BAC7967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107D-B058-474C-804A-1C83F12D7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D8D5-2EDE-482C-BE6A-5246E0401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D295-96DB-466E-8144-E01935A94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C9B6-7FF2-4859-A1E6-61F8C023E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8A4D-5A06-4EDE-B73A-6C0F083C9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ipo.int/ripcis/index.htm" TargetMode="External"/><Relationship Id="rId3" Type="http://schemas.openxmlformats.org/officeDocument/2006/relationships/hyperlink" Target="http://www.wipo.int/ipc-ief/" TargetMode="External"/><Relationship Id="rId4" Type="http://schemas.openxmlformats.org/officeDocument/2006/relationships/hyperlink" Target="http://www.wipo.int/ipc/itos4ipc/ITSupport_and_download_area/20130101/pdf/scheme/full_ipc/eindex.html" TargetMode="External"/><Relationship Id="rId5" Type="http://schemas.openxmlformats.org/officeDocument/2006/relationships/hyperlink" Target="http://www.wipo.int/ipcpub" TargetMode="External"/><Relationship Id="rId6" Type="http://schemas.openxmlformats.org/officeDocument/2006/relationships/hyperlink" Target="http://www.wipo.int/classifications/ipc/en/ITsupport/Version20130101/transformations/viewer/index.htm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18960" y="3103560"/>
            <a:ext cx="6521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hird IPC Workshop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ommon publication viewer of the IPC, CPC and F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5-26, 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83680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 of IT System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50752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6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lanned impact on IPCPUB user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arallel viewer only for the English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eserve « path », « full » and « hierarchic »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IPC definition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Exclusions: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ther language options (FR, EN/F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rrelevant tabs (e.g. RCL, Compilation Catch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DF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ossibly some options of the sea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specific bridge for parallel 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bridge for FIPCPC view to esp@cenet / JPO-IP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links to other classifications (ECLA, CPC, US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argeted time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resentation to the 46th IPC committee of Expert (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ommon publication viewer of the IPC, CPC and FI</a:t>
            </a:r>
            <a:endParaRPr b="0" lang="en-US" sz="39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.g. How would you like to see FIPCP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491652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WIPO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ims@wipo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he </a:t>
            </a:r>
            <a:r>
              <a:rPr b="1" lang="en-US" sz="30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30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tatus and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IPO’s int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argeted 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he </a:t>
            </a:r>
            <a:r>
              <a:rPr b="1" lang="en-US" sz="30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30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viewer fo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F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/ </a:t>
            </a:r>
            <a:r>
              <a:rPr b="0" lang="en-US" sz="2400" spc="-1" strike="noStrike" u="sng">
                <a:solidFill>
                  <a:srgbClr val="6633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 u="sng">
                <a:solidFill>
                  <a:srgbClr val="663300"/>
                </a:solidFill>
                <a:uFillTx/>
                <a:latin typeface="Arial"/>
              </a:rPr>
              <a:t>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/ </a:t>
            </a:r>
            <a:r>
              <a:rPr b="0" lang="en-US" sz="2400" spc="-1" strike="noStrike" u="sng">
                <a:solidFill>
                  <a:srgbClr val="d41212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d41212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centric i.e.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isplays FI or CPC from IPC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unctionnality extension to the IPC publication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Status: Delayed until Q2/20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roject preparation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reliminary investigations through EPO/WIPO and JPO/WIPO bilateral meeting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urrent assum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to CPC and IPC to FI is 100%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IPO can get CPC and FI in fully specified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PC + FI specific texts are 100% marked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xtension of IPCPUB functionnality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WIPO’s intentions (excerpt from a 2010 WIPO present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03200" y="537264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-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07920" y="540756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c-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40000" y="2408400"/>
            <a:ext cx="3816360" cy="311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1280" y="2719440"/>
            <a:ext cx="3816360" cy="552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643280" y="2709720"/>
            <a:ext cx="3816360" cy="1516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340000" y="4208400"/>
            <a:ext cx="3816360" cy="311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11280" y="4519440"/>
            <a:ext cx="3816360" cy="854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4643280" y="4508640"/>
            <a:ext cx="3816360" cy="37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With further conside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7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9145440" cy="903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35280" y="4581360"/>
            <a:ext cx="4608360" cy="936720"/>
          </a:xfrm>
          <a:prstGeom prst="ellipse">
            <a:avLst/>
          </a:prstGeom>
          <a:noFill/>
          <a:ln w="38160">
            <a:solidFill>
              <a:srgbClr val="d412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4920" y="2898720"/>
            <a:ext cx="9080640" cy="530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371808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PC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With further consider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Synchronization rules between IPC/CPC/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oncordance table or algorith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Synchronized scrolling / independent scrollin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mpact on the software package for patent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e.g. IPC in SK with CPC and FI in E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Disable FIPCPC options from the pack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64198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1212"/>
                </a:solidFill>
                <a:latin typeface="Arial"/>
              </a:rPr>
              <a:t>Impact of FIPCPC on IT resources for IPC</a:t>
            </a: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880" y="2514600"/>
            <a:ext cx="9753480" cy="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55520" y="1295280"/>
            <a:ext cx="2671560" cy="1600200"/>
            <a:chOff x="155520" y="1295280"/>
            <a:chExt cx="2671560" cy="1600200"/>
          </a:xfrm>
        </p:grpSpPr>
        <p:sp>
          <p:nvSpPr>
            <p:cNvPr id="111" name=""/>
            <p:cNvSpPr/>
            <p:nvPr/>
          </p:nvSpPr>
          <p:spPr>
            <a:xfrm>
              <a:off x="155520" y="1295280"/>
              <a:ext cx="2671560" cy="947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vision of edition N+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679040" y="2297160"/>
              <a:ext cx="4680" cy="59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 flipH="1">
            <a:off x="2880" y="4952880"/>
            <a:ext cx="9753480" cy="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520" y="5440320"/>
            <a:ext cx="266688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ation of edition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7320" y="2971800"/>
            <a:ext cx="2663640" cy="2362320"/>
            <a:chOff x="157320" y="2971800"/>
            <a:chExt cx="2663640" cy="2362320"/>
          </a:xfrm>
        </p:grpSpPr>
        <p:sp>
          <p:nvSpPr>
            <p:cNvPr id="116" name=""/>
            <p:cNvSpPr/>
            <p:nvPr/>
          </p:nvSpPr>
          <p:spPr>
            <a:xfrm>
              <a:off x="157320" y="2971800"/>
              <a:ext cx="2663640" cy="1818000"/>
            </a:xfrm>
            <a:prstGeom prst="rect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arl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ccess t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dition N+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45920" y="4800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203640" y="1219320"/>
            <a:ext cx="2361600" cy="1066680"/>
            <a:chOff x="3203640" y="1219320"/>
            <a:chExt cx="2361600" cy="1066680"/>
          </a:xfrm>
        </p:grpSpPr>
        <p:sp>
          <p:nvSpPr>
            <p:cNvPr id="119" name=""/>
            <p:cNvSpPr/>
            <p:nvPr/>
          </p:nvSpPr>
          <p:spPr>
            <a:xfrm flipH="1">
              <a:off x="4879800" y="1295280"/>
              <a:ext cx="6854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203640" y="1219320"/>
              <a:ext cx="1472760" cy="1066680"/>
              <a:chOff x="3203640" y="1219320"/>
              <a:chExt cx="1472760" cy="1066680"/>
            </a:xfrm>
          </p:grpSpPr>
          <p:sp>
            <p:nvSpPr>
              <p:cNvPr id="121" name=""/>
              <p:cNvSpPr/>
              <p:nvPr/>
            </p:nvSpPr>
            <p:spPr>
              <a:xfrm>
                <a:off x="3203640" y="1219320"/>
                <a:ext cx="1447560" cy="106668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355920" y="1523880"/>
                <a:ext cx="132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/>
                  </a:rPr>
                  <a:t>RIPCI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3203640" y="3137040"/>
            <a:ext cx="1828800" cy="137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32240" y="335268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PC MASTER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715000" y="-27000"/>
            <a:ext cx="3429000" cy="2094840"/>
            <a:chOff x="5715000" y="-27000"/>
            <a:chExt cx="3429000" cy="2094840"/>
          </a:xfrm>
        </p:grpSpPr>
        <p:grpSp>
          <p:nvGrpSpPr>
            <p:cNvPr id="126" name=""/>
            <p:cNvGrpSpPr/>
            <p:nvPr/>
          </p:nvGrpSpPr>
          <p:grpSpPr>
            <a:xfrm>
              <a:off x="5715000" y="734760"/>
              <a:ext cx="1447560" cy="762120"/>
              <a:chOff x="5715000" y="734760"/>
              <a:chExt cx="1447560" cy="7621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15000" y="734760"/>
                <a:ext cx="1447560" cy="7621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15000" y="88704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-</a:t>
                </a:r>
                <a:r>
                  <a:rPr b="0" lang="en-US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/>
                  </a:rPr>
                  <a:t>foru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314840" y="-27000"/>
              <a:ext cx="1829160" cy="2094840"/>
              <a:chOff x="7314840" y="-27000"/>
              <a:chExt cx="1829160" cy="2094840"/>
            </a:xfrm>
          </p:grpSpPr>
          <p:sp>
            <p:nvSpPr>
              <p:cNvPr id="130" name=""/>
              <p:cNvSpPr/>
              <p:nvPr/>
            </p:nvSpPr>
            <p:spPr>
              <a:xfrm>
                <a:off x="7543800" y="-27000"/>
                <a:ext cx="1600200" cy="209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C revision sugges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ist server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314840" y="7347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7314840" y="14202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7612200" y="3284640"/>
            <a:ext cx="1447560" cy="550800"/>
            <a:chOff x="7612200" y="3284640"/>
            <a:chExt cx="1447560" cy="550800"/>
          </a:xfrm>
        </p:grpSpPr>
        <p:sp>
          <p:nvSpPr>
            <p:cNvPr id="134" name=""/>
            <p:cNvSpPr/>
            <p:nvPr/>
          </p:nvSpPr>
          <p:spPr>
            <a:xfrm>
              <a:off x="7612200" y="3284640"/>
              <a:ext cx="1447560" cy="550800"/>
            </a:xfrm>
            <a:prstGeom prst="ellipse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12200" y="33145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4"/>
                </a:rPr>
                <a:t>PD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716360" y="30160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959360" y="3141720"/>
            <a:ext cx="2491920" cy="696600"/>
            <a:chOff x="4959360" y="3141720"/>
            <a:chExt cx="2491920" cy="696600"/>
          </a:xfrm>
        </p:grpSpPr>
        <p:sp>
          <p:nvSpPr>
            <p:cNvPr id="138" name=""/>
            <p:cNvSpPr/>
            <p:nvPr/>
          </p:nvSpPr>
          <p:spPr>
            <a:xfrm flipV="1">
              <a:off x="6098400" y="3141720"/>
              <a:ext cx="1352880" cy="39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50880" y="3539880"/>
              <a:ext cx="794160" cy="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9360" y="3539880"/>
              <a:ext cx="109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8400" y="3548160"/>
              <a:ext cx="409680" cy="29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132000" y="5327640"/>
            <a:ext cx="1513080" cy="838080"/>
            <a:chOff x="3132000" y="5327640"/>
            <a:chExt cx="1513080" cy="838080"/>
          </a:xfrm>
        </p:grpSpPr>
        <p:sp>
          <p:nvSpPr>
            <p:cNvPr id="143" name=""/>
            <p:cNvSpPr/>
            <p:nvPr/>
          </p:nvSpPr>
          <p:spPr>
            <a:xfrm>
              <a:off x="3132000" y="5327640"/>
              <a:ext cx="1513080" cy="8380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2000" y="5440320"/>
              <a:ext cx="151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Arial"/>
                </a:rPr>
                <a:t>MCD @E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451640" y="2590920"/>
            <a:ext cx="1447560" cy="550800"/>
            <a:chOff x="7451640" y="2590920"/>
            <a:chExt cx="1447560" cy="550800"/>
          </a:xfrm>
        </p:grpSpPr>
        <p:sp>
          <p:nvSpPr>
            <p:cNvPr id="146" name=""/>
            <p:cNvSpPr/>
            <p:nvPr/>
          </p:nvSpPr>
          <p:spPr>
            <a:xfrm>
              <a:off x="7451640" y="2590920"/>
              <a:ext cx="1447560" cy="550800"/>
            </a:xfrm>
            <a:prstGeom prst="ellipse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 u="sng">
                  <a:solidFill>
                    <a:srgbClr val="009999"/>
                  </a:solidFill>
                  <a:uFillTx/>
                  <a:latin typeface="Arial"/>
                  <a:hlinkClick r:id="rId5"/>
                </a:rPr>
                <a:t>IPCP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51640" y="2667240"/>
              <a:ext cx="1447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35640" y="1963800"/>
            <a:ext cx="1657440" cy="457200"/>
            <a:chOff x="5435640" y="1963800"/>
            <a:chExt cx="1657440" cy="457200"/>
          </a:xfrm>
        </p:grpSpPr>
        <p:sp>
          <p:nvSpPr>
            <p:cNvPr id="149" name=""/>
            <p:cNvSpPr/>
            <p:nvPr/>
          </p:nvSpPr>
          <p:spPr>
            <a:xfrm>
              <a:off x="5435640" y="1963800"/>
              <a:ext cx="1657440" cy="457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4160" y="1963800"/>
              <a:ext cx="1528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V="1">
            <a:off x="6443640" y="15570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51000" y="1066680"/>
            <a:ext cx="0" cy="548640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140440" y="3957480"/>
            <a:ext cx="1447560" cy="550800"/>
            <a:chOff x="5140440" y="3957480"/>
            <a:chExt cx="1447560" cy="550800"/>
          </a:xfrm>
        </p:grpSpPr>
        <p:sp>
          <p:nvSpPr>
            <p:cNvPr id="154" name=""/>
            <p:cNvSpPr/>
            <p:nvPr/>
          </p:nvSpPr>
          <p:spPr>
            <a:xfrm>
              <a:off x="5140440" y="3957480"/>
              <a:ext cx="1447560" cy="550800"/>
            </a:xfrm>
            <a:prstGeom prst="ellipse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40440" y="3987360"/>
              <a:ext cx="1447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9999"/>
                  </a:solidFill>
                  <a:uFillTx/>
                  <a:latin typeface="Arial"/>
                  <a:hlinkClick r:id="rId6"/>
                </a:rPr>
                <a:t>Static IP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548560" y="4005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948360" y="5084640"/>
            <a:ext cx="2054160" cy="619200"/>
            <a:chOff x="6948360" y="5084640"/>
            <a:chExt cx="2054160" cy="619200"/>
          </a:xfrm>
        </p:grpSpPr>
        <p:sp>
          <p:nvSpPr>
            <p:cNvPr id="158" name=""/>
            <p:cNvSpPr/>
            <p:nvPr/>
          </p:nvSpPr>
          <p:spPr>
            <a:xfrm>
              <a:off x="6948360" y="5084640"/>
              <a:ext cx="2054160" cy="619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59240" y="5113080"/>
              <a:ext cx="1943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PCCA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948360" y="5734080"/>
            <a:ext cx="2054160" cy="619200"/>
            <a:chOff x="6948360" y="5734080"/>
            <a:chExt cx="2054160" cy="619200"/>
          </a:xfrm>
        </p:grpSpPr>
        <p:sp>
          <p:nvSpPr>
            <p:cNvPr id="161" name=""/>
            <p:cNvSpPr/>
            <p:nvPr/>
          </p:nvSpPr>
          <p:spPr>
            <a:xfrm>
              <a:off x="6948360" y="5734080"/>
              <a:ext cx="2054160" cy="619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59240" y="5762520"/>
              <a:ext cx="1943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200" spc="-1" strike="noStrike">
                  <a:solidFill>
                    <a:srgbClr val="000000"/>
                  </a:solidFill>
                  <a:latin typeface="Arial"/>
                </a:rPr>
                <a:t>IPCA6TRA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859280" y="5950080"/>
            <a:ext cx="1814400" cy="54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60372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RE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859280" y="5200560"/>
            <a:ext cx="1663920" cy="533520"/>
            <a:chOff x="4859280" y="5200560"/>
            <a:chExt cx="1663920" cy="533520"/>
          </a:xfrm>
        </p:grpSpPr>
        <p:sp>
          <p:nvSpPr>
            <p:cNvPr id="166" name=""/>
            <p:cNvSpPr/>
            <p:nvPr/>
          </p:nvSpPr>
          <p:spPr>
            <a:xfrm>
              <a:off x="4859280" y="5200560"/>
              <a:ext cx="1663920" cy="53352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59280" y="5274000"/>
              <a:ext cx="166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PC brid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659640" y="3860640"/>
            <a:ext cx="1806120" cy="550800"/>
            <a:chOff x="6659640" y="3860640"/>
            <a:chExt cx="1806120" cy="550800"/>
          </a:xfrm>
        </p:grpSpPr>
        <p:sp>
          <p:nvSpPr>
            <p:cNvPr id="169" name=""/>
            <p:cNvSpPr/>
            <p:nvPr/>
          </p:nvSpPr>
          <p:spPr>
            <a:xfrm>
              <a:off x="6659640" y="3860640"/>
              <a:ext cx="1806120" cy="550800"/>
            </a:xfrm>
            <a:prstGeom prst="ellipse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59640" y="3890520"/>
              <a:ext cx="180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200" spc="-1" strike="noStrike">
                  <a:solidFill>
                    <a:srgbClr val="000000"/>
                  </a:solidFill>
                  <a:latin typeface="Arial"/>
                </a:rPr>
                <a:t>statistic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51280" y="234936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24360" y="458136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571640" y="5877000"/>
            <a:ext cx="289080" cy="288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95640" y="2421000"/>
            <a:ext cx="5042160" cy="1008000"/>
          </a:xfrm>
          <a:prstGeom prst="ellipse">
            <a:avLst/>
          </a:prstGeom>
          <a:noFill/>
          <a:ln w="57240">
            <a:solidFill>
              <a:srgbClr val="d412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2920" y="4940280"/>
            <a:ext cx="2737080" cy="936720"/>
          </a:xfrm>
          <a:prstGeom prst="ellipse">
            <a:avLst/>
          </a:prstGeom>
          <a:noFill/>
          <a:ln w="57240">
            <a:solidFill>
              <a:srgbClr val="d412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2658960"/>
            <a:ext cx="28083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d41212"/>
                </a:solidFill>
                <a:latin typeface="Arial"/>
              </a:rPr>
              <a:t>+ CPC&amp;FI XML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4T09:50:24Z</dcterms:created>
  <dc:creator>Fievet</dc:creator>
  <dc:description/>
  <cp:keywords>IPC</cp:keywords>
  <dc:language>en-US</dc:language>
  <cp:lastModifiedBy>Malanga</cp:lastModifiedBy>
  <dcterms:modified xsi:type="dcterms:W3CDTF">2013-02-25T13:13:53Z</dcterms:modified>
  <cp:revision>50</cp:revision>
  <dc:subject>IPC Workshop (2013) - Common publication viewer for FI IPC CPC</dc:subject>
  <dc:title>IPC Workshop (2013) - Common publication viewer for FI IPC CPC</dc:title>
</cp:coreProperties>
</file>