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A93-C1D0-4F62-B0B5-954686EA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5A0-F7F5-49B8-A53E-04532874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7A5-644F-434C-BABD-2E816C5D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730-11D4-4E26-BE20-418ACD08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6054-D8BB-44BE-9642-770E5A9E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CB2B-4C25-4064-BAA5-7085586F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A76D-BDF2-466F-88E1-6F44DEF6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7982-5F30-47CF-9B5F-510D51DD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A220-2B62-48B5-A09D-3148DBDB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38EE-1CC1-41AD-97A9-B5F78CEF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4879-C0E6-4B7A-9D71-40F583B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2EE-4D93-4411-9158-31E386E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0F4B-59EA-4D03-94A5-7B6D3EA8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FDF9-92FC-4EEA-83DF-855FCEEC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D571-F3A2-4029-A42E-2964BBFB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B99B-57BB-4A98-9D49-EC92CF76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3409-D7EB-49EF-9D89-C0444C68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156-E1C6-4017-896E-792B4B7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78D-7AB8-4565-B477-8DF16F69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DF6-FBED-42D7-AAB4-24BB67C0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C91-F0EF-468D-AE20-BB475508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0DC-6369-4889-9AB5-25036B69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36F-FAEA-43BB-A142-12111A6A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2F9-5198-4FA9-9A7C-4CDF009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FB78-52DE-4D66-838C-0E89E47DAC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3CDF-CC08-434E-BFDC-0EBEF10398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IPC-CPC-FI experimental view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and possible applications </a:t>
            </a:r>
            <a:br>
              <a:rPr sz="44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anum Develop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x samp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505040" cy="4643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8560" y="5867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219320"/>
            <a:ext cx="2133720" cy="533160"/>
          </a:xfrm>
          <a:prstGeom prst="wedgeRectCallout">
            <a:avLst>
              <a:gd name="adj1" fmla="val -21578"/>
              <a:gd name="adj2" fmla="val 18273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d to IPC and found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286000"/>
            <a:ext cx="2133720" cy="304920"/>
          </a:xfrm>
          <a:prstGeom prst="wedgeRectCallout">
            <a:avLst>
              <a:gd name="adj1" fmla="val -103722"/>
              <a:gd name="adj2" fmla="val 168231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if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4114800"/>
            <a:ext cx="2133720" cy="304920"/>
          </a:xfrm>
          <a:prstGeom prst="wedgeRectCallout">
            <a:avLst>
              <a:gd name="adj1" fmla="val -70833"/>
              <a:gd name="adj2" fmla="val -2083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3733560" cy="2919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02360" y="59436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PC 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PC and IPC schem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T aspec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 structured classifica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C available in English, in multiple XML files, and PDF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C available in English and French, in a single XML master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rmat of the XML files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of texts is difficult but necessary marks are given in C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obvious to convert them in either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 on a common platform may be difficult without harm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s of a common plat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trie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concor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of IPC revision work (harmoniz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029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sibility of convers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C to IPC scheme master file-like XML is checked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proof of concept, for supporting both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TD, similar to IPC master file DTD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ing a limited set of new elements (&lt;5) and attributes (&lt;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as a custom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a set of com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ordance converted and 2…/… codes added as extension of the concor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ie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mple four-pane presentation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C | concordance | C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 (just as an on-the-fly retrieval by UR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 browsing with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in one window also moves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ing on text synchronizes the other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ing concordance and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page /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626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page /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7920" y="51814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ordance of 2…/… symbol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ly when texts are equ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port of revision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siblity of conversion of CPC scheme parts is che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ex XML format, uploadable to RIPCIS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 Word file created, uploadable to the e-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metr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 set of CPC 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42670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0:34:59Z</dcterms:created>
  <dc:creator>Attila Torcsvari</dc:creator>
  <dc:description/>
  <cp:keywords>IPC</cp:keywords>
  <dc:language>en-US</dc:language>
  <cp:lastModifiedBy>Malanga</cp:lastModifiedBy>
  <dcterms:modified xsi:type="dcterms:W3CDTF">2013-02-25T12:37:22Z</dcterms:modified>
  <cp:revision>9</cp:revision>
  <dc:subject>IPC Workshop (2013) - Patent Classifications as “Knowledge”  …towards a more conscious (auto)categorization of patents</dc:subject>
  <dc:title>IPC Workshop (2013) - Patent Classifications as “Knowledge”  …towards a more conscious (auto)categorization of patents</dc:title>
</cp:coreProperties>
</file>