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706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61841-0116-4D5B-B1AA-D3582A1B3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8CD75-D5FE-4666-80C2-D7F5AD698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9EF4F-DE99-41C0-B569-B5E24BEB8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9750-7448-494F-8A82-4BE624C755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401E0-347D-45C4-AFAD-9C36A3AF78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86BF0-FF0E-4FE3-B3B1-EE485EC58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0FB1-069B-4587-877B-58F252EFF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135AE-7A85-4ECC-8B6E-6EBF84A52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7E3CD-EE2B-404E-8D5C-4A74A4742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3170B-F516-444E-BD3C-82D156B27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57482-1E70-4E7C-A7A3-FB015F162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4F7B2-6A27-4759-8B4E-FF6F053D3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18FB-0666-4B2B-B18B-5469DE3F4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901800" y="3500280"/>
            <a:ext cx="7415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Recent developments in the IP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9960" y="5229360"/>
            <a:ext cx="2147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noAutofit/>
          </a:bodyPr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IPC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February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5013360"/>
            <a:ext cx="3054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Koichi Matsush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 Section, W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1341360"/>
            <a:ext cx="813600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10L SPEECH ANALYSIS OR SYNTHESIS; SPEECH RECOGNITION; SPEECH OR VOICE PROCESSING; SPEECH OR AUDIO CODING OR DE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/00 Speech synthesis; Text to speech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/00 Speech recogni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10L 17/00 takes precedenc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/00 Speaker identification or ve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/00 Speech or audio signal analysis-synthesis techniques for redundancy reduction, e.g. in vocoders; Coding or decoding of speech or audio signals, using source filter models or psychoacoustic analys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musical instruments G10H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00 Processing of the speech or voice signal to produce another audible or non-audible sign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10L 19/00 takes preced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/00 Speech or voice analysis techniques not restricted to a single one of groups G10L 15/00-G10L 21/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9/00 Subject matter not provided for in other groups of this sub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408c"/>
                </a:solidFill>
                <a:uFillTx/>
                <a:latin typeface="Arial"/>
              </a:rPr>
              <a:t>G10L: Speech analysis or synthesis (cont.)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19640" y="1197000"/>
            <a:ext cx="5724360" cy="1512720"/>
          </a:xfrm>
          <a:prstGeom prst="wedgeRectCallout">
            <a:avLst>
              <a:gd name="adj1" fmla="val -60898"/>
              <a:gd name="adj2" fmla="val 384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3/02   • Methods for producing synthetic speech; Speech synthesi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3/027 • • Concept to speech synthesisers; Generation of natural phrases from machine-based concep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3/033 • • Voice ed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3/04   • • Details of speech synthesis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3/047 • • • Architecture of speech synthesi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3/06   • Elementary speech units used in speech synthesisers; Concatenation r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3/07   • • Concatenation r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3/08   • Text analysis or generation of parameters for speech synthesis ou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3/10   • • Prosody rules derived from text; Stress or into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1844640"/>
            <a:ext cx="5364000" cy="2233800"/>
          </a:xfrm>
          <a:prstGeom prst="wedgeRectCallout">
            <a:avLst>
              <a:gd name="adj1" fmla="val -66277"/>
              <a:gd name="adj2" fmla="val -6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5/01 • Assessment or evaluation of speech recognition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5/02 • Feature extraction for speech recognition; Selection of recognition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5/04 • Segmentation; Word boundary det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5/06 • Creation of reference templates; Training of speech recognition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5/08 • Speech classification or 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5/20 • Speech recognition techniques specially adapted for robustness in adverse environ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5/22 • Procedures used during a speech recognition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5/24 • Speech recognition using non-acoustical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5/26 • Speech to text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5/28 • Constructional details of speech recognition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0200" y="2276640"/>
            <a:ext cx="4933800" cy="1800000"/>
          </a:xfrm>
          <a:prstGeom prst="wedgeRectCallout">
            <a:avLst>
              <a:gd name="adj1" fmla="val -72490"/>
              <a:gd name="adj2" fmla="val 2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02 • Preprocessing operations, Pattern representation or mod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04 • Training, enrolment or model buil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06 • Decision making techniques; Pattern matching strate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08 • • Use of distortion metrics or a particular distance between probe pattern and reference templ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10 • • Multimodal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12 • • Score normal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14 • • Use of phonemic categorisation or speech recognition prior to speaker recognition or ve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16 • Hidden Markov models [HMMs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18 • Artificial neural networks; Connectionist approa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20 • Pattern transformations or operations aimed at increasing system robust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7/22 • Interactive procedures; Man-machine interf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2852640"/>
            <a:ext cx="4356000" cy="1513080"/>
          </a:xfrm>
          <a:prstGeom prst="wedgeRectCallout">
            <a:avLst>
              <a:gd name="adj1" fmla="val -82143"/>
              <a:gd name="adj2" fmla="val 6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9/002 • Dynamic bit allo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9/005 • Correction of errors induced by the transmission channel, if related to the coding algorith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9/008 • Multichannel audio signal coding or decoding; stereophonic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9/012 • Comfort noise or silence c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9/018 • Audio watermarking, i.e. embedding inaudible data in the audio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9/02   • using spectral analysis, e.g. transform vocoders or subband voco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19/04   • using predictive tech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76720" y="3716280"/>
            <a:ext cx="4067280" cy="1297080"/>
          </a:xfrm>
          <a:prstGeom prst="wedgeRectCallout">
            <a:avLst>
              <a:gd name="adj1" fmla="val -70412"/>
              <a:gd name="adj2" fmla="val 148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1/003 • Changing voice quality, e.g. pitch or form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1/02   • Speech enhancement, e.g. noise reduction or echo cancel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1/04   • Time compression or expa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1/06   • Transformation of speech into a non-audible re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4724280"/>
            <a:ext cx="3924360" cy="1944720"/>
          </a:xfrm>
          <a:prstGeom prst="wedgeRectCallout">
            <a:avLst>
              <a:gd name="adj1" fmla="val -74796"/>
              <a:gd name="adj2" fmla="val -27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5/03 • characterised by the type of extracted parame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5/27 • characterised by the analysis techn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5/45 • characterised by the type of analysis wind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5/48 • specially adapted for particula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5/75 • for modelling vocal tract parame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5/78 • Detection of presence or absence of voice sig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5/90 • Pitch determination of speech sig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10L 25/93 • Discriminating between voiced and unvoiced parts of speech sig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693360"/>
            <a:ext cx="8064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120 new groups had been int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E34DB-203D-433F-BEAC-F97D11CBBE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3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408c"/>
                </a:solidFill>
                <a:uFillTx/>
                <a:latin typeface="Arial"/>
              </a:rPr>
              <a:t>IPC-2014.01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424720" cy="33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31B1C-9266-4EF5-89E7-E945ED1935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3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408c"/>
                </a:solidFill>
                <a:uFillTx/>
                <a:latin typeface="Arial"/>
              </a:rPr>
              <a:t>IPC-2014.01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424720" cy="33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CC1D7-3F04-43B0-8D48-EC8E91A934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c"/>
                </a:solidFill>
                <a:latin typeface="Arial"/>
              </a:rPr>
              <a:t>Revision project A048 (IPC-2014.01)</a:t>
            </a:r>
            <a:br>
              <a:rPr sz="2000"/>
            </a:br>
            <a:r>
              <a:rPr b="0" lang="en-US" sz="2400" spc="-1" strike="noStrike" u="sng">
                <a:solidFill>
                  <a:srgbClr val="00408c"/>
                </a:solidFill>
                <a:uFillTx/>
                <a:latin typeface="Arial"/>
              </a:rPr>
              <a:t>E05B 77/00-85/00: Locks for vehicles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7775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 the subclass E05B (locks), 5 new main groups will be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060640"/>
            <a:ext cx="7777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7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hicle locks characterised by special functions or purpos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ocks specially adapted for bicycles E05B 71/00; locking arrangements for non-fixed vehicle roofs B60J 7/185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9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nting or connecting vehicle locks or parts ther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1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-actuated vehicle 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3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hicle locks specially adapted for particular types of wing or vehicl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ocks specially adapted for bicycles E05B 71/00; locking arrangements for non-fixed vehicle roofs B60J 7/185; latching means for sideboards or tailgates of open load compartments B62D 33/037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5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ails of vehicle locks not provided for in groups E05B 77/00-E05B 83/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F09C-2588-4DAD-889E-C9B85DFFDE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476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408c"/>
                </a:solidFill>
                <a:uFillTx/>
                <a:latin typeface="Arial"/>
              </a:rPr>
              <a:t>E05B 77/00-85/00: Locks for vehicles (cont.)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341360"/>
            <a:ext cx="59770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7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hicle locks characterised by special functions or purpos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ocks specially adapted for bicycles E05B 71/00; locking arrangements for non-fixed vehicle roofs B60J 7/185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9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nting or connecting vehicle locks or parts ther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1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-actuated vehicle 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3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hicle locks specially adapted for particular types of wing or vehicl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ocks specially adapted for bicycles E05B 71/00; locking arrangements for non-fixed vehicle roofs B60J 7/185; latching means for sideboards or tailgates of open load compartments B62D 33/037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5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ails of vehicle locks not provided for in groups E05B 77/00-E05B 83/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0000" y="1628640"/>
            <a:ext cx="4464000" cy="2592360"/>
          </a:xfrm>
          <a:prstGeom prst="wedgeRectCallout">
            <a:avLst>
              <a:gd name="adj1" fmla="val -70699"/>
              <a:gd name="adj2" fmla="val -503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0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for accident situ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1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Specially controlled locking actions in case of open doors or in case of doors moved from an open to a closed pos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2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Functions related to actuation of locks from the passenger compartment of the vehi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3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allowing simultaneous actuation of locking or unlocking elements and a handl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3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Protection against weather or dir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3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Noise prevention; Anti-rattling m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4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Means for damping the movement of lock p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4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Burglar preven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4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Locking several wings simultaneous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5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Locking one wing by shutting an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7/5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Automatic securing or unlocking of bolts triggered by certain vehicle paramet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59280" y="2781360"/>
            <a:ext cx="4284720" cy="792000"/>
          </a:xfrm>
          <a:prstGeom prst="wedgeRectCallout">
            <a:avLst>
              <a:gd name="adj1" fmla="val -66671"/>
              <a:gd name="adj2" fmla="val -453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9/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 Mounting of vehicle locks or parts ther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9/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 Connections between movable lock p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67280" y="2997360"/>
            <a:ext cx="4176720" cy="1800000"/>
          </a:xfrm>
          <a:prstGeom prst="wedgeRectCallout">
            <a:avLst>
              <a:gd name="adj1" fmla="val -76000"/>
              <a:gd name="adj2" fmla="val -267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1/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characterised by the type of actuators u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1/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characterised by the function or purpose of the powered actu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1/2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characterised by constructional features of the actuator or the power trans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1/5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Pneumatic or hydraulic circui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1/5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Electrical circu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1/9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Manual override in case of power 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11640" y="4365720"/>
            <a:ext cx="4032360" cy="1368360"/>
          </a:xfrm>
          <a:prstGeom prst="wedgeRectCallout">
            <a:avLst>
              <a:gd name="adj1" fmla="val -82912"/>
              <a:gd name="adj2" fmla="val -488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3/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Locks for railway freight-cars, freight containers or the like; Locks for the cargo compartments of commercial lorries, trucks or v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3/1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Locks for luggage compartments, car boot lids or car bonn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3/2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Locks for glove compartments, console boxes, fuel inlet covers or the li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3/3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Locks for passenger or like do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91280" y="5300640"/>
            <a:ext cx="3673440" cy="1368360"/>
          </a:xfrm>
          <a:prstGeom prst="wedgeRectCallout">
            <a:avLst>
              <a:gd name="adj1" fmla="val -78175"/>
              <a:gd name="adj2" fmla="val -267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/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Lock casin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/0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Strik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Lock cylinder arrang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/0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Sill-buttons, garnish buttons or inner door lock kno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/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Hand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/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Bolts or de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764640"/>
            <a:ext cx="77756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120 new subgroups will be int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5F90-495B-4AB1-A6A7-3C41E0F0F3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c"/>
                </a:solidFill>
                <a:latin typeface="Arial"/>
              </a:rPr>
              <a:t>Revision project F007 (IPC-2014.01)</a:t>
            </a:r>
            <a:br>
              <a:rPr sz="2000"/>
            </a:br>
            <a:r>
              <a:rPr b="0" lang="en-US" sz="2400" spc="-1" strike="noStrike" u="sng">
                <a:solidFill>
                  <a:srgbClr val="00408c"/>
                </a:solidFill>
                <a:uFillTx/>
                <a:latin typeface="Arial"/>
              </a:rPr>
              <a:t>H02S: Generation of electric power by using PV modules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subclass H02S will be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2089080"/>
            <a:ext cx="784872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0360" indent="-630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02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tion of electric power by conversion of infra-red radiation, visible light or ultraviolet light, e.g. using photovoltaic [PV] mod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lar heat collectors F24J 2/00; obtaining electrical energy from radioactive sources G21H 1/12; light sensitive inorganic semiconductor devices H01L 31/00; thermoelectric devices H01L 35/00; pyroelectric devices H01L 37/00; light sensitive organic semiconductor devices H01L 51/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628640"/>
            <a:ext cx="80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 main groups will be intro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3355920"/>
            <a:ext cx="7848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V power plants; Combinations of PV energy systems with other systems for the generation of electric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ing structures for PV mo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ctural details of PV modules other than those related to light convers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miconductor device aspects of modules of electrolytic light sensitive devices H01G 9/20, of inorganic PV modules H01L 31/00, of organic PV modules H01L 51/4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s or accessories in combination with PV modules, not provided for in groups H02S 10/00-H02S 30/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ing or testing of PV systems, e.g. load balancing or fault 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9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matter not provided for in other groups of this sub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95316-840C-460E-ACED-AAAC12CC94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408c"/>
                </a:solidFill>
                <a:uFillTx/>
                <a:latin typeface="Arial"/>
              </a:rPr>
              <a:t>H02S: Generation of electric power by using PV modules (cont.)</a:t>
            </a:r>
            <a:endParaRPr b="0" lang="en-US" sz="20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1771560"/>
            <a:ext cx="784872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0360" indent="-630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02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tion of electric power by conversion of infra-red radiation, visible light or ultraviolet light, e.g. using photovoltaic [PV] mod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lar heat collectors F24J 2/00; obtaining electrical energy from radioactive sources G21H 1/12; light sensitive inorganic semiconductor devices H01L 31/00; thermoelectric devices H01L 35/00; pyroelectric devices H01L 37/00; light sensitive organic semiconductor devices H01L 51/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V power plants; Combinations of PV energy systems with other systems for the generation of electric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ing structures for PV mo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ctural details of PV modules other than those related to light convers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miconductor device aspects of modules of electrolytic light sensitive devices H01G 9/20, of inorganic PV modules H01L 31/00, of organic PV modules H01L 51/4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s or accessories in combination with PV modules, not provided for in groups H02S 10/00-H02S 30/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ing or testing of PV systems, e.g. load balancing or fault 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9/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matter not provided for in other groups of this sub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56000" y="2421000"/>
            <a:ext cx="4248360" cy="863640"/>
          </a:xfrm>
          <a:prstGeom prst="wedgeRectCallout">
            <a:avLst>
              <a:gd name="adj1" fmla="val -67115"/>
              <a:gd name="adj2" fmla="val 420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/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including a supplementary source of electric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/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Hybrid wind-PV energy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/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Systems characterised by their energy storage m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/3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Thermophotovoltaic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/4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Mobile PV generator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27640" y="3068640"/>
            <a:ext cx="4392360" cy="1655640"/>
          </a:xfrm>
          <a:prstGeom prst="wedgeRectCallout">
            <a:avLst>
              <a:gd name="adj1" fmla="val -64421"/>
              <a:gd name="adj2" fmla="val -111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/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Supporting structures directly fixed to the 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/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Supporting structures directly fixed to an immovable ob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/2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specially adapted for motorw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/2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specially adapted for build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/2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• specially adapted for roof struc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/2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• • specially adapted for flat roo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/2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• • Roof tile el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/2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• Building materials integrated with PV mod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/3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Supporting structures being movable or adjus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/3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specially adapted for solar trac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4292640"/>
            <a:ext cx="4392360" cy="431640"/>
          </a:xfrm>
          <a:prstGeom prst="wedgeRectCallout">
            <a:avLst>
              <a:gd name="adj1" fmla="val -61240"/>
              <a:gd name="adj2" fmla="val -56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/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Frame struc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/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Collapsible or foldable PV mod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4508640"/>
            <a:ext cx="4572000" cy="1871640"/>
          </a:xfrm>
          <a:prstGeom prst="wedgeRectCallout">
            <a:avLst>
              <a:gd name="adj1" fmla="val -66634"/>
              <a:gd name="adj2" fmla="val -35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Cleaning arrang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Means for removing sn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Optical compon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2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Light-reflecting or light-concentrating mea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3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Electrical compon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3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comprising DC/AC inverter means associated with the PV module itsel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3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comprising specially adapted electrical connection means to be structurally associated with the PV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3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characterised by special electrical interconnection means between two or more PV mod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3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Energy storage means, e.g. batteries, structurally associated with PV mod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4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Thermal compone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4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Cooling m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/4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Means to utilise heat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16360" y="6091200"/>
            <a:ext cx="3816360" cy="433440"/>
          </a:xfrm>
          <a:prstGeom prst="wedgeRectCallout">
            <a:avLst>
              <a:gd name="adj1" fmla="val -67972"/>
              <a:gd name="adj2" fmla="val -180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/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Testing of PV devi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/1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• using optical means, e.g. using electroluminesc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064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40 new subgroups will be int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C7994-DEFA-43A9-A71F-43E3AF5F4C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408c"/>
                </a:solidFill>
                <a:uFillTx/>
                <a:latin typeface="Arial"/>
              </a:rPr>
              <a:t>Trend in IPC revision (2010-2014)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04720" y="1007280"/>
            <a:ext cx="8675640" cy="5853960"/>
            <a:chOff x="504720" y="1007280"/>
            <a:chExt cx="8675640" cy="5853960"/>
          </a:xfrm>
        </p:grpSpPr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504720" y="1162080"/>
              <a:ext cx="8675640" cy="56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250040" y="100728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w grou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38880" y="5760360"/>
              <a:ext cx="13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C ver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58640" y="63334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5183280" cy="19018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E725-B251-4C08-B5FC-5A57033DA90D}" type="slidenum">
              <a:t>17</a:t>
            </a:fld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2997000"/>
            <a:ext cx="822960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22C3C-2E11-4FA0-A6D5-D08FF46F9A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408c"/>
                </a:solidFill>
                <a:uFillTx/>
                <a:latin typeface="Arial"/>
              </a:rPr>
              <a:t>IPC-2012.01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8360" y="1324080"/>
            <a:ext cx="8424720" cy="383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55C99-A8A3-4287-8F6E-DA45F6A81B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408c"/>
                </a:solidFill>
                <a:uFillTx/>
                <a:latin typeface="Arial"/>
              </a:rPr>
              <a:t>IPC-2013.01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280360" cy="39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5AF8A-9F40-43E4-80CA-B976A1C439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408c"/>
                </a:solidFill>
                <a:uFillTx/>
                <a:latin typeface="Arial"/>
              </a:rPr>
              <a:t>IPC-2013.01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351640" cy="400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B31CF-058F-4804-ACFF-EE5C2C6ABA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c"/>
                </a:solidFill>
                <a:latin typeface="Arial"/>
              </a:rPr>
              <a:t>Revision project A041 (IPC-2013.01)</a:t>
            </a:r>
            <a:br>
              <a:rPr sz="2000"/>
            </a:br>
            <a:r>
              <a:rPr b="0" lang="en-US" sz="2400" spc="-1" strike="noStrike" u="sng">
                <a:solidFill>
                  <a:srgbClr val="00408c"/>
                </a:solidFill>
                <a:uFillTx/>
                <a:latin typeface="Arial"/>
              </a:rPr>
              <a:t>G04R:Radio-controlled time-pieces 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064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subclass G04R had been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main groups had been intro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2422440"/>
            <a:ext cx="81356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04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IO-CONTROLLED TIME-PI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2997360"/>
            <a:ext cx="6480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/00  Setting the time according to the time information carried or implied by the radio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/00  Correcting the clock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/00  Constructional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16A5-851F-4B97-BD9C-FC242AA8B0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906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408c"/>
                </a:solidFill>
                <a:uFillTx/>
                <a:latin typeface="Arial"/>
              </a:rPr>
              <a:t>G04R:Radio-controlled time-pieces (cont.)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1916280"/>
            <a:ext cx="532764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04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IO-CONTROLLED TIME-PI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/00  Setting the time according to the time information carried or implied by the radio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/00  Correcting the clock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/00  Constructional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5080" y="2276640"/>
            <a:ext cx="4464000" cy="2519280"/>
          </a:xfrm>
          <a:prstGeom prst="wedgeRectCallout">
            <a:avLst>
              <a:gd name="adj1" fmla="val -61273"/>
              <a:gd name="adj2" fmla="val -188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02 • the radio signal being sent by a satellite, e.g. G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04 • • Tuning or receiving; Circuits there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06 • • Decoding time data; Circuits there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08 • the radio signal being broadcast from a long-wave call 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10 • • Tuning or receiving; Circuits there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12 • • Decoding time data; Circuits there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14 • the radio signal being a telecommunication standard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16 • • Tuning or receiving; Circuits there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18 • • Decoding time data; Circuits there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20 • the radio signal being an AM/FM standard signal, e.g. 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22 • • Tuning or receiving; Circuits there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24 • • Decoding time data; Circuits there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26 • the radio signal being a near-field communication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28 • • Tuning or receiving; Circuits there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20/30 • • Decoding time data; Circuits there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00720" y="4724280"/>
            <a:ext cx="4319280" cy="649440"/>
          </a:xfrm>
          <a:prstGeom prst="wedgeRectCallout">
            <a:avLst>
              <a:gd name="adj1" fmla="val -54226"/>
              <a:gd name="adj2" fmla="val -98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40/02 • by phase loc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40/04 • by detecting the radio signal frequ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40/06 • by computing the time value implied by the radio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5372280"/>
            <a:ext cx="4608360" cy="1152360"/>
          </a:xfrm>
          <a:prstGeom prst="wedgeRectCallout">
            <a:avLst>
              <a:gd name="adj1" fmla="val -59162"/>
              <a:gd name="adj2" fmla="val -70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60/02 • Antennas also serving as components of clocks or wat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60/04 • Antennas attached to or integrated in watch bracel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60/06 • Antennas attached to or integrated in clock or watch bo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60/08 • • inside bez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60/10 • • inside c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60/12 • • • inside metal c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4R 60/14 • specific to electromechanical timepie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064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30 new subgroups had been int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47233-54B0-4F94-8449-13F6B288CD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c"/>
                </a:solidFill>
                <a:latin typeface="Arial"/>
              </a:rPr>
              <a:t>Revision project A044 (IPC-2013.01)</a:t>
            </a:r>
            <a:br>
              <a:rPr sz="2400"/>
            </a:br>
            <a:r>
              <a:rPr b="0" lang="en-US" sz="2400" spc="-1" strike="noStrike" u="sng">
                <a:solidFill>
                  <a:srgbClr val="00408c"/>
                </a:solidFill>
                <a:uFillTx/>
                <a:latin typeface="Arial"/>
              </a:rPr>
              <a:t>G06F 21/00: Security arrangements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52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 the main group G06F 21/00, 5 one dot groups had been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2058840"/>
            <a:ext cx="77756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46040" indent="-13460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06F 21/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arrangements for protecting computers, components thereof, programs or data against unauthorise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2855880"/>
            <a:ext cx="719964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10  • Protecting distributed programs or content, e.g. vending or licensing of copyrighted ma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30  • Authentication, i.e. establishing the identity or authorisation of security princip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50  • Monitoring users, programs or devices to maintain the integrity of platforms, e.g. of processors, firmware or operating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60  • Protecting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70  • Protecting specific internal or peripheral components, in which the protection of a component leads to protection of the entire comp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46730-0BFF-4F73-8126-83043EFD78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56160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408c"/>
                </a:solidFill>
                <a:uFillTx/>
                <a:latin typeface="Arial"/>
              </a:rPr>
              <a:t>G06F 21/00: Security arrangements (cont.)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630440"/>
            <a:ext cx="7199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spcBef>
                <a:spcPts val="1125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/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arrangements for protecting computers, components thereof, programs or data against unauthorise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440" y="2421000"/>
            <a:ext cx="575928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10  • Protecting distributed programs or content, e.g. vending or licensing of copyrighted ma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30  • Authentication, i.e. establishing the identity or authorisation of security princip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50  • Monitoring users, programs or devices to maintain the integrity of platforms, e.g. of processors, firmware or operating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60  • Protecting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70  • Protecting specific internal or peripheral components, in which the protection of a component leads to protection of the entire comp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56360" y="2276640"/>
            <a:ext cx="3887640" cy="645840"/>
          </a:xfrm>
          <a:prstGeom prst="wedgeRectCallout">
            <a:avLst>
              <a:gd name="adj1" fmla="val -69314"/>
              <a:gd name="adj2" fmla="val 22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12 • • Protecting executable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14 • • • against software analysis or reverse engine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16 • • Program or content trace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76720" y="2852640"/>
            <a:ext cx="4067280" cy="2232000"/>
          </a:xfrm>
          <a:prstGeom prst="wedgeRectCallout">
            <a:avLst>
              <a:gd name="adj1" fmla="val -84037"/>
              <a:gd name="adj2" fmla="val -302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31 • • User authent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32 • • • using biometric data, e.g. fingerprints, iris scans or voicepr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33 • • • using certific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34 • • • involving the use of external additional devices, e.g. dongles or smart c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35 • • • • communicating wireless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36 • • • by graphic or iconic re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40 • • • by quorum, i.e. whereby two or more security principals are requi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41 • • • where a single sign-on provides access to a plurality of compu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42 • • • using separate channels for security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43 • • • • wireless chann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44 • • Program or device authent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45 • • Structures or tools for the administration of authent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46 • • • by designing passwords or checking the strength of pass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4076640"/>
            <a:ext cx="4356000" cy="1152720"/>
          </a:xfrm>
          <a:prstGeom prst="wedgeRectCallout">
            <a:avLst>
              <a:gd name="adj1" fmla="val -78499"/>
              <a:gd name="adj2" fmla="val -398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51 • • at application loading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52 • • during program exec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53 • • • by executing in a restricted environment, e.g. sandbox or secure virtual mach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54 • • • by adding security routines or objects to progr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55 • • Detecting local intrusion or implementing counter-meas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56 • • • Computer malware detection or handling, e.g. anti-virus arrang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57 • • Certifying or maintaining trusted computer plat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4795920"/>
            <a:ext cx="3384720" cy="433440"/>
          </a:xfrm>
          <a:prstGeom prst="wedgeRectCallout">
            <a:avLst>
              <a:gd name="adj1" fmla="val -103939"/>
              <a:gd name="adj2" fmla="val -701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62 • • Protecting access to data via a plat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64 • • Protecting data integ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3640" y="5202360"/>
            <a:ext cx="4140360" cy="1655640"/>
          </a:xfrm>
          <a:prstGeom prst="wedgeRectCallout">
            <a:avLst>
              <a:gd name="adj1" fmla="val -67712"/>
              <a:gd name="adj2" fmla="val -275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71 • • to assure secure computing or processing of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78 • • to assure secure storage of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81 • • by operating on the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82 • • Protecting input, output or interconnectio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86 • • Secure or tamper-resistant hous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06F 21/88 • • Detecting or preventing theft or l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05408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50 new subgroups had been int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2DA8-6A1E-46D6-8744-7818755410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c"/>
                </a:solidFill>
                <a:latin typeface="Arial"/>
              </a:rPr>
              <a:t>Revision project F004 (IPC-2013.01)</a:t>
            </a:r>
            <a:br>
              <a:rPr sz="2000"/>
            </a:br>
            <a:r>
              <a:rPr b="0" lang="en-US" sz="2400" spc="-1" strike="noStrike" u="sng">
                <a:solidFill>
                  <a:srgbClr val="00408c"/>
                </a:solidFill>
                <a:uFillTx/>
                <a:latin typeface="Arial"/>
              </a:rPr>
              <a:t>G10L: Speech analysis or synthesis, Speech recognition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1484280"/>
            <a:ext cx="7847280" cy="42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10L SPEECH ANALYSIS OR SYNTHESIS; SPEECH RECOGNITION; SPEECH OR VOICE PROCESSING; SPEECH OR AUDIO CODING OR DE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/00 Speech synthesis; Text to speech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/00 Speech recogni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10L 17/00 takes precedenc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/00 Speaker identification or ve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/00 Speech or audio signal analysis-synthesis techniques for redundancy reduction, e.g. in vocoders; Coding or decoding of speech or audio signals, using source filter models or psychoacoustic analys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musical instruments G10H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/00 Processing of the speech or voice signal to produce another audible or non-audible sign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10L 19/00 takes preced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/00 Speech or voice analysis techniques not restricted to a single one of groups G10L 15/00-G10L 21/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9/00 Subject matter not provided for in other groups of this sub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B7E5B-FE4B-4230-839B-2515D22D39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8:02:35Z</dcterms:created>
  <dc:creator>WIPO</dc:creator>
  <dc:description/>
  <cp:keywords>IPC</cp:keywords>
  <dc:language>en-US</dc:language>
  <cp:lastModifiedBy>Malanga</cp:lastModifiedBy>
  <dcterms:modified xsi:type="dcterms:W3CDTF">2013-02-25T18:50:40Z</dcterms:modified>
  <cp:revision>66</cp:revision>
  <dc:subject>IPC Workshop (2013) - Recent developments in the IPC</dc:subject>
  <dc:title>IPC Workshop (2013) - Recent developments in the IPC</dc:title>
</cp:coreProperties>
</file>