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92BBB-9698-4327-84C5-228B372763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tex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for balancing moving parts; elements for damping the movement of parts; elements for restraining or preventing the movement of parts, e.g. for zeroising; caging devices for moving parts when not in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01D 11/08 – G01D 11/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ve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 is drawn to the following places, which may be of interest for sear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for absorbing shock or damping vibr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6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ression of vibrations i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6F 15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A4B5-6403-4288-A57D-8CE6564F2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41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EFC0-0E05-4B61-B723-B7C159A62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12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EB93-7D88-4A72-B6AF-D62F5B336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568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416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568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416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4438-276C-4E0E-95B5-9ADBB3C4A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6840" y="240840"/>
            <a:ext cx="82184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09B5-36F7-4EB6-A7BB-F05904413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12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840" y="4041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12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568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4160" y="1773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84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568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4160" y="4041360"/>
            <a:ext cx="26460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E233-18A0-47A7-AAC0-FD257A379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CEC6-368A-4AFF-8E8A-96153996D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0430-D03D-436A-AFFC-3E545EA95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40840"/>
            <a:ext cx="82184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97F8-9847-44A0-8AA1-E678C5EC0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FCAA-E706-4E39-8839-6B3ED3D52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120" y="4041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1108-A19E-4EE8-A16E-87F63A7E0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773360"/>
            <a:ext cx="401040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41360"/>
            <a:ext cx="82184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9FB5-824F-4340-AE47-0782AFFC5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467C1-D7F6-4E6E-A282-908DA70DC240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Bruno.Pouliquen@wipo.int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atentscope.wipo.int/translate/simpleTranslate.jsf?id=JP75694586&amp;langpair=jaen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patentscope.wipo.int/translateUN/translateIPC.jsf" TargetMode="External"/><Relationship Id="rId4" Type="http://schemas.openxmlformats.org/officeDocument/2006/relationships/hyperlink" Target="http://patentscope.wipo.int/translateUN/translateIPC.jsf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0000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Tapta4IPC: </a:t>
            </a: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helping translation of IPC definition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040" y="5805360"/>
            <a:ext cx="69343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Bruno Pouliquen (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ヒラギノ角ゴ Pro W3"/>
                <a:hlinkClick r:id="rId2"/>
              </a:rPr>
              <a:t>Bruno.Pouliquen@wipo.int</a:t>
            </a: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83360" y="6408720"/>
            <a:ext cx="2529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25 feb 2013, IPC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4319640"/>
            <a:ext cx="8237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ranslation assistant for patent titles and abstracts in PATENTSCOPE - potential use in translating IPC definitions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96360" y="533520"/>
            <a:ext cx="1778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59720" y="863640"/>
            <a:ext cx="19044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98400" y="863640"/>
            <a:ext cx="822960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SzPct val="102812"/>
              <a:buBlip>
                <a:blip r:embed="rId2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http://fulty3.wipo.int:8080/Wtapta/translateIPC.j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4040" y="21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408c"/>
                </a:solidFill>
                <a:latin typeface="Arial"/>
              </a:rPr>
              <a:t>Tapta4IPC prototype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6920" y="1125360"/>
            <a:ext cx="6608880" cy="337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826920" y="230508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onclusion / future work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prototype, but the quality looks alread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eval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integrate the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CA6TRANSDEF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langu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1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apta4IPC in various languag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ta4IPC should work reasonably well on the following languages (we have built some language specific tools and we have patent corpor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ch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ugu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hallen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zech, Slovak, Polish (many word forms, training corpus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n (even more word forms, would in theory require more training corp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languages: Arabic, Italian, Danish, Swedish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hank you for your attention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050560" y="2058480"/>
            <a:ext cx="5699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شكرا لكم على اهتمامكم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rci pour votre atten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感谢您的关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zie per la vostra attenzi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¡ Gracias por su atención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Vielen Dank für Ihre Aufmerksamkeit!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rigado pela vossa atençã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ziękuję bardzo za Państwa uwagę!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ěkujeme za Vaši pozorn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Ďakujem ti veľmi pekne za tvoju pozornos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änan tähelepanu ee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Благодарим за Вашето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ak for Jeres opmærksomh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ank you for your atten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299999993294478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292720" y="4579920"/>
            <a:ext cx="385128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0920" y="907920"/>
            <a:ext cx="7560720" cy="947520"/>
            <a:chOff x="250920" y="907920"/>
            <a:chExt cx="7560720" cy="947520"/>
          </a:xfrm>
        </p:grpSpPr>
        <p:sp>
          <p:nvSpPr>
            <p:cNvPr id="99" name=""/>
            <p:cNvSpPr/>
            <p:nvPr/>
          </p:nvSpPr>
          <p:spPr>
            <a:xfrm>
              <a:off x="581760" y="921960"/>
              <a:ext cx="722988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192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tistical Machine Translation: bottom-up approa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192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 rules, no grammar, no dictionary, no terminology, only the parallel texts (bitexts)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192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192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6720" y="907920"/>
              <a:ext cx="1645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50920" y="1015560"/>
              <a:ext cx="257760" cy="2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495360" y="2733840"/>
            <a:ext cx="8227800" cy="947160"/>
            <a:chOff x="495360" y="2733840"/>
            <a:chExt cx="8227800" cy="947160"/>
          </a:xfrm>
        </p:grpSpPr>
        <p:sp>
          <p:nvSpPr>
            <p:cNvPr id="103" name=""/>
            <p:cNvSpPr/>
            <p:nvPr/>
          </p:nvSpPr>
          <p:spPr>
            <a:xfrm>
              <a:off x="855720" y="2747880"/>
              <a:ext cx="7867440" cy="9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336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use an open-source system: Mo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3360" indent="-331920"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4120" y="2733840"/>
              <a:ext cx="17928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495360" y="2839680"/>
              <a:ext cx="280800" cy="26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485640" y="3886200"/>
            <a:ext cx="7181640" cy="1702800"/>
            <a:chOff x="485640" y="3886200"/>
            <a:chExt cx="7181640" cy="1702800"/>
          </a:xfrm>
        </p:grpSpPr>
        <p:sp>
          <p:nvSpPr>
            <p:cNvPr id="107" name=""/>
            <p:cNvSpPr/>
            <p:nvPr/>
          </p:nvSpPr>
          <p:spPr>
            <a:xfrm>
              <a:off x="799920" y="3908520"/>
              <a:ext cx="686736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pta: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slation of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tent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tles and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stra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iginally built to translate patent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apted to various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3880" y="3886200"/>
              <a:ext cx="15660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85640" y="4077000"/>
              <a:ext cx="245160" cy="47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457200" y="-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499520" y="2197080"/>
            <a:ext cx="1033200" cy="16635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7308720" y="692280"/>
            <a:ext cx="1582920" cy="1368360"/>
            <a:chOff x="7308720" y="692280"/>
            <a:chExt cx="1582920" cy="1368360"/>
          </a:xfrm>
        </p:grpSpPr>
        <p:sp>
          <p:nvSpPr>
            <p:cNvPr id="113" name=""/>
            <p:cNvSpPr/>
            <p:nvPr/>
          </p:nvSpPr>
          <p:spPr>
            <a:xfrm>
              <a:off x="7308720" y="692280"/>
              <a:ext cx="1582920" cy="1368360"/>
            </a:xfrm>
            <a:prstGeom prst="triangle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83640" y="1339920"/>
              <a:ext cx="433440" cy="3603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12000" y="177192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12000" y="106524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4932360" y="5373720"/>
            <a:ext cx="928800" cy="1033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3564000" y="5373720"/>
            <a:ext cx="1152360" cy="99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rcRect l="54772" t="0" r="0" b="0"/>
          <a:stretch/>
        </p:blipFill>
        <p:spPr>
          <a:xfrm>
            <a:off x="2411280" y="5157720"/>
            <a:ext cx="101304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292720" y="4579920"/>
            <a:ext cx="385128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4795920"/>
            <a:ext cx="7920000" cy="1557360"/>
          </a:xfrm>
          <a:prstGeom prst="rightArrow">
            <a:avLst>
              <a:gd name="adj1" fmla="val 87972"/>
              <a:gd name="adj2" fmla="val 57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4080" y="3235320"/>
            <a:ext cx="65246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ystem prepares the data for Moses, apply some post-processing (filter, pruning, binarization, optimization…) and offers a Web interface to trans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400" y="3213000"/>
            <a:ext cx="1494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apta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826920" y="5021280"/>
            <a:ext cx="792360" cy="987480"/>
            <a:chOff x="826920" y="5021280"/>
            <a:chExt cx="792360" cy="98748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863640" y="5021280"/>
              <a:ext cx="755640" cy="75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26920" y="5732280"/>
              <a:ext cx="64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e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547640" y="5011560"/>
            <a:ext cx="792360" cy="974880"/>
            <a:chOff x="1547640" y="5011560"/>
            <a:chExt cx="792360" cy="97488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1547640" y="501156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547640" y="5803560"/>
              <a:ext cx="7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-cle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68360" y="4940280"/>
            <a:ext cx="792360" cy="1190880"/>
            <a:chOff x="2268360" y="4940280"/>
            <a:chExt cx="792360" cy="1190880"/>
          </a:xfrm>
        </p:grpSpPr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2378160" y="4940280"/>
              <a:ext cx="6094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268360" y="5948280"/>
              <a:ext cx="7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in-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059280" y="5011560"/>
            <a:ext cx="865080" cy="903600"/>
            <a:chOff x="3059280" y="5011560"/>
            <a:chExt cx="865080" cy="903600"/>
          </a:xfrm>
        </p:grpSpPr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3059280" y="501156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132000" y="5732280"/>
              <a:ext cx="7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st-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51280" y="4940280"/>
            <a:ext cx="863640" cy="1046520"/>
            <a:chOff x="3851280" y="4940280"/>
            <a:chExt cx="863640" cy="1046520"/>
          </a:xfrm>
        </p:grpSpPr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3851280" y="4940280"/>
              <a:ext cx="86364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140360" y="5803920"/>
              <a:ext cx="43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u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788000" y="4940280"/>
            <a:ext cx="863640" cy="1046520"/>
            <a:chOff x="4788000" y="4940280"/>
            <a:chExt cx="863640" cy="104652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4788000" y="4940280"/>
              <a:ext cx="826920" cy="8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932360" y="5803920"/>
              <a:ext cx="71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nar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506920" y="4940280"/>
            <a:ext cx="1008360" cy="1046520"/>
            <a:chOff x="5506920" y="4940280"/>
            <a:chExt cx="1008360" cy="1046520"/>
          </a:xfrm>
        </p:grpSpPr>
        <p:pic>
          <p:nvPicPr>
            <p:cNvPr id="144" name="" descr=""/>
            <p:cNvPicPr/>
            <p:nvPr/>
          </p:nvPicPr>
          <p:blipFill>
            <a:blip r:embed="rId8"/>
            <a:stretch/>
          </p:blipFill>
          <p:spPr>
            <a:xfrm>
              <a:off x="5506920" y="4940280"/>
              <a:ext cx="1008360" cy="8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724360" y="5803920"/>
              <a:ext cx="71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tim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589800" y="4900680"/>
            <a:ext cx="1077840" cy="1154160"/>
            <a:chOff x="6589800" y="4900680"/>
            <a:chExt cx="1077840" cy="1154160"/>
          </a:xfrm>
        </p:grpSpPr>
        <p:pic>
          <p:nvPicPr>
            <p:cNvPr id="147" name="" descr=""/>
            <p:cNvPicPr/>
            <p:nvPr/>
          </p:nvPicPr>
          <p:blipFill>
            <a:blip r:embed="rId9"/>
            <a:stretch/>
          </p:blipFill>
          <p:spPr>
            <a:xfrm>
              <a:off x="6589800" y="4900680"/>
              <a:ext cx="1077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804000" y="5871960"/>
              <a:ext cx="71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bli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flipH="1" flipV="1" rot="16200000">
            <a:off x="5794920" y="1988640"/>
            <a:ext cx="1081080" cy="790560"/>
          </a:xfrm>
          <a:custGeom>
            <a:avLst/>
            <a:gdLst>
              <a:gd name="textAreaLeft" fmla="*/ -360 w 1081080"/>
              <a:gd name="textAreaRight" fmla="*/ 1081080 w 1081080"/>
              <a:gd name="textAreaTop" fmla="*/ 360 h 790560"/>
              <a:gd name="textAreaBottom" fmla="*/ 791280 h 79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790640" y="981000"/>
            <a:ext cx="3796560" cy="2366280"/>
            <a:chOff x="1790640" y="981000"/>
            <a:chExt cx="3796560" cy="2366280"/>
          </a:xfrm>
        </p:grpSpPr>
        <p:grpSp>
          <p:nvGrpSpPr>
            <p:cNvPr id="151" name=""/>
            <p:cNvGrpSpPr/>
            <p:nvPr/>
          </p:nvGrpSpPr>
          <p:grpSpPr>
            <a:xfrm>
              <a:off x="1790640" y="981000"/>
              <a:ext cx="3796560" cy="2366280"/>
              <a:chOff x="1790640" y="981000"/>
              <a:chExt cx="3796560" cy="236628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4571280" y="981000"/>
                <a:ext cx="1015920" cy="2366280"/>
                <a:chOff x="4571280" y="981000"/>
                <a:chExt cx="1015920" cy="23662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572000" y="981000"/>
                  <a:ext cx="1008000" cy="936720"/>
                </a:xfrm>
                <a:prstGeom prst="can">
                  <a:avLst>
                    <a:gd name="adj" fmla="val 25000"/>
                  </a:avLst>
                </a:prstGeom>
                <a:noFill/>
                <a:ln cap="sq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1280" y="1216080"/>
                  <a:ext cx="10159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</a:rPr>
                    <a:t>languag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670280" y="3009960"/>
                  <a:ext cx="792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itex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2987640" y="1773360"/>
                <a:ext cx="1419120" cy="492120"/>
              </a:xfrm>
              <a:prstGeom prst="rightArrow">
                <a:avLst>
                  <a:gd name="adj1" fmla="val 50000"/>
                  <a:gd name="adj2" fmla="val 72092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916360" y="2265480"/>
                <a:ext cx="15843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ather/convert 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90640" y="1197000"/>
                <a:ext cx="647640" cy="647640"/>
              </a:xfrm>
              <a:prstGeom prst="verticalScroll">
                <a:avLst>
                  <a:gd name="adj" fmla="val 12500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790640" y="1916280"/>
                <a:ext cx="79056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1790640" y="2708280"/>
                <a:ext cx="647640" cy="504720"/>
              </a:xfrm>
              <a:prstGeom prst="flowChartMagneticDisk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4565520" y="1969920"/>
              <a:ext cx="1008360" cy="93672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64800" y="2205000"/>
              <a:ext cx="101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angu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ntroduction: Tapt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IPO, as part of Patentscop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glish,French,German,Chinese,Japane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atentscope.wipo.int/translate/simpleTranslate.jsf?id=JP75694586&amp;langpair=ja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translation of a patent application only available in Japanes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nited Natio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glish from/into Arabic,French,Spanish,Russian &amp; Chines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42920" y="2886120"/>
            <a:ext cx="7151760" cy="1047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84080" y="4334040"/>
            <a:ext cx="4364280" cy="2479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-36360" y="5694480"/>
            <a:ext cx="9180360" cy="830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rcRect l="54772" t="0" r="0" b="0"/>
          <a:stretch/>
        </p:blipFill>
        <p:spPr>
          <a:xfrm>
            <a:off x="0" y="1844640"/>
            <a:ext cx="422280" cy="619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0" y="3973680"/>
            <a:ext cx="53964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408c"/>
                </a:solidFill>
                <a:latin typeface="Arial"/>
              </a:rPr>
              <a:t>Technical workflow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364000" y="5230800"/>
            <a:ext cx="2951280" cy="719280"/>
            <a:chOff x="5364000" y="5230800"/>
            <a:chExt cx="2951280" cy="719280"/>
          </a:xfrm>
        </p:grpSpPr>
        <p:sp>
          <p:nvSpPr>
            <p:cNvPr id="173" name=""/>
            <p:cNvSpPr/>
            <p:nvPr/>
          </p:nvSpPr>
          <p:spPr>
            <a:xfrm>
              <a:off x="5364000" y="5230800"/>
              <a:ext cx="2951280" cy="71928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2840" y="5373720"/>
              <a:ext cx="22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Moses’ 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523880" y="1628640"/>
            <a:ext cx="816120" cy="360360"/>
          </a:xfrm>
          <a:prstGeom prst="rightArrow">
            <a:avLst>
              <a:gd name="adj1" fmla="val 50000"/>
              <a:gd name="adj2" fmla="val 56618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27280" y="472428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2600000">
            <a:off x="4948200" y="5812920"/>
            <a:ext cx="287280" cy="432000"/>
          </a:xfrm>
          <a:prstGeom prst="downArrow">
            <a:avLst>
              <a:gd name="adj1" fmla="val 50000"/>
              <a:gd name="adj2" fmla="val 37594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932360" y="4149720"/>
            <a:ext cx="1225440" cy="1008000"/>
            <a:chOff x="4932360" y="4149720"/>
            <a:chExt cx="1225440" cy="1008000"/>
          </a:xfrm>
        </p:grpSpPr>
        <p:sp>
          <p:nvSpPr>
            <p:cNvPr id="179" name=""/>
            <p:cNvSpPr/>
            <p:nvPr/>
          </p:nvSpPr>
          <p:spPr>
            <a:xfrm>
              <a:off x="4932360" y="4149720"/>
              <a:ext cx="1225440" cy="100800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32360" y="4437000"/>
              <a:ext cx="1152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hrase 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372360" y="4149720"/>
            <a:ext cx="1439640" cy="936720"/>
            <a:chOff x="6372360" y="4149720"/>
            <a:chExt cx="1439640" cy="936720"/>
          </a:xfrm>
        </p:grpSpPr>
        <p:sp>
          <p:nvSpPr>
            <p:cNvPr id="182" name=""/>
            <p:cNvSpPr/>
            <p:nvPr/>
          </p:nvSpPr>
          <p:spPr>
            <a:xfrm>
              <a:off x="6443640" y="4149720"/>
              <a:ext cx="1225080" cy="93672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72360" y="4365720"/>
              <a:ext cx="1439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reordering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V="1">
            <a:off x="6156360" y="5013360"/>
            <a:ext cx="288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788000" y="2421000"/>
            <a:ext cx="4358160" cy="1295280"/>
            <a:chOff x="4788000" y="2421000"/>
            <a:chExt cx="4358160" cy="1295280"/>
          </a:xfrm>
        </p:grpSpPr>
        <p:sp>
          <p:nvSpPr>
            <p:cNvPr id="186" name=""/>
            <p:cNvSpPr/>
            <p:nvPr/>
          </p:nvSpPr>
          <p:spPr>
            <a:xfrm>
              <a:off x="6443640" y="2421000"/>
              <a:ext cx="812880" cy="815760"/>
            </a:xfrm>
            <a:prstGeom prst="pie">
              <a:avLst/>
            </a:prstGeom>
            <a:solidFill>
              <a:srgbClr val="ffff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788000" y="3355920"/>
              <a:ext cx="1295640" cy="360360"/>
              <a:chOff x="4788000" y="3355920"/>
              <a:chExt cx="129564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4788000" y="3355920"/>
                <a:ext cx="1295280" cy="360360"/>
              </a:xfrm>
              <a:prstGeom prst="cube">
                <a:avLst>
                  <a:gd name="adj" fmla="val 25000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57480" y="3429000"/>
                <a:ext cx="1226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Moses deco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300720" y="3355920"/>
              <a:ext cx="1296000" cy="360360"/>
              <a:chOff x="6300720" y="3355920"/>
              <a:chExt cx="1296000" cy="360360"/>
            </a:xfrm>
          </p:grpSpPr>
          <p:sp>
            <p:nvSpPr>
              <p:cNvPr id="191" name=""/>
              <p:cNvSpPr/>
              <p:nvPr/>
            </p:nvSpPr>
            <p:spPr>
              <a:xfrm>
                <a:off x="6300720" y="3355920"/>
                <a:ext cx="1295640" cy="360360"/>
              </a:xfrm>
              <a:prstGeom prst="cube">
                <a:avLst>
                  <a:gd name="adj" fmla="val 25000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70560" y="3429000"/>
                <a:ext cx="1226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Moses deco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7850160" y="3355920"/>
              <a:ext cx="1295280" cy="36036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20000" y="3429000"/>
              <a:ext cx="122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Moses deco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69120" y="2479680"/>
              <a:ext cx="144144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Trans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552600" y="5084640"/>
          <a:ext cx="4251240" cy="1447560"/>
        </p:xfrm>
        <a:graphic>
          <a:graphicData uri="http://schemas.openxmlformats.org/drawingml/2006/table">
            <a:tbl>
              <a:tblPr/>
              <a:tblGrid>
                <a:gridCol w="1890720"/>
                <a:gridCol w="2360520"/>
              </a:tblGrid>
              <a:tr h="199440">
                <a:tc>
                  <a:txBody>
                    <a:bodyPr lIns="90000" rIns="90000" tIns="0" bIns="46800" anchor="t">
                      <a:noAutofit/>
                    </a:bodyPr>
                    <a:p>
                      <a:pPr marL="343080" indent="-33516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marL="343080" indent="-33516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trengthening of forum for human dignity : legal a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Fortalecimiento del foro para la dignidad humana – asistencia juríd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must respect all aspects of human dign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debe respetar todos los aspectos de la dignidad hum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hould fully respect human dign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MS Mincho"/>
                        </a:rPr>
                        <a:t>se deben respetar plenamente la dignidad hum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"/>
          <p:cNvGrpSpPr/>
          <p:nvPr/>
        </p:nvGrpSpPr>
        <p:grpSpPr>
          <a:xfrm>
            <a:off x="4397400" y="115920"/>
            <a:ext cx="4746600" cy="2665440"/>
            <a:chOff x="4397400" y="115920"/>
            <a:chExt cx="4746600" cy="2665440"/>
          </a:xfrm>
        </p:grpSpPr>
        <p:sp>
          <p:nvSpPr>
            <p:cNvPr id="198" name=""/>
            <p:cNvSpPr/>
            <p:nvPr/>
          </p:nvSpPr>
          <p:spPr>
            <a:xfrm>
              <a:off x="4397400" y="1555920"/>
              <a:ext cx="144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Trans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643280" y="115920"/>
              <a:ext cx="12211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149800" y="2205000"/>
              <a:ext cx="287280" cy="576360"/>
            </a:xfrm>
            <a:prstGeom prst="upDownArrow">
              <a:avLst>
                <a:gd name="adj1" fmla="val 50000"/>
                <a:gd name="adj2" fmla="val 39939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rcRect l="7921" t="15443" r="51213" b="31265"/>
            <a:stretch/>
          </p:blipFill>
          <p:spPr>
            <a:xfrm>
              <a:off x="5810400" y="496800"/>
              <a:ext cx="3333600" cy="15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7740720" y="4149720"/>
            <a:ext cx="1439640" cy="936720"/>
            <a:chOff x="7740720" y="4149720"/>
            <a:chExt cx="1439640" cy="936720"/>
          </a:xfrm>
        </p:grpSpPr>
        <p:sp>
          <p:nvSpPr>
            <p:cNvPr id="203" name=""/>
            <p:cNvSpPr/>
            <p:nvPr/>
          </p:nvSpPr>
          <p:spPr>
            <a:xfrm>
              <a:off x="7812000" y="4149720"/>
              <a:ext cx="1225440" cy="93672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40720" y="4365720"/>
              <a:ext cx="1439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language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6804000" y="3789360"/>
            <a:ext cx="57636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40000" y="1125360"/>
            <a:ext cx="1511280" cy="3456000"/>
            <a:chOff x="2340000" y="1125360"/>
            <a:chExt cx="1511280" cy="3456000"/>
          </a:xfrm>
        </p:grpSpPr>
        <p:grpSp>
          <p:nvGrpSpPr>
            <p:cNvPr id="207" name=""/>
            <p:cNvGrpSpPr/>
            <p:nvPr/>
          </p:nvGrpSpPr>
          <p:grpSpPr>
            <a:xfrm>
              <a:off x="2340000" y="4078080"/>
              <a:ext cx="1224000" cy="503280"/>
              <a:chOff x="2340000" y="4078080"/>
              <a:chExt cx="1224000" cy="503280"/>
            </a:xfrm>
          </p:grpSpPr>
          <p:sp>
            <p:nvSpPr>
              <p:cNvPr id="208" name=""/>
              <p:cNvSpPr/>
              <p:nvPr/>
            </p:nvSpPr>
            <p:spPr>
              <a:xfrm>
                <a:off x="2340000" y="407808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11280" y="4222440"/>
                <a:ext cx="107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Filter align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411280" y="2349360"/>
              <a:ext cx="1224000" cy="502920"/>
              <a:chOff x="2411280" y="2349360"/>
              <a:chExt cx="1224000" cy="502920"/>
            </a:xfrm>
          </p:grpSpPr>
          <p:sp>
            <p:nvSpPr>
              <p:cNvPr id="211" name=""/>
              <p:cNvSpPr/>
              <p:nvPr/>
            </p:nvSpPr>
            <p:spPr>
              <a:xfrm>
                <a:off x="2411280" y="2349360"/>
                <a:ext cx="1224000" cy="502920"/>
              </a:xfrm>
              <a:prstGeom prst="cube">
                <a:avLst>
                  <a:gd name="adj" fmla="val 25000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411280" y="2493720"/>
                <a:ext cx="1224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Tokeniz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2340000" y="3500280"/>
              <a:ext cx="1224000" cy="542880"/>
              <a:chOff x="2340000" y="3500280"/>
              <a:chExt cx="1224000" cy="542880"/>
            </a:xfrm>
          </p:grpSpPr>
          <p:sp>
            <p:nvSpPr>
              <p:cNvPr id="214" name=""/>
              <p:cNvSpPr/>
              <p:nvPr/>
            </p:nvSpPr>
            <p:spPr>
              <a:xfrm>
                <a:off x="2340000" y="3500280"/>
                <a:ext cx="1224000" cy="50292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411280" y="3644640"/>
                <a:ext cx="1079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Score align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2411280" y="1125360"/>
              <a:ext cx="1224000" cy="527040"/>
              <a:chOff x="2411280" y="1125360"/>
              <a:chExt cx="1224000" cy="527040"/>
            </a:xfrm>
          </p:grpSpPr>
          <p:sp>
            <p:nvSpPr>
              <p:cNvPr id="217" name=""/>
              <p:cNvSpPr/>
              <p:nvPr/>
            </p:nvSpPr>
            <p:spPr>
              <a:xfrm>
                <a:off x="2411280" y="112536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484360" y="1253880"/>
                <a:ext cx="936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Filter wrong langua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411280" y="1773000"/>
              <a:ext cx="1224000" cy="503280"/>
              <a:chOff x="2411280" y="1773000"/>
              <a:chExt cx="1224000" cy="503280"/>
            </a:xfrm>
          </p:grpSpPr>
          <p:sp>
            <p:nvSpPr>
              <p:cNvPr id="220" name=""/>
              <p:cNvSpPr/>
              <p:nvPr/>
            </p:nvSpPr>
            <p:spPr>
              <a:xfrm>
                <a:off x="2411280" y="177300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484360" y="1917360"/>
                <a:ext cx="1079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Sentence-spli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708360" y="1341000"/>
              <a:ext cx="142920" cy="576360"/>
            </a:xfrm>
            <a:custGeom>
              <a:avLst/>
              <a:gdLst>
                <a:gd name="textAreaLeft" fmla="*/ 19080 w 142920"/>
                <a:gd name="textAreaRight" fmla="*/ 123840 w 14292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08360" y="1989000"/>
              <a:ext cx="142920" cy="576000"/>
            </a:xfrm>
            <a:custGeom>
              <a:avLst/>
              <a:gdLst>
                <a:gd name="textAreaLeft" fmla="*/ 19080 w 142920"/>
                <a:gd name="textAreaRight" fmla="*/ 123840 w 142920"/>
                <a:gd name="textAreaTop" fmla="*/ 100800 h 576000"/>
                <a:gd name="textAreaBottom" fmla="*/ 4176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08360" y="2565000"/>
              <a:ext cx="142920" cy="576360"/>
            </a:xfrm>
            <a:custGeom>
              <a:avLst/>
              <a:gdLst>
                <a:gd name="textAreaLeft" fmla="*/ 19080 w 142920"/>
                <a:gd name="textAreaRight" fmla="*/ 123840 w 14292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08360" y="3141360"/>
              <a:ext cx="142920" cy="576360"/>
            </a:xfrm>
            <a:custGeom>
              <a:avLst/>
              <a:gdLst>
                <a:gd name="textAreaLeft" fmla="*/ 19080 w 142920"/>
                <a:gd name="textAreaRight" fmla="*/ 123840 w 14292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08360" y="3717720"/>
              <a:ext cx="142920" cy="576000"/>
            </a:xfrm>
            <a:custGeom>
              <a:avLst/>
              <a:gdLst>
                <a:gd name="textAreaLeft" fmla="*/ 19080 w 142920"/>
                <a:gd name="textAreaRight" fmla="*/ 123840 w 142920"/>
                <a:gd name="textAreaTop" fmla="*/ 100800 h 576000"/>
                <a:gd name="textAreaBottom" fmla="*/ 4176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2925360"/>
              <a:ext cx="1326960" cy="503280"/>
              <a:chOff x="2340000" y="2925360"/>
              <a:chExt cx="1326960" cy="50328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92536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40000" y="3070080"/>
                <a:ext cx="132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Sentence-alig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340000" y="4078080"/>
              <a:ext cx="1224000" cy="503280"/>
              <a:chOff x="2340000" y="4078080"/>
              <a:chExt cx="1224000" cy="503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340000" y="407808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11280" y="4222440"/>
                <a:ext cx="107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Filter align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411280" y="1125360"/>
              <a:ext cx="1224000" cy="527040"/>
              <a:chOff x="2411280" y="1125360"/>
              <a:chExt cx="1224000" cy="527040"/>
            </a:xfrm>
          </p:grpSpPr>
          <p:sp>
            <p:nvSpPr>
              <p:cNvPr id="234" name=""/>
              <p:cNvSpPr/>
              <p:nvPr/>
            </p:nvSpPr>
            <p:spPr>
              <a:xfrm>
                <a:off x="2411280" y="1125360"/>
                <a:ext cx="1224000" cy="5032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484360" y="1253880"/>
                <a:ext cx="936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Filter wrong langua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"/>
          <p:cNvSpPr/>
          <p:nvPr/>
        </p:nvSpPr>
        <p:spPr>
          <a:xfrm>
            <a:off x="904320" y="6524640"/>
            <a:ext cx="34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itexts aligned at sentenc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94560" y="907920"/>
            <a:ext cx="1022040" cy="2365920"/>
            <a:chOff x="394560" y="907920"/>
            <a:chExt cx="1022040" cy="2365920"/>
          </a:xfrm>
        </p:grpSpPr>
        <p:grpSp>
          <p:nvGrpSpPr>
            <p:cNvPr id="238" name=""/>
            <p:cNvGrpSpPr/>
            <p:nvPr/>
          </p:nvGrpSpPr>
          <p:grpSpPr>
            <a:xfrm>
              <a:off x="400680" y="907920"/>
              <a:ext cx="1015920" cy="2365920"/>
              <a:chOff x="400680" y="907920"/>
              <a:chExt cx="1015920" cy="2365920"/>
            </a:xfrm>
          </p:grpSpPr>
          <p:sp>
            <p:nvSpPr>
              <p:cNvPr id="239" name=""/>
              <p:cNvSpPr/>
              <p:nvPr/>
            </p:nvSpPr>
            <p:spPr>
              <a:xfrm>
                <a:off x="401400" y="907920"/>
                <a:ext cx="1007640" cy="936360"/>
              </a:xfrm>
              <a:prstGeom prst="can">
                <a:avLst>
                  <a:gd name="adj" fmla="val 25000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00680" y="1142640"/>
                <a:ext cx="1015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br>
                  <a:rPr sz="1600"/>
                </a:b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9320" y="293652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Bitex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95280" y="1896840"/>
              <a:ext cx="1008000" cy="93672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4560" y="2131920"/>
              <a:ext cx="101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angu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4920" y="0"/>
            <a:ext cx="484344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408c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408c"/>
                </a:solidFill>
                <a:latin typeface="Arial"/>
              </a:rPr>
              <a:t>IPC 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21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existing defin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IPC schema (xml on WIPO web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few” texts from pa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” transl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new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Get existing data, build parallel text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4920" y="1584360"/>
            <a:ext cx="4753080" cy="217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564000" y="1557360"/>
            <a:ext cx="5280120" cy="2222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34920" y="4067280"/>
            <a:ext cx="5402160" cy="13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ipcEntry kind="1" symbol="B61F0019020000" ipcLevel="A" entryType="K" lang="EN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extBody&gt; &lt;title&gt; &lt;titlePa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ext&gt;Wheel guards&lt;/tex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titlePart&gt;&lt;/title&gt;&lt;/text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ipcEntr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89080" y="5850000"/>
            <a:ext cx="5565240" cy="91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/2013/0145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TYRE FOR VEHICLE WHEEL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NEUMATIQUE POUR ROUES DE VÉHI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61080" y="378936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 schem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0560" y="553716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ent tex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03880" y="4060800"/>
            <a:ext cx="4128840" cy="13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ipcEntry kind="1" symbol="B61F0019020000" ipcLevel="A" entryType="K" lang="F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extBody&gt; &lt;title&gt;&lt;titlePa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ext&gt;Couvre-roues&lt;/tex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titlePart&gt;&lt;/title&gt;&lt;/text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ipcEntr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35640" y="4653000"/>
            <a:ext cx="1081080" cy="36036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4724280"/>
            <a:ext cx="1225440" cy="28908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76360" y="3573360"/>
            <a:ext cx="576360" cy="28908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3500280"/>
            <a:ext cx="576360" cy="28908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6093000"/>
            <a:ext cx="3384720" cy="36036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63640" y="6453360"/>
            <a:ext cx="5040360" cy="40464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4360" y="2133720"/>
            <a:ext cx="6586560" cy="115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411280" y="1989000"/>
          <a:ext cx="6551640" cy="1224000"/>
        </p:xfrm>
        <a:graphic>
          <a:graphicData uri="http://schemas.openxmlformats.org/drawingml/2006/table">
            <a:tbl>
              <a:tblPr/>
              <a:tblGrid>
                <a:gridCol w="2598840"/>
                <a:gridCol w="3952800"/>
              </a:tblGrid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Whe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o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Wheel gu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vre-ro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yre for vehicle whe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neumatique pour roues de véhi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687960" y="12034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defini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51280" y="1700280"/>
            <a:ext cx="316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ext: training materia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17000">
            <a:off x="1834920" y="2852640"/>
            <a:ext cx="57456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40840"/>
            <a:ext cx="8218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How well it works?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8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1844640"/>
            <a:ext cx="822960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048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evaluation: BLEU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0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 : similarity of n-grams between evaluated and reference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048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IPC definition English-Frenc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eu=4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048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thout patent data: 4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048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25640" y="4357800"/>
            <a:ext cx="50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763640" y="443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1763640" y="486900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925640" y="4797360"/>
            <a:ext cx="50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human post-e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54040" y="21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408c"/>
                </a:solidFill>
                <a:latin typeface="Arial"/>
              </a:rPr>
              <a:t>Tapta4IPC prototype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79440" y="1198440"/>
            <a:ext cx="6608880" cy="3372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79480" y="5248440"/>
            <a:ext cx="5997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 demo u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atentscope.wipo.int/translateUN/translateIPC.j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07:04:21Z</dcterms:created>
  <dc:creator>Bruno Pouliquen</dc:creator>
  <dc:description/>
  <cp:keywords>IPC</cp:keywords>
  <dc:language>en-US</dc:language>
  <cp:lastModifiedBy>Malanga</cp:lastModifiedBy>
  <dcterms:modified xsi:type="dcterms:W3CDTF">2013-02-25T18:54:54Z</dcterms:modified>
  <cp:revision>47</cp:revision>
  <dc:subject>IPC Workshop (2013) - Tapta4IPC:  helping translation of IPC definitions</dc:subject>
  <dc:title>IPC Workshop (2013) - Tapta4IPC:  helping translation of IPC definitions</dc:title>
</cp:coreProperties>
</file>