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488-3EF4-4A2E-9BE5-CE09D142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3B8-5793-443D-BAFB-2DD9287A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DD8-D602-401D-89F2-D647E5BD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204-D418-4BB3-BAAE-74DBC4B5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CE6C-D0EC-40E5-910C-5DCBD091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1B29-3C85-43F6-A004-F3E13FC0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CF34-E9AE-4CCE-B6D8-8D2F7A48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85E9-96C0-4F9E-8525-24B0025F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E35A-889D-42A6-B705-E85E5318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A42D-C7BE-47B4-A752-D3E4B81E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0A5B-49E0-417C-8268-A180571E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D18-A1D5-4063-A5BF-971C6BCA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7E2-085D-45C2-99B2-AE7ED529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8336-A1F3-4CD2-87AB-F03CDFEE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9A78-7D4E-47AC-84EE-F78844C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ADA3-D072-4DF0-B501-ADFF36FE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EDEF-AB77-4B54-BD39-E070FF24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431-A185-4B7A-BC16-7C6D1AD3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58D-09B5-4A11-A3C6-2ED198CB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2E7-FFAA-49CB-9535-1ED720BB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065-A068-4663-B860-13A3BCC5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193-6A0D-42C7-A9FE-DD99993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513-6948-4ED7-9735-0EB6079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0CC-DAF8-4CA6-A747-7A23436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0213-5680-4DC4-9F00-0E472CDEE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7085-44E7-4A41-B0BF-49E82B4D9A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ent Classifications as ‘Knowledge’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towards a more conscious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auto)categorization of pa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anum Develop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105520" cy="49845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erences in examiner’s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re are references in IPC, patent examiners may assign them differ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s mark overlapping subject matter are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class level, frequency of references in IPC is simil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ifferences between select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symbo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reform practice, simulate preclassif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5029200"/>
            <a:ext cx="990720" cy="8380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2743200"/>
            <a:ext cx="16765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1143000"/>
            <a:ext cx="304920" cy="1600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2666880"/>
            <a:ext cx="380880" cy="4572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1600200"/>
            <a:ext cx="4724280" cy="22860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1143000"/>
            <a:ext cx="304920" cy="464832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4495680"/>
            <a:ext cx="3657600" cy="22860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1143000"/>
            <a:ext cx="228600" cy="350532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3276720"/>
            <a:ext cx="457200" cy="457200"/>
          </a:xfrm>
          <a:prstGeom prst="ellipse">
            <a:avLst/>
          </a:prstGeom>
          <a:noFill/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3276720"/>
            <a:ext cx="152280" cy="4572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1600200"/>
            <a:ext cx="380880" cy="2286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3733920"/>
            <a:ext cx="1447920" cy="380880"/>
          </a:xfrm>
          <a:prstGeom prst="wedgeRoundRectCallout">
            <a:avLst>
              <a:gd name="adj1" fmla="val -43638"/>
              <a:gd name="adj2" fmla="val -80833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61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 C07 and C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4114800"/>
            <a:ext cx="838080" cy="228600"/>
          </a:xfrm>
          <a:prstGeom prst="wedgeRoundRectCallout">
            <a:avLst>
              <a:gd name="adj1" fmla="val -14203"/>
              <a:gd name="adj2" fmla="val -21111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07-C12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4876920"/>
            <a:ext cx="838080" cy="228600"/>
          </a:xfrm>
          <a:prstGeom prst="wedgeRoundRectCallout">
            <a:avLst>
              <a:gd name="adj1" fmla="val -26134"/>
              <a:gd name="adj2" fmla="val -130555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6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8520" y="5486400"/>
            <a:ext cx="838080" cy="228600"/>
          </a:xfrm>
          <a:prstGeom prst="wedgeRoundRectCallout">
            <a:avLst>
              <a:gd name="adj1" fmla="val 75569"/>
              <a:gd name="adj2" fmla="val -14236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-H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2286000"/>
            <a:ext cx="838080" cy="228600"/>
          </a:xfrm>
          <a:prstGeom prst="wedgeRoundRectCallout">
            <a:avLst>
              <a:gd name="adj1" fmla="val -17615"/>
              <a:gd name="adj2" fmla="val 153472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7080" y="1295280"/>
            <a:ext cx="838440" cy="228600"/>
          </a:xfrm>
          <a:prstGeom prst="wedgeRoundRectCallout">
            <a:avLst>
              <a:gd name="adj1" fmla="val -60606"/>
              <a:gd name="adj2" fmla="val 81944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47,A61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2590920"/>
            <a:ext cx="838080" cy="228600"/>
          </a:xfrm>
          <a:prstGeom prst="wedgeRoundRectCallout">
            <a:avLst>
              <a:gd name="adj1" fmla="val -59467"/>
              <a:gd name="adj2" fmla="val 96527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0-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581280" y="1228680"/>
            <a:ext cx="5105520" cy="50958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fusion of autocategoriz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re are references in IPC, autocategorizers fail more frequ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symbol” may be selected different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class level, frequency of references in IPC is simil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ifferences between select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symb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n autocategorizer (2002 data, to simulate preclassif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5029200"/>
            <a:ext cx="990720" cy="8380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2743200"/>
            <a:ext cx="16765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143000"/>
            <a:ext cx="304920" cy="1600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2666880"/>
            <a:ext cx="380880" cy="4572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05320" y="1600200"/>
            <a:ext cx="4724280" cy="22860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1143000"/>
            <a:ext cx="304920" cy="464832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05320" y="4495680"/>
            <a:ext cx="3657600" cy="22860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1143000"/>
            <a:ext cx="228600" cy="350532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3276720"/>
            <a:ext cx="457200" cy="457200"/>
          </a:xfrm>
          <a:prstGeom prst="ellipse">
            <a:avLst/>
          </a:prstGeom>
          <a:noFill/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3276720"/>
            <a:ext cx="152280" cy="4572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1600200"/>
            <a:ext cx="380880" cy="2286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3733920"/>
            <a:ext cx="1447920" cy="380880"/>
          </a:xfrm>
          <a:prstGeom prst="wedgeRoundRectCallout">
            <a:avLst>
              <a:gd name="adj1" fmla="val -43638"/>
              <a:gd name="adj2" fmla="val -80833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61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 C07 and C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86400" y="4114800"/>
            <a:ext cx="838080" cy="228600"/>
          </a:xfrm>
          <a:prstGeom prst="wedgeRoundRectCallout">
            <a:avLst>
              <a:gd name="adj1" fmla="val -14203"/>
              <a:gd name="adj2" fmla="val -21111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07-C12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76920"/>
            <a:ext cx="838080" cy="228600"/>
          </a:xfrm>
          <a:prstGeom prst="wedgeRoundRectCallout">
            <a:avLst>
              <a:gd name="adj1" fmla="val -26134"/>
              <a:gd name="adj2" fmla="val -130555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6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5486400"/>
            <a:ext cx="838080" cy="228600"/>
          </a:xfrm>
          <a:prstGeom prst="wedgeRoundRectCallout">
            <a:avLst>
              <a:gd name="adj1" fmla="val 75569"/>
              <a:gd name="adj2" fmla="val -14236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-H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2286000"/>
            <a:ext cx="838080" cy="228600"/>
          </a:xfrm>
          <a:prstGeom prst="wedgeRoundRectCallout">
            <a:avLst>
              <a:gd name="adj1" fmla="val -17615"/>
              <a:gd name="adj2" fmla="val 153472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1295280"/>
            <a:ext cx="838440" cy="228600"/>
          </a:xfrm>
          <a:prstGeom prst="wedgeRoundRectCallout">
            <a:avLst>
              <a:gd name="adj1" fmla="val -60606"/>
              <a:gd name="adj2" fmla="val 81944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47,A61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590920"/>
            <a:ext cx="838080" cy="228600"/>
          </a:xfrm>
          <a:prstGeom prst="wedgeRoundRectCallout">
            <a:avLst>
              <a:gd name="adj1" fmla="val -59467"/>
              <a:gd name="adj2" fmla="val 96527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0-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statistics in I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classification 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lassification autocategorization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similar characteristic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igher levels of I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ay be even more important on lower levels, having there more complex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an easier access to the rules maybe welcome both by human and machine categor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tion of IPCIn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nalysis and data preparation was performed as in-house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relevant relation types (about 15 main relations and further ~20) (excerpts bel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sing IPC scheme, definitions, catchwords and R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relation graph in RDB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&gt;1.5 m re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presented on a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ible to RDF or OWL for further 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referenc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ransitive!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1/00 Hand tools (edge trimmers for lawns A01G 3/06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G 3/06 Hand-held edge trimmers or shears for lawns (mowers combined with lawn edger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01D 43/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precedenc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over 600 transitive cases, e.g A61M 3/00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61M 5/00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61M 36/00 [in definitions!]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24 Tractor-drawn ploughs (A01B 3/04 takes precedence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04 Animal-drawn plough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limiting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N PRESERVATION OF BODIES…; BIOCIDES, e.g. AS DISINFECTANTS, AS PESTICIDES OR AS HERBICIDES; …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 Definitions for A01N subclas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gicidal, bactericidal, insecticidal, disinfecting or antiseptic paper D21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indexing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uidance heading before A61K 101/00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cheme associated with group A61K 51/00, relating to the nature of the radioactive substa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lacerule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before A01N 25/00, even specifying an exception…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groups A01N 27/00-A01N 65/00,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in the absence of an indication to the contra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 active ingredient is classified in the last appropriate plac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riorities (standardseq)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main groups in IPC where no place rule is appli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cooccurrenc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in catchwords: also the text of IPC mentions the reference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ITIONING harvested crops A01D 43/10, A01D 82/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43/10 with means for crushing or bruising the mown crop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82/00 Crop conditioners, i.e. machines for crushing or bruising stalks (mowers combined with means for crushing or bruising the mown crop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01D 43/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tion of IPCInfo /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009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5567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keep reading if interes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athematical no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ed for audience not familiar with 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‘patent’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uto)categorization tas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multiclass hierarchic categorization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hierarchic taxonomy (a patent classification) with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set of training documents, each associated to multiple categor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or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xpert knowing both state of the art of the field and the tax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document, provide a list of potential categories (preferably with relev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ization level may be fixed (preclassification) or f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usual hierarchic categorization task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a hierarchic taxonomy (classification syst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list of taxonomy nodes (classification symbols) for a document that best match the subject matter of the taxonomy 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” is based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perts: understanding the subject mat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mputers: providing the hierarchy, and training with sample categorized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patent classification task is somewhat more complicat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d considering classification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48117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nd the rules?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‘patent’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uto)categorization task, bu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ly a regular multiclass hierarchic categorization tas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xonomy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fini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manuals or handbooks) and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vis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d therefo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now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lation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between categories (rules of classification, e.g. last place rule, takes precede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ondary categori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non-primary categories (indexing codes, ‘not used as first symbol’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egories excluded for ‘final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tegorization (top levels of the hierarchy) bu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d in preclassifica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ere secondary categories cannot be us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i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tada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priorities, inventor, applica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ous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fields”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title, abstract, description, claim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fields are subject of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pendent categorizat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claims)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fields may be use just globally (abstract, descrip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nges: subject matter of a symbol, classification rules and proced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vided categories may require revision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xonomy can be revis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 regular intervals or immediate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.g. there is no more ‘main classification symbol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lassification may help to reduce the scope but requires handling fail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tions: Hierarchic tax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onomy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egory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category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∉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function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⋃</a:t>
            </a:r>
            <a:r>
              <a:rPr b="0" i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unct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ing a non-directed tre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estor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⊗, transitive closur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function (subcategories)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endant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transitive closure of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s of taxonomy (‘sections’)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⊂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⊗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= {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∊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(r)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⊗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tions: Patent tax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of category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.g. ‘subclass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ing category level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⊂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ing categor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br>
              <a:rPr sz="2400"/>
            </a:b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l-GR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{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∊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(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∊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n-classifying category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‾ ⊂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‾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∖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tegory symbol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↔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i="1" lang="en-US" sz="24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nds for st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tegory sort relation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⇔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) &l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s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pplicable 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Unicode MS"/>
                <a:ea typeface="Arial Unicode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interval: 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≤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u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escendants form a contiguous interval, i.e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∀ 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[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)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)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19320" y="3657600"/>
            <a:ext cx="5790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ations: category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 types: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→ (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∪</a:t>
            </a:r>
            <a:r>
              <a:rPr b="0" i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⊗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relations in a taxonomy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Old English Text M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⊂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☓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All relations for a category: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Unicode MS"/>
                <a:ea typeface="Arial Unicode MS"/>
              </a:rPr>
              <a:t>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→ (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ious relation types in hierarchies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par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chi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ances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descenda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⊂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defined as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par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≈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chi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≈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urther obvious relation: sibling (s), as child of parent (c)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Interval and set relations: union of the single-category form, e.g.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  <a:ea typeface="Arial Unicode MS"/>
              </a:rPr>
              <a:t>descend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({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 Unicode MS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,[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 Unicode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,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 Unicode MS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]}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 abbreviated as an interval or set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descend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= [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)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)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600200" y="3733920"/>
                <a:ext cx="4602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bling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⊗</m:t>
                                      </m:r>
                                    </m:sub>
                                  </m:sSub>
                                  <m:r>
                                    <m:t xml:space="preserve">|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⊗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∉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⊗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single ver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table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refe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tegory ‘refers’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rece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 re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Old English Tex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lim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ferences, very similar to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rece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ed </a:t>
            </a: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index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mbols on an inter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edence relations on sib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Old English Tex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lacer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irst place rule or last place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Old English Tex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ld English Text MT"/>
              </a:rPr>
              <a:t>prio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blings prioritized by ‘standardized sequenc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cooccurr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references (commut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referenc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y refer further!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1/00 Hand tools (edge trimmers for lawns A01G 3/06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G 3/06 Hand-held edge trimmers or shears for lawns (mowers combined with lawn edger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01D 43/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precedenc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24 Tractor-drawn ploughs (A01B 3/04 takes precedence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B 3/04 Animal-drawn plough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Old English Text MT"/>
              </a:rPr>
              <a:t>limiting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01N PRESERVATION OF BODIES…; BIOCIDES, e.g. AS DISINFECTANTS, AS PESTICIDES OR AS HERBICIDES; …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 Definitions for A01N subclas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gicidal, bactericidal, insecticidal, disinfecting or antiseptic paper D21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s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indexing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uidance heading before A61K 101/00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cheme associated with group A61K 51/00, relating to the nature of the radioactive substa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lacerule 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before A01N 25/00, even specifying an exception…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groups A01N 27/00-A01N 65/00,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in the absence of an indication to the contra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 active ingredient is classified in the last appropriate plac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priorities (stand.seq.)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 groups in IPC where no place rule is appli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ld English Text MT"/>
              </a:rPr>
              <a:t>cooccurrenc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catchwords: also the text of IPC mentions the reference</a:t>
            </a:r>
            <a:br>
              <a:rPr sz="1600"/>
            </a:br>
            <a:br>
              <a:rPr sz="1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ITIONING harvested crops A01D 43/10, A01D 82/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43/10 with means for crushing or bruising the mown crop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01D 82/00 Crop conditioners, i.e. machines for crushing or bruising stalks (mowers combined with means for crushing or bruising the mown crop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01D 43/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ver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nt taxonomies change i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rmer category (or a set) may b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red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ingle or a set of new categories or, it is recognized that the subject matter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vered 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ingle or set of existing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newer version, all the categories which are associated to a single or a set of former categories, are in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concord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concord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ation may be computed by transitive traversing category changes over multiple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ent taxonomy relation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ordance relation s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1: B24B 49/0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ing or gauging equipment for controlling the feed movement of the grinding tool or work; Arrangements of indicating or measuring equipment, e.g. for indicating the start of the grinding opera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2: B24B 49/00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B24B 37/005 - 37/015, B24B 49/0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4B 37/005 . Control means for lapping machines or devic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4B 37/013 . . Devices or means for detecting lapping comple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24B 37/015 . . Temperature control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24B 49/00 Measuring or gauging equipment for controlling the feed movement of the grinding tool or work; Arrangements of indicating or measuring equipment, e.g. for indicating the start of the grinding operation ( B24B 33/06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, B24B 37/005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takes precedence; if applicable to other machine tools, B23Q 15/00-B23Q 17/00 take prece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 of relations on categor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eighted directed graph can be built between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ever an ‘oracle’ (e.g. a flat categorizer, a fielded search etc.) proposes a category, related categories must be evaluated and verified, may be, in a given order, considering also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may also benefit from knowing, in ad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of evaluation, e.g. standardized sequences, priority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nhance a good hit or suppress a false h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co-classifi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 methods of categor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447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19810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31608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6440" y="16765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s (sec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7880" y="220968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classify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‘preclassification’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400" y="1828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38960" y="1876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182880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248160" y="2514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514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2468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28195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772040" y="2514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53280" y="251460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629040" y="3276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327672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61048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8076960" y="3276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3276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0592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447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810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1608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066680" y="1828800"/>
            <a:ext cx="533520" cy="380880"/>
          </a:xfrm>
          <a:prstGeom prst="line">
            <a:avLst/>
          </a:prstGeom>
          <a:ln w="936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76240" y="1876320"/>
            <a:ext cx="0" cy="30492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1828800"/>
            <a:ext cx="533160" cy="30492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440" y="251460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51460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209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2819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209680" y="251460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51460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066680" y="327672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327672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3581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514240" y="327672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27672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16002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41911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248160" y="3886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3886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4267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4267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371240" y="3886200"/>
            <a:ext cx="15228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886200"/>
            <a:ext cx="152640" cy="228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7242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st is the winner on each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48769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dy hierarchi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versing down on best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505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raining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781680" y="3047760"/>
            <a:ext cx="685800" cy="533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248520" y="3505320"/>
            <a:ext cx="533160" cy="380880"/>
            <a:chOff x="6248520" y="3505320"/>
            <a:chExt cx="533160" cy="380880"/>
          </a:xfrm>
        </p:grpSpPr>
        <p:sp>
          <p:nvSpPr>
            <p:cNvPr id="238" name=""/>
            <p:cNvSpPr/>
            <p:nvPr/>
          </p:nvSpPr>
          <p:spPr>
            <a:xfrm>
              <a:off x="6248520" y="3505320"/>
              <a:ext cx="53316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324480" y="3505320"/>
              <a:ext cx="3812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4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on features of patent classification sche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vered subject matter of a higher level contains subject matter of a lower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: may be assigned to a higher level when none of the lower levels f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nodes (symbols) cannot be used (in general or alone) for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erarchy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schem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mes contain specific rules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between symb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/ priority / precedence / limiting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s to symbols to be taken in consid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s given in the scheme are extended by definitions / manuals of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mes can be multiling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by various offices, cultures (maybe slightly different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relations in patent categor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1981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590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2590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200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828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2362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354168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3200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33560" y="2209680"/>
            <a:ext cx="5331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43480" y="225756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20968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352680" y="28954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590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2004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3200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733560" y="3657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657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39625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81480" y="365760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657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10080" y="19810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4572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52680" y="42670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42670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52578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erarchic, rules, re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4290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09880" y="3428640"/>
            <a:ext cx="762120" cy="609480"/>
          </a:xfrm>
          <a:prstGeom prst="line">
            <a:avLst/>
          </a:prstGeom>
          <a:ln w="1584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3581280"/>
            <a:ext cx="1524240" cy="304920"/>
          </a:xfrm>
          <a:prstGeom prst="wedgeRectCallout">
            <a:avLst>
              <a:gd name="adj1" fmla="val 142814"/>
              <a:gd name="adj2" fmla="val -2213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place r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4572000"/>
            <a:ext cx="1981080" cy="304920"/>
          </a:xfrm>
          <a:prstGeom prst="wedgeRectCallout">
            <a:avLst>
              <a:gd name="adj1" fmla="val -89824"/>
              <a:gd name="adj2" fmla="val -346875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kes prece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2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7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5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1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199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02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c984"/>
                                      </p:to>
                                    </p:animClr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4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a (more) formal analysis and presentation is advantageo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: the rules a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ed as tex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ous master fi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machine-readable but not machine-interpretable way (it is ‘content’ but not yet ‘knowledge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complex rules spread ov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e.g. definitions) and places (e.g. reverse referen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for humans and computer programs, it causes trouble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 and app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l the rules syste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worth then to convert IPC content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xplicit IPC ‘knowledge’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were ma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verify conf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patent exami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various autocategoriz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are in correlation to relations given in I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references in IPC: higher overlap between subject matter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eferences in IPC between two area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gher the confusion of humans and comp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nowledge coded in IPC is, indeed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patent categor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ing the 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patent examiners take seriously references in I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eferences between two symbols, the higher number of co-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 between two offices can be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eferences in IPC, the higher likelihood of different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sion of autocategori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ailures if subject matter area is overla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ategorization vs. IPC 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 are references in IPC, patent examiners take them seriou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s mark overlapping subject matter area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/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s propose the use of secondary (indexing) symb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class level, frequency of references in IPC is simila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frequency of common use of symbols of both classes in paten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581280" y="1219320"/>
            <a:ext cx="5029200" cy="5014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315200" y="5029200"/>
            <a:ext cx="990720" cy="8380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2743200"/>
            <a:ext cx="16765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1143000"/>
            <a:ext cx="304920" cy="1600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2666880"/>
            <a:ext cx="380880" cy="4572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1600200"/>
            <a:ext cx="533160" cy="15228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1143000"/>
            <a:ext cx="228600" cy="533520"/>
          </a:xfrm>
          <a:prstGeom prst="ellipse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3657600" cy="22860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1143000"/>
            <a:ext cx="228600" cy="3505320"/>
          </a:xfrm>
          <a:prstGeom prst="ellipse">
            <a:avLst/>
          </a:prstGeom>
          <a:noFill/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3276720"/>
            <a:ext cx="457200" cy="457200"/>
          </a:xfrm>
          <a:prstGeom prst="ellipse">
            <a:avLst/>
          </a:prstGeom>
          <a:noFill/>
          <a:ln w="22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3276720"/>
            <a:ext cx="152280" cy="4572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1600200"/>
            <a:ext cx="380880" cy="228600"/>
          </a:xfrm>
          <a:prstGeom prst="ellipse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3733920"/>
            <a:ext cx="1447920" cy="380880"/>
          </a:xfrm>
          <a:prstGeom prst="wedgeRoundRectCallout">
            <a:avLst>
              <a:gd name="adj1" fmla="val -43638"/>
              <a:gd name="adj2" fmla="val -80833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61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 C07 and C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4114800"/>
            <a:ext cx="838080" cy="228600"/>
          </a:xfrm>
          <a:prstGeom prst="wedgeRoundRectCallout">
            <a:avLst>
              <a:gd name="adj1" fmla="val -14203"/>
              <a:gd name="adj2" fmla="val -21111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07-C12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91120" y="4876920"/>
            <a:ext cx="838080" cy="228600"/>
          </a:xfrm>
          <a:prstGeom prst="wedgeRoundRectCallout">
            <a:avLst>
              <a:gd name="adj1" fmla="val -26134"/>
              <a:gd name="adj2" fmla="val -130555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6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5486400"/>
            <a:ext cx="838080" cy="228600"/>
          </a:xfrm>
          <a:prstGeom prst="wedgeRoundRectCallout">
            <a:avLst>
              <a:gd name="adj1" fmla="val 75569"/>
              <a:gd name="adj2" fmla="val -142361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-H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2286000"/>
            <a:ext cx="838080" cy="228600"/>
          </a:xfrm>
          <a:prstGeom prst="wedgeRoundRectCallout">
            <a:avLst>
              <a:gd name="adj1" fmla="val -17615"/>
              <a:gd name="adj2" fmla="val 153472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1295280"/>
            <a:ext cx="838440" cy="228600"/>
          </a:xfrm>
          <a:prstGeom prst="wedgeRoundRectCallout">
            <a:avLst>
              <a:gd name="adj1" fmla="val -60606"/>
              <a:gd name="adj2" fmla="val 81944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47,A61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590920"/>
            <a:ext cx="838080" cy="228600"/>
          </a:xfrm>
          <a:prstGeom prst="wedgeRoundRectCallout">
            <a:avLst>
              <a:gd name="adj1" fmla="val -59467"/>
              <a:gd name="adj2" fmla="val 96527"/>
              <a:gd name="adj3" fmla="val 16667"/>
            </a:avLst>
          </a:prstGeom>
          <a:solidFill>
            <a:srgbClr val="0000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60-B65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0:34:59Z</dcterms:created>
  <dc:creator>Attila Torcsvari</dc:creator>
  <dc:description/>
  <cp:keywords>IPC</cp:keywords>
  <dc:language>en-US</dc:language>
  <cp:lastModifiedBy>Malanga</cp:lastModifiedBy>
  <dcterms:modified xsi:type="dcterms:W3CDTF">2013-02-25T13:34:39Z</dcterms:modified>
  <cp:revision>7</cp:revision>
  <dc:subject>IPC Workshop (2013) - Patent Classifications as “Knowledge”  …towards a more conscious (auto)categorization of patents</dc:subject>
  <dc:title>IPC Workshop (2013) - Patent Classifications as “Knowledge”  …towards a more conscious (auto)categorization of patents</dc:title>
</cp:coreProperties>
</file>