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42D98-E02E-4FC7-B287-1C0B74D55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649B22-82C6-437D-BE05-7E18FD12B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88BCA3-29AD-494C-AA63-ACD25704C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0048A3-AF48-48F8-9F94-8A10B32D5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5A519-79C2-4BFC-AC7B-9124A2E1F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ADCE1-CE5C-4341-A4FF-7DBAD19FD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DB41B7-9733-4648-998F-103DB8BCC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5F6573DA-431D-4933-A996-719BBD5526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1F5C39D-1A7E-4C8E-94D9-376DE8D99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AB1BF4-45FD-4E45-AE98-3718F331AB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841F6-F61B-45EE-B72D-8909F66FF9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C76FE1-CB4B-4335-B162-7DAA3E4C3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452A-31E1-4A1F-B29E-CB5D7127E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01800" y="3499920"/>
            <a:ext cx="5757840" cy="1081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8c"/>
                </a:solidFill>
                <a:latin typeface="Arial"/>
                <a:ea typeface="ヒラギノ角ゴ Pro W3"/>
              </a:rPr>
              <a:t>The IPC development plan for the next five years</a:t>
            </a:r>
            <a:endParaRPr b="0" lang="en-US" sz="3200" spc="-1" strike="noStrike">
              <a:solidFill>
                <a:srgbClr val="000000"/>
              </a:solidFill>
              <a:latin typeface="Arial"/>
            </a:endParaRPr>
          </a:p>
        </p:txBody>
      </p:sp>
      <p:sp>
        <p:nvSpPr>
          <p:cNvPr id="78" name=""/>
          <p:cNvSpPr/>
          <p:nvPr/>
        </p:nvSpPr>
        <p:spPr>
          <a:xfrm>
            <a:off x="6249960" y="5084640"/>
            <a:ext cx="2147760" cy="649440"/>
          </a:xfrm>
          <a:prstGeom prst="rect">
            <a:avLst/>
          </a:prstGeom>
          <a:noFill/>
          <a:ln w="0">
            <a:noFill/>
          </a:ln>
        </p:spPr>
        <p:style>
          <a:lnRef idx="0"/>
          <a:fillRef idx="0"/>
          <a:effectRef idx="0"/>
          <a:fontRef idx="minor"/>
        </p:style>
        <p:txBody>
          <a:bodyPr wrap="none" lIns="90000" rIns="90000" tIns="82800" bIns="82800" anchor="t">
            <a:no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IPC Workshop</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Black"/>
                <a:ea typeface="ヒラギノ角ゴ Pro W3"/>
              </a:rPr>
              <a:t>February 2013</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3399ff"/>
                </a:solidFill>
                <a:latin typeface="Arial Black"/>
                <a:ea typeface="ヒラギノ角ゴ Pro W3"/>
              </a:rPr>
              <a:t>Geneva</a:t>
            </a:r>
            <a:endParaRPr b="0" lang="en-US" sz="1600" spc="-1" strike="noStrike">
              <a:solidFill>
                <a:srgbClr val="000000"/>
              </a:solidFill>
              <a:latin typeface="Arial"/>
            </a:endParaRPr>
          </a:p>
        </p:txBody>
      </p:sp>
      <p:sp>
        <p:nvSpPr>
          <p:cNvPr id="79" name=""/>
          <p:cNvSpPr/>
          <p:nvPr/>
        </p:nvSpPr>
        <p:spPr>
          <a:xfrm>
            <a:off x="1230480" y="5805360"/>
            <a:ext cx="737388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tonios Farassopoul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Director, International Classifications and Standards Division, W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764640"/>
            <a:ext cx="187164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rPr>
              <a:t>Examples</a:t>
            </a:r>
            <a:endParaRPr b="0" lang="en-US" sz="2400" spc="-1" strike="noStrike">
              <a:solidFill>
                <a:srgbClr val="00408c"/>
              </a:solidFill>
              <a:latin typeface="Arial"/>
            </a:endParaRPr>
          </a:p>
        </p:txBody>
      </p:sp>
      <p:pic>
        <p:nvPicPr>
          <p:cNvPr id="99" name="" descr=""/>
          <p:cNvPicPr/>
          <p:nvPr/>
        </p:nvPicPr>
        <p:blipFill>
          <a:blip r:embed="rId2"/>
          <a:stretch/>
        </p:blipFill>
        <p:spPr>
          <a:xfrm>
            <a:off x="250920" y="1341360"/>
            <a:ext cx="8640720" cy="399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a:t>
            </a:r>
            <a:endParaRPr b="0" lang="en-US" sz="3200" spc="-1" strike="noStrike">
              <a:solidFill>
                <a:srgbClr val="00408c"/>
              </a:solidFill>
              <a:latin typeface="Arial"/>
            </a:endParaRPr>
          </a:p>
        </p:txBody>
      </p:sp>
      <p:sp>
        <p:nvSpPr>
          <p:cNvPr id="101" name="PlaceHolder 2"/>
          <p:cNvSpPr>
            <a:spLocks noGrp="1"/>
          </p:cNvSpPr>
          <p:nvPr>
            <p:ph/>
          </p:nvPr>
        </p:nvSpPr>
        <p:spPr>
          <a:xfrm>
            <a:off x="457200" y="1341360"/>
            <a:ext cx="8229600" cy="43531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early 2012, a new reclassification tool was implemented by the IB allowing a wider participation of offices in the reclassification of completed project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hases of reclassification have been defined allowing more offices to participate</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utomatic reclassification of not reclassified documents after a certain period (~ 5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Reclassification (cont.)</a:t>
            </a:r>
            <a:endParaRPr b="0" lang="en-US" sz="3200" spc="-1" strike="noStrike">
              <a:solidFill>
                <a:srgbClr val="00408c"/>
              </a:solidFill>
              <a:latin typeface="Arial"/>
            </a:endParaRPr>
          </a:p>
        </p:txBody>
      </p:sp>
      <p:sp>
        <p:nvSpPr>
          <p:cNvPr id="103" name="PlaceHolder 2"/>
          <p:cNvSpPr>
            <a:spLocks noGrp="1"/>
          </p:cNvSpPr>
          <p:nvPr>
            <p:ph/>
          </p:nvPr>
        </p:nvSpPr>
        <p:spPr>
          <a:xfrm>
            <a:off x="457200" y="1225440"/>
            <a:ext cx="8291520" cy="55166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PC and FI offices will not be obligated to immediately reclassify their complete back file when the other scheme is used as a basis for revision.</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uring a certain period they will be able to keep the local scheme to search their back file until the reclassification is complete. This period could be flexible, based on the number of documents that will need reclassification and on the interest of the new scheme for that particular office.</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itial feedback from Offices</a:t>
            </a:r>
            <a:endParaRPr b="0" lang="en-US" sz="3200" spc="-1" strike="noStrike">
              <a:solidFill>
                <a:srgbClr val="00408c"/>
              </a:solidFill>
              <a:latin typeface="Arial"/>
            </a:endParaRPr>
          </a:p>
        </p:txBody>
      </p:sp>
      <p:sp>
        <p:nvSpPr>
          <p:cNvPr id="105" name="PlaceHolder 2"/>
          <p:cNvSpPr>
            <a:spLocks noGrp="1"/>
          </p:cNvSpPr>
          <p:nvPr>
            <p:ph/>
          </p:nvPr>
        </p:nvSpPr>
        <p:spPr>
          <a:xfrm>
            <a:off x="457200" y="1268280"/>
            <a:ext cx="8291520" cy="3600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have been received from eight offices</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greed in general with the basic idea of the proposal</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Comments, recommendations and suggestions by commenting offices have been reflected in this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ntroduction</a:t>
            </a:r>
            <a:endParaRPr b="0" lang="en-US" sz="3200" spc="-1" strike="noStrike">
              <a:solidFill>
                <a:srgbClr val="00408c"/>
              </a:solidFill>
              <a:latin typeface="Arial"/>
            </a:endParaRPr>
          </a:p>
        </p:txBody>
      </p:sp>
      <p:sp>
        <p:nvSpPr>
          <p:cNvPr id="81"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bruary 2009: simplification of IPC structure</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and Advanced levels abolished</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yearly publication of the IPC</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vised by one unique technical body (IPC Revision WG)</a:t>
            </a:r>
            <a:endParaRPr b="0" lang="en-US" sz="20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2009: IP5 Offices established the Common Hybrid Classification (CHC) projec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ctober 2010: EPO and USPTO agreed to develop the Cooperative Patent Classification (CPC)</a:t>
            </a:r>
            <a:endParaRPr b="0" lang="en-US" sz="2400" spc="-1" strike="noStrike">
              <a:solidFill>
                <a:srgbClr val="000000"/>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anuary 2013:  CPC enters in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IPC Revision Program 2007-2013</a:t>
            </a:r>
            <a:endParaRPr b="0" lang="en-US" sz="3200" spc="-1" strike="noStrike">
              <a:solidFill>
                <a:srgbClr val="00408c"/>
              </a:solidFill>
              <a:latin typeface="Arial"/>
            </a:endParaRPr>
          </a:p>
        </p:txBody>
      </p:sp>
      <p:sp>
        <p:nvSpPr>
          <p:cNvPr id="83" name="PlaceHolder 2"/>
          <p:cNvSpPr>
            <a:spLocks noGrp="1"/>
          </p:cNvSpPr>
          <p:nvPr>
            <p:ph/>
          </p:nvPr>
        </p:nvSpPr>
        <p:spPr>
          <a:xfrm>
            <a:off x="468000" y="1268280"/>
            <a:ext cx="8218440" cy="48247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Revision requests from IP5 CHC or Trilateral projects automatically included in the IPC revision program and treated with priorit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ince IPC reform very few revision requests submitted outside IP5. Systematically opposed by trilateral/IP5</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fter reform 2,500 new subdivisions were introduced into the IPC (2007-2013) ~ 360 / year</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is is less than half compared to the period before the reform, although the global amount of patent applications has explod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91920"/>
            <a:ext cx="483552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A projects (origin Trilateral)</a:t>
            </a:r>
            <a:endParaRPr b="0" lang="en-US" sz="2400" spc="-1" strike="noStrike">
              <a:solidFill>
                <a:srgbClr val="00408c"/>
              </a:solidFill>
              <a:latin typeface="Arial"/>
            </a:endParaRPr>
          </a:p>
        </p:txBody>
      </p:sp>
      <p:sp>
        <p:nvSpPr>
          <p:cNvPr id="85" name=""/>
          <p:cNvSpPr/>
          <p:nvPr/>
        </p:nvSpPr>
        <p:spPr>
          <a:xfrm>
            <a:off x="468360" y="3573360"/>
            <a:ext cx="3382920" cy="565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c"/>
                </a:solidFill>
                <a:latin typeface="Arial"/>
              </a:rPr>
              <a:t>F projects (origin IP5)</a:t>
            </a:r>
            <a:endParaRPr b="0" lang="en-US" sz="2400" spc="-1" strike="noStrike">
              <a:solidFill>
                <a:srgbClr val="000000"/>
              </a:solidFill>
              <a:latin typeface="Arial"/>
            </a:endParaRPr>
          </a:p>
        </p:txBody>
      </p:sp>
      <p:pic>
        <p:nvPicPr>
          <p:cNvPr id="86" name="" descr=""/>
          <p:cNvPicPr/>
          <p:nvPr/>
        </p:nvPicPr>
        <p:blipFill>
          <a:blip r:embed="rId2"/>
          <a:stretch/>
        </p:blipFill>
        <p:spPr>
          <a:xfrm>
            <a:off x="1116000" y="4048200"/>
            <a:ext cx="6624720" cy="1901880"/>
          </a:xfrm>
          <a:prstGeom prst="rect">
            <a:avLst/>
          </a:prstGeom>
          <a:ln w="0">
            <a:noFill/>
          </a:ln>
        </p:spPr>
      </p:pic>
      <p:pic>
        <p:nvPicPr>
          <p:cNvPr id="87" name="" descr=""/>
          <p:cNvPicPr/>
          <p:nvPr/>
        </p:nvPicPr>
        <p:blipFill>
          <a:blip r:embed="rId3"/>
          <a:stretch/>
        </p:blipFill>
        <p:spPr>
          <a:xfrm>
            <a:off x="1116000" y="1125360"/>
            <a:ext cx="6551640" cy="234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339560"/>
            <a:ext cx="8229600" cy="43210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 decrease of the IPC development is due 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trong expectations from Trilateral / IP5 co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Cost of compulsory recla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Suspension of revision during the re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Emergence of new searching too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Reduced investment in Classification by Offi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408c"/>
                </a:solidFill>
                <a:uFillTx/>
                <a:latin typeface="Arial"/>
              </a:rPr>
              <a:t>IPC Revision Program (cont.)</a:t>
            </a:r>
            <a:endParaRPr b="0" lang="en-US" sz="36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ome comments …</a:t>
            </a:r>
            <a:endParaRPr b="0" lang="en-US" sz="3600" spc="-1" strike="noStrike">
              <a:solidFill>
                <a:srgbClr val="00408c"/>
              </a:solidFill>
              <a:latin typeface="Arial"/>
            </a:endParaRPr>
          </a:p>
        </p:txBody>
      </p:sp>
      <p:sp>
        <p:nvSpPr>
          <p:cNvPr id="9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progress of the CHC project: </a:t>
            </a:r>
            <a:endParaRPr b="0" lang="en-US" sz="2400" spc="-1" strike="noStrike">
              <a:solidFill>
                <a:srgbClr val="000000"/>
              </a:solidFill>
              <a:latin typeface="Arial"/>
            </a:endParaRPr>
          </a:p>
          <a:p>
            <a:pPr lvl="1" marL="743040" indent="-2858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rogress was very slow.  In one year they managed only six out of more than 600 areas – so it would have taken 100 years to harmonize the existing schemes”</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enoît Batistell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ing the development of the USPC</a:t>
            </a:r>
            <a:endParaRPr b="0" lang="en-US" sz="24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agency had de-invested in classification.  We had stopped keeping it up, and it was really a moribund situation….We knew the WIPO system was better and more modern”   David Kapp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a:t>
            </a:r>
            <a:endParaRPr b="0" lang="en-US" sz="3200" spc="-1" strike="noStrike">
              <a:solidFill>
                <a:srgbClr val="00408c"/>
              </a:solidFill>
              <a:latin typeface="Arial"/>
            </a:endParaRPr>
          </a:p>
        </p:txBody>
      </p:sp>
      <p:sp>
        <p:nvSpPr>
          <p:cNvPr id="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ding A and F projects to be soon completed; risk that the IPC will be frozen (moribund situation?)</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nvironment:</a:t>
            </a:r>
            <a:endParaRPr b="0" lang="en-US" sz="24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CPC by increasing number of European offices</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llel viewer of the IPC, CPC and FI</a:t>
            </a:r>
            <a:endParaRPr b="0" lang="en-US" sz="2000" spc="-1" strike="noStrike">
              <a:solidFill>
                <a:srgbClr val="000000"/>
              </a:solidFill>
              <a:latin typeface="Arial"/>
            </a:endParaRPr>
          </a:p>
          <a:p>
            <a:pPr lvl="1" marL="743040" indent="-28584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y of searching using the CPC and FI in global databases</a:t>
            </a:r>
            <a:endParaRPr b="0" lang="en-US" sz="2000" spc="-1" strike="noStrike">
              <a:solidFill>
                <a:srgbClr val="000000"/>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place for the IPC next to the CPC and 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crease in the number of patent applications from emerging countries and the shift of the interest of users of patent information to their patent collections show the areas where the IPC should be developed during the next years</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se technical area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re is a large amount of patent applications from emerging countries with significant growth rate; an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where the number of subgroups in the IPC is not sufficient for an effective search</a:t>
            </a:r>
            <a:endParaRPr b="0" lang="en-US" sz="2000" spc="-1" strike="noStrike">
              <a:solidFill>
                <a:srgbClr val="000000"/>
              </a:solidFill>
              <a:latin typeface="Arial"/>
            </a:endParaRPr>
          </a:p>
        </p:txBody>
      </p:sp>
      <p:sp>
        <p:nvSpPr>
          <p:cNvPr id="95" name="PlaceHolder 2"/>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Plan of Future Revision of the IPC (cont.)</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267920"/>
            <a:ext cx="8229600" cy="471348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into account the classification symbols allotted to patent applications published by CN, KR, BR, IN, RU, IL, MX, SE and FI between 2004 and 2009 (Patent Collection)</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st of the main groups was rank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according to the average file size of the Patent Collection per subgrou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aking into account a growth rate higher than 0%</a:t>
            </a:r>
            <a:endParaRPr b="0" lang="en-US" sz="2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96 IPC main groups were selected as the areas to be revised during the next five years</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reation of new subdivisions should mainly be based on the integration into the IPC of subdivisions from the existing local classifications, i.e. CPC or F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08c"/>
                </a:solidFill>
                <a:uFillTx/>
                <a:latin typeface="Arial"/>
              </a:rPr>
              <a:t>Areas to be Revised</a:t>
            </a: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WIPO</dc:creator>
  <dc:description/>
  <cp:keywords>IPC</cp:keywords>
  <dc:language>en-US</dc:language>
  <cp:lastModifiedBy>Farasso</cp:lastModifiedBy>
  <dcterms:modified xsi:type="dcterms:W3CDTF">2013-02-26T07:57:18Z</dcterms:modified>
  <cp:revision>26</cp:revision>
  <dc:subject>IPC Workshop (2013) - IPC development plan for the next five years</dc:subject>
  <dc:title>IPC Workshop (2013) - IPC development plan for the next five years</dc:title>
</cp:coreProperties>
</file>