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23A-6402-4EFA-8CB7-DCECDFCC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742-3B37-459C-BEB1-404C8D38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F49-4C91-4780-99B8-0BE2DF44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A6B0-EA7D-44CA-9C62-CABCAC21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15C5-0115-4DAA-BB3D-006B379C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C64-0578-489A-8BCA-F6116359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053-132F-455B-9F4E-7224F6BA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36B-3CC9-413A-A2F6-65C2E3BF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E4B-F63E-4661-8DD7-5A4B3BEE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93F-63A2-4A07-9426-746C7947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8BA-631B-4ECA-B057-0B5E8E32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54E8-87C3-4E08-927F-C2A69343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68DC-4EEB-4D5D-830A-16FAF913F24B}" type="datetime">
              <a:rPr b="0" lang="fr-CH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Presentation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E337-2E9E-4C7C-9F89-B83FF1742E0D}" type="slidenum">
              <a:rPr b="0" lang="fr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Image 6" descr=""/>
          <p:cNvPicPr/>
          <p:nvPr/>
        </p:nvPicPr>
        <p:blipFill>
          <a:blip r:embed="rId2"/>
          <a:stretch/>
        </p:blipFill>
        <p:spPr>
          <a:xfrm>
            <a:off x="82440" y="44280"/>
            <a:ext cx="960480" cy="108108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65440" y="333360"/>
            <a:ext cx="6478560" cy="1295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utomatic Categoriz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 Patent Applic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Espace réservé du pied de page 2"/>
          <p:cNvSpPr/>
          <p:nvPr/>
        </p:nvSpPr>
        <p:spPr>
          <a:xfrm>
            <a:off x="2050920" y="6232680"/>
            <a:ext cx="540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f7f"/>
                </a:solidFill>
                <a:latin typeface="Calibri"/>
              </a:rPr>
              <a:t>Presentation to the 3rd IPC Workshop, WIPO, Feb. 25-26,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611280" y="1989000"/>
            <a:ext cx="82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eed for automatic categorization of patent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of automatic categor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es automatic categorization 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quick word about the IPCCAT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ing categorization accur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tegy to use an automatic categoriz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PCCAT 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re 1"/>
          <p:cNvSpPr/>
          <p:nvPr/>
        </p:nvSpPr>
        <p:spPr>
          <a:xfrm>
            <a:off x="1765440" y="333360"/>
            <a:ext cx="6478560" cy="1008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Need for Automatic Categor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Patent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971640" y="1989000"/>
            <a:ext cx="7921440" cy="17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wth in number of patent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2’140’600 patent applications worldwide in 20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Up from 1’050’700 in 1995 (more than doubled in 16 year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ource: WIPO IP Indicato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049040" y="3835440"/>
            <a:ext cx="617940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 (and growing) number of IPC categ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631 Sub-Classes in IPC 20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7’392 Main Groups in IPC 20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ource: IPCCAT Help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re 1"/>
          <p:cNvSpPr/>
          <p:nvPr/>
        </p:nvSpPr>
        <p:spPr>
          <a:xfrm>
            <a:off x="1692360" y="404640"/>
            <a:ext cx="6621480" cy="5763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urpose of Automatic Categor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68360" y="2276640"/>
            <a:ext cx="8136000" cy="22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uld not be used as a fully automated categoriz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verage error rate at 5 to 10% at Class level, up to 20% or more at Main Group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Batch classification is possible but requires downstream elimination of predictions which are below a given confidence thresho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8360" y="4724280"/>
            <a:ext cx="84247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her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ssista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human exami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Suggests most probable IPC categor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Interactions with the examiner (asking for more predictions at a different IPC level, forcing a given domain, etc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68360" y="1527120"/>
            <a:ext cx="78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lerate patent application processing at Patent Off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re 1"/>
          <p:cNvSpPr/>
          <p:nvPr/>
        </p:nvSpPr>
        <p:spPr>
          <a:xfrm>
            <a:off x="1619280" y="333360"/>
            <a:ext cx="6767640" cy="5745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Does Automatic Categorization 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684360" y="1557360"/>
            <a:ext cx="806436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 an artificial intelligence program to recognize typical examples for each IPC categ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Provide already-classified patents for 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Essential: Balancing the number of examples across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e more examples the bet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30240" y="3808440"/>
            <a:ext cx="75708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 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Submit patent applications whose IPC categories are already know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Calculate categorization accura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re 1"/>
          <p:cNvSpPr/>
          <p:nvPr/>
        </p:nvSpPr>
        <p:spPr>
          <a:xfrm>
            <a:off x="1619280" y="333360"/>
            <a:ext cx="6838920" cy="5745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Quick Word About The IPCCAT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971640" y="2179800"/>
            <a:ext cx="757080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trictly statistical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No linguistic or other human-defined ru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So it is language independ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971640" y="47577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tegorization algorithm: Neural Networks of the Winnow type, improved by Simple Shift with the help of W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971640" y="342900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an adaptation of the indexing method to the various languages supported (English, French, Spanish) so as to process collocations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971640" y="5661000"/>
            <a:ext cx="74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idated through several competitions on the Internet (latest one : the CLEF-2010 projec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971640" y="123048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PCCAT project was designed, managed and financed by WIPO from 2002 to 20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1619280" y="333360"/>
            <a:ext cx="6838920" cy="5745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asuring Categorization Accu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971640" y="1598760"/>
            <a:ext cx="799308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be really good we would only have to predict all the categories all the time! So we need two different rati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Precis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: On all the predictions made, how many were corr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Recal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: On all the correct categories which should have been predicted, how many did we actually fi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71640" y="4292640"/>
            <a:ext cx="74865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ediction accuracy is directly correlated to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e number of categories at each IPC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e number of available training documents for each categ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re 1"/>
          <p:cNvSpPr/>
          <p:nvPr/>
        </p:nvSpPr>
        <p:spPr>
          <a:xfrm>
            <a:off x="1619280" y="333360"/>
            <a:ext cx="6838920" cy="5745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rategy To Use An Automatic Categoriz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826920" y="1706400"/>
            <a:ext cx="82090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don’t know which section or class is the most relevant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sk for a direct prediction at the finest possible level (Main Group); 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sk for a prediction at a coarser level (Class) and refine it down to Sub-Class, then to Main Gro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26920" y="4100400"/>
            <a:ext cx="78487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know which section or class is the most relevant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Force a prediction under the relevant section or class (reduces the risk of erro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Refine the prediction at the next level(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re 1"/>
          <p:cNvSpPr/>
          <p:nvPr/>
        </p:nvSpPr>
        <p:spPr>
          <a:xfrm>
            <a:off x="1619280" y="333360"/>
            <a:ext cx="6838920" cy="5745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PCCAT De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282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2:38:55Z</dcterms:created>
  <dc:creator>Karim Benzineb</dc:creator>
  <dc:description/>
  <cp:keywords>IPC</cp:keywords>
  <dc:language>en-US</dc:language>
  <cp:lastModifiedBy>Malanga</cp:lastModifiedBy>
  <dcterms:modified xsi:type="dcterms:W3CDTF">2013-02-25T13:43:12Z</dcterms:modified>
  <cp:revision>39</cp:revision>
  <dc:subject>IPC Workshop (2013) - Automatic Categorization</dc:subject>
  <dc:title>IPC Workshop (2013) - Automatic Categorization</dc:title>
</cp:coreProperties>
</file>