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0C6-D9D5-4B35-8D67-A94D7195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406-D74C-47A1-AB1A-5F8D2A92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0E1-E2DB-488F-870B-1706F727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2FC-05AD-48D3-A6C2-5897FB27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43F2-D9E5-47D9-BD4B-29031828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B4AE-16D3-436A-BA20-FA0DF215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F7FA-7553-4483-B9CA-B60250C9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AA1D-67B0-4BF1-BF15-A058BD3F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04FB-825E-48FC-91BD-353B24D6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C8B0-DF84-4741-93A0-0D951CAA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0E0C-5869-45C2-88BE-CF70E83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9E7-802B-4427-AFFB-D7B36D9D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8AC1-E187-44BA-A320-A3C40510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31FA-0B4A-4D0B-BC18-C002B0DC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1689-1ED9-4B89-B21F-E8A5C413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8DB7-B546-4C71-A395-038FAFEF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4086-1526-4244-B5F5-D8D26A6F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DC6-8F55-492D-B2B5-A79C8B76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047-3E1D-4D2E-BA3F-6C968383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C2B-1F3D-4B72-8981-B1EDDC75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518-2C95-4A40-96C8-9E2D776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48E-EFD6-4E21-AC33-F85D8AE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973-D474-41C5-9450-B5FE857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542-8D09-4D5D-8ED2-45D144B7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8540640" y="0"/>
            <a:ext cx="603360" cy="603360"/>
          </a:xfrm>
          <a:prstGeom prst="rect">
            <a:avLst/>
          </a:prstGeom>
          <a:ln w="0">
            <a:noFill/>
          </a:ln>
        </p:spPr>
      </p:pic>
      <p:sp>
        <p:nvSpPr>
          <p:cNvPr id="9" name="Rectangle 6"/>
          <p:cNvSpPr/>
          <p:nvPr/>
        </p:nvSpPr>
        <p:spPr>
          <a:xfrm>
            <a:off x="7086600" y="6521400"/>
            <a:ext cx="1905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EB26-CFE1-49BD-81EB-35C04AEC06CE}" type="slidenum">
              <a:rPr b="1" lang="en-US" sz="1200" spc="-1" strike="noStrike">
                <a:solidFill>
                  <a:srgbClr val="273c56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7" name="Coloredframe"/>
          <p:cNvSpPr/>
          <p:nvPr/>
        </p:nvSpPr>
        <p:spPr>
          <a:xfrm>
            <a:off x="1208160" y="0"/>
            <a:ext cx="353844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8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8491680" y="0"/>
            <a:ext cx="652320" cy="652320"/>
          </a:xfrm>
          <a:prstGeom prst="rect">
            <a:avLst/>
          </a:prstGeom>
          <a:ln w="0">
            <a:noFill/>
          </a:ln>
        </p:spPr>
      </p:pic>
      <p:sp>
        <p:nvSpPr>
          <p:cNvPr id="50" name="Coloredframe"/>
          <p:cNvSpPr/>
          <p:nvPr/>
        </p:nvSpPr>
        <p:spPr>
          <a:xfrm>
            <a:off x="4756320" y="0"/>
            <a:ext cx="3735360" cy="58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4"/>
          <a:srcRect l="0" t="0" r="2625" b="0"/>
          <a:stretch/>
        </p:blipFill>
        <p:spPr>
          <a:xfrm>
            <a:off x="5224320" y="3413160"/>
            <a:ext cx="2211480" cy="11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5"/>
          <a:stretch/>
        </p:blipFill>
        <p:spPr>
          <a:xfrm>
            <a:off x="1582560" y="3252960"/>
            <a:ext cx="1527480" cy="152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6"/>
          <a:srcRect l="0" t="42946" r="0" b="10737"/>
          <a:stretch/>
        </p:blipFill>
        <p:spPr>
          <a:xfrm>
            <a:off x="0" y="5618160"/>
            <a:ext cx="9144000" cy="1239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6FB6-1E27-4DE5-8CCE-065854860B46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9"/>
          <p:cNvSpPr/>
          <p:nvPr/>
        </p:nvSpPr>
        <p:spPr>
          <a:xfrm>
            <a:off x="468360" y="2401920"/>
            <a:ext cx="80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25440" y="1252440"/>
            <a:ext cx="8572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575f"/>
                </a:solidFill>
                <a:latin typeface="Arial"/>
              </a:rPr>
              <a:t>IPC vs. CPC compared</a:t>
            </a:r>
            <a:endParaRPr b="1" lang="en-US" sz="3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575f"/>
                </a:solidFill>
                <a:latin typeface="Arial"/>
              </a:rPr>
              <a:t>Third IPC Workshop (WIPO)</a:t>
            </a:r>
            <a:endParaRPr b="1" lang="en-US" sz="2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85640" y="4889520"/>
            <a:ext cx="41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Roberto IASEVOLI, EPO</a:t>
            </a:r>
            <a:br>
              <a:rPr sz="1800"/>
            </a:b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PC Implementation Group</a:t>
            </a: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754680" y="5068800"/>
            <a:ext cx="21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25 February 2013</a:t>
            </a: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scheme layou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77720" y="1135080"/>
          <a:ext cx="8355240" cy="5238720"/>
        </p:xfrm>
        <a:graphic>
          <a:graphicData uri="http://schemas.openxmlformats.org/drawingml/2006/table">
            <a:tbl>
              <a:tblPr/>
              <a:tblGrid>
                <a:gridCol w="6411960"/>
                <a:gridCol w="1943280"/>
              </a:tblGrid>
              <a:tr h="86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-H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 Y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0428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 trunk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647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ubclass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160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{...} used to distinguish CPC text from IPC on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ubclass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7 300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ing former USPC "XRAC's and digests"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agging of emerging cross-sectional technologies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74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 ─ 2000 series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82 000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former "breakdown" and "orthogonal" IC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e IPC indexing cod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Y </a:t>
            </a:r>
            <a:r>
              <a:rPr b="1" i="1" lang="en-US" sz="2400" spc="-1" strike="noStrike">
                <a:solidFill>
                  <a:srgbClr val="404b56"/>
                </a:solidFill>
                <a:latin typeface="Arial"/>
              </a:rPr>
              <a:t>a.k.a.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 the 9th section of the schem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7640" y="1197000"/>
          <a:ext cx="7883640" cy="428796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0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224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deas over a 9th section of the IPC, to cover emerging technologies, cross-sectional in the sense that the new schemes would span over many schemes of the A-H sections, was explored at the time "Nanotech" was discussed in the 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Nanotech" was the trigger to have in ECLA the 9th section for tagging of emerging technologies</a:t>
                      </a: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later Y01 (Nanotech) was moved to B82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73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9th section of the IPC could not be created because of the high IT impact on certain offi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Y section stays in CPC for tagging of emerging cross-sectional technologi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ow includes also former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USPC XRAC's and digest (Y10S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efinitions availabilit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7640" y="1023840"/>
          <a:ext cx="8148600" cy="5191200"/>
        </p:xfrm>
        <a:graphic>
          <a:graphicData uri="http://schemas.openxmlformats.org/drawingml/2006/table">
            <a:tbl>
              <a:tblPr/>
              <a:tblGrid>
                <a:gridCol w="4056120"/>
                <a:gridCol w="40924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wipo.int/ipcpu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cpcinfo.org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uspto.gov/web/patents/classification/index.html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ldwide.espacenet.com/classific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efinitions are "one click away" next to the IPC symbol they relate t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efinitions are expected for all subclasses (except indexing schemes) and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-groups, at leas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efinitions are currently available as XML/PDF files at subclass level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marks their availability in the IPC pag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marks their availability in the espacenet pag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vailable also on USPTO classification resour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n to have all IPC subclasses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(except indexing ones) cover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urrently ~1/3 of the total is read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n to have all of CPC subclasses (except indexing ones) and main-groups cover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ll ready by mid 2013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efinitions layou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47640" y="1197000"/>
          <a:ext cx="7883640" cy="173844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28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41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Template exists to structure information in the best wa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XML schema mirrors the Template structur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Template exists which is almost identical to the IPC on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XML schema is compatible with the IPC on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What / where / how to classif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7640" y="1197000"/>
          <a:ext cx="7883640" cy="338148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IPC Guide provides the required information on the proper usage of the 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CPC Guide does not exist (yet)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ut the CPC follows IPC Guid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unless differently stated"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219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at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contribution over the prior art; other features interesting for search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ere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function-oriented vs. application-oriented places ...</a:t>
                      </a:r>
                      <a:br>
                        <a:rPr sz="1600"/>
                      </a:b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how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invention vs. additional information; indexing schemes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at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ntribution over the prior art;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ther features interesting for search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here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flect IPC practice to a very large extent, unless differently stated in the CPC Definition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how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: invention vs. additional information; indexing schemes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atabas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7640" y="1197000"/>
          <a:ext cx="7883640" cy="350208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317196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C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master database for the IPC, collecting allocations sent by all offices worldwid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CD is the authoritative source of the IPC classification data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t also generates reclassification working lists (RWL) for all offices at each IPC revis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-D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 "dual master" database with synchronization, to ensure independence of operations of the two offices, while offering refreshed access to the shared allocation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-DB is the authoritative source of the CPC classification data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atabase "products" are not exported from CPC-DB but from the local databases, e.g. DOC-DB/XML is fed by DOC-D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88880" y="5248440"/>
            <a:ext cx="8212320" cy="86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Dual master" databases with data synchronization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CPC-DB will be the authoritative source for CPC classification dat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90440" y="2003400"/>
            <a:ext cx="8785440" cy="2692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database (CPC-DB)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llocation standard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47640" y="1197000"/>
          <a:ext cx="7883640" cy="95868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2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andard 8 (ST8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ased on ST8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43920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llocation standard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Arial"/>
              </a:rPr>
              <a:t>—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 from the IPC ST8 ...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7153200" y="3621240"/>
            <a:ext cx="1079640" cy="502920"/>
          </a:xfrm>
          <a:prstGeom prst="leftArrow">
            <a:avLst>
              <a:gd name="adj1" fmla="val 50000"/>
              <a:gd name="adj2" fmla="val 53669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4932360" y="3860640"/>
            <a:ext cx="503280" cy="0"/>
          </a:xfrm>
          <a:prstGeom prst="line">
            <a:avLst/>
          </a:prstGeom>
          <a:ln w="507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7151760" y="144936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580000" y="1484280"/>
            <a:ext cx="6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362b"/>
                </a:solidFill>
                <a:latin typeface="Arial"/>
              </a:rPr>
              <a:t>, Y</a:t>
            </a:r>
            <a:endParaRPr b="1" lang="en-US" sz="2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4932360" y="5589720"/>
            <a:ext cx="1224000" cy="0"/>
          </a:xfrm>
          <a:prstGeom prst="line">
            <a:avLst/>
          </a:prstGeom>
          <a:ln w="507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7129440" y="5353200"/>
            <a:ext cx="1079640" cy="502920"/>
          </a:xfrm>
          <a:prstGeom prst="leftArrow">
            <a:avLst>
              <a:gd name="adj1" fmla="val 50000"/>
              <a:gd name="adj2" fmla="val 53669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7159680" y="420696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078520" y="4457880"/>
            <a:ext cx="179280" cy="12600"/>
          </a:xfrm>
          <a:prstGeom prst="line">
            <a:avLst/>
          </a:prstGeom>
          <a:ln w="507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286240" y="42591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362b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Allocation standard (cont'd)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  <a:ea typeface="Arial"/>
              </a:rPr>
              <a:t>—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... to the CPC on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68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Outline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4440" y="1125000"/>
            <a:ext cx="82710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Governance and opera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Documentation coverag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Scheme: availability and layou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Definitions: availability and layou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What / how / where to classify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Allocation standard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Revis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Questions &amp; Answer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vis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7640" y="1197000"/>
          <a:ext cx="7883640" cy="490860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2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92556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yearly (ready 6 months in advance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ked out by the IPC/WG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up to monthly (ready 6 weeks in advance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ked out by the CPC E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tform: IPC IEF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platform: CPC collaborative environmen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322560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following deliverables are expected: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cheme / Definition project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1" marL="7621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en français aussi !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RL (cross-refere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mpilation of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1" marL="7621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ems from the two abov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CL (revision concorda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WL (reclassification working lists) for all participating offi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I (Catchword Index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the following deliverables are expected: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cheme / Definition project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RL (cross-refere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mpilation of chang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1" marL="7621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ems from the two abov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CL (revision concorda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WL (reclassification working lists) for CPC offic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ICL (CPC-IPC concordance lis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Questions &amp; Answer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ank you !!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1197000"/>
          <a:ext cx="7670880" cy="4621320"/>
        </p:xfrm>
        <a:graphic>
          <a:graphicData uri="http://schemas.openxmlformats.org/drawingml/2006/table">
            <a:tbl>
              <a:tblPr/>
              <a:tblGrid>
                <a:gridCol w="635040"/>
                <a:gridCol w="3505320"/>
                <a:gridCol w="3530520"/>
              </a:tblGrid>
              <a:tr h="351720"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4827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trasbourg Agreemen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20149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0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Reform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invention" vs. "additional" inform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"advanced" vs. "core" level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classified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layer of the IPC (Definitions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ilateral agreement EPO-USPTO for the launch of 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implified IPC Reform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lassification in "full IPC" vs. "main-group only" instead of "advanced" vs. "core" leve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History (cont'd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197000"/>
          <a:ext cx="7670880" cy="3341520"/>
        </p:xfrm>
        <a:graphic>
          <a:graphicData uri="http://schemas.openxmlformats.org/drawingml/2006/table">
            <a:tbl>
              <a:tblPr/>
              <a:tblGrid>
                <a:gridCol w="635040"/>
                <a:gridCol w="3505320"/>
                <a:gridCol w="3530520"/>
              </a:tblGrid>
              <a:tr h="352440"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59544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17th version of the IPC launch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1st version of the CPC launch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3 Apr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C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3 Ma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C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201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I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next version of the CPC expected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Governance and operat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25320" y="1197000"/>
          <a:ext cx="7905960" cy="3584520"/>
        </p:xfrm>
        <a:graphic>
          <a:graphicData uri="http://schemas.openxmlformats.org/drawingml/2006/table">
            <a:tbl>
              <a:tblPr/>
              <a:tblGrid>
                <a:gridCol w="4003920"/>
                <a:gridCol w="390204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Union members, under the supervision of WIP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EPO &amp; USPT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perations are described in the CONOPS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operations are described in th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 OPS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ommittee of Experts (IPC/CE)</a:t>
                      </a:r>
                      <a:br>
                        <a:rPr sz="1600"/>
                      </a:br>
                      <a:br>
                        <a:rPr sz="1600"/>
                      </a:b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physically held yearly at WIP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 Implementation Group (CPC IG) to hand over to CPC Joint Board (CPC JB) in operation phase (July 2013)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(physically or VICO) held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quarterly/month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Governance and operations (cont'd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47640" y="1197000"/>
          <a:ext cx="7883640" cy="275904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revisions are expected to take place year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 revisions are expected to take place up to month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visions are worked out by th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vision Working Group (IPC/WG)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physically held twice a year at WIPO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revisions are worked out by th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Joint Editorial Board (EB)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eetings are (VICO) held week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Documentation coverag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47640" y="1197000"/>
          <a:ext cx="7883640" cy="2171160"/>
        </p:xfrm>
        <a:graphic>
          <a:graphicData uri="http://schemas.openxmlformats.org/drawingml/2006/table">
            <a:tbl>
              <a:tblPr/>
              <a:tblGrid>
                <a:gridCol w="3924360"/>
                <a:gridCol w="3959280"/>
              </a:tblGrid>
              <a:tr h="360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8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almost all of worldwide published patent documents after 1975 (entry in force of the Strasbourg Agreement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minimum PCT documentation available in EN, FR, DE (and NL)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+ whole of US patent document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+ CPCNO allocations: EPO member states can send their allocations in CPC format, to retrieve them later in EPOQUE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cheme availability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47640" y="1197000"/>
          <a:ext cx="8069400" cy="1985760"/>
        </p:xfrm>
        <a:graphic>
          <a:graphicData uri="http://schemas.openxmlformats.org/drawingml/2006/table">
            <a:tbl>
              <a:tblPr/>
              <a:tblGrid>
                <a:gridCol w="4016520"/>
                <a:gridCol w="4052880"/>
              </a:tblGrid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CPC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0e5bd">
                        <a:alpha val="50000"/>
                      </a:srgbClr>
                    </a:solidFill>
                  </a:tcPr>
                </a:tc>
              </a:tr>
              <a:tr h="1655640"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wipo.int/ipcpub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cpcinfo.org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ww.uspto.gov/web/patents/classification/index.html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</a:rPr>
                        <a:t> 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worldwide.espacenet.com/classific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IPC scheme layou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7720" y="1135080"/>
          <a:ext cx="6411960" cy="5208480"/>
        </p:xfrm>
        <a:graphic>
          <a:graphicData uri="http://schemas.openxmlformats.org/drawingml/2006/table">
            <a:tbl>
              <a:tblPr/>
              <a:tblGrid>
                <a:gridCol w="641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-H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631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ubclasse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71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</a:t>
                      </a:r>
                      <a:endParaRPr b="1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s a rule numbering starts at 101/00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3" marL="16765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but C07D main groups start at 201/00 ...</a:t>
                      </a:r>
                      <a:endParaRPr b="1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6:48:09Z</dcterms:created>
  <dc:creator>eb81195</dc:creator>
  <dc:description/>
  <cp:keywords>IPC</cp:keywords>
  <dc:language>en-US</dc:language>
  <cp:lastModifiedBy>Malanga</cp:lastModifiedBy>
  <dcterms:modified xsi:type="dcterms:W3CDTF">2013-02-25T13:53:19Z</dcterms:modified>
  <cp:revision>786</cp:revision>
  <dc:subject>IPC Workshop (2013) - IPC vs. CPC compared</dc:subject>
  <dc:title>IPC Workshop (2013) - IPC vs. CPC compared</dc:title>
</cp:coreProperties>
</file>