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95F5-F6B1-41A1-B46F-AEAA7E8B2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C218-5A7A-4EEC-98BB-C595AA3F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F61A-F4D4-4181-9DF7-92A8D3336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4653-067E-4C36-A89E-89EC57E97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9AB3-907A-4A61-9649-B1A2E14F9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A5E3-9DC1-47C6-8D81-A28308E9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043E-7AC5-4052-AD4B-E902F20B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DB06-D3A7-40F0-9B2E-4CA98788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563C-2B11-45F5-BBA3-81A30AA6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BFD2-3720-465B-B4D0-262F7DDB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DE1B6-4974-4104-94BE-4C573638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F675-DE2F-4514-8378-812709E6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D79E-B662-4006-9B91-13489874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D6B7-7814-4DD5-B21A-7278062C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3A39-EF69-48C4-9838-F1AA6E2E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5AB3-7DC8-4991-A239-B3D57ECF7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BFB1-1B1A-4C21-9B34-E988B1E26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0ECF-774E-4E67-82C3-0FECB4EC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09EE-0A26-4F9B-8DED-8C12470B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0402-8812-42B6-A00C-8FDB4479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CEBE-2A8F-40C9-813F-50552069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E5F0-B549-4D58-B677-18BE61FF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3B97-D0BA-4062-81F6-9EF86D5C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BEA5-8B4C-4598-B403-A8D551A7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C865-1F65-47A7-8AA5-198C83873D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5A58-99EE-46E6-B0CD-C6110854E5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宋体"/>
              </a:rPr>
              <a:t>IPC-CPC-FI experimental viewer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宋体"/>
              </a:rPr>
              <a:t>and possible applications </a:t>
            </a:r>
            <a:br>
              <a:rPr sz="44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canum Development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0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nex sampl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419720" y="990720"/>
            <a:ext cx="4505040" cy="4643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488560" y="586728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d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24280" y="1219320"/>
            <a:ext cx="2133720" cy="533160"/>
          </a:xfrm>
          <a:prstGeom prst="wedgeRectCallout">
            <a:avLst>
              <a:gd name="adj1" fmla="val -21578"/>
              <a:gd name="adj2" fmla="val 182736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ared to IPC and found unchang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2286000"/>
            <a:ext cx="2133720" cy="304920"/>
          </a:xfrm>
          <a:prstGeom prst="wedgeRectCallout">
            <a:avLst>
              <a:gd name="adj1" fmla="val -103722"/>
              <a:gd name="adj2" fmla="val 168231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difi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24480" y="4114800"/>
            <a:ext cx="2133720" cy="304920"/>
          </a:xfrm>
          <a:prstGeom prst="wedgeRectCallout">
            <a:avLst>
              <a:gd name="adj1" fmla="val -70833"/>
              <a:gd name="adj2" fmla="val -2083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04920" y="990720"/>
            <a:ext cx="3733560" cy="29192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602360" y="594360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PC 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PC and IPC scheme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IT aspect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ilarly structured classification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PC available in English, in multiple XML files, and PDF form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PC available in English and French, in a single XML master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ormat of the XML files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ison of texts is difficult but necessary marks are given in CP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obvious to convert them in either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ation on a common platform may be difficult without harmon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es of a common platfor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retrie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concord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 of IPC revision work (harmoniz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50292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asibility of convers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C to IPC scheme master file-like XML is checked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proof of concept, for supporting both 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conver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TD, similar to IPC master file DTD is cre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ing a limited set of new elements (&lt;5) and attributes (&lt;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as a custom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d a set of com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ordance converted and 2…/… codes added as extension of the concord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view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imple four-pane presentation provi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PC | concordance | CP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 (just as an on-the-fly retrieval by UR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llel browsing with synchro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ing in one window also moves the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ing on text synchronizes the other wind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ing concordance and dif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ple page /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16264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ple page /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37920" y="5181480"/>
            <a:ext cx="3581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ordance of 2…/… symbol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only when texts are equ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01064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pport of revision 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asiblity of conversion of CPC scheme parts is check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nex XML format, uploadable to RIPCIS is cre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crosoft Word file created, uploadable to the e-for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rametriz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86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a set of CPC r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ssion meta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572000" y="1676520"/>
            <a:ext cx="426708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0:34:59Z</dcterms:created>
  <dc:creator>Attila Torcsvari</dc:creator>
  <dc:description/>
  <cp:keywords>IPC</cp:keywords>
  <dc:language>en-US</dc:language>
  <cp:lastModifiedBy>Malanga</cp:lastModifiedBy>
  <dcterms:modified xsi:type="dcterms:W3CDTF">2013-02-25T12:37:22Z</dcterms:modified>
  <cp:revision>9</cp:revision>
  <dc:subject>IPC Workshop (2013) - Patent Classifications as “Knowledge”  …towards a more conscious (auto)categorization of patents</dc:subject>
  <dc:title>IPC Workshop (2013) - Patent Classifications as “Knowledge”  …towards a more conscious (auto)categorization of patents</dc:title>
</cp:coreProperties>
</file>