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89CEB-D0B7-4484-80EE-BBEAD09A3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4360" y="4776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2C55-E6F4-4E56-9B75-342ABEDB9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360" y="4776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964320" y="4776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70F5-703F-48BF-95A4-EB92E837C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848320" y="3860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12640" y="3860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4360" y="4776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848320" y="4776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012640" y="4776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F3AF-D284-4FCF-AC1A-6D5E2BA97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4360" y="4776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4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0389-1948-4ED4-BC17-D8DDF1DFC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64320" y="4776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4360" y="4776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4360" y="4776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4360" y="4776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964320" y="4776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48320" y="3860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2640" y="3860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4360" y="4776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848320" y="4776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012640" y="4776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5DB0-1DA3-40A5-95CE-AB8D33170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97C7-6D0F-4FB4-93A8-342A698A9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B29D-0DCC-4686-A173-C1959BB0A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2D05E-0513-4338-99F5-437F10CC8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4360" y="4776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068F3-1BA2-488F-B324-79A2707326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4320" y="4776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D3C6-EE76-4D83-ADC5-47D27740C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964320" y="3860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4776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54D8-0D8F-4719-884E-81A9E60E5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623C-7A2A-423F-B60B-2C7442787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901800" y="3499920"/>
            <a:ext cx="5757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lans to Accelerate Revision and Publication Procedure of the I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9960" y="5084640"/>
            <a:ext cx="21477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noAutofit/>
          </a:bodyPr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IPC Work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February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Ning 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Section - W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Current IPC Publication Procedure (cont.)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2184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nal Adoption by the CE (Febru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 more year between the completion of the work by the WG and the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43671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43671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3933720"/>
            <a:ext cx="107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WG/N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3933720"/>
            <a:ext cx="115092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CE /Fe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38920" y="4006800"/>
            <a:ext cx="100836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ub./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64360" y="43671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826920" y="4222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3671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43671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43671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4920" y="43671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46200" y="3933720"/>
            <a:ext cx="108108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WG/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4560" y="3933720"/>
            <a:ext cx="11527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arlyP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Jul.1,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2920" y="43671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reased number of revision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reased workload of th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 to shorten the revision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s to involve more Offices in the substantial revision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408c"/>
                </a:solidFill>
                <a:latin typeface="Arial"/>
                <a:ea typeface="ＭＳ Ｐゴシック"/>
              </a:rPr>
              <a:t>Impact of the Five-Year Plan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PC revision procedure will remain unchanged at initial st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E will decide next year whether changes are needed to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 the number of working days of th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special Task Forc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408c"/>
                </a:solidFill>
                <a:latin typeface="Arial"/>
                <a:ea typeface="ＭＳ Ｐゴシック"/>
              </a:rPr>
              <a:t>Proposed Future </a:t>
            </a: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IPC Revision Procedure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408c"/>
                </a:solidFill>
                <a:latin typeface="Arial"/>
                <a:ea typeface="ＭＳ Ｐゴシック"/>
              </a:rPr>
              <a:t>Proposed Future </a:t>
            </a: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IPC Revision Procedure (cont.)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ponsibility of the IPC revision is given t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sion projects – with prio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s to be revised – prioritized – to be adopted by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sion requests in these areas – directly to the IPC/WG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eated with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sion requests in other areas – to the IPC/CE with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itions within the revision projects –  to be created with cond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08c"/>
                </a:solidFill>
                <a:latin typeface="Arial"/>
                <a:ea typeface="ＭＳ Ｐゴシック"/>
              </a:rPr>
              <a:t>Proposed Future </a:t>
            </a:r>
            <a:r>
              <a:rPr b="1" lang="en-US" sz="3600" spc="-1" strike="noStrike">
                <a:solidFill>
                  <a:srgbClr val="00408c"/>
                </a:solidFill>
                <a:latin typeface="Arial"/>
              </a:rPr>
              <a:t>IPC Revision Procedure (cont.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al adoption of the amendments by the IPC/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ctronic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mediately after the IPC/WG – to be scheduled 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rly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osed future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d by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408c"/>
                </a:solidFill>
                <a:latin typeface="Arial"/>
                <a:ea typeface="ＭＳ Ｐゴシック"/>
              </a:rPr>
              <a:t>Proposed Future </a:t>
            </a: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IPC Publication Procedure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28544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2854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16360" y="2421000"/>
            <a:ext cx="107928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WG/N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00720" y="2421000"/>
            <a:ext cx="115092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CE /Fe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67640" y="2494080"/>
            <a:ext cx="100800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ub./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93080" y="285444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55640" y="270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2854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2421000"/>
            <a:ext cx="108108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WG/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3280" y="2421000"/>
            <a:ext cx="115272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arlyP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Jul.1,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1640" y="28544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52308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56000" y="52308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16360" y="4797360"/>
            <a:ext cx="107928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WG/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4797360"/>
            <a:ext cx="115092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CE ado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May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67640" y="4870440"/>
            <a:ext cx="100800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ub./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93080" y="523080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55640" y="5086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52308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52308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52308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5230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4920" y="4797360"/>
            <a:ext cx="108108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WG/N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83280" y="4797360"/>
            <a:ext cx="11527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arlyP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Jul.1,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51640" y="52308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1800" y="3499920"/>
            <a:ext cx="5757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08c"/>
                </a:solidFill>
                <a:latin typeface="Arial Black"/>
                <a:ea typeface="ヒラギノ角ゴ Pro W3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49960" y="5084640"/>
            <a:ext cx="21477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noAutofit/>
          </a:bodyPr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IPC Work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February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6360" y="5805360"/>
            <a:ext cx="69343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408c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PC Revision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PC Publication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 of the Five-Year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d Fu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 Revision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d Fu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 Publication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Current IPC Revision Procedure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ponsibility of the IPC revision was given to one unique body (IPC Revision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WG meets twice year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/ J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vember / Dece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Current IPC Revision Procedure (cont.)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sion requests from IP5 CHC 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cts) or Trilateral projects 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cts) - automatically included in the IPC revision program with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sion requests from other Offices – included with conditions 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c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erical criteria – size &amp; growth 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itment to reclassification (PCT Mi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 by the 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Current Situation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few revision requests have been submitted directly to the C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those without need for reclassification - accept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as those creating new subdivisions – rej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ently, no mor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evision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Current Situation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total number of new subdivisions during 2007 to 2013 decre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st of Re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d expense in Classification by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408c"/>
                </a:solidFill>
                <a:latin typeface="Arial"/>
              </a:rPr>
              <a:t>Distribution of Revision Project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042920" y="1611360"/>
          <a:ext cx="6813720" cy="4514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611360"/>
                    <a:ext cx="681372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Current IPC Publication Procedure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PC yearly publication (January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ilation of ame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sion Concordance List (R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tchword Index (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C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Current IPC Publication Procedure (cont.)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Early publication (July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ilation of ame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sion Concordance List (R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idity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sibility to publish twice a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ver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s satisfaction - annual publicatio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8:02:35Z</dcterms:created>
  <dc:creator>WIPO</dc:creator>
  <dc:description/>
  <cp:keywords>IPC</cp:keywords>
  <dc:language>en-US</dc:language>
  <cp:lastModifiedBy>Xu</cp:lastModifiedBy>
  <dcterms:modified xsi:type="dcterms:W3CDTF">2013-02-26T07:25:49Z</dcterms:modified>
  <cp:revision>24</cp:revision>
  <dc:subject>IPC Workshop (2013) - Plans to accelerate revision and publication procedure of the IPC</dc:subject>
  <dc:title>IPC Workshop (2013) - Plans to accelerate revision and publication procedure of the IPC</dc:title>
</cp:coreProperties>
</file>