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32.xml" ContentType="application/vnd.openxmlformats-officedocument.theme+xml"/>
  <Override PartName="/ppt/theme/theme44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</p:sldMasterIdLst>
  <p:notesMasterIdLst>
    <p:notesMasterId r:id="rId45"/>
  </p:notesMasterIdLst>
  <p:sldIdLst>
    <p:sldId id="256" r:id="rId46"/>
    <p:sldId id="257" r:id="rId47"/>
    <p:sldId id="258" r:id="rId48"/>
    <p:sldId id="259" r:id="rId49"/>
    <p:sldId id="260" r:id="rId50"/>
    <p:sldId id="261" r:id="rId51"/>
    <p:sldId id="262" r:id="rId52"/>
    <p:sldId id="263" r:id="rId53"/>
    <p:sldId id="264" r:id="rId54"/>
    <p:sldId id="265" r:id="rId55"/>
    <p:sldId id="266" r:id="rId56"/>
    <p:sldId id="267" r:id="rId57"/>
    <p:sldId id="268" r:id="rId58"/>
    <p:sldId id="269" r:id="rId59"/>
    <p:sldId id="270" r:id="rId60"/>
    <p:sldId id="271" r:id="rId61"/>
    <p:sldId id="272" r:id="rId62"/>
    <p:sldId id="273" r:id="rId63"/>
    <p:sldId id="274" r:id="rId64"/>
    <p:sldId id="275" r:id="rId65"/>
    <p:sldId id="276" r:id="rId66"/>
    <p:sldId id="277" r:id="rId6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notesMaster" Target="notesMasters/notesMaster1.xml"/><Relationship Id="rId46" Type="http://schemas.openxmlformats.org/officeDocument/2006/relationships/slide" Target="slides/slide1.xml"/><Relationship Id="rId47" Type="http://schemas.openxmlformats.org/officeDocument/2006/relationships/slide" Target="slides/slide2.xml"/><Relationship Id="rId48" Type="http://schemas.openxmlformats.org/officeDocument/2006/relationships/slide" Target="slides/slide3.xml"/><Relationship Id="rId49" Type="http://schemas.openxmlformats.org/officeDocument/2006/relationships/slide" Target="slides/slide4.xml"/><Relationship Id="rId50" Type="http://schemas.openxmlformats.org/officeDocument/2006/relationships/slide" Target="slides/slide5.xml"/><Relationship Id="rId51" Type="http://schemas.openxmlformats.org/officeDocument/2006/relationships/slide" Target="slides/slide6.xml"/><Relationship Id="rId52" Type="http://schemas.openxmlformats.org/officeDocument/2006/relationships/slide" Target="slides/slide7.xml"/><Relationship Id="rId53" Type="http://schemas.openxmlformats.org/officeDocument/2006/relationships/slide" Target="slides/slide8.xml"/><Relationship Id="rId54" Type="http://schemas.openxmlformats.org/officeDocument/2006/relationships/slide" Target="slides/slide9.xml"/><Relationship Id="rId55" Type="http://schemas.openxmlformats.org/officeDocument/2006/relationships/slide" Target="slides/slide10.xml"/><Relationship Id="rId56" Type="http://schemas.openxmlformats.org/officeDocument/2006/relationships/slide" Target="slides/slide11.xml"/><Relationship Id="rId57" Type="http://schemas.openxmlformats.org/officeDocument/2006/relationships/slide" Target="slides/slide12.xml"/><Relationship Id="rId58" Type="http://schemas.openxmlformats.org/officeDocument/2006/relationships/slide" Target="slides/slide13.xml"/><Relationship Id="rId59" Type="http://schemas.openxmlformats.org/officeDocument/2006/relationships/slide" Target="slides/slide14.xml"/><Relationship Id="rId60" Type="http://schemas.openxmlformats.org/officeDocument/2006/relationships/slide" Target="slides/slide15.xml"/><Relationship Id="rId61" Type="http://schemas.openxmlformats.org/officeDocument/2006/relationships/slide" Target="slides/slide16.xml"/><Relationship Id="rId62" Type="http://schemas.openxmlformats.org/officeDocument/2006/relationships/slide" Target="slides/slide17.xml"/><Relationship Id="rId63" Type="http://schemas.openxmlformats.org/officeDocument/2006/relationships/slide" Target="slides/slide18.xml"/><Relationship Id="rId64" Type="http://schemas.openxmlformats.org/officeDocument/2006/relationships/slide" Target="slides/slide19.xml"/><Relationship Id="rId65" Type="http://schemas.openxmlformats.org/officeDocument/2006/relationships/slide" Target="slides/slide20.xml"/><Relationship Id="rId66" Type="http://schemas.openxmlformats.org/officeDocument/2006/relationships/slide" Target="slides/slide21.xml"/><Relationship Id="rId67" Type="http://schemas.openxmlformats.org/officeDocument/2006/relationships/slide" Target="slides/slide22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 type="dt" idx="4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 type="sldImg"/>
          </p:nvPr>
        </p:nvSpPr>
        <p:spPr>
          <a:xfrm>
            <a:off x="1104840" y="641160"/>
            <a:ext cx="4648320" cy="348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 type="ftr" idx="4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6"/>
          <p:cNvSpPr>
            <a:spLocks noGrp="1"/>
          </p:cNvSpPr>
          <p:nvPr>
            <p:ph type="sldNum" idx="4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F4C5CC-95FE-4786-A3BF-B7214F021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B073E3-981E-4AB8-930F-C7E1DF242471}" type="slidenum">
              <a:rPr b="0" lang="en-US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33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Foliennummernplatzhalt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E06943-6A2E-4BFE-A3B0-1ABE9EC71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B43860-389F-4203-9F44-EF99AD85AF08}" type="slidenum">
              <a:rPr b="0" lang="en-US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4F38AD-AEE9-46F4-A1C1-A92EFC57DE68}" type="slidenum">
              <a:rPr b="0" lang="en-US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B6E569-06E0-4799-A710-A0F6CC5DD941}" type="slidenum">
              <a:rPr b="0" lang="en-US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4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25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F90CEF-56E0-48BD-9874-2B78A494F640}" type="slidenum">
              <a:rPr b="0" lang="en-US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sldImg"/>
          </p:nvPr>
        </p:nvSpPr>
        <p:spPr>
          <a:xfrm>
            <a:off x="1104840" y="64152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315720" y="4295520"/>
            <a:ext cx="6281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1FBF47-9FE0-4B91-BB8A-2356C9395950}" type="slidenum">
              <a:rPr b="0" lang="en-US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6083-A78F-4D0E-809D-A05AC05BE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8471-3B7C-46E1-A39B-B5647B13F32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28925-DA22-4DBF-8AF0-CA7049A53E0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254AE-F55C-4DC2-B923-BA023CBC8A1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5B4F9-E38C-4A82-8867-85785B87555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CEE51-1E66-4F96-95FB-567AC03F259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B117F-5D2A-4623-AF3C-6338BA70268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BE496-DFF6-4A9B-A979-83601459735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E9D7E-1B44-4456-891C-4E5EC42EF1D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2731F-F3C2-4746-9F5A-6EEA1023489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218C1-888A-4CB2-BAF5-4E44901BE17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9AA8FD-87DF-4BBF-BF45-5493A3C3D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64F14-602A-4EA7-96DC-F433C4810BF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537A8D-2D2C-4131-A74E-5B6D986C72C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8DED75-2B7A-42FD-BBEC-E68C0095009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B56AE6-579F-428B-A1BA-879658ED591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96E346-A0CE-4FC9-9EE4-8684274EF18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6005A6-A5A8-4A7B-8958-121EA97D9E2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70240D-EDDD-4245-89B1-CAB9ADE491E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04A2D2-C703-47D4-82FD-056A45864BB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3526C0-5E7B-4FE7-A0CB-DA34547DB8E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873B9A-5FEE-4098-8386-511093E9614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B88A28-9EF3-4332-A142-683F0E48C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4D84-2BB2-4777-B318-14744A3DE3B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F364D4-C43B-4D5C-A9FC-1BED7A39102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2A7CA-E979-4952-AF66-4FF192E4FF8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D0985-F500-4C9F-9555-C270B1E4DD0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88164-E88B-41AF-9232-4B3B3815FDA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746CC-0376-4EC9-8F5A-67B8BB4E6FF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85B27-78E6-4B07-A040-67897BDC48E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71C3E-BA90-46F5-827F-81E56D533F1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3C398-EE5C-475D-8A17-359D9D18769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D23F9-EDEF-4653-8314-8C260597044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2B445-9901-4C1C-8812-8997347AD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DA6-0D7F-4171-8BF9-F71B9351720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39609-E8DD-4EC0-880B-F7180400589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8C16D-7442-4F61-AD1D-1A6C3A90544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2425A-8FB2-42E8-A353-DD9A983FE89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379E88-C028-4B00-A96F-7D53093D2D5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6D17FC-E9A8-4FD3-82BB-DF513287D07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A83A1B-F70D-4417-AAB5-2ED0AC1FCA1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158A79-6FE6-4DA0-8D8A-F36C580C6EB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461D85-A82C-48C1-B4AB-5D9ABF5A3E6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E98AE6-B4FE-4D8D-ABD4-AE125210658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A815E5-2CD2-4D6F-861F-D5700AFE78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B35-1AE7-451F-A849-953A2671F3A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28DEDF-D8D6-4E52-8C7B-6FC054472DD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4C0A8E-6CC3-437B-B22C-10EE435095A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E97BEA-5C25-4526-A138-33E4F018C6B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2DCFDB-BE04-4033-943E-2D6C68104CE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C2F905-ADBF-490B-BC17-BCEB7329D75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096AA-D241-4B76-91C5-4999E7858F0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5F134-D717-423E-AC99-D9821D0DDDB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2BA46-8A74-47F9-9D96-2FAFD88CE8C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FA139-38BA-4154-9E66-F4282EDA620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B569D3-A2E9-4A42-9954-ED2B99FDEF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D3B3-1BBC-4A4B-9FFE-9D3086A327D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FAC5D8-EE6A-4251-A51E-971E4A4D1CB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21640-A013-4C34-82C4-EB80B064414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35CC7-FDA6-4FBF-8B0D-112AB7CA9A7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BA4AB-AD80-4405-AC0A-C9B88B8D963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39D0A-A36F-4AA1-9379-236174651D5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37101-A9E2-4508-B2ED-5EA541A1F0C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689AA-53EE-4E60-B188-95CB5738019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16774-FA3D-456F-B80C-7D38466FDBF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3F08C-6FAE-4FB0-83E3-E39B4946324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AE7A4-EF57-4651-9B19-DE83C5D431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A3D-FAF6-416C-A637-8867818E5F3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A2E4D-BEDC-49C7-9CD5-429040FD308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E71F1-62B5-4549-9CF7-8B80824CA24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54F62-E0F3-4012-95A1-A43A99E2F35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E46E0-6DE9-4F90-81A2-43F4B6449BF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C6143-E204-4E0D-A4AB-F651C96547F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E5356-4E43-4E41-B7C5-ADEA28B3C20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3B9D5-488C-4585-9D84-811A2FBFFB2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5C523-3A9B-4F3C-A1BF-DCAA8E11DF1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6AD56-FCF0-448B-B92D-C95A9FAD4D1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E98DEE-6713-45C8-8951-355843B264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49C-67BB-4784-AA74-3AC4DB13214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990F63-772C-46CC-AB64-8451C88FFCB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141C1A-8904-4AF9-850D-D5573E3670F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6D1F36-27F9-440F-B755-310D33A1213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91B562-71A8-45AF-AB7A-1FCE32762F6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41820D-C240-4C5A-84EC-387DFE70C99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8262DC-30E9-4B72-A815-F82796944C8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06FD1A-F733-4E07-B5D0-3B036CFB710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7BD07F-DC0E-446A-ABCF-42E7836DFD3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54B6D5-DA04-4EFD-8D15-D399E6D15CF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422D4B-054C-4C63-8452-AC9EC2D8B4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0B6-D22D-428B-A0AC-4638937F16F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366A35-2899-45E3-8231-4135E922EF5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85113B-82E0-4015-B11B-F7E2257A01F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B726BF-BEC7-4843-BA61-1EEABA7869C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8EC7A2-B79C-4111-BDAD-6837512F755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9D8D7D-DC22-4447-BC12-3BE51166E1B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7C603E-3933-4C25-A161-033D31570D6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C61638-6828-421C-BBD3-3307169C763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10754A-C57F-4AA7-8401-68CD761DD75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24B337-F2D9-4F38-B805-11F0642F4C4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F81236-E6A5-40BF-A9A9-E62A85C6A2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65F-969F-4D53-91D0-DEE402A0891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C5E66F-3BC0-4421-AA58-AFA0132D2A5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95B1B9-2CF6-4869-B0F9-96EBEDFEB0E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787E28-652E-411A-8924-8083A12A142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03D77-098E-4D77-97FD-504BA4D4675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AE125-AB4F-4ACD-8C92-ED201426DD5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A6251-602C-48A9-86CB-075CAEC96B7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5520C-92C0-4E43-90CB-F6B9EF091AF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ED98A-C058-4AF2-92D1-7BF7B52FA1A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FFF70-F65B-4541-83E7-B748BF76F3D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5BEFE-D727-4FD8-BE47-EEF9609B4D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7A03-5674-47E2-8BE1-3385FBF07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65A-DF2C-4D1F-9B42-5F86095E8F6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0883C-0086-40C6-BA69-520F9C0804B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0388D-7BB8-4E4C-A112-71ADDEFBEF2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21FDE-94CC-4F0C-9F61-56977432A4E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2CD75-9489-465D-BBCF-E9FF311A254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77AF0-1A6B-42EF-A06C-EEDAA2E0467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7CFE77-6AFF-4071-9384-17EBDEF83F5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94068B-96E6-4FDD-879E-5F17EC2C22A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F58A9C-C726-48EF-8B99-727D8C759CF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5B7F69-8AA4-47B4-A936-000937D6BAD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40EA3F-7DBE-4B38-8340-11C1EAA4F1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FB44-D5BE-4FB2-A1F7-8A3A7862059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F85199-6D06-4E90-AC11-D6834531B6A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80AFB3-10C0-4680-B337-96A2A0FF532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155EA8-3535-492F-B02D-1574ECFD9F6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D16BE0-0ED3-4485-962E-E2772DBFB2F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0BD5EC-B41D-4768-83E0-AE5A96CA979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4CE30A-86F5-4420-821E-A18E37A30C3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256C24-DEE5-49B2-B129-ABB03FC9DF4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1580CC-53C8-47FD-BA70-2B4E2D0EACF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74F199-8C31-4570-9530-AC0E1986F55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A36AC8-F140-4FE8-93F0-0D545911EA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798-55BE-4C1E-B3DC-42BB281B043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7E86DF-42F4-4FE2-8DEB-CE606EFB3F6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E37376-33C2-498E-B5F6-AF94424B086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E55A4A-345F-4A42-B915-4EF604A9244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35D0CF-BD78-4875-B2C0-FDB04F1655D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7EAE2D-F808-45B6-B9AF-5BC8F6E8B87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A9AFCA-8BE7-4CDA-B3E9-7C198E7A32B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CD83CE-2085-4E87-A9C7-8CA21A96416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5D0A9D-3535-4443-B3FF-3BB18A31934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96CDE5-531E-44A6-B0D8-0CEAAD226B2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239-678D-49CC-B43D-6A7B45D11E1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DA61-8EB1-4B61-8EEC-53D8EC72F23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E7F37-FFBA-43E6-BE26-04CFB3A8651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1B1A5-E6EF-4A47-8005-3A3BC1EA8F9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06975-206D-472B-B060-58DAFC6F99D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91248-96CC-44E6-B85C-E639D12A316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2B1D9-BEC7-4E12-AEBE-C69D975902A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D21A-2F16-464B-89A0-DD3356C293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36E69-4953-4D5B-AF95-A7FF9D0B548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A9080-DFB6-4E50-99F4-F0048BDF48A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A959E-C46C-4E97-B26A-0BBED294047C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BC213-CB4D-4ADA-A4B2-A010897E35DA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32681-488B-494D-B37C-9559991C49BF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E2A32-83CF-43B3-9C14-A3F46C4136AB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10E9F-E137-4F3A-9707-FBA9C5F6236C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98967-C65D-46CE-A8C1-6E22CB662B24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DEFC31-AD6A-4326-9458-2ACA2A3DA450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FFA401-50FF-4168-8E90-8A39D752DB3A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A7F8-80A2-449A-B32E-3BDB658C95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CB595E-088B-417A-8C5E-02EC6501D8B1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13FF6-5D80-4804-B876-52912979BAE2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8251E9-1F1A-4D08-922F-3DD912746D1D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E76369-DA24-4892-9770-3DF02055A0F9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26C364-CEBB-4293-8DE1-41492758012B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BAE88B-6A4D-4FC5-9737-D18A62074FFB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F0DBE5-6102-47B8-84C2-E001518DA296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0AD484-EE2E-4A82-A5EC-107C3D55717F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DDDF9C-FA95-4466-BF01-79AE822DE3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3F9211-86EE-41A9-8CF5-9746C31F19CB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B69378-D45B-4389-B2DD-3FD1460495EC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C11EFC-8659-4E81-B3B4-A8B65B1FCA34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155E0F-CAA1-4795-84E1-587F418415A9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D7003E-2ECC-4F99-BA7D-FA1A3ACD2FFE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7980CC-B4C4-48F1-8011-BA84F57DE162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54AB37-0DCB-4242-B35C-75A4394A01EA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223426-52C6-481E-B363-3AF240838353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D88E94-C5B2-494E-9920-58AEE7A151AF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C0DD76-622F-43DF-AA4A-5E2B259A2C79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1A77B-D0A4-4007-BC07-98519DE71D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DC5114-F124-404B-83F9-9007A1BD7858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0B914-4594-422A-93CF-A42513AEA89B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659CC-63DC-4FF3-9523-9532154AA3EB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7C304-809F-40FF-9C11-A8C23C8454FD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F470B-AD35-4CB3-A522-14758348D29E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4EADB-A28C-4693-94B2-81E7594F47D0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8D809-9843-49AE-8BE1-C5F884160B0A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F5C7E-F571-4D62-AEE8-8076E9D0170D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64D5AC-E545-4973-B92A-57424D3452E6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28F1A-3F2A-4FBD-B6C2-E5EE655683BC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B0D0F-ED2E-42D5-95C4-6D11BDF021B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F0D0AE-DE38-42D3-A8DF-AB7EAE0CCC8D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84274-A404-41B5-94AD-88C9D84663E9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0C96410-CB22-4C8E-A07E-AAA3D88969FC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EF62C3A-83EC-4D6F-9994-BE9A784FFCE3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08E54C-62B4-4EEA-AC93-A9C749803A57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952E543-2E7E-4351-BD13-26B271068573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2533A28-244F-4C43-927E-B7A89848B058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AD34916-6D9E-43A1-A7BA-1B5643AD55B6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3962E3-B76C-4CFF-966D-9151DA7CD6D2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1735B01-2AEE-43AC-974F-51AD4E1F02B0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272B80-BAEF-4A4C-988A-3F9A8F6F666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2F0EA-93E7-4C83-8F1C-C0D55E7ADA75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9777FA-B529-44BF-84A7-92A54BA113E1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343894-EA86-4384-8425-DE682846E8F6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A0376D6-6EAB-4B9E-BF64-4EBCFD5FBC0B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362CAD-20F9-4677-A0D8-4D6769156502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A3CF2C-7B92-4B69-915F-3651E14234AF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842476-F09E-4655-A583-89FD5312F596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2EFFFF-6195-4251-9C86-12FAB5CF334D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AF6B2D9-A51E-42C5-8DEB-BBDBA6A1577F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811FE9-4B11-4DA7-A6F2-29238FA16377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6B6476-E16B-4977-831C-0FE26786C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D32D-6B93-438A-8D72-57E27F5DE20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C074C-1929-42CE-B37B-56A148EDD36F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3B2A62-0C3C-4D6B-9095-8BB25D642487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C2198C-B135-4633-8D14-C96BF929CF47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8AB8E6-157C-4A1E-A971-35E8A63899CF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B814E1-5922-4CBA-8820-EFF4A373CA0C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F1D0FC-DB60-4DD4-9736-1565F1BA9191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FD1D7-D18B-427B-8DF9-77ABD6A64F25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7CE48-E247-4963-BD90-58505E04FF6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8437B-704B-4260-8389-CDC5D8FF845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C75E9-DDC8-401A-B8F7-176F014C383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48F52-FB8E-48AA-922E-341EC9DB110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D3397-03B8-40B6-B0CF-4FBA1ED33E0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A916F-4E46-4018-81C2-AE741F93066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429F-46A8-459C-A644-72A1E761C88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6D6EA-71AF-48C8-A6C5-91E6F10A7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8765-B96C-45EB-A659-F6DDE8BC81C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83262-850D-48BD-83B5-B5AE079FE7F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4B983C-A64D-4C86-A67B-1F1776E89D7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8F020-5F4D-4A0F-BECE-38668581C12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0BAE59-3AC6-4CF2-A699-385AF4CF9FB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A4FC3-0E4B-4B09-A550-A0C0C1E3788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C978B5-BCBD-465B-84BD-00A86790AD4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B5C18B-5680-4957-817A-3CB5F9A7B34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BDAC20-8ED6-4C65-B0E6-7B8D152DD66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4A6E2-3226-4958-95F2-4C812B3D5F6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2B647-030E-427B-9373-770829E17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EE0A-729F-4439-AC51-D7CF5F92679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E99CBB-2AFF-4AE7-B049-C060A4E0651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CD4434-2100-4ADA-ABA6-C7F8FFA843C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C85F9F-FE68-4EF1-962F-E2EEF0CFE44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7346A2-8B63-412F-B2F0-FB746F44E7F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FA6F3D-08D0-4145-8401-9BA68F009C7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C31043-A32E-43D0-8B52-1FA6E903922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8A5A84-2809-44A9-8468-B0EAC1293D9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22AD6C-C8DE-4AC6-BFCA-CC9E3CE1401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50BB57-EDD5-440E-947C-5F26046F4E4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253DAF-6A52-43D9-B703-E03B081DF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AA6A-BD52-4B72-B8D6-AF7466339F4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D54057-ACDF-48D9-BBD7-8645A56F6C6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94774E-075E-40B0-A110-88C15AD73A5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192BF3-0404-4231-AF17-E5A8B47A3DD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34836F-5B26-4C11-AE1F-F18330817BF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B8AA8C-4D11-467F-A2ED-E02DC957F5A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2A3C91-53D4-4EB7-A4E9-5DC0935F4A1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EA85F5-C4A5-471E-B501-C279F55E853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F5F7D5-4C0B-4497-BBA2-7E7C8210453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B855B3-1DF1-4D32-A8A3-04F85A04F54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84796D-A912-480A-AB02-7808BAC93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C521-4F08-42D7-B20D-BCC7CEC3AF8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324000"/>
            <a:ext cx="822960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7C800B-EA8C-4B26-80CD-36391442594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A2EB40-FD38-47BF-B7E7-ADD01A85564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A4FBAC-96C7-41A5-BE9B-07DAECBEE0D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59980D-A5BF-4CD6-8453-5C814430B31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41360" y="3902760"/>
            <a:ext cx="82454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0F6ADF-4D8B-4206-BF94-D5BFB73D741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680" y="131868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4136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6680" y="3902760"/>
            <a:ext cx="402372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5D528A-0CFD-4797-8E58-3DBE3E46E52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2920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17040" y="131868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4136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2920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17040" y="3902760"/>
            <a:ext cx="26546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D7CAC4-C3E4-45D2-9011-E0874C8B4E8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81485-BAD7-4557-A9A3-DB04FE8DA8C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AF7CC-5DB2-4F4E-82E1-0E4A3CA67B9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30940-90F3-4BF8-BEBB-EDE16E9D4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24720" y="639756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E938-18E1-4BDF-853B-C443F2E2CD1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3720" y="639756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917640" y="49356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17640" y="152856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17172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54296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Line 18"/>
          <p:cNvSpPr/>
          <p:nvPr/>
        </p:nvSpPr>
        <p:spPr>
          <a:xfrm>
            <a:off x="917640" y="1365120"/>
            <a:ext cx="736920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5" name="Picture 19" descr="tr_hrz_rgb_pos"/>
          <p:cNvPicPr/>
          <p:nvPr/>
        </p:nvPicPr>
        <p:blipFill>
          <a:blip r:embed="rId2"/>
          <a:srcRect l="0" t="0" r="0" b="20690"/>
          <a:stretch/>
        </p:blipFill>
        <p:spPr>
          <a:xfrm>
            <a:off x="385920" y="6324480"/>
            <a:ext cx="1687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Num" idx="19"/>
          </p:nvPr>
        </p:nvSpPr>
        <p:spPr>
          <a:xfrm>
            <a:off x="8424720" y="639756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71D4-0BAD-463F-B86D-4A6E99346B12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0"/>
          </p:nvPr>
        </p:nvSpPr>
        <p:spPr>
          <a:xfrm>
            <a:off x="3123720" y="639756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title"/>
          </p:nvPr>
        </p:nvSpPr>
        <p:spPr>
          <a:xfrm>
            <a:off x="917640" y="49356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17640" y="152856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17172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54296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917640" y="1365120"/>
            <a:ext cx="736920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405" name="Picture 7" descr="tr_hrz_rgb_pos"/>
          <p:cNvPicPr/>
          <p:nvPr/>
        </p:nvPicPr>
        <p:blipFill>
          <a:blip r:embed="rId2"/>
          <a:srcRect l="0" t="0" r="0" b="20690"/>
          <a:stretch/>
        </p:blipFill>
        <p:spPr>
          <a:xfrm>
            <a:off x="385920" y="6324480"/>
            <a:ext cx="1687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443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444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5" name="Picture 5" descr="hc_DividerBG_blu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hc_Divider_TransLogo"/>
          <p:cNvPicPr/>
          <p:nvPr/>
        </p:nvPicPr>
        <p:blipFill>
          <a:blip r:embed="rId4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98200" y="512280"/>
            <a:ext cx="738828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21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9350-0BCA-4E2C-9A2A-EA6ED2A37ECA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2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1" name="Line 11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hc_DividerGraphBG_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sldNum" idx="23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EC42-0BDF-4090-928E-A9E9890A782D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ftr" idx="24"/>
          </p:nvPr>
        </p:nvSpPr>
        <p:spPr>
          <a:xfrm>
            <a:off x="3123720" y="640080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title"/>
          </p:nvPr>
        </p:nvSpPr>
        <p:spPr>
          <a:xfrm>
            <a:off x="898200" y="519120"/>
            <a:ext cx="738828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7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531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532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3" name="Picture 5" descr="hc_DividerBG_pur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hc_Divider_TransLogo"/>
          <p:cNvPicPr/>
          <p:nvPr/>
        </p:nvPicPr>
        <p:blipFill>
          <a:blip r:embed="rId4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sldNum" idx="25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C817-EA12-4C13-9E16-9EEA35FFE040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6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11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577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578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9" name="Picture 5" descr="hc_DividerGraphBG_pur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sldNum" idx="27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548D-FDAD-4240-9065-77C1395B6788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ftr" idx="28"/>
          </p:nvPr>
        </p:nvSpPr>
        <p:spPr>
          <a:xfrm>
            <a:off x="3123720" y="640080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title"/>
          </p:nvPr>
        </p:nvSpPr>
        <p:spPr>
          <a:xfrm>
            <a:off x="898200" y="519120"/>
            <a:ext cx="738828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10"/>
          <p:cNvSpPr/>
          <p:nvPr/>
        </p:nvSpPr>
        <p:spPr>
          <a:xfrm>
            <a:off x="896760" y="1368360"/>
            <a:ext cx="73486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622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623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4" name="Picture 5" descr="hc_DividerBG_W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sldNum" idx="29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F27B-F678-4615-A38D-D96586C2DD17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 flipV="1">
            <a:off x="898560" y="1368000"/>
            <a:ext cx="7388280" cy="324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629" name="Picture 10" descr="hc_Divider_TransLogo"/>
          <p:cNvPicPr/>
          <p:nvPr/>
        </p:nvPicPr>
        <p:blipFill>
          <a:blip r:embed="rId4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4"/>
          <p:cNvSpPr>
            <a:spLocks noGrp="1"/>
          </p:cNvSpPr>
          <p:nvPr>
            <p:ph type="ftr" idx="30"/>
          </p:nvPr>
        </p:nvSpPr>
        <p:spPr>
          <a:xfrm>
            <a:off x="3123720" y="639756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668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669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0" name="Picture 5" descr="hc_DividerGraphBG_W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sldNum" idx="31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5D5D-C511-425A-BF69-4CBE9ACE9446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898200" y="493200"/>
            <a:ext cx="738828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Line 9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32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hc_DividerBG_Cgre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3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sldNum" idx="33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81BC-6A18-439F-9CCA-D1560F1421F2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ftr" idx="34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title"/>
          </p:nvPr>
        </p:nvSpPr>
        <p:spPr>
          <a:xfrm>
            <a:off x="898200" y="487080"/>
            <a:ext cx="73882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body"/>
          </p:nvPr>
        </p:nvSpPr>
        <p:spPr>
          <a:xfrm>
            <a:off x="898200" y="1515960"/>
            <a:ext cx="73882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756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757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8" name="Picture 5" descr="hc_DividerGraphBG_C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sldNum" idx="35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73DF-36D8-4A45-A12F-0CF15C747438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title"/>
          </p:nvPr>
        </p:nvSpPr>
        <p:spPr>
          <a:xfrm>
            <a:off x="898200" y="500040"/>
            <a:ext cx="7388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Line 9"/>
          <p:cNvSpPr/>
          <p:nvPr/>
        </p:nvSpPr>
        <p:spPr>
          <a:xfrm>
            <a:off x="896760" y="1368360"/>
            <a:ext cx="73486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36"/>
          </p:nvPr>
        </p:nvSpPr>
        <p:spPr>
          <a:xfrm>
            <a:off x="3123720" y="639756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0" y="0"/>
            <a:ext cx="9144000" cy="341280"/>
          </a:xfrm>
          <a:prstGeom prst="rect">
            <a:avLst/>
          </a:prstGeom>
          <a:solidFill>
            <a:srgbClr val="7aa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sldNum" idx="37"/>
          </p:nvPr>
        </p:nvSpPr>
        <p:spPr>
          <a:xfrm>
            <a:off x="8221680" y="6334200"/>
            <a:ext cx="544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6278-DE4E-46E3-B504-9731D3581C34}" type="slidenum">
              <a:rPr b="1" lang="en-US" sz="1200" spc="-1" strike="noStrike">
                <a:solidFill>
                  <a:srgbClr val="006cb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Grafik 16" descr="STNLogoHI.new.tif"/>
          <p:cNvPicPr/>
          <p:nvPr/>
        </p:nvPicPr>
        <p:blipFill>
          <a:blip r:embed="rId2"/>
          <a:stretch/>
        </p:blipFill>
        <p:spPr>
          <a:xfrm>
            <a:off x="438120" y="6286680"/>
            <a:ext cx="849240" cy="29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43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44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Picture 5" descr="hc_DividerBG_pur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c_Divider_TransLogo"/>
          <p:cNvPicPr/>
          <p:nvPr/>
        </p:nvPicPr>
        <p:blipFill>
          <a:blip r:embed="rId4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ldNum" idx="3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D435-8BEE-4440-9251-DC2E809C5FE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4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15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Line 4"/>
          <p:cNvSpPr/>
          <p:nvPr/>
        </p:nvSpPr>
        <p:spPr>
          <a:xfrm>
            <a:off x="366840" y="2060640"/>
            <a:ext cx="839916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842" name="Picture 10" descr="tr_hrz_rgb_pos"/>
          <p:cNvPicPr/>
          <p:nvPr/>
        </p:nvPicPr>
        <p:blipFill>
          <a:blip r:embed="rId2"/>
          <a:srcRect l="0" t="0" r="0" b="20690"/>
          <a:stretch/>
        </p:blipFill>
        <p:spPr>
          <a:xfrm>
            <a:off x="6048360" y="5977080"/>
            <a:ext cx="2733840" cy="696600"/>
          </a:xfrm>
          <a:prstGeom prst="rect">
            <a:avLst/>
          </a:prstGeom>
          <a:ln w="0">
            <a:noFill/>
          </a:ln>
        </p:spPr>
      </p:pic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17640" y="49356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7640" y="152856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17172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54296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882" name="Picture 5" descr="hc_DividerBG_purp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11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923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924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5" name="Picture 5" descr="hc_DividerGraphBG_pur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98200" y="519120"/>
            <a:ext cx="738828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10" descr="hc_DividerBG_Wgre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6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005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006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7" name="Picture 9" descr="hc_DividerGraphBG_W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898200" y="493200"/>
            <a:ext cx="738828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0" descr="hc_DividerBG_Cgre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6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98200" y="487080"/>
            <a:ext cx="73882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898200" y="1515960"/>
            <a:ext cx="73882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087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088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9" name="Picture 9" descr="hc_DividerGraphBG_C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98200" y="500040"/>
            <a:ext cx="7388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Line 4"/>
          <p:cNvSpPr/>
          <p:nvPr/>
        </p:nvSpPr>
        <p:spPr>
          <a:xfrm>
            <a:off x="355680" y="4321080"/>
            <a:ext cx="841032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129" name="Picture 5" descr="RTR1KWE8_cropped"/>
          <p:cNvPicPr/>
          <p:nvPr/>
        </p:nvPicPr>
        <p:blipFill>
          <a:blip r:embed="rId2"/>
          <a:stretch/>
        </p:blipFill>
        <p:spPr>
          <a:xfrm>
            <a:off x="339840" y="371520"/>
            <a:ext cx="8451720" cy="290520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6" descr="tr_hrz_rgb_pos"/>
          <p:cNvPicPr/>
          <p:nvPr/>
        </p:nvPicPr>
        <p:blipFill>
          <a:blip r:embed="rId3"/>
          <a:srcRect l="0" t="0" r="0" b="20690"/>
          <a:stretch/>
        </p:blipFill>
        <p:spPr>
          <a:xfrm>
            <a:off x="6048360" y="5977080"/>
            <a:ext cx="2733840" cy="696600"/>
          </a:xfrm>
          <a:prstGeom prst="rect">
            <a:avLst/>
          </a:prstGeom>
          <a:ln w="0">
            <a:noFill/>
          </a:ln>
        </p:spPr>
      </p:pic>
      <p:sp>
        <p:nvSpPr>
          <p:cNvPr id="1131" name="AutoShape 7"/>
          <p:cNvSpPr/>
          <p:nvPr/>
        </p:nvSpPr>
        <p:spPr>
          <a:xfrm>
            <a:off x="-1252440" y="-442800"/>
            <a:ext cx="11648880" cy="77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132" name="Picture 8" descr=""/>
          <p:cNvPicPr/>
          <p:nvPr/>
        </p:nvPicPr>
        <p:blipFill>
          <a:blip r:embed="rId4"/>
          <a:stretch/>
        </p:blipFill>
        <p:spPr>
          <a:xfrm>
            <a:off x="341280" y="263520"/>
            <a:ext cx="8464680" cy="3116160"/>
          </a:xfrm>
          <a:prstGeom prst="rect">
            <a:avLst/>
          </a:prstGeom>
          <a:ln w="0">
            <a:noFill/>
          </a:ln>
        </p:spPr>
      </p:pic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1440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22860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486080" indent="-11448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Line 4"/>
          <p:cNvSpPr/>
          <p:nvPr/>
        </p:nvSpPr>
        <p:spPr>
          <a:xfrm>
            <a:off x="355680" y="4321080"/>
            <a:ext cx="841032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172" name="Picture 5" descr="RTR1KWE8_cropped"/>
          <p:cNvPicPr/>
          <p:nvPr/>
        </p:nvPicPr>
        <p:blipFill>
          <a:blip r:embed="rId2"/>
          <a:stretch/>
        </p:blipFill>
        <p:spPr>
          <a:xfrm>
            <a:off x="339840" y="371520"/>
            <a:ext cx="8451720" cy="290520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6" descr="tr_hrz_rgb_pos"/>
          <p:cNvPicPr/>
          <p:nvPr/>
        </p:nvPicPr>
        <p:blipFill>
          <a:blip r:embed="rId3"/>
          <a:srcRect l="0" t="0" r="0" b="20690"/>
          <a:stretch/>
        </p:blipFill>
        <p:spPr>
          <a:xfrm>
            <a:off x="6048360" y="5977080"/>
            <a:ext cx="2733840" cy="696600"/>
          </a:xfrm>
          <a:prstGeom prst="rect">
            <a:avLst/>
          </a:prstGeom>
          <a:ln w="0">
            <a:noFill/>
          </a:ln>
        </p:spPr>
      </p:pic>
      <p:sp>
        <p:nvSpPr>
          <p:cNvPr id="1174" name="AutoShape 7"/>
          <p:cNvSpPr/>
          <p:nvPr/>
        </p:nvSpPr>
        <p:spPr>
          <a:xfrm>
            <a:off x="-1252440" y="-442800"/>
            <a:ext cx="11648880" cy="77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1440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22860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486080" indent="-11448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Line 4"/>
          <p:cNvSpPr/>
          <p:nvPr/>
        </p:nvSpPr>
        <p:spPr>
          <a:xfrm>
            <a:off x="366840" y="2060640"/>
            <a:ext cx="839916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214" name="Picture 5" descr="tr_hrz_rgb_pos"/>
          <p:cNvPicPr/>
          <p:nvPr/>
        </p:nvPicPr>
        <p:blipFill>
          <a:blip r:embed="rId2"/>
          <a:srcRect l="0" t="0" r="0" b="20690"/>
          <a:stretch/>
        </p:blipFill>
        <p:spPr>
          <a:xfrm>
            <a:off x="6048360" y="5977080"/>
            <a:ext cx="2733840" cy="696600"/>
          </a:xfrm>
          <a:prstGeom prst="rect">
            <a:avLst/>
          </a:prstGeom>
          <a:ln w="0">
            <a:noFill/>
          </a:ln>
        </p:spPr>
      </p:pic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7640" y="49356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7640" y="152856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17172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54296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542960" indent="-17136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90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5" descr="hc_DividerGraphBG_pur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ldNum" idx="5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098A-2988-4D3F-8403-BB51B06752E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6"/>
          </p:nvPr>
        </p:nvSpPr>
        <p:spPr>
          <a:xfrm>
            <a:off x="3123720" y="640080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898200" y="519120"/>
            <a:ext cx="738828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3"/>
          <p:cNvSpPr/>
          <p:nvPr/>
        </p:nvSpPr>
        <p:spPr>
          <a:xfrm>
            <a:off x="896760" y="1368360"/>
            <a:ext cx="73486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Picture 2" descr="hc_DividerBG_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4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898200" y="512280"/>
            <a:ext cx="738828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3" name="Picture 2" descr="hc_DividerGraphBG_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98200" y="519120"/>
            <a:ext cx="738828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333" name="Picture 3" descr="hc_DividerBG_purp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5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3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374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375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6" name="Picture 5" descr="hc_DividerGraphBG_pur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898200" y="519120"/>
            <a:ext cx="738828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Picture 2" descr="hc_DividerBG_Wgre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3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5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456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457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8" name="Picture 5" descr="hc_DividerGraphBG_W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898200" y="493200"/>
            <a:ext cx="738828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Picture 2" descr="hc_DividerBG_Cgre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8" name="Picture 3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98200" y="487080"/>
            <a:ext cx="73882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898200" y="1515960"/>
            <a:ext cx="73882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6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7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538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539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0" name="Picture 5" descr="hc_DividerGraphBG_C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98200" y="500040"/>
            <a:ext cx="7388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9" name="Picture 2" descr="STN-FIZ-PPT-Title-artwork"/>
          <p:cNvPicPr/>
          <p:nvPr/>
        </p:nvPicPr>
        <p:blipFill>
          <a:blip r:embed="rId2"/>
          <a:srcRect l="0" t="7183" r="0" b="10408"/>
          <a:stretch/>
        </p:blipFill>
        <p:spPr>
          <a:xfrm>
            <a:off x="0" y="0"/>
            <a:ext cx="9144000" cy="5649840"/>
          </a:xfrm>
          <a:prstGeom prst="rect">
            <a:avLst/>
          </a:prstGeom>
          <a:ln w="0">
            <a:noFill/>
          </a:ln>
        </p:spPr>
      </p:pic>
      <p:grpSp>
        <p:nvGrpSpPr>
          <p:cNvPr id="1580" name="Gruppieren 7"/>
          <p:cNvGrpSpPr/>
          <p:nvPr/>
        </p:nvGrpSpPr>
        <p:grpSpPr>
          <a:xfrm>
            <a:off x="398520" y="6286680"/>
            <a:ext cx="2860560" cy="423720"/>
            <a:chOff x="398520" y="6286680"/>
            <a:chExt cx="2860560" cy="423720"/>
          </a:xfrm>
        </p:grpSpPr>
        <p:pic>
          <p:nvPicPr>
            <p:cNvPr id="1581" name="Picture 8" descr="STN_title"/>
            <p:cNvPicPr/>
            <p:nvPr/>
          </p:nvPicPr>
          <p:blipFill>
            <a:blip r:embed="rId3"/>
            <a:srcRect l="0" t="90711" r="52855" b="0"/>
            <a:stretch/>
          </p:blipFill>
          <p:spPr>
            <a:xfrm>
              <a:off x="398520" y="6288480"/>
              <a:ext cx="2860560" cy="42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2" name="Grafik 9" descr="STNLogoHI.new.tif"/>
            <p:cNvPicPr/>
            <p:nvPr/>
          </p:nvPicPr>
          <p:blipFill>
            <a:blip r:embed="rId4"/>
            <a:stretch/>
          </p:blipFill>
          <p:spPr>
            <a:xfrm>
              <a:off x="437040" y="6286680"/>
              <a:ext cx="849240" cy="29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2"/>
          <p:cNvSpPr/>
          <p:nvPr/>
        </p:nvSpPr>
        <p:spPr>
          <a:xfrm>
            <a:off x="0" y="0"/>
            <a:ext cx="9144000" cy="341280"/>
          </a:xfrm>
          <a:prstGeom prst="rect">
            <a:avLst/>
          </a:prstGeom>
          <a:solidFill>
            <a:srgbClr val="7aa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622" name="Grafik 16" descr="STNLogoHI.new.tif"/>
          <p:cNvPicPr/>
          <p:nvPr/>
        </p:nvPicPr>
        <p:blipFill>
          <a:blip r:embed="rId2"/>
          <a:stretch/>
        </p:blipFill>
        <p:spPr>
          <a:xfrm>
            <a:off x="438120" y="6286680"/>
            <a:ext cx="849240" cy="296640"/>
          </a:xfrm>
          <a:prstGeom prst="rect">
            <a:avLst/>
          </a:prstGeom>
          <a:ln w="0">
            <a:noFill/>
          </a:ln>
        </p:spPr>
      </p:pic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 type="sldNum" idx="38"/>
          </p:nvPr>
        </p:nvSpPr>
        <p:spPr>
          <a:xfrm>
            <a:off x="822276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cb8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EBB3-1F7F-4B36-81D7-1922B82A8577}" type="slidenum">
              <a:rPr b="1" lang="en-US" sz="1200" spc="-1" strike="noStrike">
                <a:solidFill>
                  <a:srgbClr val="006cb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34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35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Picture 12" descr="hc_DividerBG_W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ldNum" idx="7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AF04-83A0-4632-86E2-3DEE4EA70BD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898200" y="518760"/>
            <a:ext cx="73882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 flipV="1">
            <a:off x="898560" y="1368000"/>
            <a:ext cx="7388280" cy="324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41" name="Picture 6" descr="hc_Divider_TransLogo"/>
          <p:cNvPicPr/>
          <p:nvPr/>
        </p:nvPicPr>
        <p:blipFill>
          <a:blip r:embed="rId4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3720" y="639756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2"/>
          <p:cNvSpPr/>
          <p:nvPr/>
        </p:nvSpPr>
        <p:spPr>
          <a:xfrm>
            <a:off x="0" y="0"/>
            <a:ext cx="9144000" cy="341280"/>
          </a:xfrm>
          <a:prstGeom prst="rect">
            <a:avLst/>
          </a:prstGeom>
          <a:solidFill>
            <a:srgbClr val="7aa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663" name="Grafik 16" descr="STNLogoHI.new.tif"/>
          <p:cNvPicPr/>
          <p:nvPr/>
        </p:nvPicPr>
        <p:blipFill>
          <a:blip r:embed="rId2"/>
          <a:stretch/>
        </p:blipFill>
        <p:spPr>
          <a:xfrm>
            <a:off x="438120" y="6286680"/>
            <a:ext cx="849240" cy="296640"/>
          </a:xfrm>
          <a:prstGeom prst="rect">
            <a:avLst/>
          </a:prstGeom>
          <a:ln w="0">
            <a:noFill/>
          </a:ln>
        </p:spPr>
      </p:pic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sldNum" idx="39"/>
          </p:nvPr>
        </p:nvSpPr>
        <p:spPr>
          <a:xfrm>
            <a:off x="8221680" y="6334200"/>
            <a:ext cx="544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cb8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FA55-2FE1-4568-B75F-3524161450AA}" type="slidenum">
              <a:rPr b="1" lang="en-US" sz="1200" spc="-1" strike="noStrike">
                <a:solidFill>
                  <a:srgbClr val="006cb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Rectangle 2"/>
          <p:cNvSpPr/>
          <p:nvPr/>
        </p:nvSpPr>
        <p:spPr>
          <a:xfrm>
            <a:off x="0" y="0"/>
            <a:ext cx="9144000" cy="341280"/>
          </a:xfrm>
          <a:prstGeom prst="rect">
            <a:avLst/>
          </a:prstGeom>
          <a:solidFill>
            <a:srgbClr val="7aa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704" name="Grafik 16" descr="STNLogoHI.new.tif"/>
          <p:cNvPicPr/>
          <p:nvPr/>
        </p:nvPicPr>
        <p:blipFill>
          <a:blip r:embed="rId2"/>
          <a:stretch/>
        </p:blipFill>
        <p:spPr>
          <a:xfrm>
            <a:off x="438120" y="6286680"/>
            <a:ext cx="849240" cy="296640"/>
          </a:xfrm>
          <a:prstGeom prst="rect">
            <a:avLst/>
          </a:prstGeom>
          <a:ln w="0">
            <a:noFill/>
          </a:ln>
        </p:spPr>
      </p:pic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 type="sldNum" idx="40"/>
          </p:nvPr>
        </p:nvSpPr>
        <p:spPr>
          <a:xfrm>
            <a:off x="8221680" y="6334200"/>
            <a:ext cx="544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cb8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9F6F-9B5B-4D6F-9590-1B045A1A6253}" type="slidenum">
              <a:rPr b="1" lang="en-US" sz="1200" spc="-1" strike="noStrike">
                <a:solidFill>
                  <a:srgbClr val="006cb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2"/>
          <p:cNvSpPr/>
          <p:nvPr/>
        </p:nvSpPr>
        <p:spPr>
          <a:xfrm>
            <a:off x="0" y="0"/>
            <a:ext cx="9144000" cy="341280"/>
          </a:xfrm>
          <a:prstGeom prst="rect">
            <a:avLst/>
          </a:prstGeom>
          <a:solidFill>
            <a:srgbClr val="7aa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745" name="Grafik 16" descr="STNLogoHI.new.tif"/>
          <p:cNvPicPr/>
          <p:nvPr/>
        </p:nvPicPr>
        <p:blipFill>
          <a:blip r:embed="rId2"/>
          <a:stretch/>
        </p:blipFill>
        <p:spPr>
          <a:xfrm>
            <a:off x="438120" y="6286680"/>
            <a:ext cx="849240" cy="296640"/>
          </a:xfrm>
          <a:prstGeom prst="rect">
            <a:avLst/>
          </a:prstGeom>
          <a:ln w="0">
            <a:noFill/>
          </a:ln>
        </p:spPr>
      </p:pic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 type="sldNum" idx="41"/>
          </p:nvPr>
        </p:nvSpPr>
        <p:spPr>
          <a:xfrm>
            <a:off x="8221680" y="6334200"/>
            <a:ext cx="544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cb8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2010-8244-4D33-905E-B2F4D8C24846}" type="slidenum">
              <a:rPr b="1" lang="en-US" sz="1200" spc="-1" strike="noStrike">
                <a:solidFill>
                  <a:srgbClr val="006cb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5" name="Picture 2" descr="STN-FIZ-PPT-Title-artwork"/>
          <p:cNvPicPr/>
          <p:nvPr/>
        </p:nvPicPr>
        <p:blipFill>
          <a:blip r:embed="rId2"/>
          <a:srcRect l="0" t="7183" r="0" b="10408"/>
          <a:stretch/>
        </p:blipFill>
        <p:spPr>
          <a:xfrm>
            <a:off x="0" y="0"/>
            <a:ext cx="9144000" cy="5649840"/>
          </a:xfrm>
          <a:prstGeom prst="rect">
            <a:avLst/>
          </a:prstGeom>
          <a:ln w="0">
            <a:noFill/>
          </a:ln>
        </p:spPr>
      </p:pic>
      <p:sp>
        <p:nvSpPr>
          <p:cNvPr id="1786" name="Rectangle 3"/>
          <p:cNvSpPr/>
          <p:nvPr/>
        </p:nvSpPr>
        <p:spPr>
          <a:xfrm>
            <a:off x="5702400" y="4756320"/>
            <a:ext cx="3270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Z Karlsruhe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cb8"/>
                </a:solidFill>
                <a:uFillTx/>
                <a:latin typeface="Arial"/>
              </a:rPr>
              <a:t>helpdesk@fiz-karlsruhe.de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and Training: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cb8"/>
                </a:solidFill>
                <a:uFillTx/>
                <a:latin typeface="Arial"/>
              </a:rPr>
              <a:t>www.stn-international.de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7" name="Rectangle 3"/>
          <p:cNvSpPr/>
          <p:nvPr/>
        </p:nvSpPr>
        <p:spPr>
          <a:xfrm>
            <a:off x="465120" y="4756320"/>
            <a:ext cx="415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6cb8"/>
                </a:solidFill>
                <a:uFillTx/>
                <a:latin typeface="Arial"/>
              </a:rPr>
              <a:t>help@cas.org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and Training: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cb8"/>
                </a:solidFill>
                <a:uFillTx/>
                <a:latin typeface="Arial"/>
              </a:rPr>
              <a:t>www.cas.org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  <p:grpSp>
        <p:nvGrpSpPr>
          <p:cNvPr id="1788" name="Gruppieren 10"/>
          <p:cNvGrpSpPr/>
          <p:nvPr/>
        </p:nvGrpSpPr>
        <p:grpSpPr>
          <a:xfrm>
            <a:off x="385920" y="6272280"/>
            <a:ext cx="2858760" cy="425520"/>
            <a:chOff x="385920" y="6272280"/>
            <a:chExt cx="2858760" cy="425520"/>
          </a:xfrm>
        </p:grpSpPr>
        <p:pic>
          <p:nvPicPr>
            <p:cNvPr id="1789" name="Picture 8" descr="STN_title"/>
            <p:cNvPicPr/>
            <p:nvPr/>
          </p:nvPicPr>
          <p:blipFill>
            <a:blip r:embed="rId3"/>
            <a:srcRect l="0" t="90711" r="52855" b="0"/>
            <a:stretch/>
          </p:blipFill>
          <p:spPr>
            <a:xfrm>
              <a:off x="385920" y="6274080"/>
              <a:ext cx="285876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0" name="Grafik 12" descr="STNLogoHI.new.tif"/>
            <p:cNvPicPr/>
            <p:nvPr/>
          </p:nvPicPr>
          <p:blipFill>
            <a:blip r:embed="rId4"/>
            <a:stretch/>
          </p:blipFill>
          <p:spPr>
            <a:xfrm>
              <a:off x="424440" y="6272280"/>
              <a:ext cx="848880" cy="29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b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 type="body"/>
          </p:nvPr>
        </p:nvSpPr>
        <p:spPr>
          <a:xfrm>
            <a:off x="441360" y="1318680"/>
            <a:ext cx="82454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180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181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11" descr="hc_DividerGraphBG_W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sldNum" idx="9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C3E0-E58F-4DAC-B7E4-7B6B0584C82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898200" y="493200"/>
            <a:ext cx="738828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0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2" descr="hc_DividerBG_Cgre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hc_Divider_TransLogo"/>
          <p:cNvPicPr/>
          <p:nvPr/>
        </p:nvPicPr>
        <p:blipFill>
          <a:blip r:embed="rId3"/>
          <a:stretch/>
        </p:blipFill>
        <p:spPr>
          <a:xfrm>
            <a:off x="384120" y="6324480"/>
            <a:ext cx="1630440" cy="3621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sldNum" idx="11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6CD6-F947-4A0C-A294-BF7DA6AE2FA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ftr" idx="12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title"/>
          </p:nvPr>
        </p:nvSpPr>
        <p:spPr>
          <a:xfrm>
            <a:off x="898200" y="487080"/>
            <a:ext cx="73882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898200" y="1515960"/>
            <a:ext cx="73882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>
            <a:off x="898560" y="1368360"/>
            <a:ext cx="73882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a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sp>
          <p:nvSpPr>
            <p:cNvPr id="268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4b4b"/>
                </a:solidFill>
                <a:latin typeface="Arial"/>
              </a:endParaRPr>
            </a:p>
          </p:txBody>
        </p:sp>
        <p:pic>
          <p:nvPicPr>
            <p:cNvPr id="269" name="Picture 4" descr="TR_SlideLogo_BW600"/>
            <p:cNvPicPr/>
            <p:nvPr/>
          </p:nvPicPr>
          <p:blipFill>
            <a:blip r:embed="rId2"/>
            <a:stretch/>
          </p:blipFill>
          <p:spPr>
            <a:xfrm>
              <a:off x="371520" y="6324480"/>
              <a:ext cx="1652400" cy="5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0" name="Picture 11" descr="hc_DividerGraphBG_Cgrey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sldNum" idx="13"/>
          </p:nvPr>
        </p:nvSpPr>
        <p:spPr>
          <a:xfrm>
            <a:off x="8424720" y="640080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9D01-CB81-49CF-A508-AD611A0F6CC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98200" y="500040"/>
            <a:ext cx="7388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body"/>
          </p:nvPr>
        </p:nvSpPr>
        <p:spPr>
          <a:xfrm>
            <a:off x="898200" y="1528560"/>
            <a:ext cx="7388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17136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8608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896760" y="1368360"/>
            <a:ext cx="7348680" cy="0"/>
          </a:xfrm>
          <a:prstGeom prst="line">
            <a:avLst/>
          </a:prstGeom>
          <a:ln cap="rnd" w="241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3720" y="639756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336600" y="1530360"/>
            <a:ext cx="21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13" name="Picture 3" descr="TR_SlideLogo_BW600"/>
          <p:cNvPicPr/>
          <p:nvPr/>
        </p:nvPicPr>
        <p:blipFill>
          <a:blip r:embed="rId2"/>
          <a:stretch/>
        </p:blipFill>
        <p:spPr>
          <a:xfrm>
            <a:off x="371520" y="6323040"/>
            <a:ext cx="1652400" cy="5364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ftr" idx="15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Num" idx="16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C729-A915-41CA-82F5-66EC9B23FD5F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body"/>
          </p:nvPr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1440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22860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486080" indent="-11448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18" name="Picture 8" descr="slideMaster_Logo600"/>
          <p:cNvPicPr/>
          <p:nvPr/>
        </p:nvPicPr>
        <p:blipFill>
          <a:blip r:embed="rId3"/>
          <a:stretch/>
        </p:blipFill>
        <p:spPr>
          <a:xfrm>
            <a:off x="371520" y="6323040"/>
            <a:ext cx="1644480" cy="528480"/>
          </a:xfrm>
          <a:prstGeom prst="rect">
            <a:avLst/>
          </a:prstGeom>
          <a:ln w="0">
            <a:noFill/>
          </a:ln>
        </p:spPr>
      </p:pic>
      <p:sp>
        <p:nvSpPr>
          <p:cNvPr id="319" name="Line 9"/>
          <p:cNvSpPr/>
          <p:nvPr/>
        </p:nvSpPr>
        <p:spPr>
          <a:xfrm>
            <a:off x="917640" y="1365120"/>
            <a:ext cx="736920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336600" y="1530360"/>
            <a:ext cx="21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57" name="Picture 3" descr="TR_SlideLogo_BW600"/>
          <p:cNvPicPr/>
          <p:nvPr/>
        </p:nvPicPr>
        <p:blipFill>
          <a:blip r:embed="rId2"/>
          <a:stretch/>
        </p:blipFill>
        <p:spPr>
          <a:xfrm>
            <a:off x="371520" y="6323040"/>
            <a:ext cx="1652400" cy="536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ftr" idx="17"/>
          </p:nvPr>
        </p:nvSpPr>
        <p:spPr>
          <a:xfrm>
            <a:off x="3123720" y="6394320"/>
            <a:ext cx="5172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ldNum" idx="18"/>
          </p:nvPr>
        </p:nvSpPr>
        <p:spPr>
          <a:xfrm>
            <a:off x="8424720" y="6394320"/>
            <a:ext cx="4572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C8F4-9A85-4C6D-BB4D-060BE8633538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914400" indent="-17136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257480" indent="-228600">
              <a:spcBef>
                <a:spcPts val="1500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1486080" indent="-11448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1486080" indent="-114480">
              <a:spcBef>
                <a:spcPts val="1500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62" name="Picture 8" descr="slideMaster_Logo600"/>
          <p:cNvPicPr/>
          <p:nvPr/>
        </p:nvPicPr>
        <p:blipFill>
          <a:blip r:embed="rId3"/>
          <a:stretch/>
        </p:blipFill>
        <p:spPr>
          <a:xfrm>
            <a:off x="371520" y="6323040"/>
            <a:ext cx="1644480" cy="528480"/>
          </a:xfrm>
          <a:prstGeom prst="rect">
            <a:avLst/>
          </a:prstGeom>
          <a:ln w="0">
            <a:noFill/>
          </a:ln>
        </p:spPr>
      </p:pic>
      <p:sp>
        <p:nvSpPr>
          <p:cNvPr id="363" name="Line 9"/>
          <p:cNvSpPr/>
          <p:nvPr/>
        </p:nvSpPr>
        <p:spPr>
          <a:xfrm>
            <a:off x="917640" y="1365120"/>
            <a:ext cx="7369200" cy="0"/>
          </a:xfrm>
          <a:prstGeom prst="line">
            <a:avLst/>
          </a:prstGeom>
          <a:ln cap="rnd" w="24120">
            <a:solidFill>
              <a:srgbClr val="4b4b4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61800" y="3448080"/>
            <a:ext cx="838224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PATCOM - THOMSON REUTERS</a:t>
            </a:r>
            <a:br>
              <a:rPr sz="3200"/>
            </a:b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assification needs and first experiences with CPC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subTitle"/>
          </p:nvPr>
        </p:nvSpPr>
        <p:spPr>
          <a:xfrm>
            <a:off x="361800" y="4411800"/>
            <a:ext cx="838224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IPC WORKSHOP, Geneva  2013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4b4b4b"/>
                </a:solidFill>
                <a:latin typeface="Arial"/>
              </a:rPr>
              <a:t>Doina Nanu 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CPC –THREAT OR OPPORTUNITY?</a:t>
            </a:r>
            <a:br>
              <a:rPr sz="2800"/>
            </a:b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Yet another classification system or chance for Integration in IPC or be the backbone for global classification?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Granular, but how representative for technology developments in Japan, China, Korea?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Applied to a large number of collections but not available at the  time of patent document publication (except for US data, EP)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CPC –THREAT OR OPPORTUNITY?</a:t>
            </a:r>
            <a:br>
              <a:rPr sz="2800"/>
            </a:b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Conclusions  (2)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63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25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oncordance with IPC good for now but how will the divergence be avoided as CPC evolves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If more offices join in, how will the consistency of classification be maintained?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Role of the USPTO in consolidating the success of  CPC 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Role of WIPO in unifying the very best of the existing systems into a global classification, consistently applied by patent offices worldwide irrespective of their size 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155160" y="4460760"/>
            <a:ext cx="88218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6cb6"/>
                </a:solidFill>
                <a:latin typeface="Arial"/>
              </a:rPr>
              <a:t>Classification needs and first experiences with CPC </a:t>
            </a:r>
            <a:br>
              <a:rPr sz="2800"/>
            </a:br>
            <a:r>
              <a:rPr b="0" lang="en-US" sz="2800" spc="-1" strike="noStrike">
                <a:solidFill>
                  <a:srgbClr val="056cb6"/>
                </a:solidFill>
                <a:latin typeface="Arial"/>
              </a:rPr>
              <a:t>- IPC Quality Issues -</a:t>
            </a:r>
            <a:endParaRPr b="0" lang="en-US" sz="28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65" name="Rectangle 3"/>
          <p:cNvSpPr/>
          <p:nvPr/>
        </p:nvSpPr>
        <p:spPr>
          <a:xfrm>
            <a:off x="401760" y="5543640"/>
            <a:ext cx="8051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hristiane Emmerich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PATCOM/FIZ Karlsruhe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IPC Workshop, Geneva 2013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IPC Quality Issues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441360" y="1317240"/>
            <a:ext cx="8245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valid IPCs in the DOCDB back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ssing IPCs of new patent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67F1-5E87-4F7E-A719-73693F6FC28E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Invalid IPCs in DOCDB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70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F583-E3E6-410E-AA32-A73E8B2FD5DD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871" name="Picture 2" descr=""/>
          <p:cNvPicPr/>
          <p:nvPr/>
        </p:nvPicPr>
        <p:blipFill>
          <a:blip r:embed="rId1"/>
          <a:srcRect l="10754" t="29962" r="54093" b="54891"/>
          <a:stretch/>
        </p:blipFill>
        <p:spPr>
          <a:xfrm>
            <a:off x="627120" y="1271520"/>
            <a:ext cx="4614840" cy="12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2" name="Picture 2" descr=""/>
          <p:cNvPicPr/>
          <p:nvPr/>
        </p:nvPicPr>
        <p:blipFill>
          <a:blip r:embed="rId2"/>
          <a:srcRect l="11579" t="32633" r="52896" b="24775"/>
          <a:stretch/>
        </p:blipFill>
        <p:spPr>
          <a:xfrm>
            <a:off x="3913200" y="2238480"/>
            <a:ext cx="4713120" cy="353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3" name="Textfeld 4"/>
          <p:cNvSpPr/>
          <p:nvPr/>
        </p:nvSpPr>
        <p:spPr>
          <a:xfrm>
            <a:off x="260280" y="3718080"/>
            <a:ext cx="33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IPC subgroup </a:t>
            </a:r>
            <a:r>
              <a:rPr b="0" i="1" lang="de-DE" sz="1800" spc="-1" strike="noStrike">
                <a:solidFill>
                  <a:srgbClr val="c00000"/>
                </a:solidFill>
                <a:latin typeface="Arial"/>
              </a:rPr>
              <a:t>C12N 5/06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 transferred to </a:t>
            </a:r>
            <a:r>
              <a:rPr b="0" i="1" lang="de-DE" sz="1800" spc="-1" strike="noStrike">
                <a:solidFill>
                  <a:srgbClr val="c00000"/>
                </a:solidFill>
                <a:latin typeface="Arial"/>
              </a:rPr>
              <a:t>C12N 5/07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lus further subgroups with IPC version 2010.01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4" name="Nach oben gebogener Pfeil 6"/>
          <p:cNvSpPr/>
          <p:nvPr/>
        </p:nvSpPr>
        <p:spPr>
          <a:xfrm rot="5400000">
            <a:off x="2874600" y="2719440"/>
            <a:ext cx="849240" cy="731880"/>
          </a:xfrm>
          <a:prstGeom prst="pie">
            <a:avLst/>
          </a:prstGeom>
          <a:solidFill>
            <a:srgbClr val="006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5" name="Textfeld 7"/>
          <p:cNvSpPr/>
          <p:nvPr/>
        </p:nvSpPr>
        <p:spPr>
          <a:xfrm>
            <a:off x="5780160" y="1440000"/>
            <a:ext cx="24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IPC Revision 2010.01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Invalid IPCs in DOCDB</a:t>
            </a:r>
            <a:br>
              <a:rPr sz="3200"/>
            </a:br>
            <a:r>
              <a:rPr b="0" lang="de-DE" sz="2000" spc="-1" strike="noStrike">
                <a:solidFill>
                  <a:srgbClr val="006cb8"/>
                </a:solidFill>
                <a:latin typeface="Arial"/>
              </a:rPr>
              <a:t>C12N 5/06 became invalid with IPC version 2010.01</a:t>
            </a:r>
            <a:endParaRPr b="0" lang="en-US" sz="20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77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56C8-A537-421E-9CEF-755ECA5284B2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graphicFrame>
        <p:nvGraphicFramePr>
          <p:cNvPr id="1878" name=""/>
          <p:cNvGraphicFramePr/>
          <p:nvPr/>
        </p:nvGraphicFramePr>
        <p:xfrm>
          <a:off x="1523880" y="1625760"/>
          <a:ext cx="6096240" cy="3336840"/>
        </p:xfrm>
        <a:graphic>
          <a:graphicData uri="http://schemas.openxmlformats.org/drawingml/2006/table">
            <a:tbl>
              <a:tblPr/>
              <a:tblGrid>
                <a:gridCol w="2882880"/>
                <a:gridCol w="3213360"/>
              </a:tblGrid>
              <a:tr h="371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.556 records with C12N 5/06 IPC reform codes only*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13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76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33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30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26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84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1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7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</a:tbl>
          </a:graphicData>
        </a:graphic>
      </p:graphicFrame>
      <p:sp>
        <p:nvSpPr>
          <p:cNvPr id="1879" name="Textfeld 5"/>
          <p:cNvSpPr/>
          <p:nvPr/>
        </p:nvSpPr>
        <p:spPr>
          <a:xfrm>
            <a:off x="1560600" y="5121360"/>
            <a:ext cx="64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 25.115 records in INPADOCDB with C12N 5/06 (IPC8) of which 559 provide the revised code  C12N 5/07 (plus further subgroups), search week 06/2013</a:t>
            </a:r>
            <a:endParaRPr b="0" lang="en-US" sz="1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Invalid IPCs in DOCDB</a:t>
            </a:r>
            <a:br>
              <a:rPr sz="3200"/>
            </a:b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81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A2EC-AE8E-45E6-B581-3704BEB8B370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2" name="Rectangle 3"/>
          <p:cNvSpPr/>
          <p:nvPr/>
        </p:nvSpPr>
        <p:spPr>
          <a:xfrm>
            <a:off x="469800" y="2004840"/>
            <a:ext cx="8188560" cy="3744720"/>
          </a:xfrm>
          <a:prstGeom prst="rect">
            <a:avLst/>
          </a:prstGeom>
          <a:solidFill>
            <a:srgbClr val="d9e5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    59944434 INPADOCDB ED 20091217 EW 200951 UP 20100422 UW 201016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N    38698386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    USE OF FXA, FVIIA, TF, OR A COMBINATION THEREOF AS ANTI-APOPTOTIC AGENTS.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TILISATION DE FXA, DE FVIIA, DE TF OU D'UNE COMBINAISON DE CEUX-CI EN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NT QU'AGENTS ANTI-APOPTOTIQUES.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    DAUBIE, VALERY; POCHET, ROLAND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S   DAUBIE VALERY, BE; POCHET ROLAND, BE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    UNIVERSITE LIBRE DE BRUXELLES; DAUBIE, VALERY; POCHET, ROLAND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S   UNIV BRUXELLES, BE; DAUBIE VALERY, BE; POCHET ROLAND, BE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    </a:t>
            </a:r>
            <a:r>
              <a:rPr b="1" lang="en-US" sz="1200" spc="-1" strike="noStrike">
                <a:solidFill>
                  <a:srgbClr val="c00000"/>
                </a:solidFill>
                <a:latin typeface="Courier New"/>
              </a:rPr>
              <a:t>WO 2009146746        A1 20091210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T   WOA1 INTERNATIONAL APPLICATION PUBLISHED WITH INTERNATIONAL SEARCH REPORT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I    WO 2008-EP56994      W  20080605  English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IT   WOW International application Number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AI  WO 2008-EP56994      W  20080605  (WOW, 20091217, Y) 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AIT WOW International application Number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PCI  C12N0005-06    [I,A]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PC   C12N0005-0031; C12N2500-84; C12N2501-70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PC   C12N0005-00M2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CO   M12N0500:84; M12N0501:700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3" name="Rechteck 7"/>
          <p:cNvSpPr/>
          <p:nvPr/>
        </p:nvSpPr>
        <p:spPr>
          <a:xfrm>
            <a:off x="469800" y="4950000"/>
            <a:ext cx="4977000" cy="2044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441360" y="1199880"/>
            <a:ext cx="824544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WO2009/146746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has one invalid IPC assigned, no reclassification data are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New Patent Publications without IPC* </a:t>
            </a:r>
            <a:br>
              <a:rPr sz="3200"/>
            </a:br>
            <a:r>
              <a:rPr b="0" lang="de-DE" sz="2400" spc="-1" strike="noStrike">
                <a:solidFill>
                  <a:srgbClr val="006cb8"/>
                </a:solidFill>
                <a:latin typeface="Arial"/>
              </a:rPr>
              <a:t>in DOCDB from August 2012</a:t>
            </a:r>
            <a:endParaRPr b="0" lang="en-US" sz="24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86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A6D6-FF39-44FB-92F5-EDEDD7348A88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graphicFrame>
        <p:nvGraphicFramePr>
          <p:cNvPr id="1887" name=""/>
          <p:cNvGraphicFramePr/>
          <p:nvPr/>
        </p:nvGraphicFramePr>
        <p:xfrm>
          <a:off x="1386000" y="1608120"/>
          <a:ext cx="6234120" cy="1854360"/>
        </p:xfrm>
        <a:graphic>
          <a:graphicData uri="http://schemas.openxmlformats.org/drawingml/2006/table">
            <a:tbl>
              <a:tblPr/>
              <a:tblGrid>
                <a:gridCol w="3116160"/>
                <a:gridCol w="311796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73.086 new publications from August 2012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PC8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30.822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PC7, only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2**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lassified IPC, only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899***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IPC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763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</a:tbl>
          </a:graphicData>
        </a:graphic>
      </p:graphicFrame>
      <p:sp>
        <p:nvSpPr>
          <p:cNvPr id="1888" name="Textfeld 5"/>
          <p:cNvSpPr/>
          <p:nvPr/>
        </p:nvSpPr>
        <p:spPr>
          <a:xfrm>
            <a:off x="1860480" y="3892680"/>
            <a:ext cx="70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00000"/>
                </a:solidFill>
                <a:latin typeface="Arial"/>
              </a:rPr>
              <a:t>2,5 %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f new publications have no IPC assigned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9" name="Pfeil nach rechts 6"/>
          <p:cNvSpPr/>
          <p:nvPr/>
        </p:nvSpPr>
        <p:spPr>
          <a:xfrm>
            <a:off x="425520" y="3943440"/>
            <a:ext cx="1270080" cy="29664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006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0" name="Textfeld 7"/>
          <p:cNvSpPr/>
          <p:nvPr/>
        </p:nvSpPr>
        <p:spPr>
          <a:xfrm>
            <a:off x="453600" y="5237280"/>
            <a:ext cx="532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new INPADOCDB records (new applications)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* BE A3 (251), AR A1 (164), BE A5 (86), EP A1 (63)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** TW (3678), PT (1479), KR (1062), SG (140), EA (101)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0EE8-E62F-458B-980F-24B71E7FCC51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New Patent Publications without IPC </a:t>
            </a:r>
            <a:br>
              <a:rPr sz="3200"/>
            </a:br>
            <a:r>
              <a:rPr b="0" lang="de-DE" sz="2400" spc="-1" strike="noStrike">
                <a:solidFill>
                  <a:srgbClr val="006cb8"/>
                </a:solidFill>
                <a:latin typeface="Arial"/>
              </a:rPr>
              <a:t>in DOCDB from August 2012</a:t>
            </a:r>
            <a:endParaRPr b="0" lang="en-US" sz="2400" spc="-1" strike="noStrike">
              <a:solidFill>
                <a:srgbClr val="006cb8"/>
              </a:solidFill>
              <a:latin typeface="Arial"/>
            </a:endParaRPr>
          </a:p>
        </p:txBody>
      </p:sp>
      <p:graphicFrame>
        <p:nvGraphicFramePr>
          <p:cNvPr id="1893" name=""/>
          <p:cNvGraphicFramePr/>
          <p:nvPr/>
        </p:nvGraphicFramePr>
        <p:xfrm>
          <a:off x="779400" y="1924200"/>
          <a:ext cx="8024760" cy="2519280"/>
        </p:xfrm>
        <a:graphic>
          <a:graphicData uri="http://schemas.openxmlformats.org/drawingml/2006/table">
            <a:tbl>
              <a:tblPr/>
              <a:tblGrid>
                <a:gridCol w="2436840"/>
                <a:gridCol w="1860480"/>
                <a:gridCol w="3727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lication type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IPC code*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ign patent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710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S1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0.648), CR S, DO 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zette references 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39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B D0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9.525), IL D0, AP D0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ty model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80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U1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.179), CN U, FI U1, BR U2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934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e next slide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763</a:t>
                      </a:r>
                      <a:endParaRPr b="0" lang="en-US" sz="20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</a:tbl>
          </a:graphicData>
        </a:graphic>
      </p:graphicFrame>
      <p:sp>
        <p:nvSpPr>
          <p:cNvPr id="1894" name="Rechteck 7"/>
          <p:cNvSpPr/>
          <p:nvPr/>
        </p:nvSpPr>
        <p:spPr>
          <a:xfrm>
            <a:off x="757080" y="4017960"/>
            <a:ext cx="8070840" cy="4366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5" name="Textfeld 8"/>
          <p:cNvSpPr/>
          <p:nvPr/>
        </p:nvSpPr>
        <p:spPr>
          <a:xfrm>
            <a:off x="1626480" y="6256440"/>
            <a:ext cx="49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number of new records in INPADOCDB without IPC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New Patent Publications without IPC </a:t>
            </a:r>
            <a:br>
              <a:rPr sz="3200"/>
            </a:br>
            <a:r>
              <a:rPr b="0" lang="de-DE" sz="2400" spc="-1" strike="noStrike">
                <a:solidFill>
                  <a:srgbClr val="006cb8"/>
                </a:solidFill>
                <a:latin typeface="Arial"/>
              </a:rPr>
              <a:t>in DOCDB from August 2012</a:t>
            </a:r>
            <a:endParaRPr b="0" lang="en-US" sz="24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897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A2EC-AB71-4AAE-9C4B-9B366C789521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graphicFrame>
        <p:nvGraphicFramePr>
          <p:cNvPr id="1898" name=""/>
          <p:cNvGraphicFramePr/>
          <p:nvPr/>
        </p:nvGraphicFramePr>
        <p:xfrm>
          <a:off x="1295280" y="1889280"/>
          <a:ext cx="6685200" cy="2865240"/>
        </p:xfrm>
        <a:graphic>
          <a:graphicData uri="http://schemas.openxmlformats.org/drawingml/2006/table">
            <a:tbl>
              <a:tblPr/>
              <a:tblGrid>
                <a:gridCol w="1967040"/>
                <a:gridCol w="2068560"/>
                <a:gridCol w="2649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ent publica-tion type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IPC code*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number of publication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A1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22  (99,9%)</a:t>
                      </a:r>
                      <a:endParaRPr b="0" lang="en-US" sz="1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227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 A1, A2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54  (2,8%)</a:t>
                      </a:r>
                      <a:endParaRPr b="0" lang="en-US" sz="1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201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 A1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31 (96,2%)</a:t>
                      </a:r>
                      <a:endParaRPr b="0" lang="en-US" sz="1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75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 A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6 (0,1%)</a:t>
                      </a:r>
                      <a:endParaRPr b="0" lang="en-US" sz="1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4.327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 A2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9 (6,9%)</a:t>
                      </a:r>
                      <a:endParaRPr b="0" lang="en-US" sz="1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02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A1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 (0,1%)</a:t>
                      </a:r>
                      <a:endParaRPr b="0" lang="en-US" sz="14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.679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</a:tbl>
          </a:graphicData>
        </a:graphic>
      </p:graphicFrame>
      <p:sp>
        <p:nvSpPr>
          <p:cNvPr id="1899" name="Pfeil nach rechts 6"/>
          <p:cNvSpPr/>
          <p:nvPr/>
        </p:nvSpPr>
        <p:spPr>
          <a:xfrm>
            <a:off x="422280" y="2692440"/>
            <a:ext cx="665280" cy="44280"/>
          </a:xfrm>
          <a:prstGeom prst="rightArrow">
            <a:avLst>
              <a:gd name="adj1" fmla="val 50000"/>
              <a:gd name="adj2" fmla="val 50220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0" name="Pfeil nach rechts 7"/>
          <p:cNvSpPr/>
          <p:nvPr/>
        </p:nvSpPr>
        <p:spPr>
          <a:xfrm>
            <a:off x="433440" y="3451320"/>
            <a:ext cx="665280" cy="46080"/>
          </a:xfrm>
          <a:prstGeom prst="rightArrow">
            <a:avLst>
              <a:gd name="adj1" fmla="val 50000"/>
              <a:gd name="adj2" fmla="val 4999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1" name="Pfeil nach rechts 8"/>
          <p:cNvSpPr/>
          <p:nvPr/>
        </p:nvSpPr>
        <p:spPr>
          <a:xfrm>
            <a:off x="433440" y="3057480"/>
            <a:ext cx="665280" cy="44640"/>
          </a:xfrm>
          <a:prstGeom prst="rightArrow">
            <a:avLst>
              <a:gd name="adj1" fmla="val 50000"/>
              <a:gd name="adj2" fmla="val 49815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2" name="Textfeld 9"/>
          <p:cNvSpPr/>
          <p:nvPr/>
        </p:nvSpPr>
        <p:spPr>
          <a:xfrm>
            <a:off x="1626480" y="6256440"/>
            <a:ext cx="49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number of new records in INPADOCDB without IPC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CLASSIFICATION NEEDS AND FIRST EXPERIENCES WITH CPC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39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Introduction – classification systems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Is Patent Classification still needed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Patent classification uses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lassification challenges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PC – threat or opportunity - Conclusions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New PCT-Publications without IPC</a:t>
            </a:r>
            <a:br>
              <a:rPr sz="3200"/>
            </a:br>
            <a:r>
              <a:rPr b="0" lang="de-DE" sz="2400" spc="-1" strike="noStrike">
                <a:solidFill>
                  <a:srgbClr val="006cb8"/>
                </a:solidFill>
                <a:latin typeface="Arial"/>
              </a:rPr>
              <a:t>in DOCDB from August 2012</a:t>
            </a:r>
            <a:endParaRPr b="0" lang="en-US" sz="24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904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D022-6ADB-4D54-9F01-4F474E6FE8B6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graphicFrame>
        <p:nvGraphicFramePr>
          <p:cNvPr id="1905" name=""/>
          <p:cNvGraphicFramePr/>
          <p:nvPr/>
        </p:nvGraphicFramePr>
        <p:xfrm>
          <a:off x="1909800" y="1798560"/>
          <a:ext cx="5002200" cy="3336840"/>
        </p:xfrm>
        <a:graphic>
          <a:graphicData uri="http://schemas.openxmlformats.org/drawingml/2006/table">
            <a:tbl>
              <a:tblPr/>
              <a:tblGrid>
                <a:gridCol w="2502000"/>
                <a:gridCol w="2500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CT-Filing Office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of Records*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cb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8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6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7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B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3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54</a:t>
                      </a:r>
                      <a:endParaRPr b="0" lang="en-US" sz="1800" spc="-1" strike="noStrike">
                        <a:solidFill>
                          <a:srgbClr val="4b4b4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</a:tbl>
          </a:graphicData>
        </a:graphic>
      </p:graphicFrame>
      <p:sp>
        <p:nvSpPr>
          <p:cNvPr id="1906" name="Textfeld 5"/>
          <p:cNvSpPr/>
          <p:nvPr/>
        </p:nvSpPr>
        <p:spPr>
          <a:xfrm>
            <a:off x="1555200" y="6256440"/>
            <a:ext cx="53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number of new PCT-records in INPADOCDB without IPC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25160" y="379440"/>
            <a:ext cx="847404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New PCT-Publication without IPC in DOCDB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908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5041-FC31-4881-8D39-47D0EEDC6285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9" name="Rectangle 3"/>
          <p:cNvSpPr/>
          <p:nvPr/>
        </p:nvSpPr>
        <p:spPr>
          <a:xfrm>
            <a:off x="485640" y="1917720"/>
            <a:ext cx="8188560" cy="4565880"/>
          </a:xfrm>
          <a:prstGeom prst="rect">
            <a:avLst/>
          </a:prstGeom>
          <a:solidFill>
            <a:srgbClr val="d9e5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    70190717 INPADOCDB ED 20120830 EW 201235 UP 20120906 UW 201236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N    45280289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    VERFAHREN ZUM BETREIBEN EINES SOLARBEHEIZTEN ABHITZEDAMPFERZEUGERS SOWIE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LARTHERMISCHER ABHITZEDAMPFERZEUGER.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THOD FOR OPERATING A SOLAR-HEATED WASTE HEAT STEAM GENERATOR, AND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LAR-THERMAL WASTE HEAT STEAM GENERATOR.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E POUR FAIRE FONCTIONNER UN GENERATEUR DE VAPEUR A RECUPERATION DE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LEUR CHAUFFE A L'ENERGIE SOLAIRE ET GENERATEUR DE VAPEUR A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CUPERATION DE CHALEUR CHAUFFE A L'ENERGIE SOLAIRE.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    BRUECKNER, JAN; FRANKE, JOACHIM; THOMAS, FRANK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S   BRUECKNER JAN, DE; FRANKE JOACHIM, DE; THOMAS FRANK, DE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    SIEMENS AKTIENGESELLSCHAFT; BRUECKNER, JAN; FRANKE, JOACHIM; THOMAS,FRANK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S   SIEMENS AG, DE; BRUECKNER JAN, DE; FRANKE JOACHIM, DE; THOMAS FRANK, DE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T    Patent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    </a:t>
            </a:r>
            <a:r>
              <a:rPr b="1" lang="en-US" sz="1200" spc="-1" strike="noStrike">
                <a:solidFill>
                  <a:srgbClr val="c00000"/>
                </a:solidFill>
                <a:latin typeface="Courier New"/>
              </a:rPr>
              <a:t>WO 2012110342        A2 20120823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T   WOA2 INTERNATIONAL APPLICATION PUBLISHED WITHOUT INTERNATIONAL SEARCH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PORT or INTERNATIONAL APPLICATION PUBLISHED WITH DECLARATION UNDER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TICLE 17 (2) (A) [FROM 20090101 ONWARDS]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I    WO 2012-EP51920      W  20120206  German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IT   WOW International application Number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AI  DE 2011-102011004263 A  20110217  (DEA, 20120823, Y) 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AIT DEA Patent application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C   1. THERE IS 1 CITED REFERENCE (0 PATENT, 1 NON PATENT) AVAILABLE FOR THIS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CORD. ALL CITATIONS ARE AVAILABLE IN THE RE FORMAT.</a:t>
            </a:r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441360" y="1270080"/>
            <a:ext cx="82454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WO2012/11034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has no IPC or ECLA/CPC assig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cb8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6cb8"/>
              </a:solidFill>
              <a:latin typeface="Arial"/>
            </a:endParaRPr>
          </a:p>
        </p:txBody>
      </p:sp>
      <p:sp>
        <p:nvSpPr>
          <p:cNvPr id="1912" name=""/>
          <p:cNvSpPr txBox="1"/>
          <p:nvPr/>
        </p:nvSpPr>
        <p:spPr>
          <a:xfrm>
            <a:off x="441000" y="1317240"/>
            <a:ext cx="84661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Reclassification of the MCD backfile needs to be enhanced to ensure comprehensive retrieval when searching with the current version of the IPC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WIPO should encourage smaller patent authorities to assign IPCs more extensively, e.g. IT, SG, 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PCT searching authorities should be encouraged to assign IPCs more timely to PCT documents, so that IPC could be used for monitoring purpo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Foliennummernplatzhalter 3"/>
          <p:cNvSpPr/>
          <p:nvPr/>
        </p:nvSpPr>
        <p:spPr>
          <a:xfrm>
            <a:off x="8223120" y="6334200"/>
            <a:ext cx="5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A750-B841-4BB9-8643-A62A909E6485}" type="slidenum">
              <a:rPr b="1" lang="en-US" sz="1200" spc="-1" strike="noStrike">
                <a:solidFill>
                  <a:srgbClr val="006cb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(TOO) MANY PATENT CLASSIFICATION SYSTEMS 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International Patent Classification – WIPO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ooperative Patent Classification (ECLA)– EPO/USPTO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US Patent Classification (until 2015) – USPTO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DECLA – German Patent and Trademark Office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FI /F-Terms – Japanese Patent Office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DWPI Manual Coding system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ommon Hybrid Classification – Global Patent Classification 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IS PATENT CLASSIFICATION STILL NEEDED?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 fontScale="96000"/>
          </a:bodyPr>
          <a:p>
            <a:pPr lvl="1" marL="603360" indent="-27396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Increasing global patent activity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03360" indent="-27396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Classification systems require high maintenance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2" marL="877680" indent="-16416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High granularity, often dependent on national, regional technology profile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77680" indent="-16416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Frequent updating cycles (revisions, reclassifications)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77680" indent="-16416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Consistent classification rules  often reconciled with national patent law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3" marL="1207080" indent="-219240">
              <a:spcBef>
                <a:spcPts val="400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b4b4b"/>
                </a:solidFill>
                <a:latin typeface="Arial"/>
              </a:rPr>
              <a:t>The more refined to meet  specific requirements, the higher the maintenance and, paradoxically, risk of failing </a:t>
            </a:r>
            <a:endParaRPr b="0" lang="en-US" sz="1600" spc="-1" strike="noStrike">
              <a:solidFill>
                <a:srgbClr val="4b4b4b"/>
              </a:solidFill>
              <a:latin typeface="Arial"/>
            </a:endParaRPr>
          </a:p>
          <a:p>
            <a:pPr lvl="2" marL="877680" indent="-16416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Different classification systems (national, regional) 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1" marL="603360" indent="-27396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Recent classification developments (CPC, CHC) - substantial projects undertaken by  patent offices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03360" indent="-27396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High interest from patent user community 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03360" indent="-27396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8000"/>
                </a:solidFill>
                <a:latin typeface="Arial"/>
              </a:rPr>
              <a:t>Patent classification  has multiple applications and is useful !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03360" indent="-27396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PATENT CLASSIFICATION USES 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920880" y="1522440"/>
            <a:ext cx="73692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 fontScale="94000"/>
          </a:bodyPr>
          <a:p>
            <a:pPr lvl="1" marL="590760" indent="-26820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8000"/>
                </a:solidFill>
                <a:latin typeface="Arial"/>
              </a:rPr>
              <a:t>Search tool : 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-16092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Language independent : overcomes translation variations  and terminology alternatives in emerging technologies, as well as spelling errors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-16092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Suitable for Technology drill down and  concept retrieval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1" marL="590760" indent="-268200">
              <a:spcBef>
                <a:spcPts val="75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8000"/>
                </a:solidFill>
                <a:latin typeface="Arial"/>
              </a:rPr>
              <a:t>Document routing tool: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-16092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In production and editorial departments patent documents are routed to  technology experts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-16092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In product creation :  for alerts and patent profiles 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-160920">
              <a:spcBef>
                <a:spcPts val="561"/>
              </a:spcBef>
              <a:buClr>
                <a:srgbClr val="ff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In Machine  Translation developments where the classification is used to associate the correct technical dictionary with the respective technology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0">
              <a:spcBef>
                <a:spcPts val="56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0">
              <a:spcBef>
                <a:spcPts val="56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0">
              <a:spcBef>
                <a:spcPts val="56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4b4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1" marL="5907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0">
              <a:spcBef>
                <a:spcPts val="56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  <a:p>
            <a:pPr lvl="2" marL="859320" indent="0">
              <a:spcBef>
                <a:spcPts val="56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CLASSIFICATION CHALLENGES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lassification features with limited user benefits: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Inconsistency of classification attributes  (eg generating office, position, source of classification, etc.)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Insufficient details related to certain classification features, linking codes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Missing classification 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Invalid classification 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Availability at publication with the rest of  bibliographic data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MISSING/INVALID  IPCs IN NEW PULICATIONS LOADED IN  DWPI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1849" name="Content Placeholder 4" descr=""/>
          <p:cNvPicPr/>
          <p:nvPr/>
        </p:nvPicPr>
        <p:blipFill>
          <a:blip r:embed="rId1"/>
          <a:stretch/>
        </p:blipFill>
        <p:spPr>
          <a:xfrm>
            <a:off x="914400" y="1517760"/>
            <a:ext cx="73756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IPC – SAME INVENTION, DIFFERENT CLASSIFICATION 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1851" name="Picture 2" descr=""/>
          <p:cNvPicPr/>
          <p:nvPr/>
        </p:nvPicPr>
        <p:blipFill>
          <a:blip r:embed="rId1"/>
          <a:stretch/>
        </p:blipFill>
        <p:spPr>
          <a:xfrm>
            <a:off x="504720" y="4579920"/>
            <a:ext cx="7966080" cy="1566720"/>
          </a:xfrm>
          <a:prstGeom prst="rect">
            <a:avLst/>
          </a:prstGeom>
          <a:ln w="0">
            <a:noFill/>
          </a:ln>
        </p:spPr>
      </p:pic>
      <p:pic>
        <p:nvPicPr>
          <p:cNvPr id="1852" name="Picture 2" descr=""/>
          <p:cNvPicPr/>
          <p:nvPr/>
        </p:nvPicPr>
        <p:blipFill>
          <a:blip r:embed="rId2"/>
          <a:stretch/>
        </p:blipFill>
        <p:spPr>
          <a:xfrm>
            <a:off x="336600" y="1495440"/>
            <a:ext cx="3584520" cy="2592360"/>
          </a:xfrm>
          <a:prstGeom prst="rect">
            <a:avLst/>
          </a:prstGeom>
          <a:ln w="0">
            <a:noFill/>
          </a:ln>
        </p:spPr>
      </p:pic>
      <p:pic>
        <p:nvPicPr>
          <p:cNvPr id="1853" name="Picture 3" descr=""/>
          <p:cNvPicPr/>
          <p:nvPr/>
        </p:nvPicPr>
        <p:blipFill>
          <a:blip r:embed="rId3"/>
          <a:stretch/>
        </p:blipFill>
        <p:spPr>
          <a:xfrm>
            <a:off x="2521080" y="1454040"/>
            <a:ext cx="3933720" cy="609840"/>
          </a:xfrm>
          <a:prstGeom prst="rect">
            <a:avLst/>
          </a:prstGeom>
          <a:ln w="12600">
            <a:solidFill>
              <a:srgbClr val="ff8000"/>
            </a:solidFill>
            <a:miter/>
          </a:ln>
        </p:spPr>
      </p:pic>
      <p:sp>
        <p:nvSpPr>
          <p:cNvPr id="1854" name="Straight Connector 11"/>
          <p:cNvSpPr/>
          <p:nvPr/>
        </p:nvSpPr>
        <p:spPr>
          <a:xfrm flipH="1">
            <a:off x="937800" y="1974960"/>
            <a:ext cx="1567080" cy="368280"/>
          </a:xfrm>
          <a:prstGeom prst="line">
            <a:avLst/>
          </a:prstGeom>
          <a:ln w="1260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5" name="TextBox 16"/>
          <p:cNvSpPr/>
          <p:nvPr/>
        </p:nvSpPr>
        <p:spPr>
          <a:xfrm>
            <a:off x="6808680" y="1414440"/>
            <a:ext cx="1528920" cy="3112920"/>
          </a:xfrm>
          <a:prstGeom prst="rect">
            <a:avLst/>
          </a:prstGeom>
          <a:noFill/>
          <a:ln w="1260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b4b4b"/>
                </a:solidFill>
                <a:latin typeface="Arial"/>
              </a:rPr>
              <a:t>IPCs applied only once within family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23L 1/0522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23L 1/09 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23L 2/00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61K 47/14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61K 47/26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61K 47/36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61K 8/97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A61Q 13/00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B01F 17/00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B01F 17/34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B01F 17/36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B01F 3/08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C08B 35/02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C08J 3/02 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b4b4b"/>
                </a:solidFill>
                <a:latin typeface="Arial"/>
              </a:rPr>
              <a:t>C08L 3/06  </a:t>
            </a:r>
            <a:endParaRPr b="0" lang="en-US" sz="8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6" name="Down Arrow 22"/>
          <p:cNvSpPr/>
          <p:nvPr/>
        </p:nvSpPr>
        <p:spPr>
          <a:xfrm>
            <a:off x="1560600" y="4141800"/>
            <a:ext cx="1144440" cy="3762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0800000"/>
          </a:gradFill>
          <a:ln w="93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7" name="Bent Arrow 33"/>
          <p:cNvSpPr/>
          <p:nvPr/>
        </p:nvSpPr>
        <p:spPr>
          <a:xfrm>
            <a:off x="5248440" y="3389400"/>
            <a:ext cx="1428480" cy="982440"/>
          </a:xfrm>
          <a:prstGeom prst="pi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93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17640" y="506520"/>
            <a:ext cx="73692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Arial"/>
              </a:rPr>
              <a:t>CHALLENGE  MEANS OPPORTUNITY</a:t>
            </a:r>
            <a:endParaRPr b="0" lang="en-US" sz="2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917640" y="1525320"/>
            <a:ext cx="73692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t">
            <a:normAutofit/>
          </a:bodyPr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Missing  and invalid IPCs – value add by assigning front end classification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Inconsistent classification 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DWPI Manual coding 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4b4b"/>
                </a:solidFill>
                <a:latin typeface="Arial"/>
              </a:rPr>
              <a:t>DWPI patent family 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lvl="1" marL="628560" indent="-285480">
              <a:spcBef>
                <a:spcPts val="751"/>
              </a:spcBef>
              <a:buClr>
                <a:srgbClr val="ff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4b4b"/>
                </a:solidFill>
                <a:latin typeface="Arial"/>
              </a:rPr>
              <a:t>Confusing Attributes - product  enhancement features eg  Inventive, non-inventive, generating office, version, etc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8:02:24Z</dcterms:created>
  <dc:creator>Ed White</dc:creator>
  <dc:description/>
  <cp:keywords>IPC</cp:keywords>
  <dc:language>en-US</dc:language>
  <cp:lastModifiedBy>Malanga</cp:lastModifiedBy>
  <dcterms:modified xsi:type="dcterms:W3CDTF">2013-02-25T13:54:57Z</dcterms:modified>
  <cp:revision>245</cp:revision>
  <dc:subject>IPC Workshop (2013) - Classification needs and first experiences with CPC</dc:subject>
  <dc:title>IPC Workshop (2013) - Classification needs and first experiences with CPC</dc:title>
</cp:coreProperties>
</file>