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CA4C-5A3A-476F-A814-A07903C61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03FE-A17B-417F-B350-C0DB3B1A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877-8509-41B7-9EFE-7CC76F80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88CE-C690-4EDE-93B8-312C1FBE0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88DD-7DD9-433E-84A8-28F6267D4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68D9-0EA5-4D17-A5BA-47AC4102C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A095-CBC8-45BB-9D7B-ACCFEBAFF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1BC2-5F9F-4080-8DE2-3602F77BF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BC65-8453-4D39-A0F0-FF12DDC88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705F-17AD-4109-90E0-FA7F58E90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26A9-19AE-4C7C-B73E-DBC053331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1592-1374-463D-BF97-9AD85F35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1B45-8DD5-404E-B822-31D378EB4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5DE0-FDE3-459D-A97E-9D27C22E9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8D9A-DB8F-453F-BBB7-2A164EBCD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D2E-704C-4EF4-BC38-A7BF620A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31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May 16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 June 201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IPCRECLASS to accept subsequent waves of Work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for problems reported until May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Feedback for improvements or sugges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-forum 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: CE4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tested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2013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Ma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version of the viewer available since end of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ypes of issues to be addressed with these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concordance to IPC (548 CPC + 146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in the XML input files (1060 CPC + 1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djustments to show something in the second case  (concerned symbols are indicated with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3"/>
          <a:stretch/>
        </p:blipFill>
        <p:spPr>
          <a:xfrm>
            <a:off x="7121520" y="4827600"/>
            <a:ext cx="3301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3"/>
          <p:cNvGrpSpPr/>
          <p:nvPr/>
        </p:nvGrpSpPr>
        <p:grpSpPr>
          <a:xfrm>
            <a:off x="1116000" y="47520"/>
            <a:ext cx="7128000" cy="6602400"/>
            <a:chOff x="1116000" y="47520"/>
            <a:chExt cx="7128000" cy="660240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tretch/>
          </p:blipFill>
          <p:spPr>
            <a:xfrm>
              <a:off x="1116000" y="47520"/>
              <a:ext cx="7128000" cy="66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" descr=""/>
            <p:cNvPicPr/>
            <p:nvPr/>
          </p:nvPicPr>
          <p:blipFill>
            <a:blip r:embed="rId2"/>
            <a:stretch/>
          </p:blipFill>
          <p:spPr>
            <a:xfrm flipH="1">
              <a:off x="2496240" y="5962320"/>
              <a:ext cx="118800" cy="11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Oval 10"/>
          <p:cNvSpPr/>
          <p:nvPr/>
        </p:nvSpPr>
        <p:spPr>
          <a:xfrm>
            <a:off x="1763640" y="476280"/>
            <a:ext cx="374508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 rot="16200000">
            <a:off x="5328360" y="1663920"/>
            <a:ext cx="374508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22320" y="2700360"/>
            <a:ext cx="11286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085840" y="5805360"/>
            <a:ext cx="901800" cy="48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ve into production first week of Jun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14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available on demand as from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: Against IPCRM 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 for request for Proposal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 Evaluation team: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methodology and criteria: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of interest: mi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: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der selection: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status 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of the backlog around 1.5 million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IPC reclassification knowledge in some off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4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9" name="Chart 4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2849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</dc:creator>
  <dc:description/>
  <dc:language>en-US</dc:language>
  <cp:lastModifiedBy>FIEVET Patrick</cp:lastModifiedBy>
  <cp:lastPrinted>2013-11-04T09:19:50Z</cp:lastPrinted>
  <dcterms:modified xsi:type="dcterms:W3CDTF">2014-05-15T06:57:08Z</dcterms:modified>
  <cp:revision>78</cp:revision>
  <dc:subject>IPC-WG29</dc:subject>
  <dc:title>IT support for IPC</dc:title>
</cp:coreProperties>
</file>