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C823-38A1-42BB-9402-20639D00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1633-A48F-47BC-83AC-14479F35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1F4F-C60B-46CC-9940-63E9A9140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527F-F429-468F-8E56-126BFA12A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E1E6-332D-4CCB-A4E5-E44016BE7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3F59-A3EF-4913-B4B4-0528E516F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D8E9-77F6-442F-9932-5EBDB4B8C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2159-FF84-49D0-8B13-008BDDCD5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3C1C-4D6A-4A02-9974-FEBAC4663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DC14-C0F5-464A-90B7-2215E14CF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079E-CEEE-4C32-933A-518538AD4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EA56-7BEF-4066-A135-7548C4BAB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E149-8ECB-48ED-80BA-77AFF073F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CFCA-8492-4389-BCA2-894BC274D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C005-90B3-47BE-830A-F6F1D5557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9BE1-6DD4-495F-9162-0A060B78F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8960" y="4183200"/>
            <a:ext cx="6305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Working Group 31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T support for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May 16,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erspectives June 201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of IPCRECLASS to accept subsequent waves of Work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for problems reported until May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 on 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Feedback for improvements or sugges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E-forum Projects dedicated to this purpo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: CE4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PUB Internet publication: CE4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-Eforum: CE4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: CE4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Version 5.0 FIPCPC parallel 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tested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version 2013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 version May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version of the viewer available since end of 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Version 5.0 FIPCPC parallel 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types of issues to be addressed with these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concordance to IPC (548 CPC + 146 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 in the XML input files (1060 CPC + 1 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adjustments to show something in the second case  (concerned symbols are indicated with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3"/>
          <a:stretch/>
        </p:blipFill>
        <p:spPr>
          <a:xfrm>
            <a:off x="7121520" y="4827600"/>
            <a:ext cx="3301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3"/>
          <p:cNvGrpSpPr/>
          <p:nvPr/>
        </p:nvGrpSpPr>
        <p:grpSpPr>
          <a:xfrm>
            <a:off x="1116000" y="47520"/>
            <a:ext cx="7128000" cy="6602400"/>
            <a:chOff x="1116000" y="47520"/>
            <a:chExt cx="7128000" cy="6602400"/>
          </a:xfrm>
        </p:grpSpPr>
        <p:pic>
          <p:nvPicPr>
            <p:cNvPr id="96" name="Picture 4" descr=""/>
            <p:cNvPicPr/>
            <p:nvPr/>
          </p:nvPicPr>
          <p:blipFill>
            <a:blip r:embed="rId1"/>
            <a:stretch/>
          </p:blipFill>
          <p:spPr>
            <a:xfrm>
              <a:off x="1116000" y="47520"/>
              <a:ext cx="7128000" cy="66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" descr=""/>
            <p:cNvPicPr/>
            <p:nvPr/>
          </p:nvPicPr>
          <p:blipFill>
            <a:blip r:embed="rId2"/>
            <a:stretch/>
          </p:blipFill>
          <p:spPr>
            <a:xfrm flipH="1">
              <a:off x="2496240" y="5962320"/>
              <a:ext cx="118800" cy="11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Oval 10"/>
          <p:cNvSpPr/>
          <p:nvPr/>
        </p:nvSpPr>
        <p:spPr>
          <a:xfrm>
            <a:off x="1763640" y="476280"/>
            <a:ext cx="3745080" cy="165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 rot="16200000">
            <a:off x="5328360" y="1663920"/>
            <a:ext cx="3745080" cy="223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922320" y="2700360"/>
            <a:ext cx="11286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2085840" y="5805360"/>
            <a:ext cx="901800" cy="48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ersp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ove into production first week of Jun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ver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14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 ver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vemb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ackage available on demand as from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M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353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ture solution for IPC Revis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: Against IPCRM Projec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 analysis: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of Reference for request for Proposal: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d Evaluation team: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methodology and criteria: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of interest: mid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for Proposal: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dder selection: J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status up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 of the backlog around 1.5 million families to be re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IPC reclassification knowledge in some off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2008-2014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: backlog evolution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09" name="Chart 4" descr=""/>
          <p:cNvPicPr/>
          <p:nvPr/>
        </p:nvPicPr>
        <p:blipFill>
          <a:blip r:embed="rId1"/>
          <a:stretch/>
        </p:blipFill>
        <p:spPr>
          <a:xfrm>
            <a:off x="822240" y="1122480"/>
            <a:ext cx="72849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Fiévet</dc:creator>
  <dc:description/>
  <dc:language>en-US</dc:language>
  <cp:lastModifiedBy>FIEVET Patrick</cp:lastModifiedBy>
  <cp:lastPrinted>2013-11-04T09:19:50Z</cp:lastPrinted>
  <dcterms:modified xsi:type="dcterms:W3CDTF">2014-05-15T06:57:08Z</dcterms:modified>
  <cp:revision>78</cp:revision>
  <dc:subject>IPC-WG29</dc:subject>
  <dc:title>IT support for IPC</dc:title>
</cp:coreProperties>
</file>