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FCD3-C829-4ACB-95E3-245D61CB1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6118-FBC1-4F98-A863-1E6C30D55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218A-9EAA-405B-A7DA-09B8A2FE0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0A39-99D1-4D56-B303-254652D6F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806F-AE1D-4875-A6F7-BAFBFE33A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D8E0-E902-4893-8769-7EEFAF19D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F439-6409-42FE-8F11-A7AE9351B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64A36-264C-4708-90FA-051EE8DE3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69BD-3CA7-4F76-A247-43CE76E89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7E96-34A2-4D9E-A42F-7E1C65647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C55C-D37A-4DA9-A20B-90D16E2E3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0B11-D63E-4286-9A1C-07B6D573F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27FE-D178-426C-8D2D-2FC2983AB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9D9FD-8C29-4941-861B-95B66CC4E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E55A-EEE1-4574-B2FC-8E142F355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06D8-8CF0-4C9C-A493-A3507A633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18960" y="4183200"/>
            <a:ext cx="63054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Working Group 31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dates on IT support for the IP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249960" y="525312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May 16, 20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914400" y="380988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 of IT System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RECLASS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erspectives June 201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 of IPCRECLASS to accept subsequent waves of Work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for problems reported until May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date on IT support for the IPC</a:t>
            </a:r>
            <a:endParaRPr b="0" lang="en-US" sz="39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84360" y="491652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WIPO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ims@wipo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Feedback for improvements or suggestion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E-forum Projects dedicated to this purpo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RECLASS: CE4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PUB Internet publication: CE4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-Eforum: CE4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RM project: CE4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dates on IPC-related IT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PUB Internet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RM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RE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Version 5.0 FIPCPC parallel vie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 tested wi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C version 2013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 version May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 version of the viewer available since end of 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Version 5.0 FIPCPC parallel vie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types of issues to be addressed with these da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C concordance to IPC (548 CPC + 146 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s in the XML input files (1060 CPC + 1 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adjustments to show something in the second case  (concerned symbols are indicated with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3"/>
          <a:stretch/>
        </p:blipFill>
        <p:spPr>
          <a:xfrm>
            <a:off x="7121520" y="4827600"/>
            <a:ext cx="33012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3"/>
          <p:cNvGrpSpPr/>
          <p:nvPr/>
        </p:nvGrpSpPr>
        <p:grpSpPr>
          <a:xfrm>
            <a:off x="1116000" y="47520"/>
            <a:ext cx="7128000" cy="6602400"/>
            <a:chOff x="1116000" y="47520"/>
            <a:chExt cx="7128000" cy="6602400"/>
          </a:xfrm>
        </p:grpSpPr>
        <p:pic>
          <p:nvPicPr>
            <p:cNvPr id="96" name="Picture 4" descr=""/>
            <p:cNvPicPr/>
            <p:nvPr/>
          </p:nvPicPr>
          <p:blipFill>
            <a:blip r:embed="rId1"/>
            <a:stretch/>
          </p:blipFill>
          <p:spPr>
            <a:xfrm>
              <a:off x="1116000" y="47520"/>
              <a:ext cx="7128000" cy="660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" descr=""/>
            <p:cNvPicPr/>
            <p:nvPr/>
          </p:nvPicPr>
          <p:blipFill>
            <a:blip r:embed="rId2"/>
            <a:stretch/>
          </p:blipFill>
          <p:spPr>
            <a:xfrm flipH="1">
              <a:off x="2496240" y="5962320"/>
              <a:ext cx="118800" cy="11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Oval 10"/>
          <p:cNvSpPr/>
          <p:nvPr/>
        </p:nvSpPr>
        <p:spPr>
          <a:xfrm>
            <a:off x="1763640" y="476280"/>
            <a:ext cx="3745080" cy="1657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1"/>
          <p:cNvSpPr/>
          <p:nvPr/>
        </p:nvSpPr>
        <p:spPr>
          <a:xfrm rot="16200000">
            <a:off x="5328360" y="1663920"/>
            <a:ext cx="3745080" cy="223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922320" y="2700360"/>
            <a:ext cx="112860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2085840" y="5805360"/>
            <a:ext cx="901800" cy="48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ersp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Move into production first week of Jun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C ver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14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 ver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vember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package available on demand as from 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M project statu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8229600" cy="43531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uture solution for IPC Revis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: Against IPCRM Projec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 analysis: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s of Reference for request for Proposal: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d Evaluation team: 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methodology and criteria: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 of interest: mid 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for Proposal: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dder selection: J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RECLASS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Reclassification status upd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zation of the backlog around 1.5 million families to be reclass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in IPC reclassification knowledge in some off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</a:rPr>
              <a:t>2008-2014 </a:t>
            </a: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reclassification </a:t>
            </a:r>
            <a:r>
              <a:rPr b="1" lang="en-US" sz="2400" spc="-1" strike="noStrike">
                <a:solidFill>
                  <a:srgbClr val="00408c"/>
                </a:solidFill>
                <a:latin typeface="Arial"/>
              </a:rPr>
              <a:t>: backlog evolution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109" name="Chart 4" descr=""/>
          <p:cNvPicPr/>
          <p:nvPr/>
        </p:nvPicPr>
        <p:blipFill>
          <a:blip r:embed="rId1"/>
          <a:stretch/>
        </p:blipFill>
        <p:spPr>
          <a:xfrm>
            <a:off x="822240" y="1122480"/>
            <a:ext cx="728496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0:11:44Z</dcterms:created>
  <dc:creator>Fiévet</dc:creator>
  <dc:description/>
  <dc:language>en-US</dc:language>
  <cp:lastModifiedBy>FIEVET Patrick</cp:lastModifiedBy>
  <cp:lastPrinted>2013-11-04T09:19:50Z</cp:lastPrinted>
  <dcterms:modified xsi:type="dcterms:W3CDTF">2014-05-15T06:57:08Z</dcterms:modified>
  <cp:revision>78</cp:revision>
  <dc:subject>IPC-WG29</dc:subject>
  <dc:title>IT support for IPC</dc:title>
</cp:coreProperties>
</file>