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C132-38DA-4339-9163-757CF5456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CC43-C638-49F0-8870-382256D3B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629D-50CC-4BE4-B579-2C3E11E84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0A1A-848B-40BA-A3EE-4827B238C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73F3-A220-44D2-8407-E35801D95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2529-BA13-4642-AAFB-A90599330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CA8C-5D5E-4988-A631-A44DCF543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D98F-C094-48E5-A8CB-BD848A4E3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8019-A260-4795-A42A-F5A08BF9D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4321-DFB3-4CCD-8F28-C07C91FF6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F074-08C6-4D85-99D3-5981C883D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FF14-7213-4767-B781-2B5EBA357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64BF-5A2A-4AAB-AE87-886F67D1C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8960" y="4183200"/>
            <a:ext cx="63054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Working Group 30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s on IT support for the IP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November 6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Master files and their transformation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n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mplete Master files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XML schemas for relevant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+ IPC publication Corrigendum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+ IPC fixed texts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mail notification to IPC-IT in case of update to Download and IT support area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RECLAS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Functional evolutio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1-2 Resul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lassification can be done using a document with a kind code different from the one found in the work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ail notification in such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RECLAS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Reclassification stat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4.01 Working Lists available for 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442,522 families to be reclass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</a:rPr>
              <a:t>2008-2014 </a:t>
            </a: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reclassification </a:t>
            </a:r>
            <a:r>
              <a:rPr b="1" lang="en-US" sz="2400" spc="-1" strike="noStrike">
                <a:solidFill>
                  <a:srgbClr val="00408c"/>
                </a:solidFill>
                <a:latin typeface="Arial"/>
              </a:rPr>
              <a:t>: backlog evolution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895320" y="1195560"/>
            <a:ext cx="70786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RECLAS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Functional evolutio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3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 of Default transfe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candidates for de-activation (any un-reclassified symbol matching R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"/>
              </a:rPr>
              <a:t>De-activation in b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load indicator (nb of parallel RL submi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number of working lists (for statis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out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E-forum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3-2013 Evolutions and fixes ord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mprove data capture efficiency in the «project»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”, other filters and “next/previous” a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ixes in PDF files generation and PDF CONCAT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DF conversion of files with 4 digit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wnload of annexes in origina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mplementation before the end of 201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M project statu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43531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uture solution for IPC Revis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: Against IPCRM Projec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s of Reference for request for Proposal: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 analysis: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s of Reference (TOR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delivery of TOR annexes: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WIPO Review of the first iteration: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2nd ite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OR annexes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: 1 month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Feedback for improvements or suggestion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E-forum Projects dedicated to this purpo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RECLASS: CE4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PUB Internet publication: CE4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-Eforum: CE4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M project: CE4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 on IT support for the IPC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ims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s on IPC-related IT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PUB Interne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 files and their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RE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E-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RM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Version 4.x: New search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rsion 4.0 now in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Solr Lucene search engine functiona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et for S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set for term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oncordance web service (see URL and Web services under IPCPUB on-line he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ackage version 4.1, available on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ATS search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places most frequently referenced in Patenscope database when it is searched for a particular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without  punctuation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Basic set of 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y to limit the search and hit list to specific IPC pl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y to Exclude IPC places from the search and from the hit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erm search: extended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pecial charact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? (any single), * (any number of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uble quote (exact m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+ (Include),  - (Exclude), AND, OR,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emm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from the same stem of the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~ fuzzy and proximity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nly some can be combined with «path search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erm search: extended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ome can be combined with «path search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combination of operators, search and view options 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he hit may be hidden (e.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READ-ONLY MEMORIES“ in G11C if “subclass index not displaye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queri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 storage –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carbon oils ma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PUB live demonstartion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ATS </a:t>
            </a:r>
            <a:r>
              <a:rPr b="1" lang="fr-CH" sz="2400" spc="-1" strike="noStrike">
                <a:solidFill>
                  <a:srgbClr val="0000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« bike» with ste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« bike» with stemming + exclude B62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ff"/>
                </a:solidFill>
                <a:latin typeface="Arial"/>
              </a:rPr>
              <a:t>Term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ol?er without stem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ol?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«read-only» with/without display of subclas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+ (Include),  - (Exclude), AND, OR,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emming: «electrical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ngine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erspectives: Version 5.x FIPCPC viewer (stages 4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pecification and implementation: Q4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ove into production Q1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c"/>
                </a:solidFill>
                <a:latin typeface="Arial"/>
              </a:rPr>
              <a:t>Master files and their transformations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us with regards to 2014.01 master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014.01 replacement fi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Valid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che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efinitio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ster files by-products to be 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WIPO</dc:creator>
  <dc:description/>
  <cp:keywords>IPC</cp:keywords>
  <dc:language>en-US</dc:language>
  <cp:lastModifiedBy>MALANGA SALAZAR Isabelle</cp:lastModifiedBy>
  <cp:lastPrinted>2013-11-04T09:19:50Z</cp:lastPrinted>
  <dcterms:modified xsi:type="dcterms:W3CDTF">2013-11-12T09:54:50Z</dcterms:modified>
  <cp:revision>56</cp:revision>
  <dc:subject>Updates on IT support for the IPC - 30th session of the IPC Revision Working Group</dc:subject>
  <dc:title>Updates on IT support for the IPC - 30th session of the IPC Revision Working Group</dc:title>
</cp:coreProperties>
</file>