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4633-827D-4DFA-9422-2F354D0A2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F737-510A-4ED8-8ECB-57EC41A03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9C25-4B44-4A96-A2A4-09E978406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6C5C-EA7E-407F-A5A7-32CDE34E5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E99C-7B21-4C10-9274-5EC1FE884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43F4-5CEE-4320-8571-19B72F77F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F9AF-6887-428D-8675-626DAD558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6DAF-05BB-4DD9-94FE-8F9B9FF57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4B5E-84F8-43A2-BD0A-7A1D351D1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EA6F-F0B0-459D-A9AD-21F64C801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5F0C-5554-443E-9B8E-E1D2F1FFC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18DA-6C19-4E44-9B31-1961A980E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9F02-3CAC-4BC7-B013-5B9993E0C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po.int/ipcreclassification/201301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eb2.wipo.int/ipc-ief/en/project/1593/CE447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hyperlink" Target="http://web2.wipo.int/ipc-ief/en/project/1539/CE445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367/QC01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29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14 May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onitoring of IPC Reclassification Statistics: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ollowing CE 45 decisions, IB needs for each proje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tal number of families </a:t>
            </a:r>
            <a:r>
              <a:rPr b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utomatic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Lists from EPO for all IPC e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2013.01, IPC 2014.01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Evolution of the IPC reclassification speed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50920" y="1125360"/>
          <a:ext cx="8893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893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data submission improvement still in prog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of number of data resubmission for offices who attended IPCRECLASS training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Quality Assuranc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heck that your reclassification are actually published und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po.int/ipcreclassification/201301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is indicates that your submissions passed all IPCRECLAS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is is the only place from where MCD upload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 not ignore error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erspectives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New development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for stage 3 defaul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ssification status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ort of statistics for IPC warnings in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grade to version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8000"/>
                </a:solidFill>
                <a:latin typeface="Arial"/>
              </a:rPr>
              <a:t>Now 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mplified software package installation (available on dem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34" name="Oval 3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37" name="Oval 6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42" name="Oval 11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45" name="Group 14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46" name="Oval 15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49" name="Oval 18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 search feature under consider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ldcard, fuzzy or proximity searc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ange quer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erm boo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oolean operators and group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scaping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ersp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warnings: Automated production for incomplete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scope statitistic bas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PCPC project: Parallel viewer for IPC, FI,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raining based on IPC 2012.01 reclassified  documents (DOCDB XML): </a:t>
            </a:r>
            <a:r>
              <a:rPr b="0" lang="fr-CH" sz="2400" spc="-1" strike="noStrike">
                <a:solidFill>
                  <a:srgbClr val="008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E-foru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olutions ready for deploy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eaders in PDF version of annexes (project number+ annex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tive bookmarks in the PDF CON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op undesirable email notification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s of action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E-forum Evolution ready for deploymen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179280" y="2168640"/>
            <a:ext cx="8785440" cy="37814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0"/>
          <p:cNvGrpSpPr/>
          <p:nvPr/>
        </p:nvGrpSpPr>
        <p:grpSpPr>
          <a:xfrm>
            <a:off x="179280" y="3571920"/>
            <a:ext cx="8785440" cy="1441440"/>
            <a:chOff x="179280" y="3571920"/>
            <a:chExt cx="8785440" cy="1441440"/>
          </a:xfrm>
        </p:grpSpPr>
        <p:sp>
          <p:nvSpPr>
            <p:cNvPr id="162" name="Line 8"/>
            <p:cNvSpPr/>
            <p:nvPr/>
          </p:nvSpPr>
          <p:spPr>
            <a:xfrm>
              <a:off x="179280" y="3571920"/>
              <a:ext cx="8713800" cy="14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V="1">
              <a:off x="179280" y="3571920"/>
              <a:ext cx="8785440" cy="14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1"/>
          <p:cNvSpPr/>
          <p:nvPr/>
        </p:nvSpPr>
        <p:spPr>
          <a:xfrm>
            <a:off x="385920" y="124452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ff"/>
                </a:solidFill>
                <a:latin typeface="Arial"/>
              </a:rPr>
              <a:t>Removal of undesired email notification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changes of action p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ject kick-off: May 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ly out-sourced, more than just re-do of RI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, RFP, contracts setup: Q2 2013-Q1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the solution : Q2 2014 - Q1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RIPCIS + support setup: Q1-Q2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argeted production use: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arly publication of IPC 2016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edback for improvemen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Monitoring IPC reclassificat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statistic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ject QC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rchived Working Lists (before IPCRE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databas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3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539640" y="1587600"/>
          <a:ext cx="784872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87600"/>
                    <a:ext cx="784872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PC reclassification status: IPC 2012.0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9" name="Picture 5" descr="2012"/>
          <p:cNvPicPr/>
          <p:nvPr/>
        </p:nvPicPr>
        <p:blipFill>
          <a:blip r:embed="rId1"/>
          <a:stretch/>
        </p:blipFill>
        <p:spPr>
          <a:xfrm>
            <a:off x="611280" y="1274760"/>
            <a:ext cx="64087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PC reclassification status: IPC 2013.0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1" name="Picture 4" descr="2013"/>
          <p:cNvPicPr/>
          <p:nvPr/>
        </p:nvPicPr>
        <p:blipFill>
          <a:blip r:embed="rId1"/>
          <a:stretch/>
        </p:blipFill>
        <p:spPr>
          <a:xfrm>
            <a:off x="611280" y="1209600"/>
            <a:ext cx="648180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93" name="Object 11"/>
          <p:cNvGraphicFramePr/>
          <p:nvPr/>
        </p:nvGraphicFramePr>
        <p:xfrm>
          <a:off x="395280" y="1241280"/>
          <a:ext cx="8675640" cy="54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41280"/>
                    <a:ext cx="86756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Observ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acklog of reclassification today: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1,2 Millio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the 2009-2012 part of the backlog (100,000 families reclassified per 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ttle activity on IPC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data submission improvement in progress in big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completion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84360" y="119700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684360" y="501336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8459640" y="1557360"/>
            <a:ext cx="0" cy="3743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684360" y="1917720"/>
            <a:ext cx="2232000" cy="3095640"/>
            <a:chOff x="684360" y="1917720"/>
            <a:chExt cx="2232000" cy="3095640"/>
          </a:xfrm>
        </p:grpSpPr>
        <p:sp>
          <p:nvSpPr>
            <p:cNvPr id="102" name="Rectangle 9"/>
            <p:cNvSpPr/>
            <p:nvPr/>
          </p:nvSpPr>
          <p:spPr>
            <a:xfrm>
              <a:off x="684360" y="1917720"/>
              <a:ext cx="2232000" cy="309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028160" y="3160800"/>
              <a:ext cx="1788480" cy="1572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Automat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Famil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propag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2916360" y="3429000"/>
            <a:ext cx="1655640" cy="1584360"/>
            <a:chOff x="2916360" y="3429000"/>
            <a:chExt cx="1655640" cy="1584360"/>
          </a:xfrm>
        </p:grpSpPr>
        <p:sp>
          <p:nvSpPr>
            <p:cNvPr id="105" name="Rectangle 11"/>
            <p:cNvSpPr/>
            <p:nvPr/>
          </p:nvSpPr>
          <p:spPr>
            <a:xfrm>
              <a:off x="2916360" y="3429000"/>
              <a:ext cx="1655640" cy="1584360"/>
            </a:xfrm>
            <a:prstGeom prst="rect">
              <a:avLst/>
            </a:prstGeom>
            <a:solidFill>
              <a:srgbClr val="ebd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3134880" y="3991320"/>
              <a:ext cx="1264320" cy="1015920"/>
            </a:xfrm>
            <a:prstGeom prst="rect">
              <a:avLst/>
            </a:prstGeom>
            <a:solidFill>
              <a:srgbClr val="ebd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Manua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4572000" y="2852640"/>
            <a:ext cx="1655640" cy="2160360"/>
            <a:chOff x="4572000" y="2852640"/>
            <a:chExt cx="1655640" cy="2160360"/>
          </a:xfrm>
        </p:grpSpPr>
        <p:sp>
          <p:nvSpPr>
            <p:cNvPr id="108" name="Rectangle 15"/>
            <p:cNvSpPr/>
            <p:nvPr/>
          </p:nvSpPr>
          <p:spPr>
            <a:xfrm>
              <a:off x="4572000" y="2852640"/>
              <a:ext cx="1655640" cy="2160360"/>
            </a:xfrm>
            <a:prstGeom prst="rect">
              <a:avLst/>
            </a:prstGeom>
            <a:solidFill>
              <a:srgbClr val="ebd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4790520" y="3619440"/>
              <a:ext cx="1264320" cy="1015920"/>
            </a:xfrm>
            <a:prstGeom prst="rect">
              <a:avLst/>
            </a:prstGeom>
            <a:solidFill>
              <a:srgbClr val="ebd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Manua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6227640" y="2349360"/>
            <a:ext cx="2232000" cy="2664000"/>
            <a:chOff x="6227640" y="2349360"/>
            <a:chExt cx="2232000" cy="2664000"/>
          </a:xfrm>
        </p:grpSpPr>
        <p:sp>
          <p:nvSpPr>
            <p:cNvPr id="111" name="Rectangle 20"/>
            <p:cNvSpPr/>
            <p:nvPr/>
          </p:nvSpPr>
          <p:spPr>
            <a:xfrm>
              <a:off x="6227640" y="2349360"/>
              <a:ext cx="2232000" cy="266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6567120" y="3418920"/>
              <a:ext cx="1623960" cy="1572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Automat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aul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2"/>
          <p:cNvSpPr/>
          <p:nvPr/>
        </p:nvSpPr>
        <p:spPr>
          <a:xfrm>
            <a:off x="6735960" y="5157720"/>
            <a:ext cx="229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981800" y="54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2916360" y="5445000"/>
            <a:ext cx="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2916360" y="1916280"/>
            <a:ext cx="0" cy="3528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5597640" y="1303200"/>
            <a:ext cx="637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684360" y="1557360"/>
            <a:ext cx="482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7887960" y="1341360"/>
            <a:ext cx="959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</dc:creator>
  <dc:description/>
  <dc:language>en-US</dc:language>
  <cp:lastModifiedBy>MALANGA SALAZAR Isabelle</cp:lastModifiedBy>
  <dcterms:modified xsi:type="dcterms:W3CDTF">2013-05-23T09:57:06Z</dcterms:modified>
  <cp:revision>18</cp:revision>
  <dc:subject>IPC-WG29</dc:subject>
  <dc:title>IPC/WG/29 - IT support for IPC</dc:title>
</cp:coreProperties>
</file>