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7.wmf" ContentType="image/x-wmf"/>
  <Override PartName="/ppt/media/image8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83FE5-5E2F-4F74-BDA4-3B078656E8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B0E3A4-C42B-49FC-81C4-24BEF5D5B0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879E7-C19B-4D81-B18D-5E87D40139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570595-EEF8-445F-8277-19D8F6764A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9B0DD-93B0-448B-A7FD-1EF88B8C46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74225-A9E0-4806-B664-6C7E48A50B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2B4CF-2525-4285-90AC-CB4A6CCDEA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DE5A-1A74-42D7-A811-3B86780948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FC79-3A8D-43FF-828C-B915748516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E24AB-BCE2-4EE0-ADF8-0FA0DFD6DF4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B6F31-AFBE-4E2F-A9CF-70C860D291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925E3-8A49-47CB-8214-6B920F1B1E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image" Target="../media/image2.jpe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09920" y="-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6DA8C-41FD-4130-8A1F-2FCB12B71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wipo.int/ipcreclassification/201301/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eb2.wipo.int/ipc-ief/en/project/1540/CE446" TargetMode="External"/><Relationship Id="rId3" Type="http://schemas.openxmlformats.org/officeDocument/2006/relationships/image" Target="../media/image2.jpeg"/><Relationship Id="rId4" Type="http://schemas.openxmlformats.org/officeDocument/2006/relationships/hyperlink" Target="http://web2.wipo.int/ipc-ief/en/project/1593/CE447" TargetMode="External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hyperlink" Target="http://web2.wipo.int/ipc-ief/en/project/1539/CE445" TargetMode="External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eb2.wipo.int/ipc-ief/en/project/1367/QC013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1218960" y="4183200"/>
            <a:ext cx="6305400" cy="13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Working Group 29 -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Updates on IT support for the IP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6249960" y="5253120"/>
            <a:ext cx="214776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Genev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4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3399ff"/>
                </a:solidFill>
                <a:latin typeface="Arial Black"/>
                <a:ea typeface="ヒラギノ角ゴ Pro W3"/>
              </a:rPr>
              <a:t>14 May, 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914400" y="3809880"/>
            <a:ext cx="380880" cy="3812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7"/>
          <p:cNvSpPr/>
          <p:nvPr/>
        </p:nvSpPr>
        <p:spPr>
          <a:xfrm>
            <a:off x="1230480" y="5805360"/>
            <a:ext cx="69339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atrick Fiév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Head of IT Systems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Monitoring of IPC Reclassification Statistics: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1" name="Rectangle 3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Following CE 45 decisions, IB needs for each project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otal number of families </a:t>
            </a:r>
            <a:r>
              <a:rPr b="1" lang="fr-CH" sz="2400" spc="-1" strike="noStrike" u="sng">
                <a:solidFill>
                  <a:srgbClr val="000000"/>
                </a:solidFill>
                <a:uFillTx/>
                <a:latin typeface="Arial"/>
              </a:rPr>
              <a:t>before</a:t>
            </a: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 automatic re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s Lists from EPO for all IPC ed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2013.01, IPC 2014.01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Evolution of the IPC reclassification speed 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250920" y="1125360"/>
          <a:ext cx="8893080" cy="525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125360"/>
                    <a:ext cx="889308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reclassification since CE 45: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 reclassification data submission improvement still in progr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rease of number of data resubmission for offices who attended IPCRECLASS training ses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reclassification Quality Assurance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Check that your reclassification are actually published under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wipo.int/ipcreclassification/201301/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his indicates that your submissions passed all IPCRECLASS contr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his is the only place from where MCD uploads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Do not ignore error notif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ECLASS perspectives: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0" name="Rectangle 3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New development fo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for stage 3 default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lassification status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xport of statistics for IPC warnings in IPCPU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publication platform (IPCPUB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Upgrade to version 3.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8000"/>
                </a:solidFill>
                <a:latin typeface="Arial"/>
              </a:rPr>
              <a:t>Now in p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implified software package installation (available on dem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2"/>
          <p:cNvGrpSpPr/>
          <p:nvPr/>
        </p:nvGrpSpPr>
        <p:grpSpPr>
          <a:xfrm>
            <a:off x="324000" y="1197000"/>
            <a:ext cx="8172360" cy="5113440"/>
            <a:chOff x="324000" y="1197000"/>
            <a:chExt cx="8172360" cy="5113440"/>
          </a:xfrm>
        </p:grpSpPr>
        <p:sp>
          <p:nvSpPr>
            <p:cNvPr id="134" name="Oval 3"/>
            <p:cNvSpPr/>
            <p:nvPr/>
          </p:nvSpPr>
          <p:spPr>
            <a:xfrm>
              <a:off x="324000" y="1197000"/>
              <a:ext cx="8172360" cy="5113440"/>
            </a:xfrm>
            <a:prstGeom prst="ellipse">
              <a:avLst/>
            </a:prstGeom>
            <a:solidFill>
              <a:srgbClr val="b1e7ed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 Box 4"/>
            <p:cNvSpPr/>
            <p:nvPr/>
          </p:nvSpPr>
          <p:spPr>
            <a:xfrm>
              <a:off x="2920320" y="1413000"/>
              <a:ext cx="209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A6TRA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5"/>
          <p:cNvGrpSpPr/>
          <p:nvPr/>
        </p:nvGrpSpPr>
        <p:grpSpPr>
          <a:xfrm>
            <a:off x="755640" y="2060640"/>
            <a:ext cx="7128000" cy="4105080"/>
            <a:chOff x="755640" y="2060640"/>
            <a:chExt cx="7128000" cy="4105080"/>
          </a:xfrm>
        </p:grpSpPr>
        <p:sp>
          <p:nvSpPr>
            <p:cNvPr id="137" name="Oval 6"/>
            <p:cNvSpPr/>
            <p:nvPr/>
          </p:nvSpPr>
          <p:spPr>
            <a:xfrm>
              <a:off x="755640" y="2060640"/>
              <a:ext cx="7128000" cy="4105080"/>
            </a:xfrm>
            <a:prstGeom prst="ellipse">
              <a:avLst/>
            </a:prstGeom>
            <a:solidFill>
              <a:srgbClr val="99cc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Text Box 7"/>
            <p:cNvSpPr/>
            <p:nvPr/>
          </p:nvSpPr>
          <p:spPr>
            <a:xfrm>
              <a:off x="1420560" y="2852640"/>
              <a:ext cx="1312920" cy="459720"/>
            </a:xfrm>
            <a:prstGeom prst="rect">
              <a:avLst/>
            </a:prstGeom>
            <a:solidFill>
              <a:srgbClr val="e1f80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PU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 Box 8"/>
            <p:cNvSpPr/>
            <p:nvPr/>
          </p:nvSpPr>
          <p:spPr>
            <a:xfrm>
              <a:off x="2853000" y="2314440"/>
              <a:ext cx="2698200" cy="459720"/>
            </a:xfrm>
            <a:prstGeom prst="rect">
              <a:avLst/>
            </a:prstGeom>
            <a:solidFill>
              <a:srgbClr val="e1f8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A6TRANSDE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Text Box 9"/>
            <p:cNvSpPr/>
            <p:nvPr/>
          </p:nvSpPr>
          <p:spPr>
            <a:xfrm>
              <a:off x="5316840" y="2674800"/>
              <a:ext cx="1838880" cy="459720"/>
            </a:xfrm>
            <a:prstGeom prst="rect">
              <a:avLst/>
            </a:prstGeom>
            <a:solidFill>
              <a:srgbClr val="e1f8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Defviewer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" name="Group 10"/>
          <p:cNvGrpSpPr/>
          <p:nvPr/>
        </p:nvGrpSpPr>
        <p:grpSpPr>
          <a:xfrm>
            <a:off x="1403280" y="3036240"/>
            <a:ext cx="5832720" cy="3009600"/>
            <a:chOff x="1403280" y="3036240"/>
            <a:chExt cx="5832720" cy="3009600"/>
          </a:xfrm>
        </p:grpSpPr>
        <p:sp>
          <p:nvSpPr>
            <p:cNvPr id="142" name="Oval 11"/>
            <p:cNvSpPr/>
            <p:nvPr/>
          </p:nvSpPr>
          <p:spPr>
            <a:xfrm>
              <a:off x="1403280" y="3036240"/>
              <a:ext cx="5832720" cy="3009600"/>
            </a:xfrm>
            <a:prstGeom prst="ellipse">
              <a:avLst/>
            </a:prstGeom>
            <a:solidFill>
              <a:srgbClr val="ff99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12"/>
            <p:cNvSpPr/>
            <p:nvPr/>
          </p:nvSpPr>
          <p:spPr>
            <a:xfrm>
              <a:off x="3346920" y="3187800"/>
              <a:ext cx="165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 rend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Target model: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grpSp>
        <p:nvGrpSpPr>
          <p:cNvPr id="145" name="Group 14"/>
          <p:cNvGrpSpPr/>
          <p:nvPr/>
        </p:nvGrpSpPr>
        <p:grpSpPr>
          <a:xfrm>
            <a:off x="2049480" y="3787920"/>
            <a:ext cx="4610160" cy="2089080"/>
            <a:chOff x="2049480" y="3787920"/>
            <a:chExt cx="4610160" cy="2089080"/>
          </a:xfrm>
        </p:grpSpPr>
        <p:sp>
          <p:nvSpPr>
            <p:cNvPr id="146" name="Oval 15"/>
            <p:cNvSpPr/>
            <p:nvPr/>
          </p:nvSpPr>
          <p:spPr>
            <a:xfrm>
              <a:off x="2049480" y="3787920"/>
              <a:ext cx="4610160" cy="2089080"/>
            </a:xfrm>
            <a:prstGeom prst="ellipse">
              <a:avLst/>
            </a:prstGeom>
            <a:solidFill>
              <a:srgbClr val="f4c4aa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 Box 16"/>
            <p:cNvSpPr/>
            <p:nvPr/>
          </p:nvSpPr>
          <p:spPr>
            <a:xfrm>
              <a:off x="2918880" y="4051440"/>
              <a:ext cx="3093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 XML split/un-spli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17"/>
          <p:cNvGrpSpPr/>
          <p:nvPr/>
        </p:nvGrpSpPr>
        <p:grpSpPr>
          <a:xfrm>
            <a:off x="2627280" y="4910040"/>
            <a:ext cx="3382920" cy="636840"/>
            <a:chOff x="2627280" y="4910040"/>
            <a:chExt cx="3382920" cy="636840"/>
          </a:xfrm>
        </p:grpSpPr>
        <p:sp>
          <p:nvSpPr>
            <p:cNvPr id="149" name="Oval 18"/>
            <p:cNvSpPr/>
            <p:nvPr/>
          </p:nvSpPr>
          <p:spPr>
            <a:xfrm>
              <a:off x="2627280" y="4910040"/>
              <a:ext cx="3382920" cy="63684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19"/>
            <p:cNvSpPr/>
            <p:nvPr/>
          </p:nvSpPr>
          <p:spPr>
            <a:xfrm>
              <a:off x="3350880" y="4916520"/>
              <a:ext cx="233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IPC common li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publication platform (IPCPUB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ore search feature under considerati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ildcard, fuzzy or proximity search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ange querie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term boosting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boolean operators and group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escaping special charac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publication platform (IPCPUB)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Perspectiv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 warnings: Automated production for incomplete re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Patentscope statitistic based 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FIPCPC project: Parallel viewer for IPC, FI, C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CAT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at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training based on IPC 2012.01 reclassified  documents (DOCDB XML): </a:t>
            </a:r>
            <a:r>
              <a:rPr b="0" lang="fr-CH" sz="2400" spc="-1" strike="noStrike">
                <a:solidFill>
                  <a:srgbClr val="008000"/>
                </a:solidFill>
                <a:latin typeface="Arial"/>
              </a:rPr>
              <a:t>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Agenda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Updates on IPC-related IT suppo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RECLA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PUB Internet pub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-Efor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RM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E-forum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Evolutions ready for deploy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Headers in PDF version of annexes (project number+ annex numb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ctive bookmarks in the PDF CON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Stop undesirable email notifications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hanges of action pl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408c"/>
                </a:solidFill>
                <a:latin typeface="Arial"/>
              </a:rPr>
              <a:t>IPC E-forum Evolution ready for deployment</a:t>
            </a:r>
            <a:endParaRPr b="0" lang="en-US" sz="32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160" name="Picture 7" descr=""/>
          <p:cNvPicPr/>
          <p:nvPr/>
        </p:nvPicPr>
        <p:blipFill>
          <a:blip r:embed="rId1"/>
          <a:stretch/>
        </p:blipFill>
        <p:spPr>
          <a:xfrm>
            <a:off x="179280" y="2168640"/>
            <a:ext cx="8785440" cy="3781440"/>
          </a:xfrm>
          <a:prstGeom prst="rect">
            <a:avLst/>
          </a:prstGeom>
          <a:ln w="0">
            <a:noFill/>
          </a:ln>
        </p:spPr>
      </p:pic>
      <p:grpSp>
        <p:nvGrpSpPr>
          <p:cNvPr id="161" name="Group 10"/>
          <p:cNvGrpSpPr/>
          <p:nvPr/>
        </p:nvGrpSpPr>
        <p:grpSpPr>
          <a:xfrm>
            <a:off x="179280" y="3571920"/>
            <a:ext cx="8785440" cy="1441440"/>
            <a:chOff x="179280" y="3571920"/>
            <a:chExt cx="8785440" cy="1441440"/>
          </a:xfrm>
        </p:grpSpPr>
        <p:sp>
          <p:nvSpPr>
            <p:cNvPr id="162" name="Line 8"/>
            <p:cNvSpPr/>
            <p:nvPr/>
          </p:nvSpPr>
          <p:spPr>
            <a:xfrm>
              <a:off x="179280" y="3571920"/>
              <a:ext cx="8713800" cy="144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9"/>
            <p:cNvSpPr/>
            <p:nvPr/>
          </p:nvSpPr>
          <p:spPr>
            <a:xfrm flipV="1">
              <a:off x="179280" y="3571920"/>
              <a:ext cx="8785440" cy="144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Rectangle 11"/>
          <p:cNvSpPr/>
          <p:nvPr/>
        </p:nvSpPr>
        <p:spPr>
          <a:xfrm>
            <a:off x="385920" y="1244520"/>
            <a:ext cx="75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ff"/>
                </a:solidFill>
                <a:latin typeface="Arial"/>
              </a:rPr>
              <a:t>Removal of undesired email notifications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宋体"/>
              </a:rPr>
              <a:t>changes of action pl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RM project statu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6960"/>
            <a:ext cx="8229600" cy="435312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Future solution for IPC Revision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Project kick-off: May 6,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 level 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irely out-sourced, more than just re-do of RIPC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 analysis, RFP, contracts setup: Q2 2013-Q1-20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urement of the solution : Q2 2014 - Q1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ition from RIPCIS + support setup: Q1-Q2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Targeted production use: </a:t>
            </a:r>
            <a:r>
              <a:rPr b="1" lang="en-US" sz="2000" spc="-1" strike="noStrike">
                <a:solidFill>
                  <a:srgbClr val="008000"/>
                </a:solidFill>
                <a:latin typeface="Arial"/>
              </a:rPr>
              <a:t>early publication of IPC 2016.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Feedback for improvements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Projects dedicated to this purpos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RECLASS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CE44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PUB Internet publication: </a:t>
            </a:r>
            <a:r>
              <a:rPr b="0" lang="fr-CH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CE4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C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-Eforum: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CE4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RM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Update on IT support for the IPC</a:t>
            </a:r>
            <a:endParaRPr b="0" lang="en-US" sz="39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684360" y="4916520"/>
            <a:ext cx="81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act WIPO at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laims@wipo.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RECLASS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Monitoring IPC reclassification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ious statistics (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roject QC0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Archived Working Lists (before IPCRECL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IPCRECLASS database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408c"/>
                </a:solidFill>
                <a:latin typeface="Arial"/>
              </a:rPr>
              <a:t>2008-2013 </a:t>
            </a:r>
            <a:r>
              <a:rPr b="1" lang="en-US" sz="24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IPC reclassification </a:t>
            </a:r>
            <a:r>
              <a:rPr b="1" lang="en-US" sz="2400" spc="-1" strike="noStrike">
                <a:solidFill>
                  <a:srgbClr val="00408c"/>
                </a:solidFill>
                <a:latin typeface="Arial"/>
              </a:rPr>
              <a:t>: backlog evolution</a:t>
            </a:r>
            <a:endParaRPr b="0" lang="en-US" sz="2400" spc="-1" strike="noStrike">
              <a:solidFill>
                <a:srgbClr val="00408c"/>
              </a:solidFill>
              <a:latin typeface="Arial"/>
            </a:endParaRPr>
          </a:p>
        </p:txBody>
      </p:sp>
      <p:graphicFrame>
        <p:nvGraphicFramePr>
          <p:cNvPr id="86" name="Object 7"/>
          <p:cNvGraphicFramePr/>
          <p:nvPr/>
        </p:nvGraphicFramePr>
        <p:xfrm>
          <a:off x="539640" y="1587600"/>
          <a:ext cx="7848720" cy="4937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7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87600"/>
                    <a:ext cx="7848720" cy="493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c"/>
                </a:solidFill>
                <a:latin typeface="Arial"/>
              </a:rPr>
              <a:t>IPC reclassification status: IPC 2012.01</a:t>
            </a:r>
            <a:endParaRPr b="0" lang="en-US" sz="28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89" name="Picture 5" descr="2012"/>
          <p:cNvPicPr/>
          <p:nvPr/>
        </p:nvPicPr>
        <p:blipFill>
          <a:blip r:embed="rId1"/>
          <a:stretch/>
        </p:blipFill>
        <p:spPr>
          <a:xfrm>
            <a:off x="611280" y="1274760"/>
            <a:ext cx="640872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408c"/>
                </a:solidFill>
                <a:latin typeface="Arial"/>
              </a:rPr>
              <a:t>IPC reclassification status: IPC 2013.01</a:t>
            </a:r>
            <a:endParaRPr b="0" lang="en-US" sz="2800" spc="-1" strike="noStrike">
              <a:solidFill>
                <a:srgbClr val="00408c"/>
              </a:solidFill>
              <a:latin typeface="Arial"/>
            </a:endParaRPr>
          </a:p>
        </p:txBody>
      </p:sp>
      <p:pic>
        <p:nvPicPr>
          <p:cNvPr id="91" name="Picture 4" descr="2013"/>
          <p:cNvPicPr/>
          <p:nvPr/>
        </p:nvPicPr>
        <p:blipFill>
          <a:blip r:embed="rId1"/>
          <a:stretch/>
        </p:blipFill>
        <p:spPr>
          <a:xfrm>
            <a:off x="611280" y="1209600"/>
            <a:ext cx="6481800" cy="54007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reclassification since CE 45: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graphicFrame>
        <p:nvGraphicFramePr>
          <p:cNvPr id="93" name="Object 11"/>
          <p:cNvGraphicFramePr/>
          <p:nvPr/>
        </p:nvGraphicFramePr>
        <p:xfrm>
          <a:off x="395280" y="1241280"/>
          <a:ext cx="8675640" cy="543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241280"/>
                    <a:ext cx="867564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reclassification since CE 45: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673200" y="1989000"/>
            <a:ext cx="82296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408c"/>
                </a:solidFill>
                <a:latin typeface="Arial"/>
                <a:ea typeface="ヒラギノ角ゴ Pro W3"/>
              </a:rPr>
              <a:t>Observation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Backlog of reclassification today: </a:t>
            </a:r>
            <a:r>
              <a:rPr b="0" lang="fr-CH" sz="2400" spc="-1" strike="noStrike">
                <a:solidFill>
                  <a:srgbClr val="ff0000"/>
                </a:solidFill>
                <a:latin typeface="Arial"/>
              </a:rPr>
              <a:t>1,2 Million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 on the 2009-2012 part of the backlog (100,000 families reclassified per mon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Little activity on IPC 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PC reclassification data submission improvement in progress in big off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08c"/>
                </a:solidFill>
                <a:latin typeface="Arial"/>
              </a:rPr>
              <a:t>IPC Reclassification completion:</a:t>
            </a:r>
            <a:endParaRPr b="0" lang="en-US" sz="3600" spc="-1" strike="noStrike">
              <a:solidFill>
                <a:srgbClr val="00408c"/>
              </a:solidFill>
              <a:latin typeface="Arial"/>
            </a:endParaRPr>
          </a:p>
        </p:txBody>
      </p:sp>
      <p:sp>
        <p:nvSpPr>
          <p:cNvPr id="98" name="Line 4"/>
          <p:cNvSpPr/>
          <p:nvPr/>
        </p:nvSpPr>
        <p:spPr>
          <a:xfrm>
            <a:off x="684360" y="1197000"/>
            <a:ext cx="0" cy="38163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5"/>
          <p:cNvSpPr/>
          <p:nvPr/>
        </p:nvSpPr>
        <p:spPr>
          <a:xfrm>
            <a:off x="684360" y="5013360"/>
            <a:ext cx="7848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8459640" y="1557360"/>
            <a:ext cx="0" cy="374328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18"/>
          <p:cNvGrpSpPr/>
          <p:nvPr/>
        </p:nvGrpSpPr>
        <p:grpSpPr>
          <a:xfrm>
            <a:off x="684360" y="1917720"/>
            <a:ext cx="2232000" cy="3095640"/>
            <a:chOff x="684360" y="1917720"/>
            <a:chExt cx="2232000" cy="3095640"/>
          </a:xfrm>
        </p:grpSpPr>
        <p:sp>
          <p:nvSpPr>
            <p:cNvPr id="102" name="Rectangle 9"/>
            <p:cNvSpPr/>
            <p:nvPr/>
          </p:nvSpPr>
          <p:spPr>
            <a:xfrm>
              <a:off x="684360" y="1917720"/>
              <a:ext cx="2232000" cy="3095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0"/>
            <p:cNvSpPr/>
            <p:nvPr/>
          </p:nvSpPr>
          <p:spPr>
            <a:xfrm>
              <a:off x="1028160" y="3160800"/>
              <a:ext cx="1788480" cy="15721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Automatic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Family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propag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13"/>
          <p:cNvGrpSpPr/>
          <p:nvPr/>
        </p:nvGrpSpPr>
        <p:grpSpPr>
          <a:xfrm>
            <a:off x="2916360" y="3429000"/>
            <a:ext cx="1655640" cy="1584360"/>
            <a:chOff x="2916360" y="3429000"/>
            <a:chExt cx="1655640" cy="1584360"/>
          </a:xfrm>
        </p:grpSpPr>
        <p:sp>
          <p:nvSpPr>
            <p:cNvPr id="105" name="Rectangle 11"/>
            <p:cNvSpPr/>
            <p:nvPr/>
          </p:nvSpPr>
          <p:spPr>
            <a:xfrm>
              <a:off x="2916360" y="3429000"/>
              <a:ext cx="1655640" cy="1584360"/>
            </a:xfrm>
            <a:prstGeom prst="rect">
              <a:avLst/>
            </a:prstGeom>
            <a:solidFill>
              <a:srgbClr val="ebd0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2"/>
            <p:cNvSpPr/>
            <p:nvPr/>
          </p:nvSpPr>
          <p:spPr>
            <a:xfrm>
              <a:off x="3134880" y="3991320"/>
              <a:ext cx="1264320" cy="1015920"/>
            </a:xfrm>
            <a:prstGeom prst="rect">
              <a:avLst/>
            </a:prstGeom>
            <a:solidFill>
              <a:srgbClr val="ebd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Manual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Stage 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14"/>
          <p:cNvGrpSpPr/>
          <p:nvPr/>
        </p:nvGrpSpPr>
        <p:grpSpPr>
          <a:xfrm>
            <a:off x="4572000" y="2852640"/>
            <a:ext cx="1655640" cy="2160360"/>
            <a:chOff x="4572000" y="2852640"/>
            <a:chExt cx="1655640" cy="2160360"/>
          </a:xfrm>
        </p:grpSpPr>
        <p:sp>
          <p:nvSpPr>
            <p:cNvPr id="108" name="Rectangle 15"/>
            <p:cNvSpPr/>
            <p:nvPr/>
          </p:nvSpPr>
          <p:spPr>
            <a:xfrm>
              <a:off x="4572000" y="2852640"/>
              <a:ext cx="1655640" cy="2160360"/>
            </a:xfrm>
            <a:prstGeom prst="rect">
              <a:avLst/>
            </a:prstGeom>
            <a:solidFill>
              <a:srgbClr val="ebd0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 Box 16"/>
            <p:cNvSpPr/>
            <p:nvPr/>
          </p:nvSpPr>
          <p:spPr>
            <a:xfrm>
              <a:off x="4790520" y="3619440"/>
              <a:ext cx="1264320" cy="1015920"/>
            </a:xfrm>
            <a:prstGeom prst="rect">
              <a:avLst/>
            </a:prstGeom>
            <a:solidFill>
              <a:srgbClr val="ebd0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Manual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Stage 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19"/>
          <p:cNvGrpSpPr/>
          <p:nvPr/>
        </p:nvGrpSpPr>
        <p:grpSpPr>
          <a:xfrm>
            <a:off x="6227640" y="2349360"/>
            <a:ext cx="2232000" cy="2664000"/>
            <a:chOff x="6227640" y="2349360"/>
            <a:chExt cx="2232000" cy="2664000"/>
          </a:xfrm>
        </p:grpSpPr>
        <p:sp>
          <p:nvSpPr>
            <p:cNvPr id="111" name="Rectangle 20"/>
            <p:cNvSpPr/>
            <p:nvPr/>
          </p:nvSpPr>
          <p:spPr>
            <a:xfrm>
              <a:off x="6227640" y="2349360"/>
              <a:ext cx="2232000" cy="2664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 Box 21"/>
            <p:cNvSpPr/>
            <p:nvPr/>
          </p:nvSpPr>
          <p:spPr>
            <a:xfrm>
              <a:off x="6567120" y="3418920"/>
              <a:ext cx="1623960" cy="157212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Automatic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Default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CH" sz="2400" spc="-1" strike="noStrike">
                  <a:solidFill>
                    <a:srgbClr val="000000"/>
                  </a:solidFill>
                  <a:latin typeface="Arial"/>
                </a:rPr>
                <a:t>Transf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 Box 22"/>
          <p:cNvSpPr/>
          <p:nvPr/>
        </p:nvSpPr>
        <p:spPr>
          <a:xfrm>
            <a:off x="6735960" y="5157720"/>
            <a:ext cx="2294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Reclass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981800" y="5445000"/>
            <a:ext cx="18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Arial"/>
              </a:rPr>
              <a:t>WL cre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24"/>
          <p:cNvSpPr/>
          <p:nvPr/>
        </p:nvSpPr>
        <p:spPr>
          <a:xfrm>
            <a:off x="2916360" y="5445000"/>
            <a:ext cx="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26"/>
          <p:cNvSpPr/>
          <p:nvPr/>
        </p:nvSpPr>
        <p:spPr>
          <a:xfrm>
            <a:off x="2916360" y="1916280"/>
            <a:ext cx="0" cy="352872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7"/>
          <p:cNvSpPr/>
          <p:nvPr/>
        </p:nvSpPr>
        <p:spPr>
          <a:xfrm>
            <a:off x="5597640" y="1303200"/>
            <a:ext cx="63792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ff0000"/>
                </a:solidFill>
                <a:latin typeface="Arial"/>
              </a:rPr>
              <a:t>%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8"/>
          <p:cNvSpPr/>
          <p:nvPr/>
        </p:nvSpPr>
        <p:spPr>
          <a:xfrm>
            <a:off x="684360" y="1557360"/>
            <a:ext cx="482436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9"/>
          <p:cNvSpPr/>
          <p:nvPr/>
        </p:nvSpPr>
        <p:spPr>
          <a:xfrm>
            <a:off x="7887960" y="1341360"/>
            <a:ext cx="9594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4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5T10:11:44Z</dcterms:created>
  <dc:creator>Fiévet</dc:creator>
  <dc:description/>
  <dc:language>en-US</dc:language>
  <cp:lastModifiedBy>MALANGA SALAZAR Isabelle</cp:lastModifiedBy>
  <dcterms:modified xsi:type="dcterms:W3CDTF">2013-05-23T09:57:06Z</dcterms:modified>
  <cp:revision>18</cp:revision>
  <dc:subject>IPC-WG29</dc:subject>
  <dc:title>IPC/WG/29 - IT support for IPC</dc:title>
</cp:coreProperties>
</file>