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709200" y="744120"/>
            <a:ext cx="538812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6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E98365-03AA-406B-9062-40C713F029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BFD8E7-01C2-4574-92D2-7F7F0133DA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3E63A8-3272-4B7C-8BFF-EB6504C784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AB7BB0-ECF0-479F-B3ED-84355AD058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086664-42ED-44A7-87B2-4DA85B0437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AD967D-3D52-41CA-BFDC-9988D78A21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382FAF-4754-4685-AF77-6E62A0E0FB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84AAFF-2A61-4B8C-B14E-A36468687C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233406-87E2-4BD4-889A-4DD1674F4B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6FD586-AFC6-4C8C-9501-7AC15E978A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66FF97-B076-4B66-8254-31FA9CC3BB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AABA47-B91A-45AA-BD83-8624B021EC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738D26-0E7A-4A29-A8F5-147B856FBF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06B204-F8CA-40C1-81FF-06C291FA25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8509E4-2760-46EB-811A-6B9DFF46B1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1E925AC-5CC3-455E-A55F-5783BC5D79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6360838-2A84-417E-B857-0964B77073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514B26-5275-49AF-9CC1-7C06F72678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40369C-97D6-4B09-B1BB-5C6797DD5B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BDE015-99BE-4AF2-950D-89CCD2BA43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D40D54-747B-4768-BB9F-16DF18DA34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D048-C110-41FA-866F-9625207E7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DC0F-3E3C-43A2-8CBF-CEB663CD1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1701-B56B-4181-AA03-1439D6B46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2713-68F9-405D-A695-D279DA6B5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0160" y="115920"/>
            <a:ext cx="820872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056A-CE40-4736-AC0E-725E7D7A5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CF7B-79B2-47C1-8C0F-154C3173AD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BDF2-4F11-4A75-860F-5C12F679B6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02B9-4821-4AA2-A6B9-F9C3D2C740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838C6-2440-4033-A624-C966FFF96F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35D3-F0EE-4C88-B88D-FF345F560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266B-770B-4877-8E5C-14AA2B4072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00160" y="115920"/>
            <a:ext cx="820872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5E6F-1A09-4824-B588-459DDB9703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AED9-9F07-4FAE-A28A-F9EF99AAAA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7E79-4D0D-4CBE-8B00-96EF47E219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2EB82-BB0D-4B61-8A6C-D134005B49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0CD1-979D-4DC8-9C1C-27EF3D99E6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ED31-7F02-4A84-8803-501C1D1023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06E43-D1CC-41A1-845B-26A9C28755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CA3-D303-4DC0-B7BA-68339B5354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4BB-5174-4BDC-B9E4-65159312BA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CA4-5386-47D1-8733-5CD38B652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8D58-524C-44C1-A9ED-E51913D069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8E4-150C-4AEF-A3A9-4569464083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60B-EAAD-4BB8-8D8B-D030639DE3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00160" y="115920"/>
            <a:ext cx="820872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BF8-143A-4D1C-9C06-316D274E7D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9C1-1C36-4544-BE5D-900A3E349C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DA5D-837C-47EC-8DC5-40F9479AAA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8EF-F0E4-4295-A6EB-82DC79DB76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D62-6DA8-437F-8680-A7DF7EB5DD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220-6427-4FD2-ACEB-00EFDBE96F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742C-69E6-4020-BB7E-51BC5186646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E31E8-3C30-402D-9DBF-8B58F7046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7D59-44CF-4790-A2E9-75540F51C8A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A8D60-CC91-4C4E-A1F5-917D1F905C0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83FF7-8D0B-487E-88FC-AB3F44EC268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1513D-6D0D-4C34-A72A-3FE0B7684A8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3B8E4-260B-494B-AE59-A9D4A1CA18C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00160" y="115920"/>
            <a:ext cx="820872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DBC0C-8598-4D0A-ACD1-21BD6E433BB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5BFA7-CE4C-4EBD-A0B1-4D3857CFD26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C01F3-1E60-4B2C-A8EC-BAEB0F52F0A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221F4-AB38-4912-95DC-4D82D00F82F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07C2C-5BD9-4BA9-A67E-1BF3A6BF888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62948-18A5-49DE-8A00-41A7BBE4C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00160" y="115920"/>
            <a:ext cx="820872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AD55-652A-4F8B-B2A5-E59B8BD753E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F7F65-59E9-4A1E-AE3B-E79EEC221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04A2-CE78-4D4E-B037-21133848A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9844-3F71-4A8C-8041-EA8F73C44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F4CC-3D08-4F9F-B734-30E4DE2AE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8408880" y="38160"/>
            <a:ext cx="1440000" cy="53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610040" y="65527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CE2F-D1FF-4A3F-B5CD-DB89C4E394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AutoShape 6"/>
          <p:cNvSpPr/>
          <p:nvPr/>
        </p:nvSpPr>
        <p:spPr>
          <a:xfrm flipV="1">
            <a:off x="200160" y="548280"/>
            <a:ext cx="964872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5"/>
          <p:cNvSpPr/>
          <p:nvPr/>
        </p:nvSpPr>
        <p:spPr>
          <a:xfrm flipV="1" rot="5400000">
            <a:off x="6067440" y="3392640"/>
            <a:ext cx="6626160" cy="7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AutoShape 4"/>
          <p:cNvSpPr/>
          <p:nvPr/>
        </p:nvSpPr>
        <p:spPr>
          <a:xfrm flipV="1">
            <a:off x="198360" y="6237360"/>
            <a:ext cx="9650520" cy="6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AutoShape 6"/>
          <p:cNvSpPr/>
          <p:nvPr/>
        </p:nvSpPr>
        <p:spPr>
          <a:xfrm flipV="1">
            <a:off x="128520" y="549000"/>
            <a:ext cx="957744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AutoShape 7"/>
          <p:cNvSpPr/>
          <p:nvPr/>
        </p:nvSpPr>
        <p:spPr>
          <a:xfrm flipV="1" rot="5400000">
            <a:off x="-2755800" y="3467520"/>
            <a:ext cx="6705720" cy="7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79214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45" name="Picture 15" descr=""/>
          <p:cNvPicPr/>
          <p:nvPr/>
        </p:nvPicPr>
        <p:blipFill>
          <a:blip r:embed="rId2"/>
          <a:stretch/>
        </p:blipFill>
        <p:spPr>
          <a:xfrm>
            <a:off x="8408880" y="47520"/>
            <a:ext cx="1440000" cy="530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6"/>
          <p:cNvSpPr/>
          <p:nvPr/>
        </p:nvSpPr>
        <p:spPr>
          <a:xfrm>
            <a:off x="9161640" y="30240"/>
            <a:ext cx="687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 Unicode MS"/>
              </a:rPr>
              <a:t>【</a:t>
            </a:r>
            <a:r>
              <a:rPr b="0" lang="ja-JP" sz="900" spc="-1" strike="noStrike">
                <a:solidFill>
                  <a:srgbClr val="808080"/>
                </a:solidFill>
                <a:latin typeface="Arial Unicode MS"/>
              </a:rPr>
              <a:t>機密性２</a:t>
            </a:r>
            <a:r>
              <a:rPr b="0" lang="en-US" sz="900" spc="-1" strike="noStrike">
                <a:solidFill>
                  <a:srgbClr val="808080"/>
                </a:solidFill>
                <a:latin typeface="Arial Unicode MS"/>
              </a:rPr>
              <a:t>】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5"/>
          <p:cNvSpPr/>
          <p:nvPr/>
        </p:nvSpPr>
        <p:spPr>
          <a:xfrm flipV="1" rot="5400000">
            <a:off x="6067440" y="3392640"/>
            <a:ext cx="6626160" cy="7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AutoShape 4"/>
          <p:cNvSpPr/>
          <p:nvPr/>
        </p:nvSpPr>
        <p:spPr>
          <a:xfrm flipV="1">
            <a:off x="198360" y="6237360"/>
            <a:ext cx="9650520" cy="6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AutoShape 6"/>
          <p:cNvSpPr/>
          <p:nvPr/>
        </p:nvSpPr>
        <p:spPr>
          <a:xfrm flipV="1">
            <a:off x="128520" y="549000"/>
            <a:ext cx="957744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AutoShape 7"/>
          <p:cNvSpPr/>
          <p:nvPr/>
        </p:nvSpPr>
        <p:spPr>
          <a:xfrm flipV="1" rot="5400000">
            <a:off x="-2755800" y="3467520"/>
            <a:ext cx="6705720" cy="7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7" name="Picture 15" descr=""/>
          <p:cNvPicPr/>
          <p:nvPr/>
        </p:nvPicPr>
        <p:blipFill>
          <a:blip r:embed="rId2"/>
          <a:stretch/>
        </p:blipFill>
        <p:spPr>
          <a:xfrm>
            <a:off x="8408880" y="47520"/>
            <a:ext cx="1440000" cy="530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6"/>
          <p:cNvSpPr/>
          <p:nvPr/>
        </p:nvSpPr>
        <p:spPr>
          <a:xfrm>
            <a:off x="9161640" y="30240"/>
            <a:ext cx="687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 Unicode MS"/>
              </a:rPr>
              <a:t>【</a:t>
            </a:r>
            <a:r>
              <a:rPr b="0" lang="ja-JP" sz="900" spc="-1" strike="noStrike">
                <a:solidFill>
                  <a:srgbClr val="808080"/>
                </a:solidFill>
                <a:latin typeface="Arial Unicode MS"/>
              </a:rPr>
              <a:t>機密性２</a:t>
            </a:r>
            <a:r>
              <a:rPr b="0" lang="en-US" sz="900" spc="-1" strike="noStrike">
                <a:solidFill>
                  <a:srgbClr val="808080"/>
                </a:solidFill>
                <a:latin typeface="Arial Unicode MS"/>
              </a:rPr>
              <a:t>】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79214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2"/>
          </p:nvPr>
        </p:nvSpPr>
        <p:spPr>
          <a:xfrm>
            <a:off x="7610040" y="65527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C948-4B5D-43C7-BC9A-80E54D5D5D86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5"/>
          <p:cNvSpPr/>
          <p:nvPr/>
        </p:nvSpPr>
        <p:spPr>
          <a:xfrm flipV="1" rot="5400000">
            <a:off x="6067440" y="3392640"/>
            <a:ext cx="6626160" cy="7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AutoShape 4"/>
          <p:cNvSpPr/>
          <p:nvPr/>
        </p:nvSpPr>
        <p:spPr>
          <a:xfrm flipV="1">
            <a:off x="198360" y="6237360"/>
            <a:ext cx="9650520" cy="6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AutoShape 6"/>
          <p:cNvSpPr/>
          <p:nvPr/>
        </p:nvSpPr>
        <p:spPr>
          <a:xfrm flipV="1">
            <a:off x="128520" y="549000"/>
            <a:ext cx="957744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AutoShape 7"/>
          <p:cNvSpPr/>
          <p:nvPr/>
        </p:nvSpPr>
        <p:spPr>
          <a:xfrm flipV="1" rot="5400000">
            <a:off x="-2755800" y="3467520"/>
            <a:ext cx="6705720" cy="7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1" name="Picture 15" descr=""/>
          <p:cNvPicPr/>
          <p:nvPr/>
        </p:nvPicPr>
        <p:blipFill>
          <a:blip r:embed="rId2"/>
          <a:stretch/>
        </p:blipFill>
        <p:spPr>
          <a:xfrm>
            <a:off x="8408880" y="47520"/>
            <a:ext cx="1440000" cy="53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6"/>
          <p:cNvSpPr/>
          <p:nvPr/>
        </p:nvSpPr>
        <p:spPr>
          <a:xfrm>
            <a:off x="9161640" y="30240"/>
            <a:ext cx="687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 Unicode MS"/>
              </a:rPr>
              <a:t>【</a:t>
            </a:r>
            <a:r>
              <a:rPr b="0" lang="ja-JP" sz="900" spc="-1" strike="noStrike">
                <a:solidFill>
                  <a:srgbClr val="808080"/>
                </a:solidFill>
                <a:latin typeface="Arial Unicode MS"/>
              </a:rPr>
              <a:t>機密性２</a:t>
            </a:r>
            <a:r>
              <a:rPr b="0" lang="en-US" sz="900" spc="-1" strike="noStrike">
                <a:solidFill>
                  <a:srgbClr val="808080"/>
                </a:solidFill>
                <a:latin typeface="Arial Unicode MS"/>
              </a:rPr>
              <a:t>】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79214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Num" idx="3"/>
          </p:nvPr>
        </p:nvSpPr>
        <p:spPr>
          <a:xfrm>
            <a:off x="7610040" y="65527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7E25-1C1A-4D77-A5F6-D2DF58DD9CE5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5"/>
          <p:cNvSpPr/>
          <p:nvPr/>
        </p:nvSpPr>
        <p:spPr>
          <a:xfrm flipV="1" rot="5400000">
            <a:off x="6067440" y="3392640"/>
            <a:ext cx="6626160" cy="7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AutoShape 4"/>
          <p:cNvSpPr/>
          <p:nvPr/>
        </p:nvSpPr>
        <p:spPr>
          <a:xfrm flipV="1">
            <a:off x="198360" y="6237360"/>
            <a:ext cx="9650520" cy="6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AutoShape 6"/>
          <p:cNvSpPr/>
          <p:nvPr/>
        </p:nvSpPr>
        <p:spPr>
          <a:xfrm flipV="1">
            <a:off x="128520" y="549000"/>
            <a:ext cx="957744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AutoShape 7"/>
          <p:cNvSpPr/>
          <p:nvPr/>
        </p:nvSpPr>
        <p:spPr>
          <a:xfrm flipV="1" rot="5400000">
            <a:off x="-2755800" y="3467520"/>
            <a:ext cx="6705720" cy="7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8408880" y="47520"/>
            <a:ext cx="1440000" cy="5302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6"/>
          <p:cNvSpPr/>
          <p:nvPr/>
        </p:nvSpPr>
        <p:spPr>
          <a:xfrm>
            <a:off x="9161640" y="30240"/>
            <a:ext cx="687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 Unicode MS"/>
              </a:rPr>
              <a:t>【</a:t>
            </a:r>
            <a:r>
              <a:rPr b="0" lang="ja-JP" sz="900" spc="-1" strike="noStrike">
                <a:solidFill>
                  <a:srgbClr val="808080"/>
                </a:solidFill>
                <a:latin typeface="Arial Unicode MS"/>
              </a:rPr>
              <a:t>機密性２</a:t>
            </a:r>
            <a:r>
              <a:rPr b="0" lang="en-US" sz="900" spc="-1" strike="noStrike">
                <a:solidFill>
                  <a:srgbClr val="808080"/>
                </a:solidFill>
                <a:latin typeface="Arial Unicode MS"/>
              </a:rPr>
              <a:t>】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79214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Num" idx="4"/>
          </p:nvPr>
        </p:nvSpPr>
        <p:spPr>
          <a:xfrm>
            <a:off x="7610040" y="65527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FB75-CA16-4729-B140-14EC5E918629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2680" y="2211120"/>
            <a:ext cx="8420040" cy="18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Arial"/>
              </a:rPr>
              <a:t>FI/F-term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668680" y="4312800"/>
            <a:ext cx="4535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February 2017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JAPAN PATENT OFFICE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0F51-414D-4E66-9B0D-8AC6B2A805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スライド番号プレースホルダ 3"/>
          <p:cNvSpPr/>
          <p:nvPr/>
        </p:nvSpPr>
        <p:spPr>
          <a:xfrm>
            <a:off x="761040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E370-5201-48CD-B373-0E6DA106B4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631800" y="765000"/>
            <a:ext cx="8642520" cy="48276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377" name="AutoShape 3"/>
          <p:cNvSpPr/>
          <p:nvPr/>
        </p:nvSpPr>
        <p:spPr>
          <a:xfrm>
            <a:off x="1782720" y="5300640"/>
            <a:ext cx="6340680" cy="1297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ont page of public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3600360" y="2550960"/>
            <a:ext cx="2897280" cy="27496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ile Index (FI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0" name="Oval 4"/>
          <p:cNvSpPr/>
          <p:nvPr/>
        </p:nvSpPr>
        <p:spPr>
          <a:xfrm>
            <a:off x="6759720" y="2681280"/>
            <a:ext cx="1701720" cy="1614600"/>
          </a:xfrm>
          <a:prstGeom prst="ellipse">
            <a:avLst/>
          </a:prstGeom>
          <a:noFill/>
          <a:ln w="38160">
            <a:solidFill>
              <a:srgbClr val="3333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1" name="正方形/長方形 1"/>
          <p:cNvSpPr/>
          <p:nvPr/>
        </p:nvSpPr>
        <p:spPr>
          <a:xfrm>
            <a:off x="7803720" y="424980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Unicode MS"/>
                <a:ea typeface="Arial"/>
              </a:rPr>
              <a:t>“</a:t>
            </a:r>
            <a:r>
              <a:rPr b="0" lang="en-US" sz="2800" spc="-1" strike="noStrike">
                <a:solidFill>
                  <a:srgbClr val="3333ff"/>
                </a:solidFill>
                <a:latin typeface="Arial Unicode MS"/>
                <a:ea typeface="Arial"/>
              </a:rPr>
              <a:t>theme”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2" name="円/楕円 2"/>
          <p:cNvSpPr/>
          <p:nvPr/>
        </p:nvSpPr>
        <p:spPr>
          <a:xfrm>
            <a:off x="5433840" y="3605040"/>
            <a:ext cx="914400" cy="351000"/>
          </a:xfrm>
          <a:prstGeom prst="ellipse">
            <a:avLst/>
          </a:prstGeom>
          <a:noFill/>
          <a:ln w="255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61680" y="1197000"/>
            <a:ext cx="84200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of FI/F-term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English Information on classificat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GS and IPC-FI-CPC scheme parallel viewer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ion and Reclassification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 of FI/F-term revis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ing FI scheme according to the latest version of IPC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C1A1-E5E4-4840-A712-53E6992FE3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9" descr="I:\特許分類企画班\１０．国際会議\IP5WGonC\第13回20151019USPTO\03_対処方針・作業文書\FIプレゼンのデータ更新用\コンテンツ\websiteonclassification.jpg"/>
          <p:cNvPicPr/>
          <p:nvPr/>
        </p:nvPicPr>
        <p:blipFill>
          <a:blip r:embed="rId1"/>
          <a:stretch/>
        </p:blipFill>
        <p:spPr>
          <a:xfrm>
            <a:off x="477720" y="646200"/>
            <a:ext cx="8043840" cy="5715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JPO website on Classification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F0AB-E840-4C4B-9E9A-0B7CFC3536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1742040" y="6424560"/>
            <a:ext cx="640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jpo.go.jp/torikumi_e/searchportal_e/classification.ht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9" descr="I:\特許分類企画班\１０．国際会議\IP5WGonC\第13回20151019USPTO\03_対処方針・作業文書\FIプレゼンのデータ更新用\コンテンツ\websiteonclassification.jpg"/>
          <p:cNvPicPr/>
          <p:nvPr/>
        </p:nvPicPr>
        <p:blipFill>
          <a:blip r:embed="rId1"/>
          <a:stretch/>
        </p:blipFill>
        <p:spPr>
          <a:xfrm>
            <a:off x="477720" y="646200"/>
            <a:ext cx="8043840" cy="5715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MGS (Patent Map Guidance) 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72AD-65A2-405B-BCF7-A9E12CC52B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1742040" y="6424560"/>
            <a:ext cx="640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jpo.go.jp/torikumi_e/searchportal_e/classification.ht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4" name="角丸四角形 6"/>
          <p:cNvSpPr/>
          <p:nvPr/>
        </p:nvSpPr>
        <p:spPr>
          <a:xfrm>
            <a:off x="2752560" y="2397240"/>
            <a:ext cx="5294520" cy="11221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3" descr="M:\Pictures\JPP_top_en.png"/>
          <p:cNvPicPr/>
          <p:nvPr/>
        </p:nvPicPr>
        <p:blipFill>
          <a:blip r:embed="rId1"/>
          <a:srcRect l="0" t="0" r="0" b="34393"/>
          <a:stretch/>
        </p:blipFill>
        <p:spPr>
          <a:xfrm>
            <a:off x="289080" y="735120"/>
            <a:ext cx="9327960" cy="38462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96" name="Picture 3" descr="M:\Pictures\JPP_top_en.png"/>
          <p:cNvPicPr/>
          <p:nvPr/>
        </p:nvPicPr>
        <p:blipFill>
          <a:blip r:embed="rId2"/>
          <a:srcRect l="959" t="16543" r="723" b="64942"/>
          <a:stretch/>
        </p:blipFill>
        <p:spPr>
          <a:xfrm>
            <a:off x="388800" y="1700280"/>
            <a:ext cx="9172800" cy="1085760"/>
          </a:xfrm>
          <a:prstGeom prst="rect">
            <a:avLst/>
          </a:prstGeom>
          <a:ln w="0">
            <a:noFill/>
          </a:ln>
        </p:spPr>
      </p:pic>
      <p:sp>
        <p:nvSpPr>
          <p:cNvPr id="397" name="スライド番号プレースホルダー 1"/>
          <p:cNvSpPr/>
          <p:nvPr/>
        </p:nvSpPr>
        <p:spPr>
          <a:xfrm>
            <a:off x="761040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CEBF-E205-4D5C-B1F6-0B652008C7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8" name="Oval 8"/>
          <p:cNvSpPr/>
          <p:nvPr/>
        </p:nvSpPr>
        <p:spPr>
          <a:xfrm>
            <a:off x="7707240" y="1916280"/>
            <a:ext cx="1854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99" name="Picture 4" descr="M:\Desktop\J-plat pat画像\PMGS\トップ画面2ofxx.jpg"/>
          <p:cNvPicPr/>
          <p:nvPr/>
        </p:nvPicPr>
        <p:blipFill>
          <a:blip r:embed="rId3"/>
          <a:stretch/>
        </p:blipFill>
        <p:spPr>
          <a:xfrm>
            <a:off x="1990800" y="3174840"/>
            <a:ext cx="5924520" cy="295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00" name="左カーブ矢印 2"/>
          <p:cNvSpPr/>
          <p:nvPr/>
        </p:nvSpPr>
        <p:spPr>
          <a:xfrm rot="879000">
            <a:off x="8346600" y="2595240"/>
            <a:ext cx="1136880" cy="2498760"/>
          </a:xfrm>
          <a:custGeom>
            <a:avLst/>
            <a:gdLst>
              <a:gd name="textAreaLeft" fmla="*/ 152280 w 1136880"/>
              <a:gd name="textAreaRight" fmla="*/ 984600 w 1136880"/>
              <a:gd name="textAreaTop" fmla="*/ 518040 h 2498760"/>
              <a:gd name="textAreaBottom" fmla="*/ 1838520 h 249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58" stAng="-5400000" swAng="5400000"/>
                <a:lnTo>
                  <a:pt x="21600" y="11415"/>
                </a:lnTo>
                <a:arcTo wR="21600" hR="8958" stAng="0" swAng="3485573"/>
                <a:lnTo>
                  <a:pt x="5400" y="21316"/>
                </a:lnTo>
                <a:lnTo>
                  <a:pt x="0" y="19144"/>
                </a:lnTo>
                <a:lnTo>
                  <a:pt x="5400" y="16403"/>
                </a:lnTo>
                <a:lnTo>
                  <a:pt x="5400" y="17631"/>
                </a:lnTo>
                <a:arcTo wR="21600" hR="8958" stAng="3485573" swAng="-3288403"/>
                <a:lnTo>
                  <a:pt x="21396" y="10186"/>
                </a:lnTo>
                <a:arcTo wR="21600" hR="8958" stAng="-197171" swAng="-5202829"/>
                <a:close/>
              </a:path>
              <a:path fill="darkenLess" w="21600" h="21600">
                <a:moveTo>
                  <a:pt x="0" y="0"/>
                </a:moveTo>
                <a:arcTo wR="21600" hR="8958" stAng="-5400000" swAng="5400000"/>
                <a:lnTo>
                  <a:pt x="21600" y="11415"/>
                </a:lnTo>
                <a:arcTo wR="21600" hR="8958" stAng="0" swAng="-197171"/>
                <a:lnTo>
                  <a:pt x="21396" y="10186"/>
                </a:lnTo>
                <a:arcTo wR="21600" hR="8958" stAng="-197171" swAng="-5202829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95120" y="44280"/>
            <a:ext cx="85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PMGS (Patent Map Guidance)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2" name="正方形/長方形 3"/>
          <p:cNvSpPr/>
          <p:nvPr/>
        </p:nvSpPr>
        <p:spPr>
          <a:xfrm>
            <a:off x="928800" y="6338880"/>
            <a:ext cx="832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ttps://www5.j-platpat.inpit.go.jp/pms/tokujitsu/pmgs_en/PMGS_EN_GM101_Top.actio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9" descr="I:\特許分類企画班\１０．国際会議\IP5WGonC\第13回20151019USPTO\03_対処方針・作業文書\FIプレゼンのデータ更新用\コンテンツ\websiteonclassification.jpg"/>
          <p:cNvPicPr/>
          <p:nvPr/>
        </p:nvPicPr>
        <p:blipFill>
          <a:blip r:embed="rId1"/>
          <a:stretch/>
        </p:blipFill>
        <p:spPr>
          <a:xfrm>
            <a:off x="477720" y="646200"/>
            <a:ext cx="8043840" cy="5715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IPC-FI-CPC scheme parallel viewer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92A0-261F-43E7-96EF-978A6EBE7D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742040" y="6424560"/>
            <a:ext cx="640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jpo.go.jp/torikumi_e/searchportal_e/classification.ht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7" name="角丸四角形 14"/>
          <p:cNvSpPr/>
          <p:nvPr/>
        </p:nvSpPr>
        <p:spPr>
          <a:xfrm>
            <a:off x="2752560" y="3616200"/>
            <a:ext cx="5294520" cy="836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0" descr="I:\特許分類企画班\１０．国際会議\IP5WGonC\第13回20151019USPTO\03_対処方針・作業文書\FIプレゼンのデータ更新用\コンテンツ\parallel viewer.jpg"/>
          <p:cNvPicPr/>
          <p:nvPr/>
        </p:nvPicPr>
        <p:blipFill>
          <a:blip r:embed="rId1"/>
          <a:stretch/>
        </p:blipFill>
        <p:spPr>
          <a:xfrm>
            <a:off x="757080" y="652320"/>
            <a:ext cx="8972640" cy="54738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IPC-FI-CPC scheme parallel viewer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1542240" y="6389640"/>
            <a:ext cx="68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jpo.go.jp/cgi/cgi-bin/search-portal/narabe_tool_e/narabe_e.cg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5299200" y="2249640"/>
            <a:ext cx="11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8232840" y="2224080"/>
            <a:ext cx="11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P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1809720" y="2224080"/>
            <a:ext cx="11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4" name="Oval 9"/>
          <p:cNvSpPr/>
          <p:nvPr/>
        </p:nvSpPr>
        <p:spPr>
          <a:xfrm>
            <a:off x="914400" y="824040"/>
            <a:ext cx="2532240" cy="428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4" descr="I:\特許分類企画班\１０．国際会議\IP5WGonC\第13回20151019USPTO\03_対処方針・作業文書\FIプレゼンのデータ更新用\コンテンツ\parallel viewer_keyword.jpg"/>
          <p:cNvPicPr/>
          <p:nvPr/>
        </p:nvPicPr>
        <p:blipFill>
          <a:blip r:embed="rId1"/>
          <a:stretch/>
        </p:blipFill>
        <p:spPr>
          <a:xfrm>
            <a:off x="189000" y="773280"/>
            <a:ext cx="9347040" cy="5445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IPC-FI-CPC parallel viewer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1542240" y="6262560"/>
            <a:ext cx="68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jpo.go.jp/cgi/cgi-bin/search-portal/narabe_tool_e/narabe_e.cg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418" name="直線矢印コネクタ 40"/>
          <p:cNvCxnSpPr/>
          <p:nvPr/>
        </p:nvCxnSpPr>
        <p:spPr>
          <a:xfrm>
            <a:off x="1589040" y="2187360"/>
            <a:ext cx="3582000" cy="2897640"/>
          </a:xfrm>
          <a:prstGeom prst="straightConnector1">
            <a:avLst/>
          </a:prstGeom>
          <a:ln w="38160">
            <a:solidFill>
              <a:srgbClr val="ccccff"/>
            </a:solidFill>
            <a:miter/>
            <a:tailEnd len="med" type="arrow" w="med"/>
          </a:ln>
        </p:spPr>
      </p:cxnSp>
      <p:sp>
        <p:nvSpPr>
          <p:cNvPr id="419" name="Text Box 15"/>
          <p:cNvSpPr/>
          <p:nvPr/>
        </p:nvSpPr>
        <p:spPr>
          <a:xfrm>
            <a:off x="189000" y="1447920"/>
            <a:ext cx="3857400" cy="459720"/>
          </a:xfrm>
          <a:prstGeom prst="rect">
            <a:avLst/>
          </a:prstGeom>
          <a:solidFill>
            <a:srgbClr val="9c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word searchab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0" name="Oval 9"/>
          <p:cNvSpPr/>
          <p:nvPr/>
        </p:nvSpPr>
        <p:spPr>
          <a:xfrm>
            <a:off x="77760" y="4829040"/>
            <a:ext cx="1511280" cy="425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1" name="下矢印 31"/>
          <p:cNvSpPr/>
          <p:nvPr/>
        </p:nvSpPr>
        <p:spPr>
          <a:xfrm>
            <a:off x="566640" y="441468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231840" y="3970440"/>
            <a:ext cx="3024000" cy="459720"/>
          </a:xfrm>
          <a:prstGeom prst="rect">
            <a:avLst/>
          </a:prstGeom>
          <a:solidFill>
            <a:srgbClr val="9c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k to the sche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61680" y="1197000"/>
            <a:ext cx="84200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of FI/F-term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English Information on classificat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GS and IPC-FI-CPC scheme parallel viewer 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Revision and Reclassification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 of FI/F-term revis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ing FI scheme according to the latest version of IPC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1B04-0BAD-4FF9-8033-2B9C4CD46D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" descr="I:\特許分類企画班\１０．国際会議\IP5WGonC\第13回20151019USPTO\03_対処方針・作業文書\FIプレゼンのデータ更新用\コンテンツ\websiteonclassification.jpg"/>
          <p:cNvPicPr/>
          <p:nvPr/>
        </p:nvPicPr>
        <p:blipFill>
          <a:blip r:embed="rId1"/>
          <a:stretch/>
        </p:blipFill>
        <p:spPr>
          <a:xfrm>
            <a:off x="477720" y="646200"/>
            <a:ext cx="8043840" cy="57150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JPO website on classification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550B-A1D7-4220-AB59-F8EC91DA9D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1742040" y="6424560"/>
            <a:ext cx="640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jpo.go.jp/torikumi_e/searchportal_e/classification.ht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0" name="角丸四角形 10"/>
          <p:cNvSpPr/>
          <p:nvPr/>
        </p:nvSpPr>
        <p:spPr>
          <a:xfrm>
            <a:off x="2752560" y="4822920"/>
            <a:ext cx="5294520" cy="7905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1" name="角丸四角形 9"/>
          <p:cNvSpPr/>
          <p:nvPr/>
        </p:nvSpPr>
        <p:spPr>
          <a:xfrm>
            <a:off x="2752560" y="5722920"/>
            <a:ext cx="5294520" cy="6382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61680" y="1197000"/>
            <a:ext cx="84200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of FI/F-term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Information on classificat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GS and IPC-FI-CPC scheme parallel viewer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ion and Reclassification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 of FI/F-term revis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ing FI scheme according to the latest version of IPC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1190-6EF4-4244-88AC-1F8F6B65AA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61680" y="1197000"/>
            <a:ext cx="84200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of FI/F-term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Information on classificat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GS and IPC-FI-CPC scheme parallel viewer 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ion and Reclassification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urrent status of FI/F-term revis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Updating FI scheme according to the latest version of IPC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ABA0-002E-44BA-8CA8-E852F0C825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図 1" descr=""/>
          <p:cNvPicPr/>
          <p:nvPr/>
        </p:nvPicPr>
        <p:blipFill>
          <a:blip r:embed="rId1"/>
          <a:stretch/>
        </p:blipFill>
        <p:spPr>
          <a:xfrm>
            <a:off x="765000" y="2033640"/>
            <a:ext cx="9891720" cy="49989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47"/>
          <p:cNvSpPr/>
          <p:nvPr/>
        </p:nvSpPr>
        <p:spPr>
          <a:xfrm>
            <a:off x="42840" y="90360"/>
            <a:ext cx="9290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Rate for FI corresponding to the latest IP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165240" y="1000080"/>
            <a:ext cx="9575640" cy="829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on completion of FI revision i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v 2016, rate of FI adopting the latest IPC reached approximately 98.5 %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8" name="スライド番号プレースホルダー 3"/>
          <p:cNvSpPr/>
          <p:nvPr/>
        </p:nvSpPr>
        <p:spPr>
          <a:xfrm>
            <a:off x="7594560" y="647532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A045-8F4F-44F4-8B18-BDAAA3F6C753}" type="slidenum">
              <a:rPr b="0" lang="ja-JP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439" name="直線矢印コネクタ 2"/>
          <p:cNvCxnSpPr/>
          <p:nvPr/>
        </p:nvCxnSpPr>
        <p:spPr>
          <a:xfrm>
            <a:off x="6479640" y="3593880"/>
            <a:ext cx="435960" cy="108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40" name="直線矢印コネクタ 17"/>
          <p:cNvCxnSpPr/>
          <p:nvPr/>
        </p:nvCxnSpPr>
        <p:spPr>
          <a:xfrm flipH="1">
            <a:off x="2153880" y="4890600"/>
            <a:ext cx="568800" cy="1080"/>
          </a:xfrm>
          <a:prstGeom prst="straightConnector1">
            <a:avLst/>
          </a:prstGeom>
          <a:ln w="31680">
            <a:solidFill>
              <a:srgbClr val="3399ff"/>
            </a:solidFill>
            <a:miter/>
            <a:tailEnd len="med" type="triangle" w="med"/>
          </a:ln>
        </p:spPr>
      </p:cxnSp>
      <p:sp>
        <p:nvSpPr>
          <p:cNvPr id="441" name="正方形/長方形 1"/>
          <p:cNvSpPr/>
          <p:nvPr/>
        </p:nvSpPr>
        <p:spPr>
          <a:xfrm>
            <a:off x="6813720" y="6408720"/>
            <a:ext cx="23148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4BF3-B32E-47DD-ACF8-7E550B951D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646200" y="2459160"/>
            <a:ext cx="842004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  <a:ea typeface="Arial Unicode MS"/>
              </a:rPr>
              <a:t>Thank you very much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61680" y="1197000"/>
            <a:ext cx="84200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Outline of FI/F-term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Information on classificat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GS and IPC-FI-CPC scheme parallel viewer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ion and Reclassification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 of FI/F-term revis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ing FI scheme according to the latest version of IPC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578A-095D-42B4-A9DD-9C9F1391C1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89080" y="1512720"/>
          <a:ext cx="9235800" cy="3559320"/>
        </p:xfrm>
        <a:graphic>
          <a:graphicData uri="http://schemas.openxmlformats.org/drawingml/2006/table">
            <a:tbl>
              <a:tblPr/>
              <a:tblGrid>
                <a:gridCol w="1730160"/>
                <a:gridCol w="2443320"/>
                <a:gridCol w="1554120"/>
                <a:gridCol w="3508200"/>
              </a:tblGrid>
              <a:tr h="70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e5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overn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e5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umber of Ent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e5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ocumentation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e5bd"/>
                    </a:solidFill>
                  </a:tcPr>
                </a:tc>
              </a:tr>
              <a:tr h="142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IP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PC/CE (Committee of Experts); 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upervised by W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 almost all patent docs published worldw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FI/F-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0K/3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 JP do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Slide Number Placeholder 3"/>
          <p:cNvSpPr/>
          <p:nvPr/>
        </p:nvSpPr>
        <p:spPr>
          <a:xfrm>
            <a:off x="9086760" y="6585120"/>
            <a:ext cx="819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E869-B04C-4D6F-A8CC-7210B4BBB40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223920" y="111240"/>
            <a:ext cx="7635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atent Classification Systems in IPC and FI/F-ter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792144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hat is FI? Characteristics of FI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04960" y="1771560"/>
            <a:ext cx="53053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ivision of IPC 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round 190,000 items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all technical fields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all JP patent documents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log reclassificat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nnual revise to keep pace with technology development 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761040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CB4B-5575-47A5-A84F-EC17F2326E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719600" y="1890720"/>
            <a:ext cx="17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Features]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238" name="Group 5"/>
          <p:cNvGrpSpPr/>
          <p:nvPr/>
        </p:nvGrpSpPr>
        <p:grpSpPr>
          <a:xfrm>
            <a:off x="38160" y="1489680"/>
            <a:ext cx="2171160" cy="4629240"/>
            <a:chOff x="38160" y="1489680"/>
            <a:chExt cx="2171160" cy="4629240"/>
          </a:xfrm>
        </p:grpSpPr>
        <p:grpSp>
          <p:nvGrpSpPr>
            <p:cNvPr id="239" name="Group 6"/>
            <p:cNvGrpSpPr/>
            <p:nvPr/>
          </p:nvGrpSpPr>
          <p:grpSpPr>
            <a:xfrm>
              <a:off x="546840" y="2314800"/>
              <a:ext cx="685800" cy="3351240"/>
              <a:chOff x="546840" y="2314800"/>
              <a:chExt cx="685800" cy="3351240"/>
            </a:xfrm>
          </p:grpSpPr>
          <p:grpSp>
            <p:nvGrpSpPr>
              <p:cNvPr id="240" name="Group 7"/>
              <p:cNvGrpSpPr/>
              <p:nvPr/>
            </p:nvGrpSpPr>
            <p:grpSpPr>
              <a:xfrm>
                <a:off x="546840" y="2314800"/>
                <a:ext cx="685800" cy="3351240"/>
                <a:chOff x="546840" y="2314800"/>
                <a:chExt cx="685800" cy="3351240"/>
              </a:xfrm>
            </p:grpSpPr>
            <p:grpSp>
              <p:nvGrpSpPr>
                <p:cNvPr id="241" name="Group 8"/>
                <p:cNvGrpSpPr/>
                <p:nvPr/>
              </p:nvGrpSpPr>
              <p:grpSpPr>
                <a:xfrm>
                  <a:off x="546840" y="2314800"/>
                  <a:ext cx="685800" cy="3351240"/>
                  <a:chOff x="546840" y="2314800"/>
                  <a:chExt cx="685800" cy="3351240"/>
                </a:xfrm>
              </p:grpSpPr>
              <p:grpSp>
                <p:nvGrpSpPr>
                  <p:cNvPr id="242" name="Group 9"/>
                  <p:cNvGrpSpPr/>
                  <p:nvPr/>
                </p:nvGrpSpPr>
                <p:grpSpPr>
                  <a:xfrm>
                    <a:off x="546840" y="2314800"/>
                    <a:ext cx="685800" cy="3351240"/>
                    <a:chOff x="546840" y="2314800"/>
                    <a:chExt cx="685800" cy="3351240"/>
                  </a:xfrm>
                </p:grpSpPr>
                <p:sp>
                  <p:nvSpPr>
                    <p:cNvPr id="243" name="AutoShape 10"/>
                    <p:cNvSpPr/>
                    <p:nvPr/>
                  </p:nvSpPr>
                  <p:spPr>
                    <a:xfrm>
                      <a:off x="546840" y="2314800"/>
                      <a:ext cx="685800" cy="335124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cc99ff">
                        <a:alpha val="5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grpSp>
                  <p:nvGrpSpPr>
                    <p:cNvPr id="244" name="Group 11"/>
                    <p:cNvGrpSpPr/>
                    <p:nvPr/>
                  </p:nvGrpSpPr>
                  <p:grpSpPr>
                    <a:xfrm>
                      <a:off x="546840" y="2474280"/>
                      <a:ext cx="685800" cy="159120"/>
                      <a:chOff x="546840" y="2474280"/>
                      <a:chExt cx="685800" cy="159120"/>
                    </a:xfrm>
                  </p:grpSpPr>
                  <p:sp>
                    <p:nvSpPr>
                      <p:cNvPr id="245" name="Line 12"/>
                      <p:cNvSpPr/>
                      <p:nvPr/>
                    </p:nvSpPr>
                    <p:spPr>
                      <a:xfrm>
                        <a:off x="546840" y="2633400"/>
                        <a:ext cx="533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  <p:sp>
                    <p:nvSpPr>
                      <p:cNvPr id="246" name="Line 13"/>
                      <p:cNvSpPr/>
                      <p:nvPr/>
                    </p:nvSpPr>
                    <p:spPr>
                      <a:xfrm flipV="1">
                        <a:off x="1080360" y="2474280"/>
                        <a:ext cx="152280" cy="158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</p:grpSp>
                <p:sp>
                  <p:nvSpPr>
                    <p:cNvPr id="247" name="Line 14"/>
                    <p:cNvSpPr/>
                    <p:nvPr/>
                  </p:nvSpPr>
                  <p:spPr>
                    <a:xfrm>
                      <a:off x="546840" y="279324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48" name="Line 15"/>
                    <p:cNvSpPr/>
                    <p:nvPr/>
                  </p:nvSpPr>
                  <p:spPr>
                    <a:xfrm>
                      <a:off x="546840" y="295344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49" name="Line 16"/>
                    <p:cNvSpPr/>
                    <p:nvPr/>
                  </p:nvSpPr>
                  <p:spPr>
                    <a:xfrm flipV="1">
                      <a:off x="1080360" y="2793240"/>
                      <a:ext cx="152280" cy="159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0" name="Line 17"/>
                    <p:cNvSpPr/>
                    <p:nvPr/>
                  </p:nvSpPr>
                  <p:spPr>
                    <a:xfrm>
                      <a:off x="546840" y="311292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1" name="Line 18"/>
                    <p:cNvSpPr/>
                    <p:nvPr/>
                  </p:nvSpPr>
                  <p:spPr>
                    <a:xfrm flipV="1">
                      <a:off x="1080360" y="2953440"/>
                      <a:ext cx="152280" cy="159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2" name="Line 19"/>
                    <p:cNvSpPr/>
                    <p:nvPr/>
                  </p:nvSpPr>
                  <p:spPr>
                    <a:xfrm>
                      <a:off x="546840" y="327204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3" name="Line 20"/>
                    <p:cNvSpPr/>
                    <p:nvPr/>
                  </p:nvSpPr>
                  <p:spPr>
                    <a:xfrm flipV="1">
                      <a:off x="1080360" y="3112920"/>
                      <a:ext cx="152280" cy="159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4" name="Line 21"/>
                    <p:cNvSpPr/>
                    <p:nvPr/>
                  </p:nvSpPr>
                  <p:spPr>
                    <a:xfrm>
                      <a:off x="546840" y="343224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5" name="Line 22"/>
                    <p:cNvSpPr/>
                    <p:nvPr/>
                  </p:nvSpPr>
                  <p:spPr>
                    <a:xfrm flipV="1">
                      <a:off x="1080360" y="3272040"/>
                      <a:ext cx="152280" cy="159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6" name="Line 23"/>
                    <p:cNvSpPr/>
                    <p:nvPr/>
                  </p:nvSpPr>
                  <p:spPr>
                    <a:xfrm>
                      <a:off x="546840" y="359136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7" name="Line 24"/>
                    <p:cNvSpPr/>
                    <p:nvPr/>
                  </p:nvSpPr>
                  <p:spPr>
                    <a:xfrm flipV="1">
                      <a:off x="1080360" y="3432240"/>
                      <a:ext cx="152280" cy="159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8" name="Line 25"/>
                    <p:cNvSpPr/>
                    <p:nvPr/>
                  </p:nvSpPr>
                  <p:spPr>
                    <a:xfrm>
                      <a:off x="546840" y="375084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9" name="Line 26"/>
                    <p:cNvSpPr/>
                    <p:nvPr/>
                  </p:nvSpPr>
                  <p:spPr>
                    <a:xfrm flipV="1">
                      <a:off x="1080360" y="3591360"/>
                      <a:ext cx="152280" cy="159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60" name="Line 27"/>
                    <p:cNvSpPr/>
                    <p:nvPr/>
                  </p:nvSpPr>
                  <p:spPr>
                    <a:xfrm flipV="1">
                      <a:off x="1080360" y="3750840"/>
                      <a:ext cx="152280" cy="159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61" name="Line 28"/>
                    <p:cNvSpPr/>
                    <p:nvPr/>
                  </p:nvSpPr>
                  <p:spPr>
                    <a:xfrm>
                      <a:off x="546840" y="550656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62" name="Line 29"/>
                    <p:cNvSpPr/>
                    <p:nvPr/>
                  </p:nvSpPr>
                  <p:spPr>
                    <a:xfrm flipV="1">
                      <a:off x="1080360" y="5347080"/>
                      <a:ext cx="152280" cy="159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63" name="Line 30"/>
                    <p:cNvSpPr/>
                    <p:nvPr/>
                  </p:nvSpPr>
                  <p:spPr>
                    <a:xfrm>
                      <a:off x="546840" y="534708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64" name="Line 31"/>
                    <p:cNvSpPr/>
                    <p:nvPr/>
                  </p:nvSpPr>
                  <p:spPr>
                    <a:xfrm flipV="1">
                      <a:off x="1080360" y="5187240"/>
                      <a:ext cx="152280" cy="159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grpSp>
                  <p:nvGrpSpPr>
                    <p:cNvPr id="265" name="Group 32"/>
                    <p:cNvGrpSpPr/>
                    <p:nvPr/>
                  </p:nvGrpSpPr>
                  <p:grpSpPr>
                    <a:xfrm>
                      <a:off x="546840" y="3910680"/>
                      <a:ext cx="685800" cy="159120"/>
                      <a:chOff x="546840" y="3910680"/>
                      <a:chExt cx="685800" cy="159120"/>
                    </a:xfrm>
                  </p:grpSpPr>
                  <p:sp>
                    <p:nvSpPr>
                      <p:cNvPr id="266" name="Line 33"/>
                      <p:cNvSpPr/>
                      <p:nvPr/>
                    </p:nvSpPr>
                    <p:spPr>
                      <a:xfrm>
                        <a:off x="546840" y="4069800"/>
                        <a:ext cx="533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  <p:sp>
                    <p:nvSpPr>
                      <p:cNvPr id="267" name="Line 34"/>
                      <p:cNvSpPr/>
                      <p:nvPr/>
                    </p:nvSpPr>
                    <p:spPr>
                      <a:xfrm flipV="1">
                        <a:off x="1080360" y="3910680"/>
                        <a:ext cx="152280" cy="158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</p:grpSp>
                <p:grpSp>
                  <p:nvGrpSpPr>
                    <p:cNvPr id="268" name="Group 35"/>
                    <p:cNvGrpSpPr/>
                    <p:nvPr/>
                  </p:nvGrpSpPr>
                  <p:grpSpPr>
                    <a:xfrm>
                      <a:off x="546840" y="4069800"/>
                      <a:ext cx="685800" cy="159120"/>
                      <a:chOff x="546840" y="4069800"/>
                      <a:chExt cx="685800" cy="159120"/>
                    </a:xfrm>
                  </p:grpSpPr>
                  <p:sp>
                    <p:nvSpPr>
                      <p:cNvPr id="269" name="Line 36"/>
                      <p:cNvSpPr/>
                      <p:nvPr/>
                    </p:nvSpPr>
                    <p:spPr>
                      <a:xfrm>
                        <a:off x="546840" y="4228920"/>
                        <a:ext cx="533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  <p:sp>
                    <p:nvSpPr>
                      <p:cNvPr id="270" name="Line 37"/>
                      <p:cNvSpPr/>
                      <p:nvPr/>
                    </p:nvSpPr>
                    <p:spPr>
                      <a:xfrm flipV="1">
                        <a:off x="1080360" y="4069800"/>
                        <a:ext cx="152280" cy="158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</p:grpSp>
                <p:grpSp>
                  <p:nvGrpSpPr>
                    <p:cNvPr id="271" name="Group 38"/>
                    <p:cNvGrpSpPr/>
                    <p:nvPr/>
                  </p:nvGrpSpPr>
                  <p:grpSpPr>
                    <a:xfrm>
                      <a:off x="546840" y="4389480"/>
                      <a:ext cx="685800" cy="159120"/>
                      <a:chOff x="546840" y="4389480"/>
                      <a:chExt cx="685800" cy="159120"/>
                    </a:xfrm>
                  </p:grpSpPr>
                  <p:sp>
                    <p:nvSpPr>
                      <p:cNvPr id="272" name="Line 39"/>
                      <p:cNvSpPr/>
                      <p:nvPr/>
                    </p:nvSpPr>
                    <p:spPr>
                      <a:xfrm>
                        <a:off x="546840" y="4548600"/>
                        <a:ext cx="533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  <p:sp>
                    <p:nvSpPr>
                      <p:cNvPr id="273" name="Line 40"/>
                      <p:cNvSpPr/>
                      <p:nvPr/>
                    </p:nvSpPr>
                    <p:spPr>
                      <a:xfrm flipV="1">
                        <a:off x="1080360" y="4389480"/>
                        <a:ext cx="152280" cy="158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</p:grpSp>
                <p:grpSp>
                  <p:nvGrpSpPr>
                    <p:cNvPr id="274" name="Group 41"/>
                    <p:cNvGrpSpPr/>
                    <p:nvPr/>
                  </p:nvGrpSpPr>
                  <p:grpSpPr>
                    <a:xfrm>
                      <a:off x="546840" y="4548600"/>
                      <a:ext cx="685800" cy="159120"/>
                      <a:chOff x="546840" y="4548600"/>
                      <a:chExt cx="685800" cy="159120"/>
                    </a:xfrm>
                  </p:grpSpPr>
                  <p:sp>
                    <p:nvSpPr>
                      <p:cNvPr id="275" name="Line 42"/>
                      <p:cNvSpPr/>
                      <p:nvPr/>
                    </p:nvSpPr>
                    <p:spPr>
                      <a:xfrm>
                        <a:off x="546840" y="4707720"/>
                        <a:ext cx="533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  <p:sp>
                    <p:nvSpPr>
                      <p:cNvPr id="276" name="Line 43"/>
                      <p:cNvSpPr/>
                      <p:nvPr/>
                    </p:nvSpPr>
                    <p:spPr>
                      <a:xfrm flipV="1">
                        <a:off x="1080360" y="4548600"/>
                        <a:ext cx="152280" cy="158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</p:grpSp>
                <p:grpSp>
                  <p:nvGrpSpPr>
                    <p:cNvPr id="277" name="Group 44"/>
                    <p:cNvGrpSpPr/>
                    <p:nvPr/>
                  </p:nvGrpSpPr>
                  <p:grpSpPr>
                    <a:xfrm>
                      <a:off x="546840" y="4708080"/>
                      <a:ext cx="685800" cy="159840"/>
                      <a:chOff x="546840" y="4708080"/>
                      <a:chExt cx="685800" cy="159840"/>
                    </a:xfrm>
                  </p:grpSpPr>
                  <p:sp>
                    <p:nvSpPr>
                      <p:cNvPr id="278" name="Line 45"/>
                      <p:cNvSpPr/>
                      <p:nvPr/>
                    </p:nvSpPr>
                    <p:spPr>
                      <a:xfrm>
                        <a:off x="546840" y="4867920"/>
                        <a:ext cx="533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  <p:sp>
                    <p:nvSpPr>
                      <p:cNvPr id="279" name="Line 46"/>
                      <p:cNvSpPr/>
                      <p:nvPr/>
                    </p:nvSpPr>
                    <p:spPr>
                      <a:xfrm flipV="1">
                        <a:off x="1080360" y="4708080"/>
                        <a:ext cx="152280" cy="159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</p:grpSp>
                <p:grpSp>
                  <p:nvGrpSpPr>
                    <p:cNvPr id="280" name="Group 47"/>
                    <p:cNvGrpSpPr/>
                    <p:nvPr/>
                  </p:nvGrpSpPr>
                  <p:grpSpPr>
                    <a:xfrm>
                      <a:off x="546840" y="4867920"/>
                      <a:ext cx="685800" cy="159120"/>
                      <a:chOff x="546840" y="4867920"/>
                      <a:chExt cx="685800" cy="159120"/>
                    </a:xfrm>
                  </p:grpSpPr>
                  <p:sp>
                    <p:nvSpPr>
                      <p:cNvPr id="281" name="Line 48"/>
                      <p:cNvSpPr/>
                      <p:nvPr/>
                    </p:nvSpPr>
                    <p:spPr>
                      <a:xfrm>
                        <a:off x="546840" y="5027040"/>
                        <a:ext cx="533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  <p:sp>
                    <p:nvSpPr>
                      <p:cNvPr id="282" name="Line 49"/>
                      <p:cNvSpPr/>
                      <p:nvPr/>
                    </p:nvSpPr>
                    <p:spPr>
                      <a:xfrm flipV="1">
                        <a:off x="1080360" y="4867920"/>
                        <a:ext cx="152280" cy="158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</p:grpSp>
                <p:grpSp>
                  <p:nvGrpSpPr>
                    <p:cNvPr id="283" name="Group 50"/>
                    <p:cNvGrpSpPr/>
                    <p:nvPr/>
                  </p:nvGrpSpPr>
                  <p:grpSpPr>
                    <a:xfrm>
                      <a:off x="546840" y="5027400"/>
                      <a:ext cx="685800" cy="159120"/>
                      <a:chOff x="546840" y="5027400"/>
                      <a:chExt cx="685800" cy="159120"/>
                    </a:xfrm>
                  </p:grpSpPr>
                  <p:sp>
                    <p:nvSpPr>
                      <p:cNvPr id="284" name="Line 51"/>
                      <p:cNvSpPr/>
                      <p:nvPr/>
                    </p:nvSpPr>
                    <p:spPr>
                      <a:xfrm>
                        <a:off x="546840" y="5186520"/>
                        <a:ext cx="533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  <p:sp>
                    <p:nvSpPr>
                      <p:cNvPr id="285" name="Line 52"/>
                      <p:cNvSpPr/>
                      <p:nvPr/>
                    </p:nvSpPr>
                    <p:spPr>
                      <a:xfrm flipV="1">
                        <a:off x="1080360" y="5027400"/>
                        <a:ext cx="152280" cy="158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</p:grpSp>
              </p:grpSp>
              <p:grpSp>
                <p:nvGrpSpPr>
                  <p:cNvPr id="286" name="Group 53"/>
                  <p:cNvGrpSpPr/>
                  <p:nvPr/>
                </p:nvGrpSpPr>
                <p:grpSpPr>
                  <a:xfrm>
                    <a:off x="546840" y="4229640"/>
                    <a:ext cx="685800" cy="159840"/>
                    <a:chOff x="546840" y="4229640"/>
                    <a:chExt cx="685800" cy="159840"/>
                  </a:xfrm>
                </p:grpSpPr>
                <p:sp>
                  <p:nvSpPr>
                    <p:cNvPr id="287" name="Line 54"/>
                    <p:cNvSpPr/>
                    <p:nvPr/>
                  </p:nvSpPr>
                  <p:spPr>
                    <a:xfrm>
                      <a:off x="546840" y="438948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88" name="Line 55"/>
                    <p:cNvSpPr/>
                    <p:nvPr/>
                  </p:nvSpPr>
                  <p:spPr>
                    <a:xfrm flipV="1">
                      <a:off x="1080360" y="4229640"/>
                      <a:ext cx="152280" cy="159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</p:grpSp>
            </p:grpSp>
            <p:sp>
              <p:nvSpPr>
                <p:cNvPr id="289" name="Line 56"/>
                <p:cNvSpPr/>
                <p:nvPr/>
              </p:nvSpPr>
              <p:spPr>
                <a:xfrm>
                  <a:off x="546840" y="391104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sp>
            <p:nvSpPr>
              <p:cNvPr id="290" name="Line 57"/>
              <p:cNvSpPr/>
              <p:nvPr/>
            </p:nvSpPr>
            <p:spPr>
              <a:xfrm flipV="1">
                <a:off x="1080000" y="2633760"/>
                <a:ext cx="15264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291" name="Text Box 58"/>
            <p:cNvSpPr/>
            <p:nvPr/>
          </p:nvSpPr>
          <p:spPr>
            <a:xfrm>
              <a:off x="336960" y="1489680"/>
              <a:ext cx="117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ＭＳ Ｐゴシック"/>
                </a:rPr>
                <a:t>IPC 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2" name="Text Box 59"/>
            <p:cNvSpPr/>
            <p:nvPr/>
          </p:nvSpPr>
          <p:spPr>
            <a:xfrm>
              <a:off x="38160" y="5720040"/>
              <a:ext cx="21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70,000 entries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293" name="Group 61"/>
          <p:cNvGrpSpPr/>
          <p:nvPr/>
        </p:nvGrpSpPr>
        <p:grpSpPr>
          <a:xfrm>
            <a:off x="1424880" y="2727720"/>
            <a:ext cx="1148760" cy="2522160"/>
            <a:chOff x="1424880" y="2727720"/>
            <a:chExt cx="1148760" cy="2522160"/>
          </a:xfrm>
        </p:grpSpPr>
        <p:sp>
          <p:nvSpPr>
            <p:cNvPr id="294" name="AutoShape 62"/>
            <p:cNvSpPr/>
            <p:nvPr/>
          </p:nvSpPr>
          <p:spPr>
            <a:xfrm rot="19068000">
              <a:off x="1346040" y="3131640"/>
              <a:ext cx="1306440" cy="269640"/>
            </a:xfrm>
            <a:prstGeom prst="rightArrow">
              <a:avLst>
                <a:gd name="adj1" fmla="val 50000"/>
                <a:gd name="adj2" fmla="val 12112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5" name="AutoShape 63"/>
            <p:cNvSpPr/>
            <p:nvPr/>
          </p:nvSpPr>
          <p:spPr>
            <a:xfrm>
              <a:off x="1492200" y="3817800"/>
              <a:ext cx="991440" cy="304560"/>
            </a:xfrm>
            <a:prstGeom prst="rightArrow">
              <a:avLst>
                <a:gd name="adj1" fmla="val 50000"/>
                <a:gd name="adj2" fmla="val 81383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6" name="AutoShape 64"/>
            <p:cNvSpPr/>
            <p:nvPr/>
          </p:nvSpPr>
          <p:spPr>
            <a:xfrm flipV="1" rot="2532000">
              <a:off x="1351440" y="4579200"/>
              <a:ext cx="1296000" cy="270000"/>
            </a:xfrm>
            <a:prstGeom prst="rightArrow">
              <a:avLst>
                <a:gd name="adj1" fmla="val 50000"/>
                <a:gd name="adj2" fmla="val 12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297" name="Group 65"/>
          <p:cNvGrpSpPr/>
          <p:nvPr/>
        </p:nvGrpSpPr>
        <p:grpSpPr>
          <a:xfrm>
            <a:off x="2989440" y="2352600"/>
            <a:ext cx="577440" cy="3276720"/>
            <a:chOff x="2989440" y="2352600"/>
            <a:chExt cx="577440" cy="3276720"/>
          </a:xfrm>
        </p:grpSpPr>
        <p:sp>
          <p:nvSpPr>
            <p:cNvPr id="298" name="AutoShape 66"/>
            <p:cNvSpPr/>
            <p:nvPr/>
          </p:nvSpPr>
          <p:spPr>
            <a:xfrm>
              <a:off x="2989440" y="54766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9" name="AutoShape 67"/>
            <p:cNvSpPr/>
            <p:nvPr/>
          </p:nvSpPr>
          <p:spPr>
            <a:xfrm>
              <a:off x="2989440" y="54007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0" name="AutoShape 68"/>
            <p:cNvSpPr/>
            <p:nvPr/>
          </p:nvSpPr>
          <p:spPr>
            <a:xfrm>
              <a:off x="2989440" y="53244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1" name="AutoShape 69"/>
            <p:cNvSpPr/>
            <p:nvPr/>
          </p:nvSpPr>
          <p:spPr>
            <a:xfrm>
              <a:off x="2989440" y="52480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2" name="AutoShape 70"/>
            <p:cNvSpPr/>
            <p:nvPr/>
          </p:nvSpPr>
          <p:spPr>
            <a:xfrm>
              <a:off x="2989440" y="51721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3" name="AutoShape 71"/>
            <p:cNvSpPr/>
            <p:nvPr/>
          </p:nvSpPr>
          <p:spPr>
            <a:xfrm>
              <a:off x="2989440" y="50958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4" name="AutoShape 72"/>
            <p:cNvSpPr/>
            <p:nvPr/>
          </p:nvSpPr>
          <p:spPr>
            <a:xfrm>
              <a:off x="2989440" y="50194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5" name="AutoShape 73"/>
            <p:cNvSpPr/>
            <p:nvPr/>
          </p:nvSpPr>
          <p:spPr>
            <a:xfrm>
              <a:off x="2989440" y="49435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6" name="AutoShape 74"/>
            <p:cNvSpPr/>
            <p:nvPr/>
          </p:nvSpPr>
          <p:spPr>
            <a:xfrm>
              <a:off x="2989440" y="48672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7" name="AutoShape 75"/>
            <p:cNvSpPr/>
            <p:nvPr/>
          </p:nvSpPr>
          <p:spPr>
            <a:xfrm>
              <a:off x="2989440" y="47908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8" name="AutoShape 76"/>
            <p:cNvSpPr/>
            <p:nvPr/>
          </p:nvSpPr>
          <p:spPr>
            <a:xfrm>
              <a:off x="2989440" y="47149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9" name="AutoShape 77"/>
            <p:cNvSpPr/>
            <p:nvPr/>
          </p:nvSpPr>
          <p:spPr>
            <a:xfrm>
              <a:off x="2989440" y="46386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0" name="AutoShape 78"/>
            <p:cNvSpPr/>
            <p:nvPr/>
          </p:nvSpPr>
          <p:spPr>
            <a:xfrm>
              <a:off x="2989440" y="45622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1" name="AutoShape 79"/>
            <p:cNvSpPr/>
            <p:nvPr/>
          </p:nvSpPr>
          <p:spPr>
            <a:xfrm>
              <a:off x="2989440" y="44863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2" name="AutoShape 80"/>
            <p:cNvSpPr/>
            <p:nvPr/>
          </p:nvSpPr>
          <p:spPr>
            <a:xfrm>
              <a:off x="2989440" y="44100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3" name="AutoShape 81"/>
            <p:cNvSpPr/>
            <p:nvPr/>
          </p:nvSpPr>
          <p:spPr>
            <a:xfrm>
              <a:off x="2989440" y="43336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4" name="AutoShape 82"/>
            <p:cNvSpPr/>
            <p:nvPr/>
          </p:nvSpPr>
          <p:spPr>
            <a:xfrm>
              <a:off x="2989440" y="42577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5" name="AutoShape 83"/>
            <p:cNvSpPr/>
            <p:nvPr/>
          </p:nvSpPr>
          <p:spPr>
            <a:xfrm>
              <a:off x="2989440" y="41814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6" name="AutoShape 84"/>
            <p:cNvSpPr/>
            <p:nvPr/>
          </p:nvSpPr>
          <p:spPr>
            <a:xfrm>
              <a:off x="2989440" y="41050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7" name="AutoShape 85"/>
            <p:cNvSpPr/>
            <p:nvPr/>
          </p:nvSpPr>
          <p:spPr>
            <a:xfrm>
              <a:off x="2989440" y="40291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8" name="AutoShape 86"/>
            <p:cNvSpPr/>
            <p:nvPr/>
          </p:nvSpPr>
          <p:spPr>
            <a:xfrm>
              <a:off x="2989440" y="39528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9" name="AutoShape 87"/>
            <p:cNvSpPr/>
            <p:nvPr/>
          </p:nvSpPr>
          <p:spPr>
            <a:xfrm>
              <a:off x="2989440" y="38764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0" name="AutoShape 88"/>
            <p:cNvSpPr/>
            <p:nvPr/>
          </p:nvSpPr>
          <p:spPr>
            <a:xfrm>
              <a:off x="2989440" y="38005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1" name="AutoShape 89"/>
            <p:cNvSpPr/>
            <p:nvPr/>
          </p:nvSpPr>
          <p:spPr>
            <a:xfrm>
              <a:off x="2989440" y="37242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2" name="AutoShape 90"/>
            <p:cNvSpPr/>
            <p:nvPr/>
          </p:nvSpPr>
          <p:spPr>
            <a:xfrm>
              <a:off x="2989440" y="36478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3" name="AutoShape 91"/>
            <p:cNvSpPr/>
            <p:nvPr/>
          </p:nvSpPr>
          <p:spPr>
            <a:xfrm>
              <a:off x="2989440" y="35719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4" name="AutoShape 92"/>
            <p:cNvSpPr/>
            <p:nvPr/>
          </p:nvSpPr>
          <p:spPr>
            <a:xfrm>
              <a:off x="2989440" y="34956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5" name="AutoShape 93"/>
            <p:cNvSpPr/>
            <p:nvPr/>
          </p:nvSpPr>
          <p:spPr>
            <a:xfrm>
              <a:off x="2989440" y="34192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6" name="AutoShape 94"/>
            <p:cNvSpPr/>
            <p:nvPr/>
          </p:nvSpPr>
          <p:spPr>
            <a:xfrm>
              <a:off x="2989440" y="33433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7" name="AutoShape 95"/>
            <p:cNvSpPr/>
            <p:nvPr/>
          </p:nvSpPr>
          <p:spPr>
            <a:xfrm>
              <a:off x="2989440" y="32670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8" name="AutoShape 96"/>
            <p:cNvSpPr/>
            <p:nvPr/>
          </p:nvSpPr>
          <p:spPr>
            <a:xfrm>
              <a:off x="2989440" y="31906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9" name="AutoShape 97"/>
            <p:cNvSpPr/>
            <p:nvPr/>
          </p:nvSpPr>
          <p:spPr>
            <a:xfrm>
              <a:off x="2989440" y="31147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0" name="AutoShape 98"/>
            <p:cNvSpPr/>
            <p:nvPr/>
          </p:nvSpPr>
          <p:spPr>
            <a:xfrm>
              <a:off x="2989440" y="30384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1" name="AutoShape 99"/>
            <p:cNvSpPr/>
            <p:nvPr/>
          </p:nvSpPr>
          <p:spPr>
            <a:xfrm>
              <a:off x="2989440" y="29620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2" name="AutoShape 100"/>
            <p:cNvSpPr/>
            <p:nvPr/>
          </p:nvSpPr>
          <p:spPr>
            <a:xfrm>
              <a:off x="2989440" y="28861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3" name="AutoShape 101"/>
            <p:cNvSpPr/>
            <p:nvPr/>
          </p:nvSpPr>
          <p:spPr>
            <a:xfrm>
              <a:off x="2989440" y="28098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4" name="AutoShape 102"/>
            <p:cNvSpPr/>
            <p:nvPr/>
          </p:nvSpPr>
          <p:spPr>
            <a:xfrm>
              <a:off x="2989440" y="27334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5" name="AutoShape 103"/>
            <p:cNvSpPr/>
            <p:nvPr/>
          </p:nvSpPr>
          <p:spPr>
            <a:xfrm>
              <a:off x="2989440" y="26575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6" name="AutoShape 104"/>
            <p:cNvSpPr/>
            <p:nvPr/>
          </p:nvSpPr>
          <p:spPr>
            <a:xfrm>
              <a:off x="2989440" y="25812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7" name="AutoShape 105"/>
            <p:cNvSpPr/>
            <p:nvPr/>
          </p:nvSpPr>
          <p:spPr>
            <a:xfrm>
              <a:off x="2989440" y="25048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8" name="AutoShape 106"/>
            <p:cNvSpPr/>
            <p:nvPr/>
          </p:nvSpPr>
          <p:spPr>
            <a:xfrm>
              <a:off x="2989440" y="24289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9" name="AutoShape 107"/>
            <p:cNvSpPr/>
            <p:nvPr/>
          </p:nvSpPr>
          <p:spPr>
            <a:xfrm>
              <a:off x="2989440" y="23526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40" name="Text Box 108"/>
          <p:cNvSpPr/>
          <p:nvPr/>
        </p:nvSpPr>
        <p:spPr>
          <a:xfrm>
            <a:off x="2065320" y="1482840"/>
            <a:ext cx="24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FI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(File Index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1" name="Text Box 110"/>
          <p:cNvSpPr/>
          <p:nvPr/>
        </p:nvSpPr>
        <p:spPr>
          <a:xfrm>
            <a:off x="1987560" y="5695920"/>
            <a:ext cx="28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0,000 entri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FI - symbol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761040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0630-63BE-4EAA-BF06-1243FD4C52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44" name="Picture 9" descr="fi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41320" y="3689280"/>
            <a:ext cx="8353440" cy="235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5" name="Oval 10"/>
          <p:cNvSpPr/>
          <p:nvPr/>
        </p:nvSpPr>
        <p:spPr>
          <a:xfrm>
            <a:off x="560520" y="4581360"/>
            <a:ext cx="4273560" cy="655920"/>
          </a:xfrm>
          <a:prstGeom prst="ellips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2144880" y="6048360"/>
            <a:ext cx="5587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of FI subdivisions for G06F9/0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928800" y="907920"/>
            <a:ext cx="81788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04b5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IPC symbol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              </a:t>
            </a:r>
            <a:r>
              <a:rPr b="0" lang="fr-FR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ex) </a:t>
            </a:r>
            <a:r>
              <a:rPr b="0" lang="fr-FR" sz="2000" spc="-1" strike="noStrike" u="sng">
                <a:solidFill>
                  <a:srgbClr val="404b56"/>
                </a:solidFill>
                <a:uFillTx/>
                <a:latin typeface="Arial"/>
                <a:ea typeface="ＭＳ Ｐゴシック"/>
              </a:rPr>
              <a:t>G06F 9/00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04b5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IPC symbol +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extension symbo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ex) </a:t>
            </a:r>
            <a:r>
              <a:rPr b="0" lang="en-US" sz="2000" spc="-1" strike="noStrike" u="sng">
                <a:solidFill>
                  <a:srgbClr val="404b56"/>
                </a:solidFill>
                <a:uFillTx/>
                <a:latin typeface="Arial"/>
                <a:ea typeface="ＭＳ Ｐゴシック"/>
              </a:rPr>
              <a:t>G06F 9/00</a:t>
            </a:r>
            <a:r>
              <a:rPr b="0" lang="en-US" sz="2000" spc="-1" strike="noStrike" u="sng">
                <a:solidFill>
                  <a:srgbClr val="00b050"/>
                </a:solidFill>
                <a:uFillTx/>
                <a:latin typeface="Arial"/>
                <a:ea typeface="ＭＳ Ｐゴシック"/>
              </a:rPr>
              <a:t>, 320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04b5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IPC symbol +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extension symbol 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+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file discrimination symbol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ex) </a:t>
            </a:r>
            <a:r>
              <a:rPr b="0" lang="en-US" sz="2000" spc="-1" strike="noStrike" u="sng">
                <a:solidFill>
                  <a:srgbClr val="404b56"/>
                </a:solidFill>
                <a:uFillTx/>
                <a:latin typeface="Arial"/>
                <a:ea typeface="ＭＳ Ｐゴシック"/>
              </a:rPr>
              <a:t>G06F 9/00</a:t>
            </a:r>
            <a:r>
              <a:rPr b="0" lang="en-US" sz="2000" spc="-1" strike="noStrike" u="sng">
                <a:solidFill>
                  <a:srgbClr val="00b050"/>
                </a:solidFill>
                <a:uFillTx/>
                <a:latin typeface="Arial"/>
                <a:ea typeface="ＭＳ Ｐゴシック"/>
              </a:rPr>
              <a:t>, 320 </a:t>
            </a:r>
            <a:r>
              <a:rPr b="0" lang="en-US" sz="2000" spc="-1" strike="noStrike" u="sng">
                <a:solidFill>
                  <a:srgbClr val="9933ff"/>
                </a:solidFill>
                <a:uFillTx/>
                <a:latin typeface="Arial"/>
                <a:ea typeface="ＭＳ Ｐゴシック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04b5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IPC symbol +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file discrimination symbo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ex) </a:t>
            </a:r>
            <a:r>
              <a:rPr b="0" lang="en-US" sz="2000" spc="-1" strike="noStrike" u="sng">
                <a:solidFill>
                  <a:srgbClr val="404b56"/>
                </a:solidFill>
                <a:uFillTx/>
                <a:latin typeface="Arial"/>
                <a:ea typeface="ＭＳ Ｐゴシック"/>
              </a:rPr>
              <a:t>B60G 17/015 </a:t>
            </a:r>
            <a:r>
              <a:rPr b="0" lang="en-US" sz="2000" spc="-1" strike="noStrike" u="sng">
                <a:solidFill>
                  <a:srgbClr val="9933ff"/>
                </a:solidFill>
                <a:uFillTx/>
                <a:latin typeface="Arial"/>
                <a:ea typeface="ＭＳ Ｐゴシック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スライド番号プレースホルダ 3"/>
          <p:cNvSpPr/>
          <p:nvPr/>
        </p:nvSpPr>
        <p:spPr>
          <a:xfrm>
            <a:off x="761040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D907-E235-48A4-BCB9-A63DFD5285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560520" y="115920"/>
            <a:ext cx="7993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What is F-term 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792000" y="1660680"/>
            <a:ext cx="81788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ntire technical field of FI, which has section A to section H, is divided into about 2600 areas and the areas are called “theme”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18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mes out of 2600 themes have “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F-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, which are search keys and we analyze patent documents in each “theme”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-term indexing system is based on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multiple viewpo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iffering from those in FI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図 3" descr=""/>
          <p:cNvPicPr/>
          <p:nvPr/>
        </p:nvPicPr>
        <p:blipFill>
          <a:blip r:embed="rId1"/>
          <a:stretch/>
        </p:blipFill>
        <p:spPr>
          <a:xfrm>
            <a:off x="1719360" y="1558800"/>
            <a:ext cx="7167600" cy="4991400"/>
          </a:xfrm>
          <a:prstGeom prst="rect">
            <a:avLst/>
          </a:prstGeom>
          <a:ln w="0">
            <a:noFill/>
          </a:ln>
        </p:spPr>
      </p:pic>
      <p:sp>
        <p:nvSpPr>
          <p:cNvPr id="352" name="スライド番号プレースホルダ 3"/>
          <p:cNvSpPr/>
          <p:nvPr/>
        </p:nvSpPr>
        <p:spPr>
          <a:xfrm>
            <a:off x="761040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B1E7-84BB-4813-9982-45CAE87DC1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2195640" y="1422360"/>
            <a:ext cx="2182680" cy="33516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1711440" y="1601640"/>
            <a:ext cx="863640" cy="358920"/>
          </a:xfrm>
          <a:prstGeom prst="ellipse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2239920" y="1765440"/>
            <a:ext cx="1654200" cy="250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1584360" y="2649600"/>
            <a:ext cx="387360" cy="546120"/>
          </a:xfrm>
          <a:prstGeom prst="ellipse">
            <a:avLst/>
          </a:prstGeom>
          <a:noFill/>
          <a:ln w="1908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7" name="Line 36"/>
          <p:cNvSpPr/>
          <p:nvPr/>
        </p:nvSpPr>
        <p:spPr>
          <a:xfrm flipV="1">
            <a:off x="4267080" y="1329840"/>
            <a:ext cx="2203560" cy="165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8" name="Line 37"/>
          <p:cNvSpPr/>
          <p:nvPr/>
        </p:nvSpPr>
        <p:spPr>
          <a:xfrm>
            <a:off x="3498840" y="2023920"/>
            <a:ext cx="2617920" cy="130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9" name="Line 38"/>
          <p:cNvSpPr/>
          <p:nvPr/>
        </p:nvSpPr>
        <p:spPr>
          <a:xfrm>
            <a:off x="1103400" y="1589040"/>
            <a:ext cx="579240" cy="16992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Line 39"/>
          <p:cNvSpPr/>
          <p:nvPr/>
        </p:nvSpPr>
        <p:spPr>
          <a:xfrm flipH="1">
            <a:off x="1219320" y="2924280"/>
            <a:ext cx="365040" cy="615960"/>
          </a:xfrm>
          <a:prstGeom prst="line">
            <a:avLst/>
          </a:prstGeom>
          <a:ln w="1908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1" name="Line 40"/>
          <p:cNvSpPr/>
          <p:nvPr/>
        </p:nvSpPr>
        <p:spPr>
          <a:xfrm flipH="1" flipV="1">
            <a:off x="1130400" y="4299120"/>
            <a:ext cx="426960" cy="839520"/>
          </a:xfrm>
          <a:prstGeom prst="line">
            <a:avLst/>
          </a:prstGeom>
          <a:ln w="1908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2" name="Oval 41"/>
          <p:cNvSpPr/>
          <p:nvPr/>
        </p:nvSpPr>
        <p:spPr>
          <a:xfrm>
            <a:off x="1557360" y="5059440"/>
            <a:ext cx="431640" cy="401400"/>
          </a:xfrm>
          <a:prstGeom prst="ellipse">
            <a:avLst/>
          </a:prstGeom>
          <a:noFill/>
          <a:ln w="1908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3" name="Text Box 45"/>
          <p:cNvSpPr/>
          <p:nvPr/>
        </p:nvSpPr>
        <p:spPr>
          <a:xfrm>
            <a:off x="225360" y="11350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ＭＳ Ｐゴシック"/>
              </a:rPr>
              <a:t>Theme Cod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4" name="Text Box 46"/>
          <p:cNvSpPr/>
          <p:nvPr/>
        </p:nvSpPr>
        <p:spPr>
          <a:xfrm>
            <a:off x="411120" y="3468600"/>
            <a:ext cx="10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8200"/>
                </a:solidFill>
                <a:latin typeface="Arial"/>
                <a:ea typeface="ＭＳ Ｐゴシック"/>
              </a:rPr>
              <a:t>View</a:t>
            </a:r>
            <a:br>
              <a:rPr sz="2400"/>
            </a:br>
            <a:r>
              <a:rPr b="0" lang="en-US" sz="2400" spc="-1" strike="noStrike">
                <a:solidFill>
                  <a:srgbClr val="da8200"/>
                </a:solidFill>
                <a:latin typeface="Arial"/>
                <a:ea typeface="ＭＳ Ｐゴシック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5" name="Text Box 47"/>
          <p:cNvSpPr/>
          <p:nvPr/>
        </p:nvSpPr>
        <p:spPr>
          <a:xfrm>
            <a:off x="6537240" y="1062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Subject of the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6" name="Text Box 48"/>
          <p:cNvSpPr/>
          <p:nvPr/>
        </p:nvSpPr>
        <p:spPr>
          <a:xfrm>
            <a:off x="6165720" y="19130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I Coverag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7" name="AutoShape 49"/>
          <p:cNvSpPr/>
          <p:nvPr/>
        </p:nvSpPr>
        <p:spPr>
          <a:xfrm>
            <a:off x="1914480" y="2647800"/>
            <a:ext cx="287280" cy="2386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61920 h 2386080"/>
              <a:gd name="textAreaBottom" fmla="*/ 2324160 h 238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8" name="AutoShape 50"/>
          <p:cNvSpPr/>
          <p:nvPr/>
        </p:nvSpPr>
        <p:spPr>
          <a:xfrm>
            <a:off x="1922400" y="5095800"/>
            <a:ext cx="293760" cy="1401840"/>
          </a:xfrm>
          <a:custGeom>
            <a:avLst/>
            <a:gdLst>
              <a:gd name="textAreaLeft" fmla="*/ 187560 w 293760"/>
              <a:gd name="textAreaRight" fmla="*/ 294120 w 293760"/>
              <a:gd name="textAreaTop" fmla="*/ 50040 h 1401840"/>
              <a:gd name="textAreaBottom" fmla="*/ 1351800 h 140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5"/>
                  <a:pt x="10800" y="2470"/>
                </a:cubicBezTo>
                <a:lnTo>
                  <a:pt x="10800" y="1130"/>
                </a:lnTo>
                <a:cubicBezTo>
                  <a:pt x="10800" y="2365"/>
                  <a:pt x="5400" y="3600"/>
                  <a:pt x="0" y="3600"/>
                </a:cubicBezTo>
                <a:cubicBezTo>
                  <a:pt x="5400" y="3600"/>
                  <a:pt x="10800" y="4835"/>
                  <a:pt x="10800" y="6070"/>
                </a:cubicBezTo>
                <a:lnTo>
                  <a:pt x="10800" y="19130"/>
                </a:lnTo>
                <a:cubicBezTo>
                  <a:pt x="10800" y="2036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9" name="Text Box 32"/>
          <p:cNvSpPr/>
          <p:nvPr/>
        </p:nvSpPr>
        <p:spPr>
          <a:xfrm>
            <a:off x="560520" y="44280"/>
            <a:ext cx="453708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at is F-term 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d4d4d"/>
                </a:solidFill>
                <a:latin typeface="Arial"/>
              </a:rPr>
              <a:t>Sample of F-term List</a:t>
            </a:r>
            <a:endParaRPr b="0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at is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Broad</a:t>
            </a:r>
            <a:r>
              <a:rPr b="1" lang="ja-JP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Facet?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1" name="スライド番号プレースホルダー 2"/>
          <p:cNvSpPr/>
          <p:nvPr/>
        </p:nvSpPr>
        <p:spPr>
          <a:xfrm>
            <a:off x="761040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E82B-A459-443C-A2B0-B936750EA7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2" name="正方形/長方形 4"/>
          <p:cNvSpPr/>
          <p:nvPr/>
        </p:nvSpPr>
        <p:spPr>
          <a:xfrm>
            <a:off x="396720" y="1100160"/>
            <a:ext cx="917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ff"/>
                </a:solidFill>
                <a:latin typeface="Arial"/>
                <a:ea typeface="ＭＳ Ｐゴシック"/>
              </a:rPr>
              <a:t>JPO has a national classification Facet in addition</a:t>
            </a:r>
            <a:r>
              <a:rPr b="0" lang="ja-JP" sz="2400" spc="-1" strike="noStrike">
                <a:solidFill>
                  <a:srgbClr val="1d1d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1d1dff"/>
                </a:solidFill>
                <a:latin typeface="Arial"/>
                <a:ea typeface="ＭＳ Ｐゴシック"/>
              </a:rPr>
              <a:t>to FI and F-ter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cet covers all the fields of F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 section to H section) or the part of the fields of FI, e.g. plural of subclass or plural of group. Facet is able to set the coverage area larger than F-ter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acet enables to prior art search of viewpoint differing from those in FI and F-term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201600" y="3416400"/>
            <a:ext cx="817884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4" name="正方形/長方形 8"/>
          <p:cNvSpPr/>
          <p:nvPr/>
        </p:nvSpPr>
        <p:spPr>
          <a:xfrm>
            <a:off x="396720" y="3983040"/>
            <a:ext cx="935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ff"/>
                </a:solidFill>
                <a:latin typeface="Arial"/>
                <a:ea typeface="ＭＳ Ｐゴシック"/>
              </a:rPr>
              <a:t>Symbol of Broad Face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Alphabet symbol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ftmost symbol i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ＭＳ ゴシック"/>
              </a:rPr>
              <a:t>JPO has 14 Broad Facets including </a:t>
            </a:r>
            <a:r>
              <a:rPr b="0" lang="en-US" sz="2400" spc="-1" strike="noStrike">
                <a:solidFill>
                  <a:srgbClr val="3333ff"/>
                </a:solidFill>
                <a:latin typeface="Arial Unicode MS"/>
                <a:ea typeface="ＭＳ ゴシック"/>
              </a:rPr>
              <a:t>ZI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ＭＳ ゴシック"/>
              </a:rPr>
              <a:t> which is the patent classification regarding Internet of Things(IoT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2:50:57Z</dcterms:created>
  <dc:creator>太田　良隆</dc:creator>
  <dc:description/>
  <cp:keywords>IPC</cp:keywords>
  <dc:language>en-US</dc:language>
  <cp:lastModifiedBy>MALANGA SALAZAR Isabelle</cp:lastModifiedBy>
  <cp:lastPrinted>2017-01-16T12:21:25Z</cp:lastPrinted>
  <dcterms:modified xsi:type="dcterms:W3CDTF">2017-03-08T11:43:07Z</dcterms:modified>
  <cp:revision>2206</cp:revision>
  <dc:subject>Recent Developments in the FI/F-term</dc:subject>
  <dc:title>Recent Developments in the FI/F-term</dc:title>
</cp:coreProperties>
</file>