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FDE2-CED0-4413-A8B5-F7D4C4FF5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60DA-11A4-4C33-8589-3C7ADAC46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6A5A-EE05-4309-A0D5-508466770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FF45-F45B-4406-9D41-415D5450F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AD7B-0537-425A-982E-506D0A5A0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9F02-D355-4F1E-876D-8DEF92121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BE22-8938-48F2-8080-3089E9A13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9831-2D4A-4FA2-B6B1-22DAC58C1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416E-F13F-446D-A89C-A00E6736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02D3-DFFF-46EC-9F62-74A937F19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FB56-2516-4373-A452-F0CD44511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2E15-10A4-4D15-AABD-D5EC25FB3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CEAC-4577-4773-8462-D491CD45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pc.mail@wipo.in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809520"/>
            <a:ext cx="5297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the Handover of the Working List Management from the EPO to W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49</a:t>
            </a:r>
            <a:r>
              <a:rPr b="0" lang="en-US" sz="2000" spc="-1" strike="noStrike" baseline="30000">
                <a:solidFill>
                  <a:srgbClr val="00408c"/>
                </a:solidFill>
                <a:latin typeface="Arial"/>
                <a:ea typeface="ヒラギノ角ゴ Pro W3"/>
              </a:rPr>
              <a:t>th</a:t>
            </a: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session of the IPC Committee of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714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2, 20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11280" y="5253120"/>
            <a:ext cx="75531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,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rnational Classifications and Standard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) proje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2016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Project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-WIPO Bilateral cooperation on th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conclusions: de-coupl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CD-IPCRECLASS synchron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quisition by WIPO of a solution addressing the expected handover and functional ev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2009 Residual Working Lis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s related to MCD-IPCRECLASS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) proje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Investigations on IPC reclassification backlog 200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situation in MCD is different from what was exp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 only is not sufficient to address IPC reclassification backlo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effects of earlier problems in the IPC Validity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Specific to particular nation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Transfer applied in IPCRE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 conclusions made in 2016 need to be confirmed by new sets of Residual Working Lists in 2017 in order to define IPCWLMS functional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 Solution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S) planed timelin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idation of procurement Approach: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1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rms of Reference for IPCWLMS and Contract by WIPO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: S1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lementation phase 1: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3 2017 to Q2 20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for IPC 2019.01 W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lementation phase 2: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3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 for your attention!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c.mail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</cp:keywords>
  <dc:language>en-US</dc:language>
  <cp:lastModifiedBy>MALANGA SALAZAR Isabelle</cp:lastModifiedBy>
  <cp:lastPrinted>2016-02-24T10:06:58Z</cp:lastPrinted>
  <dcterms:modified xsi:type="dcterms:W3CDTF">2017-03-08T11:25:56Z</dcterms:modified>
  <cp:revision>184</cp:revision>
  <dc:subject>Report on the Handover of the Working List Management from the EPO to WIPO</dc:subject>
  <dc:title>Report on the Handover of the Working List Management from the EPO to WIPO</dc:title>
</cp:coreProperties>
</file>