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49FD-2F2A-4FB4-B213-1B23558C3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6D9D-9198-4CB5-8FD2-A433CE78E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75F7-07FB-4CDA-B892-1F6517189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2408-50D2-4C17-A0C9-2157D35E6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B433-CE5C-4035-BB1B-F0940B7F0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33FC-D974-46C3-8324-F046A8921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F525-557C-494E-8398-F313DB235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A13A-F843-46AF-9D19-4A5CA331E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9414-8B3A-40CF-9BF2-A67E21326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92A2-C83D-47F6-9BEA-D895A1474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FE73-6253-4591-95A9-B1E8A55BF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39F7-59A9-485F-ABDC-24C239CA0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FEE-B06C-433F-8307-5FEF178E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pc.mail@wipo.in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3809520"/>
            <a:ext cx="52974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Report on the Handover of the Working List Management from the EPO to WI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49</a:t>
            </a:r>
            <a:r>
              <a:rPr b="0" lang="en-US" sz="2000" spc="-1" strike="noStrike" baseline="30000">
                <a:solidFill>
                  <a:srgbClr val="00408c"/>
                </a:solidFill>
                <a:latin typeface="Arial"/>
                <a:ea typeface="ヒラギノ角ゴ Pro W3"/>
              </a:rPr>
              <a:t>th</a:t>
            </a: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session of the IPC Committee of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249960" y="5253120"/>
            <a:ext cx="2714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2, 20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611280" y="5253120"/>
            <a:ext cx="75531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,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ternational Classifications and Standard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Working List Management</a:t>
            </a:r>
            <a:br>
              <a:rPr sz="3600"/>
            </a:b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(IPCWLM) projec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2016 activ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Project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-WIPO Bilateral cooperation on th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conclusions: de-coupl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CD-IPCRECLASS synchron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quisition by WIPO of a solution addressing the expected handover and functional ev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2009 Residual Working List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ons related to MCD-IPCRECLASS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Working List Management</a:t>
            </a:r>
            <a:br>
              <a:rPr sz="3600"/>
            </a:b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(IPCWLM) projec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Investigations on IPC reclassification backlog 200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situation in MCD is different from what was exp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 only is not sufficient to address IPC reclassification backlo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 effects of earlier problems in the IPC Validity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Specific to particular national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Transfer applied in IPCRE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tical conclusions made in 2016 need to be confirmed by new sets of Residual Working Lists in 2017 in order to define IPCWLMS functional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Working List Management Solution</a:t>
            </a:r>
            <a:br>
              <a:rPr sz="3600"/>
            </a:b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(IPCWLMS) planed timelin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alidation of procurement Approach: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Q1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erms of Reference for IPCWLMS and Contract by WIPO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: S1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mplementation phase 1: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Q3 2017 to Q2 201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for IPC 2019.01 W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mplementation phase 2: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ヒラギノ角ゴ Pro W3"/>
              </a:rPr>
              <a:t>Q3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hank you for your attention!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pc.mail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WIPO</dc:creator>
  <dc:description/>
  <cp:keywords>IPC</cp:keywords>
  <dc:language>en-US</dc:language>
  <cp:lastModifiedBy>MALANGA SALAZAR Isabelle</cp:lastModifiedBy>
  <cp:lastPrinted>2016-02-24T10:06:58Z</cp:lastPrinted>
  <dcterms:modified xsi:type="dcterms:W3CDTF">2017-03-08T11:25:56Z</dcterms:modified>
  <cp:revision>184</cp:revision>
  <dc:subject>Report on the Handover of the Working List Management from the EPO to WIPO</dc:subject>
  <dc:title>Report on the Handover of the Working List Management from the EPO to WIPO</dc:title>
</cp:coreProperties>
</file>