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8452-08A1-440C-AC18-0AD176B5A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9C39-F200-42A4-9B6C-BF3D29E19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9BAC-E894-4B95-9764-F44AB15BC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1FA1-79C7-4885-B781-60C155952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1341-9A3C-4EB4-9C3A-8205F479E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B1E6-E74B-4780-9997-422C2B533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BF1E-F91D-4AC3-8C07-86ECE229D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F3FD-6F8B-4D8E-A479-336B4DFB5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1C64-8388-44D4-9EFE-578980F1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6D51-AA9D-40F3-9953-9AE6D52A1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B0B1-96AB-4DD4-BECB-CFDA6FDE6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5D7-3135-41E3-B955-A02C8B6BA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09D-1A2D-4DA0-8BBD-7B739C89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3.wipo.int/ipc-ief/ief-projects/ipc/ce447/ce447-a21_ibrr.docx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pc.mail@wipo.in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5297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IPC-related I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49</a:t>
            </a:r>
            <a:r>
              <a:rPr b="0" lang="en-US" sz="2000" spc="-1" strike="noStrike" baseline="30000">
                <a:solidFill>
                  <a:srgbClr val="00408c"/>
                </a:solidFill>
                <a:latin typeface="Arial"/>
                <a:ea typeface="ヒラギノ角ゴ Pro W3"/>
              </a:rPr>
              <a:t>th</a:t>
            </a: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session of the IPC Committee of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714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2, 20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11280" y="5253120"/>
            <a:ext cx="75531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,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rnational Classifications and Standard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6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1280" y="1098720"/>
            <a:ext cx="784836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7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55640" y="1095480"/>
            <a:ext cx="77040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70028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ackground &amp; Problems to s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Functional Evolution over time: Pre-reform, IPC Reform, Core/advanced levels, illustrations, definition tabs, Corrigendum, Compilation, CPC&amp;FI, IPC version indicators, data exception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opportunities to changes to Input Files specifications (2006 and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istorical IPC Versions in a single platform, i.e. recurrent need to consider: adaptation of legacy IPC versions, when possibl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70028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ackground &amp; Problems to s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opportunities to changes to Input Files specifications (2006 and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historical IPC Versions in a single platform, i.e. recurrent need to consider: adaptation of legacy IPC versions, when possible at all (e.g. IPC 2016.01 Defin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upport costs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as from 2017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CTIVE Vers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given to the support of functionalities for current and future IPC versions e.g. 2017.01, 2018.01…until it conflicts with a new IPCPUB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ARCHIVED vers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ze on presentation of legacy IPC vers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published while in for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PD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of IPC 1 to IPC 2016.01on the basis of IPCPUB 6 layout (including its potential def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PUB - Archive mode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Archived IPC version</a:t>
            </a: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with their illust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” PDF archive based on the most complete view at subclass level (monolingual or biling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&amp; white 2 columns PDF preserved download and IT suppor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earch features in archived IPC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 for version 7.0f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82296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tatus for version 7.0f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rt Search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Search: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PUB key Web services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CAT REST service: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read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line help update 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P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lans for version 7.0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17668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compilation in PDF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PUB missing Web services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finalization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S part of advanced search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archived versions at symbol level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IPCPUB7- P</a:t>
            </a:r>
            <a:r>
              <a:rPr b="1" lang="en-US" sz="3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lans for version 7.0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for National Offices: </a:t>
            </a:r>
            <a:r>
              <a:rPr b="1" i="1" lang="en-US" sz="2400" spc="-1" strike="noStrike">
                <a:solidFill>
                  <a:srgbClr val="f1850f"/>
                </a:solidFill>
                <a:latin typeface="Arial"/>
              </a:rPr>
              <a:t>in prog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availability for Offic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Q1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6 phasing out Q2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earch in archived version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of static viewer (performance)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request based on C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o WIPO new authentication and Identity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tegorization in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ublication platform (IPCPUB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IPC WG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decisions on Offices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Review and decisions on Offices suggestions (based on CE447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2279520" y="31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3.wipo.int/ipc-ief/ief-projects/ipc/ce447/ce447-a21_ibrr.doc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 for your attention!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c.mail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Migration to WIPO new authentication and Identity management syste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Completed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S Data Cap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 E-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ext categorization in the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At the opportunity of IPCCAT Retraining based on IPC 2016.01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bservation since 2013 on the English training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number of Main-Groups: +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number of trained Main-Groups: +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by the training collection at Main-Group: -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 IPCCAT precision (3 guesses): no change (8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 Millions of documents uploaded in database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llions of CPC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 Millions of IPC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eparation to resume research on text categ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Number of documents referenced by IPC symbols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Graphique 1" descr=""/>
          <p:cNvPicPr/>
          <p:nvPr/>
        </p:nvPicPr>
        <p:blipFill>
          <a:blip r:embed="rId1"/>
          <a:stretch/>
        </p:blipFill>
        <p:spPr>
          <a:xfrm>
            <a:off x="463680" y="1268280"/>
            <a:ext cx="7278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utomatic text categorization in the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Potential perspectives or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vive legacy IPCCAT ES, FR, EN, DE, RU, ZH (done in 2005) apply to othe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ve IPCCAT clustering technics (KNN) to monitor classification practices and IPC revision candi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whether automatic categorization at Group level in specific subclass or Main group works e.g. in reclassification as potential alternative or complement to defaul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that its combination with CAT tools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IPCs with indication of “Machine generated” and IB as generating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9480" y="192564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Since IPC WG 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gration with IPCCAT retrained with IPC 2016.01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Advanced search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except STATS part</a:t>
            </a: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2017.01 is published in IPCPUB7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2017.01 Static scheme files and viewer for some Nation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Arch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in 2005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4" name="Picture 3075" descr="N:\OrgClaims\Shared\_Claims\Show\New_IPC_products\RIPCIS_viewer.jpg"/>
          <p:cNvPicPr/>
          <p:nvPr/>
        </p:nvPicPr>
        <p:blipFill>
          <a:blip r:embed="rId1"/>
          <a:stretch/>
        </p:blipFill>
        <p:spPr>
          <a:xfrm>
            <a:off x="108000" y="1052640"/>
            <a:ext cx="88106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access"/>
          <p:cNvPicPr/>
          <p:nvPr/>
        </p:nvPicPr>
        <p:blipFill>
          <a:blip r:embed="rId1"/>
          <a:stretch/>
        </p:blipFill>
        <p:spPr>
          <a:xfrm>
            <a:off x="684360" y="1197000"/>
            <a:ext cx="8351640" cy="561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in 2010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</cp:keywords>
  <dc:language>en-US</dc:language>
  <cp:lastModifiedBy>MALANGA SALAZAR Isabelle</cp:lastModifiedBy>
  <cp:lastPrinted>2016-02-24T10:06:58Z</cp:lastPrinted>
  <dcterms:modified xsi:type="dcterms:W3CDTF">2017-03-08T11:18:32Z</dcterms:modified>
  <cp:revision>185</cp:revision>
  <dc:subject>Report on IPC-related IT systems</dc:subject>
  <dc:title>Report on IPC-related IT systems</dc:title>
</cp:coreProperties>
</file>