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709200" y="744120"/>
            <a:ext cx="538812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6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DED65D-22C7-4084-AB3C-312986E3AE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576900-5246-44E4-B154-F7C8D4D845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A04F64-E02E-445D-A194-89209F5A30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B12E5C-83F3-4E47-A86D-9D7B0A4F01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E672E4-359F-4BAC-A55F-F7AAD6ACE6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54CE0A-3A15-42EF-BD1A-EA2D27DF9C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5FD322-9246-4058-AFCE-453AEB6866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6E6BE8-9A5E-4454-93FA-9203B6898A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DD89EC-95E5-44F2-99A4-41F9CB0728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9DE8CC-26C3-43F5-B30B-6C24679956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040108-9F02-4B50-882A-6F50DBEBD1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5668E4-5164-49C9-81AB-EB8CAB8185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08EBA7-0789-43F2-8056-F553A417EA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96A294-73F2-4452-927F-6835BED71A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8E3910-ABB2-4E32-82C1-14516C3B2D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5F49C384-E6CD-4CBB-81AB-C547004008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DCBE6CB7-BA13-43B1-97B8-2C05AB0DFC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A1280C-4C2E-4B62-BC05-F18F6F8BD1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61990A-42FD-465F-9CAB-C273D384B1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236692-478E-46A8-BCA7-4E55778B91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88120" cy="3729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1ECACC-D057-48C4-81CE-7E37F08FDC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8CE47-DE14-43CA-8FDA-8B311C733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BB5A-D188-42F0-B622-01202DCAC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B78B-5F38-4E49-8D7E-688392516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A41B-1A8F-49CC-AAE8-9741DFFBB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0160" y="115920"/>
            <a:ext cx="8208720" cy="20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D394-FA0E-4B5A-8B6C-68D4AC380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24094-8A1B-408C-80E9-ED1A50AEAD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BC6B6-9CC5-4DBB-8ABE-F601152551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A71A2-31E2-4E73-A9E9-B6E975E4AA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E48BD-E55C-42E0-B729-B32E4629EE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B044-33D8-4ACD-A11B-3E6D5F4F90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0C387-2F8E-4138-B221-9B14790B4B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00160" y="115920"/>
            <a:ext cx="8208720" cy="20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EE743-72BE-4222-B4C5-F6D5F22108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98828-180F-4127-9541-98D2C1A55A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52F48-E196-4E86-9F36-DAD9F039EF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67BB7-0546-4DC8-8178-3D80015CD6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BA66-E78C-42BB-A095-F3B779635B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35A12-44B8-43A7-8D79-FC76BA0CC7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13DE1-FF69-4FF3-BA90-6FD5B3C247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F9A4-AC4E-45B1-80C8-1A8F1CF68B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670-958E-499C-8E56-86280831E3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1B4-A29B-4508-86C3-C20B70F71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0FA0B-92D7-4B28-9D5A-0A8C8555B6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B3BC-3E10-4DEF-B547-A10FCB5335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4398-E39F-451E-8277-3720D770B1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00160" y="115920"/>
            <a:ext cx="8208720" cy="20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480C-7F21-4B73-AD47-CFA9CFFE7F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88A-1F8D-43C9-A4C6-CC759E927D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0EA3-8D20-42DF-A246-E9BCD0C212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547-6275-4C7F-9A2E-84924C79C88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4A0D-8744-45B2-AF68-A0133AE0EA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E825-1CBD-436A-9FBD-09D9054A74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9F4-8EE1-4761-B16D-4EAA252B8D2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68F56-D94F-425E-9673-743B55B8B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5730-7A67-4B5C-8C80-9430F802B5B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42ED3-FA6B-42FF-9025-7CDEF8ADC10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A7707-4F6E-47F9-B97E-74DB7668F25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7BEA5-31F0-49C4-923E-FA5275DAFA5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BFE21-AC84-4331-8183-FD33201E9C0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00160" y="115920"/>
            <a:ext cx="8208720" cy="20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30D40-2927-42A4-A893-E3E98699D71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F6D1F-B106-4142-BF5E-7AAE5AD4144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17FB7-D2E9-4540-A04E-66DAEB728C1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8DCB8-DEC4-4BA5-B5D9-8EC5357A7E7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8B159-6F89-4CD5-B23C-FEE13F26BB3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56AFB-7E75-4067-9193-32DE45E34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00160" y="115920"/>
            <a:ext cx="8208720" cy="20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68B3-8A1A-4DF0-854A-65C59D61A37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49842-A5C2-4286-A710-FFB00A036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9CC8C-F325-47D5-AA66-7AED11277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80CAA-CB9E-4744-8A88-EE2A49A4B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0160" y="102960"/>
            <a:ext cx="820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0687-B613-4B61-95C9-24EEEFC31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8408880" y="38160"/>
            <a:ext cx="1440000" cy="53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610040" y="65527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E102-9A61-452B-A4A6-5EC7A20943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AutoShape 6"/>
          <p:cNvSpPr/>
          <p:nvPr/>
        </p:nvSpPr>
        <p:spPr>
          <a:xfrm flipV="1">
            <a:off x="200160" y="548280"/>
            <a:ext cx="9648720" cy="7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5"/>
          <p:cNvSpPr/>
          <p:nvPr/>
        </p:nvSpPr>
        <p:spPr>
          <a:xfrm flipV="1" rot="5400000">
            <a:off x="6067440" y="3392640"/>
            <a:ext cx="6626160" cy="7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AutoShape 4"/>
          <p:cNvSpPr/>
          <p:nvPr/>
        </p:nvSpPr>
        <p:spPr>
          <a:xfrm flipV="1">
            <a:off x="198360" y="6237360"/>
            <a:ext cx="9650520" cy="6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AutoShape 6"/>
          <p:cNvSpPr/>
          <p:nvPr/>
        </p:nvSpPr>
        <p:spPr>
          <a:xfrm flipV="1">
            <a:off x="128520" y="549000"/>
            <a:ext cx="957744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AutoShape 7"/>
          <p:cNvSpPr/>
          <p:nvPr/>
        </p:nvSpPr>
        <p:spPr>
          <a:xfrm flipV="1" rot="5400000">
            <a:off x="-2755800" y="3467520"/>
            <a:ext cx="6705720" cy="7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79214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45" name="Picture 15" descr=""/>
          <p:cNvPicPr/>
          <p:nvPr/>
        </p:nvPicPr>
        <p:blipFill>
          <a:blip r:embed="rId2"/>
          <a:stretch/>
        </p:blipFill>
        <p:spPr>
          <a:xfrm>
            <a:off x="8408880" y="47520"/>
            <a:ext cx="1440000" cy="5302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6"/>
          <p:cNvSpPr/>
          <p:nvPr/>
        </p:nvSpPr>
        <p:spPr>
          <a:xfrm>
            <a:off x="9161640" y="30240"/>
            <a:ext cx="687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 Unicode MS"/>
              </a:rPr>
              <a:t>【</a:t>
            </a:r>
            <a:r>
              <a:rPr b="0" lang="ja-JP" sz="900" spc="-1" strike="noStrike">
                <a:solidFill>
                  <a:srgbClr val="808080"/>
                </a:solidFill>
                <a:latin typeface="Arial Unicode MS"/>
              </a:rPr>
              <a:t>機密性２</a:t>
            </a:r>
            <a:r>
              <a:rPr b="0" lang="en-US" sz="900" spc="-1" strike="noStrike">
                <a:solidFill>
                  <a:srgbClr val="808080"/>
                </a:solidFill>
                <a:latin typeface="Arial Unicode MS"/>
              </a:rPr>
              <a:t>】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5"/>
          <p:cNvSpPr/>
          <p:nvPr/>
        </p:nvSpPr>
        <p:spPr>
          <a:xfrm flipV="1" rot="5400000">
            <a:off x="6067440" y="3392640"/>
            <a:ext cx="6626160" cy="7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AutoShape 4"/>
          <p:cNvSpPr/>
          <p:nvPr/>
        </p:nvSpPr>
        <p:spPr>
          <a:xfrm flipV="1">
            <a:off x="198360" y="6237360"/>
            <a:ext cx="9650520" cy="6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AutoShape 6"/>
          <p:cNvSpPr/>
          <p:nvPr/>
        </p:nvSpPr>
        <p:spPr>
          <a:xfrm flipV="1">
            <a:off x="128520" y="549000"/>
            <a:ext cx="957744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AutoShape 7"/>
          <p:cNvSpPr/>
          <p:nvPr/>
        </p:nvSpPr>
        <p:spPr>
          <a:xfrm flipV="1" rot="5400000">
            <a:off x="-2755800" y="3467520"/>
            <a:ext cx="6705720" cy="7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7" name="Picture 15" descr=""/>
          <p:cNvPicPr/>
          <p:nvPr/>
        </p:nvPicPr>
        <p:blipFill>
          <a:blip r:embed="rId2"/>
          <a:stretch/>
        </p:blipFill>
        <p:spPr>
          <a:xfrm>
            <a:off x="8408880" y="47520"/>
            <a:ext cx="1440000" cy="530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6"/>
          <p:cNvSpPr/>
          <p:nvPr/>
        </p:nvSpPr>
        <p:spPr>
          <a:xfrm>
            <a:off x="9161640" y="30240"/>
            <a:ext cx="687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 Unicode MS"/>
              </a:rPr>
              <a:t>【</a:t>
            </a:r>
            <a:r>
              <a:rPr b="0" lang="ja-JP" sz="900" spc="-1" strike="noStrike">
                <a:solidFill>
                  <a:srgbClr val="808080"/>
                </a:solidFill>
                <a:latin typeface="Arial Unicode MS"/>
              </a:rPr>
              <a:t>機密性２</a:t>
            </a:r>
            <a:r>
              <a:rPr b="0" lang="en-US" sz="900" spc="-1" strike="noStrike">
                <a:solidFill>
                  <a:srgbClr val="808080"/>
                </a:solidFill>
                <a:latin typeface="Arial Unicode MS"/>
              </a:rPr>
              <a:t>】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79214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2"/>
          </p:nvPr>
        </p:nvSpPr>
        <p:spPr>
          <a:xfrm>
            <a:off x="7610040" y="65527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7EFE-0A55-47DA-9FA2-ED19138AB30A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5"/>
          <p:cNvSpPr/>
          <p:nvPr/>
        </p:nvSpPr>
        <p:spPr>
          <a:xfrm flipV="1" rot="5400000">
            <a:off x="6067440" y="3392640"/>
            <a:ext cx="6626160" cy="7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AutoShape 4"/>
          <p:cNvSpPr/>
          <p:nvPr/>
        </p:nvSpPr>
        <p:spPr>
          <a:xfrm flipV="1">
            <a:off x="198360" y="6237360"/>
            <a:ext cx="9650520" cy="6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AutoShape 6"/>
          <p:cNvSpPr/>
          <p:nvPr/>
        </p:nvSpPr>
        <p:spPr>
          <a:xfrm flipV="1">
            <a:off x="128520" y="549000"/>
            <a:ext cx="957744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AutoShape 7"/>
          <p:cNvSpPr/>
          <p:nvPr/>
        </p:nvSpPr>
        <p:spPr>
          <a:xfrm flipV="1" rot="5400000">
            <a:off x="-2755800" y="3467520"/>
            <a:ext cx="6705720" cy="7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1" name="Picture 15" descr=""/>
          <p:cNvPicPr/>
          <p:nvPr/>
        </p:nvPicPr>
        <p:blipFill>
          <a:blip r:embed="rId2"/>
          <a:stretch/>
        </p:blipFill>
        <p:spPr>
          <a:xfrm>
            <a:off x="8408880" y="47520"/>
            <a:ext cx="1440000" cy="530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6"/>
          <p:cNvSpPr/>
          <p:nvPr/>
        </p:nvSpPr>
        <p:spPr>
          <a:xfrm>
            <a:off x="9161640" y="30240"/>
            <a:ext cx="687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 Unicode MS"/>
              </a:rPr>
              <a:t>【</a:t>
            </a:r>
            <a:r>
              <a:rPr b="0" lang="ja-JP" sz="900" spc="-1" strike="noStrike">
                <a:solidFill>
                  <a:srgbClr val="808080"/>
                </a:solidFill>
                <a:latin typeface="Arial Unicode MS"/>
              </a:rPr>
              <a:t>機密性２</a:t>
            </a:r>
            <a:r>
              <a:rPr b="0" lang="en-US" sz="900" spc="-1" strike="noStrike">
                <a:solidFill>
                  <a:srgbClr val="808080"/>
                </a:solidFill>
                <a:latin typeface="Arial Unicode MS"/>
              </a:rPr>
              <a:t>】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79214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Num" idx="3"/>
          </p:nvPr>
        </p:nvSpPr>
        <p:spPr>
          <a:xfrm>
            <a:off x="7610040" y="65527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3B9E-2A35-4FBD-804B-00A742C99E7B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5"/>
          <p:cNvSpPr/>
          <p:nvPr/>
        </p:nvSpPr>
        <p:spPr>
          <a:xfrm flipV="1" rot="5400000">
            <a:off x="6067440" y="3392640"/>
            <a:ext cx="6626160" cy="7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AutoShape 4"/>
          <p:cNvSpPr/>
          <p:nvPr/>
        </p:nvSpPr>
        <p:spPr>
          <a:xfrm flipV="1">
            <a:off x="198360" y="6237360"/>
            <a:ext cx="9650520" cy="6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AutoShape 6"/>
          <p:cNvSpPr/>
          <p:nvPr/>
        </p:nvSpPr>
        <p:spPr>
          <a:xfrm flipV="1">
            <a:off x="128520" y="549000"/>
            <a:ext cx="957744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AutoShape 7"/>
          <p:cNvSpPr/>
          <p:nvPr/>
        </p:nvSpPr>
        <p:spPr>
          <a:xfrm flipV="1" rot="5400000">
            <a:off x="-2755800" y="3467520"/>
            <a:ext cx="6705720" cy="7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ff"/>
              </a:gs>
              <a:gs pos="100000">
                <a:srgbClr val="ffffff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75" name="Picture 15" descr=""/>
          <p:cNvPicPr/>
          <p:nvPr/>
        </p:nvPicPr>
        <p:blipFill>
          <a:blip r:embed="rId2"/>
          <a:stretch/>
        </p:blipFill>
        <p:spPr>
          <a:xfrm>
            <a:off x="8408880" y="47520"/>
            <a:ext cx="1440000" cy="5302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6"/>
          <p:cNvSpPr/>
          <p:nvPr/>
        </p:nvSpPr>
        <p:spPr>
          <a:xfrm>
            <a:off x="9161640" y="30240"/>
            <a:ext cx="687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 Unicode MS"/>
              </a:rPr>
              <a:t>【</a:t>
            </a:r>
            <a:r>
              <a:rPr b="0" lang="ja-JP" sz="900" spc="-1" strike="noStrike">
                <a:solidFill>
                  <a:srgbClr val="808080"/>
                </a:solidFill>
                <a:latin typeface="Arial Unicode MS"/>
              </a:rPr>
              <a:t>機密性２</a:t>
            </a:r>
            <a:r>
              <a:rPr b="0" lang="en-US" sz="900" spc="-1" strike="noStrike">
                <a:solidFill>
                  <a:srgbClr val="808080"/>
                </a:solidFill>
                <a:latin typeface="Arial Unicode MS"/>
              </a:rPr>
              <a:t>】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79214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Num" idx="4"/>
          </p:nvPr>
        </p:nvSpPr>
        <p:spPr>
          <a:xfrm>
            <a:off x="7610040" y="65527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DE11-7EFF-45AC-BA4B-D63173CB2DCE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2680" y="2211120"/>
            <a:ext cx="8420040" cy="18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Arial"/>
              </a:rPr>
              <a:t>FI/F-term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668680" y="4312800"/>
            <a:ext cx="4535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February 2017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JAPAN PATENT OFFICE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59456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B099-B664-4198-B1C1-937A5B8FDD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スライド番号プレースホルダ 3"/>
          <p:cNvSpPr/>
          <p:nvPr/>
        </p:nvSpPr>
        <p:spPr>
          <a:xfrm>
            <a:off x="761040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F6E8-65C8-44DE-8143-CDE5A3B771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631800" y="765000"/>
            <a:ext cx="8642520" cy="48276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377" name="AutoShape 3"/>
          <p:cNvSpPr/>
          <p:nvPr/>
        </p:nvSpPr>
        <p:spPr>
          <a:xfrm>
            <a:off x="1782720" y="5300640"/>
            <a:ext cx="6340680" cy="1297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ont page of publica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3600360" y="2550960"/>
            <a:ext cx="2897280" cy="27496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File Index (FI)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0" name="Oval 4"/>
          <p:cNvSpPr/>
          <p:nvPr/>
        </p:nvSpPr>
        <p:spPr>
          <a:xfrm>
            <a:off x="6759720" y="2681280"/>
            <a:ext cx="1701720" cy="1614600"/>
          </a:xfrm>
          <a:prstGeom prst="ellipse">
            <a:avLst/>
          </a:prstGeom>
          <a:noFill/>
          <a:ln w="38160">
            <a:solidFill>
              <a:srgbClr val="3333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1" name="正方形/長方形 1"/>
          <p:cNvSpPr/>
          <p:nvPr/>
        </p:nvSpPr>
        <p:spPr>
          <a:xfrm>
            <a:off x="7803720" y="4249800"/>
            <a:ext cx="15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Unicode MS"/>
                <a:ea typeface="Arial"/>
              </a:rPr>
              <a:t>“</a:t>
            </a:r>
            <a:r>
              <a:rPr b="0" lang="en-US" sz="2800" spc="-1" strike="noStrike">
                <a:solidFill>
                  <a:srgbClr val="3333ff"/>
                </a:solidFill>
                <a:latin typeface="Arial Unicode MS"/>
                <a:ea typeface="Arial"/>
              </a:rPr>
              <a:t>theme”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2" name="円/楕円 2"/>
          <p:cNvSpPr/>
          <p:nvPr/>
        </p:nvSpPr>
        <p:spPr>
          <a:xfrm>
            <a:off x="5433840" y="3605040"/>
            <a:ext cx="914400" cy="351000"/>
          </a:xfrm>
          <a:prstGeom prst="ellipse">
            <a:avLst/>
          </a:prstGeom>
          <a:noFill/>
          <a:ln w="255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ndex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61680" y="1197000"/>
            <a:ext cx="84200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ne of FI/F-term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English Information on classification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GS and IPC-FI-CPC scheme parallel viewer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ion and Reclassification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us of FI/F-term revision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ing FI scheme according to the latest version of IPC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759456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9F2F-A959-425F-9764-E473A8CD89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9" descr="I:\特許分類企画班\１０．国際会議\IP5WGonC\第13回20151019USPTO\03_対処方針・作業文書\FIプレゼンのデータ更新用\コンテンツ\websiteonclassification.jpg"/>
          <p:cNvPicPr/>
          <p:nvPr/>
        </p:nvPicPr>
        <p:blipFill>
          <a:blip r:embed="rId1"/>
          <a:stretch/>
        </p:blipFill>
        <p:spPr>
          <a:xfrm>
            <a:off x="477720" y="646200"/>
            <a:ext cx="8043840" cy="57150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JPO website on Classification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759456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2B2A-5EF4-416B-9009-D1BA2719CF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1742040" y="6424560"/>
            <a:ext cx="640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jpo.go.jp/torikumi_e/searchportal_e/classification.ht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9" descr="I:\特許分類企画班\１０．国際会議\IP5WGonC\第13回20151019USPTO\03_対処方針・作業文書\FIプレゼンのデータ更新用\コンテンツ\websiteonclassification.jpg"/>
          <p:cNvPicPr/>
          <p:nvPr/>
        </p:nvPicPr>
        <p:blipFill>
          <a:blip r:embed="rId1"/>
          <a:stretch/>
        </p:blipFill>
        <p:spPr>
          <a:xfrm>
            <a:off x="477720" y="646200"/>
            <a:ext cx="8043840" cy="5715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MGS (Patent Map Guidance) 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759456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499B-F9B0-4171-B716-0A2C6860CC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1742040" y="6424560"/>
            <a:ext cx="640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jpo.go.jp/torikumi_e/searchportal_e/classification.ht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4" name="角丸四角形 6"/>
          <p:cNvSpPr/>
          <p:nvPr/>
        </p:nvSpPr>
        <p:spPr>
          <a:xfrm>
            <a:off x="2752560" y="2397240"/>
            <a:ext cx="5294520" cy="11221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3" descr="M:\Pictures\JPP_top_en.png"/>
          <p:cNvPicPr/>
          <p:nvPr/>
        </p:nvPicPr>
        <p:blipFill>
          <a:blip r:embed="rId1"/>
          <a:srcRect l="0" t="0" r="0" b="34393"/>
          <a:stretch/>
        </p:blipFill>
        <p:spPr>
          <a:xfrm>
            <a:off x="289080" y="735120"/>
            <a:ext cx="9327960" cy="38462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96" name="Picture 3" descr="M:\Pictures\JPP_top_en.png"/>
          <p:cNvPicPr/>
          <p:nvPr/>
        </p:nvPicPr>
        <p:blipFill>
          <a:blip r:embed="rId2"/>
          <a:srcRect l="959" t="16543" r="723" b="64942"/>
          <a:stretch/>
        </p:blipFill>
        <p:spPr>
          <a:xfrm>
            <a:off x="388800" y="1700280"/>
            <a:ext cx="9172800" cy="1085760"/>
          </a:xfrm>
          <a:prstGeom prst="rect">
            <a:avLst/>
          </a:prstGeom>
          <a:ln w="0">
            <a:noFill/>
          </a:ln>
        </p:spPr>
      </p:pic>
      <p:sp>
        <p:nvSpPr>
          <p:cNvPr id="397" name="スライド番号プレースホルダー 1"/>
          <p:cNvSpPr/>
          <p:nvPr/>
        </p:nvSpPr>
        <p:spPr>
          <a:xfrm>
            <a:off x="761040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E1E3-6DD7-4C97-AA2A-3A8F2A98CD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8" name="Oval 8"/>
          <p:cNvSpPr/>
          <p:nvPr/>
        </p:nvSpPr>
        <p:spPr>
          <a:xfrm>
            <a:off x="7707240" y="1916280"/>
            <a:ext cx="1854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99" name="Picture 4" descr="M:\Desktop\J-plat pat画像\PMGS\トップ画面2ofxx.jpg"/>
          <p:cNvPicPr/>
          <p:nvPr/>
        </p:nvPicPr>
        <p:blipFill>
          <a:blip r:embed="rId3"/>
          <a:stretch/>
        </p:blipFill>
        <p:spPr>
          <a:xfrm>
            <a:off x="1990800" y="3174840"/>
            <a:ext cx="5924520" cy="2951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00" name="左カーブ矢印 2"/>
          <p:cNvSpPr/>
          <p:nvPr/>
        </p:nvSpPr>
        <p:spPr>
          <a:xfrm rot="879000">
            <a:off x="8346600" y="2595240"/>
            <a:ext cx="1136880" cy="2498760"/>
          </a:xfrm>
          <a:custGeom>
            <a:avLst/>
            <a:gdLst>
              <a:gd name="textAreaLeft" fmla="*/ 152280 w 1136880"/>
              <a:gd name="textAreaRight" fmla="*/ 984600 w 1136880"/>
              <a:gd name="textAreaTop" fmla="*/ 518040 h 2498760"/>
              <a:gd name="textAreaBottom" fmla="*/ 1838520 h 249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58" stAng="-5400000" swAng="5400000"/>
                <a:lnTo>
                  <a:pt x="21600" y="11415"/>
                </a:lnTo>
                <a:arcTo wR="21600" hR="8958" stAng="0" swAng="3485573"/>
                <a:lnTo>
                  <a:pt x="5400" y="21316"/>
                </a:lnTo>
                <a:lnTo>
                  <a:pt x="0" y="19144"/>
                </a:lnTo>
                <a:lnTo>
                  <a:pt x="5400" y="16403"/>
                </a:lnTo>
                <a:lnTo>
                  <a:pt x="5400" y="17631"/>
                </a:lnTo>
                <a:arcTo wR="21600" hR="8958" stAng="3485573" swAng="-3288403"/>
                <a:lnTo>
                  <a:pt x="21396" y="10186"/>
                </a:lnTo>
                <a:arcTo wR="21600" hR="8958" stAng="-197171" swAng="-5202829"/>
                <a:close/>
              </a:path>
              <a:path fill="darkenLess" w="21600" h="21600">
                <a:moveTo>
                  <a:pt x="0" y="0"/>
                </a:moveTo>
                <a:arcTo wR="21600" hR="8958" stAng="-5400000" swAng="5400000"/>
                <a:lnTo>
                  <a:pt x="21600" y="11415"/>
                </a:lnTo>
                <a:arcTo wR="21600" hR="8958" stAng="0" swAng="-197171"/>
                <a:lnTo>
                  <a:pt x="21396" y="10186"/>
                </a:lnTo>
                <a:arcTo wR="21600" hR="8958" stAng="-197171" swAng="-5202829"/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95120" y="44280"/>
            <a:ext cx="85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PMGS (Patent Map Guidance)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2" name="正方形/長方形 3"/>
          <p:cNvSpPr/>
          <p:nvPr/>
        </p:nvSpPr>
        <p:spPr>
          <a:xfrm>
            <a:off x="928800" y="6338880"/>
            <a:ext cx="832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ttps://www5.j-platpat.inpit.go.jp/pms/tokujitsu/pmgs_en/PMGS_EN_GM101_Top.actio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9" descr="I:\特許分類企画班\１０．国際会議\IP5WGonC\第13回20151019USPTO\03_対処方針・作業文書\FIプレゼンのデータ更新用\コンテンツ\websiteonclassification.jpg"/>
          <p:cNvPicPr/>
          <p:nvPr/>
        </p:nvPicPr>
        <p:blipFill>
          <a:blip r:embed="rId1"/>
          <a:stretch/>
        </p:blipFill>
        <p:spPr>
          <a:xfrm>
            <a:off x="477720" y="646200"/>
            <a:ext cx="8043840" cy="5715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IPC-FI-CPC scheme parallel viewer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759456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02DA-8867-4695-BBB7-FF170FEDB3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1742040" y="6424560"/>
            <a:ext cx="640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jpo.go.jp/torikumi_e/searchportal_e/classification.ht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7" name="角丸四角形 14"/>
          <p:cNvSpPr/>
          <p:nvPr/>
        </p:nvSpPr>
        <p:spPr>
          <a:xfrm>
            <a:off x="2752560" y="3616200"/>
            <a:ext cx="5294520" cy="836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0" descr="I:\特許分類企画班\１０．国際会議\IP5WGonC\第13回20151019USPTO\03_対処方針・作業文書\FIプレゼンのデータ更新用\コンテンツ\parallel viewer.jpg"/>
          <p:cNvPicPr/>
          <p:nvPr/>
        </p:nvPicPr>
        <p:blipFill>
          <a:blip r:embed="rId1"/>
          <a:stretch/>
        </p:blipFill>
        <p:spPr>
          <a:xfrm>
            <a:off x="757080" y="652320"/>
            <a:ext cx="8972640" cy="54738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IPC-FI-CPC scheme parallel viewer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1542240" y="6389640"/>
            <a:ext cx="68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jpo.go.jp/cgi/cgi-bin/search-portal/narabe_tool_e/narabe_e.cg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5299200" y="2249640"/>
            <a:ext cx="11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8232840" y="2224080"/>
            <a:ext cx="11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P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3" name="Text Box 11"/>
          <p:cNvSpPr/>
          <p:nvPr/>
        </p:nvSpPr>
        <p:spPr>
          <a:xfrm>
            <a:off x="1809720" y="2224080"/>
            <a:ext cx="11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4" name="Oval 9"/>
          <p:cNvSpPr/>
          <p:nvPr/>
        </p:nvSpPr>
        <p:spPr>
          <a:xfrm>
            <a:off x="914400" y="824040"/>
            <a:ext cx="2532240" cy="428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4" descr="I:\特許分類企画班\１０．国際会議\IP5WGonC\第13回20151019USPTO\03_対処方針・作業文書\FIプレゼンのデータ更新用\コンテンツ\parallel viewer_keyword.jpg"/>
          <p:cNvPicPr/>
          <p:nvPr/>
        </p:nvPicPr>
        <p:blipFill>
          <a:blip r:embed="rId1"/>
          <a:stretch/>
        </p:blipFill>
        <p:spPr>
          <a:xfrm>
            <a:off x="189000" y="773280"/>
            <a:ext cx="9347040" cy="5445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IPC-FI-CPC parallel viewer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1542240" y="6262560"/>
            <a:ext cx="68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jpo.go.jp/cgi/cgi-bin/search-portal/narabe_tool_e/narabe_e.cg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418" name="直線矢印コネクタ 40"/>
          <p:cNvCxnSpPr/>
          <p:nvPr/>
        </p:nvCxnSpPr>
        <p:spPr>
          <a:xfrm>
            <a:off x="1589040" y="2187360"/>
            <a:ext cx="3582000" cy="2897640"/>
          </a:xfrm>
          <a:prstGeom prst="straightConnector1">
            <a:avLst/>
          </a:prstGeom>
          <a:ln w="38160">
            <a:solidFill>
              <a:srgbClr val="ccccff"/>
            </a:solidFill>
            <a:miter/>
            <a:tailEnd len="med" type="arrow" w="med"/>
          </a:ln>
        </p:spPr>
      </p:cxnSp>
      <p:sp>
        <p:nvSpPr>
          <p:cNvPr id="419" name="Text Box 15"/>
          <p:cNvSpPr/>
          <p:nvPr/>
        </p:nvSpPr>
        <p:spPr>
          <a:xfrm>
            <a:off x="189000" y="1447920"/>
            <a:ext cx="3857400" cy="459720"/>
          </a:xfrm>
          <a:prstGeom prst="rect">
            <a:avLst/>
          </a:prstGeom>
          <a:solidFill>
            <a:srgbClr val="9c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word searchab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0" name="Oval 9"/>
          <p:cNvSpPr/>
          <p:nvPr/>
        </p:nvSpPr>
        <p:spPr>
          <a:xfrm>
            <a:off x="77760" y="4829040"/>
            <a:ext cx="1511280" cy="425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1" name="下矢印 31"/>
          <p:cNvSpPr/>
          <p:nvPr/>
        </p:nvSpPr>
        <p:spPr>
          <a:xfrm>
            <a:off x="566640" y="441468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2" name="Text Box 15"/>
          <p:cNvSpPr/>
          <p:nvPr/>
        </p:nvSpPr>
        <p:spPr>
          <a:xfrm>
            <a:off x="231840" y="3970440"/>
            <a:ext cx="3024000" cy="459720"/>
          </a:xfrm>
          <a:prstGeom prst="rect">
            <a:avLst/>
          </a:prstGeom>
          <a:solidFill>
            <a:srgbClr val="9c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k to the sche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ndex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61680" y="1197000"/>
            <a:ext cx="84200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ne of FI/F-term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English Information on classification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GS and IPC-FI-CPC scheme parallel viewer 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Revision and Reclassification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us of FI/F-term revision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ing FI scheme according to the latest version of IPC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759456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BC73-E689-48AE-96C6-3139C01C7D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9" descr="I:\特許分類企画班\１０．国際会議\IP5WGonC\第13回20151019USPTO\03_対処方針・作業文書\FIプレゼンのデータ更新用\コンテンツ\websiteonclassification.jpg"/>
          <p:cNvPicPr/>
          <p:nvPr/>
        </p:nvPicPr>
        <p:blipFill>
          <a:blip r:embed="rId1"/>
          <a:stretch/>
        </p:blipFill>
        <p:spPr>
          <a:xfrm>
            <a:off x="477720" y="646200"/>
            <a:ext cx="8043840" cy="57150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JPO website on classification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759456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A5B3-6760-45DD-B0CF-00105515F1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1742040" y="6424560"/>
            <a:ext cx="640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jpo.go.jp/torikumi_e/searchportal_e/classification.ht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0" name="角丸四角形 10"/>
          <p:cNvSpPr/>
          <p:nvPr/>
        </p:nvSpPr>
        <p:spPr>
          <a:xfrm>
            <a:off x="2752560" y="4822920"/>
            <a:ext cx="5294520" cy="7905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1" name="角丸四角形 9"/>
          <p:cNvSpPr/>
          <p:nvPr/>
        </p:nvSpPr>
        <p:spPr>
          <a:xfrm>
            <a:off x="2752560" y="5722920"/>
            <a:ext cx="5294520" cy="6382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ndex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61680" y="1197000"/>
            <a:ext cx="84200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ne of FI/F-term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Information on classification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GS and IPC-FI-CPC scheme parallel viewer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ion and Reclassification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us of FI/F-term revision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ing FI scheme according to the latest version of IPC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759456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8C5F-3EB5-448B-9A2C-6D3A83F539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ndex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61680" y="1197000"/>
            <a:ext cx="84200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ne of FI/F-term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Information on classification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GS and IPC-FI-CPC scheme parallel viewer 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ion and Reclassification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urrent status of FI/F-term revision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Updating FI scheme according to the latest version of IPC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759456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C8FC-CAD5-4A60-AF51-FF0B8BC555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図 1" descr=""/>
          <p:cNvPicPr/>
          <p:nvPr/>
        </p:nvPicPr>
        <p:blipFill>
          <a:blip r:embed="rId1"/>
          <a:stretch/>
        </p:blipFill>
        <p:spPr>
          <a:xfrm>
            <a:off x="765000" y="2033640"/>
            <a:ext cx="9891720" cy="49989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47"/>
          <p:cNvSpPr/>
          <p:nvPr/>
        </p:nvSpPr>
        <p:spPr>
          <a:xfrm>
            <a:off x="42840" y="90360"/>
            <a:ext cx="9290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Rate for FI corresponding to the latest IP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7" name="Text Box 7"/>
          <p:cNvSpPr/>
          <p:nvPr/>
        </p:nvSpPr>
        <p:spPr>
          <a:xfrm>
            <a:off x="165240" y="1000080"/>
            <a:ext cx="9575640" cy="829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8960" bIns="48960" anchor="t">
            <a:sp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on completion of FI revision i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v 2016, rate of FI adopting the latest IPC reached approximately 98.5 %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8" name="スライド番号プレースホルダー 3"/>
          <p:cNvSpPr/>
          <p:nvPr/>
        </p:nvSpPr>
        <p:spPr>
          <a:xfrm>
            <a:off x="7594560" y="647532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930A-2A29-4978-8C6A-AB92FD19A77D}" type="slidenum">
              <a:rPr b="0" lang="ja-JP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439" name="直線矢印コネクタ 2"/>
          <p:cNvCxnSpPr/>
          <p:nvPr/>
        </p:nvCxnSpPr>
        <p:spPr>
          <a:xfrm>
            <a:off x="6479640" y="3593880"/>
            <a:ext cx="435960" cy="108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40" name="直線矢印コネクタ 17"/>
          <p:cNvCxnSpPr/>
          <p:nvPr/>
        </p:nvCxnSpPr>
        <p:spPr>
          <a:xfrm flipH="1">
            <a:off x="2153880" y="4890600"/>
            <a:ext cx="568800" cy="1080"/>
          </a:xfrm>
          <a:prstGeom prst="straightConnector1">
            <a:avLst/>
          </a:prstGeom>
          <a:ln w="31680">
            <a:solidFill>
              <a:srgbClr val="3399ff"/>
            </a:solidFill>
            <a:miter/>
            <a:tailEnd len="med" type="triangle" w="med"/>
          </a:ln>
        </p:spPr>
      </p:cxnSp>
      <p:sp>
        <p:nvSpPr>
          <p:cNvPr id="441" name="正方形/長方形 1"/>
          <p:cNvSpPr/>
          <p:nvPr/>
        </p:nvSpPr>
        <p:spPr>
          <a:xfrm>
            <a:off x="6813720" y="6408720"/>
            <a:ext cx="23148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"/>
          <p:cNvSpPr/>
          <p:nvPr/>
        </p:nvSpPr>
        <p:spPr>
          <a:xfrm>
            <a:off x="759456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7740-B835-48BA-826E-2B18CEB955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646200" y="2459160"/>
            <a:ext cx="842004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  <a:ea typeface="Arial Unicode MS"/>
              </a:rPr>
              <a:t>Thank you very much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ndex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61680" y="1197000"/>
            <a:ext cx="84200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Outline of FI/F-term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Information on classification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GS and IPC-FI-CPC scheme parallel viewer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ion and Reclassification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us of FI/F-term revision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ing FI scheme according to the latest version of IPC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759456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4596-55A6-46E8-AD04-25F6F5B22C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289080" y="1512720"/>
          <a:ext cx="9235800" cy="3559320"/>
        </p:xfrm>
        <a:graphic>
          <a:graphicData uri="http://schemas.openxmlformats.org/drawingml/2006/table">
            <a:tbl>
              <a:tblPr/>
              <a:tblGrid>
                <a:gridCol w="1730160"/>
                <a:gridCol w="2443320"/>
                <a:gridCol w="1554120"/>
                <a:gridCol w="3508200"/>
              </a:tblGrid>
              <a:tr h="70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e5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overn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e5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umber of Ent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e5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ocumentation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e5bd"/>
                    </a:solidFill>
                  </a:tcPr>
                </a:tc>
              </a:tr>
              <a:tr h="142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IP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PC/CE (Committee of Experts); 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upervised by W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 almost all patent docs published worldw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FI/F-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0K/38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 JP do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Slide Number Placeholder 3"/>
          <p:cNvSpPr/>
          <p:nvPr/>
        </p:nvSpPr>
        <p:spPr>
          <a:xfrm>
            <a:off x="9086760" y="6585120"/>
            <a:ext cx="819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EC34-8F0C-4A9B-A53A-A7697C13170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223920" y="111240"/>
            <a:ext cx="7635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Patent Classification Systems in IPC and FI/F-ter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792144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What is FI? Characteristics of FI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404960" y="1771560"/>
            <a:ext cx="53053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division of IPC 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round 190,000 items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s all technical fields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s all JP patent documents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log reclassification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annual revise to keep pace with technology development 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761040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870E-AFC0-45E1-BFD0-64132210FD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719600" y="1890720"/>
            <a:ext cx="17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Features]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238" name="Group 5"/>
          <p:cNvGrpSpPr/>
          <p:nvPr/>
        </p:nvGrpSpPr>
        <p:grpSpPr>
          <a:xfrm>
            <a:off x="38160" y="1489680"/>
            <a:ext cx="2171160" cy="4629240"/>
            <a:chOff x="38160" y="1489680"/>
            <a:chExt cx="2171160" cy="4629240"/>
          </a:xfrm>
        </p:grpSpPr>
        <p:grpSp>
          <p:nvGrpSpPr>
            <p:cNvPr id="239" name="Group 6"/>
            <p:cNvGrpSpPr/>
            <p:nvPr/>
          </p:nvGrpSpPr>
          <p:grpSpPr>
            <a:xfrm>
              <a:off x="546840" y="2314800"/>
              <a:ext cx="685800" cy="3351240"/>
              <a:chOff x="546840" y="2314800"/>
              <a:chExt cx="685800" cy="3351240"/>
            </a:xfrm>
          </p:grpSpPr>
          <p:grpSp>
            <p:nvGrpSpPr>
              <p:cNvPr id="240" name="Group 7"/>
              <p:cNvGrpSpPr/>
              <p:nvPr/>
            </p:nvGrpSpPr>
            <p:grpSpPr>
              <a:xfrm>
                <a:off x="546840" y="2314800"/>
                <a:ext cx="685800" cy="3351240"/>
                <a:chOff x="546840" y="2314800"/>
                <a:chExt cx="685800" cy="3351240"/>
              </a:xfrm>
            </p:grpSpPr>
            <p:grpSp>
              <p:nvGrpSpPr>
                <p:cNvPr id="241" name="Group 8"/>
                <p:cNvGrpSpPr/>
                <p:nvPr/>
              </p:nvGrpSpPr>
              <p:grpSpPr>
                <a:xfrm>
                  <a:off x="546840" y="2314800"/>
                  <a:ext cx="685800" cy="3351240"/>
                  <a:chOff x="546840" y="2314800"/>
                  <a:chExt cx="685800" cy="3351240"/>
                </a:xfrm>
              </p:grpSpPr>
              <p:grpSp>
                <p:nvGrpSpPr>
                  <p:cNvPr id="242" name="Group 9"/>
                  <p:cNvGrpSpPr/>
                  <p:nvPr/>
                </p:nvGrpSpPr>
                <p:grpSpPr>
                  <a:xfrm>
                    <a:off x="546840" y="2314800"/>
                    <a:ext cx="685800" cy="3351240"/>
                    <a:chOff x="546840" y="2314800"/>
                    <a:chExt cx="685800" cy="3351240"/>
                  </a:xfrm>
                </p:grpSpPr>
                <p:sp>
                  <p:nvSpPr>
                    <p:cNvPr id="243" name="AutoShape 10"/>
                    <p:cNvSpPr/>
                    <p:nvPr/>
                  </p:nvSpPr>
                  <p:spPr>
                    <a:xfrm>
                      <a:off x="546840" y="2314800"/>
                      <a:ext cx="685800" cy="3351240"/>
                    </a:xfrm>
                    <a:prstGeom prst="cube">
                      <a:avLst>
                        <a:gd name="adj" fmla="val 25000"/>
                      </a:avLst>
                    </a:prstGeom>
                    <a:solidFill>
                      <a:srgbClr val="cc99ff">
                        <a:alpha val="50000"/>
                      </a:srgbClr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grpSp>
                  <p:nvGrpSpPr>
                    <p:cNvPr id="244" name="Group 11"/>
                    <p:cNvGrpSpPr/>
                    <p:nvPr/>
                  </p:nvGrpSpPr>
                  <p:grpSpPr>
                    <a:xfrm>
                      <a:off x="546840" y="2474280"/>
                      <a:ext cx="685800" cy="159120"/>
                      <a:chOff x="546840" y="2474280"/>
                      <a:chExt cx="685800" cy="159120"/>
                    </a:xfrm>
                  </p:grpSpPr>
                  <p:sp>
                    <p:nvSpPr>
                      <p:cNvPr id="245" name="Line 12"/>
                      <p:cNvSpPr/>
                      <p:nvPr/>
                    </p:nvSpPr>
                    <p:spPr>
                      <a:xfrm>
                        <a:off x="546840" y="2633400"/>
                        <a:ext cx="533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  <p:sp>
                    <p:nvSpPr>
                      <p:cNvPr id="246" name="Line 13"/>
                      <p:cNvSpPr/>
                      <p:nvPr/>
                    </p:nvSpPr>
                    <p:spPr>
                      <a:xfrm flipV="1">
                        <a:off x="1080360" y="2474280"/>
                        <a:ext cx="152280" cy="158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</p:grpSp>
                <p:sp>
                  <p:nvSpPr>
                    <p:cNvPr id="247" name="Line 14"/>
                    <p:cNvSpPr/>
                    <p:nvPr/>
                  </p:nvSpPr>
                  <p:spPr>
                    <a:xfrm>
                      <a:off x="546840" y="2793240"/>
                      <a:ext cx="533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48" name="Line 15"/>
                    <p:cNvSpPr/>
                    <p:nvPr/>
                  </p:nvSpPr>
                  <p:spPr>
                    <a:xfrm>
                      <a:off x="546840" y="2953440"/>
                      <a:ext cx="533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49" name="Line 16"/>
                    <p:cNvSpPr/>
                    <p:nvPr/>
                  </p:nvSpPr>
                  <p:spPr>
                    <a:xfrm flipV="1">
                      <a:off x="1080360" y="2793240"/>
                      <a:ext cx="152280" cy="159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50" name="Line 17"/>
                    <p:cNvSpPr/>
                    <p:nvPr/>
                  </p:nvSpPr>
                  <p:spPr>
                    <a:xfrm>
                      <a:off x="546840" y="3112920"/>
                      <a:ext cx="533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51" name="Line 18"/>
                    <p:cNvSpPr/>
                    <p:nvPr/>
                  </p:nvSpPr>
                  <p:spPr>
                    <a:xfrm flipV="1">
                      <a:off x="1080360" y="2953440"/>
                      <a:ext cx="152280" cy="159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52" name="Line 19"/>
                    <p:cNvSpPr/>
                    <p:nvPr/>
                  </p:nvSpPr>
                  <p:spPr>
                    <a:xfrm>
                      <a:off x="546840" y="3272040"/>
                      <a:ext cx="533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53" name="Line 20"/>
                    <p:cNvSpPr/>
                    <p:nvPr/>
                  </p:nvSpPr>
                  <p:spPr>
                    <a:xfrm flipV="1">
                      <a:off x="1080360" y="3112920"/>
                      <a:ext cx="152280" cy="159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54" name="Line 21"/>
                    <p:cNvSpPr/>
                    <p:nvPr/>
                  </p:nvSpPr>
                  <p:spPr>
                    <a:xfrm>
                      <a:off x="546840" y="3432240"/>
                      <a:ext cx="533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55" name="Line 22"/>
                    <p:cNvSpPr/>
                    <p:nvPr/>
                  </p:nvSpPr>
                  <p:spPr>
                    <a:xfrm flipV="1">
                      <a:off x="1080360" y="3272040"/>
                      <a:ext cx="152280" cy="159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56" name="Line 23"/>
                    <p:cNvSpPr/>
                    <p:nvPr/>
                  </p:nvSpPr>
                  <p:spPr>
                    <a:xfrm>
                      <a:off x="546840" y="3591360"/>
                      <a:ext cx="533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57" name="Line 24"/>
                    <p:cNvSpPr/>
                    <p:nvPr/>
                  </p:nvSpPr>
                  <p:spPr>
                    <a:xfrm flipV="1">
                      <a:off x="1080360" y="3432240"/>
                      <a:ext cx="152280" cy="159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58" name="Line 25"/>
                    <p:cNvSpPr/>
                    <p:nvPr/>
                  </p:nvSpPr>
                  <p:spPr>
                    <a:xfrm>
                      <a:off x="546840" y="3750840"/>
                      <a:ext cx="533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59" name="Line 26"/>
                    <p:cNvSpPr/>
                    <p:nvPr/>
                  </p:nvSpPr>
                  <p:spPr>
                    <a:xfrm flipV="1">
                      <a:off x="1080360" y="3591360"/>
                      <a:ext cx="152280" cy="159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60" name="Line 27"/>
                    <p:cNvSpPr/>
                    <p:nvPr/>
                  </p:nvSpPr>
                  <p:spPr>
                    <a:xfrm flipV="1">
                      <a:off x="1080360" y="3750840"/>
                      <a:ext cx="152280" cy="159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61" name="Line 28"/>
                    <p:cNvSpPr/>
                    <p:nvPr/>
                  </p:nvSpPr>
                  <p:spPr>
                    <a:xfrm>
                      <a:off x="546840" y="5506560"/>
                      <a:ext cx="533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62" name="Line 29"/>
                    <p:cNvSpPr/>
                    <p:nvPr/>
                  </p:nvSpPr>
                  <p:spPr>
                    <a:xfrm flipV="1">
                      <a:off x="1080360" y="5347080"/>
                      <a:ext cx="152280" cy="159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63" name="Line 30"/>
                    <p:cNvSpPr/>
                    <p:nvPr/>
                  </p:nvSpPr>
                  <p:spPr>
                    <a:xfrm>
                      <a:off x="546840" y="5347080"/>
                      <a:ext cx="533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64" name="Line 31"/>
                    <p:cNvSpPr/>
                    <p:nvPr/>
                  </p:nvSpPr>
                  <p:spPr>
                    <a:xfrm flipV="1">
                      <a:off x="1080360" y="5187240"/>
                      <a:ext cx="152280" cy="159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grpSp>
                  <p:nvGrpSpPr>
                    <p:cNvPr id="265" name="Group 32"/>
                    <p:cNvGrpSpPr/>
                    <p:nvPr/>
                  </p:nvGrpSpPr>
                  <p:grpSpPr>
                    <a:xfrm>
                      <a:off x="546840" y="3910680"/>
                      <a:ext cx="685800" cy="159120"/>
                      <a:chOff x="546840" y="3910680"/>
                      <a:chExt cx="685800" cy="159120"/>
                    </a:xfrm>
                  </p:grpSpPr>
                  <p:sp>
                    <p:nvSpPr>
                      <p:cNvPr id="266" name="Line 33"/>
                      <p:cNvSpPr/>
                      <p:nvPr/>
                    </p:nvSpPr>
                    <p:spPr>
                      <a:xfrm>
                        <a:off x="546840" y="4069800"/>
                        <a:ext cx="533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  <p:sp>
                    <p:nvSpPr>
                      <p:cNvPr id="267" name="Line 34"/>
                      <p:cNvSpPr/>
                      <p:nvPr/>
                    </p:nvSpPr>
                    <p:spPr>
                      <a:xfrm flipV="1">
                        <a:off x="1080360" y="3910680"/>
                        <a:ext cx="152280" cy="158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</p:grpSp>
                <p:grpSp>
                  <p:nvGrpSpPr>
                    <p:cNvPr id="268" name="Group 35"/>
                    <p:cNvGrpSpPr/>
                    <p:nvPr/>
                  </p:nvGrpSpPr>
                  <p:grpSpPr>
                    <a:xfrm>
                      <a:off x="546840" y="4069800"/>
                      <a:ext cx="685800" cy="159120"/>
                      <a:chOff x="546840" y="4069800"/>
                      <a:chExt cx="685800" cy="159120"/>
                    </a:xfrm>
                  </p:grpSpPr>
                  <p:sp>
                    <p:nvSpPr>
                      <p:cNvPr id="269" name="Line 36"/>
                      <p:cNvSpPr/>
                      <p:nvPr/>
                    </p:nvSpPr>
                    <p:spPr>
                      <a:xfrm>
                        <a:off x="546840" y="4228920"/>
                        <a:ext cx="533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  <p:sp>
                    <p:nvSpPr>
                      <p:cNvPr id="270" name="Line 37"/>
                      <p:cNvSpPr/>
                      <p:nvPr/>
                    </p:nvSpPr>
                    <p:spPr>
                      <a:xfrm flipV="1">
                        <a:off x="1080360" y="4069800"/>
                        <a:ext cx="152280" cy="158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</p:grpSp>
                <p:grpSp>
                  <p:nvGrpSpPr>
                    <p:cNvPr id="271" name="Group 38"/>
                    <p:cNvGrpSpPr/>
                    <p:nvPr/>
                  </p:nvGrpSpPr>
                  <p:grpSpPr>
                    <a:xfrm>
                      <a:off x="546840" y="4389480"/>
                      <a:ext cx="685800" cy="159120"/>
                      <a:chOff x="546840" y="4389480"/>
                      <a:chExt cx="685800" cy="159120"/>
                    </a:xfrm>
                  </p:grpSpPr>
                  <p:sp>
                    <p:nvSpPr>
                      <p:cNvPr id="272" name="Line 39"/>
                      <p:cNvSpPr/>
                      <p:nvPr/>
                    </p:nvSpPr>
                    <p:spPr>
                      <a:xfrm>
                        <a:off x="546840" y="4548600"/>
                        <a:ext cx="533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  <p:sp>
                    <p:nvSpPr>
                      <p:cNvPr id="273" name="Line 40"/>
                      <p:cNvSpPr/>
                      <p:nvPr/>
                    </p:nvSpPr>
                    <p:spPr>
                      <a:xfrm flipV="1">
                        <a:off x="1080360" y="4389480"/>
                        <a:ext cx="152280" cy="158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</p:grpSp>
                <p:grpSp>
                  <p:nvGrpSpPr>
                    <p:cNvPr id="274" name="Group 41"/>
                    <p:cNvGrpSpPr/>
                    <p:nvPr/>
                  </p:nvGrpSpPr>
                  <p:grpSpPr>
                    <a:xfrm>
                      <a:off x="546840" y="4548600"/>
                      <a:ext cx="685800" cy="159120"/>
                      <a:chOff x="546840" y="4548600"/>
                      <a:chExt cx="685800" cy="159120"/>
                    </a:xfrm>
                  </p:grpSpPr>
                  <p:sp>
                    <p:nvSpPr>
                      <p:cNvPr id="275" name="Line 42"/>
                      <p:cNvSpPr/>
                      <p:nvPr/>
                    </p:nvSpPr>
                    <p:spPr>
                      <a:xfrm>
                        <a:off x="546840" y="4707720"/>
                        <a:ext cx="533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  <p:sp>
                    <p:nvSpPr>
                      <p:cNvPr id="276" name="Line 43"/>
                      <p:cNvSpPr/>
                      <p:nvPr/>
                    </p:nvSpPr>
                    <p:spPr>
                      <a:xfrm flipV="1">
                        <a:off x="1080360" y="4548600"/>
                        <a:ext cx="152280" cy="158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</p:grpSp>
                <p:grpSp>
                  <p:nvGrpSpPr>
                    <p:cNvPr id="277" name="Group 44"/>
                    <p:cNvGrpSpPr/>
                    <p:nvPr/>
                  </p:nvGrpSpPr>
                  <p:grpSpPr>
                    <a:xfrm>
                      <a:off x="546840" y="4708080"/>
                      <a:ext cx="685800" cy="159840"/>
                      <a:chOff x="546840" y="4708080"/>
                      <a:chExt cx="685800" cy="159840"/>
                    </a:xfrm>
                  </p:grpSpPr>
                  <p:sp>
                    <p:nvSpPr>
                      <p:cNvPr id="278" name="Line 45"/>
                      <p:cNvSpPr/>
                      <p:nvPr/>
                    </p:nvSpPr>
                    <p:spPr>
                      <a:xfrm>
                        <a:off x="546840" y="4867920"/>
                        <a:ext cx="533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  <p:sp>
                    <p:nvSpPr>
                      <p:cNvPr id="279" name="Line 46"/>
                      <p:cNvSpPr/>
                      <p:nvPr/>
                    </p:nvSpPr>
                    <p:spPr>
                      <a:xfrm flipV="1">
                        <a:off x="1080360" y="4708080"/>
                        <a:ext cx="152280" cy="1594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</p:grpSp>
                <p:grpSp>
                  <p:nvGrpSpPr>
                    <p:cNvPr id="280" name="Group 47"/>
                    <p:cNvGrpSpPr/>
                    <p:nvPr/>
                  </p:nvGrpSpPr>
                  <p:grpSpPr>
                    <a:xfrm>
                      <a:off x="546840" y="4867920"/>
                      <a:ext cx="685800" cy="159120"/>
                      <a:chOff x="546840" y="4867920"/>
                      <a:chExt cx="685800" cy="159120"/>
                    </a:xfrm>
                  </p:grpSpPr>
                  <p:sp>
                    <p:nvSpPr>
                      <p:cNvPr id="281" name="Line 48"/>
                      <p:cNvSpPr/>
                      <p:nvPr/>
                    </p:nvSpPr>
                    <p:spPr>
                      <a:xfrm>
                        <a:off x="546840" y="5027040"/>
                        <a:ext cx="533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  <p:sp>
                    <p:nvSpPr>
                      <p:cNvPr id="282" name="Line 49"/>
                      <p:cNvSpPr/>
                      <p:nvPr/>
                    </p:nvSpPr>
                    <p:spPr>
                      <a:xfrm flipV="1">
                        <a:off x="1080360" y="4867920"/>
                        <a:ext cx="152280" cy="158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</p:grpSp>
                <p:grpSp>
                  <p:nvGrpSpPr>
                    <p:cNvPr id="283" name="Group 50"/>
                    <p:cNvGrpSpPr/>
                    <p:nvPr/>
                  </p:nvGrpSpPr>
                  <p:grpSpPr>
                    <a:xfrm>
                      <a:off x="546840" y="5027400"/>
                      <a:ext cx="685800" cy="159120"/>
                      <a:chOff x="546840" y="5027400"/>
                      <a:chExt cx="685800" cy="159120"/>
                    </a:xfrm>
                  </p:grpSpPr>
                  <p:sp>
                    <p:nvSpPr>
                      <p:cNvPr id="284" name="Line 51"/>
                      <p:cNvSpPr/>
                      <p:nvPr/>
                    </p:nvSpPr>
                    <p:spPr>
                      <a:xfrm>
                        <a:off x="546840" y="5186520"/>
                        <a:ext cx="533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  <p:sp>
                    <p:nvSpPr>
                      <p:cNvPr id="285" name="Line 52"/>
                      <p:cNvSpPr/>
                      <p:nvPr/>
                    </p:nvSpPr>
                    <p:spPr>
                      <a:xfrm flipV="1">
                        <a:off x="1080360" y="5027400"/>
                        <a:ext cx="152280" cy="158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endParaRPr>
                      </a:p>
                    </p:txBody>
                  </p:sp>
                </p:grpSp>
              </p:grpSp>
              <p:grpSp>
                <p:nvGrpSpPr>
                  <p:cNvPr id="286" name="Group 53"/>
                  <p:cNvGrpSpPr/>
                  <p:nvPr/>
                </p:nvGrpSpPr>
                <p:grpSpPr>
                  <a:xfrm>
                    <a:off x="546840" y="4229640"/>
                    <a:ext cx="685800" cy="159840"/>
                    <a:chOff x="546840" y="4229640"/>
                    <a:chExt cx="685800" cy="159840"/>
                  </a:xfrm>
                </p:grpSpPr>
                <p:sp>
                  <p:nvSpPr>
                    <p:cNvPr id="287" name="Line 54"/>
                    <p:cNvSpPr/>
                    <p:nvPr/>
                  </p:nvSpPr>
                  <p:spPr>
                    <a:xfrm>
                      <a:off x="546840" y="4389480"/>
                      <a:ext cx="533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  <p:sp>
                  <p:nvSpPr>
                    <p:cNvPr id="288" name="Line 55"/>
                    <p:cNvSpPr/>
                    <p:nvPr/>
                  </p:nvSpPr>
                  <p:spPr>
                    <a:xfrm flipV="1">
                      <a:off x="1080360" y="4229640"/>
                      <a:ext cx="152280" cy="159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p:txBody>
                </p:sp>
              </p:grpSp>
            </p:grpSp>
            <p:sp>
              <p:nvSpPr>
                <p:cNvPr id="289" name="Line 56"/>
                <p:cNvSpPr/>
                <p:nvPr/>
              </p:nvSpPr>
              <p:spPr>
                <a:xfrm>
                  <a:off x="546840" y="391104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sp>
            <p:nvSpPr>
              <p:cNvPr id="290" name="Line 57"/>
              <p:cNvSpPr/>
              <p:nvPr/>
            </p:nvSpPr>
            <p:spPr>
              <a:xfrm flipV="1">
                <a:off x="1080000" y="2633760"/>
                <a:ext cx="152640" cy="15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sp>
          <p:nvSpPr>
            <p:cNvPr id="291" name="Text Box 58"/>
            <p:cNvSpPr/>
            <p:nvPr/>
          </p:nvSpPr>
          <p:spPr>
            <a:xfrm>
              <a:off x="336960" y="1489680"/>
              <a:ext cx="117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ＭＳ Ｐゴシック"/>
                </a:rPr>
                <a:t>IPC 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2" name="Text Box 59"/>
            <p:cNvSpPr/>
            <p:nvPr/>
          </p:nvSpPr>
          <p:spPr>
            <a:xfrm>
              <a:off x="38160" y="5720040"/>
              <a:ext cx="21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70,000 entries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293" name="Group 61"/>
          <p:cNvGrpSpPr/>
          <p:nvPr/>
        </p:nvGrpSpPr>
        <p:grpSpPr>
          <a:xfrm>
            <a:off x="1424880" y="2727720"/>
            <a:ext cx="1148760" cy="2522160"/>
            <a:chOff x="1424880" y="2727720"/>
            <a:chExt cx="1148760" cy="2522160"/>
          </a:xfrm>
        </p:grpSpPr>
        <p:sp>
          <p:nvSpPr>
            <p:cNvPr id="294" name="AutoShape 62"/>
            <p:cNvSpPr/>
            <p:nvPr/>
          </p:nvSpPr>
          <p:spPr>
            <a:xfrm rot="19068000">
              <a:off x="1346040" y="3131640"/>
              <a:ext cx="1306440" cy="269640"/>
            </a:xfrm>
            <a:prstGeom prst="rightArrow">
              <a:avLst>
                <a:gd name="adj1" fmla="val 50000"/>
                <a:gd name="adj2" fmla="val 121128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5" name="AutoShape 63"/>
            <p:cNvSpPr/>
            <p:nvPr/>
          </p:nvSpPr>
          <p:spPr>
            <a:xfrm>
              <a:off x="1492200" y="3817800"/>
              <a:ext cx="991440" cy="304560"/>
            </a:xfrm>
            <a:prstGeom prst="rightArrow">
              <a:avLst>
                <a:gd name="adj1" fmla="val 50000"/>
                <a:gd name="adj2" fmla="val 81383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6" name="AutoShape 64"/>
            <p:cNvSpPr/>
            <p:nvPr/>
          </p:nvSpPr>
          <p:spPr>
            <a:xfrm flipV="1" rot="2532000">
              <a:off x="1351440" y="4579200"/>
              <a:ext cx="1296000" cy="270000"/>
            </a:xfrm>
            <a:prstGeom prst="rightArrow">
              <a:avLst>
                <a:gd name="adj1" fmla="val 50000"/>
                <a:gd name="adj2" fmla="val 12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297" name="Group 65"/>
          <p:cNvGrpSpPr/>
          <p:nvPr/>
        </p:nvGrpSpPr>
        <p:grpSpPr>
          <a:xfrm>
            <a:off x="2989440" y="2352600"/>
            <a:ext cx="577440" cy="3276720"/>
            <a:chOff x="2989440" y="2352600"/>
            <a:chExt cx="577440" cy="3276720"/>
          </a:xfrm>
        </p:grpSpPr>
        <p:sp>
          <p:nvSpPr>
            <p:cNvPr id="298" name="AutoShape 66"/>
            <p:cNvSpPr/>
            <p:nvPr/>
          </p:nvSpPr>
          <p:spPr>
            <a:xfrm>
              <a:off x="2989440" y="54766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9" name="AutoShape 67"/>
            <p:cNvSpPr/>
            <p:nvPr/>
          </p:nvSpPr>
          <p:spPr>
            <a:xfrm>
              <a:off x="2989440" y="54007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0" name="AutoShape 68"/>
            <p:cNvSpPr/>
            <p:nvPr/>
          </p:nvSpPr>
          <p:spPr>
            <a:xfrm>
              <a:off x="2989440" y="53244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1" name="AutoShape 69"/>
            <p:cNvSpPr/>
            <p:nvPr/>
          </p:nvSpPr>
          <p:spPr>
            <a:xfrm>
              <a:off x="2989440" y="52480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2" name="AutoShape 70"/>
            <p:cNvSpPr/>
            <p:nvPr/>
          </p:nvSpPr>
          <p:spPr>
            <a:xfrm>
              <a:off x="2989440" y="51721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3" name="AutoShape 71"/>
            <p:cNvSpPr/>
            <p:nvPr/>
          </p:nvSpPr>
          <p:spPr>
            <a:xfrm>
              <a:off x="2989440" y="50958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4" name="AutoShape 72"/>
            <p:cNvSpPr/>
            <p:nvPr/>
          </p:nvSpPr>
          <p:spPr>
            <a:xfrm>
              <a:off x="2989440" y="50194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5" name="AutoShape 73"/>
            <p:cNvSpPr/>
            <p:nvPr/>
          </p:nvSpPr>
          <p:spPr>
            <a:xfrm>
              <a:off x="2989440" y="49435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6" name="AutoShape 74"/>
            <p:cNvSpPr/>
            <p:nvPr/>
          </p:nvSpPr>
          <p:spPr>
            <a:xfrm>
              <a:off x="2989440" y="48672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7" name="AutoShape 75"/>
            <p:cNvSpPr/>
            <p:nvPr/>
          </p:nvSpPr>
          <p:spPr>
            <a:xfrm>
              <a:off x="2989440" y="47908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8" name="AutoShape 76"/>
            <p:cNvSpPr/>
            <p:nvPr/>
          </p:nvSpPr>
          <p:spPr>
            <a:xfrm>
              <a:off x="2989440" y="47149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9" name="AutoShape 77"/>
            <p:cNvSpPr/>
            <p:nvPr/>
          </p:nvSpPr>
          <p:spPr>
            <a:xfrm>
              <a:off x="2989440" y="46386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10" name="AutoShape 78"/>
            <p:cNvSpPr/>
            <p:nvPr/>
          </p:nvSpPr>
          <p:spPr>
            <a:xfrm>
              <a:off x="2989440" y="45622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11" name="AutoShape 79"/>
            <p:cNvSpPr/>
            <p:nvPr/>
          </p:nvSpPr>
          <p:spPr>
            <a:xfrm>
              <a:off x="2989440" y="44863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12" name="AutoShape 80"/>
            <p:cNvSpPr/>
            <p:nvPr/>
          </p:nvSpPr>
          <p:spPr>
            <a:xfrm>
              <a:off x="2989440" y="44100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13" name="AutoShape 81"/>
            <p:cNvSpPr/>
            <p:nvPr/>
          </p:nvSpPr>
          <p:spPr>
            <a:xfrm>
              <a:off x="2989440" y="43336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14" name="AutoShape 82"/>
            <p:cNvSpPr/>
            <p:nvPr/>
          </p:nvSpPr>
          <p:spPr>
            <a:xfrm>
              <a:off x="2989440" y="42577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15" name="AutoShape 83"/>
            <p:cNvSpPr/>
            <p:nvPr/>
          </p:nvSpPr>
          <p:spPr>
            <a:xfrm>
              <a:off x="2989440" y="41814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16" name="AutoShape 84"/>
            <p:cNvSpPr/>
            <p:nvPr/>
          </p:nvSpPr>
          <p:spPr>
            <a:xfrm>
              <a:off x="2989440" y="41050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17" name="AutoShape 85"/>
            <p:cNvSpPr/>
            <p:nvPr/>
          </p:nvSpPr>
          <p:spPr>
            <a:xfrm>
              <a:off x="2989440" y="40291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18" name="AutoShape 86"/>
            <p:cNvSpPr/>
            <p:nvPr/>
          </p:nvSpPr>
          <p:spPr>
            <a:xfrm>
              <a:off x="2989440" y="39528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19" name="AutoShape 87"/>
            <p:cNvSpPr/>
            <p:nvPr/>
          </p:nvSpPr>
          <p:spPr>
            <a:xfrm>
              <a:off x="2989440" y="38764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0" name="AutoShape 88"/>
            <p:cNvSpPr/>
            <p:nvPr/>
          </p:nvSpPr>
          <p:spPr>
            <a:xfrm>
              <a:off x="2989440" y="38005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1" name="AutoShape 89"/>
            <p:cNvSpPr/>
            <p:nvPr/>
          </p:nvSpPr>
          <p:spPr>
            <a:xfrm>
              <a:off x="2989440" y="37242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2" name="AutoShape 90"/>
            <p:cNvSpPr/>
            <p:nvPr/>
          </p:nvSpPr>
          <p:spPr>
            <a:xfrm>
              <a:off x="2989440" y="36478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3" name="AutoShape 91"/>
            <p:cNvSpPr/>
            <p:nvPr/>
          </p:nvSpPr>
          <p:spPr>
            <a:xfrm>
              <a:off x="2989440" y="35719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4" name="AutoShape 92"/>
            <p:cNvSpPr/>
            <p:nvPr/>
          </p:nvSpPr>
          <p:spPr>
            <a:xfrm>
              <a:off x="2989440" y="34956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5" name="AutoShape 93"/>
            <p:cNvSpPr/>
            <p:nvPr/>
          </p:nvSpPr>
          <p:spPr>
            <a:xfrm>
              <a:off x="2989440" y="34192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6" name="AutoShape 94"/>
            <p:cNvSpPr/>
            <p:nvPr/>
          </p:nvSpPr>
          <p:spPr>
            <a:xfrm>
              <a:off x="2989440" y="33433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7" name="AutoShape 95"/>
            <p:cNvSpPr/>
            <p:nvPr/>
          </p:nvSpPr>
          <p:spPr>
            <a:xfrm>
              <a:off x="2989440" y="32670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8" name="AutoShape 96"/>
            <p:cNvSpPr/>
            <p:nvPr/>
          </p:nvSpPr>
          <p:spPr>
            <a:xfrm>
              <a:off x="2989440" y="31906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9" name="AutoShape 97"/>
            <p:cNvSpPr/>
            <p:nvPr/>
          </p:nvSpPr>
          <p:spPr>
            <a:xfrm>
              <a:off x="2989440" y="31147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0" name="AutoShape 98"/>
            <p:cNvSpPr/>
            <p:nvPr/>
          </p:nvSpPr>
          <p:spPr>
            <a:xfrm>
              <a:off x="2989440" y="30384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1" name="AutoShape 99"/>
            <p:cNvSpPr/>
            <p:nvPr/>
          </p:nvSpPr>
          <p:spPr>
            <a:xfrm>
              <a:off x="2989440" y="29620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2" name="AutoShape 100"/>
            <p:cNvSpPr/>
            <p:nvPr/>
          </p:nvSpPr>
          <p:spPr>
            <a:xfrm>
              <a:off x="2989440" y="28861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3" name="AutoShape 101"/>
            <p:cNvSpPr/>
            <p:nvPr/>
          </p:nvSpPr>
          <p:spPr>
            <a:xfrm>
              <a:off x="2989440" y="28098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4" name="AutoShape 102"/>
            <p:cNvSpPr/>
            <p:nvPr/>
          </p:nvSpPr>
          <p:spPr>
            <a:xfrm>
              <a:off x="2989440" y="27334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5" name="AutoShape 103"/>
            <p:cNvSpPr/>
            <p:nvPr/>
          </p:nvSpPr>
          <p:spPr>
            <a:xfrm>
              <a:off x="2989440" y="26575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6" name="AutoShape 104"/>
            <p:cNvSpPr/>
            <p:nvPr/>
          </p:nvSpPr>
          <p:spPr>
            <a:xfrm>
              <a:off x="2989440" y="25812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7" name="AutoShape 105"/>
            <p:cNvSpPr/>
            <p:nvPr/>
          </p:nvSpPr>
          <p:spPr>
            <a:xfrm>
              <a:off x="2989440" y="2504880"/>
              <a:ext cx="577440" cy="152640"/>
            </a:xfrm>
            <a:prstGeom prst="parallelogram">
              <a:avLst>
                <a:gd name="adj" fmla="val 9457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8" name="AutoShape 106"/>
            <p:cNvSpPr/>
            <p:nvPr/>
          </p:nvSpPr>
          <p:spPr>
            <a:xfrm>
              <a:off x="2989440" y="242892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9" name="AutoShape 107"/>
            <p:cNvSpPr/>
            <p:nvPr/>
          </p:nvSpPr>
          <p:spPr>
            <a:xfrm>
              <a:off x="2989440" y="2352600"/>
              <a:ext cx="577440" cy="152280"/>
            </a:xfrm>
            <a:prstGeom prst="parallelogram">
              <a:avLst>
                <a:gd name="adj" fmla="val 9479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340" name="Text Box 108"/>
          <p:cNvSpPr/>
          <p:nvPr/>
        </p:nvSpPr>
        <p:spPr>
          <a:xfrm>
            <a:off x="2065320" y="1482840"/>
            <a:ext cx="24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FI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(File Index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1" name="Text Box 110"/>
          <p:cNvSpPr/>
          <p:nvPr/>
        </p:nvSpPr>
        <p:spPr>
          <a:xfrm>
            <a:off x="1987560" y="5695920"/>
            <a:ext cx="28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0,000 entri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FI - symbol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761040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9FF2-BE1E-4742-9175-75F943C97C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44" name="Picture 9" descr="fi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41320" y="3689280"/>
            <a:ext cx="8353440" cy="235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5" name="Oval 10"/>
          <p:cNvSpPr/>
          <p:nvPr/>
        </p:nvSpPr>
        <p:spPr>
          <a:xfrm>
            <a:off x="560520" y="4581360"/>
            <a:ext cx="4273560" cy="655920"/>
          </a:xfrm>
          <a:prstGeom prst="ellips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2144880" y="6048360"/>
            <a:ext cx="5587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of FI subdivisions for G06F9/0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928800" y="907920"/>
            <a:ext cx="81788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04b5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IPC symbol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              </a:t>
            </a:r>
            <a:r>
              <a:rPr b="0" lang="fr-FR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ex) </a:t>
            </a:r>
            <a:r>
              <a:rPr b="0" lang="fr-FR" sz="2000" spc="-1" strike="noStrike" u="sng">
                <a:solidFill>
                  <a:srgbClr val="404b56"/>
                </a:solidFill>
                <a:uFillTx/>
                <a:latin typeface="Arial"/>
                <a:ea typeface="ＭＳ Ｐゴシック"/>
              </a:rPr>
              <a:t>G06F 9/00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04b5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IPC symbol +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extension symbo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ex) </a:t>
            </a:r>
            <a:r>
              <a:rPr b="0" lang="en-US" sz="2000" spc="-1" strike="noStrike" u="sng">
                <a:solidFill>
                  <a:srgbClr val="404b56"/>
                </a:solidFill>
                <a:uFillTx/>
                <a:latin typeface="Arial"/>
                <a:ea typeface="ＭＳ Ｐゴシック"/>
              </a:rPr>
              <a:t>G06F 9/00</a:t>
            </a:r>
            <a:r>
              <a:rPr b="0" lang="en-US" sz="2000" spc="-1" strike="noStrike" u="sng">
                <a:solidFill>
                  <a:srgbClr val="00b050"/>
                </a:solidFill>
                <a:uFillTx/>
                <a:latin typeface="Arial"/>
                <a:ea typeface="ＭＳ Ｐゴシック"/>
              </a:rPr>
              <a:t>, 320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04b5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IPC symbol +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extension symbol 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+ 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file discrimination symbol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ex) </a:t>
            </a:r>
            <a:r>
              <a:rPr b="0" lang="en-US" sz="2000" spc="-1" strike="noStrike" u="sng">
                <a:solidFill>
                  <a:srgbClr val="404b56"/>
                </a:solidFill>
                <a:uFillTx/>
                <a:latin typeface="Arial"/>
                <a:ea typeface="ＭＳ Ｐゴシック"/>
              </a:rPr>
              <a:t>G06F 9/00</a:t>
            </a:r>
            <a:r>
              <a:rPr b="0" lang="en-US" sz="2000" spc="-1" strike="noStrike" u="sng">
                <a:solidFill>
                  <a:srgbClr val="00b050"/>
                </a:solidFill>
                <a:uFillTx/>
                <a:latin typeface="Arial"/>
                <a:ea typeface="ＭＳ Ｐゴシック"/>
              </a:rPr>
              <a:t>, 320 </a:t>
            </a:r>
            <a:r>
              <a:rPr b="0" lang="en-US" sz="2000" spc="-1" strike="noStrike" u="sng">
                <a:solidFill>
                  <a:srgbClr val="9933ff"/>
                </a:solidFill>
                <a:uFillTx/>
                <a:latin typeface="Arial"/>
                <a:ea typeface="ＭＳ Ｐゴシック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404b5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IPC symbol + 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file discrimination symbo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  <a:ea typeface="ＭＳ Ｐゴシック"/>
              </a:rPr>
              <a:t>ex) </a:t>
            </a:r>
            <a:r>
              <a:rPr b="0" lang="en-US" sz="2000" spc="-1" strike="noStrike" u="sng">
                <a:solidFill>
                  <a:srgbClr val="404b56"/>
                </a:solidFill>
                <a:uFillTx/>
                <a:latin typeface="Arial"/>
                <a:ea typeface="ＭＳ Ｐゴシック"/>
              </a:rPr>
              <a:t>B60G 17/015 </a:t>
            </a:r>
            <a:r>
              <a:rPr b="0" lang="en-US" sz="2000" spc="-1" strike="noStrike" u="sng">
                <a:solidFill>
                  <a:srgbClr val="9933ff"/>
                </a:solidFill>
                <a:uFillTx/>
                <a:latin typeface="Arial"/>
                <a:ea typeface="ＭＳ Ｐゴシック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スライド番号プレースホルダ 3"/>
          <p:cNvSpPr/>
          <p:nvPr/>
        </p:nvSpPr>
        <p:spPr>
          <a:xfrm>
            <a:off x="761040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D746-57E8-4900-84AA-6074FF93C3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9" name="Text Box 32"/>
          <p:cNvSpPr/>
          <p:nvPr/>
        </p:nvSpPr>
        <p:spPr>
          <a:xfrm>
            <a:off x="560520" y="115920"/>
            <a:ext cx="7993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What is F-term 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792000" y="1660680"/>
            <a:ext cx="81788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entire technical field of FI, which has section A to section H, is divided into about 2600 areas and the areas are called “theme”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18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mes out of 2600 themes have “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F-te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, which are search keys and we analyze patent documents in each “theme”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-term indexing system is based on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multiple viewpo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iffering from those in FI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図 3" descr=""/>
          <p:cNvPicPr/>
          <p:nvPr/>
        </p:nvPicPr>
        <p:blipFill>
          <a:blip r:embed="rId1"/>
          <a:stretch/>
        </p:blipFill>
        <p:spPr>
          <a:xfrm>
            <a:off x="1719360" y="1558800"/>
            <a:ext cx="7167600" cy="4991400"/>
          </a:xfrm>
          <a:prstGeom prst="rect">
            <a:avLst/>
          </a:prstGeom>
          <a:ln w="0">
            <a:noFill/>
          </a:ln>
        </p:spPr>
      </p:pic>
      <p:sp>
        <p:nvSpPr>
          <p:cNvPr id="352" name="スライド番号プレースホルダ 3"/>
          <p:cNvSpPr/>
          <p:nvPr/>
        </p:nvSpPr>
        <p:spPr>
          <a:xfrm>
            <a:off x="761040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B142-5CAB-465A-9A06-921A308699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2195640" y="1422360"/>
            <a:ext cx="2182680" cy="33516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1711440" y="1601640"/>
            <a:ext cx="863640" cy="358920"/>
          </a:xfrm>
          <a:prstGeom prst="ellipse">
            <a:avLst/>
          </a:pr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2239920" y="1765440"/>
            <a:ext cx="1654200" cy="250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1584360" y="2649600"/>
            <a:ext cx="387360" cy="546120"/>
          </a:xfrm>
          <a:prstGeom prst="ellipse">
            <a:avLst/>
          </a:prstGeom>
          <a:noFill/>
          <a:ln w="19080">
            <a:solidFill>
              <a:srgbClr val="da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7" name="Line 36"/>
          <p:cNvSpPr/>
          <p:nvPr/>
        </p:nvSpPr>
        <p:spPr>
          <a:xfrm flipV="1">
            <a:off x="4267080" y="1329840"/>
            <a:ext cx="2203560" cy="1652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8" name="Line 37"/>
          <p:cNvSpPr/>
          <p:nvPr/>
        </p:nvSpPr>
        <p:spPr>
          <a:xfrm>
            <a:off x="3498840" y="2023920"/>
            <a:ext cx="2617920" cy="130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9" name="Line 38"/>
          <p:cNvSpPr/>
          <p:nvPr/>
        </p:nvSpPr>
        <p:spPr>
          <a:xfrm>
            <a:off x="1103400" y="1589040"/>
            <a:ext cx="579240" cy="16992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0" name="Line 39"/>
          <p:cNvSpPr/>
          <p:nvPr/>
        </p:nvSpPr>
        <p:spPr>
          <a:xfrm flipH="1">
            <a:off x="1219320" y="2924280"/>
            <a:ext cx="365040" cy="615960"/>
          </a:xfrm>
          <a:prstGeom prst="line">
            <a:avLst/>
          </a:prstGeom>
          <a:ln w="19080">
            <a:solidFill>
              <a:srgbClr val="da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1" name="Line 40"/>
          <p:cNvSpPr/>
          <p:nvPr/>
        </p:nvSpPr>
        <p:spPr>
          <a:xfrm flipH="1" flipV="1">
            <a:off x="1130400" y="4299120"/>
            <a:ext cx="426960" cy="839520"/>
          </a:xfrm>
          <a:prstGeom prst="line">
            <a:avLst/>
          </a:prstGeom>
          <a:ln w="19080">
            <a:solidFill>
              <a:srgbClr val="da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2" name="Oval 41"/>
          <p:cNvSpPr/>
          <p:nvPr/>
        </p:nvSpPr>
        <p:spPr>
          <a:xfrm>
            <a:off x="1557360" y="5059440"/>
            <a:ext cx="431640" cy="401400"/>
          </a:xfrm>
          <a:prstGeom prst="ellipse">
            <a:avLst/>
          </a:prstGeom>
          <a:noFill/>
          <a:ln w="19080">
            <a:solidFill>
              <a:srgbClr val="da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3" name="Text Box 45"/>
          <p:cNvSpPr/>
          <p:nvPr/>
        </p:nvSpPr>
        <p:spPr>
          <a:xfrm>
            <a:off x="225360" y="11350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  <a:ea typeface="ＭＳ Ｐゴシック"/>
              </a:rPr>
              <a:t>Theme Cod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4" name="Text Box 46"/>
          <p:cNvSpPr/>
          <p:nvPr/>
        </p:nvSpPr>
        <p:spPr>
          <a:xfrm>
            <a:off x="411120" y="3468600"/>
            <a:ext cx="10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8200"/>
                </a:solidFill>
                <a:latin typeface="Arial"/>
                <a:ea typeface="ＭＳ Ｐゴシック"/>
              </a:rPr>
              <a:t>View</a:t>
            </a:r>
            <a:br>
              <a:rPr sz="2400"/>
            </a:br>
            <a:r>
              <a:rPr b="0" lang="en-US" sz="2400" spc="-1" strike="noStrike">
                <a:solidFill>
                  <a:srgbClr val="da8200"/>
                </a:solidFill>
                <a:latin typeface="Arial"/>
                <a:ea typeface="ＭＳ Ｐゴシック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5" name="Text Box 47"/>
          <p:cNvSpPr/>
          <p:nvPr/>
        </p:nvSpPr>
        <p:spPr>
          <a:xfrm>
            <a:off x="6537240" y="1062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Subject of the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6" name="Text Box 48"/>
          <p:cNvSpPr/>
          <p:nvPr/>
        </p:nvSpPr>
        <p:spPr>
          <a:xfrm>
            <a:off x="6165720" y="19130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I Coverag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7" name="AutoShape 49"/>
          <p:cNvSpPr/>
          <p:nvPr/>
        </p:nvSpPr>
        <p:spPr>
          <a:xfrm>
            <a:off x="1914480" y="2647800"/>
            <a:ext cx="287280" cy="2386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61920 h 2386080"/>
              <a:gd name="textAreaBottom" fmla="*/ 2324160 h 238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5400" y="3600"/>
                  <a:pt x="0" y="3600"/>
                </a:cubicBezTo>
                <a:cubicBezTo>
                  <a:pt x="54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da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8" name="AutoShape 50"/>
          <p:cNvSpPr/>
          <p:nvPr/>
        </p:nvSpPr>
        <p:spPr>
          <a:xfrm>
            <a:off x="1922400" y="5095800"/>
            <a:ext cx="293760" cy="1401840"/>
          </a:xfrm>
          <a:custGeom>
            <a:avLst/>
            <a:gdLst>
              <a:gd name="textAreaLeft" fmla="*/ 187560 w 293760"/>
              <a:gd name="textAreaRight" fmla="*/ 294120 w 293760"/>
              <a:gd name="textAreaTop" fmla="*/ 50040 h 1401840"/>
              <a:gd name="textAreaBottom" fmla="*/ 1351800 h 140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35"/>
                  <a:pt x="10800" y="2470"/>
                </a:cubicBezTo>
                <a:lnTo>
                  <a:pt x="10800" y="1130"/>
                </a:lnTo>
                <a:cubicBezTo>
                  <a:pt x="10800" y="2365"/>
                  <a:pt x="5400" y="3600"/>
                  <a:pt x="0" y="3600"/>
                </a:cubicBezTo>
                <a:cubicBezTo>
                  <a:pt x="5400" y="3600"/>
                  <a:pt x="10800" y="4835"/>
                  <a:pt x="10800" y="6070"/>
                </a:cubicBezTo>
                <a:lnTo>
                  <a:pt x="10800" y="19130"/>
                </a:lnTo>
                <a:cubicBezTo>
                  <a:pt x="10800" y="2036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da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9" name="Text Box 32"/>
          <p:cNvSpPr/>
          <p:nvPr/>
        </p:nvSpPr>
        <p:spPr>
          <a:xfrm>
            <a:off x="560520" y="44280"/>
            <a:ext cx="453708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at is F-term 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d4d4d"/>
                </a:solidFill>
                <a:latin typeface="Arial"/>
              </a:rPr>
              <a:t>Sample of F-term List</a:t>
            </a:r>
            <a:endParaRPr b="0" lang="en-US" sz="3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00160" y="11592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at is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Broad</a:t>
            </a:r>
            <a:r>
              <a:rPr b="1" lang="ja-JP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Facet?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1" name="スライド番号プレースホルダー 2"/>
          <p:cNvSpPr/>
          <p:nvPr/>
        </p:nvSpPr>
        <p:spPr>
          <a:xfrm>
            <a:off x="7610400" y="65530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5AD7-D6EA-4B6B-A125-E91FFE8647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2" name="正方形/長方形 4"/>
          <p:cNvSpPr/>
          <p:nvPr/>
        </p:nvSpPr>
        <p:spPr>
          <a:xfrm>
            <a:off x="396720" y="1100160"/>
            <a:ext cx="917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ff"/>
                </a:solidFill>
                <a:latin typeface="Arial"/>
                <a:ea typeface="ＭＳ Ｐゴシック"/>
              </a:rPr>
              <a:t>JPO has a national classification Facet in addition</a:t>
            </a:r>
            <a:r>
              <a:rPr b="0" lang="ja-JP" sz="2400" spc="-1" strike="noStrike">
                <a:solidFill>
                  <a:srgbClr val="1d1d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1d1dff"/>
                </a:solidFill>
                <a:latin typeface="Arial"/>
                <a:ea typeface="ＭＳ Ｐゴシック"/>
              </a:rPr>
              <a:t>to FI and F-ter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acet covers all the fields of F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 section to H section) or the part of the fields of FI, e.g. plural of subclass or plural of group. Facet is able to set the coverage area larger than F-ter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acet enables to prior art search of viewpoint differing from those in FI and F-term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201600" y="3416400"/>
            <a:ext cx="817884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4" name="正方形/長方形 8"/>
          <p:cNvSpPr/>
          <p:nvPr/>
        </p:nvSpPr>
        <p:spPr>
          <a:xfrm>
            <a:off x="396720" y="3983040"/>
            <a:ext cx="935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ff"/>
                </a:solidFill>
                <a:latin typeface="Arial"/>
                <a:ea typeface="ＭＳ Ｐゴシック"/>
              </a:rPr>
              <a:t>Symbol of Broad Face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ee Alphabet symbol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ftmost symbol is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ＭＳ ゴシック"/>
              </a:rPr>
              <a:t>JPO has 14 Broad Facets including </a:t>
            </a:r>
            <a:r>
              <a:rPr b="0" lang="en-US" sz="2400" spc="-1" strike="noStrike">
                <a:solidFill>
                  <a:srgbClr val="3333ff"/>
                </a:solidFill>
                <a:latin typeface="Arial Unicode MS"/>
                <a:ea typeface="ＭＳ ゴシック"/>
              </a:rPr>
              <a:t>ZI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ＭＳ ゴシック"/>
              </a:rPr>
              <a:t> which is the patent classification regarding Internet of Things(IoT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2:50:57Z</dcterms:created>
  <dc:creator>太田　良隆</dc:creator>
  <dc:description/>
  <cp:keywords>IPC</cp:keywords>
  <dc:language>en-US</dc:language>
  <cp:lastModifiedBy>MALANGA SALAZAR Isabelle</cp:lastModifiedBy>
  <cp:lastPrinted>2017-01-16T12:21:25Z</cp:lastPrinted>
  <dcterms:modified xsi:type="dcterms:W3CDTF">2017-03-08T11:43:07Z</dcterms:modified>
  <cp:revision>2206</cp:revision>
  <dc:subject>Recent Developments in the FI/F-term</dc:subject>
  <dc:title>Recent Developments in the FI/F-term</dc:title>
</cp:coreProperties>
</file>