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798-CAF3-4B8C-B904-A9017304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4CB-9F8B-4AC2-A1EC-8B536D5D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F9B5-E0FE-44D4-B82C-9764892E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02BD-BC0D-45AC-99EA-EE2DF69C7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5884-DF9E-4A51-8DA6-AB1E0F74F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C8AB-BC61-4F99-9B7C-F0EEC6309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A2D9-7B34-4457-AA1F-8E3CFE7EF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FD15-880D-4F83-82B8-F00F63E9D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05DD-FF23-42BC-93E3-9BDB935FC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8CCC-1F2C-4444-B69B-D83D266B8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A1CF-D8CB-4FD9-B325-264700415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566A-05CC-4FDF-A6FE-4E44D9E8B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1019-6C0F-44D3-9374-89FA3CC25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3076-3D43-45FD-B8EF-FC1C79906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CE51-2860-472B-8033-5B101D76B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314-7B6F-4A18-937E-26811688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593/CE447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9320" y="4183200"/>
            <a:ext cx="49370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port on IPC-related I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Committee of Experts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6,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FI XML to IPC-like XML conversion preliminary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xtrac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 K FI symb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cord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FI symbols rejected due to incompatibilities with IPC X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I to IPC 2014.01 concordanc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s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: 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120K additional FI subdivi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47640" y="911160"/>
            <a:ext cx="8245440" cy="5757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: dem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611280" y="3643200"/>
            <a:ext cx="86364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 rot="16200000">
            <a:off x="1300680" y="2027880"/>
            <a:ext cx="143208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72360" y="1989000"/>
            <a:ext cx="50328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79280" y="1036800"/>
            <a:ext cx="8785440" cy="5705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: dem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108000" y="3602160"/>
            <a:ext cx="86364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1332000" y="2492280"/>
            <a:ext cx="3744720" cy="165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148360" y="2276640"/>
            <a:ext cx="3744720" cy="22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Demonstration of the Beta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+ FI XML converted and uploa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orary limitations e.g. Full view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01G 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00 (under IP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01F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IPC B29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00 :longest CPC chunk (7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1B 3/00 :CPC + F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01N 47/30 :FI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IPC G01R 33/56: G01R 33/5608 (biggest ti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ersp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PCPC Phase 2  - beta release available for internal testing: March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y offices (test URL): Mid March- Mid April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package V 5.x and production use : April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V 5.x for IPC 2015.01 early 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ersp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omments on projec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T operations and support for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1828800"/>
            <a:ext cx="3200400" cy="1371600"/>
          </a:xfrm>
          <a:prstGeom prst="cloudCallout">
            <a:avLst>
              <a:gd name="adj1" fmla="val -54611"/>
              <a:gd name="adj2" fmla="val 92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2666880" y="3581280"/>
          <a:ext cx="29178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581280"/>
                    <a:ext cx="2917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PCPUB and the FIPCPC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ew functionalities since IPC CE 4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transfer (for stage 3 re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ermissive  RL/ patent family match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s for de-activation + de-activation in bu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classification web service (documentation at the end of the on-line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ew functionalities since IPC CE 4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number of families to be re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about reclassification 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IPC revis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roj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ersp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functionalities e.g. Comments on projec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 be reconsidered in the framework of a possible project transferring responsibility of the MCD management from EPO to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he FIPCPC project 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term sear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S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ackage V4.1 for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at the end of 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he FIPCPC project ph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PC 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play of CPC or FI subdivisions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ction Y, no 2000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PC notes nor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of the IPCPUB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and FI XML converted into IPC-like XML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CPC PDF definitions (subclass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PC XML to IPC like con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in the IPC part  of the CPC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Differences with IPC above CPC only symbols (pu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differences with IPC in what is tagged as «IPC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al solution: the IPC part of the CPC view is taken from the official IPC + discla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PC XML to IPC-like XML conversion preliminary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se of the CPC to IPC concordanc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xtraction: 257 K CPC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5 K symbols ignored: section Y and 2000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 K CPCs rej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PC XML incompat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8 CPC to IPC 2014.01 concord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K CPC branches (node + subdivi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nversion: 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85K additional CPC subdivis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 Reclassification</cp:keywords>
  <dc:language>en-US</dc:language>
  <cp:lastModifiedBy>MALANGA SALAZAR Isabelle</cp:lastModifiedBy>
  <cp:lastPrinted>2014-02-21T15:02:51Z</cp:lastPrinted>
  <dcterms:modified xsi:type="dcterms:W3CDTF">2014-03-05T08:59:07Z</dcterms:modified>
  <cp:revision>96</cp:revision>
  <dc:subject>Report on IPC-related IT systems - 46th session of the IPC Committee of Experts</dc:subject>
  <dc:title>Report on IPC-related IT systems - 46th session of the IPC Committee of Experts</dc:title>
</cp:coreProperties>
</file>