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9E1E-131F-457B-95CF-84A3EE4F5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9EF7-FDA6-400B-856E-7638A9697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D3A7-8701-4E8C-8C1C-A38FF77C2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713D-9B20-4791-AF6F-C7E9E3EDE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27864-1B6E-4C10-9352-2E16B62BA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60F8-216E-4C9B-AFC1-60798772F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7F78-9EB0-4811-8FF2-975164E15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619CA-B0AA-4E54-9171-626B869B4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F290-7AEF-4E7E-B4B8-0921C1918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A0EA-F4E9-4E4D-8589-616AB4AF6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F971-D579-4123-BBAA-46E1DEAB1D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DCDF-5F6F-4DC3-B124-DFAE4A020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4532-7D04-4D87-839D-EA2F44098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077B-CA89-451C-9238-6C4227882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EABEB-27E4-42FF-94A4-6BD35ACCE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8039-ACB8-433F-BE4C-68A3063ED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eb2.wipo.int/ipc-ief/en/project/1593/CE447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eb2.wipo.int/ipc-ief/en/project/1540/CE446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19320" y="4183200"/>
            <a:ext cx="493704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Report on IPC-related IT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Committee of Experts 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February 26, 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FIPCPC project phase 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FI XML to IPC-like XML conversion preliminary 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extraction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0 K FI symbo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corda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 FI symbols rejected due to incompatibilities with IPC XM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FI to IPC 2014.01 concordance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s rej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: 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120K additional FI subdivi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I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"/>
          <p:cNvPicPr/>
          <p:nvPr/>
        </p:nvPicPr>
        <p:blipFill>
          <a:blip r:embed="rId1"/>
          <a:stretch/>
        </p:blipFill>
        <p:spPr>
          <a:xfrm>
            <a:off x="647640" y="911160"/>
            <a:ext cx="8245440" cy="5757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FIPCPC project phase 2: demo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611280" y="3643200"/>
            <a:ext cx="86364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0"/>
          <p:cNvSpPr/>
          <p:nvPr/>
        </p:nvSpPr>
        <p:spPr>
          <a:xfrm rot="16200000">
            <a:off x="1300680" y="2027880"/>
            <a:ext cx="143208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1"/>
          <p:cNvSpPr/>
          <p:nvPr/>
        </p:nvSpPr>
        <p:spPr>
          <a:xfrm>
            <a:off x="8172360" y="1989000"/>
            <a:ext cx="503280" cy="1081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179280" y="1036800"/>
            <a:ext cx="8785440" cy="5705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FIPCPC project phase 2: demo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108000" y="3602160"/>
            <a:ext cx="863640" cy="64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1332000" y="2492280"/>
            <a:ext cx="3744720" cy="1657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5148360" y="2276640"/>
            <a:ext cx="3744720" cy="22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FIPCPC project phase 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Demonstration of the Beta 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+ FI XML converted and uploa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emporary limitations e.g. Full view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01G 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00 (under IP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01F 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IPC B29C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6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00 :longest CPC chunk (7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11B 3/00 :CPC + F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01N 47/30 :FI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IPC G01R 33/56: G01R 33/5608 (biggest tit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internet publication platform IPCPUB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Persp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PCPC Phase 2  - beta release available for internal testing: March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y offices (test URL): Mid March- Mid April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PUB package V 5.x and production use : April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PUB V 5.x for IPC 2015.01 early 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internet publication platform IPCPUB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Persp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comments on projec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4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T operations and support for IPC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3366cc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1828800"/>
            <a:ext cx="3200400" cy="1371600"/>
          </a:xfrm>
          <a:prstGeom prst="cloudCallout">
            <a:avLst>
              <a:gd name="adj1" fmla="val -54611"/>
              <a:gd name="adj2" fmla="val 922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5"/>
          <p:cNvGraphicFramePr/>
          <p:nvPr/>
        </p:nvGraphicFramePr>
        <p:xfrm>
          <a:off x="2666880" y="3581280"/>
          <a:ext cx="2917800" cy="20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581280"/>
                    <a:ext cx="2917800" cy="20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PCRE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PCPUB and the FIPCPC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RECLAS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New functionalities since IPC CE 4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transfer (for stage 3 reclass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ermissive  RL/ patent family matching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idates for de-activation + de-activation in bu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classification web service (documentation at the end of the on-line he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RECLAS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New functionalities since IPC CE 4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number of families to be reclass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about reclassification 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IPC revis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proje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408c"/>
                </a:solidFill>
                <a:latin typeface="Arial"/>
              </a:rPr>
              <a:t>IPCRECLAS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Persp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functionalities e.g. Comments on projec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44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 be reconsidered in the framework of a possible project transferring responsibility of the MCD management from EPO to W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internet publication platform IPCPUB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he FIPCPC project ph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enha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term searc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S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ackage V4.1 for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d at the end of November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internet publication platform IPCPUB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the FIPCPC project phas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9480" indent="-33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PC 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play of CPC or FI subdivisions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ction Y, no 2000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5480" indent="-33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PC notes nor 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 of the IPCPUB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C and FI XML converted into IPC-like XML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CPC PDF definitions (subclass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FIPCPC project phase 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CPC XML to IPC like conver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 in the IPC part  of the CPC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Differences with IPC above CPC only symbols (pu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differences with IPC in what is tagged as «IPC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al solution: the IPC part of the CPC view is taken from the official IPC + discla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FIPCPC project phase 2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Arial"/>
              </a:rPr>
              <a:t>CPC XML to IPC-like XML conversion preliminary 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Use of the CPC to IPC concordanc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extraction: 257 K CPC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5 K symbols ignored: section Y and 2000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6 K CPCs rej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PC XML incompat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8 CPC to IPC 2014.01 concordance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K CPC branches (node + subdivi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conversion:  </a:t>
            </a:r>
            <a:r>
              <a:rPr b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85K additional CPC subdivision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I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WIPO</dc:creator>
  <dc:description/>
  <cp:keywords>IPC Reclassification</cp:keywords>
  <dc:language>en-US</dc:language>
  <cp:lastModifiedBy>MALANGA SALAZAR Isabelle</cp:lastModifiedBy>
  <cp:lastPrinted>2014-02-21T15:02:51Z</cp:lastPrinted>
  <dcterms:modified xsi:type="dcterms:W3CDTF">2014-03-05T08:59:07Z</dcterms:modified>
  <cp:revision>96</cp:revision>
  <dc:subject>Report on IPC-related IT systems - 46th session of the IPC Committee of Experts</dc:subject>
  <dc:title>Report on IPC-related IT systems - 46th session of the IPC Committee of Experts</dc:title>
</cp:coreProperties>
</file>