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02DA-4808-4352-9081-833FCAABD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91CF-FF50-40E0-B5BA-573A865EE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0640-7FF9-4B43-9F65-70AE986D2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9863-B6D6-4FEE-A652-E3B0B8464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6BCA-F0AA-4920-B0A6-1EAA1336F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8D1C-68CC-4947-9860-DCEC32A89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269B-7A84-4BBD-9FC9-53C04DF78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194E-B9AB-408D-BACF-C461BBB95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DFFC-FF18-4F42-A13B-65B0D2F20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EC33-E55A-4FD9-85EA-72162BDE0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9234-D4F0-4176-BBEE-484C050F4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112E-4B79-4392-9D94-5566597E3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FF3-12D8-4C70-967C-63B5E66E1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hyperlink" Target="http://www.wipo.int/ipc-ief/ief-projects/qc013/qc013-a09_ibco.xls" TargetMode="External"/><Relationship Id="rId6" Type="http://schemas.openxmlformats.org/officeDocument/2006/relationships/hyperlink" Target="http://www.wipo.int/ipc-ief/ief-projects/qc013/qc013-a09_ibco.xls" TargetMode="External"/><Relationship Id="rId7" Type="http://schemas.openxmlformats.org/officeDocument/2006/relationships/hyperlink" Target="http://www.wipo.int/ipc-ief/ief-projects/qc013/qc013-a09_ibco.xls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web2.wipo.int/ipc-ief/en/project/1540/CE446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hyperlink" Target="http://www.wipo.int/ipc-ief/ief-projects/ce446/ce446-a08_ibco.ppt" TargetMode="External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eb2.wipo.int/ipcreclass/en/report/document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9320" y="4183200"/>
            <a:ext cx="49370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13. Report on the progress of the WIPO IPCRECLAS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Committee of Experts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6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T operations and support for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828800"/>
            <a:ext cx="3200400" cy="1371600"/>
          </a:xfrm>
          <a:prstGeom prst="cloudCallout">
            <a:avLst>
              <a:gd name="adj1" fmla="val -54611"/>
              <a:gd name="adj2" fmla="val 92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666880" y="3581280"/>
          <a:ext cx="2917800" cy="208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581280"/>
                    <a:ext cx="2917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hat happened in IPCRECLASS since CE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happened since CE4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ECLASS Move into production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S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ing Lists uploaded for 2009, 2010, 2011 (June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ow number of reclassification see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QC013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nnex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E446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project for feedback from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oad of 569431 working lists for IPC 2013.01 (Oct. 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raining session for offices February 26, 2013 (training support under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IEF CE446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Recent developme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B considered some CE446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mport of result List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cess for offices to their IPCRECLASS 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ecial operat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Special Operations Mode (SOM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260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40200" y="43117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.g. during upload of WLs by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Office feedback from offices (see IEF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</a:t>
            </a: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erformance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ymbols at family level e.g. several « firs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.8 format not accepted by IPCRECLASS =&gt;Not up to date  Result list DTD (ST. 8 format , mandatory dat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otification about reclassification done by another office on a WL they are responsible for (stage 1b and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open question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IPC workshop 2013 + IPCRECLASS training ses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ad-only access for commercial providers to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PCRECLASS report tab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lanned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ider implementation of default transfer for stag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olution needed to inform MCD about reclassification item done with 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plicit deactivation of old symbols in all result lists exported 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roject perspective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Other actions? e.g. for ope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ecision needed based on CE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, Conde</dc:creator>
  <dc:description/>
  <cp:keywords>IPC IPC RECLASS</cp:keywords>
  <dc:language>en-US</dc:language>
  <cp:lastModifiedBy>Malanga</cp:lastModifiedBy>
  <dcterms:modified xsi:type="dcterms:W3CDTF">2013-03-04T09:38:03Z</dcterms:modified>
  <cp:revision>38</cp:revision>
  <dc:subject>IPC/CE/45 - IPCRECLASS project status review</dc:subject>
  <dc:title>IPC/CE/45 - IPCRECLASS project status review</dc:title>
</cp:coreProperties>
</file>