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3038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5624280" y="-360"/>
            <a:ext cx="430524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3269880" y="509760"/>
            <a:ext cx="33987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93240" y="3227040"/>
            <a:ext cx="79455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645300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5624280" y="6453000"/>
            <a:ext cx="4305240" cy="33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E94D-1008-4378-A106-2035ED5499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270240" y="509760"/>
            <a:ext cx="3398760" cy="254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93240" y="3227040"/>
            <a:ext cx="794556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5624640" y="6453360"/>
            <a:ext cx="43052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76A4-003A-4663-B4B4-8672222C62B0}" type="slidenum">
              <a:rPr b="0" lang="en-US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5BA0367-9C80-42F6-9ECB-9A5DAF4BD89F}" type="slidenum">
              <a:rPr b="0" lang="en-US" sz="12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3267000" y="509760"/>
            <a:ext cx="3397320" cy="25477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321920" y="3227040"/>
            <a:ext cx="728676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DCE-5821-4D31-A191-F07AEA1C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5FCF-A36B-4F1D-9BC6-5CC78641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A54-1444-4F8A-BAF8-E576DE6B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C676-CCE0-4EC8-B03C-03EA7D7A6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4B87-1254-4063-8FCC-92E5BABD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25D7-7C26-4637-8E6D-354C3560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7C37-2278-4FE2-9690-894B8F22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6ADC-8C6A-44E0-8A00-98ED040A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8D4D-2BA6-47CE-A9F3-BFD9305D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EE0F-EC56-49F7-85C2-0A983AA9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9663-95ED-4D55-A4FC-66642FFF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D8A-C0B0-464A-87A1-DF9CC291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CBA4-88E6-418E-9479-DDC3DD9B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A4E4-31F6-48E6-A2B3-9DE98DE1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1980-14CA-4C6D-8A68-A813CC99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A21C-66DF-442A-90A4-6A463417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5196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8640" y="119700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55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5196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8640" y="3754440"/>
            <a:ext cx="247248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22CA-2404-4277-8FC9-82B72950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050-BBAB-405F-A3C9-9F8BA047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0CE-9E96-49B3-B95D-A5CA016E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0F5-0C68-4441-A088-1C0883F4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404280"/>
            <a:ext cx="76899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3F2-C5DA-4B09-9A86-797807C8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A96-E258-4038-869D-C59B187F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0800" y="375444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E25-E63F-4B84-A250-767FB8A3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0800" y="1197000"/>
            <a:ext cx="3747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5640" y="3754440"/>
            <a:ext cx="7678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0E6-E392-4F76-8561-7BFC683C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524280"/>
            <a:ext cx="28958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7308360" y="6584760"/>
            <a:ext cx="11509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E8F6-3A42-4BF7-8A1D-D3E16B3BB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0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BCC0-1245-4F37-9548-4E75B2AB88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16120" y="378000"/>
            <a:ext cx="834228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792000" cy="396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"/>
          <p:cNvPicPr/>
          <p:nvPr/>
        </p:nvPicPr>
        <p:blipFill>
          <a:blip r:embed="rId3"/>
          <a:stretch/>
        </p:blipFill>
        <p:spPr>
          <a:xfrm>
            <a:off x="8540640" y="0"/>
            <a:ext cx="60336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865656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46" name="Coloredframe"/>
          <p:cNvSpPr/>
          <p:nvPr/>
        </p:nvSpPr>
        <p:spPr>
          <a:xfrm>
            <a:off x="1208160" y="0"/>
            <a:ext cx="3538440" cy="587520"/>
          </a:xfrm>
          <a:prstGeom prst="rect">
            <a:avLst/>
          </a:prstGeom>
          <a:solidFill>
            <a:srgbClr val="c03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47" name="Picture 9" descr="EPO_rgb_300dpi"/>
          <p:cNvPicPr/>
          <p:nvPr/>
        </p:nvPicPr>
        <p:blipFill>
          <a:blip r:embed="rId2"/>
          <a:stretch/>
        </p:blipFill>
        <p:spPr>
          <a:xfrm>
            <a:off x="0" y="0"/>
            <a:ext cx="1166760" cy="58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8491680" y="0"/>
            <a:ext cx="652320" cy="652320"/>
          </a:xfrm>
          <a:prstGeom prst="rect">
            <a:avLst/>
          </a:prstGeom>
          <a:ln w="0">
            <a:noFill/>
          </a:ln>
        </p:spPr>
      </p:pic>
      <p:sp>
        <p:nvSpPr>
          <p:cNvPr id="49" name="Coloredframe"/>
          <p:cNvSpPr/>
          <p:nvPr/>
        </p:nvSpPr>
        <p:spPr>
          <a:xfrm>
            <a:off x="4756320" y="0"/>
            <a:ext cx="3735360" cy="58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4"/>
          <a:srcRect l="0" t="0" r="2625" b="0"/>
          <a:stretch/>
        </p:blipFill>
        <p:spPr>
          <a:xfrm>
            <a:off x="5224320" y="3413160"/>
            <a:ext cx="2211480" cy="113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5"/>
          <a:stretch/>
        </p:blipFill>
        <p:spPr>
          <a:xfrm>
            <a:off x="1582560" y="3252960"/>
            <a:ext cx="1527480" cy="1527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55640" y="84924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404b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4c57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B376-547D-468B-BF19-701EB316217E}" type="datetime">
              <a:rPr b="0" lang="en-US" sz="1400" spc="-1" strike="noStrike">
                <a:solidFill>
                  <a:srgbClr val="4c575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4c57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2552-A5A1-4305-904C-5F839C37767B}" type="slidenum">
              <a:rPr b="0" lang="de-DE" sz="1400" spc="-1" strike="noStrike">
                <a:solidFill>
                  <a:srgbClr val="4c575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6"/>
          <a:srcRect l="0" t="42946" r="0" b="10737"/>
          <a:stretch/>
        </p:blipFill>
        <p:spPr>
          <a:xfrm>
            <a:off x="0" y="5618160"/>
            <a:ext cx="9144000" cy="12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orldwide.espacenet.com/" TargetMode="External"/><Relationship Id="rId2" Type="http://schemas.openxmlformats.org/officeDocument/2006/relationships/hyperlink" Target="http://worldwide.espacenet.com/" TargetMode="External"/><Relationship Id="rId3" Type="http://schemas.openxmlformats.org/officeDocument/2006/relationships/hyperlink" Target="http://worldwide.espacenet.com/" TargetMode="External"/><Relationship Id="rId4" Type="http://schemas.openxmlformats.org/officeDocument/2006/relationships/hyperlink" Target="http://www.uspto.gov/web/patents/classification/index.htm" TargetMode="External"/><Relationship Id="rId5" Type="http://schemas.openxmlformats.org/officeDocument/2006/relationships/hyperlink" Target="http://www.uspto.gov/web/patents/classification/index.htm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documents.epo.org/projects/babylon/eponot.nsf/0/2F88B7285FC1E3ECC125785500531278/$File/OPS_v3_0_documentation_v1_1_en.pdf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pcinfo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7CE8-5490-4E92-9238-261CD8649EA8}" type="slidenum">
              <a:rPr b="0" lang="de-DE" sz="14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91960" y="785880"/>
            <a:ext cx="85838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3" name="Text Box 39"/>
          <p:cNvSpPr/>
          <p:nvPr/>
        </p:nvSpPr>
        <p:spPr>
          <a:xfrm>
            <a:off x="468360" y="2401920"/>
            <a:ext cx="804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36600" y="1889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575f"/>
                </a:solidFill>
                <a:latin typeface="Arial"/>
              </a:rPr>
              <a:t>Cooperative Patent Classification (CPC)</a:t>
            </a:r>
            <a:endParaRPr b="0" lang="en-US" sz="3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676840" y="4835520"/>
            <a:ext cx="29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PC CE Meeting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Geneva, 27 February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85760" y="485928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Pierre Held,         EPO Directorate Classification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Christopher Kim, USPTO CPC Coordinator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9355-C4A3-4248-8EFF-F68FEE5AFAD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Training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230480"/>
            <a:ext cx="7678800" cy="47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-Learning modules for USPTO staff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Field-specific training (FST) provided by EPO examiners to their counterparts of the technical field 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xtensive use of CPC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Feedback via the QA proces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xchange visits and e-contacts between specialists in a field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3811-9999-434E-9AA9-7169A58B269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9EBD-F869-438F-B7C5-60494884A89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360" y="27576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Field Specific Training (FST) Sessions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1330200" y="828720"/>
            <a:ext cx="6324840" cy="264960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6200000"/>
          </a:gradFill>
          <a:ln w="25560">
            <a:solidFill>
              <a:srgbClr val="b4b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0" name="TextBox 21"/>
          <p:cNvSpPr/>
          <p:nvPr/>
        </p:nvSpPr>
        <p:spPr>
          <a:xfrm>
            <a:off x="4842720" y="39625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Create a library of CBTs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2514600" y="1168560"/>
            <a:ext cx="4379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</a:rPr>
              <a:t>USPTO QNs will be trained on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read 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CPC scheme/definition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search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 in CPC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classify</a:t>
            </a: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 in CPC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monitor </a:t>
            </a:r>
            <a:r>
              <a:rPr b="1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quality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How to evaluate addition/deletion of symbols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buClr>
                <a:srgbClr val="22272a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72a"/>
                </a:solidFill>
                <a:latin typeface="Arial"/>
                <a:ea typeface="Arial"/>
              </a:rPr>
              <a:t>Develop revision projects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82" name="Picture 2" descr="C:\Users\sliu4\AppData\Local\Microsoft\Windows\Temporary Internet Files\Content.IE5\ND5AL5LL\MC900230305[1].wmf"/>
          <p:cNvPicPr/>
          <p:nvPr/>
        </p:nvPicPr>
        <p:blipFill>
          <a:blip r:embed="rId1"/>
          <a:stretch/>
        </p:blipFill>
        <p:spPr>
          <a:xfrm>
            <a:off x="3662280" y="3703680"/>
            <a:ext cx="1003320" cy="885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sliu4\AppData\Local\Microsoft\Windows\Temporary Internet Files\Content.IE5\ND5AL5LL\MC900440402[1].png"/>
          <p:cNvPicPr/>
          <p:nvPr/>
        </p:nvPicPr>
        <p:blipFill>
          <a:blip r:embed="rId2"/>
          <a:stretch/>
        </p:blipFill>
        <p:spPr>
          <a:xfrm>
            <a:off x="2247840" y="2301840"/>
            <a:ext cx="593640" cy="593640"/>
          </a:xfrm>
          <a:prstGeom prst="rect">
            <a:avLst/>
          </a:prstGeom>
          <a:ln w="0">
            <a:noFill/>
          </a:ln>
        </p:spPr>
      </p:pic>
      <p:pic>
        <p:nvPicPr>
          <p:cNvPr id="184" name="Diagram 1023" descr=""/>
          <p:cNvPicPr/>
          <p:nvPr/>
        </p:nvPicPr>
        <p:blipFill>
          <a:blip r:embed="rId3"/>
          <a:stretch/>
        </p:blipFill>
        <p:spPr>
          <a:xfrm>
            <a:off x="1311120" y="4784760"/>
            <a:ext cx="2425680" cy="1635120"/>
          </a:xfrm>
          <a:prstGeom prst="rect">
            <a:avLst/>
          </a:prstGeom>
          <a:ln w="0">
            <a:noFill/>
          </a:ln>
        </p:spPr>
      </p:pic>
      <p:pic>
        <p:nvPicPr>
          <p:cNvPr id="185" name="Diagram 35" descr=""/>
          <p:cNvPicPr/>
          <p:nvPr/>
        </p:nvPicPr>
        <p:blipFill>
          <a:blip r:embed="rId4"/>
          <a:stretch/>
        </p:blipFill>
        <p:spPr>
          <a:xfrm>
            <a:off x="4791240" y="4784760"/>
            <a:ext cx="2384280" cy="16351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024"/>
          <p:cNvSpPr/>
          <p:nvPr/>
        </p:nvSpPr>
        <p:spPr>
          <a:xfrm>
            <a:off x="3815640" y="47242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c575f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7" name="TextBox 37"/>
          <p:cNvSpPr/>
          <p:nvPr/>
        </p:nvSpPr>
        <p:spPr>
          <a:xfrm>
            <a:off x="7397280" y="47242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c575f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17640" y="6505560"/>
            <a:ext cx="49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c30"/>
                </a:solidFill>
                <a:latin typeface="Arial"/>
              </a:rPr>
              <a:t>FST Overview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C164-6047-4C66-9BE2-B5E09A3FCA8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Demo 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9760" y="1197000"/>
            <a:ext cx="838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2"/>
              </a:rPr>
              <a:t>worldwide.espacenet.com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3"/>
              </a:rPr>
              <a:t>/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2400" spc="-1" strike="noStrike" u="sng">
                <a:solidFill>
                  <a:srgbClr val="6d90a6"/>
                </a:solidFill>
                <a:uFillTx/>
                <a:latin typeface="Arial"/>
                <a:hlinkClick r:id="rId5"/>
              </a:rPr>
              <a:t>www.uspto.gov/web/patents/classification/index.htm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C119-4405-4C13-8D29-95C808686FD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993600"/>
            <a:ext cx="4881600" cy="53150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Key features scheme browser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2411280" y="2492280"/>
            <a:ext cx="93672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1042920" y="242100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ub-section text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2411280" y="184464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117440" y="191772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Radio buttons: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toggle IPC vs CPC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Show notes &amp; warning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4c575f"/>
                </a:solidFill>
                <a:latin typeface="Arial"/>
              </a:rPr>
              <a:t>Toggle dot/tree view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195640" y="4437000"/>
            <a:ext cx="93636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826920" y="436572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expand main group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where possible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2371680" y="147636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901800" y="1413000"/>
            <a:ext cx="18698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earch functionality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2411280" y="3500280"/>
            <a:ext cx="93672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1042920" y="3429000"/>
            <a:ext cx="18702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guidance heading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5C5A-50BF-483E-A92D-1E3AF05D7DF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Key features CPC search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2195640" y="981000"/>
            <a:ext cx="5155920" cy="5408640"/>
          </a:xfrm>
          <a:prstGeom prst="rect">
            <a:avLst/>
          </a:prstGeom>
          <a:ln w="0">
            <a:noFill/>
          </a:ln>
        </p:spPr>
      </p:pic>
      <p:sp>
        <p:nvSpPr>
          <p:cNvPr id="208" name="Line 4"/>
          <p:cNvSpPr/>
          <p:nvPr/>
        </p:nvSpPr>
        <p:spPr>
          <a:xfrm>
            <a:off x="1763640" y="234936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325440" y="2309760"/>
            <a:ext cx="18702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statistical result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562400" cy="914400"/>
          </a:xfrm>
          <a:prstGeom prst="rect">
            <a:avLst/>
          </a:prstGeom>
          <a:ln w="0">
            <a:noFill/>
          </a:ln>
        </p:spPr>
      </p:pic>
      <p:sp>
        <p:nvSpPr>
          <p:cNvPr id="211" name="Line 7"/>
          <p:cNvSpPr/>
          <p:nvPr/>
        </p:nvSpPr>
        <p:spPr>
          <a:xfrm>
            <a:off x="1763640" y="3540240"/>
            <a:ext cx="216000" cy="0"/>
          </a:xfrm>
          <a:prstGeom prst="line">
            <a:avLst/>
          </a:prstGeom>
          <a:ln w="9360">
            <a:solidFill>
              <a:srgbClr val="4c57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50920" y="3500280"/>
            <a:ext cx="18698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ability to expand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c575f"/>
                </a:solidFill>
                <a:latin typeface="Arial"/>
              </a:rPr>
              <a:t>results</a:t>
            </a:r>
            <a:endParaRPr b="0" lang="en-US" sz="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85DD-F3A2-4FCD-A844-3131927DA70F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Links to Definitions and Scheme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3240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cons to open PDF files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Definitions and Scheme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924360" y="1197000"/>
            <a:ext cx="4535280" cy="33400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755640" y="4797360"/>
            <a:ext cx="7704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Future version of OPS will have Definitions XML (and concordance list XML).  How these will be used and incorporated into the browser application will be determined in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E336-65D5-4A23-A956-2762B49C1B32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Classification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95200" y="1263600"/>
            <a:ext cx="8551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6A81-D211-4E55-9FC0-1A8D869210D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38200" y="1050840"/>
            <a:ext cx="84708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48DD-CA2B-4DFA-9607-FD2F11051381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63680" y="1227240"/>
            <a:ext cx="83851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BA7F-230B-47D4-98B3-F4FCAB71171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787400" y="1434960"/>
            <a:ext cx="4857840" cy="2419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399960" y="1082520"/>
            <a:ext cx="834228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1800360" y="3679920"/>
            <a:ext cx="4886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Oval 1"/>
          <p:cNvSpPr/>
          <p:nvPr/>
        </p:nvSpPr>
        <p:spPr>
          <a:xfrm>
            <a:off x="5418000" y="763560"/>
            <a:ext cx="2019600" cy="1050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CC24-E25F-49FB-B40D-BA9B8B49DC03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8640" y="1055160"/>
            <a:ext cx="802656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schem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project timeline and mileston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Quality assuran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viewer in Espacenet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Allocation Standard, Scheme servic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PC Revision and Maintenan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C201-CC0C-4F49-854F-3CA36EBBE1A1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USPTO Tool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52440" y="920880"/>
            <a:ext cx="8437680" cy="512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920880" y="5842080"/>
            <a:ext cx="74372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4600" y="439200"/>
            <a:ext cx="83883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CPC allocation standard - based on WIPO ST.8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164360" y="3645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CE45-5E44-4CEE-BA37-A1EECD2DA45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2360" y="3860640"/>
            <a:ext cx="50328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148428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05640" y="150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64360" y="5445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5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4869000"/>
            <a:ext cx="1079640" cy="503280"/>
          </a:xfrm>
          <a:prstGeom prst="leftArrow">
            <a:avLst>
              <a:gd name="adj1" fmla="val 50000"/>
              <a:gd name="adj2" fmla="val 53630"/>
            </a:avLst>
          </a:prstGeom>
          <a:blipFill rotWithShape="0">
            <a:blip r:embed="rId6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92720" y="5084640"/>
            <a:ext cx="28908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87080" y="61135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Version 1.0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23600" y="554040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c575f"/>
                </a:solidFill>
                <a:latin typeface="Arial"/>
              </a:rPr>
              <a:t>only for CPCNO</a:t>
            </a:r>
            <a:endParaRPr b="0" lang="en-US" sz="10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70440" y="5630760"/>
            <a:ext cx="1144440" cy="0"/>
          </a:xfrm>
          <a:prstGeom prst="line">
            <a:avLst/>
          </a:prstGeom>
          <a:ln w="9360">
            <a:solidFill>
              <a:srgbClr val="ab0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43840" y="42116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70600" y="4487760"/>
            <a:ext cx="166680" cy="0"/>
          </a:xfrm>
          <a:prstGeom prst="line">
            <a:avLst/>
          </a:prstGeom>
          <a:ln w="9360">
            <a:solidFill>
              <a:srgbClr val="c03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33680" y="4349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362b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CPC Allocation standard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788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D8A5-5D65-411D-8826-93C087F8F018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6960" y="614520"/>
            <a:ext cx="817884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04b56"/>
                </a:solidFill>
                <a:latin typeface="Arial"/>
              </a:rPr>
              <a:t>CPC Scheme Services as </a:t>
            </a:r>
            <a:br>
              <a:rPr sz="3200"/>
            </a:br>
            <a:r>
              <a:rPr b="1" lang="en-GB" sz="3200" spc="-1" strike="noStrike">
                <a:solidFill>
                  <a:srgbClr val="404b56"/>
                </a:solidFill>
                <a:latin typeface="Arial"/>
              </a:rPr>
              <a:t>EPO’s OPS Service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6360" y="1428480"/>
            <a:ext cx="8213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1.  CPC Validation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2. Classification Mapping servic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ECLA to CPC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CPC to ECLA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257480" indent="-343080">
              <a:spcBef>
                <a:spcPts val="601"/>
              </a:spcBef>
              <a:buClr>
                <a:srgbClr val="404b5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CPC to IPC concordance servi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6CD9-DAAB-4D9E-909B-B51FBD8B494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1. CPC validation service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67880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classification validation service checks 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format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existence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and ECLA classification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service will accept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only 'full' classification symbol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, starting from main group, e.g. A01B1/00.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response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for a requested symbol is indicated by standard HTTP response code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f the symbol is valid, a standard HTTP 200 OK response is returned.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c57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c575f"/>
                </a:solidFill>
                <a:latin typeface="Arial"/>
              </a:rPr>
              <a:t>In the case the symbol is not being found in the scheme, a standard HTTP 404 Not Found error response is returned</a:t>
            </a: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n the case of the symbol format being invalid, a standard HTTP 400 Bad Request error response is returned.  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56"/>
                </a:solidFill>
                <a:latin typeface="Arial"/>
              </a:rPr>
              <a:t>In the case of any other system error, a standard HTTP 500 System Error response is returned. 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862A-89AD-4205-AD8A-EED8364922D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68996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2. Classification mapping service</a:t>
            </a:r>
            <a:br>
              <a:rPr sz="2800"/>
            </a:b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781704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classification mapping service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provides access to internal classification conversion routine for external users.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The following directions of conversions are supported by OPS :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ECLA &gt; CPC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&gt; ECLA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Add only &gt; ICO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PC &gt; IPC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he service accepts only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'full' classification symbols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, starting from main group level, e.g. A01B1/00</a:t>
            </a:r>
            <a:r>
              <a:rPr b="0" lang="en-GB" sz="1600" spc="-1" strike="noStrike">
                <a:solidFill>
                  <a:srgbClr val="404b5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The CPC&gt;ECLA transformation ambiguous, therefore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optional request parameter</a:t>
            </a:r>
            <a:r>
              <a:rPr b="0" lang="en-GB" sz="1800" spc="-1" strike="noStrike">
                <a:solidFill>
                  <a:srgbClr val="404b56"/>
                </a:solidFill>
                <a:latin typeface="Arial"/>
              </a:rPr>
              <a:t>_?additional_ to specify that additional classification symbol is requested. The </a:t>
            </a:r>
            <a:r>
              <a:rPr b="1" lang="en-GB" sz="1800" spc="-1" strike="noStrike">
                <a:solidFill>
                  <a:srgbClr val="404b56"/>
                </a:solidFill>
                <a:latin typeface="Arial"/>
              </a:rPr>
              <a:t>default request is </a:t>
            </a:r>
            <a:r>
              <a:rPr b="1" i="1" lang="en-GB" sz="1800" spc="-1" strike="noStrike">
                <a:solidFill>
                  <a:srgbClr val="404b56"/>
                </a:solidFill>
                <a:latin typeface="Arial"/>
              </a:rPr>
              <a:t>invention</a:t>
            </a:r>
            <a:endParaRPr b="0" lang="en-US" sz="1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4747-06A4-4E0A-A812-49D4BB9F1AF9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ECLA-CPC Response</a:t>
            </a:r>
            <a:endParaRPr b="1" lang="en-US" sz="28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82296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pic>
        <p:nvPicPr>
          <p:cNvPr id="269" name="Rectangle 5" descr=""/>
          <p:cNvPicPr/>
          <p:nvPr/>
        </p:nvPicPr>
        <p:blipFill>
          <a:blip r:embed="rId1"/>
          <a:stretch/>
        </p:blipFill>
        <p:spPr>
          <a:xfrm>
            <a:off x="512640" y="500040"/>
            <a:ext cx="7872480" cy="55818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rId2"/>
          </p:cNvPr>
          <p:cNvSpPr/>
          <p:nvPr/>
        </p:nvSpPr>
        <p:spPr>
          <a:xfrm>
            <a:off x="3079440" y="614376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c575f"/>
                </a:solidFill>
                <a:latin typeface="Arial"/>
              </a:rPr>
              <a:t>OPS RESTful documentation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82E6-00B2-4832-A991-D5857CD9B78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793520"/>
            <a:ext cx="781848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CPC </a:t>
            </a:r>
            <a:br>
              <a:rPr sz="4000"/>
            </a:b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Revision and Maintenance</a:t>
            </a:r>
            <a:br>
              <a:rPr sz="4000"/>
            </a:br>
            <a:r>
              <a:rPr b="1" lang="en-US" sz="4000" spc="-1" strike="noStrike">
                <a:solidFill>
                  <a:srgbClr val="404b56"/>
                </a:solidFill>
                <a:latin typeface="Arial"/>
              </a:rPr>
              <a:t>process</a:t>
            </a:r>
            <a:endParaRPr b="1" lang="en-US" sz="4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mending the CPC scheme and/or definition,</a:t>
            </a:r>
            <a:br>
              <a:rPr sz="2000"/>
            </a:b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nd reclassifying the corresponding documentation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79B6-D382-4F5E-93A6-841E921AB4F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A3C5-82AF-4D7B-A566-681DEFA2BBF7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From 1 January 2013 onwards CPC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jointly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administered by the EPO and USPTO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=&gt;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Joint decisions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to amend the CPC 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scheme and definitions 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Changes through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 maintenance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revision</a:t>
            </a:r>
            <a:r>
              <a:rPr b="0" lang="en-US" sz="2800" spc="-1" strike="noStrike">
                <a:solidFill>
                  <a:srgbClr val="404b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b56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F791-0A03-4ADC-BA35-DB1D226655D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386080" y="714240"/>
            <a:ext cx="2897280" cy="56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04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08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12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24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28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21/28532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--------------------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c575f"/>
                </a:solidFill>
                <a:latin typeface="Arial"/>
              </a:rPr>
              <a:t>H01L</a:t>
            </a:r>
            <a:r>
              <a:rPr b="0" lang="pt-BR" sz="1400" spc="-1" strike="noStrike" u="sng">
                <a:solidFill>
                  <a:srgbClr val="c0362b"/>
                </a:solidFill>
                <a:uFillTx/>
                <a:latin typeface="Arial"/>
              </a:rPr>
              <a:t>20</a:t>
            </a:r>
            <a:r>
              <a:rPr b="0" lang="pt-BR" sz="1400" spc="-1" strike="noStrike">
                <a:solidFill>
                  <a:srgbClr val="4c575f"/>
                </a:solidFill>
                <a:latin typeface="Arial"/>
              </a:rPr>
              <a:t>21/28528     </a:t>
            </a:r>
            <a:r>
              <a:rPr b="0" lang="pt-BR" sz="1800" spc="-1" strike="noStrike">
                <a:solidFill>
                  <a:srgbClr val="4c575f"/>
                </a:solidFill>
                <a:latin typeface="Arial"/>
              </a:rPr>
              <a:t>. . . .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01L</a:t>
            </a:r>
            <a:r>
              <a:rPr b="1" lang="pt-BR" sz="1400" spc="-1" strike="noStrike" u="sng">
                <a:solidFill>
                  <a:srgbClr val="c0362b"/>
                </a:solidFill>
                <a:uFillTx/>
                <a:latin typeface="Arial"/>
              </a:rPr>
              <a:t>20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1/285285</a:t>
            </a: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. . . . .</a:t>
            </a:r>
            <a:r>
              <a:rPr b="1" lang="pt-BR" sz="18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c575f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   . . .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04    . . . .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01L2925/06508    . . . . .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697280" y="907920"/>
            <a:ext cx="301680" cy="2982960"/>
          </a:xfrm>
          <a:custGeom>
            <a:avLst/>
            <a:gdLst>
              <a:gd name="textAreaLeft" fmla="*/ 0 w 301680"/>
              <a:gd name="textAreaRight" fmla="*/ 108720 w 301680"/>
              <a:gd name="textAreaTop" fmla="*/ 77760 h 2982960"/>
              <a:gd name="textAreaBottom" fmla="*/ 2905200 h 298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714920" y="5388120"/>
            <a:ext cx="288720" cy="968400"/>
          </a:xfrm>
          <a:custGeom>
            <a:avLst/>
            <a:gdLst>
              <a:gd name="textAreaLeft" fmla="*/ 0 w 288720"/>
              <a:gd name="textAreaRight" fmla="*/ 104040 w 288720"/>
              <a:gd name="textAreaTop" fmla="*/ 25200 h 968400"/>
              <a:gd name="textAreaBottom" fmla="*/ 943200 h 96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97600" y="1317600"/>
            <a:ext cx="3738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Origin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PC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CLA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mirrored" ICO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08680" y="5168880"/>
            <a:ext cx="3813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orthogonal" ICO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flipH="1" flipV="1">
            <a:off x="2091240" y="1083600"/>
            <a:ext cx="358920" cy="2903400"/>
          </a:xfrm>
          <a:custGeom>
            <a:avLst/>
            <a:gdLst>
              <a:gd name="textAreaLeft" fmla="*/ -360 w 358920"/>
              <a:gd name="textAreaRight" fmla="*/ 129240 w 358920"/>
              <a:gd name="textAreaTop" fmla="*/ 75600 h 2903400"/>
              <a:gd name="textAreaBottom" fmla="*/ 2827800 h 29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>
            <a:off x="2133720" y="4210200"/>
            <a:ext cx="333360" cy="2111400"/>
          </a:xfrm>
          <a:custGeom>
            <a:avLst/>
            <a:gdLst>
              <a:gd name="textAreaLeft" fmla="*/ 0 w 333360"/>
              <a:gd name="textAreaRight" fmla="*/ 120240 w 333360"/>
              <a:gd name="textAreaTop" fmla="*/ 54720 h 2111400"/>
              <a:gd name="textAreaBottom" fmla="*/ 205668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154080" y="2239920"/>
            <a:ext cx="197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INV/ADD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579600" y="4908600"/>
            <a:ext cx="133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ADD)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8388360" y="664056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E6D8-DCBA-4BFC-8355-66F8B411820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013360" y="4389480"/>
            <a:ext cx="38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"further breakdown" ICO</a:t>
            </a:r>
            <a:r>
              <a:rPr b="1" lang="en-US" sz="1800" spc="-1" strike="noStrike">
                <a:solidFill>
                  <a:srgbClr val="4c57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4734000" y="4227480"/>
            <a:ext cx="288720" cy="804960"/>
          </a:xfrm>
          <a:custGeom>
            <a:avLst/>
            <a:gdLst>
              <a:gd name="textAreaLeft" fmla="*/ 0 w 288720"/>
              <a:gd name="textAreaRight" fmla="*/ 104040 w 288720"/>
              <a:gd name="textAreaTop" fmla="*/ 20880 h 804960"/>
              <a:gd name="textAreaBottom" fmla="*/ 784080 h 8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75920" y="310212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Main trunk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16240" y="572616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362b"/>
                </a:solidFill>
                <a:latin typeface="Arial"/>
              </a:rPr>
              <a:t>2000-series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361800" y="322200"/>
            <a:ext cx="7689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─ sections A-H</a:t>
            </a: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8BD3-F185-43F7-B3F1-C94B2554384A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hare reclassification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resources when projects enter reclassification phase: 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50%-50% overall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in some projects flexibility to divide the work on a different shar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Monthly updates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 possible for CPC scheme and definition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Support </a:t>
            </a: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will be provided: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Revision Concordance List (RCL)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b56"/>
                </a:solidFill>
                <a:latin typeface="Arial"/>
              </a:rPr>
              <a:t>Publication of changes 2 months before they enter into force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DF08-45F8-472F-A606-ACBAC833C08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678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Thank you for your attention!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6d90a6"/>
                </a:solidFill>
                <a:uFillTx/>
                <a:latin typeface="Arial"/>
                <a:hlinkClick r:id="rId1"/>
              </a:rPr>
              <a:t>www.cpcinfo.org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b56"/>
                </a:solidFill>
                <a:latin typeface="Arial"/>
              </a:rPr>
              <a:t>cpc@epo.org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b56"/>
                </a:solidFill>
                <a:latin typeface="Arial"/>
              </a:rPr>
              <a:t>cpc@uspto.gov</a:t>
            </a: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1520" y="4726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</a:t>
            </a:r>
            <a:r>
              <a:rPr b="1" lang="en-US" sz="3200" spc="-1" strike="noStrike">
                <a:solidFill>
                  <a:srgbClr val="404b56"/>
                </a:solidFill>
                <a:latin typeface="Arial"/>
                <a:ea typeface="Arial"/>
              </a:rPr>
              <a:t>─ </a:t>
            </a: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Y section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838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General tagging of new technological developments; general tagging of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cross-cutting technologies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 spanning over several sections of the IPC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02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: Climate change mitigation technologies (CCMTs)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04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: Smart grid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Technical subjects covered by former USPC </a:t>
            </a:r>
            <a:br>
              <a:rPr sz="2400"/>
            </a:b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cross-reference art collections [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XRACs</a:t>
            </a:r>
            <a:r>
              <a:rPr b="0" lang="en-GB" sz="2400" spc="-1" strike="noStrike">
                <a:solidFill>
                  <a:srgbClr val="404b56"/>
                </a:solidFill>
                <a:latin typeface="Arial"/>
              </a:rPr>
              <a:t>] and </a:t>
            </a: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Digest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b56"/>
                </a:solidFill>
                <a:latin typeface="Arial"/>
              </a:rPr>
              <a:t>Y10S</a:t>
            </a:r>
            <a:endParaRPr b="0" lang="en-US" sz="2400" spc="-1" strike="noStrike">
              <a:solidFill>
                <a:srgbClr val="404b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F0D7-F9E9-4B0B-8721-7E9C012C6C12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scheme layout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77720" y="1135080"/>
          <a:ext cx="8355240" cy="5238720"/>
        </p:xfrm>
        <a:graphic>
          <a:graphicData uri="http://schemas.openxmlformats.org/drawingml/2006/table">
            <a:tbl>
              <a:tblPr/>
              <a:tblGrid>
                <a:gridCol w="6411960"/>
                <a:gridCol w="1943280"/>
              </a:tblGrid>
              <a:tr h="86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s A─H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ection Y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1368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20428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Main trunk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160 000 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symbol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vention or additional information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{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...</a:t>
                      </a: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}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used to distinguish CPC text from IPC one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5760">
                      <a:solidFill>
                        <a:srgbClr val="4c575f"/>
                      </a:solidFill>
                    </a:lnB>
                    <a:solidFill>
                      <a:srgbClr val="99ff99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7 300</a:t>
                      </a: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cludes former USPC XRACs and digests 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575f"/>
                      </a:solidFill>
                    </a:lnL>
                    <a:lnR w="1368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74040">
                <a:tc>
                  <a:txBody>
                    <a:bodyPr lIns="90000" rIns="90000" anchor="t">
                      <a:noAutofit/>
                    </a:bodyPr>
                    <a:p>
                      <a:pPr marL="304920" indent="-30492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marL="304920" indent="-30492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ndexing codes ─ 2000 series</a:t>
                      </a:r>
                      <a:endParaRPr b="0" lang="en-US" sz="20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~82 000</a:t>
                      </a: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 symbols 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former "breakdown" and "orthogonal" ICO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IPC indexing codes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b56"/>
                          </a:solidFill>
                          <a:latin typeface="Arial"/>
                          <a:ea typeface="Arial"/>
                        </a:rPr>
                        <a:t>additional information only</a:t>
                      </a: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  <a:p>
                      <a:pPr lvl="2" marL="1219320" indent="-304920">
                        <a:spcBef>
                          <a:spcPts val="400"/>
                        </a:spcBef>
                        <a:buClr>
                          <a:srgbClr val="404b56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575f"/>
                      </a:solidFill>
                    </a:lnL>
                    <a:lnR w="5760">
                      <a:solidFill>
                        <a:srgbClr val="4c575f"/>
                      </a:solidFill>
                    </a:lnR>
                    <a:lnT w="5760">
                      <a:solidFill>
                        <a:srgbClr val="4c575f"/>
                      </a:solidFill>
                    </a:lnT>
                    <a:lnB w="13680">
                      <a:solidFill>
                        <a:srgbClr val="4c575f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c57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87BE-5B51-4A4A-BC70-90F49E2E1D25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b56"/>
                </a:solidFill>
                <a:latin typeface="Arial"/>
              </a:rPr>
              <a:t>CPC Definitions</a:t>
            </a:r>
            <a:endParaRPr b="1" lang="en-US" sz="32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2440" y="1041120"/>
            <a:ext cx="8080200" cy="52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e CPC scheme will be supported by a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set of instructions (in complement to the scheme)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 on how to search and classify in each specific technical area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ey have been designed along the lines of the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IPC Definition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Since 1 October 2012, CPC Definitions are being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published on a monthly basis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 as they get bilaterally agreed and will finally cover: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ll subclasse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all main groups, and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some subgroups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o date we count 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164 published CPC definitions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221 </a:t>
            </a:r>
            <a:r>
              <a:rPr b="0" lang="en-US" sz="2000" spc="-1" strike="noStrike">
                <a:solidFill>
                  <a:srgbClr val="404b56"/>
                </a:solidFill>
                <a:latin typeface="Arial"/>
              </a:rPr>
              <a:t>this Friday 1 March 2013</a:t>
            </a:r>
            <a:r>
              <a:rPr b="1" lang="en-US" sz="2000" spc="-1" strike="noStrike">
                <a:solidFill>
                  <a:srgbClr val="404b5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C4B3-E02C-423B-9EE6-5CA5947B8550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C93E-DC91-40B5-B6AF-D49D757FA1E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13120" y="435780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Jan 2011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133200" y="4954680"/>
            <a:ext cx="1506600" cy="1141560"/>
            <a:chOff x="133200" y="4954680"/>
            <a:chExt cx="1506600" cy="1141560"/>
          </a:xfrm>
        </p:grpSpPr>
        <p:sp>
          <p:nvSpPr>
            <p:cNvPr id="138" name="Line 6"/>
            <p:cNvSpPr/>
            <p:nvPr/>
          </p:nvSpPr>
          <p:spPr>
            <a:xfrm flipV="1">
              <a:off x="462600" y="4954680"/>
              <a:ext cx="0" cy="248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133200" y="5243400"/>
              <a:ext cx="1506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tart of project discussions between EPO and USPTO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140" name="Rectangle 11"/>
          <p:cNvSpPr/>
          <p:nvPr/>
        </p:nvSpPr>
        <p:spPr>
          <a:xfrm>
            <a:off x="5839560" y="4335480"/>
            <a:ext cx="10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Jan 2013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89680" y="435780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Jan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517680" y="4653000"/>
            <a:ext cx="0" cy="20304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3498840" y="4653000"/>
            <a:ext cx="0" cy="20304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6299280" y="4654080"/>
            <a:ext cx="0" cy="203400"/>
          </a:xfrm>
          <a:prstGeom prst="line">
            <a:avLst/>
          </a:prstGeom>
          <a:ln w="381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90520" y="4776840"/>
            <a:ext cx="8475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 rot="5400000">
            <a:off x="1851840" y="2600640"/>
            <a:ext cx="216000" cy="28656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4520 h 2865600"/>
              <a:gd name="textAreaBottom" fmla="*/ 2791080 h 286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385920" y="1398600"/>
            <a:ext cx="287964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velop training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ocument classification practices (CPC Definitions)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ECLA housekeeping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sign IT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esign collaborative environment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8" name="AutoShape 19"/>
          <p:cNvSpPr/>
          <p:nvPr/>
        </p:nvSpPr>
        <p:spPr>
          <a:xfrm rot="5400000">
            <a:off x="7423560" y="2902320"/>
            <a:ext cx="228600" cy="2274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040 h 2274840"/>
              <a:gd name="textAreaBottom" fmla="*/ 2215800 h 227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 flipV="1">
            <a:off x="6305400" y="4933800"/>
            <a:ext cx="5040" cy="540000"/>
          </a:xfrm>
          <a:prstGeom prst="line">
            <a:avLst/>
          </a:prstGeom>
          <a:ln w="9360">
            <a:solidFill>
              <a:srgbClr val="c0362b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716440" y="5513400"/>
            <a:ext cx="138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362b"/>
                </a:solidFill>
                <a:latin typeface="Arial"/>
                <a:ea typeface="MS PGothic"/>
              </a:rPr>
              <a:t>CPC Launch </a:t>
            </a: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1" name="AutoShape 17"/>
          <p:cNvSpPr/>
          <p:nvPr/>
        </p:nvSpPr>
        <p:spPr>
          <a:xfrm rot="5400000">
            <a:off x="4786200" y="2712960"/>
            <a:ext cx="219240" cy="2635200"/>
          </a:xfrm>
          <a:custGeom>
            <a:avLst/>
            <a:gdLst>
              <a:gd name="textAreaLeft" fmla="*/ 140040 w 219240"/>
              <a:gd name="textAreaRight" fmla="*/ 219600 w 219240"/>
              <a:gd name="textAreaTop" fmla="*/ 68400 h 2635200"/>
              <a:gd name="textAreaBottom" fmla="*/ 2566800 h 26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07"/>
                </a:lnTo>
                <a:cubicBezTo>
                  <a:pt x="10800" y="10407"/>
                  <a:pt x="5400" y="11307"/>
                  <a:pt x="0" y="11307"/>
                </a:cubicBezTo>
                <a:cubicBezTo>
                  <a:pt x="5400" y="11307"/>
                  <a:pt x="10800" y="12207"/>
                  <a:pt x="10800" y="1310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3160800" y="1379520"/>
            <a:ext cx="339732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IT implementation at USPTO and EPO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Collaborative environment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c57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c575f"/>
                </a:solidFill>
                <a:latin typeface="Arial"/>
              </a:rPr>
              <a:t>CPC Scheme launch version publicly available on 1 Oct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b56"/>
                </a:solidFill>
                <a:latin typeface="Arial"/>
              </a:rPr>
              <a:t>DOCDB back-file converted to CPC on 15 Nov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CPC in Espacenet - December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404b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b56"/>
                </a:solidFill>
                <a:latin typeface="Arial"/>
              </a:rPr>
              <a:t>Prepare for launch of CPC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4427640" y="4950000"/>
            <a:ext cx="1319040" cy="1136880"/>
            <a:chOff x="4427640" y="4950000"/>
            <a:chExt cx="1319040" cy="1136880"/>
          </a:xfrm>
        </p:grpSpPr>
        <p:sp>
          <p:nvSpPr>
            <p:cNvPr id="154" name="Line 23"/>
            <p:cNvSpPr/>
            <p:nvPr/>
          </p:nvSpPr>
          <p:spPr>
            <a:xfrm flipV="1">
              <a:off x="5089680" y="4950000"/>
              <a:ext cx="1440" cy="249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575f"/>
                </a:solidFill>
                <a:latin typeface="Arial"/>
              </a:endParaRPr>
            </a:p>
          </p:txBody>
        </p:sp>
        <p:sp>
          <p:nvSpPr>
            <p:cNvPr id="155" name="Rectangle 24"/>
            <p:cNvSpPr/>
            <p:nvPr/>
          </p:nvSpPr>
          <p:spPr>
            <a:xfrm>
              <a:off x="4427640" y="5234040"/>
              <a:ext cx="13190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575f"/>
                  </a:solidFill>
                  <a:latin typeface="Arial"/>
                  <a:ea typeface="MS PGothic"/>
                </a:rPr>
                <a:t>CPC launch version available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c575f"/>
                  </a:solidFill>
                  <a:latin typeface="Arial"/>
                  <a:ea typeface="MS PGothic"/>
                </a:rPr>
                <a:t>1 Oct 2012</a:t>
              </a:r>
              <a:endParaRPr b="0" lang="en-US" sz="1400" spc="-1" strike="noStrike">
                <a:solidFill>
                  <a:srgbClr val="4c575f"/>
                </a:solidFill>
                <a:latin typeface="Arial"/>
              </a:endParaRPr>
            </a:p>
          </p:txBody>
        </p:sp>
      </p:grpSp>
      <p:sp>
        <p:nvSpPr>
          <p:cNvPr id="156" name="Rectangle 2"/>
          <p:cNvSpPr/>
          <p:nvPr/>
        </p:nvSpPr>
        <p:spPr>
          <a:xfrm>
            <a:off x="566640" y="603360"/>
            <a:ext cx="7332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575f"/>
                </a:solidFill>
                <a:latin typeface="Arial"/>
              </a:rPr>
              <a:t>CPC timeline</a:t>
            </a:r>
            <a:endParaRPr b="0" lang="en-US" sz="3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543720" y="892080"/>
            <a:ext cx="2475000" cy="32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CPC used by EPO and USPTO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Epoque (Net) and USPat and USApp CPC-ready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Quality Assurance process in place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Harmonize classific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actices</a:t>
            </a: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c0d0e"/>
                </a:solidFill>
                <a:latin typeface="Arial"/>
              </a:rPr>
              <a:t>Joint CPC revision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c0d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d0e"/>
                </a:solidFill>
                <a:latin typeface="Arial"/>
              </a:rPr>
              <a:t>CPC available for use by other IP office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D02A-F514-49C4-B933-4A9FF2516AF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652520" y="4343400"/>
            <a:ext cx="81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Apr 2013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8005680" y="4662000"/>
            <a:ext cx="0" cy="20340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 flipH="1" flipV="1">
            <a:off x="8011800" y="4965480"/>
            <a:ext cx="4680" cy="49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7275600" y="5500800"/>
            <a:ext cx="1728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No more ECLA-to-CPC mapping in revised areas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4702320" y="4343400"/>
            <a:ext cx="79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  <a:ea typeface="MS PGothic"/>
              </a:rPr>
              <a:t>1 Oct 2012</a:t>
            </a:r>
            <a:endParaRPr b="0" lang="en-US" sz="1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 flipV="1">
            <a:off x="5091120" y="4662000"/>
            <a:ext cx="0" cy="203400"/>
          </a:xfrm>
          <a:prstGeom prst="line">
            <a:avLst/>
          </a:prstGeom>
          <a:ln cap="rnd" w="7920">
            <a:solidFill>
              <a:srgbClr val="4c5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302B-A2F9-4352-A1BA-D72AD30E6BB1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77320" cy="4162680"/>
          </a:xfrm>
          <a:prstGeom prst="rect">
            <a:avLst/>
          </a:prstGeom>
          <a:ln w="0">
            <a:noFill/>
          </a:ln>
        </p:spPr>
      </p:pic>
      <p:sp>
        <p:nvSpPr>
          <p:cNvPr id="167" name="Title 1"/>
          <p:cNvSpPr/>
          <p:nvPr/>
        </p:nvSpPr>
        <p:spPr>
          <a:xfrm>
            <a:off x="703440" y="304920"/>
            <a:ext cx="7689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CPC - USPTO Implementation Timeline</a:t>
            </a:r>
            <a:endParaRPr b="0" lang="en-US" sz="24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7640" y="6505560"/>
            <a:ext cx="49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c30"/>
                </a:solidFill>
                <a:latin typeface="Arial"/>
              </a:rPr>
              <a:t>Implementation Timeline</a:t>
            </a:r>
            <a:endParaRPr b="0" lang="en-US" sz="16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33FC-FBC1-4BCF-A208-7A2BA2BDFD8B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8388360" y="6585120"/>
            <a:ext cx="7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E5F3-EE2C-4B42-8130-D473D84B8484}" type="slidenum">
              <a:rPr b="0" lang="de-DE" sz="1200" spc="-1" strike="noStrike">
                <a:solidFill>
                  <a:srgbClr val="4c57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575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8996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b56"/>
                </a:solidFill>
                <a:latin typeface="Arial"/>
              </a:rPr>
              <a:t>Quality Assurance (QA)</a:t>
            </a:r>
            <a:endParaRPr b="1" lang="en-US" sz="2400" spc="-1" strike="noStrike">
              <a:solidFill>
                <a:srgbClr val="404b56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55640" y="1127160"/>
            <a:ext cx="81374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Feedback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by Class-QNs through QA: sampling of documents and provision of written feedback 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Possibility of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on-the-fly written feedback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by all classifiers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4b5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Creation of </a:t>
            </a:r>
            <a:r>
              <a:rPr b="1" lang="en-GB" sz="2000" spc="-1" strike="noStrike">
                <a:solidFill>
                  <a:srgbClr val="404b56"/>
                </a:solidFill>
                <a:latin typeface="Arial"/>
              </a:rPr>
              <a:t>statistical reports</a:t>
            </a:r>
            <a:r>
              <a:rPr b="0" lang="en-GB" sz="2000" spc="-1" strike="noStrike">
                <a:solidFill>
                  <a:srgbClr val="404b56"/>
                </a:solidFill>
                <a:latin typeface="Arial"/>
              </a:rPr>
              <a:t> per technical area by analysing the difference in symbols allocated by the two offices to the same families</a:t>
            </a:r>
            <a:endParaRPr b="0" lang="en-US" sz="20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404b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404b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57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6:48:09Z</dcterms:created>
  <dc:creator>Pierre Held (EPO) and Christopher Kim (USPTO)</dc:creator>
  <dc:description/>
  <cp:keywords>IPC</cp:keywords>
  <dc:language>en-US</dc:language>
  <cp:lastModifiedBy>Malanga</cp:lastModifiedBy>
  <dcterms:modified xsi:type="dcterms:W3CDTF">2013-03-04T09:34:37Z</dcterms:modified>
  <cp:revision>944</cp:revision>
  <dc:subject>IPC/CE/45 - Presentation on the Cooperative Patent Classification (CPC)</dc:subject>
  <dc:title>IPC/CE/45 - Presentation on the Cooperative Patent Classification (CPC)</dc:title>
</cp:coreProperties>
</file>