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7B3A-A0DE-4D92-8FEA-914E9FDE6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1F3E-B1B4-4521-8A0A-7C22EF59C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8775-BD9D-455E-82B8-8EFF38A17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ABC9-E713-46DF-B1AD-53C110242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B8CA-37AB-4598-88E2-9EBD99C9D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2686-1F5B-448A-8624-1CFB23CA1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3E37-33C5-4C0B-8215-C33DF3738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DCE4-B334-46C8-AD31-07DC48F4C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B66A-6241-49C6-AF77-4CF18ECDE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7D8D-DF72-4B55-9EC8-3651D68DB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4998-E3D7-4F0E-BC94-6C553BC46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ADCD-54BF-4B57-982E-B03872D21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A23E-B1F7-427A-8BB0-999E48CC3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hyperlink" Target="http://www.wipo.int/ipc-ief/ief-projects/qc013/qc013-a09_ibco.xls" TargetMode="External"/><Relationship Id="rId6" Type="http://schemas.openxmlformats.org/officeDocument/2006/relationships/hyperlink" Target="http://www.wipo.int/ipc-ief/ief-projects/qc013/qc013-a09_ibco.xls" TargetMode="External"/><Relationship Id="rId7" Type="http://schemas.openxmlformats.org/officeDocument/2006/relationships/hyperlink" Target="http://www.wipo.int/ipc-ief/ief-projects/qc013/qc013-a09_ibco.xls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web2.wipo.int/ipc-ief/en/project/1540/CE446" TargetMode="External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hyperlink" Target="http://www.wipo.int/ipc-ief/ief-projects/ce446/ce446-a08_ibco.ppt" TargetMode="External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2.wipo.int/ipc-ief/en/project/1540/CE446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eb2.wipo.int/ipcreclass/en/report/document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9320" y="4183200"/>
            <a:ext cx="493704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13. Report on the progress of the WIPO IPCRECLAS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Committee of Experts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6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T operations and support for IPC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1828800"/>
            <a:ext cx="3200400" cy="1371600"/>
          </a:xfrm>
          <a:prstGeom prst="cloudCallout">
            <a:avLst>
              <a:gd name="adj1" fmla="val -54611"/>
              <a:gd name="adj2" fmla="val 922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666880" y="3581280"/>
          <a:ext cx="2917800" cy="20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581280"/>
                    <a:ext cx="291780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IPCRE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hat happened in IPCRECLASS since CE 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happened since CE4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ECLASS Move into production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S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ing Lists uploaded for 2009, 2010, 2011 (June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ow number of reclassification see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QC013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nnex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E446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project for feedback from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oad of 569431 working lists for IPC 2013.01 (Oct. 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raining session for offices February 26, 2013 (training support under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IEF CE446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project statu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Recent developmen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B considered some CE446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mport of result List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ccess for offices to their IPCRECLASS 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pecial operat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Special Operations Mode (SOM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2600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40200" y="431172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.g. during upload of WLs by W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open question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Office feedback from offices (see IEF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446</a:t>
            </a: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erformance issu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ymbols at family level e.g. several « firs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.8 format not accepted by IPCRECLASS =&gt;Not up to date  Result list DTD (ST. 8 format , mandatory dat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otification about reclassification done by another office on a WL they are responsible for (stage 1b and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open question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IPC workshop 2013 + IPCRECLASS training sess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ad-only access for commercial providers to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PCRECLASS report tab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project perspectiv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Planned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nsider implementation of default transfer for stag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olution needed to inform MCD about reclassification item done with n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xplicit deactivation of old symbols in all result lists exported IPCRE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project perspectiv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Other actions? e.g. for open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ecision needed based on CE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Fiévet, Conde</dc:creator>
  <dc:description/>
  <cp:keywords>IPC IPC RECLASS</cp:keywords>
  <dc:language>en-US</dc:language>
  <cp:lastModifiedBy>Malanga</cp:lastModifiedBy>
  <dcterms:modified xsi:type="dcterms:W3CDTF">2013-03-04T09:38:03Z</dcterms:modified>
  <cp:revision>38</cp:revision>
  <dc:subject>IPC/CE/45 - IPCRECLASS project status review</dc:subject>
  <dc:title>IPC/CE/45 - IPCRECLASS project status review</dc:title>
</cp:coreProperties>
</file>