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038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5624280" y="-360"/>
            <a:ext cx="430524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3269880" y="509760"/>
            <a:ext cx="339876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93240" y="3227040"/>
            <a:ext cx="794556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6453000"/>
            <a:ext cx="4303800" cy="33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5624280" y="6453000"/>
            <a:ext cx="4305240" cy="33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8AF3-A31D-4280-AA88-82BBC0B618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27024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93240" y="3227040"/>
            <a:ext cx="794556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5624640" y="6453360"/>
            <a:ext cx="43052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73E1-2AC8-4B4A-9BF0-DDC26C9D58C1}" type="slidenum">
              <a:rPr b="0" lang="en-US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09448B9-0CE9-4063-89A9-81135C536836}" type="slidenum">
              <a:rPr b="0" lang="en-US" sz="12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397320" cy="25477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321920" y="3227040"/>
            <a:ext cx="728676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702-5335-4BBD-9F89-3CC64ABC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D0F-A922-4990-A08C-ADA2B48F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69F-1533-4A09-92C8-9ECB51CF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D5A-6402-4DEA-86D2-F39CE20C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A370-9877-4EA3-9605-9F9C01F2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CB00-7272-4A9D-9D7C-58A1C57F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98A6-DBE2-4515-9A04-8275C9F0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D53A-9321-4C97-975C-0DE02EC7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1402-8B40-4BA1-9345-8A5546BE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C83B-087B-4BFC-B8D3-D6189920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4783-C826-4D0A-8899-D6CD22FF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40F-80CD-4BD5-BB3E-9C8EDF4F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D815-BDFD-4B30-806E-9BA1294C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5BEC-5CEE-4C27-85C7-754D80C5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6716-2155-4C26-AC51-3318396D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104E-0E10-4BC8-B7DD-C731710F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0A73-7978-4749-9C1F-888593AD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72D-3865-401B-BCD6-07218509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27B-7B85-4186-9E72-BBD01CDE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58B-C1BA-4843-AEB1-FCC83C76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F73-F20C-46EE-BB14-71368D18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A05-B0F8-4A05-A216-3FC0DD44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78D-600E-4AF1-A73C-F8D76D8B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AFE-FCB9-46B3-85A7-438B2C2E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0524-79C5-49C0-B38C-8A95F6EC1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A812-B9C7-4CFA-A58D-5341D0227B9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7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"/>
          <p:cNvPicPr/>
          <p:nvPr/>
        </p:nvPicPr>
        <p:blipFill>
          <a:blip r:embed="rId3"/>
          <a:stretch/>
        </p:blipFill>
        <p:spPr>
          <a:xfrm>
            <a:off x="8540640" y="0"/>
            <a:ext cx="60336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6" name="Coloredframe"/>
          <p:cNvSpPr/>
          <p:nvPr/>
        </p:nvSpPr>
        <p:spPr>
          <a:xfrm>
            <a:off x="1208160" y="0"/>
            <a:ext cx="353844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47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8491680" y="0"/>
            <a:ext cx="652320" cy="652320"/>
          </a:xfrm>
          <a:prstGeom prst="rect">
            <a:avLst/>
          </a:prstGeom>
          <a:ln w="0">
            <a:noFill/>
          </a:ln>
        </p:spPr>
      </p:pic>
      <p:sp>
        <p:nvSpPr>
          <p:cNvPr id="49" name="Coloredframe"/>
          <p:cNvSpPr/>
          <p:nvPr/>
        </p:nvSpPr>
        <p:spPr>
          <a:xfrm>
            <a:off x="4756320" y="0"/>
            <a:ext cx="3735360" cy="58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4"/>
          <a:srcRect l="0" t="0" r="2625" b="0"/>
          <a:stretch/>
        </p:blipFill>
        <p:spPr>
          <a:xfrm>
            <a:off x="5224320" y="3413160"/>
            <a:ext cx="2211480" cy="113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5"/>
          <a:stretch/>
        </p:blipFill>
        <p:spPr>
          <a:xfrm>
            <a:off x="1582560" y="3252960"/>
            <a:ext cx="1527480" cy="1527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55640" y="84924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A93A-30A8-48EF-B69A-F30A5076F1BB}" type="datetime">
              <a:rPr b="0" lang="en-US" sz="1400" spc="-1" strike="noStrike">
                <a:solidFill>
                  <a:srgbClr val="4c575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4DAE-EA7C-42C1-804A-390405DE0A29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6"/>
          <a:srcRect l="0" t="42946" r="0" b="10737"/>
          <a:stretch/>
        </p:blipFill>
        <p:spPr>
          <a:xfrm>
            <a:off x="0" y="5618160"/>
            <a:ext cx="9144000" cy="12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orldwide.espacenet.com/" TargetMode="External"/><Relationship Id="rId2" Type="http://schemas.openxmlformats.org/officeDocument/2006/relationships/hyperlink" Target="http://worldwide.espacenet.com/" TargetMode="External"/><Relationship Id="rId3" Type="http://schemas.openxmlformats.org/officeDocument/2006/relationships/hyperlink" Target="http://worldwide.espacenet.com/" TargetMode="External"/><Relationship Id="rId4" Type="http://schemas.openxmlformats.org/officeDocument/2006/relationships/hyperlink" Target="http://www.uspto.gov/web/patents/classification/index.htm" TargetMode="External"/><Relationship Id="rId5" Type="http://schemas.openxmlformats.org/officeDocument/2006/relationships/hyperlink" Target="http://www.uspto.gov/web/patents/classification/index.htm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documents.epo.org/projects/babylon/eponot.nsf/0/2F88B7285FC1E3ECC125785500531278/$File/OPS_v3_0_documentation_v1_1_en.pdf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pcinfo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23BE-1AAB-4EEA-885E-7ED8B5DAABF5}" type="slidenum">
              <a:rPr b="0" lang="de-DE" sz="14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91960" y="785880"/>
            <a:ext cx="85838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468360" y="2401920"/>
            <a:ext cx="804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36600" y="1889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575f"/>
                </a:solidFill>
                <a:latin typeface="Arial"/>
              </a:rPr>
              <a:t>Cooperative Patent Classification (CPC)</a:t>
            </a:r>
            <a:endParaRPr b="0" lang="en-US" sz="3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676840" y="4835520"/>
            <a:ext cx="29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IPC CE Meeting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Geneva, 27 February 2013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85760" y="485928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Pierre Held,         EPO Directorate Classification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Christopher Kim, USPTO CPC Coordinator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2A49-DE7F-4C27-86EC-80D0244835E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Training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230480"/>
            <a:ext cx="7678800" cy="47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-Learning modules for USPTO staff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Field-specific training (FST) provided by EPO examiners to their counterparts of the technical field  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xtensive use of CPC Definition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Feedback via the QA proces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xchange visits and e-contacts between specialists in a field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BD5D-69AD-48FB-A0B7-6222F518BC13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A5A4-A401-4CB0-AA20-50D723FDE99D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0360" y="27576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Field Specific Training (FST) Sessions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1330200" y="828720"/>
            <a:ext cx="6324840" cy="2649600"/>
          </a:xfrm>
          <a:prstGeom prst="ellipse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6200000"/>
          </a:gradFill>
          <a:ln w="25560">
            <a:solidFill>
              <a:srgbClr val="b4b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0" name="TextBox 21"/>
          <p:cNvSpPr/>
          <p:nvPr/>
        </p:nvSpPr>
        <p:spPr>
          <a:xfrm>
            <a:off x="4842720" y="396252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Create a library of CBTs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2514600" y="1168560"/>
            <a:ext cx="4379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</a:rPr>
              <a:t>USPTO QNs will be trained on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</a:t>
            </a:r>
            <a:r>
              <a:rPr b="1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read </a:t>
            </a: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CPC scheme/definition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</a:t>
            </a:r>
            <a:r>
              <a:rPr b="1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search</a:t>
            </a: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 in CPC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</a:t>
            </a:r>
            <a:r>
              <a:rPr b="1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classify</a:t>
            </a: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 in CPC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monitor </a:t>
            </a:r>
            <a:r>
              <a:rPr b="1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quality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2" marL="12002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evaluate addition/deletion of symbols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2" marL="12002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Develop revision projects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82" name="Picture 2" descr="C:\Users\sliu4\AppData\Local\Microsoft\Windows\Temporary Internet Files\Content.IE5\ND5AL5LL\MC900230305[1].wmf"/>
          <p:cNvPicPr/>
          <p:nvPr/>
        </p:nvPicPr>
        <p:blipFill>
          <a:blip r:embed="rId1"/>
          <a:stretch/>
        </p:blipFill>
        <p:spPr>
          <a:xfrm>
            <a:off x="3662280" y="3703680"/>
            <a:ext cx="1003320" cy="885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Users\sliu4\AppData\Local\Microsoft\Windows\Temporary Internet Files\Content.IE5\ND5AL5LL\MC900440402[1].png"/>
          <p:cNvPicPr/>
          <p:nvPr/>
        </p:nvPicPr>
        <p:blipFill>
          <a:blip r:embed="rId2"/>
          <a:stretch/>
        </p:blipFill>
        <p:spPr>
          <a:xfrm>
            <a:off x="2247840" y="2301840"/>
            <a:ext cx="593640" cy="593640"/>
          </a:xfrm>
          <a:prstGeom prst="rect">
            <a:avLst/>
          </a:prstGeom>
          <a:ln w="0">
            <a:noFill/>
          </a:ln>
        </p:spPr>
      </p:pic>
      <p:pic>
        <p:nvPicPr>
          <p:cNvPr id="184" name="Diagram 1023" descr=""/>
          <p:cNvPicPr/>
          <p:nvPr/>
        </p:nvPicPr>
        <p:blipFill>
          <a:blip r:embed="rId3"/>
          <a:stretch/>
        </p:blipFill>
        <p:spPr>
          <a:xfrm>
            <a:off x="1311120" y="4784760"/>
            <a:ext cx="2425680" cy="1635120"/>
          </a:xfrm>
          <a:prstGeom prst="rect">
            <a:avLst/>
          </a:prstGeom>
          <a:ln w="0">
            <a:noFill/>
          </a:ln>
        </p:spPr>
      </p:pic>
      <p:pic>
        <p:nvPicPr>
          <p:cNvPr id="185" name="Diagram 35" descr=""/>
          <p:cNvPicPr/>
          <p:nvPr/>
        </p:nvPicPr>
        <p:blipFill>
          <a:blip r:embed="rId4"/>
          <a:stretch/>
        </p:blipFill>
        <p:spPr>
          <a:xfrm>
            <a:off x="4791240" y="4784760"/>
            <a:ext cx="2384280" cy="16351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024"/>
          <p:cNvSpPr/>
          <p:nvPr/>
        </p:nvSpPr>
        <p:spPr>
          <a:xfrm>
            <a:off x="3815640" y="472428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c575f"/>
                </a:solidFill>
                <a:latin typeface="Arial"/>
              </a:rPr>
              <a:t>…</a:t>
            </a:r>
            <a:endParaRPr b="0" lang="en-US" sz="6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7" name="TextBox 37"/>
          <p:cNvSpPr/>
          <p:nvPr/>
        </p:nvSpPr>
        <p:spPr>
          <a:xfrm>
            <a:off x="7397280" y="472428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c575f"/>
                </a:solidFill>
                <a:latin typeface="Arial"/>
              </a:rPr>
              <a:t>…</a:t>
            </a:r>
            <a:endParaRPr b="0" lang="en-US" sz="6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17640" y="6505560"/>
            <a:ext cx="49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c30"/>
                </a:solidFill>
                <a:latin typeface="Arial"/>
              </a:rPr>
              <a:t>FST Overview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6E97-9F29-4B40-9CD1-0409EEAA1DC6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Demo 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9760" y="1197000"/>
            <a:ext cx="838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2"/>
              </a:rPr>
              <a:t>worldwide.espacenet.com</a:t>
            </a: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3"/>
              </a:rPr>
              <a:t>/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5"/>
              </a:rPr>
              <a:t>www.uspto.gov/web/patents/classification/index.htm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DD63-E014-4954-AAB5-90A490CDAD9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993600"/>
            <a:ext cx="4881600" cy="53150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Key features scheme browser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2411280" y="2492280"/>
            <a:ext cx="93672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042920" y="2421000"/>
            <a:ext cx="18702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sub-section text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2411280" y="1844640"/>
            <a:ext cx="21600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1117440" y="1917720"/>
            <a:ext cx="18702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c575f"/>
                </a:solidFill>
                <a:latin typeface="Arial"/>
              </a:rPr>
              <a:t>Radio buttons: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c575f"/>
                </a:solidFill>
                <a:latin typeface="Arial"/>
              </a:rPr>
              <a:t>toggle IPC vs CPC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c575f"/>
                </a:solidFill>
                <a:latin typeface="Arial"/>
              </a:rPr>
              <a:t>Show notes &amp; warning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c575f"/>
                </a:solidFill>
                <a:latin typeface="Arial"/>
              </a:rPr>
              <a:t>Toggle dot/tree view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2195640" y="4437000"/>
            <a:ext cx="93636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826920" y="4365720"/>
            <a:ext cx="18702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expand main group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where possible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2371680" y="1476360"/>
            <a:ext cx="21600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901800" y="1413000"/>
            <a:ext cx="18698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search functionality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2411280" y="3500280"/>
            <a:ext cx="93672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1042920" y="3429000"/>
            <a:ext cx="18702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guidance heading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9E91-7D2A-4E8B-9C01-E449323ED3E8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Key features CPC search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5155920" cy="5408640"/>
          </a:xfrm>
          <a:prstGeom prst="rect">
            <a:avLst/>
          </a:prstGeom>
          <a:ln w="0">
            <a:noFill/>
          </a:ln>
        </p:spPr>
      </p:pic>
      <p:sp>
        <p:nvSpPr>
          <p:cNvPr id="208" name="Line 4"/>
          <p:cNvSpPr/>
          <p:nvPr/>
        </p:nvSpPr>
        <p:spPr>
          <a:xfrm>
            <a:off x="1763640" y="2349360"/>
            <a:ext cx="21600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25440" y="2309760"/>
            <a:ext cx="18702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statistical result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562400" cy="914400"/>
          </a:xfrm>
          <a:prstGeom prst="rect">
            <a:avLst/>
          </a:prstGeom>
          <a:ln w="0">
            <a:noFill/>
          </a:ln>
        </p:spPr>
      </p:pic>
      <p:sp>
        <p:nvSpPr>
          <p:cNvPr id="211" name="Line 7"/>
          <p:cNvSpPr/>
          <p:nvPr/>
        </p:nvSpPr>
        <p:spPr>
          <a:xfrm>
            <a:off x="1763640" y="3540240"/>
            <a:ext cx="21600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250920" y="3500280"/>
            <a:ext cx="18698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ability to expand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result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E783-CA4F-4C15-A9CC-B7F0EE4FE25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Links to Definitions and Scheme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240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Icons to open PDF files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Definitions and Schem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924360" y="1197000"/>
            <a:ext cx="4535280" cy="33400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755640" y="4797360"/>
            <a:ext cx="7704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uture version of OPS will have Definitions XML (and concordance list XML).  How these will be used and incorporated into the browser application will be determined in 2013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8CBD-44F2-4E76-919F-2DD4E54F03A5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Classification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95200" y="1263600"/>
            <a:ext cx="85518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8E3E-955A-456A-B249-4312E9A84DA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38200" y="1050840"/>
            <a:ext cx="84708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B7D3-2DFE-4CE0-9865-E1B2D352E9B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463680" y="1227240"/>
            <a:ext cx="83851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5A1C-38BB-490F-AEC3-78929FC8112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787400" y="1434960"/>
            <a:ext cx="4857840" cy="2419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399960" y="1082520"/>
            <a:ext cx="8342280" cy="352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1800360" y="3679920"/>
            <a:ext cx="4886280" cy="2819160"/>
          </a:xfrm>
          <a:prstGeom prst="rect">
            <a:avLst/>
          </a:prstGeom>
          <a:ln w="0">
            <a:noFill/>
          </a:ln>
        </p:spPr>
      </p:pic>
      <p:sp>
        <p:nvSpPr>
          <p:cNvPr id="232" name="Oval 1"/>
          <p:cNvSpPr/>
          <p:nvPr/>
        </p:nvSpPr>
        <p:spPr>
          <a:xfrm>
            <a:off x="5418000" y="763560"/>
            <a:ext cx="2019600" cy="1050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B9CB-F992-4549-BE37-6078484FD2E9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8640" y="1055160"/>
            <a:ext cx="802656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schem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definition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project timeline and milestone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Quality assuran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viewer in Espacenet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Allocation Standard, Scheme service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Revision and Maintenan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D72D-10F3-46A0-BAAE-E8A8A81144EA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2440" y="920880"/>
            <a:ext cx="8437680" cy="512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920880" y="5842080"/>
            <a:ext cx="74372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4600" y="439200"/>
            <a:ext cx="83883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CPC allocation standard - based on WIPO ST.8</a:t>
            </a: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164360" y="3645000"/>
            <a:ext cx="1079640" cy="503280"/>
          </a:xfrm>
          <a:prstGeom prst="leftArrow">
            <a:avLst>
              <a:gd name="adj1" fmla="val 50000"/>
              <a:gd name="adj2" fmla="val 53630"/>
            </a:avLst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41CB-AB70-4B3E-84E3-91F09A5F77E7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2360" y="3860640"/>
            <a:ext cx="503280" cy="0"/>
          </a:xfrm>
          <a:prstGeom prst="line">
            <a:avLst/>
          </a:prstGeom>
          <a:ln w="93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64360" y="1484280"/>
            <a:ext cx="1079640" cy="503280"/>
          </a:xfrm>
          <a:prstGeom prst="leftArrow">
            <a:avLst>
              <a:gd name="adj1" fmla="val 50000"/>
              <a:gd name="adj2" fmla="val 53630"/>
            </a:avLst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05640" y="150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64360" y="5445000"/>
            <a:ext cx="1079640" cy="503280"/>
          </a:xfrm>
          <a:prstGeom prst="leftArrow">
            <a:avLst>
              <a:gd name="adj1" fmla="val 50000"/>
              <a:gd name="adj2" fmla="val 53630"/>
            </a:avLst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4360" y="4869000"/>
            <a:ext cx="1079640" cy="503280"/>
          </a:xfrm>
          <a:prstGeom prst="leftArrow">
            <a:avLst>
              <a:gd name="adj1" fmla="val 50000"/>
              <a:gd name="adj2" fmla="val 53630"/>
            </a:avLst>
          </a:prstGeom>
          <a:blipFill rotWithShape="0">
            <a:blip r:embed="rId6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92720" y="5084640"/>
            <a:ext cx="289080" cy="0"/>
          </a:xfrm>
          <a:prstGeom prst="line">
            <a:avLst/>
          </a:prstGeom>
          <a:ln w="93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87080" y="61135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Version 1.0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23600" y="554040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c575f"/>
                </a:solidFill>
                <a:latin typeface="Arial"/>
              </a:rPr>
              <a:t>only for CPCNO</a:t>
            </a:r>
            <a:endParaRPr b="0" lang="en-US" sz="10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70440" y="5630760"/>
            <a:ext cx="1144440" cy="0"/>
          </a:xfrm>
          <a:prstGeom prst="line">
            <a:avLst/>
          </a:prstGeom>
          <a:ln w="93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43840" y="4211640"/>
            <a:ext cx="1079280" cy="503280"/>
          </a:xfrm>
          <a:prstGeom prst="leftArrow">
            <a:avLst>
              <a:gd name="adj1" fmla="val 50000"/>
              <a:gd name="adj2" fmla="val 53612"/>
            </a:avLst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0600" y="4487760"/>
            <a:ext cx="166680" cy="0"/>
          </a:xfrm>
          <a:prstGeom prst="line">
            <a:avLst/>
          </a:prstGeom>
          <a:ln w="93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33680" y="4349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CPC Allocation standard</a:t>
            </a: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9E2B-FB8A-48D5-BCEA-5A292B6B7D4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86960" y="614520"/>
            <a:ext cx="817884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04b56"/>
                </a:solidFill>
                <a:latin typeface="Arial"/>
              </a:rPr>
              <a:t>CPC Scheme Services as </a:t>
            </a:r>
            <a:br>
              <a:rPr sz="3200"/>
            </a:br>
            <a:r>
              <a:rPr b="1" lang="en-GB" sz="3200" spc="-1" strike="noStrike">
                <a:solidFill>
                  <a:srgbClr val="404b56"/>
                </a:solidFill>
                <a:latin typeface="Arial"/>
              </a:rPr>
              <a:t>EPO’s OPS Service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6360" y="1428480"/>
            <a:ext cx="8213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1.  CPC Validation servi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80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2. Classification Mapping service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80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CLA to CPC concordance servi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CPC to ECLA concordance servi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CPC to IPC concordance servi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CA43-79A7-4342-9751-1BA568AFF6CD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1. CPC validation service</a:t>
            </a: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67880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The classification validation service checks the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xistence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PC and ECLA classifications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The service will accept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nly 'full' classification symbols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, starting from main group, e.g. A01B1/00.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response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for a requested symbol is indicated by standard HTTP response code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If the symbol is valid, a standard HTTP 200 OK response is returned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In the case the symbol is not being found in the scheme, a standard HTTP 404 Not Found error response is returned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In the case of the symbol format being invalid, a standard HTTP 400 Bad Request error response is returned.  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In the case of any other system error, a standard HTTP 500 System Error response is returned.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F7E4-1DA6-4536-A154-520C61ACB193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68996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2. Classification mapping service</a:t>
            </a:r>
            <a:br>
              <a:rPr sz="2800"/>
            </a:b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55640" y="1196640"/>
            <a:ext cx="781704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classification mapping service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 provides access to internal classification conversion routine for external users.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The following directions of conversions are supported by OPS : 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ECLA &gt; CPC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CPC &gt; ECLA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CPC Add only &gt; ICO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CPC &gt; IPC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The service accepts only 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'full' classification symbols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, starting from main group level, e.g. A01B1/00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The CPC&gt;ECLA transformation ambiguous, therefore 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ptional request parameter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_?additional_ to specify that additional classification symbol is requested. The 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default request is </a:t>
            </a:r>
            <a:r>
              <a:rPr b="1" i="1" lang="en-GB" sz="1800" spc="-1" strike="noStrike">
                <a:solidFill>
                  <a:srgbClr val="404b56"/>
                </a:solidFill>
                <a:latin typeface="Arial"/>
              </a:rPr>
              <a:t>invention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574B-E188-4CFA-BC1E-BBBFC4277591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ECLA-CPC Response</a:t>
            </a: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82296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69" name="Rectangle 5" descr=""/>
          <p:cNvPicPr/>
          <p:nvPr/>
        </p:nvPicPr>
        <p:blipFill>
          <a:blip r:embed="rId1"/>
          <a:stretch/>
        </p:blipFill>
        <p:spPr>
          <a:xfrm>
            <a:off x="512640" y="500040"/>
            <a:ext cx="7872480" cy="558180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rId2"/>
          </p:cNvPr>
          <p:cNvSpPr/>
          <p:nvPr/>
        </p:nvSpPr>
        <p:spPr>
          <a:xfrm>
            <a:off x="3079440" y="614376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PS RESTful documentation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6257-85CB-4E4E-8754-32708098289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793520"/>
            <a:ext cx="781848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b56"/>
                </a:solidFill>
                <a:latin typeface="Arial"/>
              </a:rPr>
              <a:t>CPC </a:t>
            </a:r>
            <a:br>
              <a:rPr sz="4000"/>
            </a:br>
            <a:r>
              <a:rPr b="1" lang="en-US" sz="4000" spc="-1" strike="noStrike">
                <a:solidFill>
                  <a:srgbClr val="404b56"/>
                </a:solidFill>
                <a:latin typeface="Arial"/>
              </a:rPr>
              <a:t>Revision and Maintenance</a:t>
            </a:r>
            <a:br>
              <a:rPr sz="4000"/>
            </a:br>
            <a:r>
              <a:rPr b="1" lang="en-US" sz="4000" spc="-1" strike="noStrike">
                <a:solidFill>
                  <a:srgbClr val="404b56"/>
                </a:solidFill>
                <a:latin typeface="Arial"/>
              </a:rPr>
              <a:t>process</a:t>
            </a:r>
            <a:endParaRPr b="1" lang="en-US" sz="4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Amending the CPC scheme and/or definition,</a:t>
            </a:r>
            <a:br>
              <a:rPr sz="2000"/>
            </a:b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and reclassifying the corresponding documentation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9CB2-B97E-4D0F-A0A8-A3D0DAE7360D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C0CF-7684-4355-B3A4-C1F4DF5F1D4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From 1 January 2013 onwards CPC 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jointly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 administered by the EPO and USPTO</a:t>
            </a: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=&gt;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Joint decisions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 to amend the CPC 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scheme and definitions </a:t>
            </a: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Changes through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 maintenance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revision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projects</a:t>
            </a: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C250-EC16-4262-A285-2718920FA4E6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386080" y="714240"/>
            <a:ext cx="2897280" cy="56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04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08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12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24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28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32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c575f"/>
                </a:solidFill>
                <a:latin typeface="Arial"/>
              </a:rPr>
              <a:t>--------------------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575f"/>
                </a:solidFill>
                <a:latin typeface="Arial"/>
              </a:rPr>
              <a:t>H01L</a:t>
            </a:r>
            <a:r>
              <a:rPr b="0" lang="pt-BR" sz="1400" spc="-1" strike="noStrike" u="sng">
                <a:solidFill>
                  <a:srgbClr val="c0362b"/>
                </a:solidFill>
                <a:uFillTx/>
                <a:latin typeface="Arial"/>
              </a:rPr>
              <a:t>20</a:t>
            </a:r>
            <a:r>
              <a:rPr b="0" lang="pt-BR" sz="1400" spc="-1" strike="noStrike">
                <a:solidFill>
                  <a:srgbClr val="4c575f"/>
                </a:solidFill>
                <a:latin typeface="Arial"/>
              </a:rPr>
              <a:t>21/28528     </a:t>
            </a:r>
            <a:r>
              <a:rPr b="0" lang="pt-BR" sz="1800" spc="-1" strike="noStrike">
                <a:solidFill>
                  <a:srgbClr val="4c575f"/>
                </a:solidFill>
                <a:latin typeface="Arial"/>
              </a:rPr>
              <a:t>. . . .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</a:t>
            </a:r>
            <a:r>
              <a:rPr b="1" lang="pt-BR" sz="1400" spc="-1" strike="noStrike" u="sng">
                <a:solidFill>
                  <a:srgbClr val="c0362b"/>
                </a:solidFill>
                <a:uFillTx/>
                <a:latin typeface="Arial"/>
              </a:rPr>
              <a:t>20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1/285285</a:t>
            </a:r>
            <a:r>
              <a:rPr b="1" lang="pt-BR" sz="1400" spc="-1" strike="noStrike">
                <a:solidFill>
                  <a:srgbClr val="4c575f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 . . . .</a:t>
            </a:r>
            <a:r>
              <a:rPr b="1" lang="pt-BR" sz="1800" spc="-1" strike="noStrike">
                <a:solidFill>
                  <a:srgbClr val="4c57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c575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01L2925/065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  . . .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01L2925/06504    . . . .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01L2925/06508    . . . . .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697280" y="907920"/>
            <a:ext cx="301680" cy="2982960"/>
          </a:xfrm>
          <a:custGeom>
            <a:avLst/>
            <a:gdLst>
              <a:gd name="textAreaLeft" fmla="*/ 0 w 301680"/>
              <a:gd name="textAreaRight" fmla="*/ 108720 w 301680"/>
              <a:gd name="textAreaTop" fmla="*/ 77760 h 2982960"/>
              <a:gd name="textAreaBottom" fmla="*/ 2905200 h 298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4714920" y="5388120"/>
            <a:ext cx="288720" cy="968400"/>
          </a:xfrm>
          <a:custGeom>
            <a:avLst/>
            <a:gdLst>
              <a:gd name="textAreaLeft" fmla="*/ 0 w 288720"/>
              <a:gd name="textAreaRight" fmla="*/ 104040 w 288720"/>
              <a:gd name="textAreaTop" fmla="*/ 25200 h 968400"/>
              <a:gd name="textAreaBottom" fmla="*/ 943200 h 96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097600" y="1317600"/>
            <a:ext cx="3738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Origin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PC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CLA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"mirrored" ICO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008680" y="5168880"/>
            <a:ext cx="38131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"orthogonal" ICO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 flipH="1" flipV="1">
            <a:off x="2091240" y="1083600"/>
            <a:ext cx="358920" cy="2903400"/>
          </a:xfrm>
          <a:custGeom>
            <a:avLst/>
            <a:gdLst>
              <a:gd name="textAreaLeft" fmla="*/ -360 w 358920"/>
              <a:gd name="textAreaRight" fmla="*/ 129240 w 358920"/>
              <a:gd name="textAreaTop" fmla="*/ 75600 h 2903400"/>
              <a:gd name="textAreaBottom" fmla="*/ 2827800 h 29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 flipH="1">
            <a:off x="2133720" y="4210200"/>
            <a:ext cx="333360" cy="2111400"/>
          </a:xfrm>
          <a:custGeom>
            <a:avLst/>
            <a:gdLst>
              <a:gd name="textAreaLeft" fmla="*/ 0 w 333360"/>
              <a:gd name="textAreaRight" fmla="*/ 120240 w 333360"/>
              <a:gd name="textAreaTop" fmla="*/ 54720 h 2111400"/>
              <a:gd name="textAreaBottom" fmla="*/ 205668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154080" y="2239920"/>
            <a:ext cx="1972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INV/ADD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79600" y="4908600"/>
            <a:ext cx="133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dexing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ADD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8388360" y="664056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20E4-A266-4EAE-9F95-36907B9C13A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013360" y="4389480"/>
            <a:ext cx="38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"further breakdown" ICO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4734000" y="4227480"/>
            <a:ext cx="288720" cy="804960"/>
          </a:xfrm>
          <a:custGeom>
            <a:avLst/>
            <a:gdLst>
              <a:gd name="textAreaLeft" fmla="*/ 0 w 288720"/>
              <a:gd name="textAreaRight" fmla="*/ 104040 w 288720"/>
              <a:gd name="textAreaTop" fmla="*/ 20880 h 804960"/>
              <a:gd name="textAreaBottom" fmla="*/ 784080 h 8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75920" y="31021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Main trunk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516240" y="572616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2000-series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361800" y="322200"/>
            <a:ext cx="7689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CPC scheme ─ sections A-H</a:t>
            </a: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3B57-BD59-4F04-A45B-E2B7E1E15A22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Share reclassification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resources when projects enter reclassification phase: 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50%-50% overall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in some projects flexibility to divide the work on a different shar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Monthly updates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possible for CPC scheme and definition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Support 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will be provided: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Revision Concordance List (RCL)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Publication of changes 2 months before they enter into for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9E8F-A850-4FC3-A8A6-823F843A2053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Thank you for your attention!</a:t>
            </a: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6d90a6"/>
                </a:solidFill>
                <a:uFillTx/>
                <a:latin typeface="Arial"/>
                <a:hlinkClick r:id="rId1"/>
              </a:rPr>
              <a:t>www.cpcinfo.org</a:t>
            </a: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b56"/>
                </a:solidFill>
                <a:latin typeface="Arial"/>
              </a:rPr>
              <a:t>cpc@epo.org</a:t>
            </a: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b56"/>
                </a:solidFill>
                <a:latin typeface="Arial"/>
              </a:rPr>
              <a:t>cpc@uspto.gov</a:t>
            </a: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1520" y="4726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CPC scheme </a:t>
            </a:r>
            <a:r>
              <a:rPr b="1" lang="en-US" sz="3200" spc="-1" strike="noStrike">
                <a:solidFill>
                  <a:srgbClr val="404b56"/>
                </a:solidFill>
                <a:latin typeface="Arial"/>
                <a:ea typeface="Arial"/>
              </a:rPr>
              <a:t>─ </a:t>
            </a: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Y section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8388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General tagging of new technological developments; general tagging of 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cross-cutting technologies</a:t>
            </a: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 spanning over several sections of the IPC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Y02</a:t>
            </a: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: Climate change mitigation technologies (CCMTs)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Y04</a:t>
            </a: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: Smart grid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Technical subjects covered by former USPC </a:t>
            </a:r>
            <a:br>
              <a:rPr sz="2400"/>
            </a:b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ross-reference art collections [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XRACs</a:t>
            </a: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] and 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Digest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Y10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2ECB-1C2A-47B4-B019-B0FAF2298B7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CPC scheme layout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77720" y="1135080"/>
          <a:ext cx="8355240" cy="5238720"/>
        </p:xfrm>
        <a:graphic>
          <a:graphicData uri="http://schemas.openxmlformats.org/drawingml/2006/table">
            <a:tbl>
              <a:tblPr/>
              <a:tblGrid>
                <a:gridCol w="6411960"/>
                <a:gridCol w="1943280"/>
              </a:tblGrid>
              <a:tr h="860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ections A─H</a:t>
                      </a:r>
                      <a:endParaRPr b="0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ection Y</a:t>
                      </a:r>
                      <a:endParaRPr b="0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204280">
                <a:tc>
                  <a:txBody>
                    <a:bodyPr lIns="90000" rIns="900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ain trunk</a:t>
                      </a:r>
                      <a:endParaRPr b="0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160 000 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ymbols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vention or additional information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{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...</a:t>
                      </a: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}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used to distinguish CPC text from IPC one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99ff99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7 300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ymbols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cludes former USPC XRACs and digests 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information only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74040">
                <a:tc>
                  <a:txBody>
                    <a:bodyPr lIns="90000" rIns="900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dexing codes ─ 2000 series</a:t>
                      </a:r>
                      <a:endParaRPr b="0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82 000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ymbols 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former "breakdown" and "orthogonal" ICO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 indexing codes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information only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7011-70B8-4755-8717-390D7A1CB875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CPC Definition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2440" y="1041120"/>
            <a:ext cx="8080200" cy="52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The CPC scheme will be supported by a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set of instructions (in complement to the scheme)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 on how to search and classify in each specific technical area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They have been designed along the lines of the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IPC Definitions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Since 1 October 2012, CPC Definitions are being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published on a monthly basis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 as they get bilaterally agreed and will finally cover: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all subclasses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all main groups, and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some subgroups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To date we count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164 published CPC definitions 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221 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this Friday 1 March 2013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FE13-A89E-413D-A857-ABE1C9DA5EC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6EE1-6097-423E-BC75-12D4926857DF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13120" y="435780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MS PGothic"/>
              </a:rPr>
              <a:t>Jan 2011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grpSp>
        <p:nvGrpSpPr>
          <p:cNvPr id="137" name="Group 2"/>
          <p:cNvGrpSpPr/>
          <p:nvPr/>
        </p:nvGrpSpPr>
        <p:grpSpPr>
          <a:xfrm>
            <a:off x="133200" y="4954680"/>
            <a:ext cx="1506600" cy="1141560"/>
            <a:chOff x="133200" y="4954680"/>
            <a:chExt cx="1506600" cy="1141560"/>
          </a:xfrm>
        </p:grpSpPr>
        <p:sp>
          <p:nvSpPr>
            <p:cNvPr id="138" name="Line 6"/>
            <p:cNvSpPr/>
            <p:nvPr/>
          </p:nvSpPr>
          <p:spPr>
            <a:xfrm flipV="1">
              <a:off x="462600" y="4954680"/>
              <a:ext cx="0" cy="248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133200" y="5243400"/>
              <a:ext cx="15066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tart of project discussions between EPO and USPTO</a:t>
              </a:r>
              <a:endParaRPr b="0" lang="en-US" sz="14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sp>
        <p:nvSpPr>
          <p:cNvPr id="140" name="Rectangle 11"/>
          <p:cNvSpPr/>
          <p:nvPr/>
        </p:nvSpPr>
        <p:spPr>
          <a:xfrm>
            <a:off x="5839560" y="4335480"/>
            <a:ext cx="104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MS PGothic"/>
              </a:rPr>
              <a:t>1 Jan 2013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3289680" y="435780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MS PGothic"/>
              </a:rPr>
              <a:t>Jan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517680" y="4653000"/>
            <a:ext cx="0" cy="203040"/>
          </a:xfrm>
          <a:prstGeom prst="line">
            <a:avLst/>
          </a:prstGeom>
          <a:ln cap="rnd" w="79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3498840" y="4653000"/>
            <a:ext cx="0" cy="203040"/>
          </a:xfrm>
          <a:prstGeom prst="line">
            <a:avLst/>
          </a:prstGeom>
          <a:ln cap="rnd" w="79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6299280" y="4654080"/>
            <a:ext cx="0" cy="203400"/>
          </a:xfrm>
          <a:prstGeom prst="line">
            <a:avLst/>
          </a:prstGeom>
          <a:ln w="381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290520" y="4776840"/>
            <a:ext cx="8475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 rot="5400000">
            <a:off x="1851840" y="2600640"/>
            <a:ext cx="216000" cy="2865600"/>
          </a:xfrm>
          <a:custGeom>
            <a:avLst/>
            <a:gdLst>
              <a:gd name="textAreaLeft" fmla="*/ 137880 w 216000"/>
              <a:gd name="textAreaRight" fmla="*/ 216360 w 216000"/>
              <a:gd name="textAreaTop" fmla="*/ 74520 h 2865600"/>
              <a:gd name="textAreaBottom" fmla="*/ 2791080 h 286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07"/>
                </a:lnTo>
                <a:cubicBezTo>
                  <a:pt x="10800" y="10407"/>
                  <a:pt x="5400" y="11307"/>
                  <a:pt x="0" y="11307"/>
                </a:cubicBezTo>
                <a:cubicBezTo>
                  <a:pt x="5400" y="11307"/>
                  <a:pt x="10800" y="12207"/>
                  <a:pt x="10800" y="1310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385920" y="1398600"/>
            <a:ext cx="287964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evelop training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ocument classification practices (CPC Definitions)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ECLA housekeeping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esign IT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esign collaborative environment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8" name="AutoShape 19"/>
          <p:cNvSpPr/>
          <p:nvPr/>
        </p:nvSpPr>
        <p:spPr>
          <a:xfrm rot="5400000">
            <a:off x="7423560" y="2902320"/>
            <a:ext cx="228600" cy="2274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040 h 2274840"/>
              <a:gd name="textAreaBottom" fmla="*/ 2215800 h 227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07"/>
                </a:lnTo>
                <a:cubicBezTo>
                  <a:pt x="10800" y="10407"/>
                  <a:pt x="5400" y="11307"/>
                  <a:pt x="0" y="11307"/>
                </a:cubicBezTo>
                <a:cubicBezTo>
                  <a:pt x="5400" y="11307"/>
                  <a:pt x="10800" y="12207"/>
                  <a:pt x="10800" y="1310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H="1" flipV="1">
            <a:off x="6305400" y="4933800"/>
            <a:ext cx="5040" cy="540000"/>
          </a:xfrm>
          <a:prstGeom prst="line">
            <a:avLst/>
          </a:prstGeom>
          <a:ln w="9360">
            <a:solidFill>
              <a:srgbClr val="c0362b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5716440" y="5513400"/>
            <a:ext cx="138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MS PGothic"/>
              </a:rPr>
              <a:t>CPC Launch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1" name="AutoShape 17"/>
          <p:cNvSpPr/>
          <p:nvPr/>
        </p:nvSpPr>
        <p:spPr>
          <a:xfrm rot="5400000">
            <a:off x="4786200" y="2712960"/>
            <a:ext cx="219240" cy="2635200"/>
          </a:xfrm>
          <a:custGeom>
            <a:avLst/>
            <a:gdLst>
              <a:gd name="textAreaLeft" fmla="*/ 140040 w 219240"/>
              <a:gd name="textAreaRight" fmla="*/ 219600 w 219240"/>
              <a:gd name="textAreaTop" fmla="*/ 68400 h 2635200"/>
              <a:gd name="textAreaBottom" fmla="*/ 2566800 h 26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07"/>
                </a:lnTo>
                <a:cubicBezTo>
                  <a:pt x="10800" y="10407"/>
                  <a:pt x="5400" y="11307"/>
                  <a:pt x="0" y="11307"/>
                </a:cubicBezTo>
                <a:cubicBezTo>
                  <a:pt x="5400" y="11307"/>
                  <a:pt x="10800" y="12207"/>
                  <a:pt x="10800" y="1310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3160800" y="1379520"/>
            <a:ext cx="339732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IT implementation at USPTO and EPO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Collaborative environment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c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CPC Scheme launch version publicly available on 1 Oct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OCDB back-file converted to CPC on 15 Nov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CPC in Espacenet - December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Prepare for launch of CPC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427640" y="4950000"/>
            <a:ext cx="1319040" cy="1136880"/>
            <a:chOff x="4427640" y="4950000"/>
            <a:chExt cx="1319040" cy="1136880"/>
          </a:xfrm>
        </p:grpSpPr>
        <p:sp>
          <p:nvSpPr>
            <p:cNvPr id="154" name="Line 23"/>
            <p:cNvSpPr/>
            <p:nvPr/>
          </p:nvSpPr>
          <p:spPr>
            <a:xfrm flipV="1">
              <a:off x="5089680" y="4950000"/>
              <a:ext cx="1440" cy="249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155" name="Rectangle 24"/>
            <p:cNvSpPr/>
            <p:nvPr/>
          </p:nvSpPr>
          <p:spPr>
            <a:xfrm>
              <a:off x="4427640" y="5234040"/>
              <a:ext cx="13190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575f"/>
                  </a:solidFill>
                  <a:latin typeface="Arial"/>
                  <a:ea typeface="MS PGothic"/>
                </a:rPr>
                <a:t>CPC launch version available</a:t>
              </a:r>
              <a:endParaRPr b="0" lang="en-US" sz="1400" spc="-1" strike="noStrike">
                <a:solidFill>
                  <a:srgbClr val="4c57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575f"/>
                  </a:solidFill>
                  <a:latin typeface="Arial"/>
                  <a:ea typeface="MS PGothic"/>
                </a:rPr>
                <a:t>1 Oct 2012</a:t>
              </a:r>
              <a:endParaRPr b="0" lang="en-US" sz="14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sp>
        <p:nvSpPr>
          <p:cNvPr id="156" name="Rectangle 2"/>
          <p:cNvSpPr/>
          <p:nvPr/>
        </p:nvSpPr>
        <p:spPr>
          <a:xfrm>
            <a:off x="566640" y="603360"/>
            <a:ext cx="7332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575f"/>
                </a:solidFill>
                <a:latin typeface="Arial"/>
              </a:rPr>
              <a:t>CPC timeline</a:t>
            </a: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6543720" y="892080"/>
            <a:ext cx="2475000" cy="32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CPC used by EPO and USPTO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Epoque (Net) and USPat and USApp CPC-ready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Quality Assurance process in place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Harmonize classific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actices</a:t>
            </a: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Joint CPC revisions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d0e"/>
                </a:solidFill>
                <a:latin typeface="Arial"/>
              </a:rPr>
              <a:t>CPC available for use by other IP offices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823F-8047-4510-B582-49358AC3EB3F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7652520" y="4343400"/>
            <a:ext cx="81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MS PGothic"/>
              </a:rPr>
              <a:t>1 Apr 2013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V="1">
            <a:off x="8005680" y="4662000"/>
            <a:ext cx="0" cy="203400"/>
          </a:xfrm>
          <a:prstGeom prst="line">
            <a:avLst/>
          </a:prstGeom>
          <a:ln cap="rnd" w="79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 flipH="1" flipV="1">
            <a:off x="8011800" y="4965480"/>
            <a:ext cx="4680" cy="49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7275600" y="5500800"/>
            <a:ext cx="1728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No more ECLA-to-CPC mapping in revised areas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4702320" y="4343400"/>
            <a:ext cx="79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MS PGothic"/>
              </a:rPr>
              <a:t>1 Oct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 flipV="1">
            <a:off x="5091120" y="4662000"/>
            <a:ext cx="0" cy="203400"/>
          </a:xfrm>
          <a:prstGeom prst="line">
            <a:avLst/>
          </a:prstGeom>
          <a:ln cap="rnd" w="79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1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232B-FB4C-4F44-91F4-0FA9EBBCC95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077320" cy="4162680"/>
          </a:xfrm>
          <a:prstGeom prst="rect">
            <a:avLst/>
          </a:prstGeom>
          <a:ln w="0">
            <a:noFill/>
          </a:ln>
        </p:spPr>
      </p:pic>
      <p:sp>
        <p:nvSpPr>
          <p:cNvPr id="167" name="Title 1"/>
          <p:cNvSpPr/>
          <p:nvPr/>
        </p:nvSpPr>
        <p:spPr>
          <a:xfrm>
            <a:off x="703440" y="304920"/>
            <a:ext cx="76896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PC - USPTO Implementation Timeline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17640" y="6505560"/>
            <a:ext cx="49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c30"/>
                </a:solidFill>
                <a:latin typeface="Arial"/>
              </a:rPr>
              <a:t>Implementation Timelin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9415-2D45-45A3-86B9-58F1844327B8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6ABF-4412-4184-A6B3-C134C70BC3BD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Quality Assurance (QA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755640" y="1127160"/>
            <a:ext cx="813744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Feedback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 by Class-QNs through QA: sampling of documents and provision of written feedback 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Possibility of 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on-the-fly written feedback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 by all classifiers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Creation of 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statistical reports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 per technical area by analysing the difference in symbols allocated by the two offices to the same families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6:48:09Z</dcterms:created>
  <dc:creator>Pierre Held (EPO) and Christopher Kim (USPTO)</dc:creator>
  <dc:description/>
  <cp:keywords>IPC</cp:keywords>
  <dc:language>en-US</dc:language>
  <cp:lastModifiedBy>Malanga</cp:lastModifiedBy>
  <dcterms:modified xsi:type="dcterms:W3CDTF">2013-03-04T09:34:37Z</dcterms:modified>
  <cp:revision>944</cp:revision>
  <dc:subject>IPC/CE/45 - Presentation on the Cooperative Patent Classification (CPC)</dc:subject>
  <dc:title>IPC/CE/45 - Presentation on the Cooperative Patent Classification (CPC)</dc:title>
</cp:coreProperties>
</file>