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880" y="6599160"/>
            <a:ext cx="22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99"/>
                </a:solidFill>
                <a:latin typeface="Arial"/>
              </a:rPr>
              <a:t>WIPO ST.66 Meeting – 29-30th January 2007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341360"/>
            <a:ext cx="8928000" cy="5256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95640" y="476280"/>
            <a:ext cx="5040360" cy="79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72440" y="1098720"/>
            <a:ext cx="138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ff99"/>
                </a:solidFill>
                <a:latin typeface="Arial"/>
              </a:rPr>
              <a:t>Slide </a:t>
            </a:r>
            <a:fld id="{B3F3A167-B790-4997-AE9F-56F01DD88397}" type="slidenum">
              <a:rPr b="0" lang="en-IE" sz="10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r>
              <a:rPr b="0" lang="en-IE" sz="1000" spc="-1" strike="noStrike">
                <a:solidFill>
                  <a:srgbClr val="ffff99"/>
                </a:solidFill>
                <a:latin typeface="Arial"/>
              </a:rPr>
              <a:t> of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e3ac"/>
                </a:solidFill>
                <a:latin typeface="Times New Roman"/>
              </a:rPr>
              <a:t>Click to edit the title text format</a:t>
            </a: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son.org/" TargetMode="External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apc0954:0954/search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2.png"/><Relationship Id="rId5" Type="http://schemas.openxmlformats.org/officeDocument/2006/relationships/hyperlink" Target="http://www.tm-xml.org/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m-xml.org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m-xml.org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44640"/>
            <a:ext cx="8496000" cy="4105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54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44880" y="2286000"/>
            <a:ext cx="527976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2166840"/>
            <a:ext cx="685800" cy="685800"/>
          </a:xfrm>
          <a:prstGeom prst="diamond">
            <a:avLst/>
          </a:prstGeom>
          <a:solidFill>
            <a:srgbClr val="99ff99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73480" y="2341440"/>
            <a:ext cx="49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ST.66 Approach &amp; Management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19520" y="226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44880" y="3006720"/>
            <a:ext cx="527976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2887560"/>
            <a:ext cx="685800" cy="685800"/>
          </a:xfrm>
          <a:prstGeom prst="diamond">
            <a:avLst/>
          </a:prstGeom>
          <a:solidFill>
            <a:srgbClr val="99ff66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73480" y="30621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TM-XML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19520" y="29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44880" y="3726000"/>
            <a:ext cx="5279760" cy="4572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3606840"/>
            <a:ext cx="685800" cy="685800"/>
          </a:xfrm>
          <a:prstGeom prst="diamond">
            <a:avLst/>
          </a:prstGeom>
          <a:solidFill>
            <a:srgbClr val="99ff33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3480" y="37814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OHIM First 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19520" y="37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44880" y="4444920"/>
            <a:ext cx="527976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4325760"/>
            <a:ext cx="685800" cy="685800"/>
          </a:xfrm>
          <a:prstGeom prst="diamond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73480" y="4500720"/>
            <a:ext cx="42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ST.66 Compatible to ST.36 Op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19520" y="442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58920" y="5167440"/>
            <a:ext cx="5280120" cy="4572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78040" y="5048280"/>
            <a:ext cx="685800" cy="685800"/>
          </a:xfrm>
          <a:prstGeom prst="diamond">
            <a:avLst/>
          </a:prstGeom>
          <a:solidFill>
            <a:srgbClr val="808000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87520" y="5222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Q &amp;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33920" y="5146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484280"/>
            <a:ext cx="8501040" cy="504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950080"/>
            <a:ext cx="8501040" cy="5745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539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WIPO ST.66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6520" y="6067440"/>
            <a:ext cx="30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Comic Sans MS"/>
              </a:rPr>
              <a:t>Geneva, 29-30th January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27640" y="6021360"/>
            <a:ext cx="252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 u="sng">
                <a:solidFill>
                  <a:srgbClr val="ffffff"/>
                </a:solidFill>
                <a:uFillTx/>
                <a:latin typeface="Times New Roman"/>
              </a:rPr>
              <a:t>Alexandre.Tran@oami.europa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imes New Roman"/>
              </a:rPr>
              <a:t>OHIM IT Archit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427640" y="54828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SON &amp; 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0920" y="1844640"/>
            <a:ext cx="1081080" cy="208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32000" y="1844640"/>
            <a:ext cx="7561080" cy="208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19414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J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03280" y="1916280"/>
            <a:ext cx="7056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J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ava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cript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bject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otation is a lightweight data interchange format based on a subset of the JavaScript 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language standard (ECMA-262 3</a:t>
            </a:r>
            <a:r>
              <a:rPr b="0" lang="en-IE" sz="1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Edi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ecember 1999). It simplicity h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esulted in its widespread us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specially in Aja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0920" y="4005360"/>
            <a:ext cx="1081080" cy="2376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32000" y="4005360"/>
            <a:ext cx="7561080" cy="2376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4000" y="410220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03280" y="4076640"/>
            <a:ext cx="7056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Re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presentational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tate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ansfer is a software architectural style for distribu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Hypermedia systems like the We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This term is today often used in a looser sense to describe simple interface that uses XML (or JSON, YAML, plain text) over HTTP without an additional messaging layer such as SOA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35280" y="3357720"/>
            <a:ext cx="792000" cy="142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403280" y="3284640"/>
            <a:ext cx="33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json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48360" y="2297160"/>
            <a:ext cx="3529080" cy="1451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Arial"/>
              </a:rPr>
              <a:t>Examples of JSON forma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{ “type”: “menu”, “value”: “File”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items”: [ {“value”: “New”, “action”: “CreateDocument” }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{“value”: “Open”, “action”: “OpenDocument” }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{“value”: “Close”, “action”: “CloseDocument”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5589720"/>
            <a:ext cx="5761080" cy="57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76360" y="5589720"/>
            <a:ext cx="1511280" cy="57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87640" y="566100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Weblog (RSS-Atom), Amazon, OpenStreetMap, eBay, Yahoo!, Facebook, Youtub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76360" y="57466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Implemen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08000" y="1184400"/>
            <a:ext cx="755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IE" sz="900" spc="-1" strike="noStrike">
                <a:solidFill>
                  <a:srgbClr val="990000"/>
                </a:solidFill>
                <a:latin typeface="Arial"/>
              </a:rPr>
              <a:t>1. Aj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4500720" y="47556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chitecture / 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24360" y="1700280"/>
            <a:ext cx="1727280" cy="360360"/>
          </a:xfrm>
          <a:prstGeom prst="roundRect">
            <a:avLst>
              <a:gd name="adj" fmla="val 3569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75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95280" y="1700280"/>
            <a:ext cx="1728720" cy="4608360"/>
            <a:chOff x="395280" y="1700280"/>
            <a:chExt cx="1728720" cy="4608360"/>
          </a:xfrm>
        </p:grpSpPr>
        <p:sp>
          <p:nvSpPr>
            <p:cNvPr id="561" name=""/>
            <p:cNvSpPr/>
            <p:nvPr/>
          </p:nvSpPr>
          <p:spPr>
            <a:xfrm>
              <a:off x="395280" y="1700280"/>
              <a:ext cx="1728720" cy="317520"/>
            </a:xfrm>
            <a:prstGeom prst="roundRect">
              <a:avLst>
                <a:gd name="adj" fmla="val 3569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756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ff"/>
                  </a:solidFill>
                  <a:latin typeface="Comic Sans MS"/>
                </a:rPr>
                <a:t>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5280" y="1947960"/>
              <a:ext cx="1728720" cy="43606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223200" y="3284640"/>
            <a:ext cx="21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Register/Search/XX_Search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060640"/>
            <a:ext cx="1582560" cy="12240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2556000" y="2935440"/>
            <a:ext cx="1022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0000"/>
                </a:solidFill>
                <a:latin typeface="Comic Sans MS"/>
              </a:rPr>
              <a:t>Aj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0000"/>
                </a:solidFill>
                <a:latin typeface="Comic Sans MS"/>
              </a:rPr>
              <a:t>TradeM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0000"/>
                </a:solidFill>
                <a:latin typeface="Comic Sans MS"/>
              </a:rPr>
              <a:t>Serach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0000"/>
                </a:solidFill>
                <a:latin typeface="Comic Sans MS"/>
              </a:rPr>
              <a:t>1 per Off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922560" y="1989000"/>
            <a:ext cx="1729080" cy="4319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0800000">
            <a:off x="2195280" y="364500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0800000">
            <a:off x="2266560" y="371628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0800000">
            <a:off x="2339640" y="37879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10800000">
            <a:off x="2411280" y="385920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10800000">
            <a:off x="2482560" y="393228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334040" y="217980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0000"/>
                </a:solidFill>
                <a:latin typeface="Comic Sans MS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0000"/>
                </a:solidFill>
                <a:latin typeface="Comic Sans MS"/>
              </a:rPr>
              <a:t>Displ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195640" y="2276640"/>
            <a:ext cx="1655640" cy="574560"/>
            <a:chOff x="2195640" y="2276640"/>
            <a:chExt cx="1655640" cy="574560"/>
          </a:xfrm>
        </p:grpSpPr>
        <p:sp>
          <p:nvSpPr>
            <p:cNvPr id="574" name=""/>
            <p:cNvSpPr/>
            <p:nvPr/>
          </p:nvSpPr>
          <p:spPr>
            <a:xfrm>
              <a:off x="2195640" y="2276640"/>
              <a:ext cx="1368360" cy="287280"/>
            </a:xfrm>
            <a:prstGeom prst="rightArrow">
              <a:avLst>
                <a:gd name="adj1" fmla="val 50000"/>
                <a:gd name="adj2" fmla="val 119079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66920" y="2347920"/>
              <a:ext cx="1368360" cy="287280"/>
            </a:xfrm>
            <a:prstGeom prst="rightArrow">
              <a:avLst>
                <a:gd name="adj1" fmla="val 50000"/>
                <a:gd name="adj2" fmla="val 119079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40000" y="2419200"/>
              <a:ext cx="1368360" cy="287640"/>
            </a:xfrm>
            <a:prstGeom prst="rightArrow">
              <a:avLst>
                <a:gd name="adj1" fmla="val 50000"/>
                <a:gd name="adj2" fmla="val 118930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11280" y="2490840"/>
              <a:ext cx="1368720" cy="287280"/>
            </a:xfrm>
            <a:prstGeom prst="rightArrow">
              <a:avLst>
                <a:gd name="adj1" fmla="val 50000"/>
                <a:gd name="adj2" fmla="val 119110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82920" y="2563920"/>
              <a:ext cx="1368360" cy="287280"/>
            </a:xfrm>
            <a:prstGeom prst="rightArrow">
              <a:avLst>
                <a:gd name="adj1" fmla="val 50000"/>
                <a:gd name="adj2" fmla="val 119079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987640" y="2565360"/>
              <a:ext cx="79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000000"/>
                  </a:solidFill>
                  <a:latin typeface="Comic Sans MS"/>
                </a:rPr>
                <a:t>Requ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2556000" y="3933720"/>
            <a:ext cx="79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000000"/>
                </a:solidFill>
                <a:latin typeface="Comic Sans MS"/>
              </a:rPr>
              <a:t>Respon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24360" y="2133720"/>
            <a:ext cx="1368720" cy="287280"/>
            <a:chOff x="5724360" y="2133720"/>
            <a:chExt cx="1368720" cy="287280"/>
          </a:xfrm>
        </p:grpSpPr>
        <p:sp>
          <p:nvSpPr>
            <p:cNvPr id="582" name=""/>
            <p:cNvSpPr/>
            <p:nvPr/>
          </p:nvSpPr>
          <p:spPr>
            <a:xfrm>
              <a:off x="5724360" y="2133720"/>
              <a:ext cx="1368720" cy="287280"/>
            </a:xfrm>
            <a:prstGeom prst="rightArrow">
              <a:avLst>
                <a:gd name="adj1" fmla="val 50000"/>
                <a:gd name="adj2" fmla="val 119110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57800" y="2133720"/>
              <a:ext cx="79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000000"/>
                  </a:solidFill>
                  <a:latin typeface="Comic Sans MS"/>
                </a:rPr>
                <a:t>Requ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 rot="10800000">
            <a:off x="5724360" y="256536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97440" y="2565360"/>
            <a:ext cx="79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000000"/>
                </a:solidFill>
                <a:latin typeface="Comic Sans MS"/>
              </a:rPr>
              <a:t>Respon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10800000">
            <a:off x="5724360" y="551664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97440" y="5516640"/>
            <a:ext cx="79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000000"/>
                </a:solidFill>
                <a:latin typeface="Comic Sans MS"/>
              </a:rPr>
              <a:t>Respon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164360" y="1558800"/>
            <a:ext cx="1728720" cy="1798920"/>
            <a:chOff x="7164360" y="1558800"/>
            <a:chExt cx="1728720" cy="1798920"/>
          </a:xfrm>
        </p:grpSpPr>
        <p:sp>
          <p:nvSpPr>
            <p:cNvPr id="589" name=""/>
            <p:cNvSpPr/>
            <p:nvPr/>
          </p:nvSpPr>
          <p:spPr>
            <a:xfrm>
              <a:off x="7164360" y="1558800"/>
              <a:ext cx="1728720" cy="1798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37440" y="2494080"/>
              <a:ext cx="100800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756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800" spc="-1" strike="noStrike">
                  <a:solidFill>
                    <a:srgbClr val="ffffff"/>
                  </a:solidFill>
                  <a:latin typeface="Comic Sans MS"/>
                </a:rPr>
                <a:t>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7440" y="2060640"/>
              <a:ext cx="100800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75600" anchor="ctr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ffffff"/>
                  </a:solidFill>
                  <a:latin typeface="Comic Sans MS"/>
                </a:rPr>
                <a:t>Contro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80360" y="2868480"/>
              <a:ext cx="720720" cy="416160"/>
            </a:xfrm>
            <a:prstGeom prst="flowChartMagneticDisk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37440" y="2205000"/>
              <a:ext cx="1008000" cy="14436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37440" y="2637000"/>
              <a:ext cx="1008000" cy="14436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53440" y="2349360"/>
              <a:ext cx="0" cy="142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8028000" y="2349000"/>
              <a:ext cx="0" cy="142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596360" y="2781360"/>
              <a:ext cx="0" cy="142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7884720" y="2781000"/>
              <a:ext cx="1800" cy="142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48840" y="16286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8000"/>
                  </a:solidFill>
                  <a:latin typeface="Comic Sans MS"/>
                </a:rPr>
                <a:t>Offic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344720" y="2997360"/>
              <a:ext cx="752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008000"/>
                  </a:solidFill>
                  <a:latin typeface="Comic Sans MS"/>
                </a:rPr>
                <a:t>Register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724360" y="3429000"/>
            <a:ext cx="3168720" cy="2879640"/>
            <a:chOff x="5724360" y="3429000"/>
            <a:chExt cx="3168720" cy="2879640"/>
          </a:xfrm>
        </p:grpSpPr>
        <p:sp>
          <p:nvSpPr>
            <p:cNvPr id="602" name=""/>
            <p:cNvSpPr/>
            <p:nvPr/>
          </p:nvSpPr>
          <p:spPr>
            <a:xfrm>
              <a:off x="5724360" y="5084640"/>
              <a:ext cx="1368720" cy="287640"/>
            </a:xfrm>
            <a:prstGeom prst="rightArrow">
              <a:avLst>
                <a:gd name="adj1" fmla="val 50000"/>
                <a:gd name="adj2" fmla="val 118961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57800" y="5084640"/>
              <a:ext cx="79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000000"/>
                  </a:solidFill>
                  <a:latin typeface="Comic Sans MS"/>
                </a:rPr>
                <a:t>Requ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64360" y="4510080"/>
              <a:ext cx="1728720" cy="1798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37440" y="5445000"/>
              <a:ext cx="100800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756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800" spc="-1" strike="noStrike">
                  <a:solidFill>
                    <a:srgbClr val="ffffff"/>
                  </a:solidFill>
                  <a:latin typeface="Comic Sans MS"/>
                </a:rPr>
                <a:t>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37440" y="5011560"/>
              <a:ext cx="100800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75600" anchor="ctr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ffffff"/>
                  </a:solidFill>
                  <a:latin typeface="Comic Sans MS"/>
                </a:rPr>
                <a:t>Contro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80360" y="5819760"/>
              <a:ext cx="720720" cy="415800"/>
            </a:xfrm>
            <a:prstGeom prst="flowChartMagneticDisk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37440" y="5156280"/>
              <a:ext cx="1008000" cy="14436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37440" y="5587920"/>
              <a:ext cx="1008000" cy="1447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53440" y="5300640"/>
              <a:ext cx="0" cy="142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8028000" y="5300280"/>
              <a:ext cx="0" cy="142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96360" y="5732640"/>
              <a:ext cx="0" cy="1425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7884720" y="5732640"/>
              <a:ext cx="1800" cy="1425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06360" y="4579920"/>
              <a:ext cx="81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8000"/>
                  </a:solidFill>
                  <a:latin typeface="Comic Sans MS"/>
                </a:rPr>
                <a:t>Office 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885080" y="3429000"/>
              <a:ext cx="0" cy="1008000"/>
            </a:xfrm>
            <a:prstGeom prst="line">
              <a:avLst/>
            </a:prstGeom>
            <a:ln w="76320">
              <a:solidFill>
                <a:srgbClr val="99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48320" y="5937120"/>
              <a:ext cx="81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008000"/>
                  </a:solidFill>
                  <a:latin typeface="Comic Sans MS"/>
                </a:rPr>
                <a:t>Register 2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2484360" y="5013360"/>
            <a:ext cx="986040" cy="360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14760" y="5076720"/>
            <a:ext cx="529920" cy="3128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66"/>
                </a:solidFill>
                <a:latin typeface="Comic Sans MS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91040" y="3645000"/>
            <a:ext cx="1417680" cy="360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32880" y="3708360"/>
            <a:ext cx="1158120" cy="3128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66"/>
                </a:solidFill>
                <a:latin typeface="Comic Sans MS"/>
              </a:rPr>
              <a:t>REST or SO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4284720" y="4755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.36 Compatibility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9280" y="1487520"/>
            <a:ext cx="1440000" cy="29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19280" y="1484280"/>
            <a:ext cx="7345440" cy="29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36800" y="1766880"/>
            <a:ext cx="15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Rul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92360" y="1628640"/>
            <a:ext cx="71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DTD </a:t>
            </a:r>
            <a:r>
              <a:rPr b="0" lang="en-I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XML Sch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92360" y="2322360"/>
            <a:ext cx="71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ISO 11179 Part 5 Naming Conven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1916280"/>
            <a:ext cx="71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Comic Sans MS"/>
              </a:rPr>
              <a:t>Today All Industries XML Pract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08000" y="2637000"/>
            <a:ext cx="714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Comic Sans MS"/>
              </a:rPr>
              <a:t>Adopted by UBL, OTA, Acord, HR-XML, US EPA, GJXDM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2997360"/>
            <a:ext cx="71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Design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08000" y="3357720"/>
            <a:ext cx="714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Comic Sans MS"/>
              </a:rPr>
              <a:t>Venetian Blind versusThe Garden of 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8000" y="3645000"/>
            <a:ext cx="69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8000"/>
                </a:solidFill>
                <a:latin typeface="Comic Sans MS"/>
              </a:rPr>
              <a:t>VB: Simple, Close to Object Model, Type Reused, Practical for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08000" y="3933720"/>
            <a:ext cx="691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8000"/>
                </a:solidFill>
                <a:latin typeface="Comic Sans MS"/>
              </a:rPr>
              <a:t>GoE: More complex (redirection), Type &amp; Element Reused, Uniqueness of Element Control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9280" y="4438800"/>
            <a:ext cx="1440000" cy="201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19280" y="4437000"/>
            <a:ext cx="734544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3360" y="4583160"/>
            <a:ext cx="14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Comp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92360" y="4510080"/>
            <a:ext cx="71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Transformation To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0920" y="479124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Comic Sans MS"/>
              </a:rPr>
              <a:t>Simple, Independent, Flexible for ev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92360" y="5192640"/>
            <a:ext cx="71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Import/Include of Compatibity option external sch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0920" y="543888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Comic Sans MS"/>
              </a:rPr>
              <a:t>More complex, Namespace choice, To Phase out one day?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92360" y="5805360"/>
            <a:ext cx="71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Two Separate Schemas from a Common Reposi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0920" y="608652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Comic Sans MS"/>
              </a:rPr>
              <a:t>2 Schemas to Manage, Clearer Sepa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042920" y="1844640"/>
            <a:ext cx="7128000" cy="1079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069920" y="3068640"/>
            <a:ext cx="7086600" cy="3168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66ff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7202520" y="195588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1185840" y="191628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4067280" y="5486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2627280" y="426420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cc99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"/>
          <p:cNvGrpSpPr/>
          <p:nvPr/>
        </p:nvGrpSpPr>
        <p:grpSpPr>
          <a:xfrm>
            <a:off x="1619280" y="2276640"/>
            <a:ext cx="6985080" cy="3402000"/>
            <a:chOff x="1619280" y="2276640"/>
            <a:chExt cx="6985080" cy="3402000"/>
          </a:xfrm>
        </p:grpSpPr>
        <p:sp>
          <p:nvSpPr>
            <p:cNvPr id="649" name=""/>
            <p:cNvSpPr/>
            <p:nvPr/>
          </p:nvSpPr>
          <p:spPr>
            <a:xfrm>
              <a:off x="7956720" y="2492640"/>
              <a:ext cx="647640" cy="3186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19280" y="2276640"/>
              <a:ext cx="6985080" cy="593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1042920" y="2563920"/>
            <a:ext cx="6985080" cy="3402000"/>
            <a:chOff x="1042920" y="2563920"/>
            <a:chExt cx="6985080" cy="3402000"/>
          </a:xfrm>
        </p:grpSpPr>
        <p:sp>
          <p:nvSpPr>
            <p:cNvPr id="652" name=""/>
            <p:cNvSpPr/>
            <p:nvPr/>
          </p:nvSpPr>
          <p:spPr>
            <a:xfrm>
              <a:off x="7380360" y="2779920"/>
              <a:ext cx="647640" cy="3186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42920" y="2563920"/>
              <a:ext cx="6985080" cy="593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66560" y="2835360"/>
            <a:ext cx="6985080" cy="3402000"/>
            <a:chOff x="466560" y="2835360"/>
            <a:chExt cx="6985080" cy="3402000"/>
          </a:xfrm>
        </p:grpSpPr>
        <p:sp>
          <p:nvSpPr>
            <p:cNvPr id="655" name=""/>
            <p:cNvSpPr/>
            <p:nvPr/>
          </p:nvSpPr>
          <p:spPr>
            <a:xfrm>
              <a:off x="6804000" y="3051360"/>
              <a:ext cx="647640" cy="3186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6560" y="2835360"/>
              <a:ext cx="6985080" cy="593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4498920" y="548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LIPS an Unified Standar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466560" y="2997360"/>
            <a:ext cx="6409080" cy="32400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466560" y="1700280"/>
            <a:ext cx="8137800" cy="1224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760400" y="222876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cc0000"/>
                </a:solidFill>
                <a:latin typeface="Comic Sans MS"/>
              </a:rPr>
              <a:t>T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IE" sz="1600" spc="-1" strike="noStrike">
                <a:solidFill>
                  <a:srgbClr val="cc0000"/>
                </a:solidFill>
                <a:latin typeface="Comic Sans MS"/>
              </a:rPr>
              <a:t>U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nified &amp; </a:t>
            </a:r>
            <a:r>
              <a:rPr b="0" lang="en-IE" sz="16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ayered </a:t>
            </a:r>
            <a:r>
              <a:rPr b="0" lang="en-IE" sz="16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ntellectual </a:t>
            </a:r>
            <a:r>
              <a:rPr b="0" lang="en-IE" sz="1600" spc="-1" strike="noStrike">
                <a:solidFill>
                  <a:srgbClr val="cc0000"/>
                </a:solidFill>
                <a:latin typeface="Comic Sans MS"/>
              </a:rPr>
              <a:t>P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roperty </a:t>
            </a:r>
            <a:r>
              <a:rPr b="0" lang="en-IE" sz="1600" spc="-1" strike="noStrike">
                <a:solidFill>
                  <a:srgbClr val="cc0000"/>
                </a:solidFill>
                <a:latin typeface="Comic Sans MS"/>
              </a:rPr>
              <a:t>S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948000" y="3798720"/>
            <a:ext cx="342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475040" y="3645000"/>
            <a:ext cx="316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051400" y="3500280"/>
            <a:ext cx="316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715680" cy="71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332000" y="1557360"/>
            <a:ext cx="1152360" cy="504720"/>
          </a:xfrm>
          <a:prstGeom prst="wedgeRectCallout">
            <a:avLst>
              <a:gd name="adj1" fmla="val -76310"/>
              <a:gd name="adj2" fmla="val 43083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32000" y="1557360"/>
            <a:ext cx="6624720" cy="647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16720" y="5734080"/>
            <a:ext cx="2376360" cy="824040"/>
          </a:xfrm>
          <a:prstGeom prst="rightArrow">
            <a:avLst>
              <a:gd name="adj1" fmla="val 50000"/>
              <a:gd name="adj2" fmla="val 72095"/>
            </a:avLst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0920" y="5942160"/>
            <a:ext cx="7993080" cy="4093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5983200"/>
            <a:ext cx="13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372360" y="5975280"/>
            <a:ext cx="1655640" cy="3373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2007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7956720" y="5950080"/>
            <a:ext cx="576000" cy="35856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322200" y="6019920"/>
            <a:ext cx="289080" cy="288720"/>
          </a:xfrm>
          <a:prstGeom prst="rect">
            <a:avLst/>
          </a:prstGeom>
          <a:ln w="0">
            <a:noFill/>
          </a:ln>
        </p:spPr>
      </p:pic>
      <p:grpSp>
        <p:nvGrpSpPr>
          <p:cNvPr id="673" name=""/>
          <p:cNvGrpSpPr/>
          <p:nvPr/>
        </p:nvGrpSpPr>
        <p:grpSpPr>
          <a:xfrm>
            <a:off x="2700000" y="4940280"/>
            <a:ext cx="937080" cy="649440"/>
            <a:chOff x="2700000" y="4940280"/>
            <a:chExt cx="937080" cy="649440"/>
          </a:xfrm>
        </p:grpSpPr>
        <p:sp>
          <p:nvSpPr>
            <p:cNvPr id="674" name=""/>
            <p:cNvSpPr/>
            <p:nvPr/>
          </p:nvSpPr>
          <p:spPr>
            <a:xfrm rot="10800000">
              <a:off x="2700000" y="4940280"/>
              <a:ext cx="546120" cy="330480"/>
            </a:xfrm>
            <a:prstGeom prst="hexagon">
              <a:avLst>
                <a:gd name="adj" fmla="val 4131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2700360" y="5085000"/>
              <a:ext cx="936720" cy="504720"/>
              <a:chOff x="2700360" y="5085000"/>
              <a:chExt cx="936720" cy="504720"/>
            </a:xfrm>
          </p:grpSpPr>
          <p:sp>
            <p:nvSpPr>
              <p:cNvPr id="676" name=""/>
              <p:cNvSpPr/>
              <p:nvPr/>
            </p:nvSpPr>
            <p:spPr>
              <a:xfrm>
                <a:off x="2700360" y="5085000"/>
                <a:ext cx="936720" cy="5047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00360" y="5157720"/>
                <a:ext cx="936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TM-X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000" spc="-1" strike="noStrike">
                    <a:solidFill>
                      <a:srgbClr val="000000"/>
                    </a:solidFill>
                    <a:latin typeface="Comic Sans MS"/>
                  </a:rPr>
                  <a:t>Version 1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"/>
          <p:cNvSpPr/>
          <p:nvPr/>
        </p:nvSpPr>
        <p:spPr>
          <a:xfrm flipV="1">
            <a:off x="1403280" y="5372280"/>
            <a:ext cx="129564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11280" y="4939920"/>
            <a:ext cx="936360" cy="649440"/>
            <a:chOff x="611280" y="4939920"/>
            <a:chExt cx="936360" cy="649440"/>
          </a:xfrm>
        </p:grpSpPr>
        <p:sp>
          <p:nvSpPr>
            <p:cNvPr id="680" name=""/>
            <p:cNvSpPr/>
            <p:nvPr/>
          </p:nvSpPr>
          <p:spPr>
            <a:xfrm rot="10800000">
              <a:off x="611280" y="4939920"/>
              <a:ext cx="545760" cy="330120"/>
            </a:xfrm>
            <a:prstGeom prst="hexagon">
              <a:avLst>
                <a:gd name="adj" fmla="val 41330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611280" y="5084640"/>
              <a:ext cx="936360" cy="504720"/>
              <a:chOff x="611280" y="5084640"/>
              <a:chExt cx="936360" cy="504720"/>
            </a:xfrm>
          </p:grpSpPr>
          <p:sp>
            <p:nvSpPr>
              <p:cNvPr id="682" name=""/>
              <p:cNvSpPr/>
              <p:nvPr/>
            </p:nvSpPr>
            <p:spPr>
              <a:xfrm>
                <a:off x="611280" y="5084640"/>
                <a:ext cx="936360" cy="5047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11280" y="5157360"/>
                <a:ext cx="936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TM-X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000" spc="-1" strike="noStrike">
                    <a:solidFill>
                      <a:srgbClr val="000000"/>
                    </a:solidFill>
                    <a:latin typeface="Comic Sans MS"/>
                  </a:rPr>
                  <a:t>Version 0.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5724360" y="3340080"/>
            <a:ext cx="3168720" cy="732960"/>
            <a:chOff x="5724360" y="3340080"/>
            <a:chExt cx="3168720" cy="732960"/>
          </a:xfrm>
        </p:grpSpPr>
        <p:sp>
          <p:nvSpPr>
            <p:cNvPr id="685" name=""/>
            <p:cNvSpPr/>
            <p:nvPr/>
          </p:nvSpPr>
          <p:spPr>
            <a:xfrm>
              <a:off x="8029440" y="3768840"/>
              <a:ext cx="8636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0800000">
              <a:off x="7236000" y="3340080"/>
              <a:ext cx="630000" cy="372960"/>
            </a:xfrm>
            <a:prstGeom prst="hexagon">
              <a:avLst>
                <a:gd name="adj" fmla="val 42230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7236000" y="3503520"/>
              <a:ext cx="1223280" cy="569520"/>
              <a:chOff x="7236000" y="3503520"/>
              <a:chExt cx="1223280" cy="569520"/>
            </a:xfrm>
          </p:grpSpPr>
          <p:sp>
            <p:nvSpPr>
              <p:cNvPr id="688" name=""/>
              <p:cNvSpPr/>
              <p:nvPr/>
            </p:nvSpPr>
            <p:spPr>
              <a:xfrm>
                <a:off x="7236000" y="3503520"/>
                <a:ext cx="1223280" cy="569520"/>
              </a:xfrm>
              <a:prstGeom prst="rect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236000" y="3585960"/>
                <a:ext cx="12232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WIPO ST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000" spc="-1" strike="noStrike">
                    <a:solidFill>
                      <a:srgbClr val="000000"/>
                    </a:solidFill>
                    <a:latin typeface="Comic Sans MS"/>
                  </a:rPr>
                  <a:t>Version 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5724360" y="3772080"/>
              <a:ext cx="15116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395280" y="1562040"/>
            <a:ext cx="647640" cy="5731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grpSp>
        <p:nvGrpSpPr>
          <p:cNvPr id="692" name=""/>
          <p:cNvGrpSpPr/>
          <p:nvPr/>
        </p:nvGrpSpPr>
        <p:grpSpPr>
          <a:xfrm>
            <a:off x="6875640" y="4940280"/>
            <a:ext cx="2017440" cy="649440"/>
            <a:chOff x="6875640" y="4940280"/>
            <a:chExt cx="2017440" cy="649440"/>
          </a:xfrm>
        </p:grpSpPr>
        <p:sp>
          <p:nvSpPr>
            <p:cNvPr id="693" name=""/>
            <p:cNvSpPr/>
            <p:nvPr/>
          </p:nvSpPr>
          <p:spPr>
            <a:xfrm>
              <a:off x="6875640" y="53722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29440" y="5372280"/>
              <a:ext cx="8636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7523280" y="4940280"/>
              <a:ext cx="936360" cy="649440"/>
              <a:chOff x="7523280" y="4940280"/>
              <a:chExt cx="936360" cy="649440"/>
            </a:xfrm>
          </p:grpSpPr>
          <p:sp>
            <p:nvSpPr>
              <p:cNvPr id="696" name=""/>
              <p:cNvSpPr/>
              <p:nvPr/>
            </p:nvSpPr>
            <p:spPr>
              <a:xfrm rot="10800000">
                <a:off x="7523280" y="4940280"/>
                <a:ext cx="545760" cy="330480"/>
              </a:xfrm>
              <a:prstGeom prst="hexagon">
                <a:avLst>
                  <a:gd name="adj" fmla="val 41285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ccff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7" name=""/>
              <p:cNvGrpSpPr/>
              <p:nvPr/>
            </p:nvGrpSpPr>
            <p:grpSpPr>
              <a:xfrm>
                <a:off x="7523280" y="5085000"/>
                <a:ext cx="936360" cy="504720"/>
                <a:chOff x="7523280" y="5085000"/>
                <a:chExt cx="936360" cy="5047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7523280" y="5085000"/>
                  <a:ext cx="936360" cy="50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7523280" y="5157720"/>
                  <a:ext cx="93636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200" spc="-1" strike="noStrike">
                      <a:solidFill>
                        <a:srgbClr val="000000"/>
                      </a:solidFill>
                      <a:latin typeface="Comic Sans MS"/>
                    </a:rPr>
                    <a:t>TM-XM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000" spc="-1" strike="noStrike">
                      <a:solidFill>
                        <a:srgbClr val="000000"/>
                      </a:solidFill>
                      <a:latin typeface="Comic Sans MS"/>
                    </a:rPr>
                    <a:t>Version 2.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00" name=""/>
          <p:cNvGrpSpPr/>
          <p:nvPr/>
        </p:nvGrpSpPr>
        <p:grpSpPr>
          <a:xfrm>
            <a:off x="6227640" y="4145040"/>
            <a:ext cx="2016360" cy="722160"/>
            <a:chOff x="6227640" y="4145040"/>
            <a:chExt cx="2016360" cy="722160"/>
          </a:xfrm>
        </p:grpSpPr>
        <p:sp>
          <p:nvSpPr>
            <p:cNvPr id="701" name=""/>
            <p:cNvSpPr/>
            <p:nvPr/>
          </p:nvSpPr>
          <p:spPr>
            <a:xfrm rot="16200000">
              <a:off x="7631280" y="4254480"/>
              <a:ext cx="722160" cy="503280"/>
            </a:xfrm>
            <a:custGeom>
              <a:avLst/>
              <a:gdLst>
                <a:gd name="textAreaLeft" fmla="*/ 112680 w 722160"/>
                <a:gd name="textAreaRight" fmla="*/ 632160 w 72216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5400000">
              <a:off x="6118200" y="4254480"/>
              <a:ext cx="722160" cy="503280"/>
            </a:xfrm>
            <a:custGeom>
              <a:avLst/>
              <a:gdLst>
                <a:gd name="textAreaLeft" fmla="*/ 112680 w 722160"/>
                <a:gd name="textAreaRight" fmla="*/ 632160 w 72216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0"/>
            </a:gra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612480" y="4344840"/>
              <a:ext cx="119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cc0000"/>
                  </a:solidFill>
                  <a:latin typeface="Comic Sans MS"/>
                </a:rPr>
                <a:t>Synchron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409760" y="1557360"/>
            <a:ext cx="6330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Comic Sans MS"/>
              </a:rPr>
              <a:t>Backward compatibility will be maintained for minor and major vers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cc"/>
                </a:solidFill>
                <a:latin typeface="Comic Sans MS"/>
              </a:rPr>
              <a:t>This rule can be broken only in an important major version with prior notification and the impact on compatibility will be docu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540400" y="2398680"/>
            <a:ext cx="3352320" cy="743040"/>
            <a:chOff x="5540400" y="2398680"/>
            <a:chExt cx="3352320" cy="743040"/>
          </a:xfrm>
        </p:grpSpPr>
        <p:sp>
          <p:nvSpPr>
            <p:cNvPr id="706" name=""/>
            <p:cNvSpPr/>
            <p:nvPr/>
          </p:nvSpPr>
          <p:spPr>
            <a:xfrm>
              <a:off x="5540400" y="2398680"/>
              <a:ext cx="3352320" cy="7430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>
              <a:hlinkClick r:id="rId5"/>
            </p:cNvPr>
            <p:cNvSpPr/>
            <p:nvPr/>
          </p:nvSpPr>
          <p:spPr>
            <a:xfrm>
              <a:off x="5715360" y="2512440"/>
              <a:ext cx="306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TM-XML V1.0 Final is availa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on </a:t>
              </a:r>
              <a:r>
                <a:rPr b="0" lang="en-IE" sz="1600" spc="-1" strike="noStrike">
                  <a:solidFill>
                    <a:srgbClr val="cc0000"/>
                  </a:solidFill>
                  <a:latin typeface="Comic Sans MS"/>
                </a:rPr>
                <a:t>www.TM-XML.org</a:t>
              </a: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8" name="" descr=""/>
          <p:cNvPicPr/>
          <p:nvPr/>
        </p:nvPicPr>
        <p:blipFill>
          <a:blip r:embed="rId6"/>
          <a:stretch/>
        </p:blipFill>
        <p:spPr>
          <a:xfrm>
            <a:off x="2700360" y="3141720"/>
            <a:ext cx="934920" cy="934920"/>
          </a:xfrm>
          <a:prstGeom prst="rect">
            <a:avLst/>
          </a:prstGeom>
          <a:ln w="28440">
            <a:solidFill>
              <a:srgbClr val="99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9" name=""/>
          <p:cNvSpPr/>
          <p:nvPr/>
        </p:nvSpPr>
        <p:spPr>
          <a:xfrm flipV="1">
            <a:off x="3635280" y="3700440"/>
            <a:ext cx="1008000" cy="1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0800000">
            <a:off x="4642920" y="3340080"/>
            <a:ext cx="630360" cy="372960"/>
          </a:xfrm>
          <a:prstGeom prst="hexagon">
            <a:avLst>
              <a:gd name="adj" fmla="val 42254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643280" y="3503520"/>
            <a:ext cx="1223640" cy="569520"/>
            <a:chOff x="4643280" y="3503520"/>
            <a:chExt cx="1223640" cy="569520"/>
          </a:xfrm>
        </p:grpSpPr>
        <p:sp>
          <p:nvSpPr>
            <p:cNvPr id="712" name=""/>
            <p:cNvSpPr/>
            <p:nvPr/>
          </p:nvSpPr>
          <p:spPr>
            <a:xfrm>
              <a:off x="4643280" y="3503520"/>
              <a:ext cx="1223640" cy="56952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43280" y="3585960"/>
              <a:ext cx="1223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Comic Sans MS"/>
                </a:rPr>
                <a:t>WIPO ST6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000000"/>
                  </a:solidFill>
                  <a:latin typeface="Comic Sans MS"/>
                </a:rPr>
                <a:t>Version 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95280" y="2473200"/>
            <a:ext cx="3745080" cy="1315800"/>
            <a:chOff x="395280" y="2473200"/>
            <a:chExt cx="3745080" cy="1315800"/>
          </a:xfrm>
        </p:grpSpPr>
        <p:grpSp>
          <p:nvGrpSpPr>
            <p:cNvPr id="715" name=""/>
            <p:cNvGrpSpPr/>
            <p:nvPr/>
          </p:nvGrpSpPr>
          <p:grpSpPr>
            <a:xfrm>
              <a:off x="395280" y="2473200"/>
              <a:ext cx="3745080" cy="1315800"/>
              <a:chOff x="395280" y="2473200"/>
              <a:chExt cx="3745080" cy="131580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2197080" y="2473200"/>
                <a:ext cx="1943280" cy="507600"/>
                <a:chOff x="2197080" y="2473200"/>
                <a:chExt cx="1943280" cy="50760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2197080" y="2473200"/>
                  <a:ext cx="1943280" cy="502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21920" y="2521800"/>
                  <a:ext cx="18932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200" spc="-1" strike="noStrike">
                      <a:solidFill>
                        <a:srgbClr val="000000"/>
                      </a:solidFill>
                      <a:latin typeface="Comic Sans MS"/>
                    </a:rPr>
                    <a:t>SCIT/SDW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200" spc="-1" strike="noStrike">
                      <a:solidFill>
                        <a:srgbClr val="ff0000"/>
                      </a:solidFill>
                      <a:latin typeface="Comic Sans MS"/>
                    </a:rPr>
                    <a:t>Candidate Standar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 rot="16200000">
                <a:off x="971640" y="2565000"/>
                <a:ext cx="647640" cy="1800360"/>
              </a:xfrm>
              <a:prstGeom prst="wedgeRectCallout">
                <a:avLst>
                  <a:gd name="adj1" fmla="val 2203"/>
                  <a:gd name="adj2" fmla="val 71249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10800000"/>
              </a:gradFill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578520" y="3200400"/>
              <a:ext cx="143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Last Cal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Working Draf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219640" y="4939920"/>
            <a:ext cx="1800360" cy="649440"/>
            <a:chOff x="5219640" y="4939920"/>
            <a:chExt cx="1800360" cy="649440"/>
          </a:xfrm>
        </p:grpSpPr>
        <p:sp>
          <p:nvSpPr>
            <p:cNvPr id="722" name=""/>
            <p:cNvSpPr/>
            <p:nvPr/>
          </p:nvSpPr>
          <p:spPr>
            <a:xfrm>
              <a:off x="5219640" y="5369040"/>
              <a:ext cx="8636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082920" y="4939920"/>
              <a:ext cx="937080" cy="649440"/>
              <a:chOff x="6082920" y="4939920"/>
              <a:chExt cx="937080" cy="649440"/>
            </a:xfrm>
          </p:grpSpPr>
          <p:sp>
            <p:nvSpPr>
              <p:cNvPr id="724" name=""/>
              <p:cNvSpPr/>
              <p:nvPr/>
            </p:nvSpPr>
            <p:spPr>
              <a:xfrm rot="10800000">
                <a:off x="6082920" y="4939920"/>
                <a:ext cx="546120" cy="330120"/>
              </a:xfrm>
              <a:prstGeom prst="hexagon">
                <a:avLst>
                  <a:gd name="adj" fmla="val 41358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ccff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"/>
              <p:cNvGrpSpPr/>
              <p:nvPr/>
            </p:nvGrpSpPr>
            <p:grpSpPr>
              <a:xfrm>
                <a:off x="6083280" y="5084640"/>
                <a:ext cx="936720" cy="504720"/>
                <a:chOff x="6083280" y="5084640"/>
                <a:chExt cx="936720" cy="5047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6083280" y="5084640"/>
                  <a:ext cx="936720" cy="50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083280" y="5157360"/>
                  <a:ext cx="93672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200" spc="-1" strike="noStrike">
                      <a:solidFill>
                        <a:srgbClr val="000000"/>
                      </a:solidFill>
                      <a:latin typeface="Comic Sans MS"/>
                    </a:rPr>
                    <a:t>TM-XM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000" spc="-1" strike="noStrike">
                      <a:solidFill>
                        <a:srgbClr val="000000"/>
                      </a:solidFill>
                      <a:latin typeface="Comic Sans MS"/>
                    </a:rPr>
                    <a:t>Version 1.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28" name=""/>
          <p:cNvSpPr/>
          <p:nvPr/>
        </p:nvSpPr>
        <p:spPr>
          <a:xfrm flipV="1">
            <a:off x="3635280" y="5372280"/>
            <a:ext cx="7923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427640" y="4939920"/>
            <a:ext cx="936360" cy="649440"/>
            <a:chOff x="4427640" y="4939920"/>
            <a:chExt cx="936360" cy="649440"/>
          </a:xfrm>
        </p:grpSpPr>
        <p:sp>
          <p:nvSpPr>
            <p:cNvPr id="730" name=""/>
            <p:cNvSpPr/>
            <p:nvPr/>
          </p:nvSpPr>
          <p:spPr>
            <a:xfrm rot="10800000">
              <a:off x="4427640" y="4939920"/>
              <a:ext cx="545760" cy="330120"/>
            </a:xfrm>
            <a:prstGeom prst="hexagon">
              <a:avLst>
                <a:gd name="adj" fmla="val 41330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4427640" y="5084640"/>
              <a:ext cx="936360" cy="504720"/>
              <a:chOff x="4427640" y="5084640"/>
              <a:chExt cx="936360" cy="504720"/>
            </a:xfrm>
          </p:grpSpPr>
          <p:sp>
            <p:nvSpPr>
              <p:cNvPr id="732" name=""/>
              <p:cNvSpPr/>
              <p:nvPr/>
            </p:nvSpPr>
            <p:spPr>
              <a:xfrm>
                <a:off x="4427640" y="5084640"/>
                <a:ext cx="936360" cy="5047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427640" y="5157360"/>
                <a:ext cx="936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TM-X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000" spc="-1" strike="noStrike">
                    <a:solidFill>
                      <a:srgbClr val="000000"/>
                    </a:solidFill>
                    <a:latin typeface="Comic Sans MS"/>
                  </a:rPr>
                  <a:t>Version 1.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4" name=""/>
          <p:cNvSpPr/>
          <p:nvPr/>
        </p:nvSpPr>
        <p:spPr>
          <a:xfrm>
            <a:off x="4211640" y="54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admap 2007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344480" y="4981680"/>
            <a:ext cx="1313640" cy="960480"/>
            <a:chOff x="4344480" y="4981680"/>
            <a:chExt cx="1313640" cy="960480"/>
          </a:xfrm>
        </p:grpSpPr>
        <p:sp>
          <p:nvSpPr>
            <p:cNvPr id="736" name=""/>
            <p:cNvSpPr/>
            <p:nvPr/>
          </p:nvSpPr>
          <p:spPr>
            <a:xfrm>
              <a:off x="4344480" y="4981680"/>
              <a:ext cx="656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800" spc="-1" strike="noStrike">
                  <a:solidFill>
                    <a:srgbClr val="990000"/>
                  </a:solidFill>
                  <a:latin typeface="Arial"/>
                </a:rPr>
                <a:t>Sept 20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355640" y="5573880"/>
              <a:ext cx="130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990000"/>
                  </a:solidFill>
                  <a:latin typeface="Arial"/>
                </a:rPr>
                <a:t>+Opposition+Appe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990000"/>
                  </a:solidFill>
                  <a:latin typeface="Arial"/>
                </a:rPr>
                <a:t>+Renew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 rot="16200000">
            <a:off x="2877840" y="4271400"/>
            <a:ext cx="722520" cy="503280"/>
          </a:xfrm>
          <a:custGeom>
            <a:avLst/>
            <a:gdLst>
              <a:gd name="textAreaLeft" fmla="*/ 112680 w 722520"/>
              <a:gd name="textAreaRight" fmla="*/ 632520 w 7225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826920" y="4228560"/>
            <a:ext cx="4465800" cy="641520"/>
            <a:chOff x="826920" y="4228560"/>
            <a:chExt cx="4465800" cy="641520"/>
          </a:xfrm>
        </p:grpSpPr>
        <p:sp>
          <p:nvSpPr>
            <p:cNvPr id="740" name=""/>
            <p:cNvSpPr/>
            <p:nvPr/>
          </p:nvSpPr>
          <p:spPr>
            <a:xfrm>
              <a:off x="3584160" y="4292640"/>
              <a:ext cx="88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Comic Sans MS"/>
                </a:rPr>
                <a:t>June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64000" y="4508640"/>
              <a:ext cx="1584360" cy="2887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48000" y="4653000"/>
              <a:ext cx="28728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26920" y="4228560"/>
              <a:ext cx="2016360" cy="6415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Transaction, Payment</a:t>
              </a:r>
              <a:br>
                <a:rPr sz="1200"/>
              </a:b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Trade Mark, Opposition, Record, Third Par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44720" y="4653000"/>
              <a:ext cx="28728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08360" y="452268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ffffff"/>
                  </a:solidFill>
                  <a:latin typeface="Comic Sans MS"/>
                </a:rPr>
                <a:t>Version 1.0 F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00720" y="548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BL/ebXML Appro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79280" y="1700280"/>
            <a:ext cx="2016000" cy="4608360"/>
            <a:chOff x="179280" y="1700280"/>
            <a:chExt cx="2016000" cy="4608360"/>
          </a:xfrm>
        </p:grpSpPr>
        <p:sp>
          <p:nvSpPr>
            <p:cNvPr id="71" name=""/>
            <p:cNvSpPr/>
            <p:nvPr/>
          </p:nvSpPr>
          <p:spPr>
            <a:xfrm>
              <a:off x="396720" y="1700280"/>
              <a:ext cx="1798560" cy="4608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2360" y="3143160"/>
              <a:ext cx="15112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ebXML 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V2.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(Formerly ebXM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Reg/Re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9280" y="5648040"/>
              <a:ext cx="165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0066"/>
                  </a:solidFill>
                  <a:latin typeface="Comic Sans MS"/>
                </a:rPr>
                <a:t>Discove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0066"/>
                  </a:solidFill>
                  <a:latin typeface="Comic Sans MS"/>
                </a:rPr>
                <a:t>Retrie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4920" y="241740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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94920" y="2201760"/>
              <a:ext cx="720720" cy="290520"/>
              <a:chOff x="394920" y="2201760"/>
              <a:chExt cx="720720" cy="290520"/>
            </a:xfrm>
          </p:grpSpPr>
          <p:sp>
            <p:nvSpPr>
              <p:cNvPr id="76" name=""/>
              <p:cNvSpPr/>
              <p:nvPr/>
            </p:nvSpPr>
            <p:spPr>
              <a:xfrm>
                <a:off x="394920" y="2201760"/>
                <a:ext cx="720720" cy="288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37760" y="221580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3300"/>
                    </a:solidFill>
                    <a:latin typeface="Comic Sans MS"/>
                  </a:rPr>
                  <a:t>UDD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" name=""/>
          <p:cNvGrpSpPr/>
          <p:nvPr/>
        </p:nvGrpSpPr>
        <p:grpSpPr>
          <a:xfrm>
            <a:off x="4756680" y="6094440"/>
            <a:ext cx="4071960" cy="505800"/>
            <a:chOff x="4756680" y="6094440"/>
            <a:chExt cx="4071960" cy="505800"/>
          </a:xfrm>
        </p:grpSpPr>
        <p:sp>
          <p:nvSpPr>
            <p:cNvPr id="79" name=""/>
            <p:cNvSpPr/>
            <p:nvPr/>
          </p:nvSpPr>
          <p:spPr>
            <a:xfrm>
              <a:off x="7238520" y="616572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12960" y="6237360"/>
              <a:ext cx="95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Comic Sans MS"/>
                </a:rPr>
                <a:t>=On Go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39720" y="6140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56680" y="609444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69520" y="623736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Comic Sans MS"/>
                </a:rPr>
                <a:t>=At 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71440" y="6237360"/>
              <a:ext cx="13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80"/>
                  </a:solidFill>
                  <a:latin typeface="Comic Sans MS"/>
                </a:rPr>
                <a:t>=Basically 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8166960" y="5370480"/>
            <a:ext cx="5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763640" y="5232240"/>
            <a:ext cx="6445080" cy="1078200"/>
            <a:chOff x="1763640" y="5232240"/>
            <a:chExt cx="6445080" cy="1078200"/>
          </a:xfrm>
        </p:grpSpPr>
        <p:sp>
          <p:nvSpPr>
            <p:cNvPr id="87" name=""/>
            <p:cNvSpPr/>
            <p:nvPr/>
          </p:nvSpPr>
          <p:spPr>
            <a:xfrm>
              <a:off x="1763640" y="5232240"/>
              <a:ext cx="6445080" cy="930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99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83880" y="5489280"/>
              <a:ext cx="366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ebMS – ebXML Message Service V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12840" y="5873400"/>
              <a:ext cx="202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0066"/>
                  </a:solidFill>
                  <a:latin typeface="Comic Sans MS"/>
                </a:rPr>
                <a:t>Packaging / Tra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53080" y="5729040"/>
              <a:ext cx="52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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237080" y="5516280"/>
              <a:ext cx="720720" cy="290880"/>
              <a:chOff x="7237080" y="5516280"/>
              <a:chExt cx="720720" cy="290880"/>
            </a:xfrm>
          </p:grpSpPr>
          <p:sp>
            <p:nvSpPr>
              <p:cNvPr id="92" name=""/>
              <p:cNvSpPr/>
              <p:nvPr/>
            </p:nvSpPr>
            <p:spPr>
              <a:xfrm>
                <a:off x="7237080" y="5516280"/>
                <a:ext cx="720720" cy="2890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75240" y="5530680"/>
                <a:ext cx="57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3300"/>
                    </a:solidFill>
                    <a:latin typeface="Comic Sans MS"/>
                  </a:rPr>
                  <a:t>SO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8166960" y="2994120"/>
            <a:ext cx="5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755600" y="1509840"/>
            <a:ext cx="4078440" cy="565560"/>
            <a:chOff x="4755600" y="1509840"/>
            <a:chExt cx="4078440" cy="565560"/>
          </a:xfrm>
        </p:grpSpPr>
        <p:sp>
          <p:nvSpPr>
            <p:cNvPr id="96" name=""/>
            <p:cNvSpPr/>
            <p:nvPr/>
          </p:nvSpPr>
          <p:spPr>
            <a:xfrm>
              <a:off x="4756320" y="1509840"/>
              <a:ext cx="407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UDDI  = Universal Description, Discovery &amp; Integ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55600" y="1652760"/>
              <a:ext cx="327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WSDL =Web Services Description Langu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62440" y="1798920"/>
              <a:ext cx="29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AP  = Simple Object Access 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763640" y="4440240"/>
            <a:ext cx="6445080" cy="1006560"/>
            <a:chOff x="1763640" y="4440240"/>
            <a:chExt cx="6445080" cy="1006560"/>
          </a:xfrm>
        </p:grpSpPr>
        <p:sp>
          <p:nvSpPr>
            <p:cNvPr id="100" name=""/>
            <p:cNvSpPr/>
            <p:nvPr/>
          </p:nvSpPr>
          <p:spPr>
            <a:xfrm>
              <a:off x="1763640" y="4440240"/>
              <a:ext cx="6445080" cy="929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64440" y="4697280"/>
              <a:ext cx="455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BPSS – Business process Schema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05640" y="50814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0066"/>
                  </a:solidFill>
                  <a:latin typeface="Comic Sans MS"/>
                </a:rPr>
                <a:t>Business Proce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31120" y="48654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763640" y="3648240"/>
            <a:ext cx="6445080" cy="1077840"/>
            <a:chOff x="1763640" y="3648240"/>
            <a:chExt cx="6445080" cy="1077840"/>
          </a:xfrm>
        </p:grpSpPr>
        <p:sp>
          <p:nvSpPr>
            <p:cNvPr id="105" name=""/>
            <p:cNvSpPr/>
            <p:nvPr/>
          </p:nvSpPr>
          <p:spPr>
            <a:xfrm>
              <a:off x="1763640" y="3648240"/>
              <a:ext cx="6445080" cy="929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1600" y="3904920"/>
              <a:ext cx="547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CPPA – Collaboration Protocol Profile &amp; Agreement V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1680" y="4289040"/>
              <a:ext cx="198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0066"/>
                  </a:solidFill>
                  <a:latin typeface="Comic Sans MS"/>
                </a:rPr>
                <a:t>Business Agre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53080" y="4144680"/>
              <a:ext cx="52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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7237080" y="3931920"/>
              <a:ext cx="720720" cy="290520"/>
              <a:chOff x="7237080" y="3931920"/>
              <a:chExt cx="720720" cy="290520"/>
            </a:xfrm>
          </p:grpSpPr>
          <p:sp>
            <p:nvSpPr>
              <p:cNvPr id="110" name=""/>
              <p:cNvSpPr/>
              <p:nvPr/>
            </p:nvSpPr>
            <p:spPr>
              <a:xfrm>
                <a:off x="7237080" y="3931920"/>
                <a:ext cx="720720" cy="2887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64800" y="3945960"/>
                <a:ext cx="59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3300"/>
                    </a:solidFill>
                    <a:latin typeface="Comic Sans MS"/>
                  </a:rPr>
                  <a:t>WS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1763640" y="2855880"/>
            <a:ext cx="6445440" cy="930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50760" y="3112920"/>
            <a:ext cx="54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CCTS – Core Components Technical Specification  V1.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18240" y="349740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66"/>
                </a:solidFill>
                <a:latin typeface="Comic Sans MS"/>
              </a:rPr>
              <a:t>Standard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59640" y="349560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8080"/>
                </a:solidFill>
                <a:latin typeface="Comic Sans MS"/>
              </a:rPr>
              <a:t>UBL 1.0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763640" y="2063880"/>
            <a:ext cx="6445080" cy="1003680"/>
            <a:chOff x="1763640" y="2063880"/>
            <a:chExt cx="6445080" cy="1003680"/>
          </a:xfrm>
        </p:grpSpPr>
        <p:sp>
          <p:nvSpPr>
            <p:cNvPr id="117" name=""/>
            <p:cNvSpPr/>
            <p:nvPr/>
          </p:nvSpPr>
          <p:spPr>
            <a:xfrm>
              <a:off x="1763640" y="2063880"/>
              <a:ext cx="6445080" cy="930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51840" y="2320920"/>
              <a:ext cx="419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CM – Context Methodology (UBL Oasis T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02400" y="2705040"/>
              <a:ext cx="243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0066"/>
                  </a:solidFill>
                  <a:latin typeface="Comic Sans MS"/>
                </a:rPr>
                <a:t>Message Contextua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49480" y="2486160"/>
              <a:ext cx="55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380360" y="3135240"/>
            <a:ext cx="576360" cy="3650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2925720"/>
            <a:ext cx="8569080" cy="10796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844640"/>
            <a:ext cx="8569080" cy="10796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005360"/>
            <a:ext cx="8569080" cy="20876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-34884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-Fi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548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t in Layers from Business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3933720"/>
            <a:ext cx="431640" cy="1954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ff"/>
              </a:gs>
              <a:gs pos="100000">
                <a:srgbClr val="6600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1160" y="475092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B2B-Fil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3933720"/>
            <a:ext cx="431640" cy="1954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5050"/>
              </a:gs>
              <a:gs pos="100000">
                <a:srgbClr val="a50021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371520" y="475092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BMB-On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4920" y="3933720"/>
            <a:ext cx="431640" cy="1954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6633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730440" y="475092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3933720"/>
            <a:ext cx="431640" cy="1954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33"/>
              </a:gs>
              <a:gs pos="100000">
                <a:srgbClr val="0033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090800" y="475092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3933720"/>
            <a:ext cx="431640" cy="1954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cc"/>
              </a:gs>
              <a:gs pos="100000">
                <a:srgbClr val="0033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1451160" y="475092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2922480"/>
            <a:ext cx="2448000" cy="1081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323064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BX_TM-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3936960"/>
            <a:ext cx="43200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1883160" y="47541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-Fi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3935520"/>
            <a:ext cx="43200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ff"/>
              </a:gs>
              <a:gs pos="100000">
                <a:srgbClr val="6600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224352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B2B-Fi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3935520"/>
            <a:ext cx="43200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5050"/>
              </a:gs>
              <a:gs pos="100000">
                <a:srgbClr val="a50021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260388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TM-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0692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6633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96244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TM-Key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33"/>
              </a:gs>
              <a:gs pos="100000">
                <a:srgbClr val="0033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332280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-Renew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cc"/>
              </a:gs>
              <a:gs pos="100000">
                <a:srgbClr val="0033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368316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2924280"/>
            <a:ext cx="2448000" cy="1081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ffcc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232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M_TM-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393696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548240" y="47541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ECA-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5308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ff"/>
              </a:gs>
              <a:gs pos="100000">
                <a:srgbClr val="6600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90860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EVA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344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5050"/>
              </a:gs>
              <a:gs pos="100000">
                <a:srgbClr val="a50021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526896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6633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62788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3272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33"/>
              </a:gs>
              <a:gs pos="100000">
                <a:srgbClr val="0033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598824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308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cc"/>
              </a:gs>
              <a:gs pos="100000">
                <a:srgbClr val="0033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634860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46240" y="241308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56720" y="4005360"/>
            <a:ext cx="863280" cy="287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46280" y="401796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ff66"/>
                </a:solidFill>
                <a:latin typeface="Comic Sans MS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2925720"/>
            <a:ext cx="863280" cy="287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56720" y="1844640"/>
            <a:ext cx="863280" cy="287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97320" y="29257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ff66"/>
                </a:solidFill>
                <a:latin typeface="Comic Sans MS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45560" y="1844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ff66"/>
                </a:solidFill>
                <a:latin typeface="Comic Sans MS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61080" y="3068640"/>
            <a:ext cx="502920" cy="938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ffcc"/>
              </a:gs>
            </a:gsLst>
            <a:lin ang="5400000"/>
          </a:gradFill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2924280"/>
            <a:ext cx="2448000" cy="1081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3232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WO_TM-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987560"/>
            <a:ext cx="7345440" cy="1146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16760" y="249228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TM-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08040" y="283536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66"/>
                </a:solidFill>
                <a:latin typeface="Comic Sans MS"/>
              </a:rPr>
              <a:t>Framework &amp; Building Blocks Reposi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3213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604360" y="2133720"/>
            <a:ext cx="215640" cy="792000"/>
          </a:xfrm>
          <a:prstGeom prst="rect">
            <a:avLst/>
          </a:prstGeom>
          <a:solidFill>
            <a:srgbClr val="6600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04360" y="2133720"/>
            <a:ext cx="255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604360" y="3213000"/>
            <a:ext cx="215640" cy="792360"/>
          </a:xfrm>
          <a:prstGeom prst="rect">
            <a:avLst/>
          </a:prstGeom>
          <a:solidFill>
            <a:srgbClr val="6600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04360" y="3213000"/>
            <a:ext cx="255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604360" y="4292640"/>
            <a:ext cx="215640" cy="1800360"/>
          </a:xfrm>
          <a:prstGeom prst="rect">
            <a:avLst/>
          </a:prstGeom>
          <a:solidFill>
            <a:srgbClr val="6600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4360" y="4292640"/>
            <a:ext cx="255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26200" y="2421000"/>
            <a:ext cx="86364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56080" y="2494080"/>
            <a:ext cx="762120" cy="466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03280" y="2492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WIPO ST.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5080" y="2492280"/>
            <a:ext cx="4316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0560" y="2708280"/>
            <a:ext cx="43308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55640" y="2349360"/>
            <a:ext cx="720720" cy="7207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3545640" y="234936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16920" y="250668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&amp; Al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rot="10800000">
            <a:off x="468000" y="2708280"/>
            <a:ext cx="1655640" cy="719280"/>
          </a:xfrm>
          <a:prstGeom prst="hexagon">
            <a:avLst>
              <a:gd name="adj" fmla="val 57545"/>
              <a:gd name="vf" fmla="val 115470"/>
            </a:avLst>
          </a:prstGeom>
          <a:gradFill rotWithShape="0">
            <a:gsLst>
              <a:gs pos="0">
                <a:srgbClr val="66ff66"/>
              </a:gs>
              <a:gs pos="100000">
                <a:srgbClr val="66ff66"/>
              </a:gs>
            </a:gsLst>
            <a:lin ang="162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24360" y="5623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on &amp; Incremental Schema Scena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68640"/>
            <a:ext cx="8353440" cy="33847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8360" y="4168800"/>
            <a:ext cx="2232000" cy="1347840"/>
            <a:chOff x="468360" y="4168800"/>
            <a:chExt cx="2232000" cy="1347840"/>
          </a:xfrm>
        </p:grpSpPr>
        <p:sp>
          <p:nvSpPr>
            <p:cNvPr id="198" name=""/>
            <p:cNvSpPr/>
            <p:nvPr/>
          </p:nvSpPr>
          <p:spPr>
            <a:xfrm rot="10800000">
              <a:off x="469440" y="4168800"/>
              <a:ext cx="1366920" cy="503280"/>
            </a:xfrm>
            <a:prstGeom prst="hexagon">
              <a:avLst>
                <a:gd name="adj" fmla="val 67901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8360" y="4383000"/>
              <a:ext cx="2232000" cy="11336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8360" y="4437000"/>
              <a:ext cx="21589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Union-Schema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Comic Sans MS"/>
                </a:rPr>
                <a:t>(Building Blocks Repositor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1979280" y="2421000"/>
            <a:ext cx="863640" cy="19447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24360" y="3213000"/>
            <a:ext cx="4751280" cy="3095640"/>
            <a:chOff x="3924360" y="3213000"/>
            <a:chExt cx="4751280" cy="3095640"/>
          </a:xfrm>
        </p:grpSpPr>
        <p:sp>
          <p:nvSpPr>
            <p:cNvPr id="203" name=""/>
            <p:cNvSpPr/>
            <p:nvPr/>
          </p:nvSpPr>
          <p:spPr>
            <a:xfrm>
              <a:off x="3925800" y="3429000"/>
              <a:ext cx="1366920" cy="2890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94160" y="3429000"/>
              <a:ext cx="1366920" cy="2890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61080" y="3429000"/>
              <a:ext cx="1366920" cy="2890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28000" y="3716280"/>
              <a:ext cx="360360" cy="8650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9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28000" y="4581360"/>
              <a:ext cx="360360" cy="8654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9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28000" y="5443560"/>
              <a:ext cx="360360" cy="8650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9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25800" y="3716280"/>
              <a:ext cx="1366920" cy="86508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25800" y="4581360"/>
              <a:ext cx="1366920" cy="172728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94160" y="3716280"/>
              <a:ext cx="1366920" cy="86508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94160" y="4581360"/>
              <a:ext cx="1366920" cy="86544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94160" y="5443560"/>
              <a:ext cx="1366920" cy="86508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1080" y="3716280"/>
              <a:ext cx="1366920" cy="86508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61080" y="4581360"/>
              <a:ext cx="1366920" cy="86544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61080" y="5443560"/>
              <a:ext cx="1366920" cy="86508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6280" y="3435480"/>
              <a:ext cx="123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FL: E-Fi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79480" y="3429000"/>
              <a:ext cx="120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UB: Pub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93120" y="3429000"/>
              <a:ext cx="1334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: Dissemin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7835760" y="4051080"/>
              <a:ext cx="77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5400000">
              <a:off x="7860600" y="4890240"/>
              <a:ext cx="72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7860600" y="5753880"/>
              <a:ext cx="72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97440" y="3803400"/>
              <a:ext cx="1223640" cy="720720"/>
              <a:chOff x="3997440" y="3803400"/>
              <a:chExt cx="1223640" cy="720720"/>
            </a:xfrm>
          </p:grpSpPr>
          <p:sp>
            <p:nvSpPr>
              <p:cNvPr id="224" name=""/>
              <p:cNvSpPr/>
              <p:nvPr/>
            </p:nvSpPr>
            <p:spPr>
              <a:xfrm rot="10800000">
                <a:off x="3997440" y="380340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97440" y="393516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97440" y="394236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EFL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Mono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364000" y="3789000"/>
              <a:ext cx="1223640" cy="720720"/>
              <a:chOff x="5364000" y="3789000"/>
              <a:chExt cx="1223640" cy="720720"/>
            </a:xfrm>
          </p:grpSpPr>
          <p:sp>
            <p:nvSpPr>
              <p:cNvPr id="228" name=""/>
              <p:cNvSpPr/>
              <p:nvPr/>
            </p:nvSpPr>
            <p:spPr>
              <a:xfrm rot="10800000">
                <a:off x="5364000" y="378900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64000" y="392076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364000" y="392796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PUB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Mono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732720" y="3789000"/>
              <a:ext cx="1223640" cy="720720"/>
              <a:chOff x="6732720" y="3789000"/>
              <a:chExt cx="1223640" cy="720720"/>
            </a:xfrm>
          </p:grpSpPr>
          <p:sp>
            <p:nvSpPr>
              <p:cNvPr id="232" name=""/>
              <p:cNvSpPr/>
              <p:nvPr/>
            </p:nvSpPr>
            <p:spPr>
              <a:xfrm rot="10800000">
                <a:off x="6732720" y="378900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32720" y="392076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32720" y="392796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DI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Mono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3995640" y="4941360"/>
              <a:ext cx="1223640" cy="720720"/>
              <a:chOff x="3995640" y="4941360"/>
              <a:chExt cx="1223640" cy="720720"/>
            </a:xfrm>
          </p:grpSpPr>
          <p:sp>
            <p:nvSpPr>
              <p:cNvPr id="236" name=""/>
              <p:cNvSpPr/>
              <p:nvPr/>
            </p:nvSpPr>
            <p:spPr>
              <a:xfrm rot="10800000">
                <a:off x="3995640" y="494136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5640" y="507312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995640" y="508032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EFL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Multi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5364000" y="4652640"/>
              <a:ext cx="1223640" cy="720720"/>
              <a:chOff x="5364000" y="4652640"/>
              <a:chExt cx="1223640" cy="720720"/>
            </a:xfrm>
          </p:grpSpPr>
          <p:sp>
            <p:nvSpPr>
              <p:cNvPr id="240" name=""/>
              <p:cNvSpPr/>
              <p:nvPr/>
            </p:nvSpPr>
            <p:spPr>
              <a:xfrm rot="10800000">
                <a:off x="5364000" y="465264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364000" y="478440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364000" y="479160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PUB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Multi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732720" y="4652640"/>
              <a:ext cx="1223640" cy="720720"/>
              <a:chOff x="6732720" y="4652640"/>
              <a:chExt cx="1223640" cy="720720"/>
            </a:xfrm>
          </p:grpSpPr>
          <p:sp>
            <p:nvSpPr>
              <p:cNvPr id="244" name=""/>
              <p:cNvSpPr/>
              <p:nvPr/>
            </p:nvSpPr>
            <p:spPr>
              <a:xfrm rot="10800000">
                <a:off x="6732720" y="465264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32720" y="478440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32720" y="479160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DI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Multi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364000" y="5516280"/>
              <a:ext cx="1223640" cy="720720"/>
              <a:chOff x="5364000" y="5516280"/>
              <a:chExt cx="1223640" cy="720720"/>
            </a:xfrm>
          </p:grpSpPr>
          <p:sp>
            <p:nvSpPr>
              <p:cNvPr id="248" name=""/>
              <p:cNvSpPr/>
              <p:nvPr/>
            </p:nvSpPr>
            <p:spPr>
              <a:xfrm rot="10800000">
                <a:off x="5364000" y="551628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364000" y="564804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64000" y="565524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PUB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XX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6732720" y="5516280"/>
              <a:ext cx="1223640" cy="720720"/>
              <a:chOff x="6732720" y="5516280"/>
              <a:chExt cx="1223640" cy="720720"/>
            </a:xfrm>
          </p:grpSpPr>
          <p:sp>
            <p:nvSpPr>
              <p:cNvPr id="252" name=""/>
              <p:cNvSpPr/>
              <p:nvPr/>
            </p:nvSpPr>
            <p:spPr>
              <a:xfrm rot="10800000">
                <a:off x="6732720" y="551628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32720" y="564804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32720" y="565524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DI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XX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924360" y="3213000"/>
              <a:ext cx="4105080" cy="216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24360" y="3213000"/>
              <a:ext cx="41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3300"/>
                  </a:solidFill>
                  <a:latin typeface="Arial"/>
                </a:rPr>
                <a:t>Mess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8360" y="3716280"/>
              <a:ext cx="287280" cy="2592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7228080" y="4874040"/>
              <a:ext cx="259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3300"/>
                  </a:solidFill>
                  <a:latin typeface="Arial"/>
                </a:rPr>
                <a:t>Office Categ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 flipV="1">
            <a:off x="5148000" y="2708280"/>
            <a:ext cx="144360" cy="5047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683800" y="4768920"/>
            <a:ext cx="1278000" cy="1180800"/>
            <a:chOff x="2683800" y="4768920"/>
            <a:chExt cx="1278000" cy="1180800"/>
          </a:xfrm>
        </p:grpSpPr>
        <p:sp>
          <p:nvSpPr>
            <p:cNvPr id="261" name=""/>
            <p:cNvSpPr/>
            <p:nvPr/>
          </p:nvSpPr>
          <p:spPr>
            <a:xfrm>
              <a:off x="2700360" y="501336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348000" y="501336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844720" y="5373360"/>
              <a:ext cx="935280" cy="576360"/>
              <a:chOff x="2844720" y="5373360"/>
              <a:chExt cx="935280" cy="576360"/>
            </a:xfrm>
          </p:grpSpPr>
          <p:sp>
            <p:nvSpPr>
              <p:cNvPr id="264" name=""/>
              <p:cNvSpPr/>
              <p:nvPr/>
            </p:nvSpPr>
            <p:spPr>
              <a:xfrm rot="10800000">
                <a:off x="2844720" y="5373360"/>
                <a:ext cx="408240" cy="240120"/>
              </a:xfrm>
              <a:prstGeom prst="hexagon">
                <a:avLst>
                  <a:gd name="adj" fmla="val 42504"/>
                  <a:gd name="vf" fmla="val 115470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cc99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44720" y="5478840"/>
                <a:ext cx="935280" cy="47088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44720" y="5484600"/>
                <a:ext cx="93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XS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Profi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683800" y="476892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&lt;&lt;Specialization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659280" y="1699920"/>
            <a:ext cx="1586880" cy="1513080"/>
            <a:chOff x="6659280" y="1699920"/>
            <a:chExt cx="1586880" cy="1513080"/>
          </a:xfrm>
        </p:grpSpPr>
        <p:grpSp>
          <p:nvGrpSpPr>
            <p:cNvPr id="269" name=""/>
            <p:cNvGrpSpPr/>
            <p:nvPr/>
          </p:nvGrpSpPr>
          <p:grpSpPr>
            <a:xfrm>
              <a:off x="6875640" y="1699920"/>
              <a:ext cx="1152360" cy="834840"/>
              <a:chOff x="6875640" y="1699920"/>
              <a:chExt cx="1152360" cy="834840"/>
            </a:xfrm>
          </p:grpSpPr>
          <p:sp>
            <p:nvSpPr>
              <p:cNvPr id="270" name=""/>
              <p:cNvSpPr/>
              <p:nvPr/>
            </p:nvSpPr>
            <p:spPr>
              <a:xfrm rot="10800000">
                <a:off x="6878520" y="1699920"/>
                <a:ext cx="499680" cy="415800"/>
              </a:xfrm>
              <a:prstGeom prst="hexagon">
                <a:avLst>
                  <a:gd name="adj" fmla="val 30043"/>
                  <a:gd name="vf" fmla="val 11547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9999ff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sp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75640" y="1887480"/>
                <a:ext cx="1152360" cy="647280"/>
              </a:xfrm>
              <a:prstGeom prst="rect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ccc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875640" y="1895400"/>
                <a:ext cx="1152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659280" y="1844640"/>
              <a:ext cx="1152720" cy="794160"/>
              <a:chOff x="6659280" y="1844640"/>
              <a:chExt cx="1152720" cy="794160"/>
            </a:xfrm>
          </p:grpSpPr>
          <p:sp>
            <p:nvSpPr>
              <p:cNvPr id="274" name=""/>
              <p:cNvSpPr/>
              <p:nvPr/>
            </p:nvSpPr>
            <p:spPr>
              <a:xfrm rot="10800000">
                <a:off x="6659280" y="1844640"/>
                <a:ext cx="502920" cy="330480"/>
              </a:xfrm>
              <a:prstGeom prst="hexagon">
                <a:avLst>
                  <a:gd name="adj" fmla="val 38045"/>
                  <a:gd name="vf" fmla="val 11547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33ccff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659640" y="1989360"/>
                <a:ext cx="1152360" cy="6476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cccc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659640" y="1997280"/>
                <a:ext cx="1152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Office-Message Specif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7093080" y="2637000"/>
              <a:ext cx="71280" cy="576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71840" y="270828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Comic Sans MS"/>
                </a:rPr>
                <a:t>&lt;&lt;Variation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85600" y="2421000"/>
            <a:ext cx="1886400" cy="276480"/>
            <a:chOff x="2685600" y="2421000"/>
            <a:chExt cx="1886400" cy="276480"/>
          </a:xfrm>
        </p:grpSpPr>
        <p:sp>
          <p:nvSpPr>
            <p:cNvPr id="280" name=""/>
            <p:cNvSpPr/>
            <p:nvPr/>
          </p:nvSpPr>
          <p:spPr>
            <a:xfrm flipH="1">
              <a:off x="2843280" y="2421000"/>
              <a:ext cx="1728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85600" y="2421000"/>
              <a:ext cx="129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3300"/>
                  </a:solidFill>
                  <a:latin typeface="Comic Sans MS"/>
                </a:rPr>
                <a:t>&lt;&lt;Promotion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H="1">
            <a:off x="2842920" y="2060640"/>
            <a:ext cx="142920" cy="360360"/>
          </a:xfrm>
          <a:prstGeom prst="line">
            <a:avLst/>
          </a:prstGeom>
          <a:ln w="38160">
            <a:solidFill>
              <a:srgbClr val="cc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835000" y="1785960"/>
            <a:ext cx="3824640" cy="276480"/>
            <a:chOff x="2835000" y="1785960"/>
            <a:chExt cx="3824640" cy="276480"/>
          </a:xfrm>
        </p:grpSpPr>
        <p:sp>
          <p:nvSpPr>
            <p:cNvPr id="284" name=""/>
            <p:cNvSpPr/>
            <p:nvPr/>
          </p:nvSpPr>
          <p:spPr>
            <a:xfrm flipH="1">
              <a:off x="2987640" y="2060640"/>
              <a:ext cx="3672000" cy="0"/>
            </a:xfrm>
            <a:prstGeom prst="line">
              <a:avLst/>
            </a:prstGeom>
            <a:ln w="38160">
              <a:solidFill>
                <a:srgbClr val="cc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35000" y="1785960"/>
              <a:ext cx="179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9900"/>
                  </a:solidFill>
                  <a:latin typeface="Comic Sans MS"/>
                </a:rPr>
                <a:t>&lt;&lt;Partial Promotion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571640" y="1699920"/>
            <a:ext cx="1782720" cy="1299240"/>
            <a:chOff x="4571640" y="1699920"/>
            <a:chExt cx="1782720" cy="1299240"/>
          </a:xfrm>
        </p:grpSpPr>
        <p:sp>
          <p:nvSpPr>
            <p:cNvPr id="287" name=""/>
            <p:cNvSpPr/>
            <p:nvPr/>
          </p:nvSpPr>
          <p:spPr>
            <a:xfrm>
              <a:off x="5124960" y="2722680"/>
              <a:ext cx="122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6633"/>
                  </a:solidFill>
                  <a:latin typeface="Comic Sans MS"/>
                </a:rPr>
                <a:t>&lt;&lt;Extension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003640" y="1699920"/>
              <a:ext cx="1152720" cy="792000"/>
              <a:chOff x="5003640" y="1699920"/>
              <a:chExt cx="1152720" cy="792000"/>
            </a:xfrm>
          </p:grpSpPr>
          <p:sp>
            <p:nvSpPr>
              <p:cNvPr id="289" name=""/>
              <p:cNvSpPr/>
              <p:nvPr/>
            </p:nvSpPr>
            <p:spPr>
              <a:xfrm rot="10800000">
                <a:off x="5003640" y="1699920"/>
                <a:ext cx="503280" cy="330120"/>
              </a:xfrm>
              <a:prstGeom prst="hexagon">
                <a:avLst>
                  <a:gd name="adj" fmla="val 38113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0093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03640" y="1844640"/>
                <a:ext cx="1152720" cy="64728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003640" y="1852560"/>
                <a:ext cx="11527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8000" y="1773000"/>
              <a:ext cx="1152360" cy="834840"/>
              <a:chOff x="4788000" y="1773000"/>
              <a:chExt cx="1152360" cy="834840"/>
            </a:xfrm>
          </p:grpSpPr>
          <p:sp>
            <p:nvSpPr>
              <p:cNvPr id="293" name=""/>
              <p:cNvSpPr/>
              <p:nvPr/>
            </p:nvSpPr>
            <p:spPr>
              <a:xfrm rot="10800000">
                <a:off x="4790880" y="1773000"/>
                <a:ext cx="499680" cy="415800"/>
              </a:xfrm>
              <a:prstGeom prst="hexagon">
                <a:avLst>
                  <a:gd name="adj" fmla="val 30043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sp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88000" y="1960560"/>
                <a:ext cx="1152360" cy="647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88000" y="1968480"/>
                <a:ext cx="1152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571640" y="1915920"/>
              <a:ext cx="1152720" cy="794160"/>
              <a:chOff x="4571640" y="1915920"/>
              <a:chExt cx="1152720" cy="794160"/>
            </a:xfrm>
          </p:grpSpPr>
          <p:sp>
            <p:nvSpPr>
              <p:cNvPr id="297" name=""/>
              <p:cNvSpPr/>
              <p:nvPr/>
            </p:nvSpPr>
            <p:spPr>
              <a:xfrm rot="10800000">
                <a:off x="4571640" y="1915920"/>
                <a:ext cx="502920" cy="330120"/>
              </a:xfrm>
              <a:prstGeom prst="hexagon">
                <a:avLst>
                  <a:gd name="adj" fmla="val 3808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2000" y="2060640"/>
                <a:ext cx="1152360" cy="64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2068560"/>
                <a:ext cx="1152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Office-Message Specif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611280" y="2762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ST.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95280" y="1846440"/>
            <a:ext cx="7705800" cy="100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16720" y="18464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ff"/>
                </a:solidFill>
                <a:latin typeface="Comic Sans MS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67280" y="516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.66 Dictionaries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2205000"/>
            <a:ext cx="86364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98600" y="2276640"/>
            <a:ext cx="761760" cy="466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869080" y="21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59360" y="21337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61080" y="2422440"/>
            <a:ext cx="43200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83760" y="24764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36000" y="242100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28800" y="247644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2205000"/>
            <a:ext cx="122400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5164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7708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3480" y="246528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Comic Sans MS"/>
              </a:rPr>
              <a:t>Ma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55640" y="2117880"/>
            <a:ext cx="10645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66"/>
                </a:solidFill>
                <a:latin typeface="Arial"/>
              </a:rPr>
              <a:t>Super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41720" y="24940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TM-XML Universal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85560" y="2854440"/>
            <a:ext cx="8651160" cy="1685880"/>
            <a:chOff x="385560" y="2854440"/>
            <a:chExt cx="8651160" cy="1685880"/>
          </a:xfrm>
        </p:grpSpPr>
        <p:sp>
          <p:nvSpPr>
            <p:cNvPr id="319" name=""/>
            <p:cNvSpPr/>
            <p:nvPr/>
          </p:nvSpPr>
          <p:spPr>
            <a:xfrm>
              <a:off x="5940360" y="3573360"/>
              <a:ext cx="215892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97440" y="3573360"/>
              <a:ext cx="215928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26920" y="2925720"/>
              <a:ext cx="27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Entreprise Specialized 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27640" y="2854440"/>
              <a:ext cx="0" cy="358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03280" y="3213000"/>
              <a:ext cx="4321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032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24360" y="3213000"/>
              <a:ext cx="11527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5280" y="3502080"/>
              <a:ext cx="252108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58240" y="29257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[+Translatio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130600" y="3773520"/>
              <a:ext cx="9061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66"/>
                  </a:solidFill>
                  <a:latin typeface="Arial"/>
                </a:rPr>
                <a:t>Sub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89440" y="3502080"/>
              <a:ext cx="237456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68200" y="4294080"/>
              <a:ext cx="221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ommunity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5560" y="4294080"/>
              <a:ext cx="232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Inter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37080" y="3502080"/>
              <a:ext cx="237492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46440" y="4294080"/>
              <a:ext cx="20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40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72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770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42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33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48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48040" y="4016520"/>
              <a:ext cx="22572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59160" y="3924360"/>
              <a:ext cx="63972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61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60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29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94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85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00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0400" y="4016520"/>
              <a:ext cx="22536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11160" y="3924360"/>
              <a:ext cx="64008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13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12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81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7400" y="3789360"/>
              <a:ext cx="44280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60720" y="3789360"/>
              <a:ext cx="40932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81000" y="3789360"/>
              <a:ext cx="38484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X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373040" y="2205000"/>
            <a:ext cx="677880" cy="43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403280" y="2241720"/>
            <a:ext cx="576360" cy="35208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1403280" y="4510080"/>
            <a:ext cx="7634880" cy="1441800"/>
            <a:chOff x="1403280" y="4510080"/>
            <a:chExt cx="7634880" cy="1441800"/>
          </a:xfrm>
        </p:grpSpPr>
        <p:sp>
          <p:nvSpPr>
            <p:cNvPr id="359" name=""/>
            <p:cNvSpPr/>
            <p:nvPr/>
          </p:nvSpPr>
          <p:spPr>
            <a:xfrm>
              <a:off x="3203640" y="5086440"/>
              <a:ext cx="1728720" cy="834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33080" y="5705640"/>
              <a:ext cx="163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TM EuroClass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05800" y="5302080"/>
              <a:ext cx="351360" cy="2311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3785040" y="5319720"/>
              <a:ext cx="913320" cy="416520"/>
              <a:chOff x="3785040" y="5319720"/>
              <a:chExt cx="913320" cy="416520"/>
            </a:xfrm>
          </p:grpSpPr>
          <p:sp>
            <p:nvSpPr>
              <p:cNvPr id="363" name=""/>
              <p:cNvSpPr/>
              <p:nvPr/>
            </p:nvSpPr>
            <p:spPr>
              <a:xfrm>
                <a:off x="3978000" y="53197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800" spc="-1" strike="noStrike">
                    <a:solidFill>
                      <a:srgbClr val="3333ff"/>
                    </a:solidFill>
                    <a:latin typeface="Comic Sans MS"/>
                  </a:rPr>
                  <a:t>Trans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3941640" y="5467320"/>
                <a:ext cx="681840" cy="212400"/>
                <a:chOff x="3941640" y="5467320"/>
                <a:chExt cx="681840" cy="2124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941640" y="5467320"/>
                  <a:ext cx="163800" cy="11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242240" y="5561280"/>
                  <a:ext cx="163800" cy="11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12600">
                  <a:solidFill>
                    <a:srgbClr val="ff6600"/>
                  </a:solidFill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460040" y="5561280"/>
                  <a:ext cx="163440" cy="11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12600">
                  <a:solidFill>
                    <a:srgbClr val="ff6600"/>
                  </a:solidFill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105440" y="5490360"/>
                  <a:ext cx="464040" cy="0"/>
                </a:xfrm>
                <a:prstGeom prst="line">
                  <a:avLst/>
                </a:prstGeom>
                <a:ln w="19080">
                  <a:solidFill>
                    <a:srgbClr val="3333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542120" y="5490360"/>
                  <a:ext cx="0" cy="70560"/>
                </a:xfrm>
                <a:prstGeom prst="line">
                  <a:avLst/>
                </a:prstGeom>
                <a:ln w="12600">
                  <a:solidFill>
                    <a:srgbClr val="3333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323960" y="5490360"/>
                  <a:ext cx="0" cy="70560"/>
                </a:xfrm>
                <a:prstGeom prst="line">
                  <a:avLst/>
                </a:prstGeom>
                <a:ln w="12600">
                  <a:solidFill>
                    <a:srgbClr val="3333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3785040" y="5535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700" spc="-1" strike="noStrike">
                    <a:solidFill>
                      <a:srgbClr val="000000"/>
                    </a:solidFill>
                    <a:latin typeface="Comic Sans MS"/>
                  </a:rPr>
                  <a:t>Mast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03280" y="5086440"/>
              <a:ext cx="1728720" cy="834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33880" y="5705640"/>
              <a:ext cx="148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TM e-Filing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05440" y="5302080"/>
              <a:ext cx="351360" cy="2311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1985040" y="5319720"/>
              <a:ext cx="913680" cy="416520"/>
              <a:chOff x="1985040" y="5319720"/>
              <a:chExt cx="913680" cy="416520"/>
            </a:xfrm>
          </p:grpSpPr>
          <p:sp>
            <p:nvSpPr>
              <p:cNvPr id="376" name=""/>
              <p:cNvSpPr/>
              <p:nvPr/>
            </p:nvSpPr>
            <p:spPr>
              <a:xfrm>
                <a:off x="2178360" y="53197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800" spc="-1" strike="noStrike">
                    <a:solidFill>
                      <a:srgbClr val="3333ff"/>
                    </a:solidFill>
                    <a:latin typeface="Comic Sans MS"/>
                  </a:rPr>
                  <a:t>Trans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2141640" y="5467320"/>
                <a:ext cx="682200" cy="212400"/>
                <a:chOff x="2141640" y="5467320"/>
                <a:chExt cx="682200" cy="2124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141640" y="5467320"/>
                  <a:ext cx="163800" cy="11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42240" y="5561280"/>
                  <a:ext cx="163800" cy="11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12600">
                  <a:solidFill>
                    <a:srgbClr val="ff6600"/>
                  </a:solidFill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660400" y="5561280"/>
                  <a:ext cx="163440" cy="11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12600">
                  <a:solidFill>
                    <a:srgbClr val="ff6600"/>
                  </a:solidFill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05440" y="5490360"/>
                  <a:ext cx="464400" cy="0"/>
                </a:xfrm>
                <a:prstGeom prst="line">
                  <a:avLst/>
                </a:prstGeom>
                <a:ln w="19080">
                  <a:solidFill>
                    <a:srgbClr val="3333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742120" y="5490360"/>
                  <a:ext cx="0" cy="70560"/>
                </a:xfrm>
                <a:prstGeom prst="line">
                  <a:avLst/>
                </a:prstGeom>
                <a:ln w="12600">
                  <a:solidFill>
                    <a:srgbClr val="3333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524320" y="5490360"/>
                  <a:ext cx="0" cy="70560"/>
                </a:xfrm>
                <a:prstGeom prst="line">
                  <a:avLst/>
                </a:prstGeom>
                <a:ln w="12600">
                  <a:solidFill>
                    <a:srgbClr val="3333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1985040" y="5535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700" spc="-1" strike="noStrike">
                    <a:solidFill>
                      <a:srgbClr val="000000"/>
                    </a:solidFill>
                    <a:latin typeface="Comic Sans MS"/>
                  </a:rPr>
                  <a:t>Mast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003640" y="5086440"/>
              <a:ext cx="1729080" cy="834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16960" y="5705640"/>
              <a:ext cx="157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TM Message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05800" y="5302080"/>
              <a:ext cx="351360" cy="2311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585400" y="5319720"/>
              <a:ext cx="913680" cy="416520"/>
              <a:chOff x="5585400" y="5319720"/>
              <a:chExt cx="913680" cy="416520"/>
            </a:xfrm>
          </p:grpSpPr>
          <p:sp>
            <p:nvSpPr>
              <p:cNvPr id="389" name=""/>
              <p:cNvSpPr/>
              <p:nvPr/>
            </p:nvSpPr>
            <p:spPr>
              <a:xfrm>
                <a:off x="5778720" y="53197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800" spc="-1" strike="noStrike">
                    <a:solidFill>
                      <a:srgbClr val="3333ff"/>
                    </a:solidFill>
                    <a:latin typeface="Comic Sans MS"/>
                  </a:rPr>
                  <a:t>Trans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5742000" y="5467320"/>
                <a:ext cx="682200" cy="212400"/>
                <a:chOff x="5742000" y="5467320"/>
                <a:chExt cx="682200" cy="2124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742000" y="5467320"/>
                  <a:ext cx="163800" cy="11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42600" y="5561280"/>
                  <a:ext cx="163800" cy="11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12600">
                  <a:solidFill>
                    <a:srgbClr val="ff6600"/>
                  </a:solidFill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260760" y="5561280"/>
                  <a:ext cx="163440" cy="11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12600">
                  <a:solidFill>
                    <a:srgbClr val="ff6600"/>
                  </a:solidFill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905800" y="5490360"/>
                  <a:ext cx="464400" cy="0"/>
                </a:xfrm>
                <a:prstGeom prst="line">
                  <a:avLst/>
                </a:prstGeom>
                <a:ln w="19080">
                  <a:solidFill>
                    <a:srgbClr val="3333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342480" y="5490360"/>
                  <a:ext cx="0" cy="70560"/>
                </a:xfrm>
                <a:prstGeom prst="line">
                  <a:avLst/>
                </a:prstGeom>
                <a:ln w="12600">
                  <a:solidFill>
                    <a:srgbClr val="3333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124680" y="5490360"/>
                  <a:ext cx="0" cy="70560"/>
                </a:xfrm>
                <a:prstGeom prst="line">
                  <a:avLst/>
                </a:prstGeom>
                <a:ln w="12600">
                  <a:solidFill>
                    <a:srgbClr val="3333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5585400" y="5535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700" spc="-1" strike="noStrike">
                    <a:solidFill>
                      <a:srgbClr val="000000"/>
                    </a:solidFill>
                    <a:latin typeface="Comic Sans MS"/>
                  </a:rPr>
                  <a:t>Mast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4140360" y="4511520"/>
              <a:ext cx="0" cy="358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8360" y="4870440"/>
              <a:ext cx="331164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8360" y="4869000"/>
              <a:ext cx="0" cy="288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59280" y="4869000"/>
              <a:ext cx="115272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12000" y="4869000"/>
              <a:ext cx="0" cy="2887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67280" y="4870440"/>
              <a:ext cx="0" cy="289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16720" y="4510080"/>
              <a:ext cx="0" cy="289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04000" y="4510080"/>
              <a:ext cx="0" cy="289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76360" y="4510080"/>
              <a:ext cx="0" cy="289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28040" y="4654440"/>
              <a:ext cx="199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008000"/>
                  </a:solidFill>
                  <a:latin typeface="Comic Sans MS"/>
                </a:rPr>
                <a:t>Message Specialized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19840" y="4654440"/>
              <a:ext cx="105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008000"/>
                  </a:solidFill>
                  <a:latin typeface="Comic Sans MS"/>
                </a:rPr>
                <a:t>[+Translation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4640" y="5356080"/>
              <a:ext cx="12535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66"/>
                  </a:solidFill>
                  <a:latin typeface="Arial"/>
                </a:rPr>
                <a:t>Sub-sub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79280" y="5229360"/>
            <a:ext cx="8783640" cy="1224000"/>
            <a:chOff x="179280" y="5229360"/>
            <a:chExt cx="8783640" cy="1224000"/>
          </a:xfrm>
        </p:grpSpPr>
        <p:sp>
          <p:nvSpPr>
            <p:cNvPr id="411" name=""/>
            <p:cNvSpPr/>
            <p:nvPr/>
          </p:nvSpPr>
          <p:spPr>
            <a:xfrm>
              <a:off x="179280" y="5229360"/>
              <a:ext cx="143856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98920" y="5229360"/>
              <a:ext cx="626400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19280" y="5229360"/>
              <a:ext cx="108108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79280" y="4003560"/>
            <a:ext cx="8785440" cy="1225800"/>
            <a:chOff x="179280" y="4003560"/>
            <a:chExt cx="8785440" cy="1225800"/>
          </a:xfrm>
        </p:grpSpPr>
        <p:sp>
          <p:nvSpPr>
            <p:cNvPr id="415" name=""/>
            <p:cNvSpPr/>
            <p:nvPr/>
          </p:nvSpPr>
          <p:spPr>
            <a:xfrm>
              <a:off x="179280" y="4005360"/>
              <a:ext cx="144000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00360" y="4003560"/>
              <a:ext cx="626436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19280" y="4005360"/>
              <a:ext cx="108108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9280" y="1916280"/>
            <a:ext cx="8785440" cy="864720"/>
            <a:chOff x="179280" y="1916280"/>
            <a:chExt cx="8785440" cy="864720"/>
          </a:xfrm>
        </p:grpSpPr>
        <p:sp>
          <p:nvSpPr>
            <p:cNvPr id="419" name=""/>
            <p:cNvSpPr/>
            <p:nvPr/>
          </p:nvSpPr>
          <p:spPr>
            <a:xfrm>
              <a:off x="179280" y="1917000"/>
              <a:ext cx="1440000" cy="86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00360" y="1916280"/>
              <a:ext cx="62643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19280" y="1917000"/>
              <a:ext cx="1081080" cy="86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81080" y="2781360"/>
            <a:ext cx="8783640" cy="1224000"/>
            <a:chOff x="181080" y="2781360"/>
            <a:chExt cx="8783640" cy="1224000"/>
          </a:xfrm>
        </p:grpSpPr>
        <p:sp>
          <p:nvSpPr>
            <p:cNvPr id="423" name=""/>
            <p:cNvSpPr/>
            <p:nvPr/>
          </p:nvSpPr>
          <p:spPr>
            <a:xfrm>
              <a:off x="181080" y="2781360"/>
              <a:ext cx="143820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00360" y="2781360"/>
              <a:ext cx="626436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19280" y="2781360"/>
              <a:ext cx="108108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067280" y="548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ma/Instance Conforman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4440" y="3200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85960" y="2944800"/>
            <a:ext cx="61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The schema has some feature, in particular the structure, in common with ST.66 and follows the ST.66 Design Rules. (Easy to transform to ST.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2240" y="21985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Irrele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3120" y="436572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771640" y="5451480"/>
            <a:ext cx="61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The schema is fully included in the ST.66 so any of its valid instances are also valid with ST.6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2640" y="55832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Conform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59040" y="4149720"/>
            <a:ext cx="61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All features in the ST.66 namespace are valid with ST.66 and all extensions are implemented with other namespace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00360" y="206064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The schema has no feature in common with ST.66 so the question of conformance doest not ari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692360" y="1989000"/>
            <a:ext cx="914400" cy="719280"/>
            <a:chOff x="1692360" y="1989000"/>
            <a:chExt cx="914400" cy="719280"/>
          </a:xfrm>
        </p:grpSpPr>
        <p:sp>
          <p:nvSpPr>
            <p:cNvPr id="436" name=""/>
            <p:cNvSpPr/>
            <p:nvPr/>
          </p:nvSpPr>
          <p:spPr>
            <a:xfrm>
              <a:off x="1692360" y="1989000"/>
              <a:ext cx="914400" cy="71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22560" y="2332080"/>
              <a:ext cx="433440" cy="30492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65440" y="2044800"/>
              <a:ext cx="433080" cy="30456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692360" y="5300640"/>
            <a:ext cx="914400" cy="1079280"/>
            <a:chOff x="1692360" y="5300640"/>
            <a:chExt cx="914400" cy="1079280"/>
          </a:xfrm>
        </p:grpSpPr>
        <p:sp>
          <p:nvSpPr>
            <p:cNvPr id="440" name=""/>
            <p:cNvSpPr/>
            <p:nvPr/>
          </p:nvSpPr>
          <p:spPr>
            <a:xfrm>
              <a:off x="1692360" y="5300640"/>
              <a:ext cx="914400" cy="107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63640" y="5371920"/>
              <a:ext cx="792360" cy="7920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63640" y="5443200"/>
              <a:ext cx="647640" cy="6480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252360" y="1413000"/>
            <a:ext cx="574560" cy="43164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42920" y="1413000"/>
            <a:ext cx="576360" cy="4316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5080" y="14986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0000"/>
                </a:solidFill>
                <a:latin typeface="Comic Sans MS"/>
              </a:rPr>
              <a:t>ST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49680" y="1413000"/>
            <a:ext cx="134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0000"/>
                </a:solidFill>
                <a:latin typeface="Comic Sans MS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0000"/>
                </a:solidFill>
                <a:latin typeface="Comic Sans MS"/>
              </a:rPr>
              <a:t>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692360" y="2854440"/>
            <a:ext cx="914400" cy="1079280"/>
            <a:chOff x="1692360" y="2854440"/>
            <a:chExt cx="914400" cy="1079280"/>
          </a:xfrm>
        </p:grpSpPr>
        <p:sp>
          <p:nvSpPr>
            <p:cNvPr id="448" name=""/>
            <p:cNvSpPr/>
            <p:nvPr/>
          </p:nvSpPr>
          <p:spPr>
            <a:xfrm>
              <a:off x="1692360" y="2854440"/>
              <a:ext cx="914400" cy="107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63640" y="2925720"/>
              <a:ext cx="647640" cy="64764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08000" y="3214800"/>
              <a:ext cx="648000" cy="647640"/>
            </a:xfrm>
            <a:prstGeom prst="ellipse">
              <a:avLst/>
            </a:prstGeom>
            <a:solidFill>
              <a:srgbClr val="ffff99">
                <a:alpha val="70000"/>
              </a:srgbClr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692360" y="4076640"/>
            <a:ext cx="914400" cy="1081080"/>
            <a:chOff x="1692360" y="4076640"/>
            <a:chExt cx="914400" cy="1081080"/>
          </a:xfrm>
        </p:grpSpPr>
        <p:sp>
          <p:nvSpPr>
            <p:cNvPr id="452" name=""/>
            <p:cNvSpPr/>
            <p:nvPr/>
          </p:nvSpPr>
          <p:spPr>
            <a:xfrm>
              <a:off x="1692360" y="4078080"/>
              <a:ext cx="914400" cy="10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92360" y="4076640"/>
              <a:ext cx="719280" cy="7207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24360" y="4726080"/>
              <a:ext cx="71280" cy="14292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64000" y="4221000"/>
              <a:ext cx="576000" cy="5763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51280" y="4869000"/>
              <a:ext cx="503280" cy="2156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4211640" y="5184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agement &amp; Build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6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042920" y="1484280"/>
          <a:ext cx="7236000" cy="522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484280"/>
                    <a:ext cx="723600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4140360" y="548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S-XM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ebsi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628640"/>
            <a:ext cx="4690800" cy="4692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5076720" y="2133720"/>
            <a:ext cx="3816360" cy="4103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92720" y="2276640"/>
            <a:ext cx="356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The 2 websites are fully buil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0" lang="en-IE" sz="1600" spc="-1" strike="noStrike">
                <a:solidFill>
                  <a:srgbClr val="ff6600"/>
                </a:solidFill>
                <a:latin typeface="Comic Sans MS"/>
              </a:rPr>
              <a:t>XML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 with </a:t>
            </a:r>
            <a:r>
              <a:rPr b="0" lang="en-IE" sz="1600" spc="-1" strike="noStrike">
                <a:solidFill>
                  <a:srgbClr val="ff6600"/>
                </a:solidFill>
                <a:latin typeface="Comic Sans MS"/>
              </a:rPr>
              <a:t>XSLT 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transform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The pages are rendered in XHTML on the </a:t>
            </a:r>
            <a:r>
              <a:rPr b="0" lang="en-IE" sz="1600" spc="-1" strike="noStrike">
                <a:solidFill>
                  <a:srgbClr val="ff6600"/>
                </a:solidFill>
                <a:latin typeface="Comic Sans MS"/>
              </a:rPr>
              <a:t>Browser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92720" y="4941720"/>
            <a:ext cx="352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Note: Only the first page (index.html) is pre-rendered with Saxon because most of web robots including Google don’t index and crawl yet properly XML p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58080" y="3789360"/>
            <a:ext cx="26982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a50021"/>
                </a:solidFill>
                <a:latin typeface="Comic Sans MS"/>
              </a:rPr>
              <a:t>Ruby on Rails &amp; MySQ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a50021"/>
                </a:solidFill>
                <a:latin typeface="Comic Sans MS"/>
              </a:rPr>
              <a:t>will manage the 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a50021"/>
                </a:solidFill>
                <a:latin typeface="Comic Sans MS"/>
              </a:rPr>
              <a:t>in the next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5148360" y="3672000"/>
            <a:ext cx="942840" cy="1123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564000" y="50148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9640" y="4149720"/>
            <a:ext cx="6445440" cy="930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cc"/>
              </a:gs>
              <a:gs pos="100000">
                <a:srgbClr val="ff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8600" y="4470480"/>
            <a:ext cx="36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EU Trade Mark Federation Servic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88600" y="4797360"/>
            <a:ext cx="33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66"/>
                </a:solidFill>
                <a:latin typeface="Comic Sans MS"/>
              </a:rPr>
              <a:t>Identity-Security-Packaging-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95640" y="43344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HIM-EU Cooperation Programm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6-2010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225480" y="248616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720" y="2924280"/>
            <a:ext cx="1440000" cy="1368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2720" y="3313080"/>
            <a:ext cx="11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uro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92360" y="2924280"/>
            <a:ext cx="1439640" cy="1368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92360" y="3313080"/>
            <a:ext cx="110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771640" y="2924280"/>
            <a:ext cx="1368720" cy="1368360"/>
            <a:chOff x="2771640" y="2924280"/>
            <a:chExt cx="1368720" cy="1368360"/>
          </a:xfrm>
        </p:grpSpPr>
        <p:sp>
          <p:nvSpPr>
            <p:cNvPr id="479" name=""/>
            <p:cNvSpPr/>
            <p:nvPr/>
          </p:nvSpPr>
          <p:spPr>
            <a:xfrm>
              <a:off x="2771640" y="2924280"/>
              <a:ext cx="1368720" cy="1368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71640" y="3312720"/>
              <a:ext cx="104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EuroFi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3780000" y="2924280"/>
            <a:ext cx="1511280" cy="1368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80000" y="3336840"/>
            <a:ext cx="122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Services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Opport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32360" y="2924280"/>
            <a:ext cx="2087640" cy="1368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39640" y="2276640"/>
            <a:ext cx="6445440" cy="930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5720" y="2587680"/>
            <a:ext cx="22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EU Trade Mark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51280" y="2908440"/>
            <a:ext cx="373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66"/>
                </a:solidFill>
                <a:latin typeface="Comic Sans MS"/>
              </a:rPr>
              <a:t>Context- Presentation-Translation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9640" y="5589720"/>
            <a:ext cx="1150920" cy="865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ffcc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7280" y="5877000"/>
            <a:ext cx="9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WI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114560" y="5229360"/>
            <a:ext cx="3241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8000" y="5589720"/>
            <a:ext cx="1151280" cy="865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ffcc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26920" y="5518080"/>
            <a:ext cx="576360" cy="216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14560" y="5229360"/>
            <a:ext cx="14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95640" y="5518080"/>
            <a:ext cx="576000" cy="216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82920" y="5229360"/>
            <a:ext cx="14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69080" y="5589720"/>
            <a:ext cx="1150920" cy="865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ffcc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86360" y="5877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Office (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56360" y="5518080"/>
            <a:ext cx="576360" cy="216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43640" y="5229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80000" y="5229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282920" y="5229360"/>
            <a:ext cx="129708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24200" y="5864400"/>
            <a:ext cx="8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OH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4920" y="5587920"/>
            <a:ext cx="1150920" cy="865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ffcc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92560" y="58752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Offic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62200" y="5516640"/>
            <a:ext cx="576360" cy="216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49840" y="5227560"/>
            <a:ext cx="144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9640" y="1628640"/>
            <a:ext cx="223200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1628640"/>
            <a:ext cx="288108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1700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Member Offices &amp; OH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71640" y="1700280"/>
            <a:ext cx="27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Applicant-Representative-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79640" y="2133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84720" y="2133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005440" y="3284640"/>
            <a:ext cx="1582560" cy="215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59280" y="325584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Infrastructure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05440" y="3500280"/>
            <a:ext cx="158256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19640" y="347184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Rule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76720" y="3616200"/>
            <a:ext cx="13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orkflow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76720" y="376092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Rendition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76720" y="39052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earch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06320" y="5229360"/>
            <a:ext cx="360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Interoperate              Across Organization              &amp; Technical Bounda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75280" y="404820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ranslation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25360" y="4005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66"/>
                </a:solidFill>
                <a:latin typeface="Comic Sans MS"/>
              </a:rPr>
              <a:t>Collaborativ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6000" y="1773360"/>
            <a:ext cx="1657080" cy="2519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6000" y="1557360"/>
            <a:ext cx="1655640" cy="21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85040" y="1528920"/>
            <a:ext cx="13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ff00"/>
                </a:solidFill>
                <a:latin typeface="Comic Sans MS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6000" y="4475160"/>
            <a:ext cx="1657080" cy="18334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78560" y="4691160"/>
            <a:ext cx="165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99"/>
                </a:solidFill>
                <a:latin typeface="Comic Sans MS"/>
              </a:rPr>
              <a:t>A Single Stop Shop for Information &amp; Services on Trade Mark in European Un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4437000"/>
            <a:ext cx="79236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889600" y="4513320"/>
            <a:ext cx="698400" cy="4284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979640" y="5445000"/>
            <a:ext cx="1079640" cy="432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19280" y="3284640"/>
            <a:ext cx="107964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96360" y="3932280"/>
            <a:ext cx="895320" cy="28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523280" y="3068640"/>
            <a:ext cx="108108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6000" y="2668680"/>
            <a:ext cx="165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S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SOAP-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XML-Aj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Web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Liberty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SA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Web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08720" y="2276640"/>
            <a:ext cx="1511280" cy="28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36000" y="1832040"/>
            <a:ext cx="165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Dual Platfor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2133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96000" y="1628640"/>
            <a:ext cx="115236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9080" y="16160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Mash-up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83280" y="2205000"/>
            <a:ext cx="576360" cy="216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080" y="2133720"/>
            <a:ext cx="1079280" cy="4316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1:33:13Z</dcterms:created>
  <dc:creator>Tran Alexandre</dc:creator>
  <dc:description/>
  <cp:keywords>Architecture XML OHIM ST.66</cp:keywords>
  <dc:language>en-US</dc:language>
  <cp:lastModifiedBy>tranale</cp:lastModifiedBy>
  <cp:lastPrinted>2003-05-30T07:23:11Z</cp:lastPrinted>
  <dcterms:modified xsi:type="dcterms:W3CDTF">2007-01-29T11:39:41Z</dcterms:modified>
  <cp:revision>1753</cp:revision>
  <dc:subject>OHIM IT Architecture</dc:subject>
  <dc:title>WIPO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RAINING\PresentationPPT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1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