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F90-DC5C-44CF-9047-D5413B77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FC9-3232-4777-9EE1-1BE6D94A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E8C-49DA-4341-960D-608C18C4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26B-F67B-4ECB-B902-23037916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6DC-23C7-4979-904B-87D0D5D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ABC-1D7F-4B2F-AD40-B0A74EC0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D9C-FD7A-4E3E-A33B-177E627B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EC4-D13C-4A95-996E-199DB00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8AB-8F18-41FB-89C2-D8695E1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DC8-FE03-4759-9C3B-E68E4E86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6C9-066B-4D1B-886B-FAA229B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548-3016-44E3-AD4B-7D79BD8E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ff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entury"/>
              </a:rPr>
              <a:t>Japan Paten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B9FA-239B-41CA-B81D-ECFCB029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629400"/>
            <a:ext cx="228600" cy="21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www.wiktionary.org/wiki/Image:Wikipedia-logo.png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PO Optimization Plan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peration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874360" cy="937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mplified system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 unitarily managing the original copies of th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413000"/>
            <a:ext cx="107928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4"/>
            <a:endCxn id="47" idx="7"/>
          </p:cNvCxnSpPr>
          <p:nvPr/>
        </p:nvCxnSpPr>
        <p:spPr>
          <a:xfrm flipH="1">
            <a:off x="1285920" y="2757600"/>
            <a:ext cx="317880" cy="522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48" name=""/>
          <p:cNvGrpSpPr/>
          <p:nvPr/>
        </p:nvGrpSpPr>
        <p:grpSpPr>
          <a:xfrm>
            <a:off x="1509840" y="2224080"/>
            <a:ext cx="610920" cy="639720"/>
            <a:chOff x="1509840" y="2224080"/>
            <a:chExt cx="610920" cy="639720"/>
          </a:xfrm>
        </p:grpSpPr>
        <p:grpSp>
          <p:nvGrpSpPr>
            <p:cNvPr id="49" name=""/>
            <p:cNvGrpSpPr/>
            <p:nvPr/>
          </p:nvGrpSpPr>
          <p:grpSpPr>
            <a:xfrm>
              <a:off x="1509840" y="2224080"/>
              <a:ext cx="610920" cy="639720"/>
              <a:chOff x="1509840" y="2224080"/>
              <a:chExt cx="610920" cy="6397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1280" y="222408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03160" y="2224080"/>
                <a:ext cx="225000" cy="638640"/>
                <a:chOff x="1703160" y="2224080"/>
                <a:chExt cx="225000" cy="6386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703160" y="22240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703160" y="27900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511640" y="2425680"/>
                <a:ext cx="608040" cy="236160"/>
                <a:chOff x="1511640" y="2425680"/>
                <a:chExt cx="608040" cy="236160"/>
              </a:xfrm>
            </p:grpSpPr>
            <p:sp>
              <p:nvSpPr>
                <p:cNvPr id="55" name=""/>
                <p:cNvSpPr/>
                <p:nvPr/>
              </p:nvSpPr>
              <p:spPr>
                <a:xfrm rot="5400000">
                  <a:off x="196704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5400000">
                  <a:off x="142812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517760" y="2245320"/>
                <a:ext cx="597240" cy="596880"/>
                <a:chOff x="1517760" y="2245320"/>
                <a:chExt cx="597240" cy="596880"/>
              </a:xfrm>
            </p:grpSpPr>
            <p:sp>
              <p:nvSpPr>
                <p:cNvPr id="58" name=""/>
                <p:cNvSpPr/>
                <p:nvPr/>
              </p:nvSpPr>
              <p:spPr>
                <a:xfrm rot="2700000">
                  <a:off x="1888920" y="23184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700000">
                  <a:off x="1507680" y="269928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509840" y="2238840"/>
                <a:ext cx="610560" cy="610560"/>
                <a:chOff x="1509840" y="2238840"/>
                <a:chExt cx="610560" cy="610560"/>
              </a:xfrm>
            </p:grpSpPr>
            <p:sp>
              <p:nvSpPr>
                <p:cNvPr id="60" name=""/>
                <p:cNvSpPr/>
                <p:nvPr/>
              </p:nvSpPr>
              <p:spPr>
                <a:xfrm rot="8100000">
                  <a:off x="1902600" y="270756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8100000">
                  <a:off x="1502640" y="23076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>
              <a:off x="1581120" y="229896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00360" y="3268800"/>
            <a:ext cx="610920" cy="639720"/>
            <a:chOff x="900360" y="3268800"/>
            <a:chExt cx="610920" cy="639720"/>
          </a:xfrm>
        </p:grpSpPr>
        <p:grpSp>
          <p:nvGrpSpPr>
            <p:cNvPr id="64" name=""/>
            <p:cNvGrpSpPr/>
            <p:nvPr/>
          </p:nvGrpSpPr>
          <p:grpSpPr>
            <a:xfrm>
              <a:off x="900360" y="3268800"/>
              <a:ext cx="610920" cy="639720"/>
              <a:chOff x="900360" y="3268800"/>
              <a:chExt cx="610920" cy="639720"/>
            </a:xfrm>
          </p:grpSpPr>
          <p:sp>
            <p:nvSpPr>
              <p:cNvPr id="65" name=""/>
              <p:cNvSpPr/>
              <p:nvPr/>
            </p:nvSpPr>
            <p:spPr>
              <a:xfrm>
                <a:off x="901800" y="326880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1093680" y="3268800"/>
                <a:ext cx="225000" cy="638640"/>
                <a:chOff x="1093680" y="3268800"/>
                <a:chExt cx="225000" cy="6386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1093680" y="32688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3680" y="38347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02160" y="3470400"/>
                <a:ext cx="608040" cy="236160"/>
                <a:chOff x="902160" y="3470400"/>
                <a:chExt cx="608040" cy="236160"/>
              </a:xfrm>
            </p:grpSpPr>
            <p:sp>
              <p:nvSpPr>
                <p:cNvPr id="69" name=""/>
                <p:cNvSpPr/>
                <p:nvPr/>
              </p:nvSpPr>
              <p:spPr>
                <a:xfrm rot="5400000">
                  <a:off x="135756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5400000">
                  <a:off x="81864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908280" y="3290040"/>
                <a:ext cx="597240" cy="596880"/>
                <a:chOff x="908280" y="3290040"/>
                <a:chExt cx="597240" cy="596880"/>
              </a:xfrm>
            </p:grpSpPr>
            <p:sp>
              <p:nvSpPr>
                <p:cNvPr id="72" name=""/>
                <p:cNvSpPr/>
                <p:nvPr/>
              </p:nvSpPr>
              <p:spPr>
                <a:xfrm rot="2700000">
                  <a:off x="127944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700000">
                  <a:off x="898200" y="37440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00360" y="3283560"/>
                <a:ext cx="610560" cy="610560"/>
                <a:chOff x="900360" y="3283560"/>
                <a:chExt cx="610560" cy="610560"/>
              </a:xfrm>
            </p:grpSpPr>
            <p:sp>
              <p:nvSpPr>
                <p:cNvPr id="75" name=""/>
                <p:cNvSpPr/>
                <p:nvPr/>
              </p:nvSpPr>
              <p:spPr>
                <a:xfrm rot="8100000">
                  <a:off x="1293120" y="37522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8100000">
                  <a:off x="893160" y="33523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971640" y="334368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10920" y="4314960"/>
            <a:ext cx="609480" cy="637560"/>
            <a:chOff x="1510920" y="4314960"/>
            <a:chExt cx="609480" cy="637560"/>
          </a:xfrm>
        </p:grpSpPr>
        <p:sp>
          <p:nvSpPr>
            <p:cNvPr id="79" name=""/>
            <p:cNvSpPr/>
            <p:nvPr/>
          </p:nvSpPr>
          <p:spPr>
            <a:xfrm>
              <a:off x="1581840" y="4388760"/>
              <a:ext cx="469800" cy="4896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10920" y="4314960"/>
              <a:ext cx="609480" cy="637560"/>
              <a:chOff x="1510920" y="4314960"/>
              <a:chExt cx="609480" cy="637560"/>
            </a:xfrm>
          </p:grpSpPr>
          <p:sp>
            <p:nvSpPr>
              <p:cNvPr id="81" name=""/>
              <p:cNvSpPr/>
              <p:nvPr/>
            </p:nvSpPr>
            <p:spPr>
              <a:xfrm>
                <a:off x="1511280" y="4314960"/>
                <a:ext cx="609120" cy="637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1703160" y="4314960"/>
                <a:ext cx="225000" cy="636120"/>
                <a:chOff x="1703160" y="4314960"/>
                <a:chExt cx="225000" cy="63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703160" y="431496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3160" y="487872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11280" y="4515840"/>
                <a:ext cx="607680" cy="235440"/>
                <a:chOff x="1511280" y="4515840"/>
                <a:chExt cx="607680" cy="235440"/>
              </a:xfrm>
            </p:grpSpPr>
            <p:sp>
              <p:nvSpPr>
                <p:cNvPr id="86" name=""/>
                <p:cNvSpPr/>
                <p:nvPr/>
              </p:nvSpPr>
              <p:spPr>
                <a:xfrm rot="5400000">
                  <a:off x="196668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5400000">
                  <a:off x="142812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517760" y="4335480"/>
                <a:ext cx="596160" cy="596160"/>
                <a:chOff x="1517760" y="4335480"/>
                <a:chExt cx="596160" cy="596160"/>
              </a:xfrm>
            </p:grpSpPr>
            <p:sp>
              <p:nvSpPr>
                <p:cNvPr id="89" name=""/>
                <p:cNvSpPr/>
                <p:nvPr/>
              </p:nvSpPr>
              <p:spPr>
                <a:xfrm rot="2700000">
                  <a:off x="1888560" y="440856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700000">
                  <a:off x="1507680" y="478944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510920" y="4329720"/>
                <a:ext cx="608760" cy="608760"/>
                <a:chOff x="1510920" y="4329720"/>
                <a:chExt cx="608760" cy="608760"/>
              </a:xfrm>
            </p:grpSpPr>
            <p:sp>
              <p:nvSpPr>
                <p:cNvPr id="92" name=""/>
                <p:cNvSpPr/>
                <p:nvPr/>
              </p:nvSpPr>
              <p:spPr>
                <a:xfrm rot="8100000">
                  <a:off x="1901880" y="479700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8100000">
                  <a:off x="1503360" y="439848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" name=""/>
          <p:cNvGrpSpPr/>
          <p:nvPr/>
        </p:nvGrpSpPr>
        <p:grpSpPr>
          <a:xfrm>
            <a:off x="2730240" y="2224080"/>
            <a:ext cx="611280" cy="639720"/>
            <a:chOff x="2730240" y="2224080"/>
            <a:chExt cx="611280" cy="639720"/>
          </a:xfrm>
        </p:grpSpPr>
        <p:grpSp>
          <p:nvGrpSpPr>
            <p:cNvPr id="95" name=""/>
            <p:cNvGrpSpPr/>
            <p:nvPr/>
          </p:nvGrpSpPr>
          <p:grpSpPr>
            <a:xfrm>
              <a:off x="2730240" y="2224080"/>
              <a:ext cx="611280" cy="639720"/>
              <a:chOff x="2730240" y="2224080"/>
              <a:chExt cx="611280" cy="639720"/>
            </a:xfrm>
          </p:grpSpPr>
          <p:sp>
            <p:nvSpPr>
              <p:cNvPr id="96" name=""/>
              <p:cNvSpPr/>
              <p:nvPr/>
            </p:nvSpPr>
            <p:spPr>
              <a:xfrm>
                <a:off x="2730600" y="2224080"/>
                <a:ext cx="61092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923200" y="2224080"/>
                <a:ext cx="225720" cy="638640"/>
                <a:chOff x="2923200" y="2224080"/>
                <a:chExt cx="225720" cy="638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923200" y="222408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23200" y="27900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730600" y="2425680"/>
                <a:ext cx="609840" cy="236160"/>
                <a:chOff x="2730600" y="2425680"/>
                <a:chExt cx="609840" cy="236160"/>
              </a:xfrm>
            </p:grpSpPr>
            <p:sp>
              <p:nvSpPr>
                <p:cNvPr id="101" name=""/>
                <p:cNvSpPr/>
                <p:nvPr/>
              </p:nvSpPr>
              <p:spPr>
                <a:xfrm rot="5400000">
                  <a:off x="318744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400000">
                  <a:off x="264708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737440" y="2244600"/>
                <a:ext cx="597960" cy="598320"/>
                <a:chOff x="2737440" y="2244600"/>
                <a:chExt cx="597960" cy="598320"/>
              </a:xfrm>
            </p:grpSpPr>
            <p:sp>
              <p:nvSpPr>
                <p:cNvPr id="104" name=""/>
                <p:cNvSpPr/>
                <p:nvPr/>
              </p:nvSpPr>
              <p:spPr>
                <a:xfrm rot="2700000">
                  <a:off x="3108960" y="231768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700000">
                  <a:off x="2727000" y="270000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730240" y="2238480"/>
                <a:ext cx="610920" cy="610920"/>
                <a:chOff x="2730240" y="2238480"/>
                <a:chExt cx="610920" cy="610920"/>
              </a:xfrm>
            </p:grpSpPr>
            <p:sp>
              <p:nvSpPr>
                <p:cNvPr id="107" name=""/>
                <p:cNvSpPr/>
                <p:nvPr/>
              </p:nvSpPr>
              <p:spPr>
                <a:xfrm rot="8100000">
                  <a:off x="3122640" y="270756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8100000">
                  <a:off x="2722680" y="23076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2800800" y="2298960"/>
              <a:ext cx="47124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3146400"/>
            <a:ext cx="779400" cy="811080"/>
            <a:chOff x="2036880" y="3146400"/>
            <a:chExt cx="779400" cy="811080"/>
          </a:xfrm>
        </p:grpSpPr>
        <p:grpSp>
          <p:nvGrpSpPr>
            <p:cNvPr id="111" name=""/>
            <p:cNvGrpSpPr/>
            <p:nvPr/>
          </p:nvGrpSpPr>
          <p:grpSpPr>
            <a:xfrm>
              <a:off x="2036880" y="3146400"/>
              <a:ext cx="779400" cy="811080"/>
              <a:chOff x="2036880" y="3146400"/>
              <a:chExt cx="779400" cy="81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036880" y="3146400"/>
                <a:ext cx="779400" cy="81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282400" y="3146400"/>
                <a:ext cx="287640" cy="809280"/>
                <a:chOff x="2282400" y="3146400"/>
                <a:chExt cx="287640" cy="809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82400" y="314640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82400" y="386352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36880" y="3402000"/>
                <a:ext cx="777600" cy="299520"/>
                <a:chOff x="2036880" y="3402000"/>
                <a:chExt cx="777600" cy="299520"/>
              </a:xfrm>
            </p:grpSpPr>
            <p:sp>
              <p:nvSpPr>
                <p:cNvPr id="117" name=""/>
                <p:cNvSpPr/>
                <p:nvPr/>
              </p:nvSpPr>
              <p:spPr>
                <a:xfrm rot="5400000">
                  <a:off x="262044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00000">
                  <a:off x="193140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045880" y="3170880"/>
                <a:ext cx="761760" cy="761760"/>
                <a:chOff x="2045880" y="3170880"/>
                <a:chExt cx="761760" cy="761760"/>
              </a:xfrm>
            </p:grpSpPr>
            <p:sp>
              <p:nvSpPr>
                <p:cNvPr id="120" name=""/>
                <p:cNvSpPr/>
                <p:nvPr/>
              </p:nvSpPr>
              <p:spPr>
                <a:xfrm rot="2700000">
                  <a:off x="2520720" y="326376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700000">
                  <a:off x="2033280" y="375120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038320" y="3165120"/>
                <a:ext cx="775440" cy="775440"/>
                <a:chOff x="2038320" y="3165120"/>
                <a:chExt cx="775440" cy="775440"/>
              </a:xfrm>
            </p:grpSpPr>
            <p:sp>
              <p:nvSpPr>
                <p:cNvPr id="123" name=""/>
                <p:cNvSpPr/>
                <p:nvPr/>
              </p:nvSpPr>
              <p:spPr>
                <a:xfrm rot="8100000">
                  <a:off x="2535480" y="375984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8100000">
                  <a:off x="2028600" y="325296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126160" y="3241440"/>
              <a:ext cx="601200" cy="62244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rigi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pie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30600" y="4314960"/>
            <a:ext cx="796680" cy="822240"/>
            <a:chOff x="2730600" y="4314960"/>
            <a:chExt cx="796680" cy="822240"/>
          </a:xfrm>
        </p:grpSpPr>
        <p:grpSp>
          <p:nvGrpSpPr>
            <p:cNvPr id="127" name=""/>
            <p:cNvGrpSpPr/>
            <p:nvPr/>
          </p:nvGrpSpPr>
          <p:grpSpPr>
            <a:xfrm>
              <a:off x="2730600" y="4314960"/>
              <a:ext cx="796680" cy="822240"/>
              <a:chOff x="2730600" y="4314960"/>
              <a:chExt cx="796680" cy="822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730600" y="4314960"/>
                <a:ext cx="796680" cy="82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981520" y="4314960"/>
                <a:ext cx="294120" cy="820440"/>
                <a:chOff x="2981520" y="4314960"/>
                <a:chExt cx="294120" cy="820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981520" y="43149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81520" y="50421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730600" y="4574160"/>
                <a:ext cx="794880" cy="303480"/>
                <a:chOff x="2730600" y="4574160"/>
                <a:chExt cx="794880" cy="303480"/>
              </a:xfrm>
            </p:grpSpPr>
            <p:sp>
              <p:nvSpPr>
                <p:cNvPr id="133" name=""/>
                <p:cNvSpPr/>
                <p:nvPr/>
              </p:nvSpPr>
              <p:spPr>
                <a:xfrm rot="5400000">
                  <a:off x="332856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5400000">
                  <a:off x="262404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41040" y="4337640"/>
                <a:ext cx="776520" cy="776520"/>
                <a:chOff x="2741040" y="4337640"/>
                <a:chExt cx="776520" cy="776520"/>
              </a:xfrm>
            </p:grpSpPr>
            <p:sp>
              <p:nvSpPr>
                <p:cNvPr id="136" name=""/>
                <p:cNvSpPr/>
                <p:nvPr/>
              </p:nvSpPr>
              <p:spPr>
                <a:xfrm rot="2700000">
                  <a:off x="3226320" y="443160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00000">
                  <a:off x="2728080" y="492948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34200" y="4332600"/>
                <a:ext cx="788040" cy="788040"/>
                <a:chOff x="2734200" y="4332600"/>
                <a:chExt cx="788040" cy="788040"/>
              </a:xfrm>
            </p:grpSpPr>
            <p:sp>
              <p:nvSpPr>
                <p:cNvPr id="139" name=""/>
                <p:cNvSpPr/>
                <p:nvPr/>
              </p:nvSpPr>
              <p:spPr>
                <a:xfrm rot="8100000">
                  <a:off x="3238200" y="493668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8100000">
                  <a:off x="2724120" y="442260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2822040" y="4411080"/>
              <a:ext cx="614520" cy="63108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41160" y="3268800"/>
            <a:ext cx="610560" cy="639720"/>
            <a:chOff x="3341160" y="3268800"/>
            <a:chExt cx="610560" cy="639720"/>
          </a:xfrm>
        </p:grpSpPr>
        <p:grpSp>
          <p:nvGrpSpPr>
            <p:cNvPr id="143" name=""/>
            <p:cNvGrpSpPr/>
            <p:nvPr/>
          </p:nvGrpSpPr>
          <p:grpSpPr>
            <a:xfrm>
              <a:off x="3341160" y="3268800"/>
              <a:ext cx="610560" cy="639720"/>
              <a:chOff x="3341160" y="3268800"/>
              <a:chExt cx="610560" cy="63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341520" y="3268800"/>
                <a:ext cx="60984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533760" y="3268800"/>
                <a:ext cx="225360" cy="638640"/>
                <a:chOff x="3533760" y="3268800"/>
                <a:chExt cx="225360" cy="638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33760" y="326880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33760" y="38347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341520" y="3470400"/>
                <a:ext cx="608400" cy="236160"/>
                <a:chOff x="3341520" y="3470400"/>
                <a:chExt cx="608400" cy="23616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379728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325800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7640" y="3290040"/>
                <a:ext cx="597600" cy="597240"/>
                <a:chOff x="3347640" y="3290040"/>
                <a:chExt cx="597600" cy="597240"/>
              </a:xfrm>
            </p:grpSpPr>
            <p:sp>
              <p:nvSpPr>
                <p:cNvPr id="152" name=""/>
                <p:cNvSpPr/>
                <p:nvPr/>
              </p:nvSpPr>
              <p:spPr>
                <a:xfrm rot="2700000">
                  <a:off x="371916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700000">
                  <a:off x="3337560" y="374436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41160" y="3283200"/>
                <a:ext cx="610560" cy="610920"/>
                <a:chOff x="3341160" y="3283200"/>
                <a:chExt cx="610560" cy="610920"/>
              </a:xfrm>
            </p:grpSpPr>
            <p:sp>
              <p:nvSpPr>
                <p:cNvPr id="155" name=""/>
                <p:cNvSpPr/>
                <p:nvPr/>
              </p:nvSpPr>
              <p:spPr>
                <a:xfrm rot="8100000">
                  <a:off x="3733560" y="37519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8100000">
                  <a:off x="3333600" y="335196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411360" y="3343680"/>
              <a:ext cx="47052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46" idx="1"/>
            <a:endCxn id="107" idx="0"/>
          </p:cNvCxnSpPr>
          <p:nvPr/>
        </p:nvCxnSpPr>
        <p:spPr>
          <a:xfrm flipH="1" flipV="1">
            <a:off x="3260520" y="2766600"/>
            <a:ext cx="306720" cy="513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47" idx="3"/>
            <a:endCxn id="136" idx="1"/>
          </p:cNvCxnSpPr>
          <p:nvPr/>
        </p:nvCxnSpPr>
        <p:spPr>
          <a:xfrm flipH="1">
            <a:off x="3323520" y="3895200"/>
            <a:ext cx="243720" cy="483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67" idx="5"/>
            <a:endCxn id="93" idx="4"/>
          </p:cNvCxnSpPr>
          <p:nvPr/>
        </p:nvCxnSpPr>
        <p:spPr>
          <a:xfrm>
            <a:off x="1285920" y="3895200"/>
            <a:ext cx="303840" cy="513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86" idx="7"/>
            <a:endCxn id="134" idx="5"/>
          </p:cNvCxnSpPr>
          <p:nvPr/>
        </p:nvCxnSpPr>
        <p:spPr>
          <a:xfrm>
            <a:off x="2109600" y="4716000"/>
            <a:ext cx="635400" cy="118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55" idx="1"/>
            <a:endCxn id="102" idx="3"/>
          </p:cNvCxnSpPr>
          <p:nvPr/>
        </p:nvCxnSpPr>
        <p:spPr>
          <a:xfrm>
            <a:off x="2111040" y="2458800"/>
            <a:ext cx="63108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14" idx="1"/>
            <a:endCxn id="60" idx="0"/>
          </p:cNvCxnSpPr>
          <p:nvPr/>
        </p:nvCxnSpPr>
        <p:spPr>
          <a:xfrm flipH="1" flipV="1">
            <a:off x="2039400" y="2768400"/>
            <a:ext cx="286560" cy="390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4" name=""/>
          <p:cNvCxnSpPr>
            <a:stCxn id="105" idx="4"/>
            <a:endCxn id="114" idx="7"/>
          </p:cNvCxnSpPr>
          <p:nvPr/>
        </p:nvCxnSpPr>
        <p:spPr>
          <a:xfrm flipH="1">
            <a:off x="2526840" y="2758680"/>
            <a:ext cx="29448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5" name=""/>
          <p:cNvCxnSpPr>
            <a:stCxn id="120" idx="1"/>
            <a:endCxn id="105" idx="5"/>
          </p:cNvCxnSpPr>
          <p:nvPr/>
        </p:nvCxnSpPr>
        <p:spPr>
          <a:xfrm flipV="1">
            <a:off x="2617560" y="2809080"/>
            <a:ext cx="26892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6" name=""/>
          <p:cNvCxnSpPr>
            <a:stCxn id="60" idx="7"/>
            <a:endCxn id="124" idx="3"/>
          </p:cNvCxnSpPr>
          <p:nvPr/>
        </p:nvCxnSpPr>
        <p:spPr>
          <a:xfrm>
            <a:off x="1974960" y="2817360"/>
            <a:ext cx="248400" cy="384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7" name=""/>
          <p:cNvCxnSpPr>
            <a:stCxn id="117" idx="7"/>
            <a:endCxn id="150" idx="5"/>
          </p:cNvCxnSpPr>
          <p:nvPr/>
        </p:nvCxnSpPr>
        <p:spPr>
          <a:xfrm>
            <a:off x="2801520" y="3657600"/>
            <a:ext cx="5533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8" name=""/>
          <p:cNvCxnSpPr>
            <a:stCxn id="150" idx="4"/>
            <a:endCxn id="117" idx="0"/>
          </p:cNvCxnSpPr>
          <p:nvPr/>
        </p:nvCxnSpPr>
        <p:spPr>
          <a:xfrm flipH="1" flipV="1">
            <a:off x="2815920" y="3550680"/>
            <a:ext cx="52920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69" idx="7"/>
            <a:endCxn id="118" idx="5"/>
          </p:cNvCxnSpPr>
          <p:nvPr/>
        </p:nvCxnSpPr>
        <p:spPr>
          <a:xfrm flipV="1">
            <a:off x="1501560" y="3657240"/>
            <a:ext cx="5497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0" name=""/>
          <p:cNvCxnSpPr>
            <a:stCxn id="118" idx="4"/>
            <a:endCxn id="69" idx="0"/>
          </p:cNvCxnSpPr>
          <p:nvPr/>
        </p:nvCxnSpPr>
        <p:spPr>
          <a:xfrm flipH="1">
            <a:off x="1512360" y="3551040"/>
            <a:ext cx="52632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1" name=""/>
          <p:cNvCxnSpPr>
            <a:stCxn id="93" idx="3"/>
            <a:endCxn id="75" idx="7"/>
          </p:cNvCxnSpPr>
          <p:nvPr/>
        </p:nvCxnSpPr>
        <p:spPr>
          <a:xfrm flipH="1" flipV="1">
            <a:off x="1364760" y="3862080"/>
            <a:ext cx="289440" cy="497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2" name=""/>
          <p:cNvCxnSpPr>
            <a:stCxn id="134" idx="4"/>
            <a:endCxn id="86" idx="0"/>
          </p:cNvCxnSpPr>
          <p:nvPr/>
        </p:nvCxnSpPr>
        <p:spPr>
          <a:xfrm flipH="1" flipV="1">
            <a:off x="2120400" y="4633560"/>
            <a:ext cx="612000" cy="94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3" name=""/>
          <p:cNvCxnSpPr>
            <a:stCxn id="53" idx="4"/>
            <a:endCxn id="83" idx="0"/>
          </p:cNvCxnSpPr>
          <p:nvPr/>
        </p:nvCxnSpPr>
        <p:spPr>
          <a:xfrm>
            <a:off x="1815840" y="2862000"/>
            <a:ext cx="10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4" name=""/>
          <p:cNvCxnSpPr>
            <a:stCxn id="89" idx="7"/>
            <a:endCxn id="153" idx="5"/>
          </p:cNvCxnSpPr>
          <p:nvPr/>
        </p:nvCxnSpPr>
        <p:spPr>
          <a:xfrm flipV="1">
            <a:off x="2084040" y="3852000"/>
            <a:ext cx="1415160" cy="63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53" idx="4"/>
            <a:endCxn id="89" idx="0"/>
          </p:cNvCxnSpPr>
          <p:nvPr/>
        </p:nvCxnSpPr>
        <p:spPr>
          <a:xfrm flipH="1">
            <a:off x="2031480" y="3801600"/>
            <a:ext cx="1402560" cy="61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07" idx="1"/>
            <a:endCxn id="146" idx="0"/>
          </p:cNvCxnSpPr>
          <p:nvPr/>
        </p:nvCxnSpPr>
        <p:spPr>
          <a:xfrm>
            <a:off x="3309480" y="2703600"/>
            <a:ext cx="337320" cy="565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36" idx="0"/>
            <a:endCxn id="147" idx="4"/>
          </p:cNvCxnSpPr>
          <p:nvPr/>
        </p:nvCxnSpPr>
        <p:spPr>
          <a:xfrm flipV="1">
            <a:off x="3409560" y="3906000"/>
            <a:ext cx="237240" cy="538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23" idx="7"/>
            <a:endCxn id="140" idx="3"/>
          </p:cNvCxnSpPr>
          <p:nvPr/>
        </p:nvCxnSpPr>
        <p:spPr>
          <a:xfrm>
            <a:off x="2630160" y="3898440"/>
            <a:ext cx="292680" cy="475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30" idx="1"/>
            <a:endCxn id="123" idx="0"/>
          </p:cNvCxnSpPr>
          <p:nvPr/>
        </p:nvCxnSpPr>
        <p:spPr>
          <a:xfrm flipH="1" flipV="1">
            <a:off x="2710800" y="3836160"/>
            <a:ext cx="313560" cy="492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21" idx="4"/>
            <a:endCxn id="83" idx="7"/>
          </p:cNvCxnSpPr>
          <p:nvPr/>
        </p:nvCxnSpPr>
        <p:spPr>
          <a:xfrm flipH="1">
            <a:off x="1895400" y="3825360"/>
            <a:ext cx="255960" cy="500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89" idx="1"/>
            <a:endCxn id="121" idx="5"/>
          </p:cNvCxnSpPr>
          <p:nvPr/>
        </p:nvCxnSpPr>
        <p:spPr>
          <a:xfrm flipV="1">
            <a:off x="1965240" y="3890520"/>
            <a:ext cx="270720" cy="473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99" idx="4"/>
            <a:endCxn id="130" idx="0"/>
          </p:cNvCxnSpPr>
          <p:nvPr/>
        </p:nvCxnSpPr>
        <p:spPr>
          <a:xfrm>
            <a:off x="3036960" y="2862000"/>
            <a:ext cx="928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3" name=""/>
          <p:cNvCxnSpPr>
            <a:stCxn id="130" idx="7"/>
            <a:endCxn id="99" idx="5"/>
          </p:cNvCxnSpPr>
          <p:nvPr/>
        </p:nvCxnSpPr>
        <p:spPr>
          <a:xfrm flipH="1" flipV="1">
            <a:off x="3115440" y="2850480"/>
            <a:ext cx="118440" cy="1478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84" name=""/>
          <p:cNvGrpSpPr/>
          <p:nvPr/>
        </p:nvGrpSpPr>
        <p:grpSpPr>
          <a:xfrm>
            <a:off x="1116000" y="2060640"/>
            <a:ext cx="433440" cy="431640"/>
            <a:chOff x="1116000" y="2060640"/>
            <a:chExt cx="433440" cy="431640"/>
          </a:xfrm>
        </p:grpSpPr>
        <p:sp>
          <p:nvSpPr>
            <p:cNvPr id="185" name=""/>
            <p:cNvSpPr/>
            <p:nvPr/>
          </p:nvSpPr>
          <p:spPr>
            <a:xfrm>
              <a:off x="1116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38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40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1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2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4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45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8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9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1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2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4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5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8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8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9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9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9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9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39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9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9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9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9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9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9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9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96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6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6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6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6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6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96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6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96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6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6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6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9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6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0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0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0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0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70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29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9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39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39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9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9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9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68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8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68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8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8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68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68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8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68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38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8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38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6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16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6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16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16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17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17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17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7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7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6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8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9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02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07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8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42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1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0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1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03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8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3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2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41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3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6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08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4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3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2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6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5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08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09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4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0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4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2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76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5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08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08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4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9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44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2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3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7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4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58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9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2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98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19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1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1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84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4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49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4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5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9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6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00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2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2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1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26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32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1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9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2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9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1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3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6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71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3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9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74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0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3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23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16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29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23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5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02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5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8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02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5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84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77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9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84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6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6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8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1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6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28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66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59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2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66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89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6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39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52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6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9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5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17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0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5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7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80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3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87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10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52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5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7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2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74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60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4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1280" y="3068640"/>
            <a:ext cx="431640" cy="431640"/>
            <a:chOff x="611280" y="3068640"/>
            <a:chExt cx="431640" cy="431640"/>
          </a:xfrm>
        </p:grpSpPr>
        <p:sp>
          <p:nvSpPr>
            <p:cNvPr id="440" name=""/>
            <p:cNvSpPr/>
            <p:nvPr/>
          </p:nvSpPr>
          <p:spPr>
            <a:xfrm>
              <a:off x="611640" y="3068640"/>
              <a:ext cx="4312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3320" y="3071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120" y="3071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6200" y="3072240"/>
              <a:ext cx="3528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7640" y="3072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080" y="3073320"/>
              <a:ext cx="3240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20" y="3073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1960" y="3074760"/>
              <a:ext cx="2916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3400" y="3074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4480" y="3075120"/>
              <a:ext cx="2664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280" y="3075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7360" y="3076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9160" y="3076200"/>
              <a:ext cx="2160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0240" y="3076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040" y="3077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48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3320" y="3273840"/>
              <a:ext cx="27828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3320" y="3273840"/>
              <a:ext cx="26316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3320" y="3273840"/>
              <a:ext cx="24804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3680" y="3273840"/>
              <a:ext cx="23256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3680" y="3273840"/>
              <a:ext cx="21744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680" y="3273840"/>
              <a:ext cx="20232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4400" y="3273840"/>
              <a:ext cx="18684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400" y="3273840"/>
              <a:ext cx="17136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4400" y="3273840"/>
              <a:ext cx="1566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400" y="3273840"/>
              <a:ext cx="1411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4400" y="3273840"/>
              <a:ext cx="12600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4400" y="3273840"/>
              <a:ext cx="11052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400" y="327384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760" y="3273840"/>
              <a:ext cx="7992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4760" y="3273840"/>
              <a:ext cx="6444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90000" y="3090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0000" y="3104640"/>
              <a:ext cx="4068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0000" y="3118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000" y="3131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0000" y="3145680"/>
              <a:ext cx="3708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3159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000" y="3173040"/>
              <a:ext cx="3456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0000" y="3186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0000" y="3200760"/>
              <a:ext cx="3204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000" y="3214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000" y="3227760"/>
              <a:ext cx="2952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0000" y="3241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000" y="3255120"/>
              <a:ext cx="2700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000" y="3268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000" y="3282840"/>
              <a:ext cx="2448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440" y="3289320"/>
              <a:ext cx="19080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4000" y="3291480"/>
              <a:ext cx="18972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1040" y="3092040"/>
              <a:ext cx="24372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4800" y="3328560"/>
              <a:ext cx="4572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64800" y="3328560"/>
              <a:ext cx="4536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64800" y="332892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64800" y="332892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4800" y="3329640"/>
              <a:ext cx="4536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340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760" y="3296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4760" y="3296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4760" y="3296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4760" y="3297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760" y="3297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4760" y="3297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760" y="3297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3336840"/>
              <a:ext cx="4572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3337200"/>
              <a:ext cx="4572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333720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337920"/>
              <a:ext cx="4536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2640" y="3338640"/>
              <a:ext cx="4536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62640" y="333900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2640" y="3339000"/>
              <a:ext cx="4536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2640" y="333936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2640" y="3339720"/>
              <a:ext cx="4536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960" y="3302640"/>
              <a:ext cx="3780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2960" y="3303000"/>
              <a:ext cx="3780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2960" y="3303000"/>
              <a:ext cx="3780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2960" y="3304080"/>
              <a:ext cx="3780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2960" y="3304440"/>
              <a:ext cx="3744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960" y="3304440"/>
              <a:ext cx="3744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2960" y="3304800"/>
              <a:ext cx="3744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1640" y="3412440"/>
              <a:ext cx="33732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280" y="3406320"/>
              <a:ext cx="34164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640" y="3406680"/>
              <a:ext cx="34056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640" y="3406680"/>
              <a:ext cx="34020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1640" y="3407040"/>
              <a:ext cx="33984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2000" y="3407400"/>
              <a:ext cx="33876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2000" y="3408120"/>
              <a:ext cx="33840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2360" y="3408120"/>
              <a:ext cx="33768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2360" y="3408480"/>
              <a:ext cx="33732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2360" y="3408840"/>
              <a:ext cx="33624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720" y="3408840"/>
              <a:ext cx="33552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3080" y="3409200"/>
              <a:ext cx="33480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080" y="3409560"/>
              <a:ext cx="10512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3200" y="3423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480" y="342036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7040" y="343008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0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732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640" y="3456720"/>
              <a:ext cx="792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656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584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536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920" y="3420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8480" y="3430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280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804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64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620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896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44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100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352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400" y="3435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44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728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112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988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280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388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948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80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872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64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2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988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280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352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876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444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872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764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240" y="3410280"/>
              <a:ext cx="5652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204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8960" y="3414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76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" y="3383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6680" y="3367440"/>
              <a:ext cx="7308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2440" y="3385080"/>
              <a:ext cx="1620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68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5800" y="3395160"/>
              <a:ext cx="1584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492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5880" y="3382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868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924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412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972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064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480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1840" y="3354840"/>
              <a:ext cx="1008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516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400" y="3332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12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48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1800" y="33480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200" y="33325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45360" y="3361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73440" y="3354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65880" y="3366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4120" y="332064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572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12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72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4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5240" y="3357720"/>
              <a:ext cx="36792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76680" y="3349080"/>
              <a:ext cx="3780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9600" y="3312360"/>
              <a:ext cx="6480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54720" y="3376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37800" y="3382920"/>
              <a:ext cx="3996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7280" y="3380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10440" y="3370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340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7280" y="3355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9960" y="3352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712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56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02520" y="3361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9712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1908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3364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83800" y="3358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76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0720" y="3345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100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44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04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0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29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112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392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52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112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344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1320" y="336816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120" y="3358440"/>
              <a:ext cx="1620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67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1320" y="334368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3640" y="3340800"/>
              <a:ext cx="1620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9720" y="3364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2160" y="3355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1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9720" y="3340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20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228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5440" y="3349080"/>
              <a:ext cx="1656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768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228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4600" y="3330720"/>
              <a:ext cx="1656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000" y="3353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016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240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7000" y="3328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32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560" y="3068640"/>
              <a:ext cx="27756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9720" y="3310920"/>
              <a:ext cx="28044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132000" y="4797360"/>
            <a:ext cx="436680" cy="431640"/>
            <a:chOff x="3132000" y="4797360"/>
            <a:chExt cx="436680" cy="431640"/>
          </a:xfrm>
        </p:grpSpPr>
        <p:sp>
          <p:nvSpPr>
            <p:cNvPr id="695" name=""/>
            <p:cNvSpPr/>
            <p:nvPr/>
          </p:nvSpPr>
          <p:spPr>
            <a:xfrm>
              <a:off x="3132360" y="4797360"/>
              <a:ext cx="43632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55480" y="4800240"/>
              <a:ext cx="3888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57280" y="4800600"/>
              <a:ext cx="3708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58360" y="480132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9800" y="480168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6160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62680" y="480240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6448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5560" y="4803480"/>
              <a:ext cx="2844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6700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68440" y="480420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9880" y="480492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168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72760" y="480564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74560" y="4806000"/>
              <a:ext cx="1908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564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55480" y="500292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5480" y="500292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55480" y="500292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55840" y="500292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5840" y="500292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5840" y="500292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6560" y="500292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56560" y="500292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56560" y="500292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6560" y="5002920"/>
              <a:ext cx="14292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6560" y="500292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56560" y="500292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56560" y="500292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56920" y="500292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56920" y="500292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15040" y="481968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15040" y="4833360"/>
              <a:ext cx="4140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15040" y="484704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15040" y="4860360"/>
              <a:ext cx="3888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504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15040" y="488808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504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5040" y="4915440"/>
              <a:ext cx="3384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504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5040" y="494316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504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5040" y="497016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504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15040" y="4997520"/>
              <a:ext cx="2628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504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97960" y="501804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96520" y="502020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3560" y="482076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89480" y="505728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89480" y="505728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89480" y="50580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89480" y="505800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89480" y="505872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4772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56920" y="502524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56920" y="502524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56920" y="50256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6920" y="5025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56920" y="502632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56920" y="502632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56920" y="502668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87320" y="506592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7320" y="506628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87320" y="50662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87320" y="50670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87320" y="506736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87320" y="5068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87320" y="50680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87320" y="506844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7320" y="506880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5512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5512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5512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5512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512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5512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2360" y="514116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32000" y="513504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32360" y="513540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32360" y="513540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360" y="513612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13648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32720" y="513684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3080" y="513684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33080" y="513720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33080" y="513792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33440" y="513792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33800" y="513828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42880" y="513864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5720" y="515304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6700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2028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532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1020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0552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25872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5800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8788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68080" y="51494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1360" y="515952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2568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1092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624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25980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5836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148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060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2388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2640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11280" y="516420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0732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6052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5944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9364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7240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568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676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1236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768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6088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980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364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240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2640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0732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6088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5980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0760" y="513900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456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91480" y="514404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528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87160" y="511236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19560" y="509616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1676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3800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8084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5924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99840" y="511164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0120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8176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6664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5188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3244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1660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0364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1696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9200" y="506124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4828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4396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640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36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70040" y="509076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98480" y="50832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90920" y="509544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6664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824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8104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9364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8824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1092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35960" y="508680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0172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1040" y="504144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79400" y="510552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2120" y="511200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1600" y="5108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34760" y="5099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4772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41600" y="508500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4280" y="50814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108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135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26480" y="509004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2108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4340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0272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95160" y="509328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07760" y="508716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272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25040" y="507492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388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1632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892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388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462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847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775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901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847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0740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45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736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99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45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872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42600" y="5093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35400" y="5084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483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42600" y="50695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6528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516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9796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1056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0516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2784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69520" y="508176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232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492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69520" y="505800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9220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77080" y="479736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51880" y="5040000"/>
              <a:ext cx="28368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332000" y="4797360"/>
            <a:ext cx="433440" cy="431640"/>
            <a:chOff x="1332000" y="4797360"/>
            <a:chExt cx="433440" cy="431640"/>
          </a:xfrm>
        </p:grpSpPr>
        <p:sp>
          <p:nvSpPr>
            <p:cNvPr id="950" name=""/>
            <p:cNvSpPr/>
            <p:nvPr/>
          </p:nvSpPr>
          <p:spPr>
            <a:xfrm>
              <a:off x="1332360" y="4797360"/>
              <a:ext cx="43308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54760" y="4800240"/>
              <a:ext cx="3852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6200" y="4800600"/>
              <a:ext cx="3672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57640" y="480132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58720" y="480168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6052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61600" y="480240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6340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64480" y="4803480"/>
              <a:ext cx="2808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6592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67720" y="480420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68800" y="480492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7060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71680" y="480564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3480" y="4806000"/>
              <a:ext cx="1872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456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54760" y="500292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54760" y="500292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54760" y="500292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55120" y="500292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55120" y="500292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55120" y="500292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55480" y="500292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55480" y="500292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55480" y="500292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5480" y="5002920"/>
              <a:ext cx="14184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55480" y="500292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55480" y="500292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55480" y="500292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55840" y="500292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55840" y="500292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2160" y="481968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2160" y="4833360"/>
              <a:ext cx="4104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12160" y="484704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12160" y="4860360"/>
              <a:ext cx="3852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1216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12160" y="488808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1216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2160" y="4915440"/>
              <a:ext cx="3348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1216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12160" y="494316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216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12160" y="497016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1216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12160" y="4997520"/>
              <a:ext cx="2592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216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96880" y="501804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95440" y="502020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82480" y="482076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86960" y="505728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86960" y="505728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86960" y="50580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86960" y="505800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86960" y="505872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4520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55840" y="502524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55840" y="502524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55840" y="502560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55840" y="502596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55840" y="502632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55840" y="502632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55840" y="502668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84800" y="506592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84800" y="506628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84800" y="506628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84800" y="506700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84800" y="506736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84800" y="5068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84800" y="506808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84800" y="506844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84800" y="506880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440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5440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5440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440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5440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5440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5440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32360" y="514116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32000" y="513504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32360" y="513540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32360" y="513540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32360" y="513612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2720" y="513648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2720" y="513684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33080" y="513684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33080" y="513720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3080" y="513792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3440" y="513792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3800" y="513828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2160" y="513864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84640" y="515304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6592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1884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388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0876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0408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5800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5728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8680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67000" y="514944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19920" y="5159520"/>
              <a:ext cx="1548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424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0948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0516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5872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5764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904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6952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2244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496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10200" y="516420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588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5944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5836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9256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7132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424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2532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1092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0624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016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872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9256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7132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424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2496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1056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588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6016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5872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89680" y="513900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7348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490400" y="514404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420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85720" y="511236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18480" y="509616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460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3548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7796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5672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97680" y="511164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0012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48032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6556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5080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3172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588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0292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1624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28480" y="506124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3856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56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4288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3532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4828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67520" y="509076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508320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88040" y="509544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6556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8716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996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256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8716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0948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35960" y="508680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884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90680" y="504144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76880" y="510552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59960" y="511200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39440" y="5108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32240" y="5099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4520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39440" y="508500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61760" y="508140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1892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117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24320" y="509004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1892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124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0056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93360" y="509328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05600" y="508716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0056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2880" y="50749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244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1488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2748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244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444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829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757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883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829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0524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627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5592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681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27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854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41160" y="5093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33600" y="5084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465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41160" y="5069520"/>
              <a:ext cx="1800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6384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0372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9688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0912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0372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640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468440" y="508176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6124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7384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68440" y="505800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9076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76000" y="479736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50800" y="5040000"/>
              <a:ext cx="28152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708360" y="3068640"/>
            <a:ext cx="436680" cy="431640"/>
            <a:chOff x="3708360" y="3068640"/>
            <a:chExt cx="436680" cy="431640"/>
          </a:xfrm>
        </p:grpSpPr>
        <p:sp>
          <p:nvSpPr>
            <p:cNvPr id="1205" name=""/>
            <p:cNvSpPr/>
            <p:nvPr/>
          </p:nvSpPr>
          <p:spPr>
            <a:xfrm>
              <a:off x="3708720" y="3068640"/>
              <a:ext cx="43632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1840" y="3071520"/>
              <a:ext cx="3888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33640" y="3071880"/>
              <a:ext cx="3708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34720" y="307224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160" y="307296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37960" y="3073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39040" y="307368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40840" y="3074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41920" y="3074760"/>
              <a:ext cx="2844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43360" y="3075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4800" y="307548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46240" y="307620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8040" y="3076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49120" y="307692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0920" y="3077280"/>
              <a:ext cx="1908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5200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31840" y="327384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31840" y="327384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31840" y="327384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32200" y="327384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32200" y="327384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2200" y="327384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32920" y="327384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32920" y="327384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2920" y="327384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832920" y="3273840"/>
              <a:ext cx="1429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32920" y="327384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32920" y="327384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32920" y="327384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33280" y="327384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280" y="327384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91400" y="309096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91400" y="3104640"/>
              <a:ext cx="4140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91400" y="311832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91400" y="3131640"/>
              <a:ext cx="3888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91400" y="3145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91400" y="315936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91400" y="3173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91400" y="3186720"/>
              <a:ext cx="3384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91400" y="3200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91400" y="321408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91400" y="3227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91400" y="324108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091400" y="3255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91400" y="3268800"/>
              <a:ext cx="2628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91400" y="3282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74320" y="328932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72880" y="329148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59920" y="309204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65840" y="332856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65840" y="332856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065840" y="33289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65840" y="332892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65840" y="332964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02408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33280" y="329616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33280" y="329616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33280" y="329652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33280" y="329724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833280" y="329760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33280" y="329760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33280" y="329796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63680" y="333684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63680" y="333720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3680" y="33372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63680" y="333792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63680" y="333864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63680" y="333900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063680" y="333900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3680" y="333936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63680" y="333972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1480" y="3302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1480" y="3303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31480" y="3303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31480" y="3304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31480" y="3304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31480" y="3304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31480" y="3304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08720" y="341244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340632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08720" y="340668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08720" y="340668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08720" y="340704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09080" y="340740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09080" y="340812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09440" y="340812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09440" y="340848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09440" y="340884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09800" y="340884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0160" y="340920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19240" y="340956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62080" y="342396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43360" y="3420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96640" y="3430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016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8656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81880" y="3456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3508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3436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6424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44440" y="342036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97720" y="3430440"/>
              <a:ext cx="1584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204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8728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8260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3616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3472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6784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4696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0024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90276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87640" y="3435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8368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3688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3580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7000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4876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204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12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8872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8404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3724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3616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7000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4876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0204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0276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800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8368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3724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616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67120" y="341028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092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7840" y="341496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5164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63520" y="338364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5920" y="336744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93120" y="3385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1436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57200" y="3395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560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76200" y="338256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756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5812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4300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2824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0880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9296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80000" y="3354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9332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05560" y="333252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1564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2464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20320" y="3348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276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720" y="3332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46400" y="336168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4840" y="335412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67280" y="336636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43000" y="3320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5740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7000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6460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728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2320" y="335772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78080" y="3349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67400" y="331236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55760" y="337644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8480" y="338292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17960" y="338004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11120" y="337068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2408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17960" y="335592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40640" y="335268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9744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98988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02840" y="336132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9744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1976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7908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971520" y="336420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84120" y="335808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7908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01400" y="334584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0024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9268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90528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0024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9225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108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95388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6648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96108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98376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40920" y="3368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933720" y="3358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9463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940920" y="3343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63600" y="3340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18960" y="3364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11760" y="3355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247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918960" y="3340800"/>
              <a:ext cx="1836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416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152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74320" y="3349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8692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88152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904200" y="3330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45880" y="335304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3868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5128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45880" y="332892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6856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3440" y="306864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28240" y="3310920"/>
              <a:ext cx="28368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348000" y="2060640"/>
            <a:ext cx="433440" cy="431640"/>
            <a:chOff x="3348000" y="2060640"/>
            <a:chExt cx="433440" cy="431640"/>
          </a:xfrm>
        </p:grpSpPr>
        <p:sp>
          <p:nvSpPr>
            <p:cNvPr id="1460" name=""/>
            <p:cNvSpPr/>
            <p:nvPr/>
          </p:nvSpPr>
          <p:spPr>
            <a:xfrm>
              <a:off x="3348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70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72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73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76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77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9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0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81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83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84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486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87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489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0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70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70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470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471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71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71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71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71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471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471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471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471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471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71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71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8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28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28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728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728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28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28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28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728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28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8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28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28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728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28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2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1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98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02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02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02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02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02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61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71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71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71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71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71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471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71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00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00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00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00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0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00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00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0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00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0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70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70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70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470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70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70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48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348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348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348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348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48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348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49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349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49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49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49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58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00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81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34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39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24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520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74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73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02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83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535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0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525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521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4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73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06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85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38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0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526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21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475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474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08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87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540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541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526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22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76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74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08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87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40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540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6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21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76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74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505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89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06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90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01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34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30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51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93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72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13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16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96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81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66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47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1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18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432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454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63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58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51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464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83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711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04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81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503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495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508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503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525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351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06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92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675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5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48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661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5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77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634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7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40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34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57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6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609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21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16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638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38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30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543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38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60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98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91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04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98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21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78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71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4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578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01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57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49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2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57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79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19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512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525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19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42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77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9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06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492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66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9760" y="4398840"/>
            <a:ext cx="612360" cy="636480"/>
            <a:chOff x="509760" y="4398840"/>
            <a:chExt cx="612360" cy="636480"/>
          </a:xfrm>
        </p:grpSpPr>
        <p:sp>
          <p:nvSpPr>
            <p:cNvPr id="1715" name=""/>
            <p:cNvSpPr/>
            <p:nvPr/>
          </p:nvSpPr>
          <p:spPr>
            <a:xfrm>
              <a:off x="580680" y="4472640"/>
              <a:ext cx="47232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509760" y="4398840"/>
              <a:ext cx="612360" cy="636480"/>
              <a:chOff x="509760" y="4398840"/>
              <a:chExt cx="612360" cy="636480"/>
            </a:xfrm>
          </p:grpSpPr>
          <p:sp>
            <p:nvSpPr>
              <p:cNvPr id="1717" name=""/>
              <p:cNvSpPr/>
              <p:nvPr/>
            </p:nvSpPr>
            <p:spPr>
              <a:xfrm>
                <a:off x="509760" y="4398840"/>
                <a:ext cx="612360" cy="636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702720" y="4398840"/>
                <a:ext cx="226080" cy="635400"/>
                <a:chOff x="702720" y="4398840"/>
                <a:chExt cx="226080" cy="63540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02720" y="439884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02720" y="496188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510120" y="4599360"/>
                <a:ext cx="610920" cy="235080"/>
                <a:chOff x="510120" y="4599360"/>
                <a:chExt cx="610920" cy="235080"/>
              </a:xfrm>
            </p:grpSpPr>
            <p:sp>
              <p:nvSpPr>
                <p:cNvPr id="1722" name=""/>
                <p:cNvSpPr/>
                <p:nvPr/>
              </p:nvSpPr>
              <p:spPr>
                <a:xfrm rot="5400000">
                  <a:off x="96876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rot="5400000">
                  <a:off x="42732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17320" y="4417560"/>
                <a:ext cx="598320" cy="598320"/>
                <a:chOff x="517320" y="4417560"/>
                <a:chExt cx="598320" cy="598320"/>
              </a:xfrm>
            </p:grpSpPr>
            <p:sp>
              <p:nvSpPr>
                <p:cNvPr id="1725" name=""/>
                <p:cNvSpPr/>
                <p:nvPr/>
              </p:nvSpPr>
              <p:spPr>
                <a:xfrm rot="2700000">
                  <a:off x="890280" y="449028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rot="2700000">
                  <a:off x="507240" y="487332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511200" y="4412880"/>
                <a:ext cx="609120" cy="609120"/>
                <a:chOff x="511200" y="4412880"/>
                <a:chExt cx="609120" cy="609120"/>
              </a:xfrm>
            </p:grpSpPr>
            <p:sp>
              <p:nvSpPr>
                <p:cNvPr id="1728" name=""/>
                <p:cNvSpPr/>
                <p:nvPr/>
              </p:nvSpPr>
              <p:spPr>
                <a:xfrm rot="8100000">
                  <a:off x="901440" y="488016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8100000">
                  <a:off x="503280" y="448200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0" name=""/>
          <p:cNvGrpSpPr/>
          <p:nvPr/>
        </p:nvGrpSpPr>
        <p:grpSpPr>
          <a:xfrm>
            <a:off x="324000" y="4869000"/>
            <a:ext cx="433080" cy="428040"/>
            <a:chOff x="324000" y="4869000"/>
            <a:chExt cx="433080" cy="428040"/>
          </a:xfrm>
        </p:grpSpPr>
        <p:sp>
          <p:nvSpPr>
            <p:cNvPr id="1731" name=""/>
            <p:cNvSpPr/>
            <p:nvPr/>
          </p:nvSpPr>
          <p:spPr>
            <a:xfrm>
              <a:off x="324360" y="4869000"/>
              <a:ext cx="432720" cy="4280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6400" y="4871880"/>
              <a:ext cx="38520" cy="2138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00" y="4872240"/>
              <a:ext cx="36720" cy="2016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9280" y="4872600"/>
              <a:ext cx="35640" cy="18864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0720" y="4873320"/>
              <a:ext cx="34200" cy="17640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52520" y="4873680"/>
              <a:ext cx="32760" cy="164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53600" y="4874040"/>
              <a:ext cx="31320" cy="15120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5400" y="4874760"/>
              <a:ext cx="29160" cy="138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6480" y="4874760"/>
              <a:ext cx="28080" cy="12636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57560" y="4875480"/>
              <a:ext cx="27000" cy="1137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59360" y="4875840"/>
              <a:ext cx="25200" cy="1011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60800" y="4876560"/>
              <a:ext cx="23400" cy="8856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2240" y="4876560"/>
              <a:ext cx="21960" cy="7596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3680" y="4876920"/>
              <a:ext cx="20520" cy="637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5120" y="4877640"/>
              <a:ext cx="18720" cy="50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6560" y="4878360"/>
              <a:ext cx="17640" cy="3816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6400" y="5072760"/>
              <a:ext cx="279360" cy="5220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6400" y="5072760"/>
              <a:ext cx="263880" cy="5004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46400" y="5072760"/>
              <a:ext cx="249120" cy="4788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47120" y="5072760"/>
              <a:ext cx="233640" cy="4572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7120" y="5072760"/>
              <a:ext cx="218160" cy="4320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7120" y="5072760"/>
              <a:ext cx="203040" cy="4104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7480" y="5072760"/>
              <a:ext cx="187560" cy="3924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7480" y="5072760"/>
              <a:ext cx="172080" cy="367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7480" y="5072760"/>
              <a:ext cx="156960" cy="345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7480" y="5072760"/>
              <a:ext cx="14148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47480" y="507276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7480" y="507276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7480" y="507276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7840" y="5072760"/>
              <a:ext cx="80280" cy="230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7840" y="5072760"/>
              <a:ext cx="64800" cy="2088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3800" y="4891320"/>
              <a:ext cx="42120" cy="2332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3800" y="4904640"/>
              <a:ext cx="41040" cy="2199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03800" y="4918320"/>
              <a:ext cx="39600" cy="2062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3800" y="4931640"/>
              <a:ext cx="38520" cy="1929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03800" y="4945320"/>
              <a:ext cx="37440" cy="17928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03800" y="4959000"/>
              <a:ext cx="36000" cy="1656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3800" y="4972680"/>
              <a:ext cx="34560" cy="15192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03800" y="4986000"/>
              <a:ext cx="33480" cy="138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3800" y="5000040"/>
              <a:ext cx="32400" cy="12456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3800" y="5013360"/>
              <a:ext cx="30960" cy="11124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3800" y="5026680"/>
              <a:ext cx="29880" cy="975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03800" y="5040360"/>
              <a:ext cx="28440" cy="842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3800" y="5054040"/>
              <a:ext cx="27360" cy="705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3800" y="5067720"/>
              <a:ext cx="25920" cy="568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03800" y="5081400"/>
              <a:ext cx="24840" cy="432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8520" y="5087880"/>
              <a:ext cx="191520" cy="4104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7080" y="5090040"/>
              <a:ext cx="190440" cy="4320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4480" y="4892040"/>
              <a:ext cx="244440" cy="20484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8600" y="51267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600" y="51267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8600" y="51271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600" y="5127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600" y="512820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6840" y="512352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7840" y="509472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7840" y="509472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7840" y="509544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7840" y="50958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7840" y="509616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7840" y="509616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7840" y="509652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6440" y="51350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440" y="51354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6440" y="51354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76440" y="513648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6440" y="51368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6440" y="51372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76440" y="513720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6440" y="51375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76440" y="513828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46040" y="510120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6040" y="510192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6040" y="5101920"/>
              <a:ext cx="38160" cy="972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040" y="510264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46040" y="510300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6040" y="510300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6040" y="510336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4360" y="5209920"/>
              <a:ext cx="338400" cy="8712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00" y="5204160"/>
              <a:ext cx="343080" cy="7776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360" y="5204520"/>
              <a:ext cx="341640" cy="7740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4360" y="5204520"/>
              <a:ext cx="341280" cy="7704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4360" y="5204880"/>
              <a:ext cx="340920" cy="7632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24720" y="5205240"/>
              <a:ext cx="339840" cy="7524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4720" y="5205600"/>
              <a:ext cx="339480" cy="7452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5080" y="5205600"/>
              <a:ext cx="338760" cy="7416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5080" y="5206320"/>
              <a:ext cx="338400" cy="7380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5080" y="5206680"/>
              <a:ext cx="337320" cy="7308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" y="5206680"/>
              <a:ext cx="336600" cy="727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5800" y="5207040"/>
              <a:ext cx="335880" cy="7164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34160" y="5207400"/>
              <a:ext cx="105480" cy="4140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76640" y="522180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7560" y="521820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0480" y="522792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5520" y="52372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0400" y="52326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6080" y="52542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49640" y="52459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48920" y="522360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440" y="522216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9000" y="521820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920" y="522828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5880" y="52376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1480" y="5232960"/>
              <a:ext cx="612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6800" y="52549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0720" y="52470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280" y="52243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2400" y="52225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1520" y="521928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440" y="52286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6600" y="52376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1840" y="52329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7880" y="52549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51440" y="52470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50360" y="52239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4200" y="52225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3320" y="521928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5880" y="52286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7320" y="52376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2560" y="52329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8240" y="52545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2160" y="52470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50720" y="522396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84200" y="52225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3320" y="521928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5880" y="522864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600" y="52376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2200" y="52329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7880" y="52545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2160" y="5247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50720" y="52239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680" y="520776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5120" y="5204520"/>
              <a:ext cx="22320" cy="118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2400" y="5212800"/>
              <a:ext cx="55440" cy="1224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200" y="520920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7720" y="5181480"/>
              <a:ext cx="74160" cy="309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0120" y="5165280"/>
              <a:ext cx="73440" cy="1584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6240" y="51832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7480" y="518796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9960" y="51933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8720" y="518940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80" y="51807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1760" y="5164200"/>
              <a:ext cx="14400" cy="5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2320" y="51606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57200" y="5158800"/>
              <a:ext cx="11880" cy="5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42800" y="51566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720" y="51573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07880" y="51555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4920" y="51530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8240" y="51418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20120" y="51307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30200" y="512388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9560" y="51170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4880" y="514620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7320" y="51372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40280" y="51307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59160" y="51598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7240" y="5152320"/>
              <a:ext cx="2088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9680" y="51645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" y="511920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8800" y="51534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1960" y="51436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4200" y="5137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8800" y="51289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480" y="51260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7960" y="5155920"/>
              <a:ext cx="369000" cy="1134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0840" y="5147280"/>
              <a:ext cx="38160" cy="684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2320" y="5110920"/>
              <a:ext cx="65160" cy="435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8520" y="5174640"/>
              <a:ext cx="26280" cy="792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1600" y="5181120"/>
              <a:ext cx="40320" cy="1224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1080" y="5177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240" y="5168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6840" y="51627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080" y="51541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3760" y="51508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0920" y="51750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03360" y="5165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20" y="51595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0920" y="51508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880" y="51476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560" y="517140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85000" y="51624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7600" y="51562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2560" y="51476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4520" y="51440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4440" y="51602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6880" y="5150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9480" y="51447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4440" y="513612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6400" y="5132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74560" y="51688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7360" y="51598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9960" y="515340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4560" y="51451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97240" y="514152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4760" y="51663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7560" y="51566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0160" y="5150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4760" y="51418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080" y="51390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16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25600" y="5153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8560" y="5147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3160" y="51390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5480" y="51354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5720" y="515628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88520" y="51472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1120" y="51408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5720" y="513252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040" y="51289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0440" y="5151240"/>
              <a:ext cx="15120" cy="57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3240" y="51418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5480" y="51354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440" y="51271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82760" y="5123880"/>
              <a:ext cx="14760" cy="5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7640" y="486900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42800" y="5109480"/>
              <a:ext cx="281160" cy="4680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"/>
          <p:cNvSpPr/>
          <p:nvPr/>
        </p:nvSpPr>
        <p:spPr>
          <a:xfrm flipV="1">
            <a:off x="1063800" y="453024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063800" y="446400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152760" y="2144880"/>
            <a:ext cx="637200" cy="672840"/>
            <a:chOff x="6152760" y="2144880"/>
            <a:chExt cx="637200" cy="672840"/>
          </a:xfrm>
        </p:grpSpPr>
        <p:grpSp>
          <p:nvGrpSpPr>
            <p:cNvPr id="1988" name=""/>
            <p:cNvGrpSpPr/>
            <p:nvPr/>
          </p:nvGrpSpPr>
          <p:grpSpPr>
            <a:xfrm>
              <a:off x="6152760" y="2144880"/>
              <a:ext cx="637200" cy="672840"/>
              <a:chOff x="6152760" y="2144880"/>
              <a:chExt cx="637200" cy="672840"/>
            </a:xfrm>
          </p:grpSpPr>
          <p:sp>
            <p:nvSpPr>
              <p:cNvPr id="1989" name=""/>
              <p:cNvSpPr/>
              <p:nvPr/>
            </p:nvSpPr>
            <p:spPr>
              <a:xfrm>
                <a:off x="6159600" y="2144880"/>
                <a:ext cx="62388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6356160" y="2144880"/>
                <a:ext cx="230400" cy="671400"/>
                <a:chOff x="6356160" y="2144880"/>
                <a:chExt cx="230400" cy="6714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356160" y="21448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356160" y="2739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6159600" y="2356920"/>
                <a:ext cx="622800" cy="248400"/>
                <a:chOff x="6159600" y="2356920"/>
                <a:chExt cx="622800" cy="248400"/>
              </a:xfrm>
            </p:grpSpPr>
            <p:sp>
              <p:nvSpPr>
                <p:cNvPr id="1994" name=""/>
                <p:cNvSpPr/>
                <p:nvPr/>
              </p:nvSpPr>
              <p:spPr>
                <a:xfrm rot="5400000">
                  <a:off x="662256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5400000">
                  <a:off x="607068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6163920" y="2172960"/>
                <a:ext cx="615960" cy="615960"/>
                <a:chOff x="6163920" y="2172960"/>
                <a:chExt cx="615960" cy="615960"/>
              </a:xfrm>
            </p:grpSpPr>
            <p:sp>
              <p:nvSpPr>
                <p:cNvPr id="1997" name=""/>
                <p:cNvSpPr/>
                <p:nvPr/>
              </p:nvSpPr>
              <p:spPr>
                <a:xfrm rot="2700000">
                  <a:off x="6542640" y="225036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rot="2700000">
                  <a:off x="6152400" y="264060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6152760" y="2162880"/>
                <a:ext cx="637200" cy="637560"/>
                <a:chOff x="6152760" y="2162880"/>
                <a:chExt cx="637200" cy="637560"/>
              </a:xfrm>
            </p:grpSpPr>
            <p:sp>
              <p:nvSpPr>
                <p:cNvPr id="2000" name=""/>
                <p:cNvSpPr/>
                <p:nvPr/>
              </p:nvSpPr>
              <p:spPr>
                <a:xfrm rot="8100000">
                  <a:off x="6566040" y="26535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rot="8100000">
                  <a:off x="6145560" y="22330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2" name=""/>
            <p:cNvSpPr/>
            <p:nvPr/>
          </p:nvSpPr>
          <p:spPr>
            <a:xfrm>
              <a:off x="6231240" y="2223720"/>
              <a:ext cx="48132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5531040" y="3241800"/>
            <a:ext cx="634680" cy="669960"/>
            <a:chOff x="5531040" y="3241800"/>
            <a:chExt cx="634680" cy="669960"/>
          </a:xfrm>
        </p:grpSpPr>
        <p:grpSp>
          <p:nvGrpSpPr>
            <p:cNvPr id="2004" name=""/>
            <p:cNvGrpSpPr/>
            <p:nvPr/>
          </p:nvGrpSpPr>
          <p:grpSpPr>
            <a:xfrm>
              <a:off x="5531040" y="3241800"/>
              <a:ext cx="634680" cy="669960"/>
              <a:chOff x="5531040" y="3241800"/>
              <a:chExt cx="634680" cy="669960"/>
            </a:xfrm>
          </p:grpSpPr>
          <p:sp>
            <p:nvSpPr>
              <p:cNvPr id="2005" name=""/>
              <p:cNvSpPr/>
              <p:nvPr/>
            </p:nvSpPr>
            <p:spPr>
              <a:xfrm>
                <a:off x="5537160" y="3241800"/>
                <a:ext cx="6224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5733360" y="3241800"/>
                <a:ext cx="229680" cy="668520"/>
                <a:chOff x="5733360" y="3241800"/>
                <a:chExt cx="229680" cy="66852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5733360" y="324180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733360" y="383436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5537520" y="3453120"/>
                <a:ext cx="621000" cy="247320"/>
                <a:chOff x="5537520" y="3453120"/>
                <a:chExt cx="621000" cy="247320"/>
              </a:xfrm>
            </p:grpSpPr>
            <p:sp>
              <p:nvSpPr>
                <p:cNvPr id="2010" name=""/>
                <p:cNvSpPr/>
                <p:nvPr/>
              </p:nvSpPr>
              <p:spPr>
                <a:xfrm rot="5400000">
                  <a:off x="5999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5400000">
                  <a:off x="544896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541840" y="3269520"/>
                <a:ext cx="614160" cy="613800"/>
                <a:chOff x="5541840" y="3269520"/>
                <a:chExt cx="614160" cy="613800"/>
              </a:xfrm>
            </p:grpSpPr>
            <p:sp>
              <p:nvSpPr>
                <p:cNvPr id="2013" name=""/>
                <p:cNvSpPr/>
                <p:nvPr/>
              </p:nvSpPr>
              <p:spPr>
                <a:xfrm rot="2700000">
                  <a:off x="5919840" y="334656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2700000">
                  <a:off x="553068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5531040" y="3259440"/>
                <a:ext cx="634680" cy="635040"/>
                <a:chOff x="5531040" y="3259440"/>
                <a:chExt cx="634680" cy="635040"/>
              </a:xfrm>
            </p:grpSpPr>
            <p:sp>
              <p:nvSpPr>
                <p:cNvPr id="2016" name=""/>
                <p:cNvSpPr/>
                <p:nvPr/>
              </p:nvSpPr>
              <p:spPr>
                <a:xfrm rot="8100000">
                  <a:off x="5942520" y="374832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rot="8100000">
                  <a:off x="5523840" y="332928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"/>
            <p:cNvSpPr/>
            <p:nvPr/>
          </p:nvSpPr>
          <p:spPr>
            <a:xfrm>
              <a:off x="5608440" y="3320280"/>
              <a:ext cx="48024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6153480" y="4341960"/>
            <a:ext cx="636120" cy="671040"/>
            <a:chOff x="6153480" y="4341960"/>
            <a:chExt cx="636120" cy="671040"/>
          </a:xfrm>
        </p:grpSpPr>
        <p:sp>
          <p:nvSpPr>
            <p:cNvPr id="2020" name=""/>
            <p:cNvSpPr/>
            <p:nvPr/>
          </p:nvSpPr>
          <p:spPr>
            <a:xfrm>
              <a:off x="6231600" y="4419720"/>
              <a:ext cx="480960" cy="51552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1" name=""/>
            <p:cNvGrpSpPr/>
            <p:nvPr/>
          </p:nvGrpSpPr>
          <p:grpSpPr>
            <a:xfrm>
              <a:off x="6153480" y="4341960"/>
              <a:ext cx="636120" cy="671040"/>
              <a:chOff x="6153480" y="4341960"/>
              <a:chExt cx="636120" cy="6710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159600" y="4341960"/>
                <a:ext cx="623520" cy="671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3" name=""/>
              <p:cNvGrpSpPr/>
              <p:nvPr/>
            </p:nvGrpSpPr>
            <p:grpSpPr>
              <a:xfrm>
                <a:off x="6356160" y="4341960"/>
                <a:ext cx="230400" cy="669960"/>
                <a:chOff x="6356160" y="4341960"/>
                <a:chExt cx="230400" cy="66996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356160" y="4341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56160" y="493560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6159240" y="4553640"/>
                <a:ext cx="622440" cy="247680"/>
                <a:chOff x="6159240" y="4553640"/>
                <a:chExt cx="622440" cy="247680"/>
              </a:xfrm>
            </p:grpSpPr>
            <p:sp>
              <p:nvSpPr>
                <p:cNvPr id="2027" name=""/>
                <p:cNvSpPr/>
                <p:nvPr/>
              </p:nvSpPr>
              <p:spPr>
                <a:xfrm rot="5400000">
                  <a:off x="662220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5400000">
                  <a:off x="607068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163560" y="4370040"/>
                <a:ext cx="615240" cy="615240"/>
                <a:chOff x="6163560" y="4370040"/>
                <a:chExt cx="615240" cy="615240"/>
              </a:xfrm>
            </p:grpSpPr>
            <p:sp>
              <p:nvSpPr>
                <p:cNvPr id="2030" name=""/>
                <p:cNvSpPr/>
                <p:nvPr/>
              </p:nvSpPr>
              <p:spPr>
                <a:xfrm rot="2700000">
                  <a:off x="6542280" y="444708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2700000">
                  <a:off x="6152040" y="483696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2" name=""/>
              <p:cNvGrpSpPr/>
              <p:nvPr/>
            </p:nvGrpSpPr>
            <p:grpSpPr>
              <a:xfrm>
                <a:off x="6153480" y="4359960"/>
                <a:ext cx="636120" cy="636120"/>
                <a:chOff x="6153480" y="4359960"/>
                <a:chExt cx="636120" cy="636120"/>
              </a:xfrm>
            </p:grpSpPr>
            <p:sp>
              <p:nvSpPr>
                <p:cNvPr id="2033" name=""/>
                <p:cNvSpPr/>
                <p:nvPr/>
              </p:nvSpPr>
              <p:spPr>
                <a:xfrm rot="8100000">
                  <a:off x="6566040" y="48495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rot="8100000">
                  <a:off x="6146640" y="44301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5" name=""/>
          <p:cNvGrpSpPr/>
          <p:nvPr/>
        </p:nvGrpSpPr>
        <p:grpSpPr>
          <a:xfrm>
            <a:off x="7393320" y="2144880"/>
            <a:ext cx="637200" cy="672840"/>
            <a:chOff x="7393320" y="2144880"/>
            <a:chExt cx="637200" cy="672840"/>
          </a:xfrm>
        </p:grpSpPr>
        <p:grpSp>
          <p:nvGrpSpPr>
            <p:cNvPr id="2036" name=""/>
            <p:cNvGrpSpPr/>
            <p:nvPr/>
          </p:nvGrpSpPr>
          <p:grpSpPr>
            <a:xfrm>
              <a:off x="7393320" y="2144880"/>
              <a:ext cx="637200" cy="672840"/>
              <a:chOff x="7393320" y="2144880"/>
              <a:chExt cx="637200" cy="672840"/>
            </a:xfrm>
          </p:grpSpPr>
          <p:sp>
            <p:nvSpPr>
              <p:cNvPr id="2037" name=""/>
              <p:cNvSpPr/>
              <p:nvPr/>
            </p:nvSpPr>
            <p:spPr>
              <a:xfrm>
                <a:off x="7400880" y="2144880"/>
                <a:ext cx="62244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7597080" y="2144880"/>
                <a:ext cx="229680" cy="671400"/>
                <a:chOff x="7597080" y="2144880"/>
                <a:chExt cx="229680" cy="67140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7597080" y="214488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597080" y="2739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7401240" y="2356920"/>
                <a:ext cx="621000" cy="248400"/>
                <a:chOff x="7401240" y="2356920"/>
                <a:chExt cx="621000" cy="248400"/>
              </a:xfrm>
            </p:grpSpPr>
            <p:sp>
              <p:nvSpPr>
                <p:cNvPr id="2042" name=""/>
                <p:cNvSpPr/>
                <p:nvPr/>
              </p:nvSpPr>
              <p:spPr>
                <a:xfrm rot="5400000">
                  <a:off x="786276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rot="5400000">
                  <a:off x="731232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7404840" y="2173680"/>
                <a:ext cx="614880" cy="614520"/>
                <a:chOff x="7404840" y="2173680"/>
                <a:chExt cx="614880" cy="614520"/>
              </a:xfrm>
            </p:grpSpPr>
            <p:sp>
              <p:nvSpPr>
                <p:cNvPr id="2045" name=""/>
                <p:cNvSpPr/>
                <p:nvPr/>
              </p:nvSpPr>
              <p:spPr>
                <a:xfrm rot="2700000">
                  <a:off x="7782480" y="225108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rot="2700000">
                  <a:off x="7393320" y="26402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7393320" y="2162880"/>
                <a:ext cx="637200" cy="636840"/>
                <a:chOff x="7393320" y="2162880"/>
                <a:chExt cx="637200" cy="636840"/>
              </a:xfrm>
            </p:grpSpPr>
            <p:sp>
              <p:nvSpPr>
                <p:cNvPr id="2048" name=""/>
                <p:cNvSpPr/>
                <p:nvPr/>
              </p:nvSpPr>
              <p:spPr>
                <a:xfrm rot="8100000">
                  <a:off x="7807320" y="2653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8100000">
                  <a:off x="7386480" y="223272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0" name=""/>
            <p:cNvSpPr/>
            <p:nvPr/>
          </p:nvSpPr>
          <p:spPr>
            <a:xfrm>
              <a:off x="7472160" y="2223720"/>
              <a:ext cx="48024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6593760" y="3029040"/>
            <a:ext cx="990360" cy="1045440"/>
            <a:chOff x="6593760" y="3029040"/>
            <a:chExt cx="990360" cy="1045440"/>
          </a:xfrm>
        </p:grpSpPr>
        <p:grpSp>
          <p:nvGrpSpPr>
            <p:cNvPr id="2052" name=""/>
            <p:cNvGrpSpPr/>
            <p:nvPr/>
          </p:nvGrpSpPr>
          <p:grpSpPr>
            <a:xfrm>
              <a:off x="6593760" y="3029040"/>
              <a:ext cx="990360" cy="1045440"/>
              <a:chOff x="6593760" y="3029040"/>
              <a:chExt cx="990360" cy="1045440"/>
            </a:xfrm>
          </p:grpSpPr>
          <p:sp>
            <p:nvSpPr>
              <p:cNvPr id="2053" name=""/>
              <p:cNvSpPr/>
              <p:nvPr/>
            </p:nvSpPr>
            <p:spPr>
              <a:xfrm>
                <a:off x="6605640" y="3029040"/>
                <a:ext cx="967680" cy="1045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4" name=""/>
              <p:cNvGrpSpPr/>
              <p:nvPr/>
            </p:nvGrpSpPr>
            <p:grpSpPr>
              <a:xfrm>
                <a:off x="6910560" y="3029040"/>
                <a:ext cx="357120" cy="1043640"/>
                <a:chOff x="6910560" y="3029040"/>
                <a:chExt cx="357120" cy="104364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6910560" y="302904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910560" y="395388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6606000" y="3358800"/>
                <a:ext cx="965880" cy="385560"/>
                <a:chOff x="6606000" y="3358800"/>
                <a:chExt cx="965880" cy="385560"/>
              </a:xfrm>
            </p:grpSpPr>
            <p:sp>
              <p:nvSpPr>
                <p:cNvPr id="2058" name=""/>
                <p:cNvSpPr/>
                <p:nvPr/>
              </p:nvSpPr>
              <p:spPr>
                <a:xfrm rot="5400000">
                  <a:off x="732420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rot="5400000">
                  <a:off x="646812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6612120" y="3073680"/>
                <a:ext cx="955800" cy="955800"/>
                <a:chOff x="6612120" y="3073680"/>
                <a:chExt cx="955800" cy="955800"/>
              </a:xfrm>
            </p:grpSpPr>
            <p:sp>
              <p:nvSpPr>
                <p:cNvPr id="2061" name=""/>
                <p:cNvSpPr/>
                <p:nvPr/>
              </p:nvSpPr>
              <p:spPr>
                <a:xfrm rot="2700000">
                  <a:off x="7200000" y="319356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rot="2700000">
                  <a:off x="6594480" y="37990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6593760" y="3057480"/>
                <a:ext cx="990360" cy="990000"/>
                <a:chOff x="6593760" y="3057480"/>
                <a:chExt cx="990360" cy="990000"/>
              </a:xfrm>
            </p:grpSpPr>
            <p:sp>
              <p:nvSpPr>
                <p:cNvPr id="2064" name=""/>
                <p:cNvSpPr/>
                <p:nvPr/>
              </p:nvSpPr>
              <p:spPr>
                <a:xfrm rot="8100000">
                  <a:off x="7237080" y="381996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rot="8100000">
                  <a:off x="6583320" y="316620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6716880" y="3151440"/>
              <a:ext cx="747000" cy="80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es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7393680" y="4341960"/>
            <a:ext cx="636120" cy="671400"/>
            <a:chOff x="7393680" y="4341960"/>
            <a:chExt cx="636120" cy="671400"/>
          </a:xfrm>
        </p:grpSpPr>
        <p:grpSp>
          <p:nvGrpSpPr>
            <p:cNvPr id="2068" name=""/>
            <p:cNvGrpSpPr/>
            <p:nvPr/>
          </p:nvGrpSpPr>
          <p:grpSpPr>
            <a:xfrm>
              <a:off x="7393680" y="4341960"/>
              <a:ext cx="636120" cy="671400"/>
              <a:chOff x="7393680" y="4341960"/>
              <a:chExt cx="636120" cy="671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7400880" y="4341960"/>
                <a:ext cx="62244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7597080" y="4341960"/>
                <a:ext cx="229680" cy="670320"/>
                <a:chOff x="7597080" y="4341960"/>
                <a:chExt cx="229680" cy="67032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7597080" y="4341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597080" y="4935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7401240" y="4553640"/>
                <a:ext cx="621000" cy="247680"/>
                <a:chOff x="7401240" y="4553640"/>
                <a:chExt cx="621000" cy="247680"/>
              </a:xfrm>
            </p:grpSpPr>
            <p:sp>
              <p:nvSpPr>
                <p:cNvPr id="2074" name=""/>
                <p:cNvSpPr/>
                <p:nvPr/>
              </p:nvSpPr>
              <p:spPr>
                <a:xfrm rot="5400000">
                  <a:off x="786312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5400000">
                  <a:off x="731268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7405200" y="4370400"/>
                <a:ext cx="614160" cy="614160"/>
                <a:chOff x="7405200" y="4370400"/>
                <a:chExt cx="614160" cy="614160"/>
              </a:xfrm>
            </p:grpSpPr>
            <p:sp>
              <p:nvSpPr>
                <p:cNvPr id="2077" name=""/>
                <p:cNvSpPr/>
                <p:nvPr/>
              </p:nvSpPr>
              <p:spPr>
                <a:xfrm rot="2700000">
                  <a:off x="7782840" y="444744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rot="2700000">
                  <a:off x="7393680" y="48366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7393680" y="4359600"/>
                <a:ext cx="636120" cy="636120"/>
                <a:chOff x="7393680" y="4359600"/>
                <a:chExt cx="636120" cy="636120"/>
              </a:xfrm>
            </p:grpSpPr>
            <p:sp>
              <p:nvSpPr>
                <p:cNvPr id="2080" name=""/>
                <p:cNvSpPr/>
                <p:nvPr/>
              </p:nvSpPr>
              <p:spPr>
                <a:xfrm rot="8100000">
                  <a:off x="7806600" y="4849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8100000">
                  <a:off x="7386840" y="442944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2" name=""/>
            <p:cNvSpPr/>
            <p:nvPr/>
          </p:nvSpPr>
          <p:spPr>
            <a:xfrm>
              <a:off x="7472160" y="4420440"/>
              <a:ext cx="480240" cy="51516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8015760" y="3241800"/>
            <a:ext cx="634680" cy="669960"/>
            <a:chOff x="8015760" y="3241800"/>
            <a:chExt cx="634680" cy="669960"/>
          </a:xfrm>
        </p:grpSpPr>
        <p:grpSp>
          <p:nvGrpSpPr>
            <p:cNvPr id="2084" name=""/>
            <p:cNvGrpSpPr/>
            <p:nvPr/>
          </p:nvGrpSpPr>
          <p:grpSpPr>
            <a:xfrm>
              <a:off x="8015760" y="3241800"/>
              <a:ext cx="634680" cy="669960"/>
              <a:chOff x="8015760" y="3241800"/>
              <a:chExt cx="634680" cy="669960"/>
            </a:xfrm>
          </p:grpSpPr>
          <p:sp>
            <p:nvSpPr>
              <p:cNvPr id="2085" name=""/>
              <p:cNvSpPr/>
              <p:nvPr/>
            </p:nvSpPr>
            <p:spPr>
              <a:xfrm>
                <a:off x="8023320" y="3241800"/>
                <a:ext cx="6206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6" name=""/>
              <p:cNvGrpSpPr/>
              <p:nvPr/>
            </p:nvGrpSpPr>
            <p:grpSpPr>
              <a:xfrm>
                <a:off x="8218800" y="3241800"/>
                <a:ext cx="229320" cy="668520"/>
                <a:chOff x="8218800" y="3241800"/>
                <a:chExt cx="229320" cy="66852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8218800" y="324180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218800" y="383436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8022960" y="3453120"/>
                <a:ext cx="619560" cy="247320"/>
                <a:chOff x="8022960" y="3453120"/>
                <a:chExt cx="619560" cy="247320"/>
              </a:xfrm>
            </p:grpSpPr>
            <p:sp>
              <p:nvSpPr>
                <p:cNvPr id="2090" name=""/>
                <p:cNvSpPr/>
                <p:nvPr/>
              </p:nvSpPr>
              <p:spPr>
                <a:xfrm rot="5400000">
                  <a:off x="8483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5400000">
                  <a:off x="7934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8026920" y="3270240"/>
                <a:ext cx="613440" cy="613080"/>
                <a:chOff x="8026920" y="3270240"/>
                <a:chExt cx="613440" cy="613080"/>
              </a:xfrm>
            </p:grpSpPr>
            <p:sp>
              <p:nvSpPr>
                <p:cNvPr id="2093" name=""/>
                <p:cNvSpPr/>
                <p:nvPr/>
              </p:nvSpPr>
              <p:spPr>
                <a:xfrm rot="2700000">
                  <a:off x="8404200" y="334728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rot="2700000">
                  <a:off x="801576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8015760" y="3259800"/>
                <a:ext cx="634680" cy="634320"/>
                <a:chOff x="8015760" y="3259800"/>
                <a:chExt cx="634680" cy="634320"/>
              </a:xfrm>
            </p:grpSpPr>
            <p:sp>
              <p:nvSpPr>
                <p:cNvPr id="2096" name=""/>
                <p:cNvSpPr/>
                <p:nvPr/>
              </p:nvSpPr>
              <p:spPr>
                <a:xfrm rot="8100000">
                  <a:off x="8427600" y="374832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8100000">
                  <a:off x="8008920" y="332964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8" name=""/>
            <p:cNvSpPr/>
            <p:nvPr/>
          </p:nvSpPr>
          <p:spPr>
            <a:xfrm>
              <a:off x="8094600" y="3320280"/>
              <a:ext cx="47880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9" name=""/>
          <p:cNvCxnSpPr>
            <a:stCxn id="2055" idx="1"/>
            <a:endCxn id="2000" idx="0"/>
          </p:cNvCxnSpPr>
          <p:nvPr/>
        </p:nvCxnSpPr>
        <p:spPr>
          <a:xfrm flipH="1" flipV="1">
            <a:off x="6713280" y="2717280"/>
            <a:ext cx="248400" cy="3312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0" name=""/>
          <p:cNvCxnSpPr>
            <a:stCxn id="2046" idx="4"/>
            <a:endCxn id="2055" idx="7"/>
          </p:cNvCxnSpPr>
          <p:nvPr/>
        </p:nvCxnSpPr>
        <p:spPr>
          <a:xfrm flipH="1">
            <a:off x="7216200" y="2688840"/>
            <a:ext cx="278280" cy="359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1" name=""/>
          <p:cNvCxnSpPr>
            <a:stCxn id="2061" idx="1"/>
            <a:endCxn id="2046" idx="5"/>
          </p:cNvCxnSpPr>
          <p:nvPr/>
        </p:nvCxnSpPr>
        <p:spPr>
          <a:xfrm flipV="1">
            <a:off x="7324560" y="2745720"/>
            <a:ext cx="240480" cy="383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2" name=""/>
          <p:cNvCxnSpPr>
            <a:stCxn id="2000" idx="7"/>
            <a:endCxn id="2065" idx="3"/>
          </p:cNvCxnSpPr>
          <p:nvPr/>
        </p:nvCxnSpPr>
        <p:spPr>
          <a:xfrm>
            <a:off x="6647040" y="2763360"/>
            <a:ext cx="165600" cy="3452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3" name=""/>
          <p:cNvCxnSpPr>
            <a:stCxn id="2058" idx="7"/>
            <a:endCxn id="2091" idx="5"/>
          </p:cNvCxnSpPr>
          <p:nvPr/>
        </p:nvCxnSpPr>
        <p:spPr>
          <a:xfrm flipV="1">
            <a:off x="7561080" y="3661920"/>
            <a:ext cx="47844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4" name=""/>
          <p:cNvCxnSpPr>
            <a:stCxn id="2091" idx="4"/>
            <a:endCxn id="2058" idx="0"/>
          </p:cNvCxnSpPr>
          <p:nvPr/>
        </p:nvCxnSpPr>
        <p:spPr>
          <a:xfrm flipH="1" flipV="1">
            <a:off x="7576920" y="3551040"/>
            <a:ext cx="45288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5" name=""/>
          <p:cNvCxnSpPr>
            <a:stCxn id="2010" idx="7"/>
            <a:endCxn id="2059" idx="5"/>
          </p:cNvCxnSpPr>
          <p:nvPr/>
        </p:nvCxnSpPr>
        <p:spPr>
          <a:xfrm>
            <a:off x="6153120" y="3662280"/>
            <a:ext cx="47232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6" name=""/>
          <p:cNvCxnSpPr>
            <a:stCxn id="2059" idx="4"/>
            <a:endCxn id="2010" idx="0"/>
          </p:cNvCxnSpPr>
          <p:nvPr/>
        </p:nvCxnSpPr>
        <p:spPr>
          <a:xfrm flipH="1">
            <a:off x="6165000" y="3551400"/>
            <a:ext cx="44676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7" name=""/>
          <p:cNvCxnSpPr>
            <a:stCxn id="2064" idx="7"/>
            <a:endCxn id="2081" idx="3"/>
          </p:cNvCxnSpPr>
          <p:nvPr/>
        </p:nvCxnSpPr>
        <p:spPr>
          <a:xfrm>
            <a:off x="7359480" y="3992040"/>
            <a:ext cx="177120" cy="3978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8" name=""/>
          <p:cNvCxnSpPr>
            <a:stCxn id="2071" idx="1"/>
            <a:endCxn id="2064" idx="0"/>
          </p:cNvCxnSpPr>
          <p:nvPr/>
        </p:nvCxnSpPr>
        <p:spPr>
          <a:xfrm flipH="1" flipV="1">
            <a:off x="7461000" y="3917160"/>
            <a:ext cx="170640" cy="437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9" name=""/>
          <p:cNvCxnSpPr>
            <a:stCxn id="2062" idx="4"/>
            <a:endCxn id="2024" idx="7"/>
          </p:cNvCxnSpPr>
          <p:nvPr/>
        </p:nvCxnSpPr>
        <p:spPr>
          <a:xfrm flipH="1">
            <a:off x="6551280" y="3881520"/>
            <a:ext cx="200880" cy="47376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10" name=""/>
          <p:cNvCxnSpPr>
            <a:stCxn id="2030" idx="1"/>
            <a:endCxn id="2062" idx="5"/>
          </p:cNvCxnSpPr>
          <p:nvPr/>
        </p:nvCxnSpPr>
        <p:spPr>
          <a:xfrm flipV="1">
            <a:off x="6621120" y="3965040"/>
            <a:ext cx="238680" cy="440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grpSp>
        <p:nvGrpSpPr>
          <p:cNvPr id="2111" name=""/>
          <p:cNvGrpSpPr/>
          <p:nvPr/>
        </p:nvGrpSpPr>
        <p:grpSpPr>
          <a:xfrm>
            <a:off x="5651640" y="2205000"/>
            <a:ext cx="442800" cy="452520"/>
            <a:chOff x="5651640" y="2205000"/>
            <a:chExt cx="442800" cy="452520"/>
          </a:xfrm>
        </p:grpSpPr>
        <p:sp>
          <p:nvSpPr>
            <p:cNvPr id="2112" name=""/>
            <p:cNvSpPr/>
            <p:nvPr/>
          </p:nvSpPr>
          <p:spPr>
            <a:xfrm>
              <a:off x="5652000" y="220500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76920" y="2207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78720" y="220860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79800" y="2208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81240" y="220932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83040" y="2209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4120" y="2210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85920" y="2211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87000" y="2211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88440" y="221184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90240" y="2212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91320" y="2212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93120" y="2212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94200" y="2213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96000" y="2214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97440" y="2214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76920" y="242028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76920" y="242028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76920" y="242028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7280" y="242028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77280" y="24202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77280" y="242028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77640" y="242028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77640" y="24202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77640" y="242028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77640" y="242028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77640" y="242028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77640" y="24202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77640" y="242028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78000" y="242028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78000" y="24202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40080" y="2228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0080" y="224280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40080" y="2256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040080" y="227124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40080" y="228564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040080" y="2300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040080" y="231444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040080" y="2328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040080" y="2343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40080" y="2357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0080" y="2371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40080" y="238608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40080" y="2400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40080" y="24148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0080" y="242928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819760" y="2436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18680" y="24386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05360" y="222948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14160" y="24775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14160" y="24775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4160" y="24778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4160" y="2477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14160" y="2478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71680" y="24739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78000" y="244368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778000" y="24436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78000" y="24440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78000" y="2444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78000" y="24451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78000" y="24451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778000" y="24454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12000" y="24861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12000" y="24865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12000" y="2486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2000" y="248760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12000" y="24879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12000" y="2488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12000" y="2488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12000" y="2488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12000" y="24894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776560" y="24505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776560" y="24508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776560" y="24508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776560" y="24519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76560" y="245232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776560" y="24523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76560" y="2452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52000" y="256536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51640" y="255888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52000" y="255924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52000" y="255924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52000" y="255996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2360" y="256032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652360" y="256068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652720" y="256068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652720" y="256104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652720" y="2561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653080" y="2561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3440" y="256212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64320" y="256248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07520" y="257760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8440" y="257400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42440" y="25840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47480" y="259416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832000" y="25891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827680" y="2611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780160" y="260316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779440" y="257940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809680" y="257796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789520" y="257400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843880" y="258444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47840" y="259452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33080" y="2589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28400" y="261288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81240" y="260424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79800" y="2580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13280" y="257868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92400" y="25747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846400" y="258480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48920" y="259452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33440" y="2589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29120" y="2612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781960" y="260424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780880" y="2579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15440" y="257868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793840" y="25747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47840" y="258480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849280" y="259452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34520" y="258948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829480" y="26125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82320" y="260424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781240" y="2579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815440" y="257868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793840" y="257472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847840" y="258480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48920" y="259452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833800" y="2589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29120" y="26125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782320" y="260424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81240" y="2579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12560" y="2562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796000" y="255924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813280" y="256788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796720" y="256428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808960" y="253512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42080" y="251820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40360" y="253692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61960" y="254196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005160" y="254736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83560" y="25434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23080" y="2534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23360" y="251676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803200" y="251316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88080" y="251136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73320" y="2508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53520" y="250956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37320" y="250776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24000" y="25048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37680" y="24933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50280" y="2481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760360" y="24742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69720" y="24670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765040" y="24980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757480" y="2488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70440" y="2481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94360" y="2512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023160" y="250452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015600" y="2517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788080" y="24692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10040" y="2505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02840" y="2495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815440" y="2488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10040" y="24796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33080" y="2476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655600" y="250812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26400" y="2498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11400" y="246060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004080" y="2527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86440" y="2534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965560" y="25315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58360" y="25218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71680" y="25153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65560" y="250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88600" y="250272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45040" y="2528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37120" y="251820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50440" y="25117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45040" y="250272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7360" y="24994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926320" y="2524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18400" y="25149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931360" y="25084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26320" y="24994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48640" y="2495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846400" y="251280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38480" y="250272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51440" y="2496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46400" y="248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68720" y="24840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907960" y="25218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00760" y="2512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913360" y="2505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907960" y="24966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931000" y="24930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87440" y="2518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80240" y="2508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92840" y="25027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887440" y="24933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10480" y="2490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5480" y="25153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857560" y="2505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70880" y="2498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5480" y="2490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888520" y="24865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827320" y="25084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819760" y="2498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32720" y="2491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827320" y="2483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850000" y="24796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90960" y="25030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83760" y="24933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796360" y="24865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90960" y="24778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814000" y="24742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798520" y="2205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73320" y="245916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5292720" y="2924280"/>
            <a:ext cx="442800" cy="450720"/>
            <a:chOff x="5292720" y="2924280"/>
            <a:chExt cx="442800" cy="450720"/>
          </a:xfrm>
        </p:grpSpPr>
        <p:sp>
          <p:nvSpPr>
            <p:cNvPr id="2367" name=""/>
            <p:cNvSpPr/>
            <p:nvPr/>
          </p:nvSpPr>
          <p:spPr>
            <a:xfrm>
              <a:off x="5293080" y="2924280"/>
              <a:ext cx="442440" cy="4503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18000" y="2927160"/>
              <a:ext cx="39240" cy="22500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419800" y="2927880"/>
              <a:ext cx="37440" cy="212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420880" y="2928240"/>
              <a:ext cx="36360" cy="19836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422320" y="2928600"/>
              <a:ext cx="35280" cy="18576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4120" y="2928960"/>
              <a:ext cx="33480" cy="1724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25200" y="2929680"/>
              <a:ext cx="32040" cy="1591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427000" y="2930400"/>
              <a:ext cx="29880" cy="1454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28080" y="2930400"/>
              <a:ext cx="28800" cy="1328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29520" y="2930760"/>
              <a:ext cx="27360" cy="11952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431320" y="2931480"/>
              <a:ext cx="25920" cy="1065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32400" y="2932200"/>
              <a:ext cx="24120" cy="9324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34200" y="2932200"/>
              <a:ext cx="22320" cy="7992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35280" y="293292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37080" y="293328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38520" y="293400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18000" y="3138840"/>
              <a:ext cx="285480" cy="5472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18000" y="3138840"/>
              <a:ext cx="269640" cy="5256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000" y="313884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18360" y="313884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18360" y="313884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18360" y="313884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18720" y="313884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18720" y="313884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18720" y="313884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418720" y="3138840"/>
              <a:ext cx="144720" cy="3384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18720" y="313884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418720" y="313884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418720" y="3138840"/>
              <a:ext cx="97920" cy="2700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419080" y="313884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419080" y="3138840"/>
              <a:ext cx="66240" cy="2196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81160" y="2947680"/>
              <a:ext cx="43200" cy="24552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81160" y="2962080"/>
              <a:ext cx="41760" cy="23112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81160" y="2976120"/>
              <a:ext cx="40680" cy="217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81160" y="2990160"/>
              <a:ext cx="39240" cy="20304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81160" y="3004560"/>
              <a:ext cx="38160" cy="1886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81160" y="3018960"/>
              <a:ext cx="36720" cy="1742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81160" y="3033360"/>
              <a:ext cx="35640" cy="1598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81160" y="3047400"/>
              <a:ext cx="34200" cy="1454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81160" y="3062160"/>
              <a:ext cx="33120" cy="1310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81160" y="3076200"/>
              <a:ext cx="31680" cy="11700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81160" y="3090240"/>
              <a:ext cx="3024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681160" y="3104640"/>
              <a:ext cx="29160" cy="885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81160" y="3119040"/>
              <a:ext cx="27720" cy="741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81160" y="31330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81160" y="314784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60840" y="315468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459760" y="315684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46440" y="2948760"/>
              <a:ext cx="249840" cy="215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55240" y="31957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55240" y="31957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55240" y="31960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655240" y="3196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55240" y="31968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12760" y="31921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419080" y="316188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19080" y="31618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419080" y="31622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19080" y="31629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419080" y="31633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19080" y="31633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419080" y="3163680"/>
              <a:ext cx="3888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653080" y="32043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32047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53080" y="32047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53080" y="3205800"/>
              <a:ext cx="4644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653080" y="32061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53080" y="3206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653080" y="32065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53080" y="3206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53080" y="32076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17640" y="31687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17640" y="31690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17640" y="31690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417640" y="31701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417640" y="3170520"/>
              <a:ext cx="3852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417640" y="31705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417640" y="31708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93080" y="3283200"/>
              <a:ext cx="345960" cy="9180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92720" y="3276720"/>
              <a:ext cx="350640" cy="8172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93080" y="3277080"/>
              <a:ext cx="349200" cy="8136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93080" y="3277080"/>
              <a:ext cx="348840" cy="810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93080" y="3277800"/>
              <a:ext cx="348480" cy="8028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93440" y="32781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93440" y="3278520"/>
              <a:ext cx="347400" cy="7848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93800" y="3278520"/>
              <a:ext cx="346320" cy="7812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93800" y="3278880"/>
              <a:ext cx="345960" cy="7776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93800" y="32792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94160" y="3279240"/>
              <a:ext cx="344160" cy="763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94520" y="32799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405400" y="3280320"/>
              <a:ext cx="107640" cy="435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48600" y="32954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429520" y="32918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83520" y="33015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88560" y="33116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73080" y="33069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68760" y="33296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21240" y="33210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20520" y="3297240"/>
              <a:ext cx="792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450760" y="32958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430600" y="32918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484960" y="33022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8920" y="33123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74160" y="33073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69480" y="333036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422320" y="33217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420880" y="32979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454360" y="32965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433480" y="32925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487480" y="33026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490000" y="33123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474520" y="33073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70200" y="33303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423040" y="33217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421960" y="32976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456520" y="32965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434920" y="32925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488920" y="33026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490360" y="33123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475600" y="33073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470560" y="33300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23400" y="33217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22320" y="32976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456520" y="32965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434920" y="32925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88920" y="33026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90000" y="33123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74880" y="33073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470200" y="33300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423400" y="33217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422320" y="3297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453640" y="32806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37080" y="32770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54360" y="32857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37800" y="32821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50040" y="3252960"/>
              <a:ext cx="75960" cy="3240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83160" y="32360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81440" y="32547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03040" y="32598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6240" y="32652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24640" y="32612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64160" y="32522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64440" y="32346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4280" y="32310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29160" y="32292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0" y="32270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394600" y="32274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378400" y="32256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65080" y="32230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378760" y="32115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391360" y="31996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01440" y="31924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0800" y="31852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06120" y="32162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398560" y="32065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1520" y="31996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35440" y="32302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64240" y="32223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56680" y="32353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429160" y="31874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451120" y="32234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443920" y="32133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56520" y="320688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51120" y="31978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74160" y="31946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96680" y="3225960"/>
              <a:ext cx="377280" cy="11916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67480" y="32169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52480" y="3178800"/>
              <a:ext cx="66600" cy="457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5160" y="32457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27520" y="32526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06640" y="32493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99440" y="32400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12760" y="32335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06640" y="3224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29680" y="32205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86120" y="32461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8200" y="32360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91520" y="32299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86120" y="32205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08440" y="32176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567400" y="32425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559480" y="32331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572440" y="32266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567400" y="3217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589720" y="32137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487480" y="32306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79560" y="32205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92520" y="32144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87480" y="32050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509800" y="32022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549040" y="32400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541840" y="32302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554440" y="32234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9040" y="32148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72080" y="32112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28520" y="3237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521320" y="32270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3920" y="3220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528520" y="3211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551560" y="32083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506560" y="32335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98640" y="32238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11960" y="32169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06560" y="32083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529600" y="32047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468400" y="32266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460840" y="321696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73800" y="3210120"/>
              <a:ext cx="1728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468400" y="3201480"/>
              <a:ext cx="1764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491080" y="31978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32040" y="32212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424840" y="32115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37440" y="32047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32040" y="31960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455080" y="31924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39600" y="292428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14400" y="3177360"/>
              <a:ext cx="287640" cy="493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7524720" y="4869000"/>
            <a:ext cx="436680" cy="452160"/>
            <a:chOff x="7524720" y="4869000"/>
            <a:chExt cx="436680" cy="452160"/>
          </a:xfrm>
        </p:grpSpPr>
        <p:sp>
          <p:nvSpPr>
            <p:cNvPr id="2622" name=""/>
            <p:cNvSpPr/>
            <p:nvPr/>
          </p:nvSpPr>
          <p:spPr>
            <a:xfrm>
              <a:off x="7525080" y="4869000"/>
              <a:ext cx="43632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48200" y="4871880"/>
              <a:ext cx="3888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50000" y="4872600"/>
              <a:ext cx="3708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51080" y="487296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652520" y="4873320"/>
              <a:ext cx="3456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54320" y="4873680"/>
              <a:ext cx="3276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55400" y="4874400"/>
              <a:ext cx="3168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57200" y="4875120"/>
              <a:ext cx="2952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58280" y="487512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59720" y="4875840"/>
              <a:ext cx="2700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61160" y="487620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62600" y="487692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64400" y="487692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6548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67280" y="487800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68360" y="4878720"/>
              <a:ext cx="1764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48200" y="5083920"/>
              <a:ext cx="28152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48200" y="5083920"/>
              <a:ext cx="2660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48200" y="5083920"/>
              <a:ext cx="2509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48560" y="5083920"/>
              <a:ext cx="23544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48560" y="5083920"/>
              <a:ext cx="21996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48560" y="5083920"/>
              <a:ext cx="20484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49280" y="5083920"/>
              <a:ext cx="18900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49280" y="5083920"/>
              <a:ext cx="17352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49280" y="5083920"/>
              <a:ext cx="15840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49280" y="5083920"/>
              <a:ext cx="1429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49280" y="5083920"/>
              <a:ext cx="1274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49280" y="5083920"/>
              <a:ext cx="1116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49280" y="5083920"/>
              <a:ext cx="9684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49640" y="5083920"/>
              <a:ext cx="8100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49640" y="5083920"/>
              <a:ext cx="6516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7760" y="4892400"/>
              <a:ext cx="4248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907760" y="4906800"/>
              <a:ext cx="4140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907760" y="4920840"/>
              <a:ext cx="3996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907760" y="4934880"/>
              <a:ext cx="3888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907760" y="4949640"/>
              <a:ext cx="3744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907760" y="496404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907760" y="4978440"/>
              <a:ext cx="3492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07760" y="499284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07760" y="5007240"/>
              <a:ext cx="3240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907760" y="5021640"/>
              <a:ext cx="3132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907760" y="5035680"/>
              <a:ext cx="2988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07760" y="5049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07760" y="5064480"/>
              <a:ext cx="2736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07760" y="5078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07760" y="5093280"/>
              <a:ext cx="2484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690680" y="5100120"/>
              <a:ext cx="19296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689240" y="5102280"/>
              <a:ext cx="19188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676280" y="4893480"/>
              <a:ext cx="2462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882200" y="5141160"/>
              <a:ext cx="4644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882200" y="5141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882200" y="5141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882200" y="5141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882200" y="514260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84044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49640" y="5107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649640" y="5107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649640" y="5107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49640" y="51084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649640" y="5108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649640" y="5108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649640" y="5109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880040" y="5149800"/>
              <a:ext cx="4644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880040" y="5150160"/>
              <a:ext cx="4644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880040" y="5150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80040" y="5151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880040" y="5151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880040" y="515232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80040" y="515232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880040" y="51526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880040" y="5153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647840" y="5114160"/>
              <a:ext cx="3816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647840" y="5114520"/>
              <a:ext cx="3816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647840" y="511452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647840" y="511560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47840" y="511596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47840" y="511596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647840" y="511668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25080" y="5229000"/>
              <a:ext cx="34128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524720" y="5222520"/>
              <a:ext cx="34560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25080" y="5222880"/>
              <a:ext cx="34452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25080" y="5222880"/>
              <a:ext cx="34416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25080" y="5223600"/>
              <a:ext cx="34380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25440" y="5223960"/>
              <a:ext cx="34272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25440" y="5224320"/>
              <a:ext cx="34236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25800" y="5224320"/>
              <a:ext cx="34164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525800" y="5224680"/>
              <a:ext cx="34128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525800" y="5225400"/>
              <a:ext cx="34020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526160" y="5225400"/>
              <a:ext cx="33948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526520" y="5225760"/>
              <a:ext cx="33876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635600" y="5226120"/>
              <a:ext cx="10620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678440" y="5241240"/>
              <a:ext cx="2700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59720" y="5237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713000" y="5247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718040" y="5257800"/>
              <a:ext cx="468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7029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69824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65144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650720" y="5243040"/>
              <a:ext cx="756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80600" y="5241600"/>
              <a:ext cx="2232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6080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71408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71840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70364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9896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52520" y="5267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51080" y="5244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84200" y="5242320"/>
              <a:ext cx="1692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6633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716600" y="52484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71912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0400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700040" y="527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3240" y="526788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52160" y="52437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686360" y="5242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6512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718400" y="5248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71948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70508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004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5360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65252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86360" y="5242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65120" y="5238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718400" y="5248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1912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70436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000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65360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65252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683480" y="5226840"/>
              <a:ext cx="5724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667280" y="5222880"/>
              <a:ext cx="2232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684200" y="5231520"/>
              <a:ext cx="5616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668000" y="5227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9880" y="5198760"/>
              <a:ext cx="7488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712280" y="5181840"/>
              <a:ext cx="7416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809480" y="5200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30720" y="5205600"/>
              <a:ext cx="1440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73560" y="5211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851960" y="52070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9256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693920" y="5180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74480" y="5176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59360" y="51750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44600" y="5172840"/>
              <a:ext cx="1224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62516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609320" y="5171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9636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60968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62192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63200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64100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36680" y="5161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629120" y="51523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642080" y="51454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86276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891200" y="5168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83640" y="518112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659360" y="5132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80960" y="51692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673760" y="515916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86360" y="51526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80960" y="5143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03640" y="5140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528680" y="5171760"/>
              <a:ext cx="37224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894440" y="5162760"/>
              <a:ext cx="3816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583760" y="5124240"/>
              <a:ext cx="6552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872120" y="519156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854840" y="519840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83432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8274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0440" y="5178960"/>
              <a:ext cx="1728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3432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5700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13800" y="519192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806240" y="51818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1920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813800" y="5166360"/>
              <a:ext cx="1728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836120" y="5163120"/>
              <a:ext cx="1728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95440" y="51883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8788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004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795440" y="51631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177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716600" y="5176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709040" y="5166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21640" y="5159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716600" y="5150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738920" y="5147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777440" y="518544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770240" y="5176080"/>
              <a:ext cx="1440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782840" y="516924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77440" y="516024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00120" y="5156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57280" y="518292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750080" y="517284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762680" y="5166360"/>
              <a:ext cx="1692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757280" y="5157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779960" y="515412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73532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2812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41080" y="51627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3532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58000" y="5150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97880" y="5172120"/>
              <a:ext cx="1728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90680" y="516276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03280" y="51559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697880" y="5147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20560" y="5143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6224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55040" y="51570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667640" y="515016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66224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84920" y="51379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669800" y="4869000"/>
              <a:ext cx="2808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644600" y="5122800"/>
              <a:ext cx="2836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6372360" y="4869000"/>
            <a:ext cx="442800" cy="452160"/>
            <a:chOff x="6372360" y="4869000"/>
            <a:chExt cx="442800" cy="452160"/>
          </a:xfrm>
        </p:grpSpPr>
        <p:sp>
          <p:nvSpPr>
            <p:cNvPr id="2877" name=""/>
            <p:cNvSpPr/>
            <p:nvPr/>
          </p:nvSpPr>
          <p:spPr>
            <a:xfrm>
              <a:off x="6372720" y="4869000"/>
              <a:ext cx="44244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497640" y="4871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499440" y="4872600"/>
              <a:ext cx="3744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500520" y="4872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501960" y="4873320"/>
              <a:ext cx="3528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503760" y="4873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04840" y="4874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06640" y="4875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07720" y="4875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09160" y="4875840"/>
              <a:ext cx="2736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510960" y="4876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512040" y="4876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513840" y="4876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1492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16720" y="4878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18160" y="4878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97640" y="5083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97640" y="5083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497640" y="5083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498000" y="5083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498000" y="508392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98000" y="5083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498360" y="5083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498360" y="508392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498360" y="5083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498360" y="5083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498360" y="5083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498360" y="5083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98360" y="5083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498720" y="5083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498720" y="5083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760800" y="4892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760800" y="4906800"/>
              <a:ext cx="4176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760800" y="4920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760800" y="4934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760800" y="4949640"/>
              <a:ext cx="3816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760800" y="4964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760800" y="4978440"/>
              <a:ext cx="3564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760800" y="4992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60800" y="5007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760800" y="5021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60800" y="5035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60800" y="5049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60800" y="5064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760800" y="5078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760800" y="509328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40480" y="5100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39400" y="510228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26080" y="4893480"/>
              <a:ext cx="2498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34880" y="5141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734880" y="5141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34880" y="5141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734880" y="5141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34880" y="5142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692400" y="5137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498720" y="5107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498720" y="5107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498720" y="5107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98720" y="5108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498720" y="5108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498720" y="5108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498720" y="5109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732720" y="5149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732720" y="5150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732720" y="5150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732720" y="5151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732720" y="5151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732720" y="5152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732720" y="5152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732720" y="5152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32720" y="5153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497280" y="5114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497280" y="5114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497280" y="5114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497280" y="5115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497280" y="5115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497280" y="5115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497280" y="5116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372720" y="5229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372360" y="5222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372720" y="5222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72720" y="5222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372720" y="5223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373080" y="52239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373080" y="5224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73440" y="5224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373440" y="5224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373440" y="5225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373800" y="5225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374160" y="5225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485040" y="5226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28240" y="5241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09160" y="5237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63160" y="5247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68200" y="5257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5527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4840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50088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00160" y="5243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30400" y="5241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51024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56460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6856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5380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4912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01960" y="5267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500520" y="5244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34000" y="5242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131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67120" y="5248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6964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5416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49840" y="5276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02680" y="5267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01600" y="5243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36160" y="5242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51456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568560" y="5248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7000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5524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502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0304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50196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536160" y="5242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14560" y="5238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68560" y="5248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6964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452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5498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50304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0196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533280" y="5226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6720" y="5222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534000" y="5231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517440" y="5227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529680" y="5198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562800" y="5181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661080" y="5200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82680" y="5205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725880" y="5211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704280" y="5207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64380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544080" y="5180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523920" y="5176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508800" y="5175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494040" y="5172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47424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458040" y="5171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44472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45840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7100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48108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9044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485760" y="5161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478200" y="5152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491160" y="5145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1508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743880" y="5168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736320" y="5181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508800" y="5132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530760" y="5169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523560" y="5159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536160" y="5152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530760" y="5143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553800" y="5140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376320" y="5171760"/>
              <a:ext cx="37728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747120" y="5162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432120" y="5124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24800" y="5191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707160" y="5198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68628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6790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692400" y="5178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8628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70932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665760" y="5191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657840" y="5181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67116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65760" y="5166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688080" y="5163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47040" y="5188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912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520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47040" y="5163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693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567120" y="5176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559200" y="5166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72160" y="5159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67120" y="5150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89440" y="5147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628680" y="5185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621480" y="5176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634080" y="5169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628680" y="5160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651720" y="5156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608160" y="5182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00960" y="5172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613560" y="5166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608160" y="5157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6312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8620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57828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59160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58620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609240" y="5150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48040" y="5172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40480" y="5162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53440" y="5155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48040" y="5147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570720" y="5143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1168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504480" y="5157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517080" y="5150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51168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34720" y="5137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19240" y="4869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494040" y="5122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8101080" y="2852640"/>
            <a:ext cx="439560" cy="452520"/>
            <a:chOff x="8101080" y="2852640"/>
            <a:chExt cx="439560" cy="452520"/>
          </a:xfrm>
        </p:grpSpPr>
        <p:sp>
          <p:nvSpPr>
            <p:cNvPr id="3132" name=""/>
            <p:cNvSpPr/>
            <p:nvPr/>
          </p:nvSpPr>
          <p:spPr>
            <a:xfrm>
              <a:off x="8101440" y="2852640"/>
              <a:ext cx="43920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25280" y="2855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227080" y="2856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228520" y="285660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229600" y="2856960"/>
              <a:ext cx="3492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231400" y="2857320"/>
              <a:ext cx="3312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232480" y="2858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34280" y="2858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35720" y="285876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236800" y="2859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238600" y="285984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239680" y="286056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241480" y="286056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2920" y="2861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244360" y="286164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245800" y="2862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25280" y="3067920"/>
              <a:ext cx="2836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225280" y="3067920"/>
              <a:ext cx="2678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225280" y="3067920"/>
              <a:ext cx="2527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26000" y="3067920"/>
              <a:ext cx="2368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226000" y="3067920"/>
              <a:ext cx="2214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26000" y="3067920"/>
              <a:ext cx="20628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226360" y="3067920"/>
              <a:ext cx="19008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226360" y="3067920"/>
              <a:ext cx="17460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226360" y="3067920"/>
              <a:ext cx="15948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226360" y="3067920"/>
              <a:ext cx="14364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226360" y="3067920"/>
              <a:ext cx="12816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226360" y="3067920"/>
              <a:ext cx="11232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226360" y="3067920"/>
              <a:ext cx="9720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226720" y="3067920"/>
              <a:ext cx="8136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226720" y="3067920"/>
              <a:ext cx="6552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486640" y="2876040"/>
              <a:ext cx="4284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486640" y="2890440"/>
              <a:ext cx="4140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486640" y="2904480"/>
              <a:ext cx="4032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486640" y="2918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486640" y="2933280"/>
              <a:ext cx="3780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486640" y="294768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486640" y="2962080"/>
              <a:ext cx="3528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486640" y="297648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486640" y="2990880"/>
              <a:ext cx="3276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486640" y="3005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486640" y="3019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486640" y="3033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486640" y="3048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486640" y="3062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86640" y="3076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268120" y="3083760"/>
              <a:ext cx="19440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266680" y="3086280"/>
              <a:ext cx="19332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253720" y="2877120"/>
              <a:ext cx="2480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461080" y="3125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461080" y="3125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461080" y="3125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461080" y="3125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461080" y="312624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18600" y="3121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226720" y="3091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226720" y="3091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226720" y="3091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226720" y="309204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26720" y="3092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26720" y="3092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26720" y="3093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458920" y="3133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458920" y="3134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458920" y="3134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458920" y="3135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458920" y="3135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458920" y="3135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458920" y="31359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458920" y="313632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458920" y="3137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224920" y="3098160"/>
              <a:ext cx="3852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4920" y="3098520"/>
              <a:ext cx="3852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4920" y="3098520"/>
              <a:ext cx="3852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224920" y="3099600"/>
              <a:ext cx="3852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224920" y="3099960"/>
              <a:ext cx="3816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224920" y="3099960"/>
              <a:ext cx="3816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224920" y="3100320"/>
              <a:ext cx="3816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101440" y="3213000"/>
              <a:ext cx="34344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101080" y="3206520"/>
              <a:ext cx="34812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101440" y="3206880"/>
              <a:ext cx="34668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101440" y="3206880"/>
              <a:ext cx="34632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101440" y="3207600"/>
              <a:ext cx="34596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101800" y="3207960"/>
              <a:ext cx="34524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101800" y="3208320"/>
              <a:ext cx="34452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102160" y="3208320"/>
              <a:ext cx="34380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102160" y="3208680"/>
              <a:ext cx="34344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102160" y="3209040"/>
              <a:ext cx="34236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102520" y="3209040"/>
              <a:ext cx="34164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102880" y="3209760"/>
              <a:ext cx="34092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212680" y="3210120"/>
              <a:ext cx="10692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255880" y="3225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236800" y="3221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290440" y="3231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295480" y="3241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280360" y="3236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275680" y="3259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228880" y="3250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228160" y="3227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258040" y="3225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38240" y="3221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291880" y="3232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295840" y="3242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281080" y="3237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276400" y="3260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229600" y="3251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228520" y="3228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261640" y="3226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240760" y="3222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294400" y="3232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296560" y="324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281440" y="3237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277480" y="3260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230680" y="3251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229240" y="3227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263800" y="3226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242200" y="3222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295840" y="3232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297280" y="324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2520" y="3237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277840" y="3260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231040" y="3251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229600" y="3227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263800" y="3226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242200" y="3222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295840" y="3232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296560" y="324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282160" y="3237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277480" y="3260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231040" y="3251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229600" y="3227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260920" y="3210480"/>
              <a:ext cx="5760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244360" y="3206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61640" y="3215520"/>
              <a:ext cx="5652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45080" y="3211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56960" y="3182760"/>
              <a:ext cx="7524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90080" y="3165840"/>
              <a:ext cx="7452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87640" y="3184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408880" y="3189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452080" y="3195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430480" y="3191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70720" y="3181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71360" y="3164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51560" y="3160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36440" y="3159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21680" y="3156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02240" y="3157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186040" y="3155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173080" y="3152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186760" y="3141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198640" y="3129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09080" y="3121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18080" y="3114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13760" y="3145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05840" y="3135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19160" y="312912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441280" y="3159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469720" y="3152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462160" y="316476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236440" y="3116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258400" y="31528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251200" y="314280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263800" y="31363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258400" y="3127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281080" y="31240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05040" y="3155760"/>
              <a:ext cx="37476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73320" y="3146400"/>
              <a:ext cx="3852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60480" y="3108240"/>
              <a:ext cx="6588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51000" y="317520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33360" y="318204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2840" y="3179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05640" y="3169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8600" y="3162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2840" y="3153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35520" y="3150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392320" y="3175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384760" y="3165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397720" y="3159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392320" y="3150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414640" y="3147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373600" y="3172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366040" y="3162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378640" y="3156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373600" y="3147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395920" y="3143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294400" y="3160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286840" y="3150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99440" y="3143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94400" y="3134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316720" y="3131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355240" y="3169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348400" y="3159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61000" y="315288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55240" y="3144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78280" y="3140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35080" y="316656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327880" y="315648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340840" y="3150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335080" y="3141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358120" y="313776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313120" y="3162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305560" y="3153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318880" y="3146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313120" y="3137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336160" y="3134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75320" y="3156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68120" y="314640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280720" y="3139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275320" y="3130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298000" y="3127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239320" y="3150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232120" y="3141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244720" y="3134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239320" y="3125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262360" y="3121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246880" y="2852640"/>
              <a:ext cx="2826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221680" y="3106800"/>
              <a:ext cx="2854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7740720" y="1844640"/>
            <a:ext cx="442800" cy="452520"/>
            <a:chOff x="7740720" y="1844640"/>
            <a:chExt cx="442800" cy="452520"/>
          </a:xfrm>
        </p:grpSpPr>
        <p:sp>
          <p:nvSpPr>
            <p:cNvPr id="3387" name=""/>
            <p:cNvSpPr/>
            <p:nvPr/>
          </p:nvSpPr>
          <p:spPr>
            <a:xfrm>
              <a:off x="7741080" y="184464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866000" y="1847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867800" y="1848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868880" y="184860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70320" y="184896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872120" y="184932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873200" y="1850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75000" y="1850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876080" y="185076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877520" y="1851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79320" y="185184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80400" y="185256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882200" y="185256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83280" y="1853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885080" y="185364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886520" y="1854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866000" y="2059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866000" y="2059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866000" y="2059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66360" y="2059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866360" y="205992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866360" y="2059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66720" y="2059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866720" y="205992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866720" y="2059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866720" y="2059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866720" y="2059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866720" y="2059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866720" y="2059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7080" y="2059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67080" y="2059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29160" y="186804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29160" y="188244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29160" y="189648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29160" y="1910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129160" y="192528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29160" y="193968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29160" y="195408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29160" y="196848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29160" y="198288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29160" y="1997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129160" y="2011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29160" y="2025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129160" y="2040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129160" y="2054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129160" y="2068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908840" y="207576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907760" y="207828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94440" y="186912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03240" y="2117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03240" y="2117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103240" y="2117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103240" y="2117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103240" y="211824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060760" y="2113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867080" y="2083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867080" y="2083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867080" y="2083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867080" y="208404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867080" y="2084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867080" y="2084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867080" y="2085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01080" y="2125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01080" y="2126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01080" y="2126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101080" y="2127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101080" y="2127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101080" y="2127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101080" y="212796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101080" y="212832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101080" y="2129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865640" y="2090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865640" y="2090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865640" y="2090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865640" y="2091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865640" y="2091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865640" y="2091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865640" y="209232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741080" y="2205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740720" y="2198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741080" y="2198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741080" y="2198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41080" y="2199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741440" y="219996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41440" y="2200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741800" y="2200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41800" y="2200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741800" y="22010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742160" y="220104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742520" y="2201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853400" y="2202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96600" y="2217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877520" y="2213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931520" y="2223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936560" y="2233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921080" y="2228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916760" y="2251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869240" y="2242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868520" y="2219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898760" y="2217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878600" y="2213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32960" y="2224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936920" y="2234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922160" y="2229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917480" y="2252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870320" y="2243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868880" y="2220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902360" y="2218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881480" y="2214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935480" y="2224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38000" y="2234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922520" y="2229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18200" y="2252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871040" y="2243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869960" y="2219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04520" y="2218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882920" y="2214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36920" y="2224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38360" y="2234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923600" y="2229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918560" y="2252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71400" y="2243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870320" y="2219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904520" y="2218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82920" y="2214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936920" y="2224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938000" y="2234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922880" y="2229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918200" y="2252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871400" y="2243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870320" y="2219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901640" y="22024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85080" y="2198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902360" y="2207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85800" y="2203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98040" y="2174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31160" y="2157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029440" y="2176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051040" y="2181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094240" y="2187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072640" y="2183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012160" y="2173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912440" y="2156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92280" y="2152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877160" y="2151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862400" y="2148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842600" y="2149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6400" y="2147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813080" y="2144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826760" y="2133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839360" y="2121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49440" y="2113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858800" y="2106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854120" y="2137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846560" y="2127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859520" y="212112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083440" y="2151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112240" y="2144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8104680" y="215676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77160" y="2108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899120" y="21448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91920" y="213480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904520" y="212832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899120" y="2119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922160" y="21160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744680" y="214776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115480" y="213840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800480" y="2100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093160" y="216720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8075520" y="217404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054640" y="2171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8047440" y="2161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060760" y="2154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054640" y="2145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077680" y="2142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034120" y="2167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026200" y="2157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8039520" y="2151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034120" y="2142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8056440" y="2139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015400" y="2164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8007480" y="2154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8020440" y="2148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8015400" y="2139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8037720" y="2135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935480" y="2152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927560" y="2142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40520" y="2135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935480" y="2126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957800" y="2123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997040" y="2161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89840" y="2151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8002440" y="214488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997040" y="2136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8020080" y="2132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976520" y="2158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969320" y="214848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981920" y="2142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976520" y="2133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999560" y="212976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954560" y="2154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946640" y="2145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959960" y="2138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954560" y="2129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977600" y="2126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916400" y="2148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908840" y="213840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921800" y="2131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16400" y="2122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39080" y="2119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880040" y="2142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872840" y="2133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885440" y="2126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880040" y="2117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903080" y="2113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887600" y="184464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862400" y="2098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1" name=""/>
          <p:cNvSpPr/>
          <p:nvPr/>
        </p:nvSpPr>
        <p:spPr>
          <a:xfrm>
            <a:off x="6084720" y="1701720"/>
            <a:ext cx="158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-type Structure with Sing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2" name=""/>
          <p:cNvGrpSpPr/>
          <p:nvPr/>
        </p:nvGrpSpPr>
        <p:grpSpPr>
          <a:xfrm>
            <a:off x="5132160" y="4267080"/>
            <a:ext cx="635760" cy="671400"/>
            <a:chOff x="5132160" y="4267080"/>
            <a:chExt cx="635760" cy="671400"/>
          </a:xfrm>
        </p:grpSpPr>
        <p:sp>
          <p:nvSpPr>
            <p:cNvPr id="3643" name=""/>
            <p:cNvSpPr/>
            <p:nvPr/>
          </p:nvSpPr>
          <p:spPr>
            <a:xfrm>
              <a:off x="5212080" y="4344840"/>
              <a:ext cx="478440" cy="5158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5132160" y="4267080"/>
              <a:ext cx="635760" cy="671400"/>
              <a:chOff x="5132160" y="4267080"/>
              <a:chExt cx="635760" cy="671400"/>
            </a:xfrm>
          </p:grpSpPr>
          <p:sp>
            <p:nvSpPr>
              <p:cNvPr id="3645" name=""/>
              <p:cNvSpPr/>
              <p:nvPr/>
            </p:nvSpPr>
            <p:spPr>
              <a:xfrm>
                <a:off x="5140440" y="4267080"/>
                <a:ext cx="62028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6" name=""/>
              <p:cNvGrpSpPr/>
              <p:nvPr/>
            </p:nvGrpSpPr>
            <p:grpSpPr>
              <a:xfrm>
                <a:off x="5335920" y="4267080"/>
                <a:ext cx="228960" cy="670320"/>
                <a:chOff x="5335920" y="4267080"/>
                <a:chExt cx="228960" cy="670320"/>
              </a:xfrm>
            </p:grpSpPr>
            <p:sp>
              <p:nvSpPr>
                <p:cNvPr id="3647" name=""/>
                <p:cNvSpPr/>
                <p:nvPr/>
              </p:nvSpPr>
              <p:spPr>
                <a:xfrm>
                  <a:off x="5335920" y="4267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5335920" y="4861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9" name=""/>
              <p:cNvGrpSpPr/>
              <p:nvPr/>
            </p:nvGrpSpPr>
            <p:grpSpPr>
              <a:xfrm>
                <a:off x="5140440" y="4478760"/>
                <a:ext cx="619200" cy="247680"/>
                <a:chOff x="5140440" y="4478760"/>
                <a:chExt cx="619200" cy="247680"/>
              </a:xfrm>
            </p:grpSpPr>
            <p:sp>
              <p:nvSpPr>
                <p:cNvPr id="3650" name=""/>
                <p:cNvSpPr/>
                <p:nvPr/>
              </p:nvSpPr>
              <p:spPr>
                <a:xfrm rot="5400000">
                  <a:off x="560052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rot="5400000">
                  <a:off x="505188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5144040" y="4296240"/>
                <a:ext cx="613080" cy="612720"/>
                <a:chOff x="5144040" y="4296240"/>
                <a:chExt cx="613080" cy="612720"/>
              </a:xfrm>
            </p:grpSpPr>
            <p:sp>
              <p:nvSpPr>
                <p:cNvPr id="3653" name=""/>
                <p:cNvSpPr/>
                <p:nvPr/>
              </p:nvSpPr>
              <p:spPr>
                <a:xfrm rot="2700000">
                  <a:off x="5520600" y="437328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rot="2700000">
                  <a:off x="5132520" y="47610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5132160" y="4285080"/>
                <a:ext cx="635760" cy="635760"/>
                <a:chOff x="5132160" y="4285080"/>
                <a:chExt cx="635760" cy="635760"/>
              </a:xfrm>
            </p:grpSpPr>
            <p:sp>
              <p:nvSpPr>
                <p:cNvPr id="3656" name=""/>
                <p:cNvSpPr/>
                <p:nvPr/>
              </p:nvSpPr>
              <p:spPr>
                <a:xfrm rot="8100000">
                  <a:off x="5545440" y="477432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rot="8100000">
                  <a:off x="5125680" y="435456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8" name=""/>
          <p:cNvGrpSpPr/>
          <p:nvPr/>
        </p:nvGrpSpPr>
        <p:grpSpPr>
          <a:xfrm>
            <a:off x="5364000" y="4797360"/>
            <a:ext cx="443160" cy="455760"/>
            <a:chOff x="5364000" y="4797360"/>
            <a:chExt cx="443160" cy="455760"/>
          </a:xfrm>
        </p:grpSpPr>
        <p:sp>
          <p:nvSpPr>
            <p:cNvPr id="3659" name=""/>
            <p:cNvSpPr/>
            <p:nvPr/>
          </p:nvSpPr>
          <p:spPr>
            <a:xfrm>
              <a:off x="5364360" y="4797360"/>
              <a:ext cx="442800" cy="4554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489280" y="4800240"/>
              <a:ext cx="39240" cy="2275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491080" y="4800960"/>
              <a:ext cx="37800" cy="2145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492520" y="4801320"/>
              <a:ext cx="36360" cy="20052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493600" y="4801680"/>
              <a:ext cx="35280" cy="1879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495400" y="4802040"/>
              <a:ext cx="33480" cy="17460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496480" y="4802760"/>
              <a:ext cx="32040" cy="1609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498280" y="4803480"/>
              <a:ext cx="29880" cy="147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499720" y="4803480"/>
              <a:ext cx="28800" cy="1342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500800" y="4804200"/>
              <a:ext cx="27360" cy="1209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502600" y="4804560"/>
              <a:ext cx="25920" cy="10764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03680" y="4805280"/>
              <a:ext cx="24120" cy="9432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505480" y="4805280"/>
              <a:ext cx="22320" cy="8100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506920" y="4806000"/>
              <a:ext cx="20880" cy="680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508720" y="4806360"/>
              <a:ext cx="19440" cy="5400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09800" y="4807440"/>
              <a:ext cx="18000" cy="4068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489280" y="5014080"/>
              <a:ext cx="285840" cy="5544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489280" y="5014080"/>
              <a:ext cx="270000" cy="5328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489280" y="5014080"/>
              <a:ext cx="254880" cy="5076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490000" y="5014080"/>
              <a:ext cx="239040" cy="4860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490000" y="50140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490000" y="5014080"/>
              <a:ext cx="207720" cy="4356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490360" y="5014080"/>
              <a:ext cx="191880" cy="4176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490360" y="50140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490360" y="5014080"/>
              <a:ext cx="160560" cy="367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490360" y="5014080"/>
              <a:ext cx="145080" cy="345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490360" y="5014080"/>
              <a:ext cx="129240" cy="320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490360" y="50140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490360" y="5014080"/>
              <a:ext cx="9828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5490720" y="5014080"/>
              <a:ext cx="82080" cy="248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490720" y="50140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752800" y="4821120"/>
              <a:ext cx="43200" cy="2480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752800" y="4835520"/>
              <a:ext cx="41760" cy="2340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752800" y="4849560"/>
              <a:ext cx="40680" cy="2196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52800" y="4863960"/>
              <a:ext cx="39240" cy="2052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752800" y="4878720"/>
              <a:ext cx="38160" cy="1904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752800" y="4893120"/>
              <a:ext cx="36720" cy="1764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752800" y="4907880"/>
              <a:ext cx="35640" cy="1616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52800" y="4921920"/>
              <a:ext cx="34200" cy="147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52800" y="4936680"/>
              <a:ext cx="33120" cy="13248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52800" y="4951080"/>
              <a:ext cx="31680" cy="11808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52800" y="4965120"/>
              <a:ext cx="30240" cy="1040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752800" y="4979520"/>
              <a:ext cx="29160" cy="896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52800" y="4994280"/>
              <a:ext cx="28080" cy="7488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752800" y="5008680"/>
              <a:ext cx="26640" cy="604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52800" y="502344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532480" y="5030280"/>
              <a:ext cx="195840" cy="4356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531040" y="50324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518080" y="4822200"/>
              <a:ext cx="250200" cy="2178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26880" y="5071680"/>
              <a:ext cx="4716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726880" y="5071680"/>
              <a:ext cx="4680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26880" y="5072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26880" y="5072040"/>
              <a:ext cx="46800" cy="1152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726880" y="5073120"/>
              <a:ext cx="46800" cy="1008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684400" y="506808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490720" y="503784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490720" y="503784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90720" y="503820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90720" y="50385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490720" y="50389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490720" y="50389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490720" y="50392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24720" y="5080680"/>
              <a:ext cx="4716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724720" y="5081040"/>
              <a:ext cx="4716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724720" y="5081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724720" y="5081760"/>
              <a:ext cx="4680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724720" y="5082120"/>
              <a:ext cx="46800" cy="1008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724720" y="508284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724720" y="5082840"/>
              <a:ext cx="4680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724720" y="5083200"/>
              <a:ext cx="4680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724720" y="5083920"/>
              <a:ext cx="4680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488920" y="504468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488920" y="504504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488920" y="504504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488920" y="50457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88920" y="504648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488920" y="504648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88920" y="504684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364360" y="5160240"/>
              <a:ext cx="346320" cy="9288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64000" y="5153760"/>
              <a:ext cx="351000" cy="8280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64360" y="5154120"/>
              <a:ext cx="349560" cy="8244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64360" y="5154120"/>
              <a:ext cx="349200" cy="8172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364360" y="5154840"/>
              <a:ext cx="348840" cy="8136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364720" y="5155200"/>
              <a:ext cx="347760" cy="7992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364720" y="5155560"/>
              <a:ext cx="347400" cy="7956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365080" y="5155560"/>
              <a:ext cx="346680" cy="7884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65080" y="5155920"/>
              <a:ext cx="346320" cy="7848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365080" y="5156280"/>
              <a:ext cx="345240" cy="7776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365440" y="5156280"/>
              <a:ext cx="344520" cy="7740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365800" y="5157000"/>
              <a:ext cx="343800" cy="7632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76680" y="5157360"/>
              <a:ext cx="108000" cy="4428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519880" y="517248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500800" y="51688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554800" y="51789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559840" y="51890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544720" y="51840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540040" y="52070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92880" y="5198400"/>
              <a:ext cx="8280" cy="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91800" y="517428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522040" y="51732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502240" y="5168880"/>
              <a:ext cx="15480" cy="468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556240" y="51796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560560" y="51897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545440" y="51847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540760" y="52081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493600" y="5199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492520" y="51753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526000" y="5173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504760" y="51699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558760" y="51800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561280" y="51897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546160" y="51847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541840" y="52081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494320" y="5199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493240" y="51750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528160" y="517356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506560" y="5169960"/>
              <a:ext cx="936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560560" y="51800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561640" y="51897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546880" y="51847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542200" y="52077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95040" y="51994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493600" y="51750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528160" y="517356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506560" y="51699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560560" y="51800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561280" y="51897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546520" y="51847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541840" y="52077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495040" y="51994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493600" y="5175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525280" y="5158080"/>
              <a:ext cx="57960" cy="1836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508720" y="515412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526000" y="5162760"/>
              <a:ext cx="56880" cy="1332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509440" y="515916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21320" y="512964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554440" y="5112720"/>
              <a:ext cx="7524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52720" y="513144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74320" y="513684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717880" y="5142240"/>
              <a:ext cx="16560" cy="86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96280" y="51379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35800" y="512892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535720" y="511128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515920" y="510768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500440" y="510588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485680" y="510336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65880" y="510408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449680" y="510228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436720" y="509940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450400" y="508788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462640" y="507600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472720" y="506844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482080" y="50612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477400" y="509256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469840" y="508284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483160" y="50760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06720" y="5106600"/>
              <a:ext cx="2160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735880" y="509904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27960" y="511200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500440" y="50634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522400" y="50997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515200" y="508968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8160" y="508320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522400" y="507420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545440" y="50709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367960" y="5102640"/>
              <a:ext cx="377640" cy="1206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39120" y="5093280"/>
              <a:ext cx="38880" cy="7272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23760" y="5054760"/>
              <a:ext cx="66600" cy="4644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16800" y="512244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699160" y="5129280"/>
              <a:ext cx="41040" cy="1332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678280" y="51260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71080" y="511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684400" y="510984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678280" y="51008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701320" y="509724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657400" y="512280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649840" y="511272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662800" y="510624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657400" y="50972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680080" y="509400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638680" y="51192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631120" y="510948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643720" y="510300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638680" y="50940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661360" y="509004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558760" y="510732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551200" y="509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563800" y="50907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558760" y="50814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581440" y="50781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620320" y="511632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613120" y="510660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26080" y="509976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20320" y="509112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43360" y="50875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600160" y="51138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592960" y="510336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605560" y="509724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600160" y="5087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623200" y="508464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577840" y="5109840"/>
              <a:ext cx="1872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570280" y="5100120"/>
              <a:ext cx="18720" cy="4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583600" y="50932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577840" y="5084640"/>
              <a:ext cx="1872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0880" y="5081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539680" y="510300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32480" y="5093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545080" y="508644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539680" y="507780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562720" y="507420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503320" y="509760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496120" y="508788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509080" y="508104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503320" y="507204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526360" y="506844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511240" y="4797360"/>
              <a:ext cx="285120" cy="2340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85680" y="5053320"/>
              <a:ext cx="288000" cy="5004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3" name=""/>
          <p:cNvCxnSpPr>
            <a:endCxn id="2034" idx="6"/>
          </p:cNvCxnSpPr>
          <p:nvPr/>
        </p:nvCxnSpPr>
        <p:spPr>
          <a:xfrm flipV="1">
            <a:off x="5667480" y="4546080"/>
            <a:ext cx="513360" cy="62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914" name=""/>
          <p:cNvCxnSpPr>
            <a:stCxn id="2034" idx="0"/>
          </p:cNvCxnSpPr>
          <p:nvPr/>
        </p:nvCxnSpPr>
        <p:spPr>
          <a:xfrm flipH="1">
            <a:off x="5682960" y="4492440"/>
            <a:ext cx="605520" cy="5292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915" name=""/>
          <p:cNvSpPr/>
          <p:nvPr/>
        </p:nvSpPr>
        <p:spPr>
          <a:xfrm>
            <a:off x="4284720" y="2852640"/>
            <a:ext cx="863640" cy="876240"/>
          </a:xfrm>
          <a:prstGeom prst="rightArrow">
            <a:avLst>
              <a:gd name="adj1" fmla="val 49685"/>
              <a:gd name="adj2" fmla="val 29806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1341360"/>
            <a:ext cx="107964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63640" y="1773360"/>
            <a:ext cx="1297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04920" y="2971800"/>
            <a:ext cx="2948040" cy="3454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893880" y="504360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52280" y="586728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609480" y="5735520"/>
            <a:ext cx="235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33520" y="4572000"/>
            <a:ext cx="289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228600" y="3733920"/>
            <a:ext cx="32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Architectu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52280" y="525780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 flipV="1">
            <a:off x="380520" y="55879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H="1" flipV="1">
            <a:off x="685440" y="4902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flipV="1">
            <a:off x="990360" y="4216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219320" y="4368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4038480" y="6019920"/>
            <a:ext cx="49532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technology for each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4038480" y="4724280"/>
            <a:ext cx="495324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cluster of administrative services which integrated the flow of operating functions an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4038480" y="4038480"/>
            <a:ext cx="49532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data for operation functio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4038480" y="3276720"/>
            <a:ext cx="49532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oper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5" name=""/>
          <p:cNvCxnSpPr>
            <a:stCxn id="3925" idx="3"/>
            <a:endCxn id="3934" idx="1"/>
          </p:cNvCxnSpPr>
          <p:nvPr/>
        </p:nvCxnSpPr>
        <p:spPr>
          <a:xfrm flipV="1">
            <a:off x="3504960" y="3460320"/>
            <a:ext cx="533880" cy="45648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6" name=""/>
          <p:cNvCxnSpPr>
            <a:stCxn id="3924" idx="3"/>
            <a:endCxn id="3933" idx="1"/>
          </p:cNvCxnSpPr>
          <p:nvPr/>
        </p:nvCxnSpPr>
        <p:spPr>
          <a:xfrm flipV="1">
            <a:off x="3428640" y="4222080"/>
            <a:ext cx="610200" cy="53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7" name=""/>
          <p:cNvCxnSpPr>
            <a:stCxn id="3926" idx="3"/>
            <a:endCxn id="3932" idx="1"/>
          </p:cNvCxnSpPr>
          <p:nvPr/>
        </p:nvCxnSpPr>
        <p:spPr>
          <a:xfrm flipV="1">
            <a:off x="3733920" y="5182920"/>
            <a:ext cx="305280" cy="257760"/>
          </a:xfrm>
          <a:prstGeom prst="curvedConnector5">
            <a:avLst>
              <a:gd name="adj1" fmla="val 49940"/>
              <a:gd name="adj2" fmla="val 49930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8" name=""/>
          <p:cNvCxnSpPr>
            <a:stCxn id="3922" idx="3"/>
            <a:endCxn id="3931" idx="1"/>
          </p:cNvCxnSpPr>
          <p:nvPr/>
        </p:nvCxnSpPr>
        <p:spPr>
          <a:xfrm>
            <a:off x="3733920" y="6049800"/>
            <a:ext cx="305280" cy="154800"/>
          </a:xfrm>
          <a:prstGeom prst="curvedConnector5">
            <a:avLst>
              <a:gd name="adj1" fmla="val 49940"/>
              <a:gd name="adj2" fmla="val 49883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sp>
        <p:nvSpPr>
          <p:cNvPr id="3939" name=""/>
          <p:cNvSpPr/>
          <p:nvPr/>
        </p:nvSpPr>
        <p:spPr>
          <a:xfrm>
            <a:off x="1066680" y="1749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e practice of applying a comprehensive and rigorous method for describing a current and/or future structure and behavior for an organization's processes, information systems, personnel and organizational sub-units, so that they align with the organization's core goals and strategic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52280" y="1521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(Enterprise Architectu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52280" y="762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T Govern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066680" y="99072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 subset discipline of Corporate Governance focused on information technology systems and their performance and risk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4" name="" descr="WIKIPEDIA"/>
          <p:cNvPicPr/>
          <p:nvPr/>
        </p:nvPicPr>
        <p:blipFill>
          <a:blip r:embed="rId5"/>
          <a:stretch/>
        </p:blipFill>
        <p:spPr>
          <a:xfrm>
            <a:off x="8001000" y="2514600"/>
            <a:ext cx="685800" cy="196920"/>
          </a:xfrm>
          <a:prstGeom prst="rect">
            <a:avLst/>
          </a:prstGeom>
          <a:ln w="0">
            <a:noFill/>
          </a:ln>
        </p:spPr>
      </p:pic>
      <p:pic>
        <p:nvPicPr>
          <p:cNvPr id="3945" name="" descr="wikipedia.o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72400" y="2514600"/>
            <a:ext cx="1810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"/>
          <p:cNvSpPr/>
          <p:nvPr/>
        </p:nvSpPr>
        <p:spPr>
          <a:xfrm>
            <a:off x="1144800" y="324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of the New System by Optimiz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448280" y="9777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4725000" y="977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479600" y="1359000"/>
            <a:ext cx="30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Finding work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work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Automated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Original Maste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097960" y="135900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rit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nd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3952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3955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3958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4791600" y="3430440"/>
            <a:ext cx="92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ユーザアプリケーショ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3962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4" name=""/>
          <p:cNvSpPr/>
          <p:nvPr/>
        </p:nvSpPr>
        <p:spPr>
          <a:xfrm>
            <a:off x="4292640" y="597852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記録原本」機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3966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370872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契機発見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69396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0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3971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>
            <a:off x="507708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参考書類参照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06232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3976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642960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結果作成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41340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3981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3" name=""/>
          <p:cNvSpPr/>
          <p:nvPr/>
        </p:nvSpPr>
        <p:spPr>
          <a:xfrm>
            <a:off x="2492640" y="403056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自動処理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73200" y="420048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3986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8" name=""/>
          <p:cNvSpPr/>
          <p:nvPr/>
        </p:nvSpPr>
        <p:spPr>
          <a:xfrm rot="5400000">
            <a:off x="3806640" y="42890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rot="5400000">
            <a:off x="3627360" y="4285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3991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"/>
          <p:cNvSpPr/>
          <p:nvPr/>
        </p:nvSpPr>
        <p:spPr>
          <a:xfrm rot="5400000">
            <a:off x="639468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rot="5400000">
            <a:off x="6216840" y="54522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973160" y="6218280"/>
            <a:ext cx="184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基本アーキテクチャ（基盤機能＋４プロトコル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6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3997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9" name=""/>
          <p:cNvSpPr/>
          <p:nvPr/>
        </p:nvSpPr>
        <p:spPr>
          <a:xfrm rot="5400000">
            <a:off x="361080" y="4221360"/>
            <a:ext cx="41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モデ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1575360" y="29559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処理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1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002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4" name=""/>
          <p:cNvSpPr/>
          <p:nvPr/>
        </p:nvSpPr>
        <p:spPr>
          <a:xfrm rot="5400000">
            <a:off x="513900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 rot="5400000">
            <a:off x="495936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00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9" name=""/>
          <p:cNvSpPr/>
          <p:nvPr/>
        </p:nvSpPr>
        <p:spPr>
          <a:xfrm rot="5400000">
            <a:off x="377784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rot="5400000">
            <a:off x="359892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01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4" name=""/>
          <p:cNvSpPr/>
          <p:nvPr/>
        </p:nvSpPr>
        <p:spPr>
          <a:xfrm rot="5400000">
            <a:off x="2752920" y="5493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rot="5400000">
            <a:off x="2575080" y="54921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6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01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9" name=""/>
          <p:cNvSpPr/>
          <p:nvPr/>
        </p:nvSpPr>
        <p:spPr>
          <a:xfrm>
            <a:off x="766800" y="33512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66800" y="352440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抽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02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4" name=""/>
          <p:cNvSpPr/>
          <p:nvPr/>
        </p:nvSpPr>
        <p:spPr>
          <a:xfrm>
            <a:off x="766800" y="500076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制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02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8" name=""/>
          <p:cNvSpPr/>
          <p:nvPr/>
        </p:nvSpPr>
        <p:spPr>
          <a:xfrm rot="5400000">
            <a:off x="210780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rot="5400000">
            <a:off x="1928880" y="54507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7939080" y="3774960"/>
            <a:ext cx="649440" cy="879480"/>
            <a:chOff x="7939080" y="3774960"/>
            <a:chExt cx="649440" cy="879480"/>
          </a:xfrm>
        </p:grpSpPr>
        <p:sp>
          <p:nvSpPr>
            <p:cNvPr id="4033" name=""/>
            <p:cNvSpPr/>
            <p:nvPr/>
          </p:nvSpPr>
          <p:spPr>
            <a:xfrm>
              <a:off x="7939080" y="3774960"/>
              <a:ext cx="649440" cy="879480"/>
            </a:xfrm>
            <a:custGeom>
              <a:avLst/>
              <a:gdLst/>
              <a:ahLst/>
              <a:rect l="l" t="t" r="r" b="b"/>
              <a:pathLst>
                <a:path w="409" h="554">
                  <a:moveTo>
                    <a:pt x="0" y="84"/>
                  </a:moveTo>
                  <a:lnTo>
                    <a:pt x="0" y="512"/>
                  </a:lnTo>
                  <a:lnTo>
                    <a:pt x="323" y="554"/>
                  </a:lnTo>
                  <a:lnTo>
                    <a:pt x="409" y="445"/>
                  </a:lnTo>
                  <a:lnTo>
                    <a:pt x="409" y="34"/>
                  </a:lnTo>
                  <a:lnTo>
                    <a:pt x="401" y="17"/>
                  </a:lnTo>
                  <a:lnTo>
                    <a:pt x="103" y="0"/>
                  </a:lnTo>
                  <a:lnTo>
                    <a:pt x="63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040960" y="3801960"/>
              <a:ext cx="48564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39080" y="3960720"/>
              <a:ext cx="5004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939080" y="4055760"/>
              <a:ext cx="500400" cy="25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8464680" y="4001400"/>
              <a:ext cx="123840" cy="79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8450280" y="3960360"/>
              <a:ext cx="6372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V="1">
              <a:off x="8514000" y="3843360"/>
              <a:ext cx="48960" cy="1173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8562960" y="3801600"/>
              <a:ext cx="14400" cy="41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7939080" y="3922560"/>
              <a:ext cx="5130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8450280" y="3949560"/>
              <a:ext cx="1800" cy="7048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8450280" y="3827160"/>
              <a:ext cx="76320" cy="122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8526600" y="3801960"/>
              <a:ext cx="5076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V="1">
              <a:off x="8461440" y="3933720"/>
              <a:ext cx="1800" cy="70632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V="1">
              <a:off x="8089920" y="3827160"/>
              <a:ext cx="25560" cy="68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8115480" y="3826800"/>
              <a:ext cx="285840" cy="16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8089560" y="3895200"/>
              <a:ext cx="211320" cy="126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9" name=""/>
          <p:cNvSpPr/>
          <p:nvPr/>
        </p:nvSpPr>
        <p:spPr>
          <a:xfrm>
            <a:off x="8128080" y="426564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印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5" name=""/>
          <p:cNvGrpSpPr/>
          <p:nvPr/>
        </p:nvGrpSpPr>
        <p:grpSpPr>
          <a:xfrm>
            <a:off x="7996320" y="2832120"/>
            <a:ext cx="614160" cy="745920"/>
            <a:chOff x="7996320" y="2832120"/>
            <a:chExt cx="614160" cy="745920"/>
          </a:xfrm>
        </p:grpSpPr>
        <p:sp>
          <p:nvSpPr>
            <p:cNvPr id="4056" name=""/>
            <p:cNvSpPr/>
            <p:nvPr/>
          </p:nvSpPr>
          <p:spPr>
            <a:xfrm>
              <a:off x="7996320" y="2832120"/>
              <a:ext cx="614160" cy="61416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0" y="0"/>
                  </a:moveTo>
                  <a:lnTo>
                    <a:pt x="0" y="387"/>
                  </a:lnTo>
                  <a:lnTo>
                    <a:pt x="387" y="387"/>
                  </a:lnTo>
                  <a:lnTo>
                    <a:pt x="387" y="0"/>
                  </a:lnTo>
                  <a:lnTo>
                    <a:pt x="0" y="0"/>
                  </a:lnTo>
                  <a:close/>
                  <a:moveTo>
                    <a:pt x="26" y="26"/>
                  </a:moveTo>
                  <a:lnTo>
                    <a:pt x="26" y="361"/>
                  </a:lnTo>
                  <a:lnTo>
                    <a:pt x="362" y="361"/>
                  </a:lnTo>
                  <a:lnTo>
                    <a:pt x="362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040600" y="2887560"/>
              <a:ext cx="523440" cy="485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14840" y="312732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G丸ｺﾞｼｯｸM-PRO"/>
                  <a:ea typeface="HG丸ｺﾞｼｯｸM-PRO"/>
                </a:rPr>
                <a:t>画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199360" y="3457440"/>
              <a:ext cx="221760" cy="52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102520" y="3519360"/>
              <a:ext cx="402840" cy="58680"/>
            </a:xfrm>
            <a:custGeom>
              <a:avLst/>
              <a:gdLst/>
              <a:ahLst/>
              <a:rect l="l" t="t" r="r" b="b"/>
              <a:pathLst>
                <a:path w="254" h="37">
                  <a:moveTo>
                    <a:pt x="0" y="37"/>
                  </a:moveTo>
                  <a:lnTo>
                    <a:pt x="24" y="0"/>
                  </a:lnTo>
                  <a:lnTo>
                    <a:pt x="231" y="0"/>
                  </a:lnTo>
                  <a:lnTo>
                    <a:pt x="25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8029440" y="3384360"/>
              <a:ext cx="547200" cy="507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484840" y="3403440"/>
              <a:ext cx="2052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515080" y="3403440"/>
              <a:ext cx="2196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065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7" name=""/>
          <p:cNvSpPr/>
          <p:nvPr/>
        </p:nvSpPr>
        <p:spPr>
          <a:xfrm rot="5400000">
            <a:off x="6453000" y="4179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rot="5400000">
            <a:off x="6274440" y="4177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070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2" name=""/>
          <p:cNvSpPr/>
          <p:nvPr/>
        </p:nvSpPr>
        <p:spPr>
          <a:xfrm rot="5400000">
            <a:off x="5095440" y="429048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rot="5400000">
            <a:off x="4918680" y="42872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4075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4078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4081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4484880" y="3430440"/>
            <a:ext cx="101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User 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4085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7" name=""/>
          <p:cNvSpPr/>
          <p:nvPr/>
        </p:nvSpPr>
        <p:spPr>
          <a:xfrm>
            <a:off x="3884400" y="5978520"/>
            <a:ext cx="16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Original Master Fil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4089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1" name=""/>
          <p:cNvSpPr/>
          <p:nvPr/>
        </p:nvSpPr>
        <p:spPr>
          <a:xfrm>
            <a:off x="3197160" y="480060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inding work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636000" y="50198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4094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6" name=""/>
          <p:cNvSpPr/>
          <p:nvPr/>
        </p:nvSpPr>
        <p:spPr>
          <a:xfrm>
            <a:off x="4523760" y="4800600"/>
            <a:ext cx="11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ferenc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Documents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4098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5914800" y="480060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k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sult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410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4" name=""/>
          <p:cNvSpPr/>
          <p:nvPr/>
        </p:nvSpPr>
        <p:spPr>
          <a:xfrm>
            <a:off x="2131560" y="4038480"/>
            <a:ext cx="81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Automat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2133360" y="4379760"/>
            <a:ext cx="53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6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410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 rot="5400000">
            <a:off x="363168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rot="5400000">
            <a:off x="3495960" y="4255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411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4" name=""/>
          <p:cNvSpPr/>
          <p:nvPr/>
        </p:nvSpPr>
        <p:spPr>
          <a:xfrm rot="5400000">
            <a:off x="63309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ri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rot="5400000">
            <a:off x="6085440" y="5422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525680" y="6218280"/>
            <a:ext cx="367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Basic Architecture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Foundation Function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４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tocols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7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411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0" name=""/>
          <p:cNvSpPr/>
          <p:nvPr/>
        </p:nvSpPr>
        <p:spPr>
          <a:xfrm rot="5400000">
            <a:off x="-91080" y="44280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404000" y="2955960"/>
            <a:ext cx="1645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s to manage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2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12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 rot="5400000">
            <a:off x="482796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12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9" name=""/>
          <p:cNvSpPr/>
          <p:nvPr/>
        </p:nvSpPr>
        <p:spPr>
          <a:xfrm rot="5400000">
            <a:off x="346752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131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"/>
          <p:cNvSpPr/>
          <p:nvPr/>
        </p:nvSpPr>
        <p:spPr>
          <a:xfrm rot="5400000">
            <a:off x="26733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 rot="5400000">
            <a:off x="2443680" y="54626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5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136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711720" y="3351240"/>
            <a:ext cx="49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naly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08840" y="3524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xtr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141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3" name=""/>
          <p:cNvSpPr/>
          <p:nvPr/>
        </p:nvSpPr>
        <p:spPr>
          <a:xfrm>
            <a:off x="711000" y="5000760"/>
            <a:ext cx="45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4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145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7" name=""/>
          <p:cNvSpPr/>
          <p:nvPr/>
        </p:nvSpPr>
        <p:spPr>
          <a:xfrm rot="5400000">
            <a:off x="1987560" y="53744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rot="5400000">
            <a:off x="1797480" y="54212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15040" y="4265640"/>
            <a:ext cx="77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 Pr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8215200" y="312732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8159040" y="312732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20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rot="5400000">
            <a:off x="6330960" y="41043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rot="5400000">
            <a:off x="6143040" y="4147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21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3" name=""/>
          <p:cNvSpPr/>
          <p:nvPr/>
        </p:nvSpPr>
        <p:spPr>
          <a:xfrm rot="5400000">
            <a:off x="492696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rot="5400000">
            <a:off x="4787280" y="42591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rot="5400000">
            <a:off x="36957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rot="5400000">
            <a:off x="5067360" y="54759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"/>
          <p:cNvSpPr/>
          <p:nvPr/>
        </p:nvSpPr>
        <p:spPr>
          <a:xfrm>
            <a:off x="5059440" y="6352560"/>
            <a:ext cx="3529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Notice: The size of square doesn’t indicate amount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28600" y="838080"/>
            <a:ext cx="8483760" cy="54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6319800" y="3765600"/>
            <a:ext cx="53964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62406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2196360" y="9478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c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66722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78534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73198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4336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24685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591080" y="3765600"/>
            <a:ext cx="172728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6281640" y="3705120"/>
            <a:ext cx="540000" cy="4874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4551480" y="3710160"/>
            <a:ext cx="1726920" cy="47916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243480" y="2089080"/>
            <a:ext cx="54000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7319880" y="2209680"/>
            <a:ext cx="530280" cy="6001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255840" y="2590920"/>
            <a:ext cx="144720" cy="222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3255840" y="2870280"/>
            <a:ext cx="144720" cy="223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2468520" y="2089080"/>
            <a:ext cx="97164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x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3429000" y="2089080"/>
            <a:ext cx="99072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419720" y="2133720"/>
            <a:ext cx="1844640" cy="129528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4516560" y="1316160"/>
            <a:ext cx="172692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/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243480" y="1316160"/>
            <a:ext cx="52884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516560" y="3656160"/>
            <a:ext cx="172692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34080" y="1981080"/>
            <a:ext cx="1269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e system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nd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239040" y="1389240"/>
            <a:ext cx="123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265320" y="3581280"/>
            <a:ext cx="120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in char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f the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04920" y="440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operat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267840" y="4941720"/>
            <a:ext cx="129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PJM Support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110120" y="2089080"/>
            <a:ext cx="21333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4398840" y="3003480"/>
            <a:ext cx="1844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781680" y="2217600"/>
            <a:ext cx="530280" cy="6019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 flipV="1">
            <a:off x="53244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3006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243480" y="2089080"/>
            <a:ext cx="52704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243480" y="3656160"/>
            <a:ext cx="54000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6243480" y="3003480"/>
            <a:ext cx="540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468360" y="12366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43988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677376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592600" y="439092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433680" y="366696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436920" y="133020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45133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582320" y="947880"/>
            <a:ext cx="53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an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778800" y="2089080"/>
            <a:ext cx="54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7319880" y="2089080"/>
            <a:ext cx="53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72320" y="1508040"/>
            <a:ext cx="55224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7319880" y="1508040"/>
            <a:ext cx="53028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6775560" y="2732040"/>
            <a:ext cx="549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7319880" y="2732040"/>
            <a:ext cx="5302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672240" y="4410000"/>
            <a:ext cx="65232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s’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773760" y="44067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7319880" y="4408560"/>
            <a:ext cx="530280" cy="4698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95280" y="1995480"/>
            <a:ext cx="7854840" cy="152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74520" y="1523880"/>
            <a:ext cx="249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Range of  this Procurement (W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75000" y="5024520"/>
            <a:ext cx="5373720" cy="5428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6765840" y="5043600"/>
            <a:ext cx="106380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use’s tes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spection of 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4595760" y="5043600"/>
            <a:ext cx="218592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380880" y="5791320"/>
            <a:ext cx="119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refer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932440" y="584028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911920" y="5805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877000" y="5751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of 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04760" y="4797360"/>
            <a:ext cx="401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is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4398480" y="3460320"/>
            <a:ext cx="117720" cy="1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218400" y="97776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ug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4294440" y="977760"/>
            <a:ext cx="44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u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6022080" y="9777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c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649908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70200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57872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650700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96132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74912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7823160" y="3298680"/>
            <a:ext cx="0" cy="1090440"/>
            <a:chOff x="7823160" y="3298680"/>
            <a:chExt cx="0" cy="1090440"/>
          </a:xfrm>
        </p:grpSpPr>
        <p:sp>
          <p:nvSpPr>
            <p:cNvPr id="4291" name=""/>
            <p:cNvSpPr/>
            <p:nvPr/>
          </p:nvSpPr>
          <p:spPr>
            <a:xfrm>
              <a:off x="782316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82316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3" name=""/>
          <p:cNvGrpSpPr/>
          <p:nvPr/>
        </p:nvGrpSpPr>
        <p:grpSpPr>
          <a:xfrm>
            <a:off x="7157880" y="3298680"/>
            <a:ext cx="0" cy="1090440"/>
            <a:chOff x="7157880" y="3298680"/>
            <a:chExt cx="0" cy="1090440"/>
          </a:xfrm>
        </p:grpSpPr>
        <p:sp>
          <p:nvSpPr>
            <p:cNvPr id="4294" name=""/>
            <p:cNvSpPr/>
            <p:nvPr/>
          </p:nvSpPr>
          <p:spPr>
            <a:xfrm>
              <a:off x="715788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15788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6" name=""/>
          <p:cNvSpPr/>
          <p:nvPr/>
        </p:nvSpPr>
        <p:spPr>
          <a:xfrm>
            <a:off x="6861240" y="3753000"/>
            <a:ext cx="530280" cy="30456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823080" y="3699000"/>
            <a:ext cx="530280" cy="31572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784920" y="3656160"/>
            <a:ext cx="530280" cy="31104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7394400" y="3745080"/>
            <a:ext cx="530280" cy="3124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7356600" y="3700440"/>
            <a:ext cx="530280" cy="3142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7318440" y="3657600"/>
            <a:ext cx="530280" cy="30960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7848720" y="180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4109760" y="1801800"/>
            <a:ext cx="40644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848720" y="346032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403280" y="249228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1153440" y="9428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HG丸ｺﾞｼｯｸM-PRO"/>
              </a:rPr>
              <a:t>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788000" y="5734080"/>
            <a:ext cx="1079280" cy="4824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979640" y="5084640"/>
            <a:ext cx="503280" cy="482760"/>
          </a:xfrm>
          <a:custGeom>
            <a:avLst/>
            <a:gdLst>
              <a:gd name="textAreaLeft" fmla="*/ 0 w 503280"/>
              <a:gd name="textAreaRight" fmla="*/ 503640 w 5032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1403280" y="1197000"/>
            <a:ext cx="0" cy="51102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V="1">
            <a:off x="468360" y="19162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468360" y="35416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V="1">
            <a:off x="468360" y="42926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468360" y="49100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68360" y="56610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880" y="76320"/>
            <a:ext cx="8534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a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roduction of Divided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15200" y="2362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238880" y="3624120"/>
            <a:ext cx="914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343400" y="5029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vironmental preparation by contractors in charge of system development, Wor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114</cp:lastModifiedBy>
  <dcterms:modified xsi:type="dcterms:W3CDTF">2007-01-31T03:31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