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52440"/>
            <a:ext cx="8961480" cy="561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382680" y="6330960"/>
            <a:ext cx="9523440" cy="0"/>
          </a:xfrm>
          <a:prstGeom prst="line">
            <a:avLst/>
          </a:prstGeom>
          <a:ln w="25560">
            <a:solidFill>
              <a:srgbClr val="6074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10480" y="352440"/>
            <a:ext cx="381240" cy="561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896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2440"/>
            <a:ext cx="8961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6568200"/>
            <a:ext cx="15508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 </a:t>
            </a:r>
            <a:fld id="{547D8A7F-9E6E-4C60-B836-D2202C6DE9C7}" type="slidenum"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12920" y="1270080"/>
            <a:ext cx="8577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22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319040" y="5307120"/>
            <a:ext cx="217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6133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77480" cy="1758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673360"/>
            <a:ext cx="7315200" cy="77328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1828800"/>
            <a:ext cx="685800" cy="1758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87760"/>
            <a:ext cx="922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5920" y="4454640"/>
            <a:ext cx="733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2680" y="4813200"/>
            <a:ext cx="73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 December 200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320" algn="ctr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610480" cy="77292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s on draft ST.6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patent offices and applicants all over the world use not only XML for trademark (ST.66) but also XML for patent (ST.3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ing different elements and structure of XML between patent(ST.36) and trademark(ST.66) on common items might mean that patent offices and applicants would be forced to bear excessive b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rongly recommend defining ST.66 in harmony with ST.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ements in ST.66 and ST.3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0080" y="2440080"/>
            <a:ext cx="4653000" cy="3803400"/>
          </a:xfrm>
          <a:prstGeom prst="parallelogram">
            <a:avLst>
              <a:gd name="adj" fmla="val 49631"/>
            </a:avLst>
          </a:prstGeom>
          <a:solidFill>
            <a:srgbClr val="ccffcc">
              <a:alpha val="50000"/>
            </a:srgbClr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31240" y="2419200"/>
            <a:ext cx="4653000" cy="3803760"/>
          </a:xfrm>
          <a:prstGeom prst="parallelogram">
            <a:avLst>
              <a:gd name="adj" fmla="val 49627"/>
            </a:avLst>
          </a:prstGeom>
          <a:solidFill>
            <a:srgbClr val="ffff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3160" y="383544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used on both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trademark and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20840" y="255996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mark on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tradem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45120" y="2559960"/>
            <a:ext cx="2090880" cy="219564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nt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78480" y="5386320"/>
            <a:ext cx="12463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4520" y="3500280"/>
            <a:ext cx="966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28880" y="3500280"/>
            <a:ext cx="728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1800" y="4660920"/>
            <a:ext cx="105228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89960" y="4653000"/>
            <a:ext cx="124920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-m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-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-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-soft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96240" y="2284560"/>
            <a:ext cx="1251000" cy="22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ion-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quest-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-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ure-to-pub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io-depo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-acc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3044880"/>
            <a:ext cx="1646280" cy="16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ice 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 Limi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rk 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5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. 66 consists of two kinds of items, i.e. “Common items” with Patent and items unique to Trademark. ST.36 consists of “Common items” with Trademark and items unique to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the “Common items”, same elements and structure should be adopted in both ST.36 and ST.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64880" y="5084640"/>
            <a:ext cx="649080" cy="100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" y="5300640"/>
            <a:ext cx="2592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me elements and structure should be requ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XML Schema in present draft for ST.66, we strongly recommend elements regarding the common items with patent should be redefined as elements based on ST.36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so it would be necessary to add new elements in ST.36 corresponding to “common items” with trademark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3017880"/>
            <a:ext cx="57636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s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9688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6880" y="4375080"/>
            <a:ext cx="1379520" cy="1020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8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Proposal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7832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7832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ＳＴ．３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57960" y="3086280"/>
            <a:ext cx="1379520" cy="1022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5796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6160" y="308628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6160" y="410220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00880" y="437364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600880" y="538956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248520" y="4237200"/>
            <a:ext cx="57600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20880" y="5300640"/>
            <a:ext cx="1800360" cy="792360"/>
          </a:xfrm>
          <a:prstGeom prst="wedgeRoundRectCallout">
            <a:avLst>
              <a:gd name="adj1" fmla="val -9699"/>
              <a:gd name="adj2" fmla="val -206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lements for items unique to trademark could be defined based on current idea on XML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1600" y="5516640"/>
            <a:ext cx="2592360" cy="936720"/>
          </a:xfrm>
          <a:prstGeom prst="wedgeRoundRectCallout">
            <a:avLst>
              <a:gd name="adj1" fmla="val -42592"/>
              <a:gd name="adj2" fmla="val -8542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Elements for the common items corresponding to patent should be defined as elements based on ST.3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(element name,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240160" y="2708280"/>
            <a:ext cx="4322880" cy="32209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template match="applicant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Name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Address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Nam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addressbook/name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Address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</a:t>
            </a: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addressbook/address/address-1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2880" y="2276640"/>
            <a:ext cx="1594080" cy="160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APPLICATION 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INTERNATIONAL REG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(MM2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.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a)Nam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b)Addres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 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4348080"/>
            <a:ext cx="1568160" cy="160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REQUEST(PCT/RO/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4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5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kanawa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240" y="2133720"/>
            <a:ext cx="1008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5240" y="2421000"/>
            <a:ext cx="194472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5240" y="6165720"/>
            <a:ext cx="2016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kanaw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2880" y="234936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7240" y="3068640"/>
            <a:ext cx="2590920" cy="1285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57240" y="3357720"/>
            <a:ext cx="2880000" cy="14436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37" idx="1"/>
          </p:cNvCxnSpPr>
          <p:nvPr/>
        </p:nvCxnSpPr>
        <p:spPr>
          <a:xfrm flipV="1">
            <a:off x="4745160" y="2550240"/>
            <a:ext cx="2800800" cy="88020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712880" y="443700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57240" y="5157720"/>
            <a:ext cx="251964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7240" y="5445000"/>
            <a:ext cx="288000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38" idx="1"/>
          </p:cNvCxnSpPr>
          <p:nvPr/>
        </p:nvCxnSpPr>
        <p:spPr>
          <a:xfrm>
            <a:off x="4745160" y="5516280"/>
            <a:ext cx="2800800" cy="78012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289240" y="3789360"/>
            <a:ext cx="2776320" cy="936720"/>
          </a:xfrm>
          <a:prstGeom prst="wedgeRoundRectCallout">
            <a:avLst>
              <a:gd name="adj1" fmla="val 59203"/>
              <a:gd name="adj2" fmla="val -34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Regardless of a trademark and a patent, an applicant's name and the address are acquirable at one XSLT stylesheet docu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8520" y="2060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Tra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8520" y="407664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pa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0" idx="3"/>
            <a:endCxn id="136" idx="1"/>
          </p:cNvCxnSpPr>
          <p:nvPr/>
        </p:nvCxnSpPr>
        <p:spPr>
          <a:xfrm flipV="1">
            <a:off x="4455720" y="2262960"/>
            <a:ext cx="3089880" cy="870840"/>
          </a:xfrm>
          <a:prstGeom prst="bentConnector3">
            <a:avLst>
              <a:gd name="adj1" fmla="val 4983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52" idx="1"/>
          </p:cNvCxnSpPr>
          <p:nvPr/>
        </p:nvCxnSpPr>
        <p:spPr>
          <a:xfrm>
            <a:off x="4384440" y="5229360"/>
            <a:ext cx="3161160" cy="778320"/>
          </a:xfrm>
          <a:prstGeom prst="bentConnector3">
            <a:avLst>
              <a:gd name="adj1" fmla="val 49817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7545240" y="5877000"/>
            <a:ext cx="86364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800" y="907920"/>
            <a:ext cx="9001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ifying elements in ST.66 and ST.36 corresponding to the “Common items”, it will be possible to share XML process between trademark and pat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 example, it will be available to obtain an applicant’s name and address by one XSLT stylesheet document regardless of a trademark and a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00880" y="541008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4:45:45Z</dcterms:created>
  <dc:creator>shino</dc:creator>
  <dc:description/>
  <dc:language>en-US</dc:language>
  <cp:lastModifiedBy>Hide</cp:lastModifiedBy>
  <cp:lastPrinted>2000-06-09T10:50:24Z</cp:lastPrinted>
  <dcterms:modified xsi:type="dcterms:W3CDTF">2006-12-22T01:18:44Z</dcterms:modified>
  <cp:revision>376</cp:revision>
  <dc:subject/>
  <dc:title>共通テーブル管理システムの機能拡張について</dc:title>
</cp:coreProperties>
</file>