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B76-8E68-4169-AC73-EAA6258A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D9F-0CEB-4041-95AA-01BD239B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45C-C800-4034-8B7C-877E1155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EC7-7805-453F-A306-6323D104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4B3-1957-4CC8-81CB-67B8AB22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F17-1FA8-48CD-BEB7-3F625924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A2A-26FB-4A08-A745-524F068B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4DE-3296-4E16-A9CF-77AC289A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567-CE92-4E38-92A8-5F913218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877-3CD3-431E-955E-065D14EF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D46-B266-40B7-9F05-ADEE934A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54C-562C-46B2-AF44-D257CB14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62560" y="66290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ff"/>
                </a:solidFill>
                <a:latin typeface="Centur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Century"/>
              </a:rPr>
              <a:t>Japan Patent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1443-E0B5-4993-A9D3-74BFDA375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6629400"/>
            <a:ext cx="228600" cy="21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hyperlink" Target="http://www.wiktionary.org/wiki/Image:Wikipedia-logo.png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PO Optimization Plan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operation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874360" cy="93780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mplified system 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y unitarily managing the original copies of th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1413000"/>
            <a:ext cx="1079280" cy="36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4"/>
            <a:endCxn id="47" idx="7"/>
          </p:cNvCxnSpPr>
          <p:nvPr/>
        </p:nvCxnSpPr>
        <p:spPr>
          <a:xfrm flipH="1">
            <a:off x="1285920" y="2757600"/>
            <a:ext cx="317880" cy="522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48" name=""/>
          <p:cNvGrpSpPr/>
          <p:nvPr/>
        </p:nvGrpSpPr>
        <p:grpSpPr>
          <a:xfrm>
            <a:off x="1509840" y="2224080"/>
            <a:ext cx="610920" cy="639720"/>
            <a:chOff x="1509840" y="2224080"/>
            <a:chExt cx="610920" cy="639720"/>
          </a:xfrm>
        </p:grpSpPr>
        <p:grpSp>
          <p:nvGrpSpPr>
            <p:cNvPr id="49" name=""/>
            <p:cNvGrpSpPr/>
            <p:nvPr/>
          </p:nvGrpSpPr>
          <p:grpSpPr>
            <a:xfrm>
              <a:off x="1509840" y="2224080"/>
              <a:ext cx="610920" cy="639720"/>
              <a:chOff x="1509840" y="2224080"/>
              <a:chExt cx="610920" cy="639720"/>
            </a:xfrm>
          </p:grpSpPr>
          <p:sp>
            <p:nvSpPr>
              <p:cNvPr id="50" name=""/>
              <p:cNvSpPr/>
              <p:nvPr/>
            </p:nvSpPr>
            <p:spPr>
              <a:xfrm>
                <a:off x="1511280" y="2224080"/>
                <a:ext cx="60948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1703160" y="2224080"/>
                <a:ext cx="225000" cy="638640"/>
                <a:chOff x="1703160" y="2224080"/>
                <a:chExt cx="225000" cy="6386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703160" y="222408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703160" y="27900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1511640" y="2425680"/>
                <a:ext cx="608040" cy="236160"/>
                <a:chOff x="1511640" y="2425680"/>
                <a:chExt cx="608040" cy="236160"/>
              </a:xfrm>
            </p:grpSpPr>
            <p:sp>
              <p:nvSpPr>
                <p:cNvPr id="55" name=""/>
                <p:cNvSpPr/>
                <p:nvPr/>
              </p:nvSpPr>
              <p:spPr>
                <a:xfrm rot="5400000">
                  <a:off x="1967040" y="25092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5400000">
                  <a:off x="1428120" y="25092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517760" y="2245320"/>
                <a:ext cx="597240" cy="596880"/>
                <a:chOff x="1517760" y="2245320"/>
                <a:chExt cx="597240" cy="596880"/>
              </a:xfrm>
            </p:grpSpPr>
            <p:sp>
              <p:nvSpPr>
                <p:cNvPr id="58" name=""/>
                <p:cNvSpPr/>
                <p:nvPr/>
              </p:nvSpPr>
              <p:spPr>
                <a:xfrm rot="2700000">
                  <a:off x="1888920" y="23184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2700000">
                  <a:off x="1507680" y="269928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1509840" y="2238840"/>
                <a:ext cx="610560" cy="610560"/>
                <a:chOff x="1509840" y="2238840"/>
                <a:chExt cx="610560" cy="610560"/>
              </a:xfrm>
            </p:grpSpPr>
            <p:sp>
              <p:nvSpPr>
                <p:cNvPr id="60" name=""/>
                <p:cNvSpPr/>
                <p:nvPr/>
              </p:nvSpPr>
              <p:spPr>
                <a:xfrm rot="8100000">
                  <a:off x="1902600" y="270756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8100000">
                  <a:off x="1502640" y="23076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" name=""/>
            <p:cNvSpPr/>
            <p:nvPr/>
          </p:nvSpPr>
          <p:spPr>
            <a:xfrm>
              <a:off x="1581120" y="2298960"/>
              <a:ext cx="47016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900360" y="3268800"/>
            <a:ext cx="610920" cy="639720"/>
            <a:chOff x="900360" y="3268800"/>
            <a:chExt cx="610920" cy="639720"/>
          </a:xfrm>
        </p:grpSpPr>
        <p:grpSp>
          <p:nvGrpSpPr>
            <p:cNvPr id="64" name=""/>
            <p:cNvGrpSpPr/>
            <p:nvPr/>
          </p:nvGrpSpPr>
          <p:grpSpPr>
            <a:xfrm>
              <a:off x="900360" y="3268800"/>
              <a:ext cx="610920" cy="639720"/>
              <a:chOff x="900360" y="3268800"/>
              <a:chExt cx="610920" cy="639720"/>
            </a:xfrm>
          </p:grpSpPr>
          <p:sp>
            <p:nvSpPr>
              <p:cNvPr id="65" name=""/>
              <p:cNvSpPr/>
              <p:nvPr/>
            </p:nvSpPr>
            <p:spPr>
              <a:xfrm>
                <a:off x="901800" y="3268800"/>
                <a:ext cx="60948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1093680" y="3268800"/>
                <a:ext cx="225000" cy="638640"/>
                <a:chOff x="1093680" y="3268800"/>
                <a:chExt cx="225000" cy="6386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1093680" y="32688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3680" y="383472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902160" y="3470400"/>
                <a:ext cx="608040" cy="236160"/>
                <a:chOff x="902160" y="3470400"/>
                <a:chExt cx="608040" cy="236160"/>
              </a:xfrm>
            </p:grpSpPr>
            <p:sp>
              <p:nvSpPr>
                <p:cNvPr id="69" name=""/>
                <p:cNvSpPr/>
                <p:nvPr/>
              </p:nvSpPr>
              <p:spPr>
                <a:xfrm rot="5400000">
                  <a:off x="135756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5400000">
                  <a:off x="81864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908280" y="3290040"/>
                <a:ext cx="597240" cy="596880"/>
                <a:chOff x="908280" y="3290040"/>
                <a:chExt cx="597240" cy="596880"/>
              </a:xfrm>
            </p:grpSpPr>
            <p:sp>
              <p:nvSpPr>
                <p:cNvPr id="72" name=""/>
                <p:cNvSpPr/>
                <p:nvPr/>
              </p:nvSpPr>
              <p:spPr>
                <a:xfrm rot="2700000">
                  <a:off x="1279440" y="33631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rot="2700000">
                  <a:off x="898200" y="37440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900360" y="3283560"/>
                <a:ext cx="610560" cy="610560"/>
                <a:chOff x="900360" y="3283560"/>
                <a:chExt cx="610560" cy="610560"/>
              </a:xfrm>
            </p:grpSpPr>
            <p:sp>
              <p:nvSpPr>
                <p:cNvPr id="75" name=""/>
                <p:cNvSpPr/>
                <p:nvPr/>
              </p:nvSpPr>
              <p:spPr>
                <a:xfrm rot="8100000">
                  <a:off x="1293120" y="375228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8100000">
                  <a:off x="893160" y="335232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"/>
            <p:cNvSpPr/>
            <p:nvPr/>
          </p:nvSpPr>
          <p:spPr>
            <a:xfrm>
              <a:off x="971640" y="3343680"/>
              <a:ext cx="47016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510920" y="4314960"/>
            <a:ext cx="609480" cy="637560"/>
            <a:chOff x="1510920" y="4314960"/>
            <a:chExt cx="609480" cy="637560"/>
          </a:xfrm>
        </p:grpSpPr>
        <p:sp>
          <p:nvSpPr>
            <p:cNvPr id="79" name=""/>
            <p:cNvSpPr/>
            <p:nvPr/>
          </p:nvSpPr>
          <p:spPr>
            <a:xfrm>
              <a:off x="1581840" y="4388760"/>
              <a:ext cx="469800" cy="4896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510920" y="4314960"/>
              <a:ext cx="609480" cy="637560"/>
              <a:chOff x="1510920" y="4314960"/>
              <a:chExt cx="609480" cy="637560"/>
            </a:xfrm>
          </p:grpSpPr>
          <p:sp>
            <p:nvSpPr>
              <p:cNvPr id="81" name=""/>
              <p:cNvSpPr/>
              <p:nvPr/>
            </p:nvSpPr>
            <p:spPr>
              <a:xfrm>
                <a:off x="1511280" y="4314960"/>
                <a:ext cx="609120" cy="637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1703160" y="4314960"/>
                <a:ext cx="225000" cy="636120"/>
                <a:chOff x="1703160" y="4314960"/>
                <a:chExt cx="225000" cy="63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703160" y="431496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703160" y="487872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511280" y="4515840"/>
                <a:ext cx="607680" cy="235440"/>
                <a:chOff x="1511280" y="4515840"/>
                <a:chExt cx="607680" cy="235440"/>
              </a:xfrm>
            </p:grpSpPr>
            <p:sp>
              <p:nvSpPr>
                <p:cNvPr id="86" name=""/>
                <p:cNvSpPr/>
                <p:nvPr/>
              </p:nvSpPr>
              <p:spPr>
                <a:xfrm rot="5400000">
                  <a:off x="1966680" y="459900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5400000">
                  <a:off x="1428120" y="459900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517760" y="4335480"/>
                <a:ext cx="596160" cy="596160"/>
                <a:chOff x="1517760" y="4335480"/>
                <a:chExt cx="596160" cy="596160"/>
              </a:xfrm>
            </p:grpSpPr>
            <p:sp>
              <p:nvSpPr>
                <p:cNvPr id="89" name=""/>
                <p:cNvSpPr/>
                <p:nvPr/>
              </p:nvSpPr>
              <p:spPr>
                <a:xfrm rot="2700000">
                  <a:off x="1888560" y="440856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2700000">
                  <a:off x="1507680" y="478944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510920" y="4329720"/>
                <a:ext cx="608760" cy="608760"/>
                <a:chOff x="1510920" y="4329720"/>
                <a:chExt cx="608760" cy="608760"/>
              </a:xfrm>
            </p:grpSpPr>
            <p:sp>
              <p:nvSpPr>
                <p:cNvPr id="92" name=""/>
                <p:cNvSpPr/>
                <p:nvPr/>
              </p:nvSpPr>
              <p:spPr>
                <a:xfrm rot="8100000">
                  <a:off x="1901880" y="479700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8100000">
                  <a:off x="1503360" y="439848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" name=""/>
          <p:cNvGrpSpPr/>
          <p:nvPr/>
        </p:nvGrpSpPr>
        <p:grpSpPr>
          <a:xfrm>
            <a:off x="2730240" y="2224080"/>
            <a:ext cx="611280" cy="639720"/>
            <a:chOff x="2730240" y="2224080"/>
            <a:chExt cx="611280" cy="639720"/>
          </a:xfrm>
        </p:grpSpPr>
        <p:grpSp>
          <p:nvGrpSpPr>
            <p:cNvPr id="95" name=""/>
            <p:cNvGrpSpPr/>
            <p:nvPr/>
          </p:nvGrpSpPr>
          <p:grpSpPr>
            <a:xfrm>
              <a:off x="2730240" y="2224080"/>
              <a:ext cx="611280" cy="639720"/>
              <a:chOff x="2730240" y="2224080"/>
              <a:chExt cx="611280" cy="639720"/>
            </a:xfrm>
          </p:grpSpPr>
          <p:sp>
            <p:nvSpPr>
              <p:cNvPr id="96" name=""/>
              <p:cNvSpPr/>
              <p:nvPr/>
            </p:nvSpPr>
            <p:spPr>
              <a:xfrm>
                <a:off x="2730600" y="2224080"/>
                <a:ext cx="61092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2923200" y="2224080"/>
                <a:ext cx="225720" cy="638640"/>
                <a:chOff x="2923200" y="2224080"/>
                <a:chExt cx="225720" cy="6386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923200" y="222408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23200" y="279000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2730600" y="2425680"/>
                <a:ext cx="609840" cy="236160"/>
                <a:chOff x="2730600" y="2425680"/>
                <a:chExt cx="609840" cy="236160"/>
              </a:xfrm>
            </p:grpSpPr>
            <p:sp>
              <p:nvSpPr>
                <p:cNvPr id="101" name=""/>
                <p:cNvSpPr/>
                <p:nvPr/>
              </p:nvSpPr>
              <p:spPr>
                <a:xfrm rot="5400000">
                  <a:off x="3187440" y="250884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5400000">
                  <a:off x="2647080" y="250884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737440" y="2244600"/>
                <a:ext cx="597960" cy="598320"/>
                <a:chOff x="2737440" y="2244600"/>
                <a:chExt cx="597960" cy="598320"/>
              </a:xfrm>
            </p:grpSpPr>
            <p:sp>
              <p:nvSpPr>
                <p:cNvPr id="104" name=""/>
                <p:cNvSpPr/>
                <p:nvPr/>
              </p:nvSpPr>
              <p:spPr>
                <a:xfrm rot="2700000">
                  <a:off x="3108960" y="231768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2700000">
                  <a:off x="2727000" y="270000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730240" y="2238480"/>
                <a:ext cx="610920" cy="610920"/>
                <a:chOff x="2730240" y="2238480"/>
                <a:chExt cx="610920" cy="610920"/>
              </a:xfrm>
            </p:grpSpPr>
            <p:sp>
              <p:nvSpPr>
                <p:cNvPr id="107" name=""/>
                <p:cNvSpPr/>
                <p:nvPr/>
              </p:nvSpPr>
              <p:spPr>
                <a:xfrm rot="8100000">
                  <a:off x="3122640" y="270756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8100000">
                  <a:off x="2722680" y="230760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" name=""/>
            <p:cNvSpPr/>
            <p:nvPr/>
          </p:nvSpPr>
          <p:spPr>
            <a:xfrm>
              <a:off x="2800800" y="2298960"/>
              <a:ext cx="47124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eals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36880" y="3146400"/>
            <a:ext cx="779400" cy="811080"/>
            <a:chOff x="2036880" y="3146400"/>
            <a:chExt cx="779400" cy="811080"/>
          </a:xfrm>
        </p:grpSpPr>
        <p:grpSp>
          <p:nvGrpSpPr>
            <p:cNvPr id="111" name=""/>
            <p:cNvGrpSpPr/>
            <p:nvPr/>
          </p:nvGrpSpPr>
          <p:grpSpPr>
            <a:xfrm>
              <a:off x="2036880" y="3146400"/>
              <a:ext cx="779400" cy="811080"/>
              <a:chOff x="2036880" y="3146400"/>
              <a:chExt cx="779400" cy="811080"/>
            </a:xfrm>
          </p:grpSpPr>
          <p:sp>
            <p:nvSpPr>
              <p:cNvPr id="112" name=""/>
              <p:cNvSpPr/>
              <p:nvPr/>
            </p:nvSpPr>
            <p:spPr>
              <a:xfrm>
                <a:off x="2036880" y="3146400"/>
                <a:ext cx="779400" cy="81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2282400" y="3146400"/>
                <a:ext cx="287640" cy="809280"/>
                <a:chOff x="2282400" y="3146400"/>
                <a:chExt cx="287640" cy="809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282400" y="314640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282400" y="386352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36880" y="3402000"/>
                <a:ext cx="777600" cy="299520"/>
                <a:chOff x="2036880" y="3402000"/>
                <a:chExt cx="777600" cy="299520"/>
              </a:xfrm>
            </p:grpSpPr>
            <p:sp>
              <p:nvSpPr>
                <p:cNvPr id="117" name=""/>
                <p:cNvSpPr/>
                <p:nvPr/>
              </p:nvSpPr>
              <p:spPr>
                <a:xfrm rot="5400000">
                  <a:off x="2620440" y="350748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5400000">
                  <a:off x="1931400" y="350748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045880" y="3170880"/>
                <a:ext cx="761760" cy="761760"/>
                <a:chOff x="2045880" y="3170880"/>
                <a:chExt cx="761760" cy="761760"/>
              </a:xfrm>
            </p:grpSpPr>
            <p:sp>
              <p:nvSpPr>
                <p:cNvPr id="120" name=""/>
                <p:cNvSpPr/>
                <p:nvPr/>
              </p:nvSpPr>
              <p:spPr>
                <a:xfrm rot="2700000">
                  <a:off x="2520720" y="326376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2700000">
                  <a:off x="2033280" y="375120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038320" y="3165120"/>
                <a:ext cx="775440" cy="775440"/>
                <a:chOff x="2038320" y="3165120"/>
                <a:chExt cx="775440" cy="775440"/>
              </a:xfrm>
            </p:grpSpPr>
            <p:sp>
              <p:nvSpPr>
                <p:cNvPr id="123" name=""/>
                <p:cNvSpPr/>
                <p:nvPr/>
              </p:nvSpPr>
              <p:spPr>
                <a:xfrm rot="8100000">
                  <a:off x="2535480" y="375984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8100000">
                  <a:off x="2028600" y="325296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126160" y="3241440"/>
              <a:ext cx="601200" cy="62244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Origi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Copie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730600" y="4314960"/>
            <a:ext cx="796680" cy="822240"/>
            <a:chOff x="2730600" y="4314960"/>
            <a:chExt cx="796680" cy="822240"/>
          </a:xfrm>
        </p:grpSpPr>
        <p:grpSp>
          <p:nvGrpSpPr>
            <p:cNvPr id="127" name=""/>
            <p:cNvGrpSpPr/>
            <p:nvPr/>
          </p:nvGrpSpPr>
          <p:grpSpPr>
            <a:xfrm>
              <a:off x="2730600" y="4314960"/>
              <a:ext cx="796680" cy="822240"/>
              <a:chOff x="2730600" y="4314960"/>
              <a:chExt cx="796680" cy="822240"/>
            </a:xfrm>
          </p:grpSpPr>
          <p:sp>
            <p:nvSpPr>
              <p:cNvPr id="128" name=""/>
              <p:cNvSpPr/>
              <p:nvPr/>
            </p:nvSpPr>
            <p:spPr>
              <a:xfrm>
                <a:off x="2730600" y="4314960"/>
                <a:ext cx="796680" cy="8222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2981520" y="4314960"/>
                <a:ext cx="294120" cy="820440"/>
                <a:chOff x="2981520" y="4314960"/>
                <a:chExt cx="294120" cy="820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981520" y="431496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981520" y="504216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730600" y="4574160"/>
                <a:ext cx="794880" cy="303480"/>
                <a:chOff x="2730600" y="4574160"/>
                <a:chExt cx="794880" cy="303480"/>
              </a:xfrm>
            </p:grpSpPr>
            <p:sp>
              <p:nvSpPr>
                <p:cNvPr id="133" name=""/>
                <p:cNvSpPr/>
                <p:nvPr/>
              </p:nvSpPr>
              <p:spPr>
                <a:xfrm rot="5400000">
                  <a:off x="3328560" y="468072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5400000">
                  <a:off x="2624040" y="468072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741040" y="4337640"/>
                <a:ext cx="776520" cy="776520"/>
                <a:chOff x="2741040" y="4337640"/>
                <a:chExt cx="776520" cy="776520"/>
              </a:xfrm>
            </p:grpSpPr>
            <p:sp>
              <p:nvSpPr>
                <p:cNvPr id="136" name=""/>
                <p:cNvSpPr/>
                <p:nvPr/>
              </p:nvSpPr>
              <p:spPr>
                <a:xfrm rot="2700000">
                  <a:off x="3226320" y="443160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700000">
                  <a:off x="2728080" y="492948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734200" y="4332600"/>
                <a:ext cx="788040" cy="788040"/>
                <a:chOff x="2734200" y="4332600"/>
                <a:chExt cx="788040" cy="788040"/>
              </a:xfrm>
            </p:grpSpPr>
            <p:sp>
              <p:nvSpPr>
                <p:cNvPr id="139" name=""/>
                <p:cNvSpPr/>
                <p:nvPr/>
              </p:nvSpPr>
              <p:spPr>
                <a:xfrm rot="8100000">
                  <a:off x="3238200" y="493668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8100000">
                  <a:off x="2724120" y="442260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2822040" y="4411080"/>
              <a:ext cx="614520" cy="63108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341160" y="3268800"/>
            <a:ext cx="610560" cy="639720"/>
            <a:chOff x="3341160" y="3268800"/>
            <a:chExt cx="610560" cy="639720"/>
          </a:xfrm>
        </p:grpSpPr>
        <p:grpSp>
          <p:nvGrpSpPr>
            <p:cNvPr id="143" name=""/>
            <p:cNvGrpSpPr/>
            <p:nvPr/>
          </p:nvGrpSpPr>
          <p:grpSpPr>
            <a:xfrm>
              <a:off x="3341160" y="3268800"/>
              <a:ext cx="610560" cy="639720"/>
              <a:chOff x="3341160" y="3268800"/>
              <a:chExt cx="610560" cy="63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3341520" y="3268800"/>
                <a:ext cx="60984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533760" y="3268800"/>
                <a:ext cx="225360" cy="638640"/>
                <a:chOff x="3533760" y="3268800"/>
                <a:chExt cx="225360" cy="638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533760" y="326880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533760" y="383472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341520" y="3470400"/>
                <a:ext cx="608400" cy="236160"/>
                <a:chOff x="3341520" y="3470400"/>
                <a:chExt cx="608400" cy="236160"/>
              </a:xfrm>
            </p:grpSpPr>
            <p:sp>
              <p:nvSpPr>
                <p:cNvPr id="149" name=""/>
                <p:cNvSpPr/>
                <p:nvPr/>
              </p:nvSpPr>
              <p:spPr>
                <a:xfrm rot="5400000">
                  <a:off x="379728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5400000">
                  <a:off x="325800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347640" y="3290040"/>
                <a:ext cx="597600" cy="597240"/>
                <a:chOff x="3347640" y="3290040"/>
                <a:chExt cx="597600" cy="597240"/>
              </a:xfrm>
            </p:grpSpPr>
            <p:sp>
              <p:nvSpPr>
                <p:cNvPr id="152" name=""/>
                <p:cNvSpPr/>
                <p:nvPr/>
              </p:nvSpPr>
              <p:spPr>
                <a:xfrm rot="2700000">
                  <a:off x="3719160" y="33631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700000">
                  <a:off x="3337560" y="374436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341160" y="3283200"/>
                <a:ext cx="610560" cy="610920"/>
                <a:chOff x="3341160" y="3283200"/>
                <a:chExt cx="610560" cy="610920"/>
              </a:xfrm>
            </p:grpSpPr>
            <p:sp>
              <p:nvSpPr>
                <p:cNvPr id="155" name=""/>
                <p:cNvSpPr/>
                <p:nvPr/>
              </p:nvSpPr>
              <p:spPr>
                <a:xfrm rot="8100000">
                  <a:off x="3733560" y="375192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8100000">
                  <a:off x="3333600" y="335196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3411360" y="3343680"/>
              <a:ext cx="47052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8" name=""/>
          <p:cNvCxnSpPr>
            <a:stCxn id="146" idx="1"/>
            <a:endCxn id="107" idx="0"/>
          </p:cNvCxnSpPr>
          <p:nvPr/>
        </p:nvCxnSpPr>
        <p:spPr>
          <a:xfrm flipH="1" flipV="1">
            <a:off x="3260520" y="2766600"/>
            <a:ext cx="306720" cy="5133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59" name=""/>
          <p:cNvCxnSpPr>
            <a:stCxn id="147" idx="3"/>
            <a:endCxn id="136" idx="1"/>
          </p:cNvCxnSpPr>
          <p:nvPr/>
        </p:nvCxnSpPr>
        <p:spPr>
          <a:xfrm flipH="1">
            <a:off x="3323520" y="3895200"/>
            <a:ext cx="243720" cy="4834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0" name=""/>
          <p:cNvCxnSpPr>
            <a:stCxn id="67" idx="5"/>
            <a:endCxn id="93" idx="4"/>
          </p:cNvCxnSpPr>
          <p:nvPr/>
        </p:nvCxnSpPr>
        <p:spPr>
          <a:xfrm>
            <a:off x="1285920" y="3895200"/>
            <a:ext cx="303840" cy="513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1" name=""/>
          <p:cNvCxnSpPr>
            <a:stCxn id="86" idx="7"/>
            <a:endCxn id="134" idx="5"/>
          </p:cNvCxnSpPr>
          <p:nvPr/>
        </p:nvCxnSpPr>
        <p:spPr>
          <a:xfrm>
            <a:off x="2109600" y="4716000"/>
            <a:ext cx="635400" cy="1184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55" idx="1"/>
            <a:endCxn id="102" idx="3"/>
          </p:cNvCxnSpPr>
          <p:nvPr/>
        </p:nvCxnSpPr>
        <p:spPr>
          <a:xfrm>
            <a:off x="2111040" y="2458800"/>
            <a:ext cx="63108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14" idx="1"/>
            <a:endCxn id="60" idx="0"/>
          </p:cNvCxnSpPr>
          <p:nvPr/>
        </p:nvCxnSpPr>
        <p:spPr>
          <a:xfrm flipH="1" flipV="1">
            <a:off x="2039400" y="2768400"/>
            <a:ext cx="286560" cy="3909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4" name=""/>
          <p:cNvCxnSpPr>
            <a:stCxn id="105" idx="4"/>
            <a:endCxn id="114" idx="7"/>
          </p:cNvCxnSpPr>
          <p:nvPr/>
        </p:nvCxnSpPr>
        <p:spPr>
          <a:xfrm flipH="1">
            <a:off x="2526840" y="2758680"/>
            <a:ext cx="294480" cy="400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5" name=""/>
          <p:cNvCxnSpPr>
            <a:stCxn id="120" idx="1"/>
            <a:endCxn id="105" idx="5"/>
          </p:cNvCxnSpPr>
          <p:nvPr/>
        </p:nvCxnSpPr>
        <p:spPr>
          <a:xfrm flipV="1">
            <a:off x="2617560" y="2809080"/>
            <a:ext cx="268920" cy="400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6" name=""/>
          <p:cNvCxnSpPr>
            <a:stCxn id="60" idx="7"/>
            <a:endCxn id="124" idx="3"/>
          </p:cNvCxnSpPr>
          <p:nvPr/>
        </p:nvCxnSpPr>
        <p:spPr>
          <a:xfrm>
            <a:off x="1974960" y="2817360"/>
            <a:ext cx="248400" cy="3848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7" name=""/>
          <p:cNvCxnSpPr>
            <a:stCxn id="117" idx="7"/>
            <a:endCxn id="150" idx="5"/>
          </p:cNvCxnSpPr>
          <p:nvPr/>
        </p:nvCxnSpPr>
        <p:spPr>
          <a:xfrm>
            <a:off x="2801520" y="3657600"/>
            <a:ext cx="553320" cy="15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8" name=""/>
          <p:cNvCxnSpPr>
            <a:stCxn id="150" idx="4"/>
            <a:endCxn id="117" idx="0"/>
          </p:cNvCxnSpPr>
          <p:nvPr/>
        </p:nvCxnSpPr>
        <p:spPr>
          <a:xfrm flipH="1" flipV="1">
            <a:off x="2815920" y="3550680"/>
            <a:ext cx="529200" cy="37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9" name=""/>
          <p:cNvCxnSpPr>
            <a:stCxn id="69" idx="7"/>
            <a:endCxn id="118" idx="5"/>
          </p:cNvCxnSpPr>
          <p:nvPr/>
        </p:nvCxnSpPr>
        <p:spPr>
          <a:xfrm flipV="1">
            <a:off x="1501560" y="3657240"/>
            <a:ext cx="549720" cy="15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0" name=""/>
          <p:cNvCxnSpPr>
            <a:stCxn id="118" idx="4"/>
            <a:endCxn id="69" idx="0"/>
          </p:cNvCxnSpPr>
          <p:nvPr/>
        </p:nvCxnSpPr>
        <p:spPr>
          <a:xfrm flipH="1">
            <a:off x="1512360" y="3551040"/>
            <a:ext cx="526320" cy="37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1" name=""/>
          <p:cNvCxnSpPr>
            <a:stCxn id="93" idx="3"/>
            <a:endCxn id="75" idx="7"/>
          </p:cNvCxnSpPr>
          <p:nvPr/>
        </p:nvCxnSpPr>
        <p:spPr>
          <a:xfrm flipH="1" flipV="1">
            <a:off x="1364760" y="3862080"/>
            <a:ext cx="289440" cy="497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2" name=""/>
          <p:cNvCxnSpPr>
            <a:stCxn id="134" idx="4"/>
            <a:endCxn id="86" idx="0"/>
          </p:cNvCxnSpPr>
          <p:nvPr/>
        </p:nvCxnSpPr>
        <p:spPr>
          <a:xfrm flipH="1" flipV="1">
            <a:off x="2120400" y="4633560"/>
            <a:ext cx="612000" cy="94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3" name=""/>
          <p:cNvCxnSpPr>
            <a:stCxn id="53" idx="4"/>
            <a:endCxn id="83" idx="0"/>
          </p:cNvCxnSpPr>
          <p:nvPr/>
        </p:nvCxnSpPr>
        <p:spPr>
          <a:xfrm>
            <a:off x="1815840" y="2862000"/>
            <a:ext cx="1080" cy="1453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4" name=""/>
          <p:cNvCxnSpPr>
            <a:stCxn id="89" idx="7"/>
            <a:endCxn id="153" idx="5"/>
          </p:cNvCxnSpPr>
          <p:nvPr/>
        </p:nvCxnSpPr>
        <p:spPr>
          <a:xfrm flipV="1">
            <a:off x="2084040" y="3852000"/>
            <a:ext cx="1415160" cy="63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5" name=""/>
          <p:cNvCxnSpPr>
            <a:stCxn id="153" idx="4"/>
            <a:endCxn id="89" idx="0"/>
          </p:cNvCxnSpPr>
          <p:nvPr/>
        </p:nvCxnSpPr>
        <p:spPr>
          <a:xfrm flipH="1">
            <a:off x="2031480" y="3801600"/>
            <a:ext cx="1402560" cy="615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6" name=""/>
          <p:cNvCxnSpPr>
            <a:stCxn id="107" idx="1"/>
            <a:endCxn id="146" idx="0"/>
          </p:cNvCxnSpPr>
          <p:nvPr/>
        </p:nvCxnSpPr>
        <p:spPr>
          <a:xfrm>
            <a:off x="3309480" y="2703600"/>
            <a:ext cx="337320" cy="565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7" name=""/>
          <p:cNvCxnSpPr>
            <a:stCxn id="136" idx="0"/>
            <a:endCxn id="147" idx="4"/>
          </p:cNvCxnSpPr>
          <p:nvPr/>
        </p:nvCxnSpPr>
        <p:spPr>
          <a:xfrm flipV="1">
            <a:off x="3409560" y="3906000"/>
            <a:ext cx="237240" cy="538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8" name=""/>
          <p:cNvCxnSpPr>
            <a:stCxn id="123" idx="7"/>
            <a:endCxn id="140" idx="3"/>
          </p:cNvCxnSpPr>
          <p:nvPr/>
        </p:nvCxnSpPr>
        <p:spPr>
          <a:xfrm>
            <a:off x="2630160" y="3898440"/>
            <a:ext cx="292680" cy="4755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9" name=""/>
          <p:cNvCxnSpPr>
            <a:stCxn id="130" idx="1"/>
            <a:endCxn id="123" idx="0"/>
          </p:cNvCxnSpPr>
          <p:nvPr/>
        </p:nvCxnSpPr>
        <p:spPr>
          <a:xfrm flipH="1" flipV="1">
            <a:off x="2710800" y="3836160"/>
            <a:ext cx="313560" cy="4928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0" name=""/>
          <p:cNvCxnSpPr>
            <a:stCxn id="121" idx="4"/>
            <a:endCxn id="83" idx="7"/>
          </p:cNvCxnSpPr>
          <p:nvPr/>
        </p:nvCxnSpPr>
        <p:spPr>
          <a:xfrm flipH="1">
            <a:off x="1895400" y="3825360"/>
            <a:ext cx="255960" cy="500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1" name=""/>
          <p:cNvCxnSpPr>
            <a:stCxn id="89" idx="1"/>
            <a:endCxn id="121" idx="5"/>
          </p:cNvCxnSpPr>
          <p:nvPr/>
        </p:nvCxnSpPr>
        <p:spPr>
          <a:xfrm flipV="1">
            <a:off x="1965240" y="3890520"/>
            <a:ext cx="270720" cy="473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stCxn id="99" idx="4"/>
            <a:endCxn id="130" idx="0"/>
          </p:cNvCxnSpPr>
          <p:nvPr/>
        </p:nvCxnSpPr>
        <p:spPr>
          <a:xfrm>
            <a:off x="3036960" y="2862000"/>
            <a:ext cx="92880" cy="1453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3" name=""/>
          <p:cNvCxnSpPr>
            <a:stCxn id="130" idx="7"/>
            <a:endCxn id="99" idx="5"/>
          </p:cNvCxnSpPr>
          <p:nvPr/>
        </p:nvCxnSpPr>
        <p:spPr>
          <a:xfrm flipH="1" flipV="1">
            <a:off x="3115440" y="2850480"/>
            <a:ext cx="118440" cy="1478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184" name=""/>
          <p:cNvGrpSpPr/>
          <p:nvPr/>
        </p:nvGrpSpPr>
        <p:grpSpPr>
          <a:xfrm>
            <a:off x="1116000" y="2060640"/>
            <a:ext cx="433440" cy="431640"/>
            <a:chOff x="1116000" y="2060640"/>
            <a:chExt cx="433440" cy="431640"/>
          </a:xfrm>
        </p:grpSpPr>
        <p:sp>
          <p:nvSpPr>
            <p:cNvPr id="185" name=""/>
            <p:cNvSpPr/>
            <p:nvPr/>
          </p:nvSpPr>
          <p:spPr>
            <a:xfrm>
              <a:off x="1116360" y="2060640"/>
              <a:ext cx="4330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38760" y="2063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40200" y="2063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41640" y="206424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42720" y="2064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44520" y="2065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45600" y="2065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47400" y="2066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48480" y="2066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49920" y="2067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51720" y="2067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52800" y="2068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4600" y="2068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5680" y="2068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57480" y="2069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58560" y="2070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38760" y="226584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38760" y="226584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38760" y="226584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9120" y="226584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39120" y="226584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39120" y="226584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39480" y="226584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39480" y="226584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9480" y="226584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39480" y="2265840"/>
              <a:ext cx="14184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39480" y="226584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9480" y="226584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39480" y="226584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39840" y="226584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39840" y="226584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96160" y="2082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6160" y="2096640"/>
              <a:ext cx="4104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96160" y="2110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6160" y="2123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6160" y="2137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96160" y="2151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96160" y="2165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96160" y="2178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96160" y="2192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6160" y="2206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96160" y="2219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96160" y="2233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96160" y="2247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6160" y="2260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96160" y="2274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80880" y="228132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79440" y="228348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66480" y="208404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0960" y="23205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0960" y="23205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70960" y="23209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70960" y="23209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0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70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70960" y="232164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70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70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70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70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29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9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29200" y="2316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9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9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8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98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39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39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39840" y="2288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39840" y="2288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39840" y="2288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39840" y="2289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39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39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39840" y="2289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39840" y="2289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39840" y="2289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68800" y="23288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68800" y="23292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68800" y="23292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68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68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68800" y="232992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68800" y="23306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68800" y="23310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68800" y="233100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8800" y="23313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68800" y="233172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38400" y="2294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38400" y="2295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38400" y="2295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38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38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38400" y="2296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38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38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38400" y="2296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38400" y="2296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38400" y="2296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6360" y="240444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16000" y="239832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16360" y="239868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16360" y="239868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16360" y="239904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16720" y="239940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16720" y="240012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17080" y="240012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17080" y="240048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17080" y="240084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17440" y="240084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17800" y="240120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6160" y="240156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8640" y="2415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49920" y="2412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02840" y="2422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07880" y="2431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2760" y="2427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88080" y="2448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42000" y="2440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1280" y="2417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0800" y="2416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1000" y="2412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03920" y="2422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08240" y="2432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3480" y="2427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89160" y="2449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42720" y="2441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41640" y="2418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4400" y="2417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53520" y="2413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06440" y="2423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08960" y="243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94200" y="2427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89880" y="2449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43440" y="2441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2360" y="2418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6560" y="2417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55320" y="2413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08240" y="2423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09320" y="243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94920" y="2427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90240" y="2449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4160" y="2441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42720" y="2418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76560" y="2417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5320" y="2413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08240" y="2423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08960" y="243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4560" y="2427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89880" y="2449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44160" y="2441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42720" y="2418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73680" y="240228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57480" y="2398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74400" y="2406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58200" y="2403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69720" y="2375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02480" y="235944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98600" y="2377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19480" y="2382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61960" y="2387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0720" y="2383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81680" y="2374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84120" y="2358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64320" y="2354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49560" y="2352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34800" y="2350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15720" y="2351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99880" y="2349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6920" y="2346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00240" y="2335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12480" y="2324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22560" y="2317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31560" y="2310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26880" y="2340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2331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32280" y="2324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51520" y="2353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79600" y="2346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72040" y="2358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49560" y="2312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1160" y="2347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63960" y="2337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76560" y="2331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71160" y="2322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93480" y="2319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19960" y="234972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82840" y="2341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74680" y="230436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60880" y="2368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43960" y="237492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23440" y="2372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16240" y="2362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29200" y="2356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23440" y="2347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45760" y="2344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02920" y="2368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95720" y="2359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08320" y="2353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02920" y="2344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5240" y="2341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84560" y="2365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77360" y="2356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89600" y="2350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84560" y="2341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06880" y="2337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06440" y="2354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98880" y="234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11480" y="2338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6440" y="2329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28400" y="2326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66920" y="2362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59720" y="2353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72320" y="2347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366920" y="2338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89240" y="2335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6760" y="2360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39920" y="2350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52160" y="2344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46760" y="2335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69440" y="2332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25160" y="2356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17600" y="2347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30560" y="2341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25160" y="2332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47840" y="2329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87720" y="2350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80880" y="2341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93120" y="2334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87720" y="2325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10400" y="2322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52440" y="2345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5240" y="2335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57840" y="2329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52440" y="2320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74760" y="2317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60000" y="206064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34800" y="2302920"/>
              <a:ext cx="28152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1280" y="3068640"/>
            <a:ext cx="431640" cy="431640"/>
            <a:chOff x="611280" y="3068640"/>
            <a:chExt cx="431640" cy="431640"/>
          </a:xfrm>
        </p:grpSpPr>
        <p:sp>
          <p:nvSpPr>
            <p:cNvPr id="440" name=""/>
            <p:cNvSpPr/>
            <p:nvPr/>
          </p:nvSpPr>
          <p:spPr>
            <a:xfrm>
              <a:off x="611640" y="3068640"/>
              <a:ext cx="4312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3320" y="3071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5120" y="3071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6200" y="3072240"/>
              <a:ext cx="3528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7640" y="3072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080" y="3073320"/>
              <a:ext cx="3240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0520" y="3073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1960" y="3074760"/>
              <a:ext cx="2916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3400" y="3074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4480" y="3075120"/>
              <a:ext cx="2664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280" y="3075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7360" y="3076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9160" y="3076200"/>
              <a:ext cx="2160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0240" y="3076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2040" y="3077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3480" y="3078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3320" y="3273840"/>
              <a:ext cx="27828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3320" y="3273840"/>
              <a:ext cx="26316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3320" y="3273840"/>
              <a:ext cx="24804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3680" y="3273840"/>
              <a:ext cx="23256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3680" y="3273840"/>
              <a:ext cx="21744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3680" y="3273840"/>
              <a:ext cx="20232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4400" y="3273840"/>
              <a:ext cx="18684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4400" y="3273840"/>
              <a:ext cx="17136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4400" y="3273840"/>
              <a:ext cx="1566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4400" y="3273840"/>
              <a:ext cx="14112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4400" y="3273840"/>
              <a:ext cx="12600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4400" y="3273840"/>
              <a:ext cx="11052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4400" y="3273840"/>
              <a:ext cx="9576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4760" y="3273840"/>
              <a:ext cx="7992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4760" y="3273840"/>
              <a:ext cx="6444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90000" y="3090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90000" y="3104640"/>
              <a:ext cx="4068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0000" y="3118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90000" y="3131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90000" y="3145680"/>
              <a:ext cx="3708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000" y="3159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90000" y="3173040"/>
              <a:ext cx="3456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0000" y="3186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90000" y="3200760"/>
              <a:ext cx="3204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90000" y="3214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90000" y="3227760"/>
              <a:ext cx="2952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90000" y="3241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0000" y="3255120"/>
              <a:ext cx="2700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90000" y="3268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90000" y="3282840"/>
              <a:ext cx="2448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440" y="3289320"/>
              <a:ext cx="19080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4000" y="3291480"/>
              <a:ext cx="18972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1040" y="3092040"/>
              <a:ext cx="24372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64800" y="3328560"/>
              <a:ext cx="4572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64800" y="3328560"/>
              <a:ext cx="4536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64800" y="3328920"/>
              <a:ext cx="4536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64800" y="332892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64800" y="3329280"/>
              <a:ext cx="4536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64800" y="3329280"/>
              <a:ext cx="4536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4800" y="3329640"/>
              <a:ext cx="4536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64800" y="333036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64800" y="333036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64800" y="333072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64800" y="333072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2340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2340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23400" y="3324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2340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2340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272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272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4760" y="3295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4760" y="3295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760" y="3296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4760" y="3296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4760" y="3296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4760" y="3297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4760" y="3297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4760" y="3297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4760" y="3297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4760" y="3297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4760" y="3297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3336840"/>
              <a:ext cx="4572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3337200"/>
              <a:ext cx="4572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3337200"/>
              <a:ext cx="4536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33756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33756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337920"/>
              <a:ext cx="4536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62640" y="3338640"/>
              <a:ext cx="4536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62640" y="333900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62640" y="3339000"/>
              <a:ext cx="4536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2640" y="333936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62640" y="3339720"/>
              <a:ext cx="4536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2960" y="3302640"/>
              <a:ext cx="3780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2960" y="3303000"/>
              <a:ext cx="3780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2960" y="3303000"/>
              <a:ext cx="3780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2960" y="3303720"/>
              <a:ext cx="3780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960" y="3303720"/>
              <a:ext cx="3780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2960" y="3304080"/>
              <a:ext cx="3780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2960" y="3304080"/>
              <a:ext cx="3744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2960" y="3304080"/>
              <a:ext cx="3744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2960" y="3304440"/>
              <a:ext cx="3744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2960" y="3304440"/>
              <a:ext cx="3744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2960" y="3304800"/>
              <a:ext cx="3744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1640" y="3412440"/>
              <a:ext cx="33732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1280" y="3406320"/>
              <a:ext cx="34164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1640" y="3406680"/>
              <a:ext cx="34056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640" y="3406680"/>
              <a:ext cx="34020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1640" y="3407040"/>
              <a:ext cx="33984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2000" y="3407400"/>
              <a:ext cx="33876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2000" y="3408120"/>
              <a:ext cx="33840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2360" y="3408120"/>
              <a:ext cx="33768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2360" y="3408480"/>
              <a:ext cx="33732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2360" y="3408840"/>
              <a:ext cx="33624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720" y="3408840"/>
              <a:ext cx="33552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3080" y="3409200"/>
              <a:ext cx="33480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1080" y="3409560"/>
              <a:ext cx="10512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3200" y="3423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4480" y="3420360"/>
              <a:ext cx="1836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7040" y="3430080"/>
              <a:ext cx="1836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2080" y="3439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7320" y="3435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2640" y="3456720"/>
              <a:ext cx="792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6560" y="3448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5840" y="3425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5360" y="3424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920" y="3420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8480" y="3430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2800" y="3440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8040" y="3435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3720" y="3457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7640" y="3449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6200" y="3426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8960" y="3425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440" y="3421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1000" y="3431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03520" y="3440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8400" y="3435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4440" y="3457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8360" y="3449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7280" y="3426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1120" y="3425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9880" y="3421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02800" y="3431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03880" y="3440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9480" y="3435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4800" y="3457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8720" y="3449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7640" y="3426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20" y="3425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9880" y="3421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2800" y="3431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03520" y="3440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8760" y="3435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4440" y="3457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8720" y="3449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7640" y="3426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8240" y="3410280"/>
              <a:ext cx="5652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2040" y="3406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8960" y="3414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2760" y="3411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4640" y="3383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6680" y="3367440"/>
              <a:ext cx="7308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92440" y="3385080"/>
              <a:ext cx="1620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13680" y="3390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55800" y="3395160"/>
              <a:ext cx="1584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34920" y="3391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5880" y="3382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8680" y="3366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9240" y="3362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4120" y="3360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9720" y="3358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0640" y="3359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4800" y="3357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1840" y="3354840"/>
              <a:ext cx="1008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95160" y="3343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7400" y="3332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7120" y="3325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6480" y="3318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1800" y="334800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240" y="3339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7200" y="333252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45360" y="3361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73440" y="3354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65880" y="3366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4120" y="332064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5720" y="3355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8520" y="3345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1120" y="3339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5720" y="3330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40" y="3327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5240" y="3357720"/>
              <a:ext cx="36792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76680" y="3349080"/>
              <a:ext cx="3780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9600" y="3312360"/>
              <a:ext cx="6480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54720" y="3376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37800" y="3382920"/>
              <a:ext cx="3996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17280" y="3380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10440" y="3370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23400" y="3364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17280" y="3355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39960" y="3352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97120" y="3376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89560" y="3367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02520" y="3361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97120" y="3352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19080" y="3349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78760" y="3373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1560" y="3364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83800" y="3358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8760" y="3349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0720" y="3345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1000" y="3362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93440" y="3352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6040" y="3346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01000" y="3337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2960" y="333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61120" y="3370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53920" y="3361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6520" y="3355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1120" y="3346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83440" y="3343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1320" y="3368160"/>
              <a:ext cx="1620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4120" y="3358440"/>
              <a:ext cx="1620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6720" y="3352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1320" y="3343680"/>
              <a:ext cx="1620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3640" y="3340800"/>
              <a:ext cx="1620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9720" y="3364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2160" y="3355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120" y="3349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9720" y="3340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42040" y="3337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2280" y="3358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5440" y="3349080"/>
              <a:ext cx="1656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7680" y="3342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2280" y="3333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4600" y="3330720"/>
              <a:ext cx="1656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7000" y="3353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40160" y="3343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2400" y="3337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7000" y="3328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9320" y="3325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4560" y="3068640"/>
              <a:ext cx="27756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9720" y="3310920"/>
              <a:ext cx="28044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3132000" y="4797360"/>
            <a:ext cx="436680" cy="431640"/>
            <a:chOff x="3132000" y="4797360"/>
            <a:chExt cx="436680" cy="431640"/>
          </a:xfrm>
        </p:grpSpPr>
        <p:sp>
          <p:nvSpPr>
            <p:cNvPr id="695" name=""/>
            <p:cNvSpPr/>
            <p:nvPr/>
          </p:nvSpPr>
          <p:spPr>
            <a:xfrm>
              <a:off x="3132360" y="4797360"/>
              <a:ext cx="436320" cy="4316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55480" y="4800240"/>
              <a:ext cx="38880" cy="2156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57280" y="4800600"/>
              <a:ext cx="37080" cy="2034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58360" y="4801320"/>
              <a:ext cx="3600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59800" y="4801680"/>
              <a:ext cx="3456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61600" y="480204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62680" y="4802400"/>
              <a:ext cx="3168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64480" y="4803480"/>
              <a:ext cx="29520" cy="13968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65560" y="4803480"/>
              <a:ext cx="28440" cy="1274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67000" y="4803840"/>
              <a:ext cx="27000" cy="1148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68440" y="4804200"/>
              <a:ext cx="2556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69880" y="4804920"/>
              <a:ext cx="2376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1680" y="480492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72760" y="4805640"/>
              <a:ext cx="2088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74560" y="4806000"/>
              <a:ext cx="19080" cy="5148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75640" y="480672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55480" y="5002920"/>
              <a:ext cx="2815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55480" y="5002920"/>
              <a:ext cx="2660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255480" y="5002920"/>
              <a:ext cx="2509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55840" y="5002920"/>
              <a:ext cx="2354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55840" y="5002920"/>
              <a:ext cx="2199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55840" y="5002920"/>
              <a:ext cx="20484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56560" y="5002920"/>
              <a:ext cx="18900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56560" y="5002920"/>
              <a:ext cx="17352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56560" y="5002920"/>
              <a:ext cx="1584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56560" y="5002920"/>
              <a:ext cx="142920" cy="327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56560" y="5002920"/>
              <a:ext cx="12744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56560" y="5002920"/>
              <a:ext cx="11160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56560" y="5002920"/>
              <a:ext cx="9684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56920" y="5002920"/>
              <a:ext cx="8100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256920" y="5002920"/>
              <a:ext cx="6516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15040" y="4819680"/>
              <a:ext cx="4248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15040" y="4833360"/>
              <a:ext cx="41400" cy="2217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15040" y="4847040"/>
              <a:ext cx="3996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15040" y="4860360"/>
              <a:ext cx="38880" cy="194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15040" y="4874400"/>
              <a:ext cx="37440" cy="18072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15040" y="4888080"/>
              <a:ext cx="3636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15040" y="490212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15040" y="4915440"/>
              <a:ext cx="33840" cy="13968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15040" y="492948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15040" y="4943160"/>
              <a:ext cx="3132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15040" y="495648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15040" y="4970160"/>
              <a:ext cx="2880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15040" y="498420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15040" y="4997520"/>
              <a:ext cx="26280" cy="5760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15040" y="501156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97960" y="5018040"/>
              <a:ext cx="19296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96520" y="5020200"/>
              <a:ext cx="19188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83560" y="4820760"/>
              <a:ext cx="2462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489480" y="5057280"/>
              <a:ext cx="4644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89480" y="5057280"/>
              <a:ext cx="4608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89480" y="505800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89480" y="505800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89480" y="505836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489480" y="505836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89480" y="5058720"/>
              <a:ext cx="4608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489480" y="5059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89480" y="5059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505944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89480" y="505944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44772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4772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47720" y="505404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44772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44772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1560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1560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56920" y="502452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56920" y="502452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56920" y="502524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256920" y="502524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256920" y="502560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6920" y="5025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56920" y="50259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56920" y="50259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256920" y="502632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56920" y="5026320"/>
              <a:ext cx="3852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56920" y="5026680"/>
              <a:ext cx="3852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87320" y="5065920"/>
              <a:ext cx="4644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87320" y="5066280"/>
              <a:ext cx="4644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87320" y="50662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87320" y="50666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7320" y="50666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87320" y="50670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87320" y="5067360"/>
              <a:ext cx="4608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87320" y="5068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87320" y="506808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87320" y="506844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87320" y="5068800"/>
              <a:ext cx="4608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55120" y="503172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55120" y="503208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255120" y="503208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5512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5512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55120" y="503280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5512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5512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55120" y="503352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55120" y="503352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55120" y="503388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2360" y="5141160"/>
              <a:ext cx="34128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32000" y="5135040"/>
              <a:ext cx="34560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32360" y="5135400"/>
              <a:ext cx="34452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32360" y="5135400"/>
              <a:ext cx="34416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32360" y="5136120"/>
              <a:ext cx="34380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32720" y="5136480"/>
              <a:ext cx="34272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32720" y="5136840"/>
              <a:ext cx="34236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33080" y="5136840"/>
              <a:ext cx="34164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33080" y="5137200"/>
              <a:ext cx="34128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33080" y="5137920"/>
              <a:ext cx="34020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33440" y="5137920"/>
              <a:ext cx="33948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33800" y="5138280"/>
              <a:ext cx="33876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42880" y="5138640"/>
              <a:ext cx="10620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85720" y="5153040"/>
              <a:ext cx="2700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67000" y="514944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20280" y="51591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25320" y="51688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310200" y="516384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305520" y="51858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258720" y="51775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58000" y="5154840"/>
              <a:ext cx="756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87880" y="515340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68080" y="51494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21360" y="515952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25680" y="51692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310920" y="516420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06240" y="51865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259800" y="51786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58360" y="515556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9148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70600" y="51505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323880" y="515988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326400" y="51692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11280" y="516420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307320" y="518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60520" y="51786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259440" y="515520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93640" y="51541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72400" y="51505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25680" y="515988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26760" y="51692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312360" y="51642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07680" y="518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60880" y="51786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59800" y="515520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93640" y="51541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72400" y="515052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25680" y="515988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26400" y="51692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11640" y="51642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07320" y="518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60880" y="5178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59800" y="51552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90760" y="5139000"/>
              <a:ext cx="5724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74560" y="513540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91480" y="5144040"/>
              <a:ext cx="5616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275280" y="514044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87160" y="5112360"/>
              <a:ext cx="7488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19560" y="5096160"/>
              <a:ext cx="7416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16760" y="511416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38000" y="511920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80840" y="512424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59240" y="512028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99840" y="5111640"/>
              <a:ext cx="1296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01200" y="509508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81760" y="509148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66640" y="508968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51880" y="508752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32440" y="508788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16600" y="508608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03640" y="508356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16960" y="507276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29200" y="5061240"/>
              <a:ext cx="1296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9280" y="505440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48280" y="504756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243960" y="50770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36400" y="506808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49360" y="50612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70040" y="5090760"/>
              <a:ext cx="2124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98480" y="508320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90920" y="5095440"/>
              <a:ext cx="2124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66640" y="50497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88240" y="508392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81040" y="507456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93640" y="50684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88240" y="5059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10920" y="5056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35960" y="5086800"/>
              <a:ext cx="37224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01720" y="507780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1040" y="5041440"/>
              <a:ext cx="6552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79400" y="5105520"/>
              <a:ext cx="2664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2120" y="5112000"/>
              <a:ext cx="4068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41600" y="510876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34760" y="509976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47720" y="509364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41600" y="508500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4280" y="50814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21080" y="510588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13520" y="509616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26480" y="5090040"/>
              <a:ext cx="1764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21080" y="508140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43400" y="507852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02720" y="510228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95160" y="5093280"/>
              <a:ext cx="1548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07760" y="5087160"/>
              <a:ext cx="1548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2720" y="507852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25040" y="507492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23880" y="509112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16320" y="5081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328920" y="50752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323880" y="50666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346200" y="5063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84720" y="509976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377520" y="509076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390120" y="508392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84720" y="507564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07400" y="50724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64560" y="509724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57360" y="508752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9960" y="50814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64560" y="50727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87240" y="506952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42600" y="50936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35400" y="50846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348360" y="50778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342600" y="50695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65280" y="5066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05160" y="50871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97960" y="5077800"/>
              <a:ext cx="1692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10560" y="50713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05160" y="506304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27840" y="505944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69520" y="508176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2320" y="507276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4920" y="506628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69520" y="5058000"/>
              <a:ext cx="1548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92200" y="505440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77080" y="4797360"/>
              <a:ext cx="28080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251880" y="5040000"/>
              <a:ext cx="283680" cy="475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1332000" y="4797360"/>
            <a:ext cx="433440" cy="431640"/>
            <a:chOff x="1332000" y="4797360"/>
            <a:chExt cx="433440" cy="431640"/>
          </a:xfrm>
        </p:grpSpPr>
        <p:sp>
          <p:nvSpPr>
            <p:cNvPr id="950" name=""/>
            <p:cNvSpPr/>
            <p:nvPr/>
          </p:nvSpPr>
          <p:spPr>
            <a:xfrm>
              <a:off x="1332360" y="4797360"/>
              <a:ext cx="433080" cy="4316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454760" y="4800240"/>
              <a:ext cx="38520" cy="2156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6200" y="4800600"/>
              <a:ext cx="36720" cy="2034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57640" y="480132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58720" y="480168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460520" y="480204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461600" y="480240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63400" y="4803480"/>
              <a:ext cx="29520" cy="13968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64480" y="4803480"/>
              <a:ext cx="28080" cy="1274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465920" y="4803840"/>
              <a:ext cx="27000" cy="1148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67720" y="480420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68800" y="480492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70600" y="480492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71680" y="480564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73480" y="4806000"/>
              <a:ext cx="18720" cy="5148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74560" y="480672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454760" y="500292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454760" y="500292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454760" y="500292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55120" y="500292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55120" y="500292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55120" y="500292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55480" y="500292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55480" y="500292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55480" y="500292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55480" y="5002920"/>
              <a:ext cx="141840" cy="327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455480" y="500292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55480" y="500292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55480" y="500292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55840" y="500292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55840" y="500292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12160" y="481968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12160" y="4833360"/>
              <a:ext cx="41040" cy="2217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712160" y="484704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712160" y="4860360"/>
              <a:ext cx="38520" cy="194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712160" y="4874400"/>
              <a:ext cx="37440" cy="18072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12160" y="488808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12160" y="490212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12160" y="4915440"/>
              <a:ext cx="33480" cy="13968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12160" y="492948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12160" y="494316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12160" y="495648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12160" y="497016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12160" y="498420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12160" y="4997520"/>
              <a:ext cx="25920" cy="5760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712160" y="501156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96880" y="501804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95440" y="502020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82480" y="482076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86960" y="505728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686960" y="505728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686960" y="50580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86960" y="505800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86960" y="505836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86960" y="505836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86960" y="505872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686960" y="5059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686960" y="5059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86960" y="505944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686960" y="505944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64520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64520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45200" y="505404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4520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520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1416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51416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455840" y="502452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455840" y="502452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55840" y="502524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55840" y="502524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55840" y="502560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55840" y="502596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455840" y="502596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55840" y="502596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55840" y="502632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455840" y="502632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55840" y="502668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84800" y="506592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84800" y="506628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84800" y="506628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684800" y="506664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84800" y="506664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84800" y="506700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684800" y="506736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684800" y="5068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84800" y="506808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84800" y="5068440"/>
              <a:ext cx="4572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84800" y="506880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54400" y="503172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54400" y="503208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54400" y="503208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45440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5440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54400" y="503280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45440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45440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454400" y="503352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54400" y="503352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54400" y="503388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32360" y="514116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332000" y="513504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332360" y="513540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332360" y="513540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32360" y="513612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32720" y="513648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2720" y="513684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33080" y="513684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33080" y="513720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33080" y="513792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33440" y="513792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33800" y="513828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42160" y="513864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84640" y="515304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65920" y="514944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518840" y="51591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523880" y="51688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508760" y="516384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504080" y="51858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58000" y="51775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57280" y="5154840"/>
              <a:ext cx="756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86800" y="515340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467000" y="514944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519920" y="5159520"/>
              <a:ext cx="1548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524240" y="51692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509480" y="516420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05160" y="51865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58720" y="51786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457640" y="515556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9040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69520" y="51505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522440" y="515988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524960" y="51692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10200" y="516420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505880" y="518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59440" y="51786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458360" y="515520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92560" y="51541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71320" y="51505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524240" y="515988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525320" y="51692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510920" y="51642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506240" y="518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0160" y="51786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8720" y="515520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492560" y="51541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471320" y="515052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524240" y="515988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524960" y="51692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10560" y="51642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505880" y="518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460160" y="5178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58720" y="51552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489680" y="513900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473480" y="513540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490400" y="514404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74200" y="514044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485720" y="511236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18480" y="509616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14600" y="511416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35480" y="511920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77960" y="512424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656720" y="512028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97680" y="511164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00120" y="509508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480320" y="509148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465560" y="508968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450800" y="508752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431720" y="508788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415880" y="508608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02920" y="508356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416240" y="507276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28480" y="506124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38560" y="505440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560" y="504756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42880" y="50770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35320" y="506808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48280" y="50612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67520" y="509076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95600" y="508320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88040" y="509544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465560" y="50497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487160" y="508392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79960" y="507456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92560" y="50684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487160" y="5059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509480" y="5056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335960" y="508680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698840" y="507780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390680" y="504144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76880" y="510552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659960" y="511200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639440" y="510876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32240" y="509976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645200" y="509364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639440" y="508500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661760" y="508140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618920" y="510588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11720" y="509616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624320" y="509004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18920" y="508140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41240" y="507852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600560" y="510228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93360" y="509328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05600" y="508716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00560" y="507852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22880" y="50749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22440" y="509112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14880" y="5081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527480" y="50752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522440" y="50666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44400" y="5063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582920" y="509976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575720" y="509076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588320" y="508392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82920" y="507564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05240" y="50724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562760" y="509724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55920" y="508752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568160" y="50814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62760" y="50727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585440" y="506952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41160" y="509364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533600" y="508464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46560" y="50778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541160" y="5069520"/>
              <a:ext cx="1800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563840" y="5066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503720" y="50871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496880" y="5077800"/>
              <a:ext cx="1692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509120" y="50713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03720" y="506304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26400" y="505944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468440" y="508176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461240" y="507276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473840" y="506628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468440" y="505800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90760" y="505440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476000" y="479736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450800" y="5040000"/>
              <a:ext cx="281520" cy="475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3708360" y="3068640"/>
            <a:ext cx="436680" cy="431640"/>
            <a:chOff x="3708360" y="3068640"/>
            <a:chExt cx="436680" cy="431640"/>
          </a:xfrm>
        </p:grpSpPr>
        <p:sp>
          <p:nvSpPr>
            <p:cNvPr id="1205" name=""/>
            <p:cNvSpPr/>
            <p:nvPr/>
          </p:nvSpPr>
          <p:spPr>
            <a:xfrm>
              <a:off x="3708720" y="3068640"/>
              <a:ext cx="43632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1840" y="3071520"/>
              <a:ext cx="3888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33640" y="3071880"/>
              <a:ext cx="3708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34720" y="3072240"/>
              <a:ext cx="3600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36160" y="3072960"/>
              <a:ext cx="3456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837960" y="3073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839040" y="3073680"/>
              <a:ext cx="3168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40840" y="3074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841920" y="3074760"/>
              <a:ext cx="2844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43360" y="3075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44800" y="3075480"/>
              <a:ext cx="2556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46240" y="3076200"/>
              <a:ext cx="2376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8040" y="3076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49120" y="3076920"/>
              <a:ext cx="2088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50920" y="3077280"/>
              <a:ext cx="1908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52000" y="3078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31840" y="3273840"/>
              <a:ext cx="2815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31840" y="3273840"/>
              <a:ext cx="2660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831840" y="3273840"/>
              <a:ext cx="2509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832200" y="3273840"/>
              <a:ext cx="2354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32200" y="3273840"/>
              <a:ext cx="2199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32200" y="3273840"/>
              <a:ext cx="20484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832920" y="3273840"/>
              <a:ext cx="18900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832920" y="3273840"/>
              <a:ext cx="17352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32920" y="3273840"/>
              <a:ext cx="1584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832920" y="3273840"/>
              <a:ext cx="14292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32920" y="3273840"/>
              <a:ext cx="12744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832920" y="3273840"/>
              <a:ext cx="11160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32920" y="3273840"/>
              <a:ext cx="9684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33280" y="3273840"/>
              <a:ext cx="8100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280" y="3273840"/>
              <a:ext cx="6516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091400" y="3090960"/>
              <a:ext cx="4248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091400" y="3104640"/>
              <a:ext cx="4140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091400" y="3118320"/>
              <a:ext cx="3996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091400" y="3131640"/>
              <a:ext cx="3888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91400" y="3145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091400" y="3159360"/>
              <a:ext cx="3636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91400" y="3173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91400" y="3186720"/>
              <a:ext cx="3384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091400" y="3200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091400" y="3214080"/>
              <a:ext cx="3132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91400" y="3227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091400" y="3241080"/>
              <a:ext cx="2880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091400" y="3255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091400" y="3268800"/>
              <a:ext cx="2628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91400" y="3282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874320" y="3289320"/>
              <a:ext cx="19296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872880" y="3291480"/>
              <a:ext cx="19188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859920" y="3092040"/>
              <a:ext cx="2462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065840" y="3328560"/>
              <a:ext cx="4644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65840" y="3328560"/>
              <a:ext cx="4608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065840" y="33289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65840" y="332892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065840" y="332928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065840" y="332928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065840" y="3329640"/>
              <a:ext cx="4608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65840" y="33303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65840" y="33303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65840" y="333072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065840" y="333072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02408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2408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024080" y="3324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02408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02408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9196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9196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833280" y="329580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833280" y="329580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33280" y="329616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833280" y="329616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833280" y="329652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833280" y="329724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33280" y="329724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833280" y="329724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833280" y="329760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833280" y="3297600"/>
              <a:ext cx="3852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833280" y="3297960"/>
              <a:ext cx="3852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63680" y="3336840"/>
              <a:ext cx="4644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63680" y="3337200"/>
              <a:ext cx="4644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63680" y="333720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63680" y="333756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063680" y="333756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63680" y="333792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63680" y="3338640"/>
              <a:ext cx="4608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063680" y="333900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063680" y="333900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63680" y="333936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063680" y="3339720"/>
              <a:ext cx="4608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31480" y="3302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31480" y="3303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831480" y="3303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31480" y="3303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31480" y="3303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831480" y="3304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831480" y="3304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831480" y="3304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31480" y="3304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31480" y="3304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31480" y="3304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08720" y="3412440"/>
              <a:ext cx="34128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3406320"/>
              <a:ext cx="34560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708720" y="3406680"/>
              <a:ext cx="34452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08720" y="3406680"/>
              <a:ext cx="34416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08720" y="3407040"/>
              <a:ext cx="34380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09080" y="3407400"/>
              <a:ext cx="34272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709080" y="3408120"/>
              <a:ext cx="34236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09440" y="3408120"/>
              <a:ext cx="34164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709440" y="3408480"/>
              <a:ext cx="34128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09440" y="3408840"/>
              <a:ext cx="34020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709800" y="3408840"/>
              <a:ext cx="33948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710160" y="3409200"/>
              <a:ext cx="33876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819240" y="3409560"/>
              <a:ext cx="10620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62080" y="3423960"/>
              <a:ext cx="2700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43360" y="3420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896640" y="3430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01680" y="3439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886560" y="3435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881880" y="3456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835080" y="3448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834360" y="3425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64240" y="3424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44440" y="342036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897720" y="3430440"/>
              <a:ext cx="1584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902040" y="3440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887280" y="3435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82600" y="3457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36160" y="3449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34720" y="3426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867840" y="3425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46960" y="3421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900240" y="3431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902760" y="3440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87640" y="343548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883680" y="3457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836880" y="3449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35800" y="3426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70000" y="3425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48760" y="3421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902040" y="3431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03120" y="3440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88720" y="3435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884040" y="3457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837240" y="3449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836160" y="3426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70000" y="3425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48760" y="3421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02040" y="3431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02760" y="3440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888000" y="3435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83680" y="3457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37240" y="3449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36160" y="3426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67120" y="3410280"/>
              <a:ext cx="5724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50920" y="3406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67840" y="3414960"/>
              <a:ext cx="5616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851640" y="3411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63520" y="3383640"/>
              <a:ext cx="7488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95920" y="3367440"/>
              <a:ext cx="7416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93120" y="3385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14360" y="3390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57200" y="3395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35600" y="3391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976200" y="3382560"/>
              <a:ext cx="1296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77560" y="3366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858120" y="3362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43000" y="3360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28240" y="3358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08800" y="3359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92960" y="3357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80000" y="3354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93320" y="3343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805560" y="3332520"/>
              <a:ext cx="1296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15640" y="3325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824640" y="3318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20320" y="3348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12760" y="3339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25720" y="3332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046400" y="3361680"/>
              <a:ext cx="2124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74840" y="335412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067280" y="3366360"/>
              <a:ext cx="2124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43000" y="3320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64600" y="3355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57400" y="3345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70000" y="3339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864600" y="3330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87280" y="3327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712320" y="3357720"/>
              <a:ext cx="37224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078080" y="3349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67400" y="3312360"/>
              <a:ext cx="6552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55760" y="3376440"/>
              <a:ext cx="2664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38480" y="3382920"/>
              <a:ext cx="4068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017960" y="338004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011120" y="337068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024080" y="3364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017960" y="335592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040640" y="335268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997440" y="3376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989880" y="3367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002840" y="3361320"/>
              <a:ext cx="1764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997440" y="3352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19760" y="3349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979080" y="3373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971520" y="3364200"/>
              <a:ext cx="1548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984120" y="3358080"/>
              <a:ext cx="1548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979080" y="3349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001400" y="334584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900240" y="3362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892680" y="3352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905280" y="3346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900240" y="3337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922560" y="333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961080" y="3370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953880" y="3361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966480" y="3355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961080" y="3346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983760" y="3343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940920" y="3368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933720" y="3358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946320" y="3352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940920" y="3343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963600" y="3340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918960" y="33645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911760" y="33555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924720" y="3349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918960" y="3340800"/>
              <a:ext cx="1836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941640" y="3337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1520" y="3358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74320" y="3349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86920" y="3342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881520" y="3333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904200" y="3330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45880" y="335304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838680" y="3343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851280" y="3337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845880" y="3328920"/>
              <a:ext cx="1548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68560" y="3325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53440" y="3068640"/>
              <a:ext cx="28080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828240" y="3310920"/>
              <a:ext cx="28368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348000" y="2060640"/>
            <a:ext cx="433440" cy="431640"/>
            <a:chOff x="3348000" y="2060640"/>
            <a:chExt cx="433440" cy="431640"/>
          </a:xfrm>
        </p:grpSpPr>
        <p:sp>
          <p:nvSpPr>
            <p:cNvPr id="1460" name=""/>
            <p:cNvSpPr/>
            <p:nvPr/>
          </p:nvSpPr>
          <p:spPr>
            <a:xfrm>
              <a:off x="3348360" y="2060640"/>
              <a:ext cx="4330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470760" y="2063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472200" y="2063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73640" y="206424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474720" y="2064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476520" y="2065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477600" y="2065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479400" y="2066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480480" y="2066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481920" y="2067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483720" y="2067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484800" y="2068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486600" y="2068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487680" y="2068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489480" y="2069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490560" y="2070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70760" y="226584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470760" y="226584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470760" y="226584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471120" y="226584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71120" y="226584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71120" y="226584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471480" y="226584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471480" y="226584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471480" y="226584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471480" y="2265840"/>
              <a:ext cx="14184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471480" y="226584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471480" y="226584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471480" y="226584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471840" y="226584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471840" y="226584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728160" y="2082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728160" y="2096640"/>
              <a:ext cx="4104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728160" y="2110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728160" y="2123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728160" y="2137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728160" y="2151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728160" y="2165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728160" y="2178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728160" y="2192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728160" y="2206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728160" y="2219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728160" y="2233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28160" y="2247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728160" y="2260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28160" y="2274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512880" y="228132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511440" y="228348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98480" y="208404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702960" y="23205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702960" y="23205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702960" y="23209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702960" y="23209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702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702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702960" y="232164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02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02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702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02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661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661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661200" y="2316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661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61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530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530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471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471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471840" y="2288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471840" y="2288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471840" y="2288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471840" y="2289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471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471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471840" y="2289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471840" y="2289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471840" y="2289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00800" y="23288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00800" y="23292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00800" y="23292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00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00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700800" y="232992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700800" y="23306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00800" y="23310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700800" y="233100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700800" y="23313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700800" y="233172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470400" y="2294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70400" y="2295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470400" y="2295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470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470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70400" y="2296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470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470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470400" y="2296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70400" y="2296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70400" y="2296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348360" y="240444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348000" y="239832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348360" y="239868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348360" y="239868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348360" y="239904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348720" y="239940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348720" y="240012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349080" y="240012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349080" y="240048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49080" y="240084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349440" y="240084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349800" y="240120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458160" y="240156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500640" y="2415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481920" y="2412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534840" y="2422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539880" y="2431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24760" y="2427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520080" y="2448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474000" y="2440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73280" y="2417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02800" y="2416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83000" y="2412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535920" y="2422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540240" y="2432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525480" y="2427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521160" y="2449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474720" y="2441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473640" y="2418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506400" y="2417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485520" y="2413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38440" y="2423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540960" y="243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526200" y="2427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521880" y="2449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475440" y="2441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474360" y="2418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508560" y="2417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487320" y="2413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540240" y="2423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541320" y="243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526920" y="2427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522240" y="2449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76160" y="2441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74720" y="2418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508560" y="2417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87320" y="2413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540240" y="2423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540960" y="243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26560" y="2427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521880" y="2449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476160" y="2441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74720" y="2418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505680" y="240228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89480" y="2398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506400" y="2406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90200" y="2403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501720" y="2375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534480" y="235944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30600" y="2377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51480" y="2382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93960" y="2387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72720" y="2383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13680" y="2374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516120" y="2358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496320" y="2354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481560" y="2352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66800" y="2350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47720" y="2351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31880" y="2349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418920" y="2346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432240" y="2335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480" y="2324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454560" y="2317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463560" y="2310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458880" y="2340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451320" y="2331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464280" y="2324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683520" y="2353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711600" y="2346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704040" y="2358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481560" y="2312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503160" y="2347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495960" y="2337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508560" y="2331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503160" y="2322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525480" y="2319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351960" y="234972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714840" y="2341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06680" y="230436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692880" y="2368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675960" y="237492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655440" y="2372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648240" y="2362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661200" y="2356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655440" y="2347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677760" y="2344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634920" y="2368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27720" y="2359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40320" y="2353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34920" y="2344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657240" y="2341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616560" y="2365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609360" y="2356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621600" y="2350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616560" y="2341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638880" y="2337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38440" y="2354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530880" y="234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543480" y="2338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38440" y="2329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60400" y="2326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98920" y="2362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91720" y="2353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04320" y="2347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598920" y="2338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621240" y="2335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578760" y="2360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571920" y="2350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584160" y="2344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578760" y="2335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601440" y="2332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557160" y="2356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49600" y="2347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562560" y="2341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557160" y="2332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79840" y="2329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19720" y="2350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512880" y="2341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525120" y="2334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519720" y="2325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542400" y="2322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2345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77240" y="2335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9840" y="2329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2320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506760" y="2317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492000" y="206064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466800" y="2302920"/>
              <a:ext cx="28152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509760" y="4398840"/>
            <a:ext cx="612360" cy="636480"/>
            <a:chOff x="509760" y="4398840"/>
            <a:chExt cx="612360" cy="636480"/>
          </a:xfrm>
        </p:grpSpPr>
        <p:sp>
          <p:nvSpPr>
            <p:cNvPr id="1715" name=""/>
            <p:cNvSpPr/>
            <p:nvPr/>
          </p:nvSpPr>
          <p:spPr>
            <a:xfrm>
              <a:off x="580680" y="4472640"/>
              <a:ext cx="47232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6" name=""/>
            <p:cNvGrpSpPr/>
            <p:nvPr/>
          </p:nvGrpSpPr>
          <p:grpSpPr>
            <a:xfrm>
              <a:off x="509760" y="4398840"/>
              <a:ext cx="612360" cy="636480"/>
              <a:chOff x="509760" y="4398840"/>
              <a:chExt cx="612360" cy="636480"/>
            </a:xfrm>
          </p:grpSpPr>
          <p:sp>
            <p:nvSpPr>
              <p:cNvPr id="1717" name=""/>
              <p:cNvSpPr/>
              <p:nvPr/>
            </p:nvSpPr>
            <p:spPr>
              <a:xfrm>
                <a:off x="509760" y="4398840"/>
                <a:ext cx="612360" cy="636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702720" y="4398840"/>
                <a:ext cx="226080" cy="635400"/>
                <a:chOff x="702720" y="4398840"/>
                <a:chExt cx="226080" cy="63540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702720" y="439884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02720" y="496188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1" name=""/>
              <p:cNvGrpSpPr/>
              <p:nvPr/>
            </p:nvGrpSpPr>
            <p:grpSpPr>
              <a:xfrm>
                <a:off x="510120" y="4599360"/>
                <a:ext cx="610920" cy="235080"/>
                <a:chOff x="510120" y="4599360"/>
                <a:chExt cx="610920" cy="235080"/>
              </a:xfrm>
            </p:grpSpPr>
            <p:sp>
              <p:nvSpPr>
                <p:cNvPr id="1722" name=""/>
                <p:cNvSpPr/>
                <p:nvPr/>
              </p:nvSpPr>
              <p:spPr>
                <a:xfrm rot="5400000">
                  <a:off x="968760" y="468216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rot="5400000">
                  <a:off x="427320" y="468216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4" name=""/>
              <p:cNvGrpSpPr/>
              <p:nvPr/>
            </p:nvGrpSpPr>
            <p:grpSpPr>
              <a:xfrm>
                <a:off x="517320" y="4417560"/>
                <a:ext cx="598320" cy="598320"/>
                <a:chOff x="517320" y="4417560"/>
                <a:chExt cx="598320" cy="598320"/>
              </a:xfrm>
            </p:grpSpPr>
            <p:sp>
              <p:nvSpPr>
                <p:cNvPr id="1725" name=""/>
                <p:cNvSpPr/>
                <p:nvPr/>
              </p:nvSpPr>
              <p:spPr>
                <a:xfrm rot="2700000">
                  <a:off x="890280" y="449028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rot="2700000">
                  <a:off x="507240" y="487332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7" name=""/>
              <p:cNvGrpSpPr/>
              <p:nvPr/>
            </p:nvGrpSpPr>
            <p:grpSpPr>
              <a:xfrm>
                <a:off x="511200" y="4412880"/>
                <a:ext cx="609120" cy="609120"/>
                <a:chOff x="511200" y="4412880"/>
                <a:chExt cx="609120" cy="609120"/>
              </a:xfrm>
            </p:grpSpPr>
            <p:sp>
              <p:nvSpPr>
                <p:cNvPr id="1728" name=""/>
                <p:cNvSpPr/>
                <p:nvPr/>
              </p:nvSpPr>
              <p:spPr>
                <a:xfrm rot="8100000">
                  <a:off x="901440" y="488016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rot="8100000">
                  <a:off x="503280" y="448200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30" name=""/>
          <p:cNvGrpSpPr/>
          <p:nvPr/>
        </p:nvGrpSpPr>
        <p:grpSpPr>
          <a:xfrm>
            <a:off x="324000" y="4869000"/>
            <a:ext cx="433080" cy="428040"/>
            <a:chOff x="324000" y="4869000"/>
            <a:chExt cx="433080" cy="428040"/>
          </a:xfrm>
        </p:grpSpPr>
        <p:sp>
          <p:nvSpPr>
            <p:cNvPr id="1731" name=""/>
            <p:cNvSpPr/>
            <p:nvPr/>
          </p:nvSpPr>
          <p:spPr>
            <a:xfrm>
              <a:off x="324360" y="4869000"/>
              <a:ext cx="432720" cy="4280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46400" y="4871880"/>
              <a:ext cx="38520" cy="2138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48200" y="4872240"/>
              <a:ext cx="36720" cy="2016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49280" y="4872600"/>
              <a:ext cx="35640" cy="18864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0720" y="4873320"/>
              <a:ext cx="34200" cy="17640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52520" y="4873680"/>
              <a:ext cx="32760" cy="164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53600" y="4874040"/>
              <a:ext cx="31320" cy="15120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55400" y="4874760"/>
              <a:ext cx="29160" cy="1382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56480" y="4874760"/>
              <a:ext cx="28080" cy="12636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57560" y="4875480"/>
              <a:ext cx="27000" cy="11376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59360" y="4875840"/>
              <a:ext cx="25200" cy="10116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60800" y="4876560"/>
              <a:ext cx="23400" cy="8856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62240" y="4876560"/>
              <a:ext cx="21960" cy="7596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63680" y="4876920"/>
              <a:ext cx="20520" cy="637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65120" y="4877640"/>
              <a:ext cx="18720" cy="50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66560" y="4878360"/>
              <a:ext cx="17640" cy="3816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46400" y="5072760"/>
              <a:ext cx="279360" cy="5220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46400" y="5072760"/>
              <a:ext cx="263880" cy="5004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46400" y="5072760"/>
              <a:ext cx="249120" cy="4788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47120" y="5072760"/>
              <a:ext cx="233640" cy="4572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47120" y="5072760"/>
              <a:ext cx="218160" cy="4320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7120" y="5072760"/>
              <a:ext cx="203040" cy="4104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7480" y="5072760"/>
              <a:ext cx="187560" cy="3924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47480" y="5072760"/>
              <a:ext cx="172080" cy="367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7480" y="5072760"/>
              <a:ext cx="156960" cy="345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7480" y="5072760"/>
              <a:ext cx="14148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47480" y="507276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47480" y="507276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47480" y="5072760"/>
              <a:ext cx="9576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7840" y="5072760"/>
              <a:ext cx="80280" cy="2304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7840" y="5072760"/>
              <a:ext cx="64800" cy="2088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03800" y="4891320"/>
              <a:ext cx="42120" cy="2332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03800" y="4904640"/>
              <a:ext cx="41040" cy="2199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03800" y="4918320"/>
              <a:ext cx="39600" cy="2062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03800" y="4931640"/>
              <a:ext cx="38520" cy="1929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03800" y="4945320"/>
              <a:ext cx="37440" cy="17928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03800" y="4959000"/>
              <a:ext cx="36000" cy="16560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03800" y="4972680"/>
              <a:ext cx="34560" cy="15192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03800" y="4986000"/>
              <a:ext cx="33480" cy="1382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03800" y="5000040"/>
              <a:ext cx="32400" cy="12456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03800" y="5013360"/>
              <a:ext cx="30960" cy="11124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03800" y="5026680"/>
              <a:ext cx="29880" cy="9756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03800" y="5040360"/>
              <a:ext cx="28440" cy="8424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03800" y="5054040"/>
              <a:ext cx="27360" cy="7056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03800" y="5067720"/>
              <a:ext cx="25920" cy="5688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03800" y="5081400"/>
              <a:ext cx="24840" cy="4320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88520" y="5087880"/>
              <a:ext cx="191520" cy="4104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87080" y="5090040"/>
              <a:ext cx="190440" cy="4320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4480" y="4892040"/>
              <a:ext cx="244440" cy="20484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8600" y="51267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78600" y="51267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78600" y="51271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78600" y="5127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78600" y="5127840"/>
              <a:ext cx="45720" cy="1008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78600" y="5127840"/>
              <a:ext cx="45720" cy="1008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78600" y="512820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78600" y="51285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78600" y="51285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78600" y="51289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78600" y="51289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36840" y="51228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36840" y="51228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36840" y="512352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36840" y="512352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36840" y="512352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06160" y="510552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06160" y="510552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47840" y="509436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47840" y="509436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47840" y="509472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47840" y="509472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47840" y="509544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7840" y="50958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47840" y="509580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47840" y="509580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47840" y="509616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47840" y="509616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47840" y="509652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76440" y="51350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76440" y="51354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76440" y="51354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76440" y="5136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76440" y="5136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76440" y="513648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76440" y="51368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76440" y="51372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76440" y="5137200"/>
              <a:ext cx="45720" cy="792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76440" y="51375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76440" y="513828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46040" y="510120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46040" y="510192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6040" y="5101920"/>
              <a:ext cx="38160" cy="972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46040" y="510228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46040" y="510228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46040" y="510264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46040" y="510264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46040" y="510264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46040" y="510300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46040" y="510300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6040" y="510336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24360" y="5209920"/>
              <a:ext cx="338400" cy="8712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4000" y="5204160"/>
              <a:ext cx="343080" cy="7776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4360" y="5204520"/>
              <a:ext cx="341640" cy="7740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24360" y="5204520"/>
              <a:ext cx="341280" cy="7704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24360" y="5204880"/>
              <a:ext cx="340920" cy="7632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24720" y="5205240"/>
              <a:ext cx="339840" cy="7524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4720" y="5205600"/>
              <a:ext cx="339480" cy="7452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25080" y="5205600"/>
              <a:ext cx="338760" cy="7416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25080" y="5206320"/>
              <a:ext cx="338400" cy="7380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25080" y="5206680"/>
              <a:ext cx="337320" cy="7308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5440" y="5206680"/>
              <a:ext cx="336600" cy="7272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25800" y="5207040"/>
              <a:ext cx="335880" cy="7164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34160" y="5207400"/>
              <a:ext cx="105480" cy="4140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76640" y="522180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7560" y="521820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0480" y="522792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5520" y="52372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00400" y="523260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6080" y="525420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49640" y="52459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48920" y="522360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8440" y="522216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9000" y="521820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11920" y="522828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15880" y="52376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01480" y="5232960"/>
              <a:ext cx="6120" cy="57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96800" y="52549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50720" y="52470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49280" y="52243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82400" y="52225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61520" y="521928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440" y="522864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6600" y="52376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01840" y="523296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7880" y="52549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51440" y="52470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50360" y="522396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84200" y="52225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63320" y="521928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5880" y="52286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7320" y="52376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02560" y="523296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98240" y="525456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52160" y="52470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50720" y="522396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84200" y="52225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63320" y="521928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15880" y="522864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600" y="52376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02200" y="52329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97880" y="52545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52160" y="52470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50720" y="52239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1680" y="520776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65120" y="5204520"/>
              <a:ext cx="22320" cy="1188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2400" y="5212800"/>
              <a:ext cx="55440" cy="1224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6200" y="520920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77720" y="5181480"/>
              <a:ext cx="74160" cy="309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10120" y="5165280"/>
              <a:ext cx="73440" cy="1584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6240" y="51832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7480" y="518796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69960" y="51933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48720" y="5189400"/>
              <a:ext cx="14400" cy="792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9680" y="51807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91760" y="5164200"/>
              <a:ext cx="14400" cy="5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72320" y="51606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57200" y="5158800"/>
              <a:ext cx="11880" cy="5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42800" y="51566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23720" y="51573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07880" y="51555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94920" y="51530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8240" y="51418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20120" y="51307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30200" y="512388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39560" y="511704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34880" y="514620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27320" y="51372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40280" y="513072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59160" y="51598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87240" y="5152320"/>
              <a:ext cx="2088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9680" y="51645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57200" y="511920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8800" y="51534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1960" y="51436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4200" y="5137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78800" y="51289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1480" y="51260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27960" y="5155920"/>
              <a:ext cx="369000" cy="11340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90840" y="5147280"/>
              <a:ext cx="38160" cy="684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82320" y="5110920"/>
              <a:ext cx="65160" cy="4356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68520" y="5174640"/>
              <a:ext cx="26280" cy="792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51600" y="5181120"/>
              <a:ext cx="40320" cy="1224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1080" y="51778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24240" y="51688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36840" y="51627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31080" y="51541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3760" y="51508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0920" y="51750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03360" y="516528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6320" y="51595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10920" y="51508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880" y="51476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2560" y="517140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85000" y="51624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7600" y="51562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2560" y="51476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14520" y="51440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4440" y="51602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06880" y="51508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9480" y="51447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14440" y="513612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6400" y="51328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74560" y="51688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67360" y="51598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9960" y="5153400"/>
              <a:ext cx="1440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74560" y="51451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97240" y="5141520"/>
              <a:ext cx="14400" cy="792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54760" y="51663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7560" y="51566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60160" y="51508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54760" y="51418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7080" y="51390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3160" y="51627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25600" y="51537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38560" y="5147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33160" y="51390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55480" y="51354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95720" y="515628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88520" y="51472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01120" y="51408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95720" y="513252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18040" y="51289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60440" y="5151240"/>
              <a:ext cx="15120" cy="576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53240" y="51418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65480" y="5135400"/>
              <a:ext cx="1476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60440" y="51271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82760" y="5123880"/>
              <a:ext cx="14760" cy="5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67640" y="486900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42800" y="5109480"/>
              <a:ext cx="281160" cy="4680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5" name=""/>
          <p:cNvSpPr/>
          <p:nvPr/>
        </p:nvSpPr>
        <p:spPr>
          <a:xfrm flipV="1">
            <a:off x="1063800" y="4530240"/>
            <a:ext cx="52704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1063800" y="4464000"/>
            <a:ext cx="52704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6152760" y="2144880"/>
            <a:ext cx="637200" cy="672840"/>
            <a:chOff x="6152760" y="2144880"/>
            <a:chExt cx="637200" cy="672840"/>
          </a:xfrm>
        </p:grpSpPr>
        <p:grpSp>
          <p:nvGrpSpPr>
            <p:cNvPr id="1988" name=""/>
            <p:cNvGrpSpPr/>
            <p:nvPr/>
          </p:nvGrpSpPr>
          <p:grpSpPr>
            <a:xfrm>
              <a:off x="6152760" y="2144880"/>
              <a:ext cx="637200" cy="672840"/>
              <a:chOff x="6152760" y="2144880"/>
              <a:chExt cx="637200" cy="672840"/>
            </a:xfrm>
          </p:grpSpPr>
          <p:sp>
            <p:nvSpPr>
              <p:cNvPr id="1989" name=""/>
              <p:cNvSpPr/>
              <p:nvPr/>
            </p:nvSpPr>
            <p:spPr>
              <a:xfrm>
                <a:off x="6159600" y="2144880"/>
                <a:ext cx="623880" cy="672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6356160" y="2144880"/>
                <a:ext cx="230400" cy="671400"/>
                <a:chOff x="6356160" y="2144880"/>
                <a:chExt cx="230400" cy="67140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6356160" y="214488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6356160" y="27399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6159600" y="2356920"/>
                <a:ext cx="622800" cy="248400"/>
                <a:chOff x="6159600" y="2356920"/>
                <a:chExt cx="622800" cy="248400"/>
              </a:xfrm>
            </p:grpSpPr>
            <p:sp>
              <p:nvSpPr>
                <p:cNvPr id="1994" name=""/>
                <p:cNvSpPr/>
                <p:nvPr/>
              </p:nvSpPr>
              <p:spPr>
                <a:xfrm rot="5400000">
                  <a:off x="6622560" y="244548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rot="5400000">
                  <a:off x="6070680" y="244548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6163920" y="2172960"/>
                <a:ext cx="615960" cy="615960"/>
                <a:chOff x="6163920" y="2172960"/>
                <a:chExt cx="615960" cy="615960"/>
              </a:xfrm>
            </p:grpSpPr>
            <p:sp>
              <p:nvSpPr>
                <p:cNvPr id="1997" name=""/>
                <p:cNvSpPr/>
                <p:nvPr/>
              </p:nvSpPr>
              <p:spPr>
                <a:xfrm rot="2700000">
                  <a:off x="6542640" y="225036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rot="2700000">
                  <a:off x="6152400" y="264060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6152760" y="2162880"/>
                <a:ext cx="637200" cy="637560"/>
                <a:chOff x="6152760" y="2162880"/>
                <a:chExt cx="637200" cy="637560"/>
              </a:xfrm>
            </p:grpSpPr>
            <p:sp>
              <p:nvSpPr>
                <p:cNvPr id="2000" name=""/>
                <p:cNvSpPr/>
                <p:nvPr/>
              </p:nvSpPr>
              <p:spPr>
                <a:xfrm rot="8100000">
                  <a:off x="6566040" y="26535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rot="8100000">
                  <a:off x="6145560" y="223308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2" name=""/>
            <p:cNvSpPr/>
            <p:nvPr/>
          </p:nvSpPr>
          <p:spPr>
            <a:xfrm>
              <a:off x="6231240" y="2223720"/>
              <a:ext cx="481320" cy="51624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5531040" y="3241800"/>
            <a:ext cx="634680" cy="669960"/>
            <a:chOff x="5531040" y="3241800"/>
            <a:chExt cx="634680" cy="669960"/>
          </a:xfrm>
        </p:grpSpPr>
        <p:grpSp>
          <p:nvGrpSpPr>
            <p:cNvPr id="2004" name=""/>
            <p:cNvGrpSpPr/>
            <p:nvPr/>
          </p:nvGrpSpPr>
          <p:grpSpPr>
            <a:xfrm>
              <a:off x="5531040" y="3241800"/>
              <a:ext cx="634680" cy="669960"/>
              <a:chOff x="5531040" y="3241800"/>
              <a:chExt cx="634680" cy="669960"/>
            </a:xfrm>
          </p:grpSpPr>
          <p:sp>
            <p:nvSpPr>
              <p:cNvPr id="2005" name=""/>
              <p:cNvSpPr/>
              <p:nvPr/>
            </p:nvSpPr>
            <p:spPr>
              <a:xfrm>
                <a:off x="5537160" y="3241800"/>
                <a:ext cx="622440" cy="669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5733360" y="3241800"/>
                <a:ext cx="229680" cy="668520"/>
                <a:chOff x="5733360" y="3241800"/>
                <a:chExt cx="229680" cy="668520"/>
              </a:xfrm>
            </p:grpSpPr>
            <p:sp>
              <p:nvSpPr>
                <p:cNvPr id="2007" name=""/>
                <p:cNvSpPr/>
                <p:nvPr/>
              </p:nvSpPr>
              <p:spPr>
                <a:xfrm>
                  <a:off x="5733360" y="324180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733360" y="383436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9" name=""/>
              <p:cNvGrpSpPr/>
              <p:nvPr/>
            </p:nvGrpSpPr>
            <p:grpSpPr>
              <a:xfrm>
                <a:off x="5537520" y="3453120"/>
                <a:ext cx="621000" cy="247320"/>
                <a:chOff x="5537520" y="3453120"/>
                <a:chExt cx="621000" cy="247320"/>
              </a:xfrm>
            </p:grpSpPr>
            <p:sp>
              <p:nvSpPr>
                <p:cNvPr id="2010" name=""/>
                <p:cNvSpPr/>
                <p:nvPr/>
              </p:nvSpPr>
              <p:spPr>
                <a:xfrm rot="5400000">
                  <a:off x="5999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rot="5400000">
                  <a:off x="544896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5541840" y="3269520"/>
                <a:ext cx="614160" cy="613800"/>
                <a:chOff x="5541840" y="3269520"/>
                <a:chExt cx="614160" cy="613800"/>
              </a:xfrm>
            </p:grpSpPr>
            <p:sp>
              <p:nvSpPr>
                <p:cNvPr id="2013" name=""/>
                <p:cNvSpPr/>
                <p:nvPr/>
              </p:nvSpPr>
              <p:spPr>
                <a:xfrm rot="2700000">
                  <a:off x="5919840" y="334656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2700000">
                  <a:off x="5530680" y="37357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5531040" y="3259440"/>
                <a:ext cx="634680" cy="635040"/>
                <a:chOff x="5531040" y="3259440"/>
                <a:chExt cx="634680" cy="635040"/>
              </a:xfrm>
            </p:grpSpPr>
            <p:sp>
              <p:nvSpPr>
                <p:cNvPr id="2016" name=""/>
                <p:cNvSpPr/>
                <p:nvPr/>
              </p:nvSpPr>
              <p:spPr>
                <a:xfrm rot="8100000">
                  <a:off x="5942520" y="374832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 rot="8100000">
                  <a:off x="5523840" y="332928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8" name=""/>
            <p:cNvSpPr/>
            <p:nvPr/>
          </p:nvSpPr>
          <p:spPr>
            <a:xfrm>
              <a:off x="5608440" y="3320280"/>
              <a:ext cx="480240" cy="5140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6153480" y="4341960"/>
            <a:ext cx="636120" cy="671040"/>
            <a:chOff x="6153480" y="4341960"/>
            <a:chExt cx="636120" cy="671040"/>
          </a:xfrm>
        </p:grpSpPr>
        <p:sp>
          <p:nvSpPr>
            <p:cNvPr id="2020" name=""/>
            <p:cNvSpPr/>
            <p:nvPr/>
          </p:nvSpPr>
          <p:spPr>
            <a:xfrm>
              <a:off x="6231600" y="4419720"/>
              <a:ext cx="480960" cy="51552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1" name=""/>
            <p:cNvGrpSpPr/>
            <p:nvPr/>
          </p:nvGrpSpPr>
          <p:grpSpPr>
            <a:xfrm>
              <a:off x="6153480" y="4341960"/>
              <a:ext cx="636120" cy="671040"/>
              <a:chOff x="6153480" y="4341960"/>
              <a:chExt cx="636120" cy="671040"/>
            </a:xfrm>
          </p:grpSpPr>
          <p:sp>
            <p:nvSpPr>
              <p:cNvPr id="2022" name=""/>
              <p:cNvSpPr/>
              <p:nvPr/>
            </p:nvSpPr>
            <p:spPr>
              <a:xfrm>
                <a:off x="6159600" y="4341960"/>
                <a:ext cx="623520" cy="671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3" name=""/>
              <p:cNvGrpSpPr/>
              <p:nvPr/>
            </p:nvGrpSpPr>
            <p:grpSpPr>
              <a:xfrm>
                <a:off x="6356160" y="4341960"/>
                <a:ext cx="230400" cy="669960"/>
                <a:chOff x="6356160" y="4341960"/>
                <a:chExt cx="230400" cy="669960"/>
              </a:xfrm>
            </p:grpSpPr>
            <p:sp>
              <p:nvSpPr>
                <p:cNvPr id="2024" name=""/>
                <p:cNvSpPr/>
                <p:nvPr/>
              </p:nvSpPr>
              <p:spPr>
                <a:xfrm>
                  <a:off x="6356160" y="43419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56160" y="493560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6" name=""/>
              <p:cNvGrpSpPr/>
              <p:nvPr/>
            </p:nvGrpSpPr>
            <p:grpSpPr>
              <a:xfrm>
                <a:off x="6159240" y="4553640"/>
                <a:ext cx="622440" cy="247680"/>
                <a:chOff x="6159240" y="4553640"/>
                <a:chExt cx="622440" cy="247680"/>
              </a:xfrm>
            </p:grpSpPr>
            <p:sp>
              <p:nvSpPr>
                <p:cNvPr id="2027" name=""/>
                <p:cNvSpPr/>
                <p:nvPr/>
              </p:nvSpPr>
              <p:spPr>
                <a:xfrm rot="5400000">
                  <a:off x="6622200" y="464184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rot="5400000">
                  <a:off x="6070680" y="464184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9" name=""/>
              <p:cNvGrpSpPr/>
              <p:nvPr/>
            </p:nvGrpSpPr>
            <p:grpSpPr>
              <a:xfrm>
                <a:off x="6163560" y="4370040"/>
                <a:ext cx="615240" cy="615240"/>
                <a:chOff x="6163560" y="4370040"/>
                <a:chExt cx="615240" cy="615240"/>
              </a:xfrm>
            </p:grpSpPr>
            <p:sp>
              <p:nvSpPr>
                <p:cNvPr id="2030" name=""/>
                <p:cNvSpPr/>
                <p:nvPr/>
              </p:nvSpPr>
              <p:spPr>
                <a:xfrm rot="2700000">
                  <a:off x="6542280" y="444708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 rot="2700000">
                  <a:off x="6152040" y="483696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2" name=""/>
              <p:cNvGrpSpPr/>
              <p:nvPr/>
            </p:nvGrpSpPr>
            <p:grpSpPr>
              <a:xfrm>
                <a:off x="6153480" y="4359960"/>
                <a:ext cx="636120" cy="636120"/>
                <a:chOff x="6153480" y="4359960"/>
                <a:chExt cx="636120" cy="636120"/>
              </a:xfrm>
            </p:grpSpPr>
            <p:sp>
              <p:nvSpPr>
                <p:cNvPr id="2033" name=""/>
                <p:cNvSpPr/>
                <p:nvPr/>
              </p:nvSpPr>
              <p:spPr>
                <a:xfrm rot="8100000">
                  <a:off x="6566040" y="4849560"/>
                  <a:ext cx="23040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 rot="8100000">
                  <a:off x="6146640" y="4430160"/>
                  <a:ext cx="23040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35" name=""/>
          <p:cNvGrpSpPr/>
          <p:nvPr/>
        </p:nvGrpSpPr>
        <p:grpSpPr>
          <a:xfrm>
            <a:off x="7393320" y="2144880"/>
            <a:ext cx="637200" cy="672840"/>
            <a:chOff x="7393320" y="2144880"/>
            <a:chExt cx="637200" cy="672840"/>
          </a:xfrm>
        </p:grpSpPr>
        <p:grpSp>
          <p:nvGrpSpPr>
            <p:cNvPr id="2036" name=""/>
            <p:cNvGrpSpPr/>
            <p:nvPr/>
          </p:nvGrpSpPr>
          <p:grpSpPr>
            <a:xfrm>
              <a:off x="7393320" y="2144880"/>
              <a:ext cx="637200" cy="672840"/>
              <a:chOff x="7393320" y="2144880"/>
              <a:chExt cx="637200" cy="672840"/>
            </a:xfrm>
          </p:grpSpPr>
          <p:sp>
            <p:nvSpPr>
              <p:cNvPr id="2037" name=""/>
              <p:cNvSpPr/>
              <p:nvPr/>
            </p:nvSpPr>
            <p:spPr>
              <a:xfrm>
                <a:off x="7400880" y="2144880"/>
                <a:ext cx="622440" cy="672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8" name=""/>
              <p:cNvGrpSpPr/>
              <p:nvPr/>
            </p:nvGrpSpPr>
            <p:grpSpPr>
              <a:xfrm>
                <a:off x="7597080" y="2144880"/>
                <a:ext cx="229680" cy="671400"/>
                <a:chOff x="7597080" y="2144880"/>
                <a:chExt cx="229680" cy="671400"/>
              </a:xfrm>
            </p:grpSpPr>
            <p:sp>
              <p:nvSpPr>
                <p:cNvPr id="2039" name=""/>
                <p:cNvSpPr/>
                <p:nvPr/>
              </p:nvSpPr>
              <p:spPr>
                <a:xfrm>
                  <a:off x="7597080" y="214488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7597080" y="2739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1" name=""/>
              <p:cNvGrpSpPr/>
              <p:nvPr/>
            </p:nvGrpSpPr>
            <p:grpSpPr>
              <a:xfrm>
                <a:off x="7401240" y="2356920"/>
                <a:ext cx="621000" cy="248400"/>
                <a:chOff x="7401240" y="2356920"/>
                <a:chExt cx="621000" cy="248400"/>
              </a:xfrm>
            </p:grpSpPr>
            <p:sp>
              <p:nvSpPr>
                <p:cNvPr id="2042" name=""/>
                <p:cNvSpPr/>
                <p:nvPr/>
              </p:nvSpPr>
              <p:spPr>
                <a:xfrm rot="5400000">
                  <a:off x="7862760" y="24458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rot="5400000">
                  <a:off x="7312320" y="24458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7404840" y="2173680"/>
                <a:ext cx="614880" cy="614520"/>
                <a:chOff x="7404840" y="2173680"/>
                <a:chExt cx="614880" cy="614520"/>
              </a:xfrm>
            </p:grpSpPr>
            <p:sp>
              <p:nvSpPr>
                <p:cNvPr id="2045" name=""/>
                <p:cNvSpPr/>
                <p:nvPr/>
              </p:nvSpPr>
              <p:spPr>
                <a:xfrm rot="2700000">
                  <a:off x="7782480" y="225108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rot="2700000">
                  <a:off x="7393320" y="26402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7" name=""/>
              <p:cNvGrpSpPr/>
              <p:nvPr/>
            </p:nvGrpSpPr>
            <p:grpSpPr>
              <a:xfrm>
                <a:off x="7393320" y="2162880"/>
                <a:ext cx="637200" cy="636840"/>
                <a:chOff x="7393320" y="2162880"/>
                <a:chExt cx="637200" cy="636840"/>
              </a:xfrm>
            </p:grpSpPr>
            <p:sp>
              <p:nvSpPr>
                <p:cNvPr id="2048" name=""/>
                <p:cNvSpPr/>
                <p:nvPr/>
              </p:nvSpPr>
              <p:spPr>
                <a:xfrm rot="8100000">
                  <a:off x="7807320" y="265320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rot="8100000">
                  <a:off x="7386480" y="223272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0" name=""/>
            <p:cNvSpPr/>
            <p:nvPr/>
          </p:nvSpPr>
          <p:spPr>
            <a:xfrm>
              <a:off x="7472160" y="2223720"/>
              <a:ext cx="480240" cy="51624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eals/T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6593760" y="3029040"/>
            <a:ext cx="990360" cy="1045440"/>
            <a:chOff x="6593760" y="3029040"/>
            <a:chExt cx="990360" cy="1045440"/>
          </a:xfrm>
        </p:grpSpPr>
        <p:grpSp>
          <p:nvGrpSpPr>
            <p:cNvPr id="2052" name=""/>
            <p:cNvGrpSpPr/>
            <p:nvPr/>
          </p:nvGrpSpPr>
          <p:grpSpPr>
            <a:xfrm>
              <a:off x="6593760" y="3029040"/>
              <a:ext cx="990360" cy="1045440"/>
              <a:chOff x="6593760" y="3029040"/>
              <a:chExt cx="990360" cy="1045440"/>
            </a:xfrm>
          </p:grpSpPr>
          <p:sp>
            <p:nvSpPr>
              <p:cNvPr id="2053" name=""/>
              <p:cNvSpPr/>
              <p:nvPr/>
            </p:nvSpPr>
            <p:spPr>
              <a:xfrm>
                <a:off x="6605640" y="3029040"/>
                <a:ext cx="967680" cy="1045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4" name=""/>
              <p:cNvGrpSpPr/>
              <p:nvPr/>
            </p:nvGrpSpPr>
            <p:grpSpPr>
              <a:xfrm>
                <a:off x="6910560" y="3029040"/>
                <a:ext cx="357120" cy="1043640"/>
                <a:chOff x="6910560" y="3029040"/>
                <a:chExt cx="357120" cy="1043640"/>
              </a:xfrm>
            </p:grpSpPr>
            <p:sp>
              <p:nvSpPr>
                <p:cNvPr id="2055" name=""/>
                <p:cNvSpPr/>
                <p:nvPr/>
              </p:nvSpPr>
              <p:spPr>
                <a:xfrm>
                  <a:off x="6910560" y="302904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910560" y="395388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7" name=""/>
              <p:cNvGrpSpPr/>
              <p:nvPr/>
            </p:nvGrpSpPr>
            <p:grpSpPr>
              <a:xfrm>
                <a:off x="6606000" y="3358800"/>
                <a:ext cx="965880" cy="385560"/>
                <a:chOff x="6606000" y="3358800"/>
                <a:chExt cx="965880" cy="385560"/>
              </a:xfrm>
            </p:grpSpPr>
            <p:sp>
              <p:nvSpPr>
                <p:cNvPr id="2058" name=""/>
                <p:cNvSpPr/>
                <p:nvPr/>
              </p:nvSpPr>
              <p:spPr>
                <a:xfrm rot="5400000">
                  <a:off x="7324200" y="34966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rot="5400000">
                  <a:off x="6468120" y="34966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0" name=""/>
              <p:cNvGrpSpPr/>
              <p:nvPr/>
            </p:nvGrpSpPr>
            <p:grpSpPr>
              <a:xfrm>
                <a:off x="6612120" y="3073680"/>
                <a:ext cx="955800" cy="955800"/>
                <a:chOff x="6612120" y="3073680"/>
                <a:chExt cx="955800" cy="955800"/>
              </a:xfrm>
            </p:grpSpPr>
            <p:sp>
              <p:nvSpPr>
                <p:cNvPr id="2061" name=""/>
                <p:cNvSpPr/>
                <p:nvPr/>
              </p:nvSpPr>
              <p:spPr>
                <a:xfrm rot="2700000">
                  <a:off x="7200000" y="319356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rot="2700000">
                  <a:off x="6594480" y="37990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3" name=""/>
              <p:cNvGrpSpPr/>
              <p:nvPr/>
            </p:nvGrpSpPr>
            <p:grpSpPr>
              <a:xfrm>
                <a:off x="6593760" y="3057480"/>
                <a:ext cx="990360" cy="990000"/>
                <a:chOff x="6593760" y="3057480"/>
                <a:chExt cx="990360" cy="990000"/>
              </a:xfrm>
            </p:grpSpPr>
            <p:sp>
              <p:nvSpPr>
                <p:cNvPr id="2064" name=""/>
                <p:cNvSpPr/>
                <p:nvPr/>
              </p:nvSpPr>
              <p:spPr>
                <a:xfrm rot="8100000">
                  <a:off x="7237080" y="381996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rot="8100000">
                  <a:off x="6583320" y="316620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6716880" y="3151440"/>
              <a:ext cx="747000" cy="80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 Ori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pies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"/>
          <p:cNvGrpSpPr/>
          <p:nvPr/>
        </p:nvGrpSpPr>
        <p:grpSpPr>
          <a:xfrm>
            <a:off x="7393680" y="4341960"/>
            <a:ext cx="636120" cy="671400"/>
            <a:chOff x="7393680" y="4341960"/>
            <a:chExt cx="636120" cy="671400"/>
          </a:xfrm>
        </p:grpSpPr>
        <p:grpSp>
          <p:nvGrpSpPr>
            <p:cNvPr id="2068" name=""/>
            <p:cNvGrpSpPr/>
            <p:nvPr/>
          </p:nvGrpSpPr>
          <p:grpSpPr>
            <a:xfrm>
              <a:off x="7393680" y="4341960"/>
              <a:ext cx="636120" cy="671400"/>
              <a:chOff x="7393680" y="4341960"/>
              <a:chExt cx="636120" cy="671400"/>
            </a:xfrm>
          </p:grpSpPr>
          <p:sp>
            <p:nvSpPr>
              <p:cNvPr id="2069" name=""/>
              <p:cNvSpPr/>
              <p:nvPr/>
            </p:nvSpPr>
            <p:spPr>
              <a:xfrm>
                <a:off x="7400880" y="4341960"/>
                <a:ext cx="622440" cy="671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7597080" y="4341960"/>
                <a:ext cx="229680" cy="670320"/>
                <a:chOff x="7597080" y="4341960"/>
                <a:chExt cx="229680" cy="67032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7597080" y="4341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597080" y="4935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3" name=""/>
              <p:cNvGrpSpPr/>
              <p:nvPr/>
            </p:nvGrpSpPr>
            <p:grpSpPr>
              <a:xfrm>
                <a:off x="7401240" y="4553640"/>
                <a:ext cx="621000" cy="247680"/>
                <a:chOff x="7401240" y="4553640"/>
                <a:chExt cx="621000" cy="247680"/>
              </a:xfrm>
            </p:grpSpPr>
            <p:sp>
              <p:nvSpPr>
                <p:cNvPr id="2074" name=""/>
                <p:cNvSpPr/>
                <p:nvPr/>
              </p:nvSpPr>
              <p:spPr>
                <a:xfrm rot="5400000">
                  <a:off x="7863120" y="46422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rot="5400000">
                  <a:off x="7312680" y="46422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6" name=""/>
              <p:cNvGrpSpPr/>
              <p:nvPr/>
            </p:nvGrpSpPr>
            <p:grpSpPr>
              <a:xfrm>
                <a:off x="7405200" y="4370400"/>
                <a:ext cx="614160" cy="614160"/>
                <a:chOff x="7405200" y="4370400"/>
                <a:chExt cx="614160" cy="614160"/>
              </a:xfrm>
            </p:grpSpPr>
            <p:sp>
              <p:nvSpPr>
                <p:cNvPr id="2077" name=""/>
                <p:cNvSpPr/>
                <p:nvPr/>
              </p:nvSpPr>
              <p:spPr>
                <a:xfrm rot="2700000">
                  <a:off x="7782840" y="444744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rot="2700000">
                  <a:off x="7393680" y="48366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9" name=""/>
              <p:cNvGrpSpPr/>
              <p:nvPr/>
            </p:nvGrpSpPr>
            <p:grpSpPr>
              <a:xfrm>
                <a:off x="7393680" y="4359600"/>
                <a:ext cx="636120" cy="636120"/>
                <a:chOff x="7393680" y="4359600"/>
                <a:chExt cx="636120" cy="636120"/>
              </a:xfrm>
            </p:grpSpPr>
            <p:sp>
              <p:nvSpPr>
                <p:cNvPr id="2080" name=""/>
                <p:cNvSpPr/>
                <p:nvPr/>
              </p:nvSpPr>
              <p:spPr>
                <a:xfrm rot="8100000">
                  <a:off x="7806600" y="484920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rot="8100000">
                  <a:off x="7386840" y="442944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2" name=""/>
            <p:cNvSpPr/>
            <p:nvPr/>
          </p:nvSpPr>
          <p:spPr>
            <a:xfrm>
              <a:off x="7472160" y="4420440"/>
              <a:ext cx="480240" cy="51516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3" name=""/>
          <p:cNvGrpSpPr/>
          <p:nvPr/>
        </p:nvGrpSpPr>
        <p:grpSpPr>
          <a:xfrm>
            <a:off x="8015760" y="3241800"/>
            <a:ext cx="634680" cy="669960"/>
            <a:chOff x="8015760" y="3241800"/>
            <a:chExt cx="634680" cy="669960"/>
          </a:xfrm>
        </p:grpSpPr>
        <p:grpSp>
          <p:nvGrpSpPr>
            <p:cNvPr id="2084" name=""/>
            <p:cNvGrpSpPr/>
            <p:nvPr/>
          </p:nvGrpSpPr>
          <p:grpSpPr>
            <a:xfrm>
              <a:off x="8015760" y="3241800"/>
              <a:ext cx="634680" cy="669960"/>
              <a:chOff x="8015760" y="3241800"/>
              <a:chExt cx="634680" cy="669960"/>
            </a:xfrm>
          </p:grpSpPr>
          <p:sp>
            <p:nvSpPr>
              <p:cNvPr id="2085" name=""/>
              <p:cNvSpPr/>
              <p:nvPr/>
            </p:nvSpPr>
            <p:spPr>
              <a:xfrm>
                <a:off x="8023320" y="3241800"/>
                <a:ext cx="620640" cy="669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6" name=""/>
              <p:cNvGrpSpPr/>
              <p:nvPr/>
            </p:nvGrpSpPr>
            <p:grpSpPr>
              <a:xfrm>
                <a:off x="8218800" y="3241800"/>
                <a:ext cx="229320" cy="668520"/>
                <a:chOff x="8218800" y="3241800"/>
                <a:chExt cx="229320" cy="668520"/>
              </a:xfrm>
            </p:grpSpPr>
            <p:sp>
              <p:nvSpPr>
                <p:cNvPr id="2087" name=""/>
                <p:cNvSpPr/>
                <p:nvPr/>
              </p:nvSpPr>
              <p:spPr>
                <a:xfrm>
                  <a:off x="8218800" y="324180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8218800" y="383436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9" name=""/>
              <p:cNvGrpSpPr/>
              <p:nvPr/>
            </p:nvGrpSpPr>
            <p:grpSpPr>
              <a:xfrm>
                <a:off x="8022960" y="3453120"/>
                <a:ext cx="619560" cy="247320"/>
                <a:chOff x="8022960" y="3453120"/>
                <a:chExt cx="619560" cy="247320"/>
              </a:xfrm>
            </p:grpSpPr>
            <p:sp>
              <p:nvSpPr>
                <p:cNvPr id="2090" name=""/>
                <p:cNvSpPr/>
                <p:nvPr/>
              </p:nvSpPr>
              <p:spPr>
                <a:xfrm rot="5400000">
                  <a:off x="8483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rot="5400000">
                  <a:off x="7934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2" name=""/>
              <p:cNvGrpSpPr/>
              <p:nvPr/>
            </p:nvGrpSpPr>
            <p:grpSpPr>
              <a:xfrm>
                <a:off x="8026920" y="3270240"/>
                <a:ext cx="613440" cy="613080"/>
                <a:chOff x="8026920" y="3270240"/>
                <a:chExt cx="613440" cy="613080"/>
              </a:xfrm>
            </p:grpSpPr>
            <p:sp>
              <p:nvSpPr>
                <p:cNvPr id="2093" name=""/>
                <p:cNvSpPr/>
                <p:nvPr/>
              </p:nvSpPr>
              <p:spPr>
                <a:xfrm rot="2700000">
                  <a:off x="8404200" y="334728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rot="2700000">
                  <a:off x="8015760" y="37357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5" name=""/>
              <p:cNvGrpSpPr/>
              <p:nvPr/>
            </p:nvGrpSpPr>
            <p:grpSpPr>
              <a:xfrm>
                <a:off x="8015760" y="3259800"/>
                <a:ext cx="634680" cy="634320"/>
                <a:chOff x="8015760" y="3259800"/>
                <a:chExt cx="634680" cy="634320"/>
              </a:xfrm>
            </p:grpSpPr>
            <p:sp>
              <p:nvSpPr>
                <p:cNvPr id="2096" name=""/>
                <p:cNvSpPr/>
                <p:nvPr/>
              </p:nvSpPr>
              <p:spPr>
                <a:xfrm rot="8100000">
                  <a:off x="8427600" y="374832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rot="8100000">
                  <a:off x="8008920" y="332964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8" name=""/>
            <p:cNvSpPr/>
            <p:nvPr/>
          </p:nvSpPr>
          <p:spPr>
            <a:xfrm>
              <a:off x="8094600" y="3320280"/>
              <a:ext cx="478800" cy="5140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99" name=""/>
          <p:cNvCxnSpPr>
            <a:stCxn id="2055" idx="1"/>
            <a:endCxn id="2000" idx="0"/>
          </p:cNvCxnSpPr>
          <p:nvPr/>
        </p:nvCxnSpPr>
        <p:spPr>
          <a:xfrm flipH="1" flipV="1">
            <a:off x="6713280" y="2717280"/>
            <a:ext cx="248400" cy="3312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0" name=""/>
          <p:cNvCxnSpPr>
            <a:stCxn id="2046" idx="4"/>
            <a:endCxn id="2055" idx="7"/>
          </p:cNvCxnSpPr>
          <p:nvPr/>
        </p:nvCxnSpPr>
        <p:spPr>
          <a:xfrm flipH="1">
            <a:off x="7216200" y="2688840"/>
            <a:ext cx="278280" cy="359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1" name=""/>
          <p:cNvCxnSpPr>
            <a:stCxn id="2061" idx="1"/>
            <a:endCxn id="2046" idx="5"/>
          </p:cNvCxnSpPr>
          <p:nvPr/>
        </p:nvCxnSpPr>
        <p:spPr>
          <a:xfrm flipV="1">
            <a:off x="7324560" y="2745720"/>
            <a:ext cx="240480" cy="3834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2" name=""/>
          <p:cNvCxnSpPr>
            <a:stCxn id="2000" idx="7"/>
            <a:endCxn id="2065" idx="3"/>
          </p:cNvCxnSpPr>
          <p:nvPr/>
        </p:nvCxnSpPr>
        <p:spPr>
          <a:xfrm>
            <a:off x="6647040" y="2763360"/>
            <a:ext cx="165600" cy="3452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3" name=""/>
          <p:cNvCxnSpPr>
            <a:stCxn id="2058" idx="7"/>
            <a:endCxn id="2091" idx="5"/>
          </p:cNvCxnSpPr>
          <p:nvPr/>
        </p:nvCxnSpPr>
        <p:spPr>
          <a:xfrm flipV="1">
            <a:off x="7561080" y="3661920"/>
            <a:ext cx="478440" cy="230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4" name=""/>
          <p:cNvCxnSpPr>
            <a:stCxn id="2091" idx="4"/>
            <a:endCxn id="2058" idx="0"/>
          </p:cNvCxnSpPr>
          <p:nvPr/>
        </p:nvCxnSpPr>
        <p:spPr>
          <a:xfrm flipH="1" flipV="1">
            <a:off x="7576920" y="3551040"/>
            <a:ext cx="452880" cy="2448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5" name=""/>
          <p:cNvCxnSpPr>
            <a:stCxn id="2010" idx="7"/>
            <a:endCxn id="2059" idx="5"/>
          </p:cNvCxnSpPr>
          <p:nvPr/>
        </p:nvCxnSpPr>
        <p:spPr>
          <a:xfrm>
            <a:off x="6153120" y="3662280"/>
            <a:ext cx="472320" cy="230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6" name=""/>
          <p:cNvCxnSpPr>
            <a:stCxn id="2059" idx="4"/>
            <a:endCxn id="2010" idx="0"/>
          </p:cNvCxnSpPr>
          <p:nvPr/>
        </p:nvCxnSpPr>
        <p:spPr>
          <a:xfrm flipH="1">
            <a:off x="6165000" y="3551400"/>
            <a:ext cx="446760" cy="2448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7" name=""/>
          <p:cNvCxnSpPr>
            <a:stCxn id="2064" idx="7"/>
            <a:endCxn id="2081" idx="3"/>
          </p:cNvCxnSpPr>
          <p:nvPr/>
        </p:nvCxnSpPr>
        <p:spPr>
          <a:xfrm>
            <a:off x="7359480" y="3992040"/>
            <a:ext cx="177120" cy="3978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8" name=""/>
          <p:cNvCxnSpPr>
            <a:stCxn id="2071" idx="1"/>
            <a:endCxn id="2064" idx="0"/>
          </p:cNvCxnSpPr>
          <p:nvPr/>
        </p:nvCxnSpPr>
        <p:spPr>
          <a:xfrm flipH="1" flipV="1">
            <a:off x="7461000" y="3917160"/>
            <a:ext cx="170640" cy="4374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9" name=""/>
          <p:cNvCxnSpPr>
            <a:stCxn id="2062" idx="4"/>
            <a:endCxn id="2024" idx="7"/>
          </p:cNvCxnSpPr>
          <p:nvPr/>
        </p:nvCxnSpPr>
        <p:spPr>
          <a:xfrm flipH="1">
            <a:off x="6551280" y="3881520"/>
            <a:ext cx="200880" cy="47376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10" name=""/>
          <p:cNvCxnSpPr>
            <a:stCxn id="2030" idx="1"/>
            <a:endCxn id="2062" idx="5"/>
          </p:cNvCxnSpPr>
          <p:nvPr/>
        </p:nvCxnSpPr>
        <p:spPr>
          <a:xfrm flipV="1">
            <a:off x="6621120" y="3965040"/>
            <a:ext cx="238680" cy="440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grpSp>
        <p:nvGrpSpPr>
          <p:cNvPr id="2111" name=""/>
          <p:cNvGrpSpPr/>
          <p:nvPr/>
        </p:nvGrpSpPr>
        <p:grpSpPr>
          <a:xfrm>
            <a:off x="5651640" y="2205000"/>
            <a:ext cx="442800" cy="452520"/>
            <a:chOff x="5651640" y="2205000"/>
            <a:chExt cx="442800" cy="452520"/>
          </a:xfrm>
        </p:grpSpPr>
        <p:sp>
          <p:nvSpPr>
            <p:cNvPr id="2112" name=""/>
            <p:cNvSpPr/>
            <p:nvPr/>
          </p:nvSpPr>
          <p:spPr>
            <a:xfrm>
              <a:off x="5652000" y="2205000"/>
              <a:ext cx="44244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776920" y="220788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778720" y="220860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779800" y="220896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781240" y="2209320"/>
              <a:ext cx="3528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783040" y="220968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84120" y="221040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85920" y="221112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87000" y="221112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88440" y="221184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90240" y="221220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91320" y="221292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93120" y="221292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794200" y="2213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796000" y="221400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97440" y="221472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776920" y="242028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76920" y="242028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76920" y="242028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777280" y="242028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77280" y="242028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77280" y="242028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77640" y="242028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77640" y="242028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77640" y="242028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77640" y="242028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77640" y="242028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777640" y="242028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77640" y="242028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78000" y="242028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78000" y="242028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040080" y="222840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040080" y="2242800"/>
              <a:ext cx="4176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040080" y="225684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040080" y="227124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040080" y="2285640"/>
              <a:ext cx="3816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040080" y="230004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040080" y="2314440"/>
              <a:ext cx="3564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040080" y="232884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040080" y="234324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040080" y="235764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040080" y="237168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040080" y="238608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040080" y="240048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40080" y="241488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40080" y="242928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819760" y="243612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818680" y="243864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805360" y="2229480"/>
              <a:ext cx="2498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014160" y="247752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014160" y="247752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014160" y="247788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014160" y="2477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014160" y="2478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014160" y="2478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14160" y="24786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014160" y="2479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4160" y="2479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14160" y="24796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14160" y="24796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71680" y="2473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71680" y="2473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71680" y="247392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71680" y="24739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971680" y="24739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837760" y="2454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37760" y="2454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8000" y="2442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78000" y="2442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78000" y="244368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778000" y="244368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778000" y="244404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778000" y="244440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778000" y="2444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778000" y="2444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778000" y="24451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778000" y="24451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778000" y="244548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12000" y="248616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012000" y="248652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012000" y="2486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012000" y="248724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012000" y="248724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012000" y="248760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12000" y="248796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012000" y="2488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012000" y="24883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012000" y="248868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012000" y="248940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776560" y="245052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776560" y="245088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776560" y="245088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776560" y="2451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776560" y="2451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776560" y="24519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776560" y="2451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76560" y="2451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776560" y="245232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776560" y="245232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776560" y="24526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652000" y="256536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651640" y="255888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652000" y="255924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652000" y="255924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652000" y="255996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652360" y="2560320"/>
              <a:ext cx="34776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652360" y="256068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652720" y="256068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652720" y="256104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652720" y="256140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653080" y="256140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3440" y="256212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764320" y="256248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807520" y="257760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788440" y="257400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842440" y="258408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47480" y="259416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832000" y="25891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827680" y="2611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780160" y="260316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779440" y="257940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809680" y="257796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789520" y="257400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843880" y="258444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847840" y="259452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833080" y="2589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28400" y="261288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781240" y="260424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79800" y="25804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813280" y="257868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792400" y="25747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846400" y="258480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848920" y="259452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833440" y="258948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29120" y="2612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781960" y="260424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780880" y="257976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815440" y="257868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793840" y="25747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847840" y="258480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849280" y="259452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834520" y="258948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829480" y="26125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782320" y="260424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781240" y="2579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815440" y="257868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793840" y="257472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847840" y="258480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48920" y="259452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833800" y="2589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829120" y="26125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782320" y="260424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781240" y="2579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812560" y="256284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796000" y="255924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813280" y="256788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796720" y="256428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808960" y="253512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842080" y="251820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40360" y="253692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61960" y="254196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005160" y="254736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83560" y="25434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23080" y="2534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823360" y="251676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803200" y="251316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788080" y="251136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773320" y="25088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753520" y="250956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737320" y="250776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24000" y="250488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37680" y="249336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50280" y="2481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760360" y="247428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69720" y="24670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765040" y="249804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757480" y="24883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770440" y="24814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994360" y="2512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023160" y="250452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015600" y="25171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788080" y="246924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810040" y="25052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802840" y="24951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815440" y="24886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810040" y="247968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833080" y="24764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655600" y="2508120"/>
              <a:ext cx="37728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026400" y="24987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711400" y="246060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004080" y="25275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986440" y="25344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965560" y="25315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58360" y="25218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71680" y="251532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65560" y="25063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88600" y="250272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45040" y="252828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937120" y="251820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50440" y="251172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945040" y="250272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967360" y="249948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926320" y="25246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918400" y="251496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931360" y="250848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926320" y="24994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948640" y="2495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846400" y="251280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38480" y="250272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51440" y="2496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46400" y="2487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68720" y="24840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907960" y="252180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900760" y="25120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913360" y="25052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907960" y="249660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931000" y="24930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887440" y="25189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880240" y="25088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892840" y="25027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887440" y="24933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910480" y="24901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865480" y="251532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857560" y="2505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870880" y="24987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865480" y="2490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888520" y="24865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827320" y="250848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819760" y="24987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832720" y="249192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827320" y="248328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850000" y="247968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790960" y="250308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783760" y="249336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796360" y="248652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790960" y="247788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814000" y="247428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798520" y="220500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773320" y="245916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5292720" y="2924280"/>
            <a:ext cx="442800" cy="450720"/>
            <a:chOff x="5292720" y="2924280"/>
            <a:chExt cx="442800" cy="450720"/>
          </a:xfrm>
        </p:grpSpPr>
        <p:sp>
          <p:nvSpPr>
            <p:cNvPr id="2367" name=""/>
            <p:cNvSpPr/>
            <p:nvPr/>
          </p:nvSpPr>
          <p:spPr>
            <a:xfrm>
              <a:off x="5293080" y="2924280"/>
              <a:ext cx="442440" cy="4503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418000" y="2927160"/>
              <a:ext cx="39240" cy="22500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419800" y="2927880"/>
              <a:ext cx="37440" cy="212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420880" y="2928240"/>
              <a:ext cx="36360" cy="19836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422320" y="2928600"/>
              <a:ext cx="35280" cy="18576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424120" y="2928960"/>
              <a:ext cx="33480" cy="1724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425200" y="2929680"/>
              <a:ext cx="32040" cy="15912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427000" y="2930400"/>
              <a:ext cx="29880" cy="1454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428080" y="2930400"/>
              <a:ext cx="28800" cy="1328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429520" y="2930760"/>
              <a:ext cx="27360" cy="11952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431320" y="2931480"/>
              <a:ext cx="25920" cy="10656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432400" y="2932200"/>
              <a:ext cx="24120" cy="9324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434200" y="2932200"/>
              <a:ext cx="22320" cy="7992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35280" y="293292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37080" y="293328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38520" y="293400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418000" y="3138840"/>
              <a:ext cx="285480" cy="5472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418000" y="3138840"/>
              <a:ext cx="269640" cy="5256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418000" y="313884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418360" y="313884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418360" y="3138840"/>
              <a:ext cx="22320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418360" y="313884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418720" y="313884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418720" y="3138840"/>
              <a:ext cx="17604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418720" y="313884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418720" y="3138840"/>
              <a:ext cx="144720" cy="3384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418720" y="313884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418720" y="313884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418720" y="3138840"/>
              <a:ext cx="97920" cy="2700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419080" y="313884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419080" y="3138840"/>
              <a:ext cx="66240" cy="2196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681160" y="2947680"/>
              <a:ext cx="43200" cy="24552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681160" y="2962080"/>
              <a:ext cx="41760" cy="23112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681160" y="2976120"/>
              <a:ext cx="40680" cy="217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681160" y="2990160"/>
              <a:ext cx="39240" cy="20304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81160" y="3004560"/>
              <a:ext cx="38160" cy="18864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681160" y="3018960"/>
              <a:ext cx="36720" cy="1742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681160" y="3033360"/>
              <a:ext cx="35640" cy="15984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681160" y="3047400"/>
              <a:ext cx="34200" cy="1454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681160" y="3062160"/>
              <a:ext cx="33120" cy="1310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681160" y="3076200"/>
              <a:ext cx="31680" cy="11700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681160" y="3090240"/>
              <a:ext cx="30240" cy="10296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681160" y="3104640"/>
              <a:ext cx="29160" cy="885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681160" y="3119040"/>
              <a:ext cx="27720" cy="7416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681160" y="313308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681160" y="3147840"/>
              <a:ext cx="2520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460840" y="315468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459760" y="3156840"/>
              <a:ext cx="19476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446440" y="2948760"/>
              <a:ext cx="249840" cy="215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655240" y="319572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55240" y="319572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655240" y="319608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655240" y="3196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655240" y="31964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655240" y="31964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655240" y="31968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655240" y="3197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655240" y="3197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655240" y="3197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655240" y="3197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612760" y="31914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612760" y="31914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12760" y="319212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612760" y="31921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612760" y="31921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78840" y="31734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478840" y="31734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419080" y="316152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419080" y="316152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419080" y="3161880"/>
              <a:ext cx="38880" cy="1008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419080" y="316188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419080" y="316224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419080" y="316296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419080" y="316296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419080" y="316296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419080" y="31633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419080" y="31633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419080" y="3163680"/>
              <a:ext cx="3888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653080" y="320436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653080" y="320472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53080" y="32047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653080" y="3205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653080" y="3205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653080" y="3205800"/>
              <a:ext cx="46440" cy="1008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653080" y="320616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653080" y="3206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653080" y="32065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653080" y="3206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653080" y="320760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417640" y="316872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417640" y="316908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417640" y="316908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417640" y="31698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417640" y="31698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417640" y="31701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417640" y="31701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417640" y="31701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417640" y="3170520"/>
              <a:ext cx="3852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417640" y="317052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417640" y="31708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293080" y="3283200"/>
              <a:ext cx="345960" cy="9180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292720" y="3276720"/>
              <a:ext cx="350640" cy="8172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293080" y="3277080"/>
              <a:ext cx="349200" cy="8136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293080" y="3277080"/>
              <a:ext cx="348840" cy="810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93080" y="3277800"/>
              <a:ext cx="348480" cy="8028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293440" y="3278160"/>
              <a:ext cx="34776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293440" y="3278520"/>
              <a:ext cx="347400" cy="7848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293800" y="3278520"/>
              <a:ext cx="346320" cy="7812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93800" y="3278880"/>
              <a:ext cx="345960" cy="7776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293800" y="327924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294160" y="3279240"/>
              <a:ext cx="344160" cy="7632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294520" y="32799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405400" y="3280320"/>
              <a:ext cx="107640" cy="435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448600" y="32954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429520" y="32918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483520" y="330156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488560" y="331164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473080" y="33069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468760" y="33296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421240" y="33210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420520" y="3297240"/>
              <a:ext cx="792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450760" y="32958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430600" y="32918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484960" y="33022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488920" y="33123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474160" y="33073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469480" y="333036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422320" y="33217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420880" y="329796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454360" y="32965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433480" y="32925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487480" y="33026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490000" y="33123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474520" y="33073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470200" y="333036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423040" y="33217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421960" y="32976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456520" y="32965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434920" y="32925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488920" y="33026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490360" y="33123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475600" y="33073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470560" y="33300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423400" y="33217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422320" y="32976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456520" y="32965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434920" y="32925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488920" y="33026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490000" y="33123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474880" y="33073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470200" y="33300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423400" y="33217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422320" y="3297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453640" y="328068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437080" y="32770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454360" y="32857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437800" y="32821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450040" y="3252960"/>
              <a:ext cx="75960" cy="3240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483160" y="32360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581440" y="32547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03040" y="32598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646240" y="32652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624640" y="32612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564160" y="32522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464440" y="32346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444280" y="32310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429160" y="32292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414400" y="32270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394600" y="32274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378400" y="32256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365080" y="322308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378760" y="321156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391360" y="31996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401440" y="319248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410800" y="31852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406120" y="321624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398560" y="32065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411520" y="31996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635440" y="32302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664240" y="32223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656680" y="32353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429160" y="318744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451120" y="322344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443920" y="32133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456520" y="320688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451120" y="319788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474160" y="319464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296680" y="3225960"/>
              <a:ext cx="377280" cy="11916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667480" y="32169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352480" y="3178800"/>
              <a:ext cx="66600" cy="457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645160" y="32457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627520" y="32526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606640" y="32493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599440" y="32400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612760" y="323352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606640" y="3224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629680" y="32205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586120" y="32461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578200" y="32360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591520" y="322992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586120" y="32205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608440" y="321768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567400" y="32425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559480" y="323316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572440" y="322668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567400" y="32176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589720" y="32137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487480" y="32306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79560" y="32205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492520" y="32144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487480" y="32050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509800" y="32022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549040" y="324000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541840" y="32302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554440" y="32234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549040" y="321480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572080" y="32112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528520" y="3237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521320" y="32270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533920" y="32205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528520" y="32115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551560" y="32083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506560" y="323352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498640" y="32238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511960" y="32169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506560" y="32083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529600" y="32047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468400" y="322668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460840" y="321696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473800" y="3210120"/>
              <a:ext cx="1728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468400" y="3201480"/>
              <a:ext cx="1764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491080" y="319788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432040" y="322128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424840" y="321156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437440" y="320472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432040" y="319608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455080" y="319248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439600" y="292428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414400" y="3177360"/>
              <a:ext cx="287640" cy="493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7524720" y="4869000"/>
            <a:ext cx="436680" cy="452160"/>
            <a:chOff x="7524720" y="4869000"/>
            <a:chExt cx="436680" cy="452160"/>
          </a:xfrm>
        </p:grpSpPr>
        <p:sp>
          <p:nvSpPr>
            <p:cNvPr id="2622" name=""/>
            <p:cNvSpPr/>
            <p:nvPr/>
          </p:nvSpPr>
          <p:spPr>
            <a:xfrm>
              <a:off x="7525080" y="4869000"/>
              <a:ext cx="436320" cy="4518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648200" y="4871880"/>
              <a:ext cx="3888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650000" y="4872600"/>
              <a:ext cx="37080" cy="2127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651080" y="4872960"/>
              <a:ext cx="3600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652520" y="4873320"/>
              <a:ext cx="34560" cy="1861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654320" y="4873680"/>
              <a:ext cx="3276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55400" y="4874400"/>
              <a:ext cx="3168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657200" y="4875120"/>
              <a:ext cx="2952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58280" y="4875120"/>
              <a:ext cx="2844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659720" y="4875840"/>
              <a:ext cx="27000" cy="1198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61160" y="4876200"/>
              <a:ext cx="2556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662600" y="4876920"/>
              <a:ext cx="2376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64400" y="4876920"/>
              <a:ext cx="2196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65480" y="4877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667280" y="4878000"/>
              <a:ext cx="1908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68360" y="4878720"/>
              <a:ext cx="1764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648200" y="5083920"/>
              <a:ext cx="28152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48200" y="5083920"/>
              <a:ext cx="2660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648200" y="5083920"/>
              <a:ext cx="2509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48560" y="5083920"/>
              <a:ext cx="23544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648560" y="5083920"/>
              <a:ext cx="21996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48560" y="5083920"/>
              <a:ext cx="20484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649280" y="5083920"/>
              <a:ext cx="18900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49280" y="5083920"/>
              <a:ext cx="17352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649280" y="5083920"/>
              <a:ext cx="15840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49280" y="5083920"/>
              <a:ext cx="1429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649280" y="5083920"/>
              <a:ext cx="1274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49280" y="5083920"/>
              <a:ext cx="1116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649280" y="5083920"/>
              <a:ext cx="9684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49640" y="5083920"/>
              <a:ext cx="8100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49640" y="5083920"/>
              <a:ext cx="6516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907760" y="4892400"/>
              <a:ext cx="4248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907760" y="4906800"/>
              <a:ext cx="41400" cy="23184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907760" y="4920840"/>
              <a:ext cx="3996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907760" y="4934880"/>
              <a:ext cx="3888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907760" y="4949640"/>
              <a:ext cx="37440" cy="18900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907760" y="4964040"/>
              <a:ext cx="3636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907760" y="4978440"/>
              <a:ext cx="34920" cy="1602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907760" y="4992840"/>
              <a:ext cx="3384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907760" y="5007240"/>
              <a:ext cx="3240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907760" y="5021640"/>
              <a:ext cx="3132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7907760" y="5035680"/>
              <a:ext cx="2988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907760" y="5049720"/>
              <a:ext cx="2880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907760" y="5064480"/>
              <a:ext cx="2736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07760" y="5078520"/>
              <a:ext cx="2628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07760" y="5093280"/>
              <a:ext cx="2484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690680" y="5100120"/>
              <a:ext cx="19296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689240" y="5102280"/>
              <a:ext cx="19188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676280" y="4893480"/>
              <a:ext cx="246240" cy="2160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7882200" y="5141160"/>
              <a:ext cx="4644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882200" y="5141160"/>
              <a:ext cx="4608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882200" y="514152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882200" y="51415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882200" y="51422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882200" y="51422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882200" y="5142600"/>
              <a:ext cx="4608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882200" y="5142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882200" y="5142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882200" y="5143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882200" y="5143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840440" y="513720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840440" y="513720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84044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840440" y="51375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840440" y="51375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708320" y="51188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708320" y="51188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649640" y="510696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649640" y="510696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649640" y="5107320"/>
              <a:ext cx="3852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649640" y="510732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649640" y="510768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649640" y="510840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649640" y="510840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649640" y="510840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649640" y="51087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649640" y="510876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649640" y="5109120"/>
              <a:ext cx="3852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880040" y="5149800"/>
              <a:ext cx="4644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880040" y="5150160"/>
              <a:ext cx="4644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880040" y="515016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880040" y="5150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880040" y="5150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880040" y="515124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880040" y="51516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880040" y="515232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880040" y="515232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880040" y="515268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880040" y="5153040"/>
              <a:ext cx="4608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647840" y="5114160"/>
              <a:ext cx="3816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647840" y="5114520"/>
              <a:ext cx="3816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647840" y="511452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647840" y="5115240"/>
              <a:ext cx="3816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647840" y="5115240"/>
              <a:ext cx="3816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647840" y="511560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647840" y="5115600"/>
              <a:ext cx="3780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647840" y="5115600"/>
              <a:ext cx="3780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647840" y="511596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647840" y="511596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647840" y="511668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525080" y="5229000"/>
              <a:ext cx="34128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524720" y="5222520"/>
              <a:ext cx="34560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525080" y="5222880"/>
              <a:ext cx="34452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525080" y="5222880"/>
              <a:ext cx="34416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525080" y="5223600"/>
              <a:ext cx="34380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525440" y="5223960"/>
              <a:ext cx="34272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525440" y="5224320"/>
              <a:ext cx="34236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25800" y="5224320"/>
              <a:ext cx="34164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525800" y="5224680"/>
              <a:ext cx="34128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525800" y="5225400"/>
              <a:ext cx="34020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526160" y="5225400"/>
              <a:ext cx="33948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526520" y="5225760"/>
              <a:ext cx="33876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635600" y="5226120"/>
              <a:ext cx="10620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678440" y="5241240"/>
              <a:ext cx="2700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659720" y="523764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713000" y="524772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718040" y="5257800"/>
              <a:ext cx="468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702920" y="5252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698240" y="5275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651440" y="5266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650720" y="5243040"/>
              <a:ext cx="756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680600" y="5241600"/>
              <a:ext cx="2232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660800" y="5237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714080" y="5248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718400" y="5258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7703640" y="5253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698960" y="5276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652520" y="52678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651080" y="524412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684200" y="5242320"/>
              <a:ext cx="1692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663320" y="5238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716600" y="524844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719120" y="5258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704000" y="5253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700040" y="527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653240" y="526788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652160" y="524376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686360" y="5242320"/>
              <a:ext cx="1368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665120" y="5238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718400" y="52484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719480" y="5258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705080" y="5253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700400" y="527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653600" y="5267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652520" y="5243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686360" y="52423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665120" y="5238360"/>
              <a:ext cx="936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718400" y="5248440"/>
              <a:ext cx="936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719120" y="5258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704360" y="5253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700040" y="527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653600" y="5267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652520" y="5243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683480" y="5226840"/>
              <a:ext cx="5724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667280" y="5222880"/>
              <a:ext cx="2232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684200" y="5231520"/>
              <a:ext cx="5616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668000" y="5227920"/>
              <a:ext cx="1368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679880" y="5198760"/>
              <a:ext cx="7488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712280" y="5181840"/>
              <a:ext cx="7416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809480" y="5200560"/>
              <a:ext cx="1656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830720" y="5205600"/>
              <a:ext cx="1440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873560" y="5211000"/>
              <a:ext cx="1620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851960" y="52070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792560" y="5198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693920" y="51804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674480" y="5176800"/>
              <a:ext cx="1440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659360" y="51750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44600" y="5172840"/>
              <a:ext cx="1224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625160" y="5173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609320" y="5171400"/>
              <a:ext cx="1152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596360" y="5168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609680" y="5157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621920" y="5145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632000" y="5137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7641000" y="5130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636680" y="51616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629120" y="51523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642080" y="51454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862760" y="5176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891200" y="516816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883640" y="5181120"/>
              <a:ext cx="2124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659360" y="51328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680960" y="51692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673760" y="5159160"/>
              <a:ext cx="1368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686360" y="51526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680960" y="5143320"/>
              <a:ext cx="1404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03640" y="5140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528680" y="5171760"/>
              <a:ext cx="372240" cy="1195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894440" y="5162760"/>
              <a:ext cx="3816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583760" y="5124240"/>
              <a:ext cx="6552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872120" y="5191560"/>
              <a:ext cx="2664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854840" y="5198400"/>
              <a:ext cx="4068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834320" y="5195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827480" y="5185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840440" y="5178960"/>
              <a:ext cx="1728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34320" y="5169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857000" y="5166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13800" y="519192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806240" y="518184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819200" y="5175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813800" y="5166360"/>
              <a:ext cx="1728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836120" y="5163120"/>
              <a:ext cx="1728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95440" y="5188320"/>
              <a:ext cx="1476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787880" y="5178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800480" y="5172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795440" y="5163120"/>
              <a:ext cx="1476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17760" y="5159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716600" y="51764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709040" y="516636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21640" y="5159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716600" y="5150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738920" y="514764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777440" y="5185440"/>
              <a:ext cx="1440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770240" y="5176080"/>
              <a:ext cx="1440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782840" y="5169240"/>
              <a:ext cx="1440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777440" y="516024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800120" y="51566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757280" y="518292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750080" y="517284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762680" y="5166360"/>
              <a:ext cx="1692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757280" y="515700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779960" y="515412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735320" y="5178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28120" y="5169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741080" y="51627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735320" y="5154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758000" y="5150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697880" y="5172120"/>
              <a:ext cx="1728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90680" y="5162760"/>
              <a:ext cx="1692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703280" y="51559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697880" y="51472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720560" y="5143320"/>
              <a:ext cx="1692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662240" y="5166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55040" y="5157000"/>
              <a:ext cx="1476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667640" y="515016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662240" y="5141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84920" y="51379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669800" y="4869000"/>
              <a:ext cx="28080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644600" y="5122800"/>
              <a:ext cx="28368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6372360" y="4869000"/>
            <a:ext cx="442800" cy="452160"/>
            <a:chOff x="6372360" y="4869000"/>
            <a:chExt cx="442800" cy="452160"/>
          </a:xfrm>
        </p:grpSpPr>
        <p:sp>
          <p:nvSpPr>
            <p:cNvPr id="2877" name=""/>
            <p:cNvSpPr/>
            <p:nvPr/>
          </p:nvSpPr>
          <p:spPr>
            <a:xfrm>
              <a:off x="6372720" y="4869000"/>
              <a:ext cx="442440" cy="4518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497640" y="487188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499440" y="4872600"/>
              <a:ext cx="37440" cy="2127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500520" y="487296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501960" y="4873320"/>
              <a:ext cx="35280" cy="1861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503760" y="487368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504840" y="487440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506640" y="487512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507720" y="487512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509160" y="4875840"/>
              <a:ext cx="27360" cy="1198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510960" y="487620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512040" y="487692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513840" y="487692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514920" y="4877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516720" y="487800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518160" y="487872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497640" y="508392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497640" y="508392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497640" y="508392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498000" y="508392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6498000" y="5083920"/>
              <a:ext cx="22320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498000" y="508392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498360" y="508392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498360" y="5083920"/>
              <a:ext cx="17604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498360" y="508392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498360" y="508392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498360" y="508392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498360" y="508392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498360" y="508392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498720" y="508392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498720" y="508392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760800" y="489240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760800" y="4906800"/>
              <a:ext cx="41760" cy="23184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760800" y="492084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760800" y="4934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760800" y="4949640"/>
              <a:ext cx="38160" cy="18900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760800" y="496404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760800" y="4978440"/>
              <a:ext cx="35640" cy="1602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760800" y="499284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760800" y="500724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760800" y="502164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760800" y="503568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760800" y="504972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760800" y="506448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760800" y="507852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760800" y="5093280"/>
              <a:ext cx="2520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540480" y="510012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539400" y="5102280"/>
              <a:ext cx="19476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526080" y="4893480"/>
              <a:ext cx="249840" cy="2160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734880" y="5141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734880" y="514116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734880" y="5141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734880" y="514152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734880" y="5142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734880" y="5142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734880" y="51426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6734880" y="5142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734880" y="5142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734880" y="5143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734880" y="5143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692400" y="5137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692400" y="5137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692400" y="5137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69240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69240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558480" y="5118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558480" y="5118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498720" y="5106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498720" y="5106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498720" y="510732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498720" y="510732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498720" y="510768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498720" y="510840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498720" y="5108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498720" y="5108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498720" y="510876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498720" y="510876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498720" y="510912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732720" y="5149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732720" y="5150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732720" y="515016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732720" y="5150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732720" y="5150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732720" y="515124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732720" y="515160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732720" y="5152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732720" y="51523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732720" y="515268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732720" y="515304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497280" y="511416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497280" y="511452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497280" y="511452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497280" y="5115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497280" y="5115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497280" y="511560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497280" y="5115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497280" y="5115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497280" y="511596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497280" y="511596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6497280" y="51166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372720" y="522900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372360" y="522252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372720" y="522288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372720" y="522288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372720" y="522360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373080" y="5223960"/>
              <a:ext cx="34776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373080" y="522432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373440" y="522432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373440" y="522468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373440" y="522540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373800" y="522540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374160" y="52257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485040" y="522612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528240" y="5241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509160" y="52376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563160" y="524772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568200" y="5257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552720" y="5252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548400" y="5275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500880" y="5266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500160" y="5243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530400" y="5241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510240" y="5237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564600" y="5248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568560" y="5258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553800" y="5253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549120" y="5276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501960" y="52678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500520" y="52441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534000" y="5242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513120" y="5238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567120" y="5248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569640" y="5258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554160" y="5253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49840" y="5276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02680" y="5267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501600" y="524376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536160" y="52423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514560" y="5238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568560" y="52484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570000" y="5258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555240" y="5253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550200" y="527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503040" y="5267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501960" y="5243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536160" y="52423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514560" y="52383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568560" y="52484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569640" y="5258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554520" y="5253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549840" y="527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503040" y="5267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501960" y="5243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533280" y="522684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516720" y="5222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534000" y="52315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517440" y="52279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529680" y="519876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562800" y="51818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661080" y="52005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682680" y="5205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725880" y="52110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704280" y="5207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643800" y="5198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544080" y="51804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523920" y="51768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508800" y="5175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494040" y="51728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474240" y="5173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458040" y="51714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444720" y="5168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458400" y="5157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471000" y="5145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481080" y="5137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490440" y="5130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485760" y="516168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478200" y="51523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491160" y="51454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715080" y="5176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743880" y="51681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736320" y="51811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508800" y="51328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530760" y="51692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523560" y="51591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536160" y="51526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530760" y="514332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553800" y="51404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376320" y="5171760"/>
              <a:ext cx="377280" cy="1195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747120" y="51627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432120" y="512424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724800" y="51915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707160" y="51984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686280" y="5195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679080" y="5185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692400" y="5178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686280" y="5169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709320" y="5166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665760" y="5191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657840" y="5181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671160" y="5175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665760" y="5166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688080" y="5163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647040" y="5188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639120" y="5178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652080" y="5172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647040" y="5163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669360" y="5159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567120" y="51764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559200" y="51663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572160" y="5159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567120" y="5150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589440" y="51476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628680" y="5185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621480" y="51760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634080" y="51692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628680" y="5160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651720" y="51566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608160" y="51829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600960" y="51728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613560" y="5166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608160" y="51570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63120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586200" y="5178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578280" y="5169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591600" y="51627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586200" y="5154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609240" y="5150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548040" y="5172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540480" y="51627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553440" y="515592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548040" y="514728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570720" y="514332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511680" y="5166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504480" y="5157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517080" y="5150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511680" y="5141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534720" y="5137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519240" y="486900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494040" y="512280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1" name=""/>
          <p:cNvGrpSpPr/>
          <p:nvPr/>
        </p:nvGrpSpPr>
        <p:grpSpPr>
          <a:xfrm>
            <a:off x="8101080" y="2852640"/>
            <a:ext cx="439560" cy="452520"/>
            <a:chOff x="8101080" y="2852640"/>
            <a:chExt cx="439560" cy="452520"/>
          </a:xfrm>
        </p:grpSpPr>
        <p:sp>
          <p:nvSpPr>
            <p:cNvPr id="3132" name=""/>
            <p:cNvSpPr/>
            <p:nvPr/>
          </p:nvSpPr>
          <p:spPr>
            <a:xfrm>
              <a:off x="8101440" y="2852640"/>
              <a:ext cx="43920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225280" y="285552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227080" y="285624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228520" y="2856600"/>
              <a:ext cx="3600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229600" y="2856960"/>
              <a:ext cx="3492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231400" y="2857320"/>
              <a:ext cx="3312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232480" y="285804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234280" y="285876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235720" y="2858760"/>
              <a:ext cx="2844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236800" y="285948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238600" y="2859840"/>
              <a:ext cx="2556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239680" y="2860560"/>
              <a:ext cx="2376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241480" y="2860560"/>
              <a:ext cx="2196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242920" y="286128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244360" y="2861640"/>
              <a:ext cx="1908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245800" y="286236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225280" y="3067920"/>
              <a:ext cx="2836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225280" y="3067920"/>
              <a:ext cx="2678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225280" y="3067920"/>
              <a:ext cx="2527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226000" y="3067920"/>
              <a:ext cx="2368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226000" y="3067920"/>
              <a:ext cx="2214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226000" y="3067920"/>
              <a:ext cx="20628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226360" y="3067920"/>
              <a:ext cx="19008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226360" y="3067920"/>
              <a:ext cx="17460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226360" y="3067920"/>
              <a:ext cx="15948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226360" y="3067920"/>
              <a:ext cx="14364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226360" y="3067920"/>
              <a:ext cx="12816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226360" y="3067920"/>
              <a:ext cx="11232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226360" y="3067920"/>
              <a:ext cx="9720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226720" y="3067920"/>
              <a:ext cx="8136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226720" y="3067920"/>
              <a:ext cx="6552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486640" y="2876040"/>
              <a:ext cx="4284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486640" y="2890440"/>
              <a:ext cx="4140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486640" y="2904480"/>
              <a:ext cx="4032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486640" y="2918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486640" y="2933280"/>
              <a:ext cx="3780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486640" y="2947680"/>
              <a:ext cx="3636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486640" y="2962080"/>
              <a:ext cx="3528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486640" y="2976480"/>
              <a:ext cx="3384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486640" y="2990880"/>
              <a:ext cx="3276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486640" y="300528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486640" y="301932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486640" y="3033720"/>
              <a:ext cx="2880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486640" y="304812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486640" y="3062520"/>
              <a:ext cx="2628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486640" y="307692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268120" y="3083760"/>
              <a:ext cx="19440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266680" y="3086280"/>
              <a:ext cx="19332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253720" y="2877120"/>
              <a:ext cx="2480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461080" y="3125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461080" y="3125160"/>
              <a:ext cx="4608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461080" y="312552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461080" y="31255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461080" y="312588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461080" y="312588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461080" y="3126240"/>
              <a:ext cx="4608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461080" y="3126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461080" y="3126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461080" y="3127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461080" y="3127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18600" y="3120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418600" y="3120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418600" y="3121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18600" y="3121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418600" y="3121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285760" y="3102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285760" y="3102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226720" y="309060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226720" y="309060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226720" y="3091320"/>
              <a:ext cx="3852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226720" y="309132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226720" y="309168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226720" y="309204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226720" y="309204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226720" y="309204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26720" y="30927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226720" y="309276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26720" y="3093120"/>
              <a:ext cx="3852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458920" y="3133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458920" y="3134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458920" y="313416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458920" y="3134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458920" y="3134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458920" y="313524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458920" y="31356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458920" y="3135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458920" y="31359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458920" y="313632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458920" y="3137040"/>
              <a:ext cx="4608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224920" y="3098160"/>
              <a:ext cx="3852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224920" y="3098520"/>
              <a:ext cx="3852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4920" y="3098520"/>
              <a:ext cx="3852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24920" y="3098880"/>
              <a:ext cx="3852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224920" y="3098880"/>
              <a:ext cx="3852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224920" y="3099600"/>
              <a:ext cx="3852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224920" y="30996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224920" y="30996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224920" y="3099960"/>
              <a:ext cx="3816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224920" y="3099960"/>
              <a:ext cx="3816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224920" y="3100320"/>
              <a:ext cx="3816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101440" y="3213000"/>
              <a:ext cx="34344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101080" y="3206520"/>
              <a:ext cx="34812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101440" y="3206880"/>
              <a:ext cx="34668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101440" y="3206880"/>
              <a:ext cx="34632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101440" y="3207600"/>
              <a:ext cx="34596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101800" y="3207960"/>
              <a:ext cx="34524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101800" y="3208320"/>
              <a:ext cx="34452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102160" y="3208320"/>
              <a:ext cx="34380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102160" y="3208680"/>
              <a:ext cx="34344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102160" y="3209040"/>
              <a:ext cx="34236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102520" y="3209040"/>
              <a:ext cx="34164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102880" y="3209760"/>
              <a:ext cx="34092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212680" y="3210120"/>
              <a:ext cx="10692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255880" y="3225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236800" y="322164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290440" y="323172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295480" y="3241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280360" y="3236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275680" y="3259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228880" y="3250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228160" y="3227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258040" y="3225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238240" y="3221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291880" y="3232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295840" y="3242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281080" y="3237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276400" y="3260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229600" y="32518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228520" y="322812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261640" y="3226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240760" y="3222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294400" y="3232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296560" y="324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281440" y="3237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277480" y="3260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230680" y="3251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229240" y="32274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263800" y="3226320"/>
              <a:ext cx="1368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242200" y="3222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295840" y="32324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297280" y="324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282520" y="3237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277840" y="3260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231040" y="3251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229600" y="32274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263800" y="32263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242200" y="3222360"/>
              <a:ext cx="936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295840" y="3232440"/>
              <a:ext cx="936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296560" y="324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282160" y="3237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277480" y="3260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231040" y="3251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229600" y="32274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260920" y="3210480"/>
              <a:ext cx="5760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244360" y="3206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261640" y="3215520"/>
              <a:ext cx="5652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45080" y="3211920"/>
              <a:ext cx="1368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256960" y="3182760"/>
              <a:ext cx="7524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90080" y="3165840"/>
              <a:ext cx="7452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87640" y="3184560"/>
              <a:ext cx="1656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408880" y="3189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452080" y="3195000"/>
              <a:ext cx="1620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430480" y="3191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70720" y="318168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71360" y="31644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251560" y="3160800"/>
              <a:ext cx="1440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36440" y="3159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221680" y="315648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02240" y="3157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186040" y="3155400"/>
              <a:ext cx="1152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173080" y="3152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186760" y="3141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198640" y="312912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209080" y="3121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18080" y="3114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213760" y="31456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05840" y="313596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219160" y="312912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441280" y="315972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469720" y="315216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462160" y="3164760"/>
              <a:ext cx="2124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236440" y="31168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258400" y="31528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251200" y="3142800"/>
              <a:ext cx="1368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263800" y="31363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258400" y="3127320"/>
              <a:ext cx="1404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281080" y="31240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05040" y="3155760"/>
              <a:ext cx="37476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73320" y="3146400"/>
              <a:ext cx="3852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60480" y="3108240"/>
              <a:ext cx="6588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51000" y="3175200"/>
              <a:ext cx="2664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433360" y="3182040"/>
              <a:ext cx="4068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2840" y="3179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405640" y="3169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8600" y="3162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412840" y="3153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35520" y="3150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392320" y="3175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384760" y="3165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397720" y="3159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392320" y="3150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414640" y="3147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373600" y="3172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366040" y="3162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378640" y="3156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373600" y="3147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395920" y="314316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294400" y="31604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286840" y="315036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299440" y="3143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294400" y="3134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316720" y="313164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355240" y="3169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348400" y="315972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361000" y="3152880"/>
              <a:ext cx="1440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355240" y="3144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378280" y="31406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335080" y="316656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327880" y="315648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340840" y="3150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335080" y="314100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358120" y="313776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313120" y="3162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305560" y="31532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318880" y="314640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313120" y="313776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336160" y="3134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275320" y="3156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268120" y="3146400"/>
              <a:ext cx="1692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280720" y="313956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275320" y="313092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298000" y="3127320"/>
              <a:ext cx="1692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239320" y="3150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232120" y="3141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244720" y="3134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239320" y="3125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262360" y="3121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246880" y="2852640"/>
              <a:ext cx="28260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221680" y="3106800"/>
              <a:ext cx="28548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7740720" y="1844640"/>
            <a:ext cx="442800" cy="452520"/>
            <a:chOff x="7740720" y="1844640"/>
            <a:chExt cx="442800" cy="452520"/>
          </a:xfrm>
        </p:grpSpPr>
        <p:sp>
          <p:nvSpPr>
            <p:cNvPr id="3387" name=""/>
            <p:cNvSpPr/>
            <p:nvPr/>
          </p:nvSpPr>
          <p:spPr>
            <a:xfrm>
              <a:off x="7741080" y="1844640"/>
              <a:ext cx="44244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866000" y="184752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867800" y="184824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868880" y="184860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870320" y="1848960"/>
              <a:ext cx="3528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872120" y="184932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873200" y="185004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875000" y="185076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876080" y="185076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877520" y="185148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879320" y="185184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880400" y="185256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882200" y="185256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883280" y="185328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885080" y="185364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886520" y="185436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866000" y="205992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866000" y="205992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866000" y="205992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866360" y="205992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866360" y="205992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866360" y="205992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866720" y="205992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866720" y="205992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866720" y="205992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866720" y="205992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866720" y="205992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866720" y="205992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866720" y="205992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867080" y="205992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867080" y="205992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29160" y="186804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29160" y="1882440"/>
              <a:ext cx="4176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29160" y="189648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29160" y="1910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129160" y="1925280"/>
              <a:ext cx="3816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29160" y="193968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29160" y="1954080"/>
              <a:ext cx="3564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29160" y="196848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29160" y="198288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29160" y="199728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129160" y="201132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129160" y="202572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129160" y="204012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129160" y="205452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129160" y="206892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7908840" y="207576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907760" y="207828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894440" y="1869120"/>
              <a:ext cx="2498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03240" y="2117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03240" y="211716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103240" y="2117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103240" y="211752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103240" y="211788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103240" y="211788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103240" y="211824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103240" y="2118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103240" y="2118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3240" y="2119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03240" y="2119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060760" y="2112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060760" y="2112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060760" y="2113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060760" y="2113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060760" y="2113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926840" y="2094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926840" y="2094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867080" y="208260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867080" y="208260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867080" y="208332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867080" y="208332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867080" y="208368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867080" y="208404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867080" y="208404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867080" y="208404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867080" y="208476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867080" y="208476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867080" y="208512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01080" y="2125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01080" y="2126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01080" y="212616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01080" y="2126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101080" y="2126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101080" y="212724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101080" y="212760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101080" y="2127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101080" y="212796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101080" y="212832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101080" y="212904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865640" y="209016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865640" y="209052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865640" y="209052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865640" y="209088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865640" y="209088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865640" y="209160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865640" y="2091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865640" y="2091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865640" y="209196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865640" y="209196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865640" y="209232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741080" y="220500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740720" y="219852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741080" y="219888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741080" y="219888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741080" y="219960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741440" y="2199960"/>
              <a:ext cx="34776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741440" y="220032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741800" y="220032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741800" y="220068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741800" y="220104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742160" y="220104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742520" y="22017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853400" y="220212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896600" y="2217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877520" y="22136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931520" y="222372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936560" y="2233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921080" y="2228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916760" y="2251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869240" y="2242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868520" y="2219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898760" y="2217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878600" y="2213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932960" y="2224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936920" y="2234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922160" y="2229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917480" y="2252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870320" y="22438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868880" y="22201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902360" y="2218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881480" y="2214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935480" y="2224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938000" y="2234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922520" y="2229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918200" y="2252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871040" y="2243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869960" y="22194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904520" y="22183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882920" y="2214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936920" y="22244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938360" y="2234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923600" y="2229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918560" y="2252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871400" y="2243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870320" y="22194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904520" y="22183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882920" y="22143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936920" y="22244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938000" y="2234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922880" y="2229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918200" y="2252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871400" y="2243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870320" y="22194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901640" y="220248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885080" y="2198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902360" y="22075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885800" y="22039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898040" y="217476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931160" y="21578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8029440" y="21765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8051040" y="2181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094240" y="21870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8072640" y="2183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8012160" y="217368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912440" y="21564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892280" y="21528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877160" y="2151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862400" y="214848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842600" y="2149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826400" y="21474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813080" y="2144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826760" y="2133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7839360" y="212112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849440" y="2113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858800" y="2106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7854120" y="213768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7846560" y="212796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859520" y="212112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8083440" y="215172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8112240" y="21441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8104680" y="215676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877160" y="21088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899120" y="21448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891920" y="213480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904520" y="212832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7899120" y="211932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922160" y="21160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744680" y="2147760"/>
              <a:ext cx="37728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8115480" y="213840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800480" y="210024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8093160" y="216720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8075520" y="217404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8054640" y="2171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8047440" y="2161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8060760" y="2154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8054640" y="2145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8077680" y="2142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8034120" y="2167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8026200" y="2157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8039520" y="2151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8034120" y="2142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8056440" y="2139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8015400" y="2164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8007480" y="2154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8020440" y="2148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8015400" y="2139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8037720" y="213516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935480" y="21524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927560" y="21423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940520" y="2135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935480" y="2126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7957800" y="21236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997040" y="2161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989840" y="215172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8002440" y="214488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997040" y="2136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8020080" y="21326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7976520" y="21585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7969320" y="214848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981920" y="2142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976520" y="21330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7999560" y="212976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954560" y="2154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946640" y="21452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959960" y="213840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954560" y="212976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977600" y="2126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916400" y="2148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908840" y="213840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921800" y="213156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916400" y="212292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939080" y="211932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7880040" y="2142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872840" y="2133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885440" y="2126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880040" y="2117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903080" y="2113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887600" y="184464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7862400" y="209880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1" name=""/>
          <p:cNvSpPr/>
          <p:nvPr/>
        </p:nvSpPr>
        <p:spPr>
          <a:xfrm>
            <a:off x="6084720" y="1701720"/>
            <a:ext cx="1584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b-type Structure with Sing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2" name=""/>
          <p:cNvGrpSpPr/>
          <p:nvPr/>
        </p:nvGrpSpPr>
        <p:grpSpPr>
          <a:xfrm>
            <a:off x="5132160" y="4267080"/>
            <a:ext cx="635760" cy="671400"/>
            <a:chOff x="5132160" y="4267080"/>
            <a:chExt cx="635760" cy="671400"/>
          </a:xfrm>
        </p:grpSpPr>
        <p:sp>
          <p:nvSpPr>
            <p:cNvPr id="3643" name=""/>
            <p:cNvSpPr/>
            <p:nvPr/>
          </p:nvSpPr>
          <p:spPr>
            <a:xfrm>
              <a:off x="5212080" y="4344840"/>
              <a:ext cx="478440" cy="5158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4" name=""/>
            <p:cNvGrpSpPr/>
            <p:nvPr/>
          </p:nvGrpSpPr>
          <p:grpSpPr>
            <a:xfrm>
              <a:off x="5132160" y="4267080"/>
              <a:ext cx="635760" cy="671400"/>
              <a:chOff x="5132160" y="4267080"/>
              <a:chExt cx="635760" cy="671400"/>
            </a:xfrm>
          </p:grpSpPr>
          <p:sp>
            <p:nvSpPr>
              <p:cNvPr id="3645" name=""/>
              <p:cNvSpPr/>
              <p:nvPr/>
            </p:nvSpPr>
            <p:spPr>
              <a:xfrm>
                <a:off x="5140440" y="4267080"/>
                <a:ext cx="620280" cy="671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6" name=""/>
              <p:cNvGrpSpPr/>
              <p:nvPr/>
            </p:nvGrpSpPr>
            <p:grpSpPr>
              <a:xfrm>
                <a:off x="5335920" y="4267080"/>
                <a:ext cx="228960" cy="670320"/>
                <a:chOff x="5335920" y="4267080"/>
                <a:chExt cx="228960" cy="670320"/>
              </a:xfrm>
            </p:grpSpPr>
            <p:sp>
              <p:nvSpPr>
                <p:cNvPr id="3647" name=""/>
                <p:cNvSpPr/>
                <p:nvPr/>
              </p:nvSpPr>
              <p:spPr>
                <a:xfrm>
                  <a:off x="5335920" y="426708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5335920" y="486108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9" name=""/>
              <p:cNvGrpSpPr/>
              <p:nvPr/>
            </p:nvGrpSpPr>
            <p:grpSpPr>
              <a:xfrm>
                <a:off x="5140440" y="4478760"/>
                <a:ext cx="619200" cy="247680"/>
                <a:chOff x="5140440" y="4478760"/>
                <a:chExt cx="619200" cy="247680"/>
              </a:xfrm>
            </p:grpSpPr>
            <p:sp>
              <p:nvSpPr>
                <p:cNvPr id="3650" name=""/>
                <p:cNvSpPr/>
                <p:nvPr/>
              </p:nvSpPr>
              <p:spPr>
                <a:xfrm rot="5400000">
                  <a:off x="5600520" y="456732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 rot="5400000">
                  <a:off x="5051880" y="456732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2" name=""/>
              <p:cNvGrpSpPr/>
              <p:nvPr/>
            </p:nvGrpSpPr>
            <p:grpSpPr>
              <a:xfrm>
                <a:off x="5144040" y="4296240"/>
                <a:ext cx="613080" cy="612720"/>
                <a:chOff x="5144040" y="4296240"/>
                <a:chExt cx="613080" cy="612720"/>
              </a:xfrm>
            </p:grpSpPr>
            <p:sp>
              <p:nvSpPr>
                <p:cNvPr id="3653" name=""/>
                <p:cNvSpPr/>
                <p:nvPr/>
              </p:nvSpPr>
              <p:spPr>
                <a:xfrm rot="2700000">
                  <a:off x="5520600" y="437328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 rot="2700000">
                  <a:off x="5132520" y="47610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5" name=""/>
              <p:cNvGrpSpPr/>
              <p:nvPr/>
            </p:nvGrpSpPr>
            <p:grpSpPr>
              <a:xfrm>
                <a:off x="5132160" y="4285080"/>
                <a:ext cx="635760" cy="635760"/>
                <a:chOff x="5132160" y="4285080"/>
                <a:chExt cx="635760" cy="635760"/>
              </a:xfrm>
            </p:grpSpPr>
            <p:sp>
              <p:nvSpPr>
                <p:cNvPr id="3656" name=""/>
                <p:cNvSpPr/>
                <p:nvPr/>
              </p:nvSpPr>
              <p:spPr>
                <a:xfrm rot="8100000">
                  <a:off x="5545440" y="477432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 rot="8100000">
                  <a:off x="5125680" y="435456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58" name=""/>
          <p:cNvGrpSpPr/>
          <p:nvPr/>
        </p:nvGrpSpPr>
        <p:grpSpPr>
          <a:xfrm>
            <a:off x="5364000" y="4797360"/>
            <a:ext cx="443160" cy="455760"/>
            <a:chOff x="5364000" y="4797360"/>
            <a:chExt cx="443160" cy="455760"/>
          </a:xfrm>
        </p:grpSpPr>
        <p:sp>
          <p:nvSpPr>
            <p:cNvPr id="3659" name=""/>
            <p:cNvSpPr/>
            <p:nvPr/>
          </p:nvSpPr>
          <p:spPr>
            <a:xfrm>
              <a:off x="5364360" y="4797360"/>
              <a:ext cx="442800" cy="4554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5489280" y="4800240"/>
              <a:ext cx="39240" cy="2275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5491080" y="4800960"/>
              <a:ext cx="37800" cy="2145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492520" y="4801320"/>
              <a:ext cx="36360" cy="20052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493600" y="4801680"/>
              <a:ext cx="35280" cy="1879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495400" y="4802040"/>
              <a:ext cx="33480" cy="17460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496480" y="4802760"/>
              <a:ext cx="32040" cy="16092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498280" y="4803480"/>
              <a:ext cx="29880" cy="1472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499720" y="4803480"/>
              <a:ext cx="28800" cy="1342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5500800" y="4804200"/>
              <a:ext cx="27360" cy="12096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502600" y="4804560"/>
              <a:ext cx="25920" cy="10764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503680" y="4805280"/>
              <a:ext cx="24120" cy="9432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505480" y="4805280"/>
              <a:ext cx="22320" cy="8100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506920" y="4806000"/>
              <a:ext cx="20880" cy="680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508720" y="4806360"/>
              <a:ext cx="19440" cy="5400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509800" y="4807440"/>
              <a:ext cx="18000" cy="4068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5489280" y="5014080"/>
              <a:ext cx="285840" cy="5544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5489280" y="5014080"/>
              <a:ext cx="270000" cy="5328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489280" y="5014080"/>
              <a:ext cx="254880" cy="5076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5490000" y="5014080"/>
              <a:ext cx="239040" cy="4860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490000" y="501408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5490000" y="5014080"/>
              <a:ext cx="207720" cy="4356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490360" y="5014080"/>
              <a:ext cx="191880" cy="4176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5490360" y="501408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490360" y="5014080"/>
              <a:ext cx="160560" cy="367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490360" y="5014080"/>
              <a:ext cx="145080" cy="345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490360" y="5014080"/>
              <a:ext cx="129240" cy="320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5490360" y="501408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490360" y="5014080"/>
              <a:ext cx="9828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5490720" y="5014080"/>
              <a:ext cx="82080" cy="2484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490720" y="501408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752800" y="4821120"/>
              <a:ext cx="43200" cy="2480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752800" y="4835520"/>
              <a:ext cx="41760" cy="2340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752800" y="4849560"/>
              <a:ext cx="40680" cy="2196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752800" y="4863960"/>
              <a:ext cx="39240" cy="2052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752800" y="4878720"/>
              <a:ext cx="38160" cy="19044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752800" y="4893120"/>
              <a:ext cx="36720" cy="17640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752800" y="4907880"/>
              <a:ext cx="35640" cy="16164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752800" y="4921920"/>
              <a:ext cx="34200" cy="1472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752800" y="4936680"/>
              <a:ext cx="33120" cy="13248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752800" y="4951080"/>
              <a:ext cx="31680" cy="11808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752800" y="4965120"/>
              <a:ext cx="30240" cy="1040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752800" y="4979520"/>
              <a:ext cx="29160" cy="8964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752800" y="4994280"/>
              <a:ext cx="28080" cy="7488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752800" y="5008680"/>
              <a:ext cx="26640" cy="6048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752800" y="502344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532480" y="5030280"/>
              <a:ext cx="195840" cy="4356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531040" y="503244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518080" y="4822200"/>
              <a:ext cx="250200" cy="2178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726880" y="5071680"/>
              <a:ext cx="4716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726880" y="5071680"/>
              <a:ext cx="4680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726880" y="5072040"/>
              <a:ext cx="4680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726880" y="5072040"/>
              <a:ext cx="46800" cy="1152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726880" y="5072760"/>
              <a:ext cx="4680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5726880" y="5072760"/>
              <a:ext cx="4680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5726880" y="5073120"/>
              <a:ext cx="46800" cy="1008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5726880" y="507348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5726880" y="507348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5726880" y="5074200"/>
              <a:ext cx="4680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726880" y="5074200"/>
              <a:ext cx="4680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684400" y="506772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5684400" y="506772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5684400" y="506808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5684400" y="506808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5684400" y="506808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5550120" y="50490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550120" y="50490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5490720" y="5037120"/>
              <a:ext cx="38880" cy="1152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490720" y="5037120"/>
              <a:ext cx="38880" cy="1152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490720" y="503784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5490720" y="5037840"/>
              <a:ext cx="38880" cy="1008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5490720" y="503820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490720" y="503856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5490720" y="5038560"/>
              <a:ext cx="38880" cy="864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490720" y="5038560"/>
              <a:ext cx="38880" cy="864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490720" y="50389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490720" y="50389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490720" y="503928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724720" y="5080680"/>
              <a:ext cx="4716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724720" y="5081040"/>
              <a:ext cx="4716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724720" y="5081040"/>
              <a:ext cx="4680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724720" y="5081400"/>
              <a:ext cx="4680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724720" y="5081400"/>
              <a:ext cx="4680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724720" y="5081760"/>
              <a:ext cx="4680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724720" y="5082120"/>
              <a:ext cx="46800" cy="1008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724720" y="508284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724720" y="5082840"/>
              <a:ext cx="4680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724720" y="5083200"/>
              <a:ext cx="4680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724720" y="5083920"/>
              <a:ext cx="4680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5488920" y="504468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5488920" y="504504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488920" y="504504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488920" y="50454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5488920" y="50454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5488920" y="50457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488920" y="50457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488920" y="50457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488920" y="504648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488920" y="504648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488920" y="504684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364360" y="5160240"/>
              <a:ext cx="346320" cy="9288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364000" y="5153760"/>
              <a:ext cx="351000" cy="8280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364360" y="5154120"/>
              <a:ext cx="349560" cy="8244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364360" y="5154120"/>
              <a:ext cx="349200" cy="8172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364360" y="5154840"/>
              <a:ext cx="348840" cy="8136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364720" y="5155200"/>
              <a:ext cx="347760" cy="7992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364720" y="5155560"/>
              <a:ext cx="347400" cy="7956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365080" y="5155560"/>
              <a:ext cx="346680" cy="7884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365080" y="5155920"/>
              <a:ext cx="346320" cy="7848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5365080" y="5156280"/>
              <a:ext cx="345240" cy="7776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5365440" y="5156280"/>
              <a:ext cx="344520" cy="7740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5365800" y="5157000"/>
              <a:ext cx="343800" cy="7632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5476680" y="5157360"/>
              <a:ext cx="108000" cy="4428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519880" y="517248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500800" y="516888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554800" y="517896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559840" y="518904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544720" y="51840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540040" y="52070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92880" y="5198400"/>
              <a:ext cx="8280" cy="864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91800" y="517428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522040" y="51732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502240" y="5168880"/>
              <a:ext cx="15480" cy="468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556240" y="51796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560560" y="51897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545440" y="51847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540760" y="52081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493600" y="51994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492520" y="517536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526000" y="51735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504760" y="51699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558760" y="51800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561280" y="51897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546160" y="51847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541840" y="52081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494320" y="5199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493240" y="51750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528160" y="517356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506560" y="5169960"/>
              <a:ext cx="936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560560" y="51800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561640" y="51897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546880" y="51847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542200" y="52077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495040" y="51994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493600" y="51750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528160" y="517356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506560" y="51699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560560" y="51800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561280" y="51897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546520" y="51847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541840" y="52077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495040" y="51994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493600" y="51750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525280" y="5158080"/>
              <a:ext cx="57960" cy="1836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508720" y="515412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526000" y="5162760"/>
              <a:ext cx="56880" cy="1332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509440" y="515916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521320" y="512964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554440" y="5112720"/>
              <a:ext cx="7524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652720" y="513144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674320" y="513684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717880" y="5142240"/>
              <a:ext cx="16560" cy="864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696280" y="513792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635800" y="512892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535720" y="511128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515920" y="510768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500440" y="510588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485680" y="510336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465880" y="510408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449680" y="510228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436720" y="509940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450400" y="508788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5462640" y="507600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472720" y="506844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482080" y="506124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5477400" y="509256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469840" y="508284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483160" y="507600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706720" y="5106600"/>
              <a:ext cx="2160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735880" y="509904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5727960" y="511200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5500440" y="506340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5522400" y="509976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515200" y="508968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528160" y="508320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5522400" y="507420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545440" y="507096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367960" y="5102640"/>
              <a:ext cx="377640" cy="12060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739120" y="5093280"/>
              <a:ext cx="38880" cy="7272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423760" y="5054760"/>
              <a:ext cx="66600" cy="4644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716800" y="512244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5699160" y="5129280"/>
              <a:ext cx="41040" cy="1332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678280" y="51260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5671080" y="51163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5684400" y="510984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5678280" y="51008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5701320" y="509724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657400" y="512280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5649840" y="511272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5662800" y="510624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657400" y="509724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5680080" y="509400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638680" y="511920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631120" y="510948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643720" y="510300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638680" y="509400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661360" y="509004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5558760" y="510732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551200" y="5097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563800" y="50907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5558760" y="50814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5581440" y="50781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5620320" y="511632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613120" y="510660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626080" y="509976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620320" y="509112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5643360" y="508752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5600160" y="51138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592960" y="510336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605560" y="509724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600160" y="50878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623200" y="508464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5577840" y="5109840"/>
              <a:ext cx="1872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5570280" y="5100120"/>
              <a:ext cx="18720" cy="468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5583600" y="50932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577840" y="5084640"/>
              <a:ext cx="1872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600880" y="5081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5539680" y="510300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532480" y="50932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5545080" y="508644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539680" y="507780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5562720" y="507420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5503320" y="509760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5496120" y="508788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5509080" y="508104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5503320" y="507204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5526360" y="506844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511240" y="4797360"/>
              <a:ext cx="285120" cy="2340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485680" y="5053320"/>
              <a:ext cx="288000" cy="5004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13" name=""/>
          <p:cNvCxnSpPr>
            <a:endCxn id="2034" idx="6"/>
          </p:cNvCxnSpPr>
          <p:nvPr/>
        </p:nvCxnSpPr>
        <p:spPr>
          <a:xfrm flipV="1">
            <a:off x="5667480" y="4546080"/>
            <a:ext cx="513360" cy="62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914" name=""/>
          <p:cNvCxnSpPr>
            <a:stCxn id="2034" idx="0"/>
          </p:cNvCxnSpPr>
          <p:nvPr/>
        </p:nvCxnSpPr>
        <p:spPr>
          <a:xfrm flipH="1">
            <a:off x="5682960" y="4492440"/>
            <a:ext cx="605520" cy="5292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3915" name=""/>
          <p:cNvSpPr/>
          <p:nvPr/>
        </p:nvSpPr>
        <p:spPr>
          <a:xfrm>
            <a:off x="4284720" y="2852640"/>
            <a:ext cx="863640" cy="876240"/>
          </a:xfrm>
          <a:prstGeom prst="rightArrow">
            <a:avLst>
              <a:gd name="adj1" fmla="val 49685"/>
              <a:gd name="adj2" fmla="val 29806"/>
            </a:avLst>
          </a:prstGeom>
          <a:gradFill rotWithShape="0">
            <a:gsLst>
              <a:gs pos="0">
                <a:srgbClr val="bbe0e3"/>
              </a:gs>
              <a:gs pos="100000">
                <a:srgbClr val="ecf6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6227640" y="1341360"/>
            <a:ext cx="1079640" cy="36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1763640" y="1773360"/>
            <a:ext cx="12970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ple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304920" y="2971800"/>
            <a:ext cx="2948040" cy="3454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893880" y="504360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152280" y="5867280"/>
            <a:ext cx="3581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609480" y="5735520"/>
            <a:ext cx="235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533520" y="4572000"/>
            <a:ext cx="289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228600" y="3733920"/>
            <a:ext cx="32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Architectur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52280" y="5257800"/>
            <a:ext cx="3581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 flipH="1" flipV="1">
            <a:off x="380520" y="55879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 flipH="1" flipV="1">
            <a:off x="685440" y="49021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 flipH="1" flipV="1">
            <a:off x="990360" y="42163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1219320" y="4368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4038480" y="6019920"/>
            <a:ext cx="49532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the technology for each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4038480" y="4724280"/>
            <a:ext cx="495324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the cluster of administrative services which integrated the flow of operating functions and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4038480" y="4038480"/>
            <a:ext cx="495324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data for operation functio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4038480" y="3276720"/>
            <a:ext cx="49532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oper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5" name=""/>
          <p:cNvCxnSpPr>
            <a:stCxn id="3925" idx="3"/>
            <a:endCxn id="3934" idx="1"/>
          </p:cNvCxnSpPr>
          <p:nvPr/>
        </p:nvCxnSpPr>
        <p:spPr>
          <a:xfrm flipV="1">
            <a:off x="3504960" y="3460320"/>
            <a:ext cx="533880" cy="45648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6" name=""/>
          <p:cNvCxnSpPr>
            <a:stCxn id="3924" idx="3"/>
            <a:endCxn id="3933" idx="1"/>
          </p:cNvCxnSpPr>
          <p:nvPr/>
        </p:nvCxnSpPr>
        <p:spPr>
          <a:xfrm flipV="1">
            <a:off x="3428640" y="4222080"/>
            <a:ext cx="610200" cy="532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7" name=""/>
          <p:cNvCxnSpPr>
            <a:stCxn id="3926" idx="3"/>
            <a:endCxn id="3932" idx="1"/>
          </p:cNvCxnSpPr>
          <p:nvPr/>
        </p:nvCxnSpPr>
        <p:spPr>
          <a:xfrm flipV="1">
            <a:off x="3733920" y="5182920"/>
            <a:ext cx="305280" cy="257760"/>
          </a:xfrm>
          <a:prstGeom prst="curvedConnector5">
            <a:avLst>
              <a:gd name="adj1" fmla="val 49940"/>
              <a:gd name="adj2" fmla="val 49930"/>
              <a:gd name="adj3" fmla="val 4994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8" name=""/>
          <p:cNvCxnSpPr>
            <a:stCxn id="3922" idx="3"/>
            <a:endCxn id="3931" idx="1"/>
          </p:cNvCxnSpPr>
          <p:nvPr/>
        </p:nvCxnSpPr>
        <p:spPr>
          <a:xfrm>
            <a:off x="3733920" y="6049800"/>
            <a:ext cx="305280" cy="154800"/>
          </a:xfrm>
          <a:prstGeom prst="curvedConnector5">
            <a:avLst>
              <a:gd name="adj1" fmla="val 49940"/>
              <a:gd name="adj2" fmla="val 49883"/>
              <a:gd name="adj3" fmla="val 4994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sp>
        <p:nvSpPr>
          <p:cNvPr id="3939" name=""/>
          <p:cNvSpPr/>
          <p:nvPr/>
        </p:nvSpPr>
        <p:spPr>
          <a:xfrm>
            <a:off x="1066680" y="17496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e practice of applying a comprehensive and rigorous method for describing a current and/or future structure and behavior for an organization's processes, information systems, personnel and organizational sub-units, so that they align with the organization's core goals and strategic dir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152280" y="1521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A 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(Enterprise Architectu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152280" y="762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T Govern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1066680" y="990720"/>
            <a:ext cx="79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 subset discipline of Corporate Governance focused on information technology systems and their performance and risk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4" name="" descr="WIKIPEDIA"/>
          <p:cNvPicPr/>
          <p:nvPr/>
        </p:nvPicPr>
        <p:blipFill>
          <a:blip r:embed="rId5"/>
          <a:stretch/>
        </p:blipFill>
        <p:spPr>
          <a:xfrm>
            <a:off x="8001000" y="2514600"/>
            <a:ext cx="685800" cy="196920"/>
          </a:xfrm>
          <a:prstGeom prst="rect">
            <a:avLst/>
          </a:prstGeom>
          <a:ln w="0">
            <a:noFill/>
          </a:ln>
        </p:spPr>
      </p:pic>
      <p:pic>
        <p:nvPicPr>
          <p:cNvPr id="3945" name="" descr="wikipedia.o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72400" y="2514600"/>
            <a:ext cx="18108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"/>
          <p:cNvSpPr/>
          <p:nvPr/>
        </p:nvSpPr>
        <p:spPr>
          <a:xfrm>
            <a:off x="1144800" y="32400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of the New System by Optimiz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1448280" y="97776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4725000" y="9777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1479600" y="1359000"/>
            <a:ext cx="306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Finding work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Reference to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Making work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Automated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Original Master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5097960" y="1359000"/>
            <a:ext cx="232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Writ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Send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Mak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Reference to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271520" y="2820960"/>
            <a:ext cx="5978520" cy="1301760"/>
            <a:chOff x="1271520" y="2820960"/>
            <a:chExt cx="5978520" cy="1301760"/>
          </a:xfrm>
        </p:grpSpPr>
        <p:sp>
          <p:nvSpPr>
            <p:cNvPr id="3952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"/>
          <p:cNvGrpSpPr/>
          <p:nvPr/>
        </p:nvGrpSpPr>
        <p:grpSpPr>
          <a:xfrm>
            <a:off x="1271520" y="4587840"/>
            <a:ext cx="5978520" cy="1834920"/>
            <a:chOff x="1271520" y="4587840"/>
            <a:chExt cx="5978520" cy="1834920"/>
          </a:xfrm>
        </p:grpSpPr>
        <p:sp>
          <p:nvSpPr>
            <p:cNvPr id="3955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"/>
          <p:cNvGrpSpPr/>
          <p:nvPr/>
        </p:nvGrpSpPr>
        <p:grpSpPr>
          <a:xfrm>
            <a:off x="3159000" y="3160800"/>
            <a:ext cx="3875040" cy="679320"/>
            <a:chOff x="3159000" y="3160800"/>
            <a:chExt cx="3875040" cy="679320"/>
          </a:xfrm>
        </p:grpSpPr>
        <p:sp>
          <p:nvSpPr>
            <p:cNvPr id="3958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0" name=""/>
          <p:cNvSpPr/>
          <p:nvPr/>
        </p:nvSpPr>
        <p:spPr>
          <a:xfrm>
            <a:off x="4791600" y="3430440"/>
            <a:ext cx="92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ユーザアプリケーショ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1" name=""/>
          <p:cNvGrpSpPr/>
          <p:nvPr/>
        </p:nvGrpSpPr>
        <p:grpSpPr>
          <a:xfrm>
            <a:off x="1677960" y="5908680"/>
            <a:ext cx="5368680" cy="242640"/>
            <a:chOff x="1677960" y="5908680"/>
            <a:chExt cx="5368680" cy="242640"/>
          </a:xfrm>
        </p:grpSpPr>
        <p:sp>
          <p:nvSpPr>
            <p:cNvPr id="3962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4" name=""/>
          <p:cNvSpPr/>
          <p:nvPr/>
        </p:nvSpPr>
        <p:spPr>
          <a:xfrm>
            <a:off x="4292640" y="597852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記録原本」機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5" name=""/>
          <p:cNvGrpSpPr/>
          <p:nvPr/>
        </p:nvGrpSpPr>
        <p:grpSpPr>
          <a:xfrm>
            <a:off x="3170160" y="4792680"/>
            <a:ext cx="1225440" cy="407880"/>
            <a:chOff x="3170160" y="4792680"/>
            <a:chExt cx="1225440" cy="407880"/>
          </a:xfrm>
        </p:grpSpPr>
        <p:sp>
          <p:nvSpPr>
            <p:cNvPr id="3966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8" name=""/>
          <p:cNvSpPr/>
          <p:nvPr/>
        </p:nvSpPr>
        <p:spPr>
          <a:xfrm>
            <a:off x="370872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仕事契機発見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369396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0" name=""/>
          <p:cNvGrpSpPr/>
          <p:nvPr/>
        </p:nvGrpSpPr>
        <p:grpSpPr>
          <a:xfrm>
            <a:off x="4538520" y="4792680"/>
            <a:ext cx="1224000" cy="407880"/>
            <a:chOff x="4538520" y="4792680"/>
            <a:chExt cx="1224000" cy="407880"/>
          </a:xfrm>
        </p:grpSpPr>
        <p:sp>
          <p:nvSpPr>
            <p:cNvPr id="3971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3" name=""/>
          <p:cNvSpPr/>
          <p:nvPr/>
        </p:nvSpPr>
        <p:spPr>
          <a:xfrm>
            <a:off x="507708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参考書類参照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506232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5" name=""/>
          <p:cNvGrpSpPr/>
          <p:nvPr/>
        </p:nvGrpSpPr>
        <p:grpSpPr>
          <a:xfrm>
            <a:off x="5889600" y="4792680"/>
            <a:ext cx="1225440" cy="407880"/>
            <a:chOff x="5889600" y="4792680"/>
            <a:chExt cx="1225440" cy="407880"/>
          </a:xfrm>
        </p:grpSpPr>
        <p:sp>
          <p:nvSpPr>
            <p:cNvPr id="3976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8" name=""/>
          <p:cNvSpPr/>
          <p:nvPr/>
        </p:nvSpPr>
        <p:spPr>
          <a:xfrm>
            <a:off x="642960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仕事結果作成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641340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"/>
          <p:cNvGrpSpPr/>
          <p:nvPr/>
        </p:nvGrpSpPr>
        <p:grpSpPr>
          <a:xfrm>
            <a:off x="2085840" y="3160800"/>
            <a:ext cx="952560" cy="2038320"/>
            <a:chOff x="2085840" y="3160800"/>
            <a:chExt cx="952560" cy="2038320"/>
          </a:xfrm>
        </p:grpSpPr>
        <p:sp>
          <p:nvSpPr>
            <p:cNvPr id="3981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3" name=""/>
          <p:cNvSpPr/>
          <p:nvPr/>
        </p:nvSpPr>
        <p:spPr>
          <a:xfrm>
            <a:off x="2492640" y="403056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自動処理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2473200" y="420048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3514680" y="3840120"/>
            <a:ext cx="747720" cy="950760"/>
            <a:chOff x="3514680" y="3840120"/>
            <a:chExt cx="747720" cy="950760"/>
          </a:xfrm>
        </p:grpSpPr>
        <p:sp>
          <p:nvSpPr>
            <p:cNvPr id="3986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8" name=""/>
          <p:cNvSpPr/>
          <p:nvPr/>
        </p:nvSpPr>
        <p:spPr>
          <a:xfrm rot="5400000">
            <a:off x="3806640" y="42890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参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 rot="5400000">
            <a:off x="3627360" y="42854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0" name=""/>
          <p:cNvGrpSpPr/>
          <p:nvPr/>
        </p:nvGrpSpPr>
        <p:grpSpPr>
          <a:xfrm>
            <a:off x="6033960" y="5230800"/>
            <a:ext cx="884160" cy="679320"/>
            <a:chOff x="6033960" y="5230800"/>
            <a:chExt cx="884160" cy="679320"/>
          </a:xfrm>
        </p:grpSpPr>
        <p:sp>
          <p:nvSpPr>
            <p:cNvPr id="3991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3" name=""/>
          <p:cNvSpPr/>
          <p:nvPr/>
        </p:nvSpPr>
        <p:spPr>
          <a:xfrm rot="5400000">
            <a:off x="6394680" y="54525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書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 rot="5400000">
            <a:off x="6216840" y="54522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1973160" y="6218280"/>
            <a:ext cx="184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基本アーキテクチャ（基盤機能＋４プロトコル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6" name=""/>
          <p:cNvGrpSpPr/>
          <p:nvPr/>
        </p:nvGrpSpPr>
        <p:grpSpPr>
          <a:xfrm>
            <a:off x="387360" y="3227400"/>
            <a:ext cx="407880" cy="2174760"/>
            <a:chOff x="387360" y="3227400"/>
            <a:chExt cx="407880" cy="2174760"/>
          </a:xfrm>
        </p:grpSpPr>
        <p:sp>
          <p:nvSpPr>
            <p:cNvPr id="3997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noFill/>
            <a:ln cap="rnd" w="6480">
              <a:solidFill>
                <a:srgbClr val="c7c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9" name=""/>
          <p:cNvSpPr/>
          <p:nvPr/>
        </p:nvSpPr>
        <p:spPr>
          <a:xfrm rot="5400000">
            <a:off x="361080" y="4221360"/>
            <a:ext cx="41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業務モデ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1575360" y="29559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業務処理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1" name=""/>
          <p:cNvGrpSpPr/>
          <p:nvPr/>
        </p:nvGrpSpPr>
        <p:grpSpPr>
          <a:xfrm>
            <a:off x="4811760" y="5224320"/>
            <a:ext cx="814320" cy="679320"/>
            <a:chOff x="4811760" y="5224320"/>
            <a:chExt cx="814320" cy="679320"/>
          </a:xfrm>
        </p:grpSpPr>
        <p:sp>
          <p:nvSpPr>
            <p:cNvPr id="4002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4" name=""/>
          <p:cNvSpPr/>
          <p:nvPr/>
        </p:nvSpPr>
        <p:spPr>
          <a:xfrm rot="5400000">
            <a:off x="5139000" y="5520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 rot="5400000">
            <a:off x="4959360" y="55188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6" name=""/>
          <p:cNvGrpSpPr/>
          <p:nvPr/>
        </p:nvGrpSpPr>
        <p:grpSpPr>
          <a:xfrm>
            <a:off x="3451320" y="5224320"/>
            <a:ext cx="814320" cy="679320"/>
            <a:chOff x="3451320" y="5224320"/>
            <a:chExt cx="814320" cy="679320"/>
          </a:xfrm>
        </p:grpSpPr>
        <p:sp>
          <p:nvSpPr>
            <p:cNvPr id="4007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9" name=""/>
          <p:cNvSpPr/>
          <p:nvPr/>
        </p:nvSpPr>
        <p:spPr>
          <a:xfrm rot="5400000">
            <a:off x="3777840" y="5520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 rot="5400000">
            <a:off x="3598920" y="55188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1" name=""/>
          <p:cNvGrpSpPr/>
          <p:nvPr/>
        </p:nvGrpSpPr>
        <p:grpSpPr>
          <a:xfrm>
            <a:off x="2427120" y="5199120"/>
            <a:ext cx="814320" cy="679320"/>
            <a:chOff x="2427120" y="5199120"/>
            <a:chExt cx="814320" cy="679320"/>
          </a:xfrm>
        </p:grpSpPr>
        <p:sp>
          <p:nvSpPr>
            <p:cNvPr id="4012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4" name=""/>
          <p:cNvSpPr/>
          <p:nvPr/>
        </p:nvSpPr>
        <p:spPr>
          <a:xfrm rot="5400000">
            <a:off x="2752920" y="5493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 rot="5400000">
            <a:off x="2575080" y="549216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6" name=""/>
          <p:cNvGrpSpPr/>
          <p:nvPr/>
        </p:nvGrpSpPr>
        <p:grpSpPr>
          <a:xfrm>
            <a:off x="590400" y="3160800"/>
            <a:ext cx="577800" cy="679320"/>
            <a:chOff x="590400" y="3160800"/>
            <a:chExt cx="577800" cy="679320"/>
          </a:xfrm>
        </p:grpSpPr>
        <p:sp>
          <p:nvSpPr>
            <p:cNvPr id="4017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9" name=""/>
          <p:cNvSpPr/>
          <p:nvPr/>
        </p:nvSpPr>
        <p:spPr>
          <a:xfrm>
            <a:off x="766800" y="33512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分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66800" y="352440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抽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1" name=""/>
          <p:cNvGrpSpPr/>
          <p:nvPr/>
        </p:nvGrpSpPr>
        <p:grpSpPr>
          <a:xfrm>
            <a:off x="590400" y="4724280"/>
            <a:ext cx="577800" cy="679320"/>
            <a:chOff x="590400" y="4724280"/>
            <a:chExt cx="577800" cy="679320"/>
          </a:xfrm>
        </p:grpSpPr>
        <p:sp>
          <p:nvSpPr>
            <p:cNvPr id="4022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4" name=""/>
          <p:cNvSpPr/>
          <p:nvPr/>
        </p:nvSpPr>
        <p:spPr>
          <a:xfrm>
            <a:off x="766800" y="500076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制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5" name=""/>
          <p:cNvGrpSpPr/>
          <p:nvPr/>
        </p:nvGrpSpPr>
        <p:grpSpPr>
          <a:xfrm>
            <a:off x="1746360" y="5229360"/>
            <a:ext cx="884160" cy="680760"/>
            <a:chOff x="1746360" y="5229360"/>
            <a:chExt cx="884160" cy="680760"/>
          </a:xfrm>
        </p:grpSpPr>
        <p:sp>
          <p:nvSpPr>
            <p:cNvPr id="4026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8" name=""/>
          <p:cNvSpPr/>
          <p:nvPr/>
        </p:nvSpPr>
        <p:spPr>
          <a:xfrm rot="5400000">
            <a:off x="2107800" y="54525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書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 rot="5400000">
            <a:off x="1928880" y="545076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7250040" y="3138480"/>
            <a:ext cx="746280" cy="334800"/>
          </a:xfrm>
          <a:custGeom>
            <a:avLst/>
            <a:gdLst/>
            <a:ahLst/>
            <a:rect l="l" t="t" r="r" b="b"/>
            <a:pathLst>
              <a:path w="470" h="211">
                <a:moveTo>
                  <a:pt x="0" y="211"/>
                </a:moveTo>
                <a:lnTo>
                  <a:pt x="227" y="211"/>
                </a:lnTo>
                <a:lnTo>
                  <a:pt x="227" y="0"/>
                </a:lnTo>
                <a:lnTo>
                  <a:pt x="470" y="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7250040" y="3473280"/>
            <a:ext cx="679680" cy="857520"/>
          </a:xfrm>
          <a:custGeom>
            <a:avLst/>
            <a:gdLst/>
            <a:ahLst/>
            <a:rect l="l" t="t" r="r" b="b"/>
            <a:pathLst>
              <a:path w="428" h="540">
                <a:moveTo>
                  <a:pt x="0" y="0"/>
                </a:moveTo>
                <a:lnTo>
                  <a:pt x="221" y="0"/>
                </a:lnTo>
                <a:lnTo>
                  <a:pt x="221" y="540"/>
                </a:lnTo>
                <a:lnTo>
                  <a:pt x="428" y="54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2" name=""/>
          <p:cNvGrpSpPr/>
          <p:nvPr/>
        </p:nvGrpSpPr>
        <p:grpSpPr>
          <a:xfrm>
            <a:off x="7939080" y="3774960"/>
            <a:ext cx="649440" cy="879480"/>
            <a:chOff x="7939080" y="3774960"/>
            <a:chExt cx="649440" cy="879480"/>
          </a:xfrm>
        </p:grpSpPr>
        <p:sp>
          <p:nvSpPr>
            <p:cNvPr id="4033" name=""/>
            <p:cNvSpPr/>
            <p:nvPr/>
          </p:nvSpPr>
          <p:spPr>
            <a:xfrm>
              <a:off x="7939080" y="3774960"/>
              <a:ext cx="649440" cy="879480"/>
            </a:xfrm>
            <a:custGeom>
              <a:avLst/>
              <a:gdLst/>
              <a:ahLst/>
              <a:rect l="l" t="t" r="r" b="b"/>
              <a:pathLst>
                <a:path w="409" h="554">
                  <a:moveTo>
                    <a:pt x="0" y="84"/>
                  </a:moveTo>
                  <a:lnTo>
                    <a:pt x="0" y="512"/>
                  </a:lnTo>
                  <a:lnTo>
                    <a:pt x="323" y="554"/>
                  </a:lnTo>
                  <a:lnTo>
                    <a:pt x="409" y="445"/>
                  </a:lnTo>
                  <a:lnTo>
                    <a:pt x="409" y="34"/>
                  </a:lnTo>
                  <a:lnTo>
                    <a:pt x="401" y="17"/>
                  </a:lnTo>
                  <a:lnTo>
                    <a:pt x="103" y="0"/>
                  </a:lnTo>
                  <a:lnTo>
                    <a:pt x="63" y="1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8040960" y="3801960"/>
              <a:ext cx="485640" cy="25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939080" y="3960720"/>
              <a:ext cx="50040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939080" y="4055760"/>
              <a:ext cx="500400" cy="255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V="1">
              <a:off x="8464680" y="4001400"/>
              <a:ext cx="123840" cy="795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V="1">
              <a:off x="8450280" y="3960360"/>
              <a:ext cx="6372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 flipV="1">
              <a:off x="8514000" y="3843360"/>
              <a:ext cx="48960" cy="1173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8562960" y="3801600"/>
              <a:ext cx="14400" cy="41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7939080" y="3922560"/>
              <a:ext cx="51300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8450280" y="3949560"/>
              <a:ext cx="1800" cy="70488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V="1">
              <a:off x="8450280" y="3827160"/>
              <a:ext cx="76320" cy="122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8526600" y="3801960"/>
              <a:ext cx="50760" cy="25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 flipV="1">
              <a:off x="8461440" y="3933720"/>
              <a:ext cx="1800" cy="70632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 flipV="1">
              <a:off x="8089920" y="3827160"/>
              <a:ext cx="25560" cy="68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H="1" flipV="1">
              <a:off x="8115480" y="3826800"/>
              <a:ext cx="285840" cy="16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H="1" flipV="1">
              <a:off x="8089560" y="3895200"/>
              <a:ext cx="211320" cy="126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9" name=""/>
          <p:cNvSpPr/>
          <p:nvPr/>
        </p:nvSpPr>
        <p:spPr>
          <a:xfrm>
            <a:off x="8128080" y="426564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画面印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7889760" y="3887640"/>
            <a:ext cx="405000" cy="257400"/>
          </a:xfrm>
          <a:custGeom>
            <a:avLst/>
            <a:gdLst/>
            <a:ahLst/>
            <a:rect l="l" t="t" r="r" b="b"/>
            <a:pathLst>
              <a:path w="255" h="162">
                <a:moveTo>
                  <a:pt x="128" y="0"/>
                </a:moveTo>
                <a:lnTo>
                  <a:pt x="26" y="97"/>
                </a:lnTo>
                <a:lnTo>
                  <a:pt x="0" y="130"/>
                </a:lnTo>
                <a:lnTo>
                  <a:pt x="204" y="162"/>
                </a:lnTo>
                <a:lnTo>
                  <a:pt x="255" y="162"/>
                </a:lnTo>
                <a:lnTo>
                  <a:pt x="255" y="0"/>
                </a:lnTo>
                <a:lnTo>
                  <a:pt x="128" y="0"/>
                </a:lnTo>
                <a:close/>
              </a:path>
            </a:pathLst>
          </a:custGeom>
          <a:solidFill>
            <a:srgbClr val="c7c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8093160" y="394020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8074080" y="396396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8040600" y="3990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8034480" y="4017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5" name=""/>
          <p:cNvGrpSpPr/>
          <p:nvPr/>
        </p:nvGrpSpPr>
        <p:grpSpPr>
          <a:xfrm>
            <a:off x="7996320" y="2832120"/>
            <a:ext cx="614160" cy="745920"/>
            <a:chOff x="7996320" y="2832120"/>
            <a:chExt cx="614160" cy="745920"/>
          </a:xfrm>
        </p:grpSpPr>
        <p:sp>
          <p:nvSpPr>
            <p:cNvPr id="4056" name=""/>
            <p:cNvSpPr/>
            <p:nvPr/>
          </p:nvSpPr>
          <p:spPr>
            <a:xfrm>
              <a:off x="7996320" y="2832120"/>
              <a:ext cx="614160" cy="614160"/>
            </a:xfrm>
            <a:custGeom>
              <a:avLst/>
              <a:gdLst/>
              <a:ahLst/>
              <a:rect l="l" t="t" r="r" b="b"/>
              <a:pathLst>
                <a:path w="387" h="387">
                  <a:moveTo>
                    <a:pt x="0" y="0"/>
                  </a:moveTo>
                  <a:lnTo>
                    <a:pt x="0" y="387"/>
                  </a:lnTo>
                  <a:lnTo>
                    <a:pt x="387" y="387"/>
                  </a:lnTo>
                  <a:lnTo>
                    <a:pt x="387" y="0"/>
                  </a:lnTo>
                  <a:lnTo>
                    <a:pt x="0" y="0"/>
                  </a:lnTo>
                  <a:close/>
                  <a:moveTo>
                    <a:pt x="26" y="26"/>
                  </a:moveTo>
                  <a:lnTo>
                    <a:pt x="26" y="361"/>
                  </a:lnTo>
                  <a:lnTo>
                    <a:pt x="362" y="361"/>
                  </a:lnTo>
                  <a:lnTo>
                    <a:pt x="362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040600" y="2887560"/>
              <a:ext cx="523440" cy="485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14840" y="312732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G丸ｺﾞｼｯｸM-PRO"/>
                  <a:ea typeface="HG丸ｺﾞｼｯｸM-PRO"/>
                </a:rPr>
                <a:t>画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199360" y="3457440"/>
              <a:ext cx="221760" cy="52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102520" y="3519360"/>
              <a:ext cx="402840" cy="58680"/>
            </a:xfrm>
            <a:custGeom>
              <a:avLst/>
              <a:gdLst/>
              <a:ahLst/>
              <a:rect l="l" t="t" r="r" b="b"/>
              <a:pathLst>
                <a:path w="254" h="37">
                  <a:moveTo>
                    <a:pt x="0" y="37"/>
                  </a:moveTo>
                  <a:lnTo>
                    <a:pt x="24" y="0"/>
                  </a:lnTo>
                  <a:lnTo>
                    <a:pt x="231" y="0"/>
                  </a:lnTo>
                  <a:lnTo>
                    <a:pt x="25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8029440" y="3384360"/>
              <a:ext cx="547200" cy="5076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8484840" y="3403440"/>
              <a:ext cx="20520" cy="27000"/>
            </a:xfrm>
            <a:prstGeom prst="ellipse">
              <a:avLst/>
            </a:prstGeom>
            <a:solidFill>
              <a:srgbClr val="7889f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8515080" y="3403440"/>
              <a:ext cx="21960" cy="27000"/>
            </a:xfrm>
            <a:prstGeom prst="ellipse">
              <a:avLst/>
            </a:prstGeom>
            <a:solidFill>
              <a:srgbClr val="7889f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4" name=""/>
          <p:cNvGrpSpPr/>
          <p:nvPr/>
        </p:nvGrpSpPr>
        <p:grpSpPr>
          <a:xfrm>
            <a:off x="6159600" y="3840120"/>
            <a:ext cx="747720" cy="950760"/>
            <a:chOff x="6159600" y="3840120"/>
            <a:chExt cx="747720" cy="950760"/>
          </a:xfrm>
        </p:grpSpPr>
        <p:sp>
          <p:nvSpPr>
            <p:cNvPr id="4065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7" name=""/>
          <p:cNvSpPr/>
          <p:nvPr/>
        </p:nvSpPr>
        <p:spPr>
          <a:xfrm rot="5400000">
            <a:off x="6453000" y="4179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作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 rot="5400000">
            <a:off x="6274440" y="41774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9" name=""/>
          <p:cNvGrpSpPr/>
          <p:nvPr/>
        </p:nvGrpSpPr>
        <p:grpSpPr>
          <a:xfrm>
            <a:off x="4803840" y="3840120"/>
            <a:ext cx="747720" cy="952560"/>
            <a:chOff x="4803840" y="3840120"/>
            <a:chExt cx="747720" cy="952560"/>
          </a:xfrm>
        </p:grpSpPr>
        <p:sp>
          <p:nvSpPr>
            <p:cNvPr id="4070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2" name=""/>
          <p:cNvSpPr/>
          <p:nvPr/>
        </p:nvSpPr>
        <p:spPr>
          <a:xfrm rot="5400000">
            <a:off x="5095440" y="429048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参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 rot="5400000">
            <a:off x="4918680" y="42872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4" name=""/>
          <p:cNvGrpSpPr/>
          <p:nvPr/>
        </p:nvGrpSpPr>
        <p:grpSpPr>
          <a:xfrm>
            <a:off x="1271520" y="2820960"/>
            <a:ext cx="5978520" cy="1301760"/>
            <a:chOff x="1271520" y="2820960"/>
            <a:chExt cx="5978520" cy="1301760"/>
          </a:xfrm>
        </p:grpSpPr>
        <p:sp>
          <p:nvSpPr>
            <p:cNvPr id="4075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7" name=""/>
          <p:cNvGrpSpPr/>
          <p:nvPr/>
        </p:nvGrpSpPr>
        <p:grpSpPr>
          <a:xfrm>
            <a:off x="1271520" y="4587840"/>
            <a:ext cx="5978520" cy="1834920"/>
            <a:chOff x="1271520" y="4587840"/>
            <a:chExt cx="5978520" cy="1834920"/>
          </a:xfrm>
        </p:grpSpPr>
        <p:sp>
          <p:nvSpPr>
            <p:cNvPr id="4078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3159000" y="3160800"/>
            <a:ext cx="3875040" cy="679320"/>
            <a:chOff x="3159000" y="3160800"/>
            <a:chExt cx="3875040" cy="679320"/>
          </a:xfrm>
        </p:grpSpPr>
        <p:sp>
          <p:nvSpPr>
            <p:cNvPr id="4081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3" name=""/>
          <p:cNvSpPr/>
          <p:nvPr/>
        </p:nvSpPr>
        <p:spPr>
          <a:xfrm>
            <a:off x="4484880" y="3430440"/>
            <a:ext cx="101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User 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4" name=""/>
          <p:cNvGrpSpPr/>
          <p:nvPr/>
        </p:nvGrpSpPr>
        <p:grpSpPr>
          <a:xfrm>
            <a:off x="1677960" y="5908680"/>
            <a:ext cx="5368680" cy="242640"/>
            <a:chOff x="1677960" y="5908680"/>
            <a:chExt cx="5368680" cy="242640"/>
          </a:xfrm>
        </p:grpSpPr>
        <p:sp>
          <p:nvSpPr>
            <p:cNvPr id="4085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7" name=""/>
          <p:cNvSpPr/>
          <p:nvPr/>
        </p:nvSpPr>
        <p:spPr>
          <a:xfrm>
            <a:off x="3884400" y="5978520"/>
            <a:ext cx="161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Original Master Fil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8" name=""/>
          <p:cNvGrpSpPr/>
          <p:nvPr/>
        </p:nvGrpSpPr>
        <p:grpSpPr>
          <a:xfrm>
            <a:off x="3170160" y="4792680"/>
            <a:ext cx="1225440" cy="407880"/>
            <a:chOff x="3170160" y="4792680"/>
            <a:chExt cx="1225440" cy="407880"/>
          </a:xfrm>
        </p:grpSpPr>
        <p:sp>
          <p:nvSpPr>
            <p:cNvPr id="4089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1" name=""/>
          <p:cNvSpPr/>
          <p:nvPr/>
        </p:nvSpPr>
        <p:spPr>
          <a:xfrm>
            <a:off x="3197160" y="480060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inding work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3636000" y="5019840"/>
            <a:ext cx="58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3" name=""/>
          <p:cNvGrpSpPr/>
          <p:nvPr/>
        </p:nvGrpSpPr>
        <p:grpSpPr>
          <a:xfrm>
            <a:off x="4538520" y="4792680"/>
            <a:ext cx="1224000" cy="407880"/>
            <a:chOff x="4538520" y="4792680"/>
            <a:chExt cx="1224000" cy="407880"/>
          </a:xfrm>
        </p:grpSpPr>
        <p:sp>
          <p:nvSpPr>
            <p:cNvPr id="4094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6" name=""/>
          <p:cNvSpPr/>
          <p:nvPr/>
        </p:nvSpPr>
        <p:spPr>
          <a:xfrm>
            <a:off x="4523760" y="4800600"/>
            <a:ext cx="11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Referenc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Documents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7" name=""/>
          <p:cNvGrpSpPr/>
          <p:nvPr/>
        </p:nvGrpSpPr>
        <p:grpSpPr>
          <a:xfrm>
            <a:off x="5889600" y="4792680"/>
            <a:ext cx="1225440" cy="407880"/>
            <a:chOff x="5889600" y="4792680"/>
            <a:chExt cx="1225440" cy="407880"/>
          </a:xfrm>
        </p:grpSpPr>
        <p:sp>
          <p:nvSpPr>
            <p:cNvPr id="4098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0" name=""/>
          <p:cNvSpPr/>
          <p:nvPr/>
        </p:nvSpPr>
        <p:spPr>
          <a:xfrm>
            <a:off x="5914800" y="480060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Making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results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2085840" y="3160800"/>
            <a:ext cx="952560" cy="2038320"/>
            <a:chOff x="2085840" y="3160800"/>
            <a:chExt cx="952560" cy="2038320"/>
          </a:xfrm>
        </p:grpSpPr>
        <p:sp>
          <p:nvSpPr>
            <p:cNvPr id="4102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4" name=""/>
          <p:cNvSpPr/>
          <p:nvPr/>
        </p:nvSpPr>
        <p:spPr>
          <a:xfrm>
            <a:off x="2131560" y="4038480"/>
            <a:ext cx="81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Automate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2133360" y="4379760"/>
            <a:ext cx="53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6" name=""/>
          <p:cNvGrpSpPr/>
          <p:nvPr/>
        </p:nvGrpSpPr>
        <p:grpSpPr>
          <a:xfrm>
            <a:off x="3514680" y="3840120"/>
            <a:ext cx="747720" cy="950760"/>
            <a:chOff x="3514680" y="3840120"/>
            <a:chExt cx="747720" cy="950760"/>
          </a:xfrm>
        </p:grpSpPr>
        <p:sp>
          <p:nvSpPr>
            <p:cNvPr id="4107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9" name=""/>
          <p:cNvSpPr/>
          <p:nvPr/>
        </p:nvSpPr>
        <p:spPr>
          <a:xfrm rot="5400000">
            <a:off x="3631680" y="4245840"/>
            <a:ext cx="69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eference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 rot="5400000">
            <a:off x="3495960" y="42559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6033960" y="5230800"/>
            <a:ext cx="884160" cy="679320"/>
            <a:chOff x="6033960" y="5230800"/>
            <a:chExt cx="884160" cy="679320"/>
          </a:xfrm>
        </p:grpSpPr>
        <p:sp>
          <p:nvSpPr>
            <p:cNvPr id="4112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4" name=""/>
          <p:cNvSpPr/>
          <p:nvPr/>
        </p:nvSpPr>
        <p:spPr>
          <a:xfrm rot="5400000">
            <a:off x="63309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Writ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 rot="5400000">
            <a:off x="6085440" y="54226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1525680" y="6218280"/>
            <a:ext cx="367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Basic Architecture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Foundation Function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＋４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tocols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7" name=""/>
          <p:cNvGrpSpPr/>
          <p:nvPr/>
        </p:nvGrpSpPr>
        <p:grpSpPr>
          <a:xfrm>
            <a:off x="387360" y="3227400"/>
            <a:ext cx="407880" cy="2174760"/>
            <a:chOff x="387360" y="3227400"/>
            <a:chExt cx="407880" cy="2174760"/>
          </a:xfrm>
        </p:grpSpPr>
        <p:sp>
          <p:nvSpPr>
            <p:cNvPr id="4118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noFill/>
            <a:ln cap="rnd" w="6480">
              <a:solidFill>
                <a:srgbClr val="c7c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0" name=""/>
          <p:cNvSpPr/>
          <p:nvPr/>
        </p:nvSpPr>
        <p:spPr>
          <a:xfrm rot="5400000">
            <a:off x="-91080" y="44280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1404000" y="2955960"/>
            <a:ext cx="1645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unctions to manage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2" name=""/>
          <p:cNvGrpSpPr/>
          <p:nvPr/>
        </p:nvGrpSpPr>
        <p:grpSpPr>
          <a:xfrm>
            <a:off x="4811760" y="5224320"/>
            <a:ext cx="814320" cy="679320"/>
            <a:chOff x="4811760" y="5224320"/>
            <a:chExt cx="814320" cy="679320"/>
          </a:xfrm>
        </p:grpSpPr>
        <p:sp>
          <p:nvSpPr>
            <p:cNvPr id="4123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5" name=""/>
          <p:cNvSpPr/>
          <p:nvPr/>
        </p:nvSpPr>
        <p:spPr>
          <a:xfrm rot="5400000">
            <a:off x="4827960" y="5489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6" name=""/>
          <p:cNvGrpSpPr/>
          <p:nvPr/>
        </p:nvGrpSpPr>
        <p:grpSpPr>
          <a:xfrm>
            <a:off x="3451320" y="5224320"/>
            <a:ext cx="814320" cy="679320"/>
            <a:chOff x="3451320" y="5224320"/>
            <a:chExt cx="814320" cy="679320"/>
          </a:xfrm>
        </p:grpSpPr>
        <p:sp>
          <p:nvSpPr>
            <p:cNvPr id="4127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9" name=""/>
          <p:cNvSpPr/>
          <p:nvPr/>
        </p:nvSpPr>
        <p:spPr>
          <a:xfrm rot="5400000">
            <a:off x="3467520" y="5489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0" name=""/>
          <p:cNvGrpSpPr/>
          <p:nvPr/>
        </p:nvGrpSpPr>
        <p:grpSpPr>
          <a:xfrm>
            <a:off x="2427120" y="5199120"/>
            <a:ext cx="814320" cy="679320"/>
            <a:chOff x="2427120" y="5199120"/>
            <a:chExt cx="814320" cy="679320"/>
          </a:xfrm>
        </p:grpSpPr>
        <p:sp>
          <p:nvSpPr>
            <p:cNvPr id="4131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3" name=""/>
          <p:cNvSpPr/>
          <p:nvPr/>
        </p:nvSpPr>
        <p:spPr>
          <a:xfrm rot="5400000">
            <a:off x="26733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 rot="5400000">
            <a:off x="2443680" y="54626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5" name=""/>
          <p:cNvGrpSpPr/>
          <p:nvPr/>
        </p:nvGrpSpPr>
        <p:grpSpPr>
          <a:xfrm>
            <a:off x="590400" y="3160800"/>
            <a:ext cx="577800" cy="679320"/>
            <a:chOff x="590400" y="3160800"/>
            <a:chExt cx="577800" cy="679320"/>
          </a:xfrm>
        </p:grpSpPr>
        <p:sp>
          <p:nvSpPr>
            <p:cNvPr id="4136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8" name=""/>
          <p:cNvSpPr/>
          <p:nvPr/>
        </p:nvSpPr>
        <p:spPr>
          <a:xfrm>
            <a:off x="711720" y="3351240"/>
            <a:ext cx="497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nalyz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708840" y="352440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xtr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0" name=""/>
          <p:cNvGrpSpPr/>
          <p:nvPr/>
        </p:nvGrpSpPr>
        <p:grpSpPr>
          <a:xfrm>
            <a:off x="590400" y="4724280"/>
            <a:ext cx="577800" cy="679320"/>
            <a:chOff x="590400" y="4724280"/>
            <a:chExt cx="577800" cy="679320"/>
          </a:xfrm>
        </p:grpSpPr>
        <p:sp>
          <p:nvSpPr>
            <p:cNvPr id="4141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3" name=""/>
          <p:cNvSpPr/>
          <p:nvPr/>
        </p:nvSpPr>
        <p:spPr>
          <a:xfrm>
            <a:off x="711000" y="5000760"/>
            <a:ext cx="45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4" name=""/>
          <p:cNvGrpSpPr/>
          <p:nvPr/>
        </p:nvGrpSpPr>
        <p:grpSpPr>
          <a:xfrm>
            <a:off x="1746360" y="5229360"/>
            <a:ext cx="884160" cy="680760"/>
            <a:chOff x="1746360" y="5229360"/>
            <a:chExt cx="884160" cy="680760"/>
          </a:xfrm>
        </p:grpSpPr>
        <p:sp>
          <p:nvSpPr>
            <p:cNvPr id="4145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7" name=""/>
          <p:cNvSpPr/>
          <p:nvPr/>
        </p:nvSpPr>
        <p:spPr>
          <a:xfrm rot="5400000">
            <a:off x="1987560" y="53744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k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 rot="5400000">
            <a:off x="1797480" y="54212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7250040" y="3138480"/>
            <a:ext cx="746280" cy="334800"/>
          </a:xfrm>
          <a:custGeom>
            <a:avLst/>
            <a:gdLst/>
            <a:ahLst/>
            <a:rect l="l" t="t" r="r" b="b"/>
            <a:pathLst>
              <a:path w="470" h="211">
                <a:moveTo>
                  <a:pt x="0" y="211"/>
                </a:moveTo>
                <a:lnTo>
                  <a:pt x="227" y="211"/>
                </a:lnTo>
                <a:lnTo>
                  <a:pt x="227" y="0"/>
                </a:lnTo>
                <a:lnTo>
                  <a:pt x="470" y="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7250040" y="3473280"/>
            <a:ext cx="679680" cy="857520"/>
          </a:xfrm>
          <a:custGeom>
            <a:avLst/>
            <a:gdLst/>
            <a:ahLst/>
            <a:rect l="l" t="t" r="r" b="b"/>
            <a:pathLst>
              <a:path w="428" h="540">
                <a:moveTo>
                  <a:pt x="0" y="0"/>
                </a:moveTo>
                <a:lnTo>
                  <a:pt x="221" y="0"/>
                </a:lnTo>
                <a:lnTo>
                  <a:pt x="221" y="540"/>
                </a:lnTo>
                <a:lnTo>
                  <a:pt x="428" y="54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7939080" y="3774960"/>
            <a:ext cx="649440" cy="879480"/>
          </a:xfrm>
          <a:custGeom>
            <a:avLst/>
            <a:gdLst/>
            <a:ahLst/>
            <a:rect l="l" t="t" r="r" b="b"/>
            <a:pathLst>
              <a:path w="409" h="554">
                <a:moveTo>
                  <a:pt x="0" y="84"/>
                </a:moveTo>
                <a:lnTo>
                  <a:pt x="0" y="512"/>
                </a:lnTo>
                <a:lnTo>
                  <a:pt x="323" y="554"/>
                </a:lnTo>
                <a:lnTo>
                  <a:pt x="409" y="445"/>
                </a:lnTo>
                <a:lnTo>
                  <a:pt x="409" y="34"/>
                </a:lnTo>
                <a:lnTo>
                  <a:pt x="401" y="17"/>
                </a:lnTo>
                <a:lnTo>
                  <a:pt x="103" y="0"/>
                </a:lnTo>
                <a:lnTo>
                  <a:pt x="63" y="17"/>
                </a:lnTo>
                <a:lnTo>
                  <a:pt x="0" y="8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8040600" y="3801960"/>
            <a:ext cx="48600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7939080" y="3960720"/>
            <a:ext cx="5000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7939080" y="4056120"/>
            <a:ext cx="500040" cy="25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 flipV="1">
            <a:off x="8464680" y="4002120"/>
            <a:ext cx="123840" cy="79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8450280" y="3960360"/>
            <a:ext cx="6336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 flipV="1">
            <a:off x="8513640" y="3843360"/>
            <a:ext cx="49320" cy="1173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 flipV="1">
            <a:off x="8562960" y="3801600"/>
            <a:ext cx="14400" cy="414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7939080" y="3922560"/>
            <a:ext cx="5126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 flipV="1">
            <a:off x="8450280" y="3949560"/>
            <a:ext cx="1440" cy="7048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 flipV="1">
            <a:off x="8450280" y="3827160"/>
            <a:ext cx="7632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 flipV="1">
            <a:off x="8526600" y="3801600"/>
            <a:ext cx="5076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 flipV="1">
            <a:off x="8461440" y="3933360"/>
            <a:ext cx="144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 flipV="1">
            <a:off x="8089920" y="3827160"/>
            <a:ext cx="25560" cy="68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 flipH="1" flipV="1">
            <a:off x="8115120" y="3827520"/>
            <a:ext cx="285480" cy="158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 flipH="1" flipV="1">
            <a:off x="8089920" y="3895560"/>
            <a:ext cx="210960" cy="129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7939080" y="3774960"/>
            <a:ext cx="649440" cy="879480"/>
          </a:xfrm>
          <a:custGeom>
            <a:avLst/>
            <a:gdLst/>
            <a:ahLst/>
            <a:rect l="l" t="t" r="r" b="b"/>
            <a:pathLst>
              <a:path w="409" h="554">
                <a:moveTo>
                  <a:pt x="0" y="84"/>
                </a:moveTo>
                <a:lnTo>
                  <a:pt x="0" y="512"/>
                </a:lnTo>
                <a:lnTo>
                  <a:pt x="323" y="554"/>
                </a:lnTo>
                <a:lnTo>
                  <a:pt x="409" y="445"/>
                </a:lnTo>
                <a:lnTo>
                  <a:pt x="409" y="34"/>
                </a:lnTo>
                <a:lnTo>
                  <a:pt x="401" y="17"/>
                </a:lnTo>
                <a:lnTo>
                  <a:pt x="103" y="0"/>
                </a:lnTo>
                <a:lnTo>
                  <a:pt x="63" y="17"/>
                </a:lnTo>
                <a:lnTo>
                  <a:pt x="0" y="8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8040600" y="3801960"/>
            <a:ext cx="48600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7939080" y="3960720"/>
            <a:ext cx="5000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7939080" y="4056120"/>
            <a:ext cx="500040" cy="25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 flipV="1">
            <a:off x="8464680" y="4002120"/>
            <a:ext cx="123840" cy="79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 flipV="1">
            <a:off x="8450280" y="3960360"/>
            <a:ext cx="6336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 flipV="1">
            <a:off x="8513640" y="3843360"/>
            <a:ext cx="49320" cy="1173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 flipV="1">
            <a:off x="8562960" y="3801600"/>
            <a:ext cx="14400" cy="414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7939080" y="3922560"/>
            <a:ext cx="5126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 flipV="1">
            <a:off x="8450280" y="3949560"/>
            <a:ext cx="1440" cy="7048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 flipV="1">
            <a:off x="8450280" y="3827160"/>
            <a:ext cx="7632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 flipV="1">
            <a:off x="8526600" y="3801600"/>
            <a:ext cx="5076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8461440" y="3933360"/>
            <a:ext cx="144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 flipV="1">
            <a:off x="8089920" y="3827160"/>
            <a:ext cx="25560" cy="68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 flipH="1" flipV="1">
            <a:off x="8115120" y="3827520"/>
            <a:ext cx="285480" cy="158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 flipH="1" flipV="1">
            <a:off x="8089920" y="3895560"/>
            <a:ext cx="210960" cy="129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8015040" y="4265640"/>
            <a:ext cx="771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  <a:ea typeface="HG丸ｺﾞｼｯｸM-PRO"/>
              </a:rPr>
              <a:t>Screen Pr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7889760" y="3887640"/>
            <a:ext cx="405000" cy="257400"/>
          </a:xfrm>
          <a:custGeom>
            <a:avLst/>
            <a:gdLst/>
            <a:ahLst/>
            <a:rect l="l" t="t" r="r" b="b"/>
            <a:pathLst>
              <a:path w="255" h="162">
                <a:moveTo>
                  <a:pt x="128" y="0"/>
                </a:moveTo>
                <a:lnTo>
                  <a:pt x="26" y="97"/>
                </a:lnTo>
                <a:lnTo>
                  <a:pt x="0" y="130"/>
                </a:lnTo>
                <a:lnTo>
                  <a:pt x="204" y="162"/>
                </a:lnTo>
                <a:lnTo>
                  <a:pt x="255" y="162"/>
                </a:lnTo>
                <a:lnTo>
                  <a:pt x="255" y="0"/>
                </a:lnTo>
                <a:lnTo>
                  <a:pt x="128" y="0"/>
                </a:lnTo>
                <a:close/>
              </a:path>
            </a:pathLst>
          </a:custGeom>
          <a:solidFill>
            <a:srgbClr val="c7c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8093160" y="394020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8074080" y="396396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8040600" y="3990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8034480" y="4017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7996320" y="2832120"/>
            <a:ext cx="614160" cy="614520"/>
          </a:xfrm>
          <a:custGeom>
            <a:avLst/>
            <a:gdLst/>
            <a:ahLst/>
            <a:rect l="l" t="t" r="r" b="b"/>
            <a:pathLst>
              <a:path w="387" h="387">
                <a:moveTo>
                  <a:pt x="0" y="0"/>
                </a:moveTo>
                <a:lnTo>
                  <a:pt x="0" y="387"/>
                </a:lnTo>
                <a:lnTo>
                  <a:pt x="387" y="387"/>
                </a:lnTo>
                <a:lnTo>
                  <a:pt x="387" y="0"/>
                </a:lnTo>
                <a:lnTo>
                  <a:pt x="0" y="0"/>
                </a:lnTo>
                <a:close/>
                <a:moveTo>
                  <a:pt x="26" y="26"/>
                </a:moveTo>
                <a:lnTo>
                  <a:pt x="26" y="361"/>
                </a:lnTo>
                <a:lnTo>
                  <a:pt x="362" y="361"/>
                </a:lnTo>
                <a:lnTo>
                  <a:pt x="362" y="26"/>
                </a:lnTo>
                <a:lnTo>
                  <a:pt x="26" y="26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8040600" y="2887560"/>
            <a:ext cx="523800" cy="486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8215200" y="312732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画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8199360" y="3457440"/>
            <a:ext cx="222480" cy="525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8102520" y="3519360"/>
            <a:ext cx="403200" cy="59040"/>
          </a:xfrm>
          <a:custGeom>
            <a:avLst/>
            <a:gdLst/>
            <a:ahLst/>
            <a:rect l="l" t="t" r="r" b="b"/>
            <a:pathLst>
              <a:path w="254" h="37">
                <a:moveTo>
                  <a:pt x="0" y="37"/>
                </a:moveTo>
                <a:lnTo>
                  <a:pt x="24" y="0"/>
                </a:lnTo>
                <a:lnTo>
                  <a:pt x="231" y="0"/>
                </a:lnTo>
                <a:lnTo>
                  <a:pt x="254" y="37"/>
                </a:lnTo>
                <a:lnTo>
                  <a:pt x="0" y="37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8029440" y="3384720"/>
            <a:ext cx="547920" cy="507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8485200" y="3403440"/>
            <a:ext cx="2052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8515440" y="3403440"/>
            <a:ext cx="2196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7996320" y="2832120"/>
            <a:ext cx="614160" cy="614520"/>
          </a:xfrm>
          <a:custGeom>
            <a:avLst/>
            <a:gdLst/>
            <a:ahLst/>
            <a:rect l="l" t="t" r="r" b="b"/>
            <a:pathLst>
              <a:path w="387" h="387">
                <a:moveTo>
                  <a:pt x="0" y="0"/>
                </a:moveTo>
                <a:lnTo>
                  <a:pt x="0" y="387"/>
                </a:lnTo>
                <a:lnTo>
                  <a:pt x="387" y="387"/>
                </a:lnTo>
                <a:lnTo>
                  <a:pt x="387" y="0"/>
                </a:lnTo>
                <a:lnTo>
                  <a:pt x="0" y="0"/>
                </a:lnTo>
                <a:close/>
                <a:moveTo>
                  <a:pt x="26" y="26"/>
                </a:moveTo>
                <a:lnTo>
                  <a:pt x="26" y="361"/>
                </a:lnTo>
                <a:lnTo>
                  <a:pt x="362" y="361"/>
                </a:lnTo>
                <a:lnTo>
                  <a:pt x="362" y="26"/>
                </a:lnTo>
                <a:lnTo>
                  <a:pt x="26" y="26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8040600" y="2887560"/>
            <a:ext cx="523800" cy="486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8159040" y="3127320"/>
            <a:ext cx="44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  <a:ea typeface="HG丸ｺﾞｼｯｸM-PRO"/>
              </a:rPr>
              <a:t>Scr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8199360" y="3457440"/>
            <a:ext cx="222480" cy="525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8102520" y="3519360"/>
            <a:ext cx="403200" cy="59040"/>
          </a:xfrm>
          <a:custGeom>
            <a:avLst/>
            <a:gdLst/>
            <a:ahLst/>
            <a:rect l="l" t="t" r="r" b="b"/>
            <a:pathLst>
              <a:path w="254" h="37">
                <a:moveTo>
                  <a:pt x="0" y="37"/>
                </a:moveTo>
                <a:lnTo>
                  <a:pt x="24" y="0"/>
                </a:lnTo>
                <a:lnTo>
                  <a:pt x="231" y="0"/>
                </a:lnTo>
                <a:lnTo>
                  <a:pt x="254" y="37"/>
                </a:lnTo>
                <a:lnTo>
                  <a:pt x="0" y="37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8029440" y="3384720"/>
            <a:ext cx="547920" cy="507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8485200" y="3403440"/>
            <a:ext cx="2052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8515440" y="3403440"/>
            <a:ext cx="2196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5" name=""/>
          <p:cNvGrpSpPr/>
          <p:nvPr/>
        </p:nvGrpSpPr>
        <p:grpSpPr>
          <a:xfrm>
            <a:off x="6159600" y="3840120"/>
            <a:ext cx="747720" cy="950760"/>
            <a:chOff x="6159600" y="3840120"/>
            <a:chExt cx="747720" cy="950760"/>
          </a:xfrm>
        </p:grpSpPr>
        <p:sp>
          <p:nvSpPr>
            <p:cNvPr id="4206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"/>
          <p:cNvSpPr/>
          <p:nvPr/>
        </p:nvSpPr>
        <p:spPr>
          <a:xfrm rot="5400000">
            <a:off x="6330960" y="410436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k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 rot="5400000">
            <a:off x="6143040" y="41479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0" name=""/>
          <p:cNvGrpSpPr/>
          <p:nvPr/>
        </p:nvGrpSpPr>
        <p:grpSpPr>
          <a:xfrm>
            <a:off x="4803840" y="3840120"/>
            <a:ext cx="747720" cy="952560"/>
            <a:chOff x="4803840" y="3840120"/>
            <a:chExt cx="747720" cy="952560"/>
          </a:xfrm>
        </p:grpSpPr>
        <p:sp>
          <p:nvSpPr>
            <p:cNvPr id="4211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3" name=""/>
          <p:cNvSpPr/>
          <p:nvPr/>
        </p:nvSpPr>
        <p:spPr>
          <a:xfrm rot="5400000">
            <a:off x="4926960" y="4245840"/>
            <a:ext cx="69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eference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 rot="5400000">
            <a:off x="4787280" y="425916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 rot="5400000">
            <a:off x="36957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 rot="5400000">
            <a:off x="5067360" y="547596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"/>
          <p:cNvSpPr/>
          <p:nvPr/>
        </p:nvSpPr>
        <p:spPr>
          <a:xfrm>
            <a:off x="5059440" y="6352560"/>
            <a:ext cx="3529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Notice: The size of square doesn’t indicate amount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228600" y="838080"/>
            <a:ext cx="8483760" cy="54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6319800" y="3765600"/>
            <a:ext cx="539640" cy="4856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総合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テ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624060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2196360" y="9478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c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667224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785340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731988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343368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246852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4591080" y="3765600"/>
            <a:ext cx="1727280" cy="4856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開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6281640" y="3705120"/>
            <a:ext cx="540000" cy="4874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総合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テ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4551480" y="3710160"/>
            <a:ext cx="1726920" cy="47916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開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6243480" y="2089080"/>
            <a:ext cx="54000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7319880" y="2209680"/>
            <a:ext cx="530280" cy="60012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3255840" y="2590920"/>
            <a:ext cx="144720" cy="222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>
            <a:off x="3255840" y="2870280"/>
            <a:ext cx="144720" cy="223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2468520" y="2089080"/>
            <a:ext cx="97164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External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3429000" y="2089080"/>
            <a:ext cx="99072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ternal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4419720" y="2133720"/>
            <a:ext cx="1844640" cy="129528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4516560" y="1316160"/>
            <a:ext cx="1726920" cy="48564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ternal design/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6243480" y="1316160"/>
            <a:ext cx="528840" cy="48564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 T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4516560" y="3656160"/>
            <a:ext cx="1726920" cy="48240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334080" y="1981080"/>
            <a:ext cx="12690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he system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and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239040" y="1389240"/>
            <a:ext cx="123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’s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265320" y="3581280"/>
            <a:ext cx="1204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s in char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f the syst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304920" y="44038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 operation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267840" y="4941720"/>
            <a:ext cx="129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PJM Support Contr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PM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4110120" y="2089080"/>
            <a:ext cx="213336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4398840" y="3003480"/>
            <a:ext cx="1844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6781680" y="2217600"/>
            <a:ext cx="530280" cy="60192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 flipV="1">
            <a:off x="532440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530064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6243480" y="2089080"/>
            <a:ext cx="52704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6243480" y="3656160"/>
            <a:ext cx="540000" cy="48240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6243480" y="3003480"/>
            <a:ext cx="540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468360" y="123660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439884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677376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5592600" y="4390920"/>
            <a:ext cx="1079640" cy="48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3433680" y="3666960"/>
            <a:ext cx="1079640" cy="48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3436920" y="1330200"/>
            <a:ext cx="1079640" cy="482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451332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7582320" y="947880"/>
            <a:ext cx="53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Jan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6778800" y="2089080"/>
            <a:ext cx="5457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7319880" y="2089080"/>
            <a:ext cx="530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6772320" y="1508040"/>
            <a:ext cx="552240" cy="2937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7319880" y="1508040"/>
            <a:ext cx="530280" cy="2937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rial on wor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6775560" y="2732040"/>
            <a:ext cx="54900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7319880" y="2732040"/>
            <a:ext cx="53028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6672240" y="4410000"/>
            <a:ext cx="652320" cy="4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s’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6773760" y="4406760"/>
            <a:ext cx="180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7319880" y="4408560"/>
            <a:ext cx="530280" cy="46980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rial on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395280" y="1995480"/>
            <a:ext cx="7854840" cy="152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74520" y="1523880"/>
            <a:ext cx="2494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Range of  this Procurement (W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2475000" y="5024520"/>
            <a:ext cx="5373720" cy="54288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6765840" y="5043600"/>
            <a:ext cx="1063800" cy="3045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 use’s tes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spection of overall t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4595760" y="5043600"/>
            <a:ext cx="2185920" cy="3045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380880" y="5791320"/>
            <a:ext cx="119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Equip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referen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5932440" y="584028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機器等の提供事業者（複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5911920" y="580536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機器等の提供事業者（複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5877000" y="575136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s of equip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104760" y="4797360"/>
            <a:ext cx="4017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his Proc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 flipH="1" flipV="1">
            <a:off x="4398480" y="3460320"/>
            <a:ext cx="117720" cy="1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3218400" y="977760"/>
            <a:ext cx="46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Aug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4294440" y="977760"/>
            <a:ext cx="44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Jun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6022080" y="97776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c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 flipV="1">
            <a:off x="649908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 flipV="1">
            <a:off x="702000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 flipV="1">
            <a:off x="757872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650700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696132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749124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0" name=""/>
          <p:cNvGrpSpPr/>
          <p:nvPr/>
        </p:nvGrpSpPr>
        <p:grpSpPr>
          <a:xfrm>
            <a:off x="7823160" y="3298680"/>
            <a:ext cx="0" cy="1090440"/>
            <a:chOff x="7823160" y="3298680"/>
            <a:chExt cx="0" cy="1090440"/>
          </a:xfrm>
        </p:grpSpPr>
        <p:sp>
          <p:nvSpPr>
            <p:cNvPr id="4291" name=""/>
            <p:cNvSpPr/>
            <p:nvPr/>
          </p:nvSpPr>
          <p:spPr>
            <a:xfrm>
              <a:off x="7823160" y="413820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7823160" y="3298680"/>
              <a:ext cx="0" cy="821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3" name=""/>
          <p:cNvGrpSpPr/>
          <p:nvPr/>
        </p:nvGrpSpPr>
        <p:grpSpPr>
          <a:xfrm>
            <a:off x="7157880" y="3298680"/>
            <a:ext cx="0" cy="1090440"/>
            <a:chOff x="7157880" y="3298680"/>
            <a:chExt cx="0" cy="1090440"/>
          </a:xfrm>
        </p:grpSpPr>
        <p:sp>
          <p:nvSpPr>
            <p:cNvPr id="4294" name=""/>
            <p:cNvSpPr/>
            <p:nvPr/>
          </p:nvSpPr>
          <p:spPr>
            <a:xfrm>
              <a:off x="7157880" y="413820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7157880" y="3298680"/>
              <a:ext cx="0" cy="821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6" name=""/>
          <p:cNvSpPr/>
          <p:nvPr/>
        </p:nvSpPr>
        <p:spPr>
          <a:xfrm>
            <a:off x="6861240" y="3753000"/>
            <a:ext cx="530280" cy="30456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6823080" y="3699000"/>
            <a:ext cx="530280" cy="31572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6784920" y="3656160"/>
            <a:ext cx="530280" cy="31104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7394400" y="3745080"/>
            <a:ext cx="530280" cy="31248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7356600" y="3700440"/>
            <a:ext cx="530280" cy="31428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7318440" y="3657600"/>
            <a:ext cx="530280" cy="30960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7848720" y="18018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 flipH="1">
            <a:off x="4109760" y="1801800"/>
            <a:ext cx="406440" cy="28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 flipV="1">
            <a:off x="7848720" y="3460320"/>
            <a:ext cx="0" cy="20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1403280" y="2492280"/>
            <a:ext cx="1079640" cy="482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1153440" y="9428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HG丸ｺﾞｼｯｸM-PRO"/>
              </a:rPr>
              <a:t>Ma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4788000" y="5734080"/>
            <a:ext cx="1079280" cy="48240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1979640" y="5084640"/>
            <a:ext cx="503280" cy="482760"/>
          </a:xfrm>
          <a:custGeom>
            <a:avLst/>
            <a:gdLst>
              <a:gd name="textAreaLeft" fmla="*/ 0 w 503280"/>
              <a:gd name="textAreaRight" fmla="*/ 503640 w 5032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1403280" y="1197000"/>
            <a:ext cx="0" cy="51102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 flipV="1">
            <a:off x="468360" y="191628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 flipV="1">
            <a:off x="468360" y="354168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 flipV="1">
            <a:off x="468360" y="429264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 flipV="1">
            <a:off x="468360" y="491004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468360" y="566100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380880" y="76320"/>
            <a:ext cx="853452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739a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roduction of Divided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7315200" y="23623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ial on 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7238880" y="3624120"/>
            <a:ext cx="914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ial on wor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4343400" y="5029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nvironmental preparation by contractors in charge of system development, Work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114</cp:lastModifiedBy>
  <dcterms:modified xsi:type="dcterms:W3CDTF">2007-01-31T03:31:0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