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468e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5094-CD04-4B01-ACB1-A643B2A8C21E}" type="slidenum"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4562-2CAC-4079-A5A4-4B2E41125262}" type="slidenum"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8080" y="68724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9280" y="4055400"/>
            <a:ext cx="88567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7440" y="40554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3760" y="11970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8240" y="11970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9280" y="40554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3760" y="40554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8240" y="40554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79280" y="119700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47280" y="-360"/>
            <a:ext cx="759636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9280" y="119700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7440" y="40554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88567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79280" y="4055400"/>
            <a:ext cx="88567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7440" y="40554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73760" y="11970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68240" y="11970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79280" y="40554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73760" y="40554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68240" y="40554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47280" y="-360"/>
            <a:ext cx="759636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7440" y="40554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88567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9280" y="119700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6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68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68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59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68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7c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68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68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68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68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144792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47640" y="0"/>
            <a:ext cx="7596360" cy="765000"/>
          </a:xfrm>
          <a:prstGeom prst="rect">
            <a:avLst/>
          </a:prstGeom>
          <a:solidFill>
            <a:srgbClr val="004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47640" y="765000"/>
            <a:ext cx="7596360" cy="287640"/>
          </a:xfrm>
          <a:prstGeom prst="rect">
            <a:avLst/>
          </a:prstGeom>
          <a:solidFill>
            <a:srgbClr val="007c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5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T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38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468e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68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468e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598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8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98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cc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cc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cc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38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468e"/>
                </a:solidFill>
                <a:latin typeface="Arial"/>
              </a:rPr>
              <a:t>RCD e-Filing</a:t>
            </a:r>
            <a:endParaRPr b="1" lang="en-US" sz="38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8920" y="6165360"/>
            <a:ext cx="377676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68e"/>
                </a:solidFill>
                <a:latin typeface="Arial"/>
              </a:rPr>
              <a:t>Miguel Ortega</a:t>
            </a:r>
            <a:endParaRPr b="1" lang="en-US" sz="1400" spc="-1" strike="noStrike">
              <a:solidFill>
                <a:srgbClr val="00468e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68e"/>
                </a:solidFill>
                <a:latin typeface="Arial"/>
              </a:rPr>
              <a:t>ITD Portfolio Manager</a:t>
            </a:r>
            <a:endParaRPr b="1" lang="en-US" sz="1400" spc="-1" strike="noStrike">
              <a:solidFill>
                <a:srgbClr val="00468e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67240" y="549360"/>
            <a:ext cx="3776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19/06/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844640"/>
            <a:ext cx="3492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T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4000" y="6381720"/>
          <a:ext cx="2879640" cy="244440"/>
        </p:xfrm>
        <a:graphic>
          <a:graphicData uri="http://schemas.openxmlformats.org/drawingml/2006/table">
            <a:tbl>
              <a:tblPr/>
              <a:tblGrid>
                <a:gridCol w="28796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Attachments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5689440" cy="5472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651640" y="2565360"/>
            <a:ext cx="3166920" cy="1152720"/>
          </a:xfrm>
          <a:prstGeom prst="wedgeRectCallout">
            <a:avLst>
              <a:gd name="adj1" fmla="val -139925"/>
              <a:gd name="adj2" fmla="val 20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34000" y="2565360"/>
            <a:ext cx="311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s to upload the view attachments (depending on the number of views defined for each desig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Payment Section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286160" cy="5472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932360" y="1628640"/>
            <a:ext cx="2154240" cy="648000"/>
          </a:xfrm>
          <a:prstGeom prst="wedgeRectCallout">
            <a:avLst>
              <a:gd name="adj1" fmla="val -107259"/>
              <a:gd name="adj2" fmla="val 1495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50000" y="162864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 calculation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30720" y="3284640"/>
            <a:ext cx="3168720" cy="647640"/>
          </a:xfrm>
          <a:prstGeom prst="wedgeRectCallout">
            <a:avLst>
              <a:gd name="adj1" fmla="val -100652"/>
              <a:gd name="adj2" fmla="val 455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328464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ment by current account with O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4365720"/>
            <a:ext cx="3616200" cy="423720"/>
          </a:xfrm>
          <a:prstGeom prst="wedgeRectCallout">
            <a:avLst>
              <a:gd name="adj1" fmla="val -91967"/>
              <a:gd name="adj2" fmla="val 3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65640" y="43657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ment per Bank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02360" y="5229360"/>
            <a:ext cx="3330360" cy="647640"/>
          </a:xfrm>
          <a:prstGeom prst="wedgeRectCallout">
            <a:avLst>
              <a:gd name="adj1" fmla="val -94518"/>
              <a:gd name="adj2" fmla="val -17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9640" y="5229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ture of the application required before the 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Review &amp; Confirmation Page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286160" cy="5472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130720" y="2565360"/>
            <a:ext cx="3330720" cy="647640"/>
          </a:xfrm>
          <a:prstGeom prst="wedgeRectCallout">
            <a:avLst>
              <a:gd name="adj1" fmla="val -66254"/>
              <a:gd name="adj2" fmla="val 149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48360" y="2565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eview before the 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Application Receipt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4286160" cy="5472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130720" y="2565360"/>
            <a:ext cx="2249640" cy="432000"/>
          </a:xfrm>
          <a:prstGeom prst="wedgeRectCallout">
            <a:avLst>
              <a:gd name="adj1" fmla="val -108009"/>
              <a:gd name="adj2" fmla="val 900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2565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Rece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75440" y="4149720"/>
            <a:ext cx="2465280" cy="647640"/>
          </a:xfrm>
          <a:prstGeom prst="wedgeRectCallout">
            <a:avLst>
              <a:gd name="adj1" fmla="val -176722"/>
              <a:gd name="adj2" fmla="val -143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4149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Referenc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46720" y="5516640"/>
            <a:ext cx="1817640" cy="360360"/>
          </a:xfrm>
          <a:prstGeom prst="wedgeRectCallout">
            <a:avLst>
              <a:gd name="adj1" fmla="val -217250"/>
              <a:gd name="adj2" fmla="val -2993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64000" y="551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Current Solution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1700280"/>
            <a:ext cx="8424720" cy="33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e"/>
                </a:solidFill>
                <a:latin typeface="Arial"/>
              </a:rPr>
              <a:t>Current Solution -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7c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c3"/>
                </a:solidFill>
                <a:latin typeface="Arial"/>
              </a:rPr>
              <a:t>System not connected directly to the Back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7c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c3"/>
                </a:solidFill>
                <a:latin typeface="Arial"/>
              </a:rPr>
              <a:t>Application not stored in the Front Office: if a communication failure occurs when transferring the application to the Back Office there is a serious risk for the submitted application to get l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7c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c3"/>
                </a:solidFill>
                <a:latin typeface="Arial"/>
              </a:rPr>
              <a:t>Manual Key-In of the application done by the Examiner: time consuming and error prone proced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7c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c3"/>
                </a:solidFill>
                <a:latin typeface="Arial"/>
              </a:rPr>
              <a:t>Non immediate notification of the new application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IE" sz="3800" spc="-1" strike="noStrike">
                <a:solidFill>
                  <a:srgbClr val="ffcc00"/>
                </a:solidFill>
                <a:latin typeface="Arial"/>
              </a:rPr>
              <a:t>Current Architecture 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928880" y="1197000"/>
          <a:ext cx="5357880" cy="54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8880" y="1197000"/>
                    <a:ext cx="53578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New System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1700280"/>
            <a:ext cx="8424720" cy="33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e"/>
                </a:solidFill>
                <a:latin typeface="Arial"/>
              </a:rPr>
              <a:t>New Solution – scheduled for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7c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c3"/>
                </a:solidFill>
                <a:latin typeface="Arial"/>
              </a:rPr>
              <a:t>Immediate notification of the new application number after the submission: the Front Office will send back the new application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7c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c3"/>
                </a:solidFill>
                <a:latin typeface="Arial"/>
              </a:rPr>
              <a:t>Applications automatically sent to the Back Office and ready for the examination – use of DS-XML to exchang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7c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c3"/>
                </a:solidFill>
                <a:latin typeface="Arial"/>
              </a:rPr>
              <a:t>Elimination of the manual Key-In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7c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c3"/>
                </a:solidFill>
                <a:latin typeface="Arial"/>
              </a:rPr>
              <a:t>No risk to lose applications: the Front Office will temporarily store the submitted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New System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700280"/>
            <a:ext cx="84247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468e"/>
                </a:solidFill>
                <a:latin typeface="Arial"/>
              </a:rPr>
              <a:t>As stated in the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dherence to stand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eb application will adhere to both the standards by the IT industry, related to the technologies they are based upon, as well as any internal OHIM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ery specifically, the DS-XML standard should be used whenever an XML representation of a RCD, person, etc. is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773440" y="292428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00468e"/>
                </a:solidFill>
                <a:latin typeface="Times New Roman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356000" y="0"/>
            <a:ext cx="3353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2060640"/>
            <a:ext cx="720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72"/>
                </a:solidFill>
                <a:latin typeface="Times New Roman"/>
              </a:rPr>
              <a:t>1.</a:t>
            </a:r>
            <a:r>
              <a:rPr b="1" lang="en-GB" sz="2800" spc="-1" strike="noStrike">
                <a:solidFill>
                  <a:srgbClr val="003972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376e"/>
                </a:solidFill>
                <a:latin typeface="Times New Roman"/>
              </a:rPr>
              <a:t>RCD-eFiling curr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76e"/>
                </a:solidFill>
                <a:latin typeface="Times New Roman"/>
              </a:rPr>
              <a:t>2. New e-Filing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76e"/>
                </a:solidFill>
                <a:latin typeface="Times New Roman"/>
              </a:rPr>
              <a:t>3. Questions and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Link in OAMI online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68320" y="765000"/>
            <a:ext cx="5461200" cy="6093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63640" y="3429000"/>
            <a:ext cx="93672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Arial"/>
              </a:rPr>
              <a:t>Language and Applicant Sections</a:t>
            </a: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276800" cy="5472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43280" y="3716280"/>
            <a:ext cx="2232360" cy="936720"/>
          </a:xfrm>
          <a:prstGeom prst="wedgeRectCallout">
            <a:avLst>
              <a:gd name="adj1" fmla="val -173898"/>
              <a:gd name="adj2" fmla="val -55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371628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nt’s OHIM ID, selected using a search dial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5076720"/>
            <a:ext cx="2232360" cy="609840"/>
          </a:xfrm>
          <a:prstGeom prst="wedgeRectCallout">
            <a:avLst>
              <a:gd name="adj1" fmla="val -156259"/>
              <a:gd name="adj2" fmla="val -1765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6520" y="508464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box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al entity / 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3280" y="6093000"/>
            <a:ext cx="1602000" cy="431640"/>
          </a:xfrm>
          <a:prstGeom prst="wedgeRectCallout">
            <a:avLst>
              <a:gd name="adj1" fmla="val -168731"/>
              <a:gd name="adj2" fmla="val -2580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440" y="609300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nt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1413000"/>
            <a:ext cx="1871640" cy="431640"/>
          </a:xfrm>
          <a:prstGeom prst="wedgeRectCallout">
            <a:avLst>
              <a:gd name="adj1" fmla="val -138462"/>
              <a:gd name="adj2" fmla="val 144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08880" y="141300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60920" y="3147840"/>
            <a:ext cx="2143080" cy="432000"/>
          </a:xfrm>
          <a:prstGeom prst="wedgeRectCallout">
            <a:avLst>
              <a:gd name="adj1" fmla="val -165111"/>
              <a:gd name="adj2" fmla="val 606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65600" y="314172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2565360"/>
            <a:ext cx="1602000" cy="432000"/>
          </a:xfrm>
          <a:prstGeom prst="wedgeRectCallout">
            <a:avLst>
              <a:gd name="adj1" fmla="val -140189"/>
              <a:gd name="adj2" fmla="val 1139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63080" y="25653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Professional Representative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168800" cy="5472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076720" y="1197000"/>
            <a:ext cx="2521080" cy="936720"/>
          </a:xfrm>
          <a:prstGeom prst="wedgeRectCallout">
            <a:avLst>
              <a:gd name="adj1" fmla="val -146726"/>
              <a:gd name="adj2" fmla="val 1233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6720" y="1197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tive’s OHIM ID, selected using a search dial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76720" y="2989440"/>
            <a:ext cx="2590920" cy="1303200"/>
          </a:xfrm>
          <a:prstGeom prst="wedgeRectCallout">
            <a:avLst>
              <a:gd name="adj1" fmla="val -110722"/>
              <a:gd name="adj2" fmla="val -40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76720" y="299736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heckbox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ssoci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ratictio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rofessional Re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76720" y="4869000"/>
            <a:ext cx="2232000" cy="423720"/>
          </a:xfrm>
          <a:prstGeom prst="wedgeRectCallout">
            <a:avLst>
              <a:gd name="adj1" fmla="val -163370"/>
              <a:gd name="adj2" fmla="val -251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94360" y="486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tive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Employee Representative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5032440" cy="5472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508720" y="1844640"/>
            <a:ext cx="2520720" cy="936720"/>
          </a:xfrm>
          <a:prstGeom prst="wedgeRectCallout">
            <a:avLst>
              <a:gd name="adj1" fmla="val -146916"/>
              <a:gd name="adj2" fmla="val 17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184464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tive’s OHIM ID, selected using a search dial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4149720"/>
            <a:ext cx="2590560" cy="1511280"/>
          </a:xfrm>
          <a:prstGeom prst="wedgeRectCallout">
            <a:avLst>
              <a:gd name="adj1" fmla="val -149569"/>
              <a:gd name="adj2" fmla="val -953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4157640"/>
            <a:ext cx="259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information to be provided if the checkbox “on basis of economic connections” is che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91080" y="3213000"/>
            <a:ext cx="2232000" cy="424080"/>
          </a:xfrm>
          <a:prstGeom prst="wedgeRectCallout">
            <a:avLst>
              <a:gd name="adj1" fmla="val -89685"/>
              <a:gd name="adj2" fmla="val -1436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08720" y="3213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name,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Design Section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4168800" cy="5472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76720" y="1197000"/>
            <a:ext cx="2521080" cy="1224000"/>
          </a:xfrm>
          <a:prstGeom prst="wedgeRectCallout">
            <a:avLst>
              <a:gd name="adj1" fmla="val -170652"/>
              <a:gd name="adj2" fmla="val 638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76720" y="1197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Button to replicate the design info in case of multiple ap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6720" y="2565360"/>
            <a:ext cx="2519640" cy="936720"/>
          </a:xfrm>
          <a:prstGeom prst="wedgeRectCallout">
            <a:avLst>
              <a:gd name="adj1" fmla="val -100851"/>
              <a:gd name="adj2" fmla="val 367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256536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ocarno Classification selected using a selection pop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59440" y="3716280"/>
            <a:ext cx="3616200" cy="424080"/>
          </a:xfrm>
          <a:prstGeom prst="wedgeRectCallout">
            <a:avLst>
              <a:gd name="adj1" fmla="val -118041"/>
              <a:gd name="adj2" fmla="val -4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371628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views to be att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4869000"/>
            <a:ext cx="3167280" cy="1152360"/>
          </a:xfrm>
          <a:prstGeom prst="wedgeRectCallout">
            <a:avLst>
              <a:gd name="adj1" fmla="val -129898"/>
              <a:gd name="adj2" fmla="val -1241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94360" y="4869000"/>
            <a:ext cx="351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rment of the Publication: request that the publication of the design be delayed for a period of up to 30 month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Designer Section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5032440" cy="5472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867280" y="1197000"/>
            <a:ext cx="2886120" cy="1224000"/>
          </a:xfrm>
          <a:prstGeom prst="wedgeRectCallout">
            <a:avLst>
              <a:gd name="adj1" fmla="val -171013"/>
              <a:gd name="adj2" fmla="val 730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1197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box to be ticked if the designer has waived his rights (if ticked the other fields will be hidde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2708280"/>
            <a:ext cx="1546200" cy="423720"/>
          </a:xfrm>
          <a:prstGeom prst="wedgeRectCallout">
            <a:avLst>
              <a:gd name="adj1" fmla="val -122893"/>
              <a:gd name="adj2" fmla="val 226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2708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er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4365720"/>
            <a:ext cx="2886120" cy="1800000"/>
          </a:xfrm>
          <a:prstGeom prst="wedgeRectCallout">
            <a:avLst>
              <a:gd name="adj1" fmla="val -82013"/>
              <a:gd name="adj2" fmla="val -154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4365720"/>
            <a:ext cx="29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designer for all designs: if the designer is the same for all designs (in a multiple application), this should be indicated by linking all desig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Priority Section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168800" cy="5472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81440" y="1123920"/>
            <a:ext cx="2232000" cy="423720"/>
          </a:xfrm>
          <a:prstGeom prst="wedgeRectCallout">
            <a:avLst>
              <a:gd name="adj1" fmla="val -121407"/>
              <a:gd name="adj2" fmla="val 188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99080" y="112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ry of first f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99080" y="1771560"/>
            <a:ext cx="2232000" cy="424080"/>
          </a:xfrm>
          <a:prstGeom prst="wedgeRectCallout">
            <a:avLst>
              <a:gd name="adj1" fmla="val -112518"/>
              <a:gd name="adj2" fmla="val 863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16360" y="17715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 of first f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1440" y="2419200"/>
            <a:ext cx="4019760" cy="865440"/>
          </a:xfrm>
          <a:prstGeom prst="wedgeRectCallout">
            <a:avLst>
              <a:gd name="adj1" fmla="val -110740"/>
              <a:gd name="adj2" fmla="val -164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99080" y="236844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ticked if the requested documents are attached (certificate of filing, certificate of registr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99080" y="3500280"/>
            <a:ext cx="4176720" cy="865440"/>
          </a:xfrm>
          <a:prstGeom prst="wedgeRectCallout">
            <a:avLst>
              <a:gd name="adj1" fmla="val -82041"/>
              <a:gd name="adj2" fmla="val -496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6360" y="350028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priority for all designs (in a multiple application), link to the designs for which the claim is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5084640"/>
            <a:ext cx="4019760" cy="576360"/>
          </a:xfrm>
          <a:prstGeom prst="wedgeRectCallout">
            <a:avLst>
              <a:gd name="adj1" fmla="val -119666"/>
              <a:gd name="adj2" fmla="val -243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60920" y="50198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ticked if the requested documents are attac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5805360"/>
            <a:ext cx="4176720" cy="865440"/>
          </a:xfrm>
          <a:prstGeom prst="wedgeRectCallout">
            <a:avLst>
              <a:gd name="adj1" fmla="val -72995"/>
              <a:gd name="adj2" fmla="val -222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60920" y="580536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priority for all designs (in a multiple application), link to the designs for which the claim is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3280" y="4508640"/>
            <a:ext cx="1657440" cy="423720"/>
          </a:xfrm>
          <a:prstGeom prst="wedgeRectCallout">
            <a:avLst>
              <a:gd name="adj1" fmla="val -144541"/>
              <a:gd name="adj2" fmla="val -162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60920" y="4508640"/>
            <a:ext cx="16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hibition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09:56:41Z</dcterms:created>
  <dc:creator/>
  <dc:description/>
  <dc:language>en-US</dc:language>
  <cp:lastModifiedBy>Alexandre TRAN</cp:lastModifiedBy>
  <dcterms:modified xsi:type="dcterms:W3CDTF">2007-06-27T06:39:09Z</dcterms:modified>
  <cp:revision>33</cp:revision>
  <dc:subject/>
  <dc:title>RCD e-Filing</dc:title>
</cp:coreProperties>
</file>