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659772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DS-XML Production Workflow                                                                                                                                                                                                                                  20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197000"/>
            <a:ext cx="8928000" cy="540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92040" y="49320"/>
            <a:ext cx="162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Slide </a:t>
            </a:r>
            <a:fld id="{C98E6DB4-AFB9-4CB8-B8CF-78BCF5D96E8E}" type="slidenum">
              <a:rPr b="0" lang="en-IE" sz="1200" spc="-1" strike="noStrike">
                <a:solidFill>
                  <a:srgbClr val="99ccff"/>
                </a:solidFill>
                <a:latin typeface="Comic Sans MS"/>
              </a:rPr>
              <a:t>&lt;number&gt;</a:t>
            </a:fld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5808600"/>
            <a:ext cx="37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Comic Sans MS"/>
              </a:rPr>
              <a:t>Antonio.Grau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760" y="1773360"/>
            <a:ext cx="5303880" cy="183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DS-XML Production 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Alicante - 20</a:t>
            </a:r>
            <a:r>
              <a:rPr b="0" lang="en-IE" sz="1400" spc="-1" strike="noStrike" baseline="30000">
                <a:solidFill>
                  <a:srgbClr val="a50021"/>
                </a:solidFill>
                <a:latin typeface="Comic Sans MS"/>
              </a:rPr>
              <a:t>th</a:t>
            </a: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963800"/>
            <a:ext cx="525780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IT Architecture  &amp; Standards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S-XML Production Workfl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5280" y="1413000"/>
          <a:ext cx="8280360" cy="531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280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Schema Ed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7120" y="2927520"/>
            <a:ext cx="160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35120" y="3214800"/>
            <a:ext cx="34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700280"/>
            <a:ext cx="7490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Types (complex &amp; simple) are considered building blocks defined in separate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efined in different fold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mt – Message Type (eg. Transaction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bt – Business Type (eg. Design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at – Additional Type (eg. DesignCurrentStatusCode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st – Standards Type (eg. ST3CountryCode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Shell scripts put headers (date, version, etc.) into the files and merge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use of Types in different schemas (TM-XML, DS-XML, ST.66, Message-Specific Sche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Use of powerful tools available in Unix/Linux for manipulation of files (awk, shell language script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ociated Class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106440" cy="28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495680" cy="306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1640" y="1773360"/>
            <a:ext cx="4232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Eclip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Tools Plug-in: XSD 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HyperModel Plug-in: XMI &amp; MDL Rational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581360"/>
            <a:ext cx="367200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UML Class Diagra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- Quick Overview of XSD elements/types &amp; hierarchy in a compact siz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ed in Rational Rose (manu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iagrams printed in PDF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3141720"/>
            <a:ext cx="57636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Data Dict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421000"/>
            <a:ext cx="381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Data Dictionary Files: elements, attributes, types and enumer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xisting definitions are taken from previous dictionary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mpty definitions are kept empty and entered manually (using the web dictionary tool or any text edi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Dictionaries also used f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Online Diction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ocBook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421000"/>
            <a:ext cx="4176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Nam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Number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InTypes&gt;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Typ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DescriptionType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Type&gt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InTyp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INIDCod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51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INIDCo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ification number of the product 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which the design is to be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Description&gt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Remark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557360"/>
            <a:ext cx="68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XSL Transformations are applied on the XSD to generate XML dictionary fi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in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5530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557360"/>
            <a:ext cx="77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&lt;?xml-stylesheet type="text/xsl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href="http://www.tm-xml.org/DS-XML/DS-XML_xsl/DS-XML_OnlineDictionary.xsl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cBook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557360"/>
            <a:ext cx="770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hapter Structur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Generate XML – DocBook Files from XSD &amp; XML Dictionaries &amp; Chapter Structur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nder document in HTML &amp; FOP (PDF) by applying DocBook-XSLs on XML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3600720" cy="3589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557360"/>
            <a:ext cx="77054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XML-Oriented Lifecycle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Comic Sans MS"/>
              </a:rPr>
              <a:t>- Applying XSL Transformations on XSD &amp; XML Dictionary files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Changing the sch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orresponding type files on Unix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(relative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; change date &amp; version on header fil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un scripts to generate XSD unique fil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Import XSD in Window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; validate XSD in Eclips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If small changes then edit corresponding diagram in Rational Ros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.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If big changes then generate Rational file in Eclipse and arrange layout in Rational Rose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(sl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Generate new XML data dictionari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and edit new definitions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(relat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hapters Structures for DocBook if neccesary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generate docbook fil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render to HTML &amp; PDF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Copy HTML rendition and Paste into MS Word Document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00"/>
                </a:solidFill>
                <a:latin typeface="Comic Sans MS"/>
              </a:rPr>
              <a:t>That’s All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OHIM</dc:creator>
  <dc:description/>
  <cp:keywords>XML TM-XML Trade Mark Standard</cp:keywords>
  <dc:language>en-US</dc:language>
  <cp:lastModifiedBy>tranale</cp:lastModifiedBy>
  <cp:lastPrinted>2003-05-30T07:23:11Z</cp:lastPrinted>
  <dcterms:modified xsi:type="dcterms:W3CDTF">2007-06-21T14:05:12Z</dcterms:modified>
  <cp:revision>1878</cp:revision>
  <dc:subject>DS-XML</dc:subject>
  <dc:title>DS-XML Workflow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